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XƒNƒŠƒvƒgŒ¾ŒêŠÈ’Pu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794040" y="4662360"/>
            <a:ext cx="1606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‘º_ˆ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XƒNƒŠƒvƒeƒBƒ“ƒOŒ¾Œê‚Æ‚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languages that are primarily interpreted, and on unix sytem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ususally be@invoked directly from a text file using #!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ttp://www.idiom.com/free-compilers/CATEGORY/scriptin-1.ht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XƒNƒŠƒvƒeƒBƒ“ƒ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æŽl¢‘ã‚ÌƒvƒƒOƒ‰ƒ~ƒ“ƒ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ing - the fourth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http://www.equi4.com/jcw/scripting4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¢‘ã‚ði‚Þ‚É‚Â‚ê’ŠÛ“x‚ª‚‚­‚È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45720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ing: Higher Level Programming for the 21st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criptics.com/people/john.ousterhout/scripting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p[ƒc‚ðì‚éƒVƒXƒeƒ€Œ¾Œê‚Æ‚»‚ê‚ð‘g‚Ý‡‚í‚¹‚é‚½‚ß‚ÌƒXƒNƒŠƒvƒeƒBƒ“ƒOŒ¾Œ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XƒNƒŠƒvƒeƒBƒ“ƒOŒ¾Œê‚ÌŽÀ—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ƒ}ƒCƒNƒƒ\ƒtƒgŠ”Ž®‰ïŽÐ</dc:creator>
  <dc:description/>
  <dc:language>en-US</dc:language>
  <cp:lastModifiedBy>ƒ}ƒCƒNƒƒ\ƒtƒgŠ”Ž®‰ïŽÐ</cp:lastModifiedBy>
  <cp:revision>0</cp:revision>
  <dc:subject/>
  <dc:title>ƒXƒNƒŠƒvƒgŒ¾ŒêŠÈ’PuÀ</dc:title>
</cp:coreProperties>
</file>