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8F1-DFF8-4D28-AF88-FCF94BCF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995-A5B9-4B6A-ADD5-0A27020A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88C-0191-4DF5-B28F-EA89E1CC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07F-346A-4399-B815-27498727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A64-51F1-4FA0-B56F-B36B924D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A91-D6C2-43B6-8503-46E861B5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678-56C8-407F-BC78-C933DE6E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194-46A4-461D-B0A1-7687D3B3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323-2AD6-4A72-8DEC-01957082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5A5-A636-498E-9F74-7F993C6C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385-FA66-4548-BA2E-C582730A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F18-3149-464C-9732-12055BA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199F-E96A-49AC-A08C-F48BC1E20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085160" y="6504120"/>
          <a:ext cx="1533240" cy="2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5160" y="6504120"/>
                    <a:ext cx="153324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393480" y="6423480"/>
            <a:ext cx="32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1999 by Toshiba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アプリケーションサーバにおける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リクエスト処理とページレイアウトの分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株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東芝  情報・社会システム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技術開発センター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技術担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松尾尚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アプリケーションサーバにおけるリクエストとページの分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リクエスト処理とページレイアウ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例えば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Servlet / JS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VBScript / AS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オブジェクト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/ Pag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どちらもプログラムだから、やろうと思えばなんでも出来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だが、責任範囲以外のことはやるな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わざわざ分離したんだから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フレームワーク利用の心構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もそもフレームワークは制約の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あれをしてはいけない、これをしてもいけ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このフォーマットに従え、範囲を逸脱するな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しかしその制約に従って初めて便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約があるから迷わずに済む、ありがた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分業化、パターン化、コンポーネント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開発では、制約に誠実に従うが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現実には、構造だけ提供される場合が多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約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=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ノウハウ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部分は別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リクエスト処理オブジェク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データを受け取り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対応するビジネスロジックを実行し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ページレイアウトオブジェクトを選択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責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渡されたデータをビジネスロジック用に正規化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ビジネスロジックを実行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正常系、準正常系、異常系で分岐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ページレイアウトオブジェクト用にデータを正規化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ページレイアウトオブジェクトを呼び出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その他のことはやっては 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*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いけない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コードのパターン化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Ruby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版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begin  #  Java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なら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ry - c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データの正規化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ビジネスロジック用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ビジネスロジックの実行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データの正規化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ページレイアウトオブジェクト用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正常系のページレイアウトオブジェクﾄの呼び出し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escue BusinessLogic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ase $!.to_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hen &lt;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例外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X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データの正規化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ページレイアウトオブジェクト用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例外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ページレイアウトオブジェクトの呼び出し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aise  #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処理できなかった例外は再発生させ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# rescue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されなかった例外はスルーされ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1143000"/>
            <a:ext cx="533520" cy="1295280"/>
          </a:xfrm>
          <a:custGeom>
            <a:avLst/>
            <a:gdLst>
              <a:gd name="textAreaLeft" fmla="*/ 0 w 533520"/>
              <a:gd name="textAreaRight" fmla="*/ 19260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3"/>
                </a:lnTo>
                <a:cubicBezTo>
                  <a:pt x="10800" y="10403"/>
                  <a:pt x="16200" y="11303"/>
                  <a:pt x="21600" y="11303"/>
                </a:cubicBezTo>
                <a:cubicBezTo>
                  <a:pt x="16200" y="11303"/>
                  <a:pt x="10800" y="12203"/>
                  <a:pt x="10800" y="1310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正常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3124080"/>
            <a:ext cx="533520" cy="1600200"/>
          </a:xfrm>
          <a:custGeom>
            <a:avLst/>
            <a:gdLst>
              <a:gd name="textAreaLeft" fmla="*/ 0 w 533520"/>
              <a:gd name="textAreaRight" fmla="*/ 19260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3"/>
                </a:lnTo>
                <a:cubicBezTo>
                  <a:pt x="10800" y="10403"/>
                  <a:pt x="16200" y="11303"/>
                  <a:pt x="21600" y="11303"/>
                </a:cubicBezTo>
                <a:cubicBezTo>
                  <a:pt x="16200" y="11303"/>
                  <a:pt x="10800" y="12203"/>
                  <a:pt x="10800" y="1310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準正常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105520"/>
            <a:ext cx="533520" cy="1066680"/>
          </a:xfrm>
          <a:custGeom>
            <a:avLst/>
            <a:gdLst>
              <a:gd name="textAreaLeft" fmla="*/ 0 w 533520"/>
              <a:gd name="textAreaRight" fmla="*/ 192600 w 5335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3"/>
                </a:lnTo>
                <a:cubicBezTo>
                  <a:pt x="10800" y="10403"/>
                  <a:pt x="16200" y="11303"/>
                  <a:pt x="21600" y="11303"/>
                </a:cubicBezTo>
                <a:cubicBezTo>
                  <a:pt x="16200" y="11303"/>
                  <a:pt x="10800" y="12203"/>
                  <a:pt x="10800" y="1310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異常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4 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ページレイアウトオブジェク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与えられたデータを用いて、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文字列を生成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これだ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デザイナがデザインに集中でき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データで表現可能な範囲なら、変更も容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責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渡されたデータをページとして表現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リクエストオブジェクト名をリンク先と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その他のことはやっては 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*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いけない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前提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必要十分なデータが渡さ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データは表示用に正規化されてい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必要なら、データは表示用の構造にパックされてい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ページのパターン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表示すべきデータは全て与えられているので、プログラミングレス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 デザイナの手持ちのパターンが使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パターンの集積が可能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 どんどん再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5 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プリケーション開発では、リクエスト処理とページレイアウトを明確に分離するとよ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プリケーションサーバは、分離するための構造を提供し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開発においては、分離する意義を十分理解して、与えられた構造を利用すべきで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目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 Web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プリケーション開発の問題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リクエスト処理とページレイアウトの分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リクエスト処理オブジェク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ページレイアウトオブジェク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1  Web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アプリケーショ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よく見かける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な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掲示板、ユーザ登録、情報サービス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画面遷移が少ないものが殆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一つの画面で入力、もう一つの画面で出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一般の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GUI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プリケーションなら数十、数百の画面を扱っているのに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もう少し画面数の多い、役に立つアプリケーションを作りた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サーバアプリケーションの処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981080"/>
            <a:ext cx="3581280" cy="160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リクエストの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対応するページの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81080"/>
            <a:ext cx="2590920" cy="1600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D: 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SS: 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2362320"/>
            <a:ext cx="2057400" cy="304560"/>
          </a:xfrm>
          <a:prstGeom prst="rightArrow">
            <a:avLst>
              <a:gd name="adj1" fmla="val 50000"/>
              <a:gd name="adj2" fmla="val 1688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743200"/>
            <a:ext cx="2133360" cy="304920"/>
          </a:xfrm>
          <a:prstGeom prst="leftArrow">
            <a:avLst>
              <a:gd name="adj1" fmla="val 50000"/>
              <a:gd name="adj2" fmla="val 1749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160020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リクエス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t /login?id=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69640" y="289548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html&gt;&lt;head&gt;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4600" y="1468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ブラウ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9752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サーバアプリケ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多くは①と②を一緒に記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教本のサンプルコード等殆ど全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単純なアプリケーションではそれで十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しかし、リクエストやページの種類、関連数が多くなると、途端に開発が難しくな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画面遷移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343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こんな小さな遷移図で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ページ数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: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リクエスト数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: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関連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多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08320" y="1371600"/>
            <a:ext cx="68356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リクエストとペー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リクエストとページは多対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リクエストとページを、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として一緒に処理するアプローチでは対応でき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一部のリクエストとページは密接に結びついているので、うまい工夫が出来そ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だが全てを奇麗に解決する手段は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多数の画面を扱うのはやっぱり面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みんないろいろ工夫してい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アプリケーションサーバで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一つの解として、リクエストとページの分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リクエストの処理とページレイアウトを分離出来る構造、メカニズムを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もちろんこれで全て解決できるわけでは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アプリケーションサーバのメリットがこれだけという訳でも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リクエストとページの分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データ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持つリクエスト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対応し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ページ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選択する関数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関数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とページ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明確に分離出来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リクエスト処理オブジェク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  :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ページレイアウトオブジェク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057400"/>
            <a:ext cx="3581280" cy="129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処理する関数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 = f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(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057400"/>
            <a:ext cx="2590920" cy="1371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D: 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SS: 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2341440"/>
            <a:ext cx="2057400" cy="304920"/>
          </a:xfrm>
          <a:prstGeom prst="rightArrow">
            <a:avLst>
              <a:gd name="adj1" fmla="val 50000"/>
              <a:gd name="adj2" fmla="val 1686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2798640"/>
            <a:ext cx="2057400" cy="325440"/>
          </a:xfrm>
          <a:prstGeom prst="leftArrow">
            <a:avLst>
              <a:gd name="adj1" fmla="val 50000"/>
              <a:gd name="adj2" fmla="val 1580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5600" y="160020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リクエスト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,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t /login?id=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69640" y="297180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ページ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html&gt;&lt;head&gt;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64600" y="154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ブラウ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7520" y="15238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サーバアプリケ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分離することのメリッ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責任と処理内容の明確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誰が何をするの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開発効率、分業化、保守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ページレイアウトはデザインの専門家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リクエスト処理はプログラマ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ビジネスロジックは業務の専門家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68680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8T05:37:30Z</dcterms:created>
  <dc:creator>hisanori</dc:creator>
  <dc:description/>
  <dc:language>en-US</dc:language>
  <cp:lastModifiedBy>hisanori</cp:lastModifiedBy>
  <cp:lastPrinted>1999-08-23T06:12:20Z</cp:lastPrinted>
  <dcterms:modified xsi:type="dcterms:W3CDTF">1999-08-23T07:05:59Z</dcterms:modified>
  <cp:revision>18</cp:revision>
  <dc:subject/>
  <dc:title>ｽﾗｲﾄﾞ ﾀｲﾄﾙなし</dc:title>
</cp:coreProperties>
</file>