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2BF36C-FF3B-451C-87D3-11B08D229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8920"/>
            <a:ext cx="9142560" cy="0"/>
          </a:xfrm>
          <a:prstGeom prst="line">
            <a:avLst/>
          </a:prstGeom>
          <a:ln w="38160">
            <a:solidFill>
              <a:srgbClr val="ff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87200" y="1233360"/>
            <a:ext cx="530280" cy="525600"/>
            <a:chOff x="187200" y="1233360"/>
            <a:chExt cx="530280" cy="525600"/>
          </a:xfrm>
        </p:grpSpPr>
        <p:sp>
          <p:nvSpPr>
            <p:cNvPr id="3" name=""/>
            <p:cNvSpPr/>
            <p:nvPr/>
          </p:nvSpPr>
          <p:spPr>
            <a:xfrm>
              <a:off x="189000" y="1233360"/>
              <a:ext cx="528480" cy="525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66a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92240" y="1308240"/>
              <a:ext cx="520920" cy="373320"/>
            </a:xfrm>
            <a:custGeom>
              <a:avLst/>
              <a:gdLst/>
              <a:ahLst/>
              <a:rect l="0" t="0" r="r" b="b"/>
              <a:pathLst>
                <a:path w="1447" h="1037">
                  <a:moveTo>
                    <a:pt x="154" y="88"/>
                  </a:moveTo>
                  <a:lnTo>
                    <a:pt x="171" y="92"/>
                  </a:lnTo>
                  <a:lnTo>
                    <a:pt x="185" y="79"/>
                  </a:lnTo>
                  <a:lnTo>
                    <a:pt x="198" y="70"/>
                  </a:lnTo>
                  <a:lnTo>
                    <a:pt x="207" y="61"/>
                  </a:lnTo>
                  <a:lnTo>
                    <a:pt x="224" y="48"/>
                  </a:lnTo>
                  <a:lnTo>
                    <a:pt x="233" y="44"/>
                  </a:lnTo>
                  <a:lnTo>
                    <a:pt x="251" y="35"/>
                  </a:lnTo>
                  <a:lnTo>
                    <a:pt x="264" y="35"/>
                  </a:lnTo>
                  <a:lnTo>
                    <a:pt x="273" y="35"/>
                  </a:lnTo>
                  <a:lnTo>
                    <a:pt x="282" y="35"/>
                  </a:lnTo>
                  <a:lnTo>
                    <a:pt x="291" y="26"/>
                  </a:lnTo>
                  <a:lnTo>
                    <a:pt x="304" y="30"/>
                  </a:lnTo>
                  <a:lnTo>
                    <a:pt x="317" y="26"/>
                  </a:lnTo>
                  <a:lnTo>
                    <a:pt x="330" y="26"/>
                  </a:lnTo>
                  <a:lnTo>
                    <a:pt x="335" y="35"/>
                  </a:lnTo>
                  <a:lnTo>
                    <a:pt x="330" y="35"/>
                  </a:lnTo>
                  <a:lnTo>
                    <a:pt x="317" y="35"/>
                  </a:lnTo>
                  <a:lnTo>
                    <a:pt x="308" y="44"/>
                  </a:lnTo>
                  <a:lnTo>
                    <a:pt x="299" y="52"/>
                  </a:lnTo>
                  <a:lnTo>
                    <a:pt x="295" y="61"/>
                  </a:lnTo>
                  <a:lnTo>
                    <a:pt x="286" y="61"/>
                  </a:lnTo>
                  <a:lnTo>
                    <a:pt x="273" y="70"/>
                  </a:lnTo>
                  <a:lnTo>
                    <a:pt x="268" y="83"/>
                  </a:lnTo>
                  <a:lnTo>
                    <a:pt x="268" y="97"/>
                  </a:lnTo>
                  <a:lnTo>
                    <a:pt x="264" y="110"/>
                  </a:lnTo>
                  <a:lnTo>
                    <a:pt x="268" y="119"/>
                  </a:lnTo>
                  <a:lnTo>
                    <a:pt x="277" y="92"/>
                  </a:lnTo>
                  <a:lnTo>
                    <a:pt x="286" y="88"/>
                  </a:lnTo>
                  <a:lnTo>
                    <a:pt x="295" y="74"/>
                  </a:lnTo>
                  <a:lnTo>
                    <a:pt x="304" y="57"/>
                  </a:lnTo>
                  <a:lnTo>
                    <a:pt x="321" y="52"/>
                  </a:lnTo>
                  <a:lnTo>
                    <a:pt x="339" y="48"/>
                  </a:lnTo>
                  <a:lnTo>
                    <a:pt x="348" y="30"/>
                  </a:lnTo>
                  <a:lnTo>
                    <a:pt x="361" y="30"/>
                  </a:lnTo>
                  <a:lnTo>
                    <a:pt x="392" y="30"/>
                  </a:lnTo>
                  <a:lnTo>
                    <a:pt x="423" y="26"/>
                  </a:lnTo>
                  <a:lnTo>
                    <a:pt x="432" y="22"/>
                  </a:lnTo>
                  <a:lnTo>
                    <a:pt x="449" y="22"/>
                  </a:lnTo>
                  <a:lnTo>
                    <a:pt x="463" y="22"/>
                  </a:lnTo>
                  <a:lnTo>
                    <a:pt x="476" y="26"/>
                  </a:lnTo>
                  <a:lnTo>
                    <a:pt x="489" y="39"/>
                  </a:lnTo>
                  <a:lnTo>
                    <a:pt x="485" y="44"/>
                  </a:lnTo>
                  <a:lnTo>
                    <a:pt x="467" y="48"/>
                  </a:lnTo>
                  <a:lnTo>
                    <a:pt x="467" y="61"/>
                  </a:lnTo>
                  <a:lnTo>
                    <a:pt x="485" y="61"/>
                  </a:lnTo>
                  <a:lnTo>
                    <a:pt x="489" y="61"/>
                  </a:lnTo>
                  <a:lnTo>
                    <a:pt x="489" y="74"/>
                  </a:lnTo>
                  <a:lnTo>
                    <a:pt x="467" y="92"/>
                  </a:lnTo>
                  <a:lnTo>
                    <a:pt x="458" y="92"/>
                  </a:lnTo>
                  <a:lnTo>
                    <a:pt x="463" y="101"/>
                  </a:lnTo>
                  <a:lnTo>
                    <a:pt x="467" y="105"/>
                  </a:lnTo>
                  <a:lnTo>
                    <a:pt x="458" y="119"/>
                  </a:lnTo>
                  <a:lnTo>
                    <a:pt x="467" y="127"/>
                  </a:lnTo>
                  <a:lnTo>
                    <a:pt x="449" y="136"/>
                  </a:lnTo>
                  <a:lnTo>
                    <a:pt x="432" y="141"/>
                  </a:lnTo>
                  <a:lnTo>
                    <a:pt x="432" y="158"/>
                  </a:lnTo>
                  <a:lnTo>
                    <a:pt x="423" y="171"/>
                  </a:lnTo>
                  <a:lnTo>
                    <a:pt x="414" y="180"/>
                  </a:lnTo>
                  <a:lnTo>
                    <a:pt x="401" y="189"/>
                  </a:lnTo>
                  <a:lnTo>
                    <a:pt x="432" y="189"/>
                  </a:lnTo>
                  <a:lnTo>
                    <a:pt x="449" y="189"/>
                  </a:lnTo>
                  <a:lnTo>
                    <a:pt x="463" y="194"/>
                  </a:lnTo>
                  <a:lnTo>
                    <a:pt x="476" y="185"/>
                  </a:lnTo>
                  <a:lnTo>
                    <a:pt x="485" y="198"/>
                  </a:lnTo>
                  <a:lnTo>
                    <a:pt x="670" y="198"/>
                  </a:lnTo>
                  <a:lnTo>
                    <a:pt x="679" y="189"/>
                  </a:lnTo>
                  <a:lnTo>
                    <a:pt x="696" y="176"/>
                  </a:lnTo>
                  <a:lnTo>
                    <a:pt x="705" y="154"/>
                  </a:lnTo>
                  <a:lnTo>
                    <a:pt x="724" y="136"/>
                  </a:lnTo>
                  <a:lnTo>
                    <a:pt x="728" y="119"/>
                  </a:lnTo>
                  <a:lnTo>
                    <a:pt x="737" y="101"/>
                  </a:lnTo>
                  <a:lnTo>
                    <a:pt x="750" y="97"/>
                  </a:lnTo>
                  <a:lnTo>
                    <a:pt x="755" y="88"/>
                  </a:lnTo>
                  <a:lnTo>
                    <a:pt x="768" y="92"/>
                  </a:lnTo>
                  <a:lnTo>
                    <a:pt x="781" y="79"/>
                  </a:lnTo>
                  <a:lnTo>
                    <a:pt x="790" y="92"/>
                  </a:lnTo>
                  <a:lnTo>
                    <a:pt x="803" y="97"/>
                  </a:lnTo>
                  <a:lnTo>
                    <a:pt x="816" y="101"/>
                  </a:lnTo>
                  <a:lnTo>
                    <a:pt x="830" y="101"/>
                  </a:lnTo>
                  <a:lnTo>
                    <a:pt x="838" y="97"/>
                  </a:lnTo>
                  <a:lnTo>
                    <a:pt x="852" y="105"/>
                  </a:lnTo>
                  <a:lnTo>
                    <a:pt x="865" y="119"/>
                  </a:lnTo>
                  <a:lnTo>
                    <a:pt x="878" y="119"/>
                  </a:lnTo>
                  <a:lnTo>
                    <a:pt x="882" y="136"/>
                  </a:lnTo>
                  <a:lnTo>
                    <a:pt x="874" y="145"/>
                  </a:lnTo>
                  <a:lnTo>
                    <a:pt x="856" y="141"/>
                  </a:lnTo>
                  <a:lnTo>
                    <a:pt x="838" y="132"/>
                  </a:lnTo>
                  <a:lnTo>
                    <a:pt x="838" y="145"/>
                  </a:lnTo>
                  <a:lnTo>
                    <a:pt x="856" y="145"/>
                  </a:lnTo>
                  <a:lnTo>
                    <a:pt x="874" y="158"/>
                  </a:lnTo>
                  <a:lnTo>
                    <a:pt x="900" y="149"/>
                  </a:lnTo>
                  <a:lnTo>
                    <a:pt x="904" y="132"/>
                  </a:lnTo>
                  <a:lnTo>
                    <a:pt x="918" y="114"/>
                  </a:lnTo>
                  <a:lnTo>
                    <a:pt x="931" y="119"/>
                  </a:lnTo>
                  <a:lnTo>
                    <a:pt x="927" y="127"/>
                  </a:lnTo>
                  <a:lnTo>
                    <a:pt x="922" y="136"/>
                  </a:lnTo>
                  <a:lnTo>
                    <a:pt x="922" y="145"/>
                  </a:lnTo>
                  <a:lnTo>
                    <a:pt x="935" y="132"/>
                  </a:lnTo>
                  <a:lnTo>
                    <a:pt x="949" y="119"/>
                  </a:lnTo>
                  <a:lnTo>
                    <a:pt x="971" y="119"/>
                  </a:lnTo>
                  <a:lnTo>
                    <a:pt x="1002" y="105"/>
                  </a:lnTo>
                  <a:lnTo>
                    <a:pt x="1024" y="97"/>
                  </a:lnTo>
                  <a:lnTo>
                    <a:pt x="1028" y="83"/>
                  </a:lnTo>
                  <a:lnTo>
                    <a:pt x="1010" y="88"/>
                  </a:lnTo>
                  <a:lnTo>
                    <a:pt x="993" y="74"/>
                  </a:lnTo>
                  <a:lnTo>
                    <a:pt x="984" y="57"/>
                  </a:lnTo>
                  <a:lnTo>
                    <a:pt x="993" y="35"/>
                  </a:lnTo>
                  <a:lnTo>
                    <a:pt x="1010" y="17"/>
                  </a:lnTo>
                  <a:lnTo>
                    <a:pt x="1024" y="8"/>
                  </a:lnTo>
                  <a:lnTo>
                    <a:pt x="1050" y="8"/>
                  </a:lnTo>
                  <a:lnTo>
                    <a:pt x="1068" y="0"/>
                  </a:lnTo>
                  <a:lnTo>
                    <a:pt x="1063" y="8"/>
                  </a:lnTo>
                  <a:lnTo>
                    <a:pt x="1050" y="8"/>
                  </a:lnTo>
                  <a:lnTo>
                    <a:pt x="1041" y="17"/>
                  </a:lnTo>
                  <a:lnTo>
                    <a:pt x="1028" y="17"/>
                  </a:lnTo>
                  <a:lnTo>
                    <a:pt x="1024" y="30"/>
                  </a:lnTo>
                  <a:lnTo>
                    <a:pt x="1015" y="44"/>
                  </a:lnTo>
                  <a:lnTo>
                    <a:pt x="1010" y="57"/>
                  </a:lnTo>
                  <a:lnTo>
                    <a:pt x="1024" y="79"/>
                  </a:lnTo>
                  <a:lnTo>
                    <a:pt x="1054" y="92"/>
                  </a:lnTo>
                  <a:lnTo>
                    <a:pt x="1068" y="101"/>
                  </a:lnTo>
                  <a:lnTo>
                    <a:pt x="1076" y="105"/>
                  </a:lnTo>
                  <a:lnTo>
                    <a:pt x="1085" y="119"/>
                  </a:lnTo>
                  <a:lnTo>
                    <a:pt x="1094" y="114"/>
                  </a:lnTo>
                  <a:lnTo>
                    <a:pt x="1094" y="105"/>
                  </a:lnTo>
                  <a:lnTo>
                    <a:pt x="1090" y="92"/>
                  </a:lnTo>
                  <a:lnTo>
                    <a:pt x="1081" y="83"/>
                  </a:lnTo>
                  <a:lnTo>
                    <a:pt x="1081" y="74"/>
                  </a:lnTo>
                  <a:lnTo>
                    <a:pt x="1085" y="57"/>
                  </a:lnTo>
                  <a:lnTo>
                    <a:pt x="1103" y="57"/>
                  </a:lnTo>
                  <a:lnTo>
                    <a:pt x="1121" y="57"/>
                  </a:lnTo>
                  <a:lnTo>
                    <a:pt x="1125" y="61"/>
                  </a:lnTo>
                  <a:lnTo>
                    <a:pt x="1129" y="79"/>
                  </a:lnTo>
                  <a:lnTo>
                    <a:pt x="1134" y="92"/>
                  </a:lnTo>
                  <a:lnTo>
                    <a:pt x="1138" y="79"/>
                  </a:lnTo>
                  <a:lnTo>
                    <a:pt x="1151" y="70"/>
                  </a:lnTo>
                  <a:lnTo>
                    <a:pt x="1165" y="70"/>
                  </a:lnTo>
                  <a:lnTo>
                    <a:pt x="1178" y="70"/>
                  </a:lnTo>
                  <a:lnTo>
                    <a:pt x="1191" y="70"/>
                  </a:lnTo>
                  <a:lnTo>
                    <a:pt x="1191" y="57"/>
                  </a:lnTo>
                  <a:lnTo>
                    <a:pt x="1200" y="57"/>
                  </a:lnTo>
                  <a:lnTo>
                    <a:pt x="1209" y="66"/>
                  </a:lnTo>
                  <a:lnTo>
                    <a:pt x="1222" y="66"/>
                  </a:lnTo>
                  <a:lnTo>
                    <a:pt x="1240" y="61"/>
                  </a:lnTo>
                  <a:lnTo>
                    <a:pt x="1253" y="74"/>
                  </a:lnTo>
                  <a:lnTo>
                    <a:pt x="1271" y="92"/>
                  </a:lnTo>
                  <a:lnTo>
                    <a:pt x="1288" y="92"/>
                  </a:lnTo>
                  <a:lnTo>
                    <a:pt x="1315" y="101"/>
                  </a:lnTo>
                  <a:lnTo>
                    <a:pt x="1319" y="101"/>
                  </a:lnTo>
                  <a:lnTo>
                    <a:pt x="1341" y="132"/>
                  </a:lnTo>
                  <a:lnTo>
                    <a:pt x="1368" y="180"/>
                  </a:lnTo>
                  <a:lnTo>
                    <a:pt x="1385" y="211"/>
                  </a:lnTo>
                  <a:lnTo>
                    <a:pt x="1398" y="242"/>
                  </a:lnTo>
                  <a:lnTo>
                    <a:pt x="1385" y="246"/>
                  </a:lnTo>
                  <a:lnTo>
                    <a:pt x="1376" y="260"/>
                  </a:lnTo>
                  <a:lnTo>
                    <a:pt x="1385" y="282"/>
                  </a:lnTo>
                  <a:lnTo>
                    <a:pt x="1394" y="304"/>
                  </a:lnTo>
                  <a:lnTo>
                    <a:pt x="1398" y="304"/>
                  </a:lnTo>
                  <a:lnTo>
                    <a:pt x="1403" y="286"/>
                  </a:lnTo>
                  <a:lnTo>
                    <a:pt x="1412" y="282"/>
                  </a:lnTo>
                  <a:lnTo>
                    <a:pt x="1416" y="299"/>
                  </a:lnTo>
                  <a:lnTo>
                    <a:pt x="1403" y="304"/>
                  </a:lnTo>
                  <a:lnTo>
                    <a:pt x="1425" y="321"/>
                  </a:lnTo>
                  <a:lnTo>
                    <a:pt x="1412" y="339"/>
                  </a:lnTo>
                  <a:lnTo>
                    <a:pt x="1407" y="348"/>
                  </a:lnTo>
                  <a:lnTo>
                    <a:pt x="1429" y="352"/>
                  </a:lnTo>
                  <a:lnTo>
                    <a:pt x="1420" y="370"/>
                  </a:lnTo>
                  <a:lnTo>
                    <a:pt x="1407" y="370"/>
                  </a:lnTo>
                  <a:lnTo>
                    <a:pt x="1407" y="396"/>
                  </a:lnTo>
                  <a:lnTo>
                    <a:pt x="1420" y="414"/>
                  </a:lnTo>
                  <a:lnTo>
                    <a:pt x="1407" y="418"/>
                  </a:lnTo>
                  <a:lnTo>
                    <a:pt x="1385" y="414"/>
                  </a:lnTo>
                  <a:lnTo>
                    <a:pt x="1394" y="401"/>
                  </a:lnTo>
                  <a:lnTo>
                    <a:pt x="1412" y="401"/>
                  </a:lnTo>
                  <a:lnTo>
                    <a:pt x="1412" y="379"/>
                  </a:lnTo>
                  <a:lnTo>
                    <a:pt x="1394" y="388"/>
                  </a:lnTo>
                  <a:lnTo>
                    <a:pt x="1394" y="366"/>
                  </a:lnTo>
                  <a:lnTo>
                    <a:pt x="1407" y="352"/>
                  </a:lnTo>
                  <a:lnTo>
                    <a:pt x="1412" y="343"/>
                  </a:lnTo>
                  <a:lnTo>
                    <a:pt x="1403" y="326"/>
                  </a:lnTo>
                  <a:lnTo>
                    <a:pt x="1398" y="304"/>
                  </a:lnTo>
                  <a:lnTo>
                    <a:pt x="1390" y="313"/>
                  </a:lnTo>
                  <a:lnTo>
                    <a:pt x="1381" y="326"/>
                  </a:lnTo>
                  <a:lnTo>
                    <a:pt x="1363" y="343"/>
                  </a:lnTo>
                  <a:lnTo>
                    <a:pt x="1368" y="361"/>
                  </a:lnTo>
                  <a:lnTo>
                    <a:pt x="1368" y="379"/>
                  </a:lnTo>
                  <a:lnTo>
                    <a:pt x="1368" y="388"/>
                  </a:lnTo>
                  <a:lnTo>
                    <a:pt x="1372" y="405"/>
                  </a:lnTo>
                  <a:lnTo>
                    <a:pt x="1368" y="410"/>
                  </a:lnTo>
                  <a:lnTo>
                    <a:pt x="1350" y="392"/>
                  </a:lnTo>
                  <a:lnTo>
                    <a:pt x="1341" y="370"/>
                  </a:lnTo>
                  <a:lnTo>
                    <a:pt x="1332" y="361"/>
                  </a:lnTo>
                  <a:lnTo>
                    <a:pt x="1323" y="348"/>
                  </a:lnTo>
                  <a:lnTo>
                    <a:pt x="1310" y="361"/>
                  </a:lnTo>
                  <a:lnTo>
                    <a:pt x="1306" y="374"/>
                  </a:lnTo>
                  <a:lnTo>
                    <a:pt x="1323" y="392"/>
                  </a:lnTo>
                  <a:lnTo>
                    <a:pt x="1332" y="410"/>
                  </a:lnTo>
                  <a:lnTo>
                    <a:pt x="1332" y="432"/>
                  </a:lnTo>
                  <a:lnTo>
                    <a:pt x="1332" y="454"/>
                  </a:lnTo>
                  <a:lnTo>
                    <a:pt x="1332" y="476"/>
                  </a:lnTo>
                  <a:lnTo>
                    <a:pt x="1341" y="458"/>
                  </a:lnTo>
                  <a:lnTo>
                    <a:pt x="1354" y="463"/>
                  </a:lnTo>
                  <a:lnTo>
                    <a:pt x="1363" y="476"/>
                  </a:lnTo>
                  <a:lnTo>
                    <a:pt x="1350" y="489"/>
                  </a:lnTo>
                  <a:lnTo>
                    <a:pt x="1337" y="489"/>
                  </a:lnTo>
                  <a:lnTo>
                    <a:pt x="1332" y="502"/>
                  </a:lnTo>
                  <a:lnTo>
                    <a:pt x="1345" y="511"/>
                  </a:lnTo>
                  <a:lnTo>
                    <a:pt x="1341" y="530"/>
                  </a:lnTo>
                  <a:lnTo>
                    <a:pt x="1354" y="543"/>
                  </a:lnTo>
                  <a:lnTo>
                    <a:pt x="1345" y="552"/>
                  </a:lnTo>
                  <a:lnTo>
                    <a:pt x="1354" y="569"/>
                  </a:lnTo>
                  <a:lnTo>
                    <a:pt x="1350" y="583"/>
                  </a:lnTo>
                  <a:lnTo>
                    <a:pt x="1363" y="574"/>
                  </a:lnTo>
                  <a:lnTo>
                    <a:pt x="1363" y="587"/>
                  </a:lnTo>
                  <a:lnTo>
                    <a:pt x="1390" y="583"/>
                  </a:lnTo>
                  <a:lnTo>
                    <a:pt x="1381" y="600"/>
                  </a:lnTo>
                  <a:lnTo>
                    <a:pt x="1363" y="587"/>
                  </a:lnTo>
                  <a:lnTo>
                    <a:pt x="1354" y="605"/>
                  </a:lnTo>
                  <a:lnTo>
                    <a:pt x="1385" y="605"/>
                  </a:lnTo>
                  <a:lnTo>
                    <a:pt x="1372" y="627"/>
                  </a:lnTo>
                  <a:lnTo>
                    <a:pt x="1354" y="600"/>
                  </a:lnTo>
                  <a:lnTo>
                    <a:pt x="1368" y="631"/>
                  </a:lnTo>
                  <a:lnTo>
                    <a:pt x="1390" y="653"/>
                  </a:lnTo>
                  <a:lnTo>
                    <a:pt x="1368" y="653"/>
                  </a:lnTo>
                  <a:lnTo>
                    <a:pt x="1354" y="605"/>
                  </a:lnTo>
                  <a:lnTo>
                    <a:pt x="1363" y="574"/>
                  </a:lnTo>
                  <a:lnTo>
                    <a:pt x="1345" y="578"/>
                  </a:lnTo>
                  <a:lnTo>
                    <a:pt x="1332" y="561"/>
                  </a:lnTo>
                  <a:lnTo>
                    <a:pt x="1345" y="552"/>
                  </a:lnTo>
                  <a:lnTo>
                    <a:pt x="1345" y="534"/>
                  </a:lnTo>
                  <a:lnTo>
                    <a:pt x="1337" y="498"/>
                  </a:lnTo>
                  <a:lnTo>
                    <a:pt x="1332" y="467"/>
                  </a:lnTo>
                  <a:lnTo>
                    <a:pt x="1332" y="454"/>
                  </a:lnTo>
                  <a:lnTo>
                    <a:pt x="1319" y="476"/>
                  </a:lnTo>
                  <a:lnTo>
                    <a:pt x="1293" y="480"/>
                  </a:lnTo>
                  <a:lnTo>
                    <a:pt x="1279" y="498"/>
                  </a:lnTo>
                  <a:lnTo>
                    <a:pt x="1284" y="515"/>
                  </a:lnTo>
                  <a:lnTo>
                    <a:pt x="1275" y="530"/>
                  </a:lnTo>
                  <a:lnTo>
                    <a:pt x="1257" y="525"/>
                  </a:lnTo>
                  <a:lnTo>
                    <a:pt x="1271" y="507"/>
                  </a:lnTo>
                  <a:lnTo>
                    <a:pt x="1262" y="498"/>
                  </a:lnTo>
                  <a:lnTo>
                    <a:pt x="1248" y="511"/>
                  </a:lnTo>
                  <a:lnTo>
                    <a:pt x="1248" y="530"/>
                  </a:lnTo>
                  <a:lnTo>
                    <a:pt x="1271" y="552"/>
                  </a:lnTo>
                  <a:lnTo>
                    <a:pt x="1279" y="569"/>
                  </a:lnTo>
                  <a:lnTo>
                    <a:pt x="1262" y="591"/>
                  </a:lnTo>
                  <a:lnTo>
                    <a:pt x="1262" y="649"/>
                  </a:lnTo>
                  <a:lnTo>
                    <a:pt x="1262" y="671"/>
                  </a:lnTo>
                  <a:lnTo>
                    <a:pt x="1262" y="684"/>
                  </a:lnTo>
                  <a:lnTo>
                    <a:pt x="1288" y="684"/>
                  </a:lnTo>
                  <a:lnTo>
                    <a:pt x="1306" y="688"/>
                  </a:lnTo>
                  <a:lnTo>
                    <a:pt x="1319" y="666"/>
                  </a:lnTo>
                  <a:lnTo>
                    <a:pt x="1332" y="666"/>
                  </a:lnTo>
                  <a:lnTo>
                    <a:pt x="1328" y="680"/>
                  </a:lnTo>
                  <a:lnTo>
                    <a:pt x="1345" y="693"/>
                  </a:lnTo>
                  <a:lnTo>
                    <a:pt x="1363" y="697"/>
                  </a:lnTo>
                  <a:lnTo>
                    <a:pt x="1363" y="684"/>
                  </a:lnTo>
                  <a:lnTo>
                    <a:pt x="1407" y="684"/>
                  </a:lnTo>
                  <a:lnTo>
                    <a:pt x="1394" y="688"/>
                  </a:lnTo>
                  <a:lnTo>
                    <a:pt x="1390" y="702"/>
                  </a:lnTo>
                  <a:lnTo>
                    <a:pt x="1412" y="706"/>
                  </a:lnTo>
                  <a:lnTo>
                    <a:pt x="1434" y="715"/>
                  </a:lnTo>
                  <a:lnTo>
                    <a:pt x="1442" y="693"/>
                  </a:lnTo>
                  <a:lnTo>
                    <a:pt x="1447" y="680"/>
                  </a:lnTo>
                  <a:lnTo>
                    <a:pt x="1429" y="684"/>
                  </a:lnTo>
                  <a:lnTo>
                    <a:pt x="1416" y="671"/>
                  </a:lnTo>
                  <a:lnTo>
                    <a:pt x="1407" y="671"/>
                  </a:lnTo>
                  <a:lnTo>
                    <a:pt x="1403" y="688"/>
                  </a:lnTo>
                  <a:lnTo>
                    <a:pt x="1403" y="684"/>
                  </a:lnTo>
                  <a:lnTo>
                    <a:pt x="1354" y="684"/>
                  </a:lnTo>
                  <a:lnTo>
                    <a:pt x="1350" y="662"/>
                  </a:lnTo>
                  <a:lnTo>
                    <a:pt x="1337" y="666"/>
                  </a:lnTo>
                  <a:lnTo>
                    <a:pt x="1323" y="666"/>
                  </a:lnTo>
                  <a:lnTo>
                    <a:pt x="1319" y="644"/>
                  </a:lnTo>
                  <a:lnTo>
                    <a:pt x="1310" y="627"/>
                  </a:lnTo>
                  <a:lnTo>
                    <a:pt x="1323" y="618"/>
                  </a:lnTo>
                  <a:lnTo>
                    <a:pt x="1323" y="605"/>
                  </a:lnTo>
                  <a:lnTo>
                    <a:pt x="1301" y="613"/>
                  </a:lnTo>
                  <a:lnTo>
                    <a:pt x="1288" y="627"/>
                  </a:lnTo>
                  <a:lnTo>
                    <a:pt x="1279" y="644"/>
                  </a:lnTo>
                  <a:lnTo>
                    <a:pt x="1262" y="644"/>
                  </a:lnTo>
                  <a:lnTo>
                    <a:pt x="1262" y="600"/>
                  </a:lnTo>
                  <a:lnTo>
                    <a:pt x="1253" y="609"/>
                  </a:lnTo>
                  <a:lnTo>
                    <a:pt x="1240" y="591"/>
                  </a:lnTo>
                  <a:lnTo>
                    <a:pt x="1222" y="569"/>
                  </a:lnTo>
                  <a:lnTo>
                    <a:pt x="1200" y="578"/>
                  </a:lnTo>
                  <a:lnTo>
                    <a:pt x="1200" y="596"/>
                  </a:lnTo>
                  <a:lnTo>
                    <a:pt x="1209" y="618"/>
                  </a:lnTo>
                  <a:lnTo>
                    <a:pt x="1209" y="640"/>
                  </a:lnTo>
                  <a:lnTo>
                    <a:pt x="1222" y="658"/>
                  </a:lnTo>
                  <a:lnTo>
                    <a:pt x="1231" y="666"/>
                  </a:lnTo>
                  <a:lnTo>
                    <a:pt x="1213" y="666"/>
                  </a:lnTo>
                  <a:lnTo>
                    <a:pt x="1204" y="658"/>
                  </a:lnTo>
                  <a:lnTo>
                    <a:pt x="1196" y="671"/>
                  </a:lnTo>
                  <a:lnTo>
                    <a:pt x="1222" y="697"/>
                  </a:lnTo>
                  <a:lnTo>
                    <a:pt x="1240" y="710"/>
                  </a:lnTo>
                  <a:lnTo>
                    <a:pt x="1253" y="710"/>
                  </a:lnTo>
                  <a:lnTo>
                    <a:pt x="1271" y="715"/>
                  </a:lnTo>
                  <a:lnTo>
                    <a:pt x="1297" y="715"/>
                  </a:lnTo>
                  <a:lnTo>
                    <a:pt x="1319" y="710"/>
                  </a:lnTo>
                  <a:lnTo>
                    <a:pt x="1337" y="719"/>
                  </a:lnTo>
                  <a:lnTo>
                    <a:pt x="1332" y="728"/>
                  </a:lnTo>
                  <a:lnTo>
                    <a:pt x="1310" y="719"/>
                  </a:lnTo>
                  <a:lnTo>
                    <a:pt x="1310" y="755"/>
                  </a:lnTo>
                  <a:lnTo>
                    <a:pt x="1323" y="755"/>
                  </a:lnTo>
                  <a:lnTo>
                    <a:pt x="1332" y="755"/>
                  </a:lnTo>
                  <a:lnTo>
                    <a:pt x="1337" y="741"/>
                  </a:lnTo>
                  <a:lnTo>
                    <a:pt x="1354" y="746"/>
                  </a:lnTo>
                  <a:lnTo>
                    <a:pt x="1376" y="733"/>
                  </a:lnTo>
                  <a:lnTo>
                    <a:pt x="1376" y="750"/>
                  </a:lnTo>
                  <a:lnTo>
                    <a:pt x="1385" y="763"/>
                  </a:lnTo>
                  <a:lnTo>
                    <a:pt x="1394" y="772"/>
                  </a:lnTo>
                  <a:lnTo>
                    <a:pt x="1407" y="763"/>
                  </a:lnTo>
                  <a:lnTo>
                    <a:pt x="1407" y="746"/>
                  </a:lnTo>
                  <a:lnTo>
                    <a:pt x="1407" y="728"/>
                  </a:lnTo>
                  <a:lnTo>
                    <a:pt x="1416" y="746"/>
                  </a:lnTo>
                  <a:lnTo>
                    <a:pt x="1420" y="768"/>
                  </a:lnTo>
                  <a:lnTo>
                    <a:pt x="1403" y="803"/>
                  </a:lnTo>
                  <a:lnTo>
                    <a:pt x="1385" y="843"/>
                  </a:lnTo>
                  <a:lnTo>
                    <a:pt x="1368" y="882"/>
                  </a:lnTo>
                  <a:lnTo>
                    <a:pt x="1345" y="918"/>
                  </a:lnTo>
                  <a:lnTo>
                    <a:pt x="1328" y="909"/>
                  </a:lnTo>
                  <a:lnTo>
                    <a:pt x="1310" y="913"/>
                  </a:lnTo>
                  <a:lnTo>
                    <a:pt x="1301" y="931"/>
                  </a:lnTo>
                  <a:lnTo>
                    <a:pt x="1288" y="935"/>
                  </a:lnTo>
                  <a:lnTo>
                    <a:pt x="1262" y="944"/>
                  </a:lnTo>
                  <a:lnTo>
                    <a:pt x="1244" y="940"/>
                  </a:lnTo>
                  <a:lnTo>
                    <a:pt x="1253" y="918"/>
                  </a:lnTo>
                  <a:lnTo>
                    <a:pt x="1253" y="900"/>
                  </a:lnTo>
                  <a:lnTo>
                    <a:pt x="1262" y="887"/>
                  </a:lnTo>
                  <a:lnTo>
                    <a:pt x="1257" y="874"/>
                  </a:lnTo>
                  <a:lnTo>
                    <a:pt x="1240" y="865"/>
                  </a:lnTo>
                  <a:lnTo>
                    <a:pt x="1240" y="843"/>
                  </a:lnTo>
                  <a:lnTo>
                    <a:pt x="1248" y="821"/>
                  </a:lnTo>
                  <a:lnTo>
                    <a:pt x="1266" y="803"/>
                  </a:lnTo>
                  <a:lnTo>
                    <a:pt x="1288" y="799"/>
                  </a:lnTo>
                  <a:lnTo>
                    <a:pt x="1293" y="785"/>
                  </a:lnTo>
                  <a:lnTo>
                    <a:pt x="1288" y="768"/>
                  </a:lnTo>
                  <a:lnTo>
                    <a:pt x="1301" y="755"/>
                  </a:lnTo>
                  <a:lnTo>
                    <a:pt x="1310" y="755"/>
                  </a:lnTo>
                  <a:lnTo>
                    <a:pt x="1310" y="719"/>
                  </a:lnTo>
                  <a:lnTo>
                    <a:pt x="1288" y="724"/>
                  </a:lnTo>
                  <a:lnTo>
                    <a:pt x="1271" y="733"/>
                  </a:lnTo>
                  <a:lnTo>
                    <a:pt x="1257" y="719"/>
                  </a:lnTo>
                  <a:lnTo>
                    <a:pt x="1235" y="719"/>
                  </a:lnTo>
                  <a:lnTo>
                    <a:pt x="1213" y="710"/>
                  </a:lnTo>
                  <a:lnTo>
                    <a:pt x="1196" y="697"/>
                  </a:lnTo>
                  <a:lnTo>
                    <a:pt x="1191" y="680"/>
                  </a:lnTo>
                  <a:lnTo>
                    <a:pt x="1178" y="666"/>
                  </a:lnTo>
                  <a:lnTo>
                    <a:pt x="1191" y="662"/>
                  </a:lnTo>
                  <a:lnTo>
                    <a:pt x="1196" y="666"/>
                  </a:lnTo>
                  <a:lnTo>
                    <a:pt x="1209" y="658"/>
                  </a:lnTo>
                  <a:lnTo>
                    <a:pt x="1200" y="636"/>
                  </a:lnTo>
                  <a:lnTo>
                    <a:pt x="1191" y="636"/>
                  </a:lnTo>
                  <a:lnTo>
                    <a:pt x="1182" y="613"/>
                  </a:lnTo>
                  <a:lnTo>
                    <a:pt x="1187" y="591"/>
                  </a:lnTo>
                  <a:lnTo>
                    <a:pt x="1196" y="574"/>
                  </a:lnTo>
                  <a:lnTo>
                    <a:pt x="1196" y="552"/>
                  </a:lnTo>
                  <a:lnTo>
                    <a:pt x="1187" y="547"/>
                  </a:lnTo>
                  <a:lnTo>
                    <a:pt x="1178" y="561"/>
                  </a:lnTo>
                  <a:lnTo>
                    <a:pt x="1173" y="574"/>
                  </a:lnTo>
                  <a:lnTo>
                    <a:pt x="1165" y="552"/>
                  </a:lnTo>
                  <a:lnTo>
                    <a:pt x="1143" y="534"/>
                  </a:lnTo>
                  <a:lnTo>
                    <a:pt x="1129" y="534"/>
                  </a:lnTo>
                  <a:lnTo>
                    <a:pt x="1112" y="561"/>
                  </a:lnTo>
                  <a:lnTo>
                    <a:pt x="1099" y="569"/>
                  </a:lnTo>
                  <a:lnTo>
                    <a:pt x="1099" y="587"/>
                  </a:lnTo>
                  <a:lnTo>
                    <a:pt x="1103" y="600"/>
                  </a:lnTo>
                  <a:lnTo>
                    <a:pt x="1099" y="618"/>
                  </a:lnTo>
                  <a:lnTo>
                    <a:pt x="1085" y="613"/>
                  </a:lnTo>
                  <a:lnTo>
                    <a:pt x="1076" y="596"/>
                  </a:lnTo>
                  <a:lnTo>
                    <a:pt x="1059" y="574"/>
                  </a:lnTo>
                  <a:lnTo>
                    <a:pt x="1041" y="561"/>
                  </a:lnTo>
                  <a:lnTo>
                    <a:pt x="1028" y="534"/>
                  </a:lnTo>
                  <a:lnTo>
                    <a:pt x="1015" y="530"/>
                  </a:lnTo>
                  <a:lnTo>
                    <a:pt x="993" y="530"/>
                  </a:lnTo>
                  <a:lnTo>
                    <a:pt x="971" y="530"/>
                  </a:lnTo>
                  <a:lnTo>
                    <a:pt x="957" y="534"/>
                  </a:lnTo>
                  <a:lnTo>
                    <a:pt x="949" y="521"/>
                  </a:lnTo>
                  <a:lnTo>
                    <a:pt x="935" y="511"/>
                  </a:lnTo>
                  <a:lnTo>
                    <a:pt x="913" y="498"/>
                  </a:lnTo>
                  <a:lnTo>
                    <a:pt x="927" y="521"/>
                  </a:lnTo>
                  <a:lnTo>
                    <a:pt x="949" y="530"/>
                  </a:lnTo>
                  <a:lnTo>
                    <a:pt x="966" y="552"/>
                  </a:lnTo>
                  <a:lnTo>
                    <a:pt x="957" y="569"/>
                  </a:lnTo>
                  <a:lnTo>
                    <a:pt x="944" y="583"/>
                  </a:lnTo>
                  <a:lnTo>
                    <a:pt x="922" y="587"/>
                  </a:lnTo>
                  <a:lnTo>
                    <a:pt x="904" y="591"/>
                  </a:lnTo>
                  <a:lnTo>
                    <a:pt x="891" y="613"/>
                  </a:lnTo>
                  <a:lnTo>
                    <a:pt x="882" y="618"/>
                  </a:lnTo>
                  <a:lnTo>
                    <a:pt x="878" y="600"/>
                  </a:lnTo>
                  <a:lnTo>
                    <a:pt x="865" y="569"/>
                  </a:lnTo>
                  <a:lnTo>
                    <a:pt x="852" y="556"/>
                  </a:lnTo>
                  <a:lnTo>
                    <a:pt x="852" y="534"/>
                  </a:lnTo>
                  <a:lnTo>
                    <a:pt x="838" y="538"/>
                  </a:lnTo>
                  <a:lnTo>
                    <a:pt x="843" y="569"/>
                  </a:lnTo>
                  <a:lnTo>
                    <a:pt x="856" y="591"/>
                  </a:lnTo>
                  <a:lnTo>
                    <a:pt x="856" y="609"/>
                  </a:lnTo>
                  <a:lnTo>
                    <a:pt x="874" y="618"/>
                  </a:lnTo>
                  <a:lnTo>
                    <a:pt x="882" y="631"/>
                  </a:lnTo>
                  <a:lnTo>
                    <a:pt x="900" y="627"/>
                  </a:lnTo>
                  <a:lnTo>
                    <a:pt x="918" y="627"/>
                  </a:lnTo>
                  <a:lnTo>
                    <a:pt x="935" y="613"/>
                  </a:lnTo>
                  <a:lnTo>
                    <a:pt x="931" y="640"/>
                  </a:lnTo>
                  <a:lnTo>
                    <a:pt x="913" y="671"/>
                  </a:lnTo>
                  <a:lnTo>
                    <a:pt x="900" y="693"/>
                  </a:lnTo>
                  <a:lnTo>
                    <a:pt x="887" y="710"/>
                  </a:lnTo>
                  <a:lnTo>
                    <a:pt x="878" y="728"/>
                  </a:lnTo>
                  <a:lnTo>
                    <a:pt x="874" y="763"/>
                  </a:lnTo>
                  <a:lnTo>
                    <a:pt x="869" y="790"/>
                  </a:lnTo>
                  <a:lnTo>
                    <a:pt x="869" y="812"/>
                  </a:lnTo>
                  <a:lnTo>
                    <a:pt x="874" y="838"/>
                  </a:lnTo>
                  <a:lnTo>
                    <a:pt x="874" y="843"/>
                  </a:lnTo>
                  <a:lnTo>
                    <a:pt x="891" y="838"/>
                  </a:lnTo>
                  <a:lnTo>
                    <a:pt x="896" y="821"/>
                  </a:lnTo>
                  <a:lnTo>
                    <a:pt x="909" y="799"/>
                  </a:lnTo>
                  <a:lnTo>
                    <a:pt x="927" y="790"/>
                  </a:lnTo>
                  <a:lnTo>
                    <a:pt x="931" y="812"/>
                  </a:lnTo>
                  <a:lnTo>
                    <a:pt x="931" y="830"/>
                  </a:lnTo>
                  <a:lnTo>
                    <a:pt x="922" y="843"/>
                  </a:lnTo>
                  <a:lnTo>
                    <a:pt x="922" y="852"/>
                  </a:lnTo>
                  <a:lnTo>
                    <a:pt x="913" y="882"/>
                  </a:lnTo>
                  <a:lnTo>
                    <a:pt x="913" y="896"/>
                  </a:lnTo>
                  <a:lnTo>
                    <a:pt x="900" y="900"/>
                  </a:lnTo>
                  <a:lnTo>
                    <a:pt x="887" y="887"/>
                  </a:lnTo>
                  <a:lnTo>
                    <a:pt x="896" y="865"/>
                  </a:lnTo>
                  <a:lnTo>
                    <a:pt x="900" y="856"/>
                  </a:lnTo>
                  <a:lnTo>
                    <a:pt x="887" y="843"/>
                  </a:lnTo>
                  <a:lnTo>
                    <a:pt x="874" y="843"/>
                  </a:lnTo>
                  <a:lnTo>
                    <a:pt x="869" y="865"/>
                  </a:lnTo>
                  <a:lnTo>
                    <a:pt x="847" y="874"/>
                  </a:lnTo>
                  <a:lnTo>
                    <a:pt x="834" y="887"/>
                  </a:lnTo>
                  <a:lnTo>
                    <a:pt x="834" y="909"/>
                  </a:lnTo>
                  <a:lnTo>
                    <a:pt x="834" y="931"/>
                  </a:lnTo>
                  <a:lnTo>
                    <a:pt x="825" y="957"/>
                  </a:lnTo>
                  <a:lnTo>
                    <a:pt x="794" y="988"/>
                  </a:lnTo>
                  <a:lnTo>
                    <a:pt x="781" y="988"/>
                  </a:lnTo>
                  <a:lnTo>
                    <a:pt x="772" y="971"/>
                  </a:lnTo>
                  <a:lnTo>
                    <a:pt x="750" y="957"/>
                  </a:lnTo>
                  <a:lnTo>
                    <a:pt x="741" y="953"/>
                  </a:lnTo>
                  <a:lnTo>
                    <a:pt x="724" y="913"/>
                  </a:lnTo>
                  <a:lnTo>
                    <a:pt x="709" y="896"/>
                  </a:lnTo>
                  <a:lnTo>
                    <a:pt x="696" y="882"/>
                  </a:lnTo>
                  <a:lnTo>
                    <a:pt x="687" y="860"/>
                  </a:lnTo>
                  <a:lnTo>
                    <a:pt x="687" y="838"/>
                  </a:lnTo>
                  <a:lnTo>
                    <a:pt x="670" y="821"/>
                  </a:lnTo>
                  <a:lnTo>
                    <a:pt x="665" y="803"/>
                  </a:lnTo>
                  <a:lnTo>
                    <a:pt x="679" y="785"/>
                  </a:lnTo>
                  <a:lnTo>
                    <a:pt x="679" y="768"/>
                  </a:lnTo>
                  <a:lnTo>
                    <a:pt x="665" y="755"/>
                  </a:lnTo>
                  <a:lnTo>
                    <a:pt x="639" y="755"/>
                  </a:lnTo>
                  <a:lnTo>
                    <a:pt x="621" y="746"/>
                  </a:lnTo>
                  <a:lnTo>
                    <a:pt x="612" y="755"/>
                  </a:lnTo>
                  <a:lnTo>
                    <a:pt x="599" y="755"/>
                  </a:lnTo>
                  <a:lnTo>
                    <a:pt x="582" y="746"/>
                  </a:lnTo>
                  <a:lnTo>
                    <a:pt x="573" y="733"/>
                  </a:lnTo>
                  <a:lnTo>
                    <a:pt x="555" y="728"/>
                  </a:lnTo>
                  <a:lnTo>
                    <a:pt x="537" y="719"/>
                  </a:lnTo>
                  <a:lnTo>
                    <a:pt x="520" y="706"/>
                  </a:lnTo>
                  <a:lnTo>
                    <a:pt x="515" y="680"/>
                  </a:lnTo>
                  <a:lnTo>
                    <a:pt x="511" y="658"/>
                  </a:lnTo>
                  <a:lnTo>
                    <a:pt x="529" y="644"/>
                  </a:lnTo>
                  <a:lnTo>
                    <a:pt x="524" y="631"/>
                  </a:lnTo>
                  <a:lnTo>
                    <a:pt x="520" y="605"/>
                  </a:lnTo>
                  <a:lnTo>
                    <a:pt x="524" y="583"/>
                  </a:lnTo>
                  <a:lnTo>
                    <a:pt x="520" y="561"/>
                  </a:lnTo>
                  <a:lnTo>
                    <a:pt x="537" y="543"/>
                  </a:lnTo>
                  <a:lnTo>
                    <a:pt x="546" y="530"/>
                  </a:lnTo>
                  <a:lnTo>
                    <a:pt x="560" y="530"/>
                  </a:lnTo>
                  <a:lnTo>
                    <a:pt x="560" y="511"/>
                  </a:lnTo>
                  <a:lnTo>
                    <a:pt x="568" y="498"/>
                  </a:lnTo>
                  <a:lnTo>
                    <a:pt x="582" y="485"/>
                  </a:lnTo>
                  <a:lnTo>
                    <a:pt x="599" y="493"/>
                  </a:lnTo>
                  <a:lnTo>
                    <a:pt x="621" y="498"/>
                  </a:lnTo>
                  <a:lnTo>
                    <a:pt x="643" y="498"/>
                  </a:lnTo>
                  <a:lnTo>
                    <a:pt x="665" y="498"/>
                  </a:lnTo>
                  <a:lnTo>
                    <a:pt x="674" y="498"/>
                  </a:lnTo>
                  <a:lnTo>
                    <a:pt x="679" y="515"/>
                  </a:lnTo>
                  <a:lnTo>
                    <a:pt x="696" y="521"/>
                  </a:lnTo>
                  <a:lnTo>
                    <a:pt x="718" y="530"/>
                  </a:lnTo>
                  <a:lnTo>
                    <a:pt x="728" y="525"/>
                  </a:lnTo>
                  <a:lnTo>
                    <a:pt x="737" y="511"/>
                  </a:lnTo>
                  <a:lnTo>
                    <a:pt x="746" y="502"/>
                  </a:lnTo>
                  <a:lnTo>
                    <a:pt x="759" y="507"/>
                  </a:lnTo>
                  <a:lnTo>
                    <a:pt x="781" y="515"/>
                  </a:lnTo>
                  <a:lnTo>
                    <a:pt x="807" y="521"/>
                  </a:lnTo>
                  <a:lnTo>
                    <a:pt x="821" y="521"/>
                  </a:lnTo>
                  <a:lnTo>
                    <a:pt x="838" y="521"/>
                  </a:lnTo>
                  <a:lnTo>
                    <a:pt x="852" y="507"/>
                  </a:lnTo>
                  <a:lnTo>
                    <a:pt x="860" y="489"/>
                  </a:lnTo>
                  <a:lnTo>
                    <a:pt x="865" y="476"/>
                  </a:lnTo>
                  <a:lnTo>
                    <a:pt x="860" y="471"/>
                  </a:lnTo>
                  <a:lnTo>
                    <a:pt x="852" y="458"/>
                  </a:lnTo>
                  <a:lnTo>
                    <a:pt x="838" y="463"/>
                  </a:lnTo>
                  <a:lnTo>
                    <a:pt x="816" y="463"/>
                  </a:lnTo>
                  <a:lnTo>
                    <a:pt x="803" y="458"/>
                  </a:lnTo>
                  <a:lnTo>
                    <a:pt x="803" y="440"/>
                  </a:lnTo>
                  <a:lnTo>
                    <a:pt x="794" y="436"/>
                  </a:lnTo>
                  <a:lnTo>
                    <a:pt x="790" y="440"/>
                  </a:lnTo>
                  <a:lnTo>
                    <a:pt x="794" y="458"/>
                  </a:lnTo>
                  <a:lnTo>
                    <a:pt x="785" y="467"/>
                  </a:lnTo>
                  <a:lnTo>
                    <a:pt x="768" y="467"/>
                  </a:lnTo>
                  <a:lnTo>
                    <a:pt x="759" y="454"/>
                  </a:lnTo>
                  <a:lnTo>
                    <a:pt x="755" y="440"/>
                  </a:lnTo>
                  <a:lnTo>
                    <a:pt x="755" y="418"/>
                  </a:lnTo>
                  <a:lnTo>
                    <a:pt x="746" y="414"/>
                  </a:lnTo>
                  <a:lnTo>
                    <a:pt x="741" y="427"/>
                  </a:lnTo>
                  <a:lnTo>
                    <a:pt x="741" y="440"/>
                  </a:lnTo>
                  <a:lnTo>
                    <a:pt x="750" y="454"/>
                  </a:lnTo>
                  <a:lnTo>
                    <a:pt x="759" y="467"/>
                  </a:lnTo>
                  <a:lnTo>
                    <a:pt x="750" y="480"/>
                  </a:lnTo>
                  <a:lnTo>
                    <a:pt x="737" y="485"/>
                  </a:lnTo>
                  <a:lnTo>
                    <a:pt x="724" y="485"/>
                  </a:lnTo>
                  <a:lnTo>
                    <a:pt x="724" y="498"/>
                  </a:lnTo>
                  <a:lnTo>
                    <a:pt x="709" y="502"/>
                  </a:lnTo>
                  <a:lnTo>
                    <a:pt x="696" y="485"/>
                  </a:lnTo>
                  <a:lnTo>
                    <a:pt x="696" y="476"/>
                  </a:lnTo>
                  <a:lnTo>
                    <a:pt x="714" y="485"/>
                  </a:lnTo>
                  <a:lnTo>
                    <a:pt x="728" y="485"/>
                  </a:lnTo>
                  <a:lnTo>
                    <a:pt x="741" y="476"/>
                  </a:lnTo>
                  <a:lnTo>
                    <a:pt x="737" y="458"/>
                  </a:lnTo>
                  <a:lnTo>
                    <a:pt x="724" y="445"/>
                  </a:lnTo>
                  <a:lnTo>
                    <a:pt x="709" y="436"/>
                  </a:lnTo>
                  <a:lnTo>
                    <a:pt x="696" y="418"/>
                  </a:lnTo>
                  <a:lnTo>
                    <a:pt x="683" y="410"/>
                  </a:lnTo>
                  <a:lnTo>
                    <a:pt x="683" y="427"/>
                  </a:lnTo>
                  <a:lnTo>
                    <a:pt x="692" y="436"/>
                  </a:lnTo>
                  <a:lnTo>
                    <a:pt x="687" y="458"/>
                  </a:lnTo>
                  <a:lnTo>
                    <a:pt x="687" y="476"/>
                  </a:lnTo>
                  <a:lnTo>
                    <a:pt x="670" y="463"/>
                  </a:lnTo>
                  <a:lnTo>
                    <a:pt x="670" y="449"/>
                  </a:lnTo>
                  <a:lnTo>
                    <a:pt x="679" y="440"/>
                  </a:lnTo>
                  <a:lnTo>
                    <a:pt x="674" y="432"/>
                  </a:lnTo>
                  <a:lnTo>
                    <a:pt x="683" y="423"/>
                  </a:lnTo>
                  <a:lnTo>
                    <a:pt x="683" y="410"/>
                  </a:lnTo>
                  <a:lnTo>
                    <a:pt x="670" y="414"/>
                  </a:lnTo>
                  <a:lnTo>
                    <a:pt x="661" y="427"/>
                  </a:lnTo>
                  <a:lnTo>
                    <a:pt x="643" y="418"/>
                  </a:lnTo>
                  <a:lnTo>
                    <a:pt x="621" y="432"/>
                  </a:lnTo>
                  <a:lnTo>
                    <a:pt x="617" y="454"/>
                  </a:lnTo>
                  <a:lnTo>
                    <a:pt x="604" y="467"/>
                  </a:lnTo>
                  <a:lnTo>
                    <a:pt x="582" y="476"/>
                  </a:lnTo>
                  <a:lnTo>
                    <a:pt x="564" y="476"/>
                  </a:lnTo>
                  <a:lnTo>
                    <a:pt x="546" y="471"/>
                  </a:lnTo>
                  <a:lnTo>
                    <a:pt x="537" y="463"/>
                  </a:lnTo>
                  <a:lnTo>
                    <a:pt x="542" y="454"/>
                  </a:lnTo>
                  <a:lnTo>
                    <a:pt x="537" y="436"/>
                  </a:lnTo>
                  <a:lnTo>
                    <a:pt x="551" y="427"/>
                  </a:lnTo>
                  <a:lnTo>
                    <a:pt x="551" y="414"/>
                  </a:lnTo>
                  <a:lnTo>
                    <a:pt x="551" y="396"/>
                  </a:lnTo>
                  <a:lnTo>
                    <a:pt x="568" y="383"/>
                  </a:lnTo>
                  <a:lnTo>
                    <a:pt x="590" y="388"/>
                  </a:lnTo>
                  <a:lnTo>
                    <a:pt x="617" y="396"/>
                  </a:lnTo>
                  <a:lnTo>
                    <a:pt x="626" y="383"/>
                  </a:lnTo>
                  <a:lnTo>
                    <a:pt x="626" y="366"/>
                  </a:lnTo>
                  <a:lnTo>
                    <a:pt x="617" y="352"/>
                  </a:lnTo>
                  <a:lnTo>
                    <a:pt x="595" y="343"/>
                  </a:lnTo>
                  <a:lnTo>
                    <a:pt x="604" y="335"/>
                  </a:lnTo>
                  <a:lnTo>
                    <a:pt x="626" y="330"/>
                  </a:lnTo>
                  <a:lnTo>
                    <a:pt x="630" y="326"/>
                  </a:lnTo>
                  <a:lnTo>
                    <a:pt x="621" y="326"/>
                  </a:lnTo>
                  <a:lnTo>
                    <a:pt x="608" y="326"/>
                  </a:lnTo>
                  <a:lnTo>
                    <a:pt x="590" y="330"/>
                  </a:lnTo>
                  <a:lnTo>
                    <a:pt x="582" y="330"/>
                  </a:lnTo>
                  <a:lnTo>
                    <a:pt x="586" y="321"/>
                  </a:lnTo>
                  <a:lnTo>
                    <a:pt x="590" y="304"/>
                  </a:lnTo>
                  <a:lnTo>
                    <a:pt x="599" y="295"/>
                  </a:lnTo>
                  <a:lnTo>
                    <a:pt x="599" y="286"/>
                  </a:lnTo>
                  <a:lnTo>
                    <a:pt x="595" y="273"/>
                  </a:lnTo>
                  <a:lnTo>
                    <a:pt x="582" y="277"/>
                  </a:lnTo>
                  <a:lnTo>
                    <a:pt x="582" y="295"/>
                  </a:lnTo>
                  <a:lnTo>
                    <a:pt x="582" y="308"/>
                  </a:lnTo>
                  <a:lnTo>
                    <a:pt x="573" y="326"/>
                  </a:lnTo>
                  <a:lnTo>
                    <a:pt x="560" y="326"/>
                  </a:lnTo>
                  <a:lnTo>
                    <a:pt x="555" y="308"/>
                  </a:lnTo>
                  <a:lnTo>
                    <a:pt x="542" y="291"/>
                  </a:lnTo>
                  <a:lnTo>
                    <a:pt x="560" y="286"/>
                  </a:lnTo>
                  <a:lnTo>
                    <a:pt x="568" y="277"/>
                  </a:lnTo>
                  <a:lnTo>
                    <a:pt x="577" y="277"/>
                  </a:lnTo>
                  <a:lnTo>
                    <a:pt x="577" y="264"/>
                  </a:lnTo>
                  <a:lnTo>
                    <a:pt x="573" y="255"/>
                  </a:lnTo>
                  <a:lnTo>
                    <a:pt x="586" y="246"/>
                  </a:lnTo>
                  <a:lnTo>
                    <a:pt x="599" y="238"/>
                  </a:lnTo>
                  <a:lnTo>
                    <a:pt x="608" y="242"/>
                  </a:lnTo>
                  <a:lnTo>
                    <a:pt x="617" y="260"/>
                  </a:lnTo>
                  <a:lnTo>
                    <a:pt x="621" y="277"/>
                  </a:lnTo>
                  <a:lnTo>
                    <a:pt x="630" y="291"/>
                  </a:lnTo>
                  <a:lnTo>
                    <a:pt x="634" y="308"/>
                  </a:lnTo>
                  <a:lnTo>
                    <a:pt x="630" y="317"/>
                  </a:lnTo>
                  <a:lnTo>
                    <a:pt x="626" y="326"/>
                  </a:lnTo>
                  <a:lnTo>
                    <a:pt x="639" y="326"/>
                  </a:lnTo>
                  <a:lnTo>
                    <a:pt x="657" y="317"/>
                  </a:lnTo>
                  <a:lnTo>
                    <a:pt x="665" y="295"/>
                  </a:lnTo>
                  <a:lnTo>
                    <a:pt x="679" y="295"/>
                  </a:lnTo>
                  <a:lnTo>
                    <a:pt x="687" y="291"/>
                  </a:lnTo>
                  <a:lnTo>
                    <a:pt x="683" y="273"/>
                  </a:lnTo>
                  <a:lnTo>
                    <a:pt x="679" y="260"/>
                  </a:lnTo>
                  <a:lnTo>
                    <a:pt x="692" y="260"/>
                  </a:lnTo>
                  <a:lnTo>
                    <a:pt x="709" y="273"/>
                  </a:lnTo>
                  <a:lnTo>
                    <a:pt x="724" y="286"/>
                  </a:lnTo>
                  <a:lnTo>
                    <a:pt x="737" y="286"/>
                  </a:lnTo>
                  <a:lnTo>
                    <a:pt x="755" y="277"/>
                  </a:lnTo>
                  <a:lnTo>
                    <a:pt x="768" y="260"/>
                  </a:lnTo>
                  <a:lnTo>
                    <a:pt x="772" y="242"/>
                  </a:lnTo>
                  <a:lnTo>
                    <a:pt x="803" y="251"/>
                  </a:lnTo>
                  <a:lnTo>
                    <a:pt x="777" y="233"/>
                  </a:lnTo>
                  <a:lnTo>
                    <a:pt x="759" y="238"/>
                  </a:lnTo>
                  <a:lnTo>
                    <a:pt x="755" y="216"/>
                  </a:lnTo>
                  <a:lnTo>
                    <a:pt x="755" y="202"/>
                  </a:lnTo>
                  <a:lnTo>
                    <a:pt x="777" y="198"/>
                  </a:lnTo>
                  <a:lnTo>
                    <a:pt x="781" y="185"/>
                  </a:lnTo>
                  <a:lnTo>
                    <a:pt x="768" y="194"/>
                  </a:lnTo>
                  <a:lnTo>
                    <a:pt x="750" y="202"/>
                  </a:lnTo>
                  <a:lnTo>
                    <a:pt x="733" y="202"/>
                  </a:lnTo>
                  <a:lnTo>
                    <a:pt x="741" y="224"/>
                  </a:lnTo>
                  <a:lnTo>
                    <a:pt x="737" y="242"/>
                  </a:lnTo>
                  <a:lnTo>
                    <a:pt x="737" y="255"/>
                  </a:lnTo>
                  <a:lnTo>
                    <a:pt x="724" y="264"/>
                  </a:lnTo>
                  <a:lnTo>
                    <a:pt x="709" y="268"/>
                  </a:lnTo>
                  <a:lnTo>
                    <a:pt x="696" y="260"/>
                  </a:lnTo>
                  <a:lnTo>
                    <a:pt x="701" y="242"/>
                  </a:lnTo>
                  <a:lnTo>
                    <a:pt x="701" y="233"/>
                  </a:lnTo>
                  <a:lnTo>
                    <a:pt x="687" y="242"/>
                  </a:lnTo>
                  <a:lnTo>
                    <a:pt x="670" y="233"/>
                  </a:lnTo>
                  <a:lnTo>
                    <a:pt x="665" y="220"/>
                  </a:lnTo>
                  <a:lnTo>
                    <a:pt x="665" y="202"/>
                  </a:lnTo>
                  <a:lnTo>
                    <a:pt x="670" y="198"/>
                  </a:lnTo>
                  <a:lnTo>
                    <a:pt x="485" y="198"/>
                  </a:lnTo>
                  <a:lnTo>
                    <a:pt x="471" y="211"/>
                  </a:lnTo>
                  <a:lnTo>
                    <a:pt x="458" y="220"/>
                  </a:lnTo>
                  <a:lnTo>
                    <a:pt x="440" y="211"/>
                  </a:lnTo>
                  <a:lnTo>
                    <a:pt x="432" y="202"/>
                  </a:lnTo>
                  <a:lnTo>
                    <a:pt x="432" y="189"/>
                  </a:lnTo>
                  <a:lnTo>
                    <a:pt x="436" y="189"/>
                  </a:lnTo>
                  <a:lnTo>
                    <a:pt x="401" y="189"/>
                  </a:lnTo>
                  <a:lnTo>
                    <a:pt x="388" y="189"/>
                  </a:lnTo>
                  <a:lnTo>
                    <a:pt x="374" y="211"/>
                  </a:lnTo>
                  <a:lnTo>
                    <a:pt x="370" y="229"/>
                  </a:lnTo>
                  <a:lnTo>
                    <a:pt x="361" y="246"/>
                  </a:lnTo>
                  <a:lnTo>
                    <a:pt x="343" y="242"/>
                  </a:lnTo>
                  <a:lnTo>
                    <a:pt x="330" y="229"/>
                  </a:lnTo>
                  <a:lnTo>
                    <a:pt x="330" y="202"/>
                  </a:lnTo>
                  <a:lnTo>
                    <a:pt x="321" y="180"/>
                  </a:lnTo>
                  <a:lnTo>
                    <a:pt x="313" y="163"/>
                  </a:lnTo>
                  <a:lnTo>
                    <a:pt x="313" y="149"/>
                  </a:lnTo>
                  <a:lnTo>
                    <a:pt x="304" y="127"/>
                  </a:lnTo>
                  <a:lnTo>
                    <a:pt x="295" y="119"/>
                  </a:lnTo>
                  <a:lnTo>
                    <a:pt x="282" y="132"/>
                  </a:lnTo>
                  <a:lnTo>
                    <a:pt x="264" y="119"/>
                  </a:lnTo>
                  <a:lnTo>
                    <a:pt x="255" y="127"/>
                  </a:lnTo>
                  <a:lnTo>
                    <a:pt x="246" y="136"/>
                  </a:lnTo>
                  <a:lnTo>
                    <a:pt x="224" y="141"/>
                  </a:lnTo>
                  <a:lnTo>
                    <a:pt x="211" y="158"/>
                  </a:lnTo>
                  <a:lnTo>
                    <a:pt x="233" y="163"/>
                  </a:lnTo>
                  <a:lnTo>
                    <a:pt x="255" y="167"/>
                  </a:lnTo>
                  <a:lnTo>
                    <a:pt x="268" y="185"/>
                  </a:lnTo>
                  <a:lnTo>
                    <a:pt x="282" y="202"/>
                  </a:lnTo>
                  <a:lnTo>
                    <a:pt x="286" y="229"/>
                  </a:lnTo>
                  <a:lnTo>
                    <a:pt x="277" y="251"/>
                  </a:lnTo>
                  <a:lnTo>
                    <a:pt x="264" y="260"/>
                  </a:lnTo>
                  <a:lnTo>
                    <a:pt x="246" y="242"/>
                  </a:lnTo>
                  <a:lnTo>
                    <a:pt x="220" y="242"/>
                  </a:lnTo>
                  <a:lnTo>
                    <a:pt x="220" y="229"/>
                  </a:lnTo>
                  <a:lnTo>
                    <a:pt x="246" y="220"/>
                  </a:lnTo>
                  <a:lnTo>
                    <a:pt x="246" y="207"/>
                  </a:lnTo>
                  <a:lnTo>
                    <a:pt x="242" y="202"/>
                  </a:lnTo>
                  <a:lnTo>
                    <a:pt x="233" y="216"/>
                  </a:lnTo>
                  <a:lnTo>
                    <a:pt x="220" y="207"/>
                  </a:lnTo>
                  <a:lnTo>
                    <a:pt x="242" y="194"/>
                  </a:lnTo>
                  <a:lnTo>
                    <a:pt x="246" y="202"/>
                  </a:lnTo>
                  <a:lnTo>
                    <a:pt x="233" y="189"/>
                  </a:lnTo>
                  <a:lnTo>
                    <a:pt x="220" y="189"/>
                  </a:lnTo>
                  <a:lnTo>
                    <a:pt x="207" y="202"/>
                  </a:lnTo>
                  <a:lnTo>
                    <a:pt x="211" y="216"/>
                  </a:lnTo>
                  <a:lnTo>
                    <a:pt x="211" y="233"/>
                  </a:lnTo>
                  <a:lnTo>
                    <a:pt x="202" y="251"/>
                  </a:lnTo>
                  <a:lnTo>
                    <a:pt x="211" y="268"/>
                  </a:lnTo>
                  <a:lnTo>
                    <a:pt x="194" y="255"/>
                  </a:lnTo>
                  <a:lnTo>
                    <a:pt x="185" y="264"/>
                  </a:lnTo>
                  <a:lnTo>
                    <a:pt x="180" y="255"/>
                  </a:lnTo>
                  <a:lnTo>
                    <a:pt x="185" y="238"/>
                  </a:lnTo>
                  <a:lnTo>
                    <a:pt x="171" y="242"/>
                  </a:lnTo>
                  <a:lnTo>
                    <a:pt x="163" y="260"/>
                  </a:lnTo>
                  <a:lnTo>
                    <a:pt x="154" y="268"/>
                  </a:lnTo>
                  <a:lnTo>
                    <a:pt x="154" y="282"/>
                  </a:lnTo>
                  <a:lnTo>
                    <a:pt x="136" y="282"/>
                  </a:lnTo>
                  <a:lnTo>
                    <a:pt x="127" y="291"/>
                  </a:lnTo>
                  <a:lnTo>
                    <a:pt x="136" y="308"/>
                  </a:lnTo>
                  <a:lnTo>
                    <a:pt x="154" y="321"/>
                  </a:lnTo>
                  <a:lnTo>
                    <a:pt x="163" y="330"/>
                  </a:lnTo>
                  <a:lnTo>
                    <a:pt x="163" y="348"/>
                  </a:lnTo>
                  <a:lnTo>
                    <a:pt x="176" y="343"/>
                  </a:lnTo>
                  <a:lnTo>
                    <a:pt x="176" y="326"/>
                  </a:lnTo>
                  <a:lnTo>
                    <a:pt x="198" y="326"/>
                  </a:lnTo>
                  <a:lnTo>
                    <a:pt x="211" y="308"/>
                  </a:lnTo>
                  <a:lnTo>
                    <a:pt x="211" y="295"/>
                  </a:lnTo>
                  <a:lnTo>
                    <a:pt x="211" y="264"/>
                  </a:lnTo>
                  <a:lnTo>
                    <a:pt x="220" y="246"/>
                  </a:lnTo>
                  <a:lnTo>
                    <a:pt x="229" y="233"/>
                  </a:lnTo>
                  <a:lnTo>
                    <a:pt x="246" y="246"/>
                  </a:lnTo>
                  <a:lnTo>
                    <a:pt x="268" y="260"/>
                  </a:lnTo>
                  <a:lnTo>
                    <a:pt x="277" y="264"/>
                  </a:lnTo>
                  <a:lnTo>
                    <a:pt x="286" y="282"/>
                  </a:lnTo>
                  <a:lnTo>
                    <a:pt x="299" y="291"/>
                  </a:lnTo>
                  <a:lnTo>
                    <a:pt x="308" y="308"/>
                  </a:lnTo>
                  <a:lnTo>
                    <a:pt x="308" y="326"/>
                  </a:lnTo>
                  <a:lnTo>
                    <a:pt x="321" y="335"/>
                  </a:lnTo>
                  <a:lnTo>
                    <a:pt x="313" y="348"/>
                  </a:lnTo>
                  <a:lnTo>
                    <a:pt x="291" y="348"/>
                  </a:lnTo>
                  <a:lnTo>
                    <a:pt x="273" y="361"/>
                  </a:lnTo>
                  <a:lnTo>
                    <a:pt x="255" y="370"/>
                  </a:lnTo>
                  <a:lnTo>
                    <a:pt x="233" y="383"/>
                  </a:lnTo>
                  <a:lnTo>
                    <a:pt x="220" y="396"/>
                  </a:lnTo>
                  <a:lnTo>
                    <a:pt x="202" y="414"/>
                  </a:lnTo>
                  <a:lnTo>
                    <a:pt x="198" y="427"/>
                  </a:lnTo>
                  <a:lnTo>
                    <a:pt x="198" y="436"/>
                  </a:lnTo>
                  <a:lnTo>
                    <a:pt x="185" y="445"/>
                  </a:lnTo>
                  <a:lnTo>
                    <a:pt x="185" y="458"/>
                  </a:lnTo>
                  <a:lnTo>
                    <a:pt x="171" y="476"/>
                  </a:lnTo>
                  <a:lnTo>
                    <a:pt x="171" y="498"/>
                  </a:lnTo>
                  <a:lnTo>
                    <a:pt x="185" y="511"/>
                  </a:lnTo>
                  <a:lnTo>
                    <a:pt x="176" y="521"/>
                  </a:lnTo>
                  <a:lnTo>
                    <a:pt x="163" y="515"/>
                  </a:lnTo>
                  <a:lnTo>
                    <a:pt x="158" y="498"/>
                  </a:lnTo>
                  <a:lnTo>
                    <a:pt x="145" y="485"/>
                  </a:lnTo>
                  <a:lnTo>
                    <a:pt x="132" y="485"/>
                  </a:lnTo>
                  <a:lnTo>
                    <a:pt x="127" y="502"/>
                  </a:lnTo>
                  <a:lnTo>
                    <a:pt x="114" y="498"/>
                  </a:lnTo>
                  <a:lnTo>
                    <a:pt x="97" y="498"/>
                  </a:lnTo>
                  <a:lnTo>
                    <a:pt x="79" y="511"/>
                  </a:lnTo>
                  <a:lnTo>
                    <a:pt x="74" y="521"/>
                  </a:lnTo>
                  <a:lnTo>
                    <a:pt x="70" y="534"/>
                  </a:lnTo>
                  <a:lnTo>
                    <a:pt x="70" y="561"/>
                  </a:lnTo>
                  <a:lnTo>
                    <a:pt x="79" y="574"/>
                  </a:lnTo>
                  <a:lnTo>
                    <a:pt x="92" y="565"/>
                  </a:lnTo>
                  <a:lnTo>
                    <a:pt x="110" y="565"/>
                  </a:lnTo>
                  <a:lnTo>
                    <a:pt x="114" y="583"/>
                  </a:lnTo>
                  <a:lnTo>
                    <a:pt x="101" y="596"/>
                  </a:lnTo>
                  <a:lnTo>
                    <a:pt x="119" y="596"/>
                  </a:lnTo>
                  <a:lnTo>
                    <a:pt x="127" y="600"/>
                  </a:lnTo>
                  <a:lnTo>
                    <a:pt x="132" y="618"/>
                  </a:lnTo>
                  <a:lnTo>
                    <a:pt x="149" y="627"/>
                  </a:lnTo>
                  <a:lnTo>
                    <a:pt x="167" y="640"/>
                  </a:lnTo>
                  <a:lnTo>
                    <a:pt x="180" y="631"/>
                  </a:lnTo>
                  <a:lnTo>
                    <a:pt x="211" y="640"/>
                  </a:lnTo>
                  <a:lnTo>
                    <a:pt x="229" y="644"/>
                  </a:lnTo>
                  <a:lnTo>
                    <a:pt x="264" y="658"/>
                  </a:lnTo>
                  <a:lnTo>
                    <a:pt x="268" y="671"/>
                  </a:lnTo>
                  <a:lnTo>
                    <a:pt x="286" y="688"/>
                  </a:lnTo>
                  <a:lnTo>
                    <a:pt x="295" y="710"/>
                  </a:lnTo>
                  <a:lnTo>
                    <a:pt x="317" y="719"/>
                  </a:lnTo>
                  <a:lnTo>
                    <a:pt x="339" y="724"/>
                  </a:lnTo>
                  <a:lnTo>
                    <a:pt x="357" y="741"/>
                  </a:lnTo>
                  <a:lnTo>
                    <a:pt x="383" y="741"/>
                  </a:lnTo>
                  <a:lnTo>
                    <a:pt x="388" y="755"/>
                  </a:lnTo>
                  <a:lnTo>
                    <a:pt x="388" y="772"/>
                  </a:lnTo>
                  <a:lnTo>
                    <a:pt x="374" y="790"/>
                  </a:lnTo>
                  <a:lnTo>
                    <a:pt x="374" y="812"/>
                  </a:lnTo>
                  <a:lnTo>
                    <a:pt x="370" y="830"/>
                  </a:lnTo>
                  <a:lnTo>
                    <a:pt x="357" y="847"/>
                  </a:lnTo>
                  <a:lnTo>
                    <a:pt x="335" y="856"/>
                  </a:lnTo>
                  <a:lnTo>
                    <a:pt x="317" y="860"/>
                  </a:lnTo>
                  <a:lnTo>
                    <a:pt x="326" y="878"/>
                  </a:lnTo>
                  <a:lnTo>
                    <a:pt x="308" y="896"/>
                  </a:lnTo>
                  <a:lnTo>
                    <a:pt x="295" y="913"/>
                  </a:lnTo>
                  <a:lnTo>
                    <a:pt x="277" y="922"/>
                  </a:lnTo>
                  <a:lnTo>
                    <a:pt x="264" y="944"/>
                  </a:lnTo>
                  <a:lnTo>
                    <a:pt x="255" y="962"/>
                  </a:lnTo>
                  <a:lnTo>
                    <a:pt x="242" y="971"/>
                  </a:lnTo>
                  <a:lnTo>
                    <a:pt x="229" y="984"/>
                  </a:lnTo>
                  <a:lnTo>
                    <a:pt x="220" y="997"/>
                  </a:lnTo>
                  <a:lnTo>
                    <a:pt x="211" y="1010"/>
                  </a:lnTo>
                  <a:lnTo>
                    <a:pt x="216" y="1024"/>
                  </a:lnTo>
                  <a:lnTo>
                    <a:pt x="207" y="1037"/>
                  </a:lnTo>
                  <a:lnTo>
                    <a:pt x="198" y="1015"/>
                  </a:lnTo>
                  <a:lnTo>
                    <a:pt x="180" y="1002"/>
                  </a:lnTo>
                  <a:lnTo>
                    <a:pt x="171" y="979"/>
                  </a:lnTo>
                  <a:lnTo>
                    <a:pt x="171" y="962"/>
                  </a:lnTo>
                  <a:lnTo>
                    <a:pt x="171" y="935"/>
                  </a:lnTo>
                  <a:lnTo>
                    <a:pt x="180" y="909"/>
                  </a:lnTo>
                  <a:lnTo>
                    <a:pt x="180" y="878"/>
                  </a:lnTo>
                  <a:lnTo>
                    <a:pt x="176" y="852"/>
                  </a:lnTo>
                  <a:lnTo>
                    <a:pt x="171" y="830"/>
                  </a:lnTo>
                  <a:lnTo>
                    <a:pt x="154" y="812"/>
                  </a:lnTo>
                  <a:lnTo>
                    <a:pt x="136" y="794"/>
                  </a:lnTo>
                  <a:lnTo>
                    <a:pt x="119" y="772"/>
                  </a:lnTo>
                  <a:lnTo>
                    <a:pt x="119" y="746"/>
                  </a:lnTo>
                  <a:lnTo>
                    <a:pt x="127" y="728"/>
                  </a:lnTo>
                  <a:lnTo>
                    <a:pt x="127" y="710"/>
                  </a:lnTo>
                  <a:lnTo>
                    <a:pt x="136" y="684"/>
                  </a:lnTo>
                  <a:lnTo>
                    <a:pt x="145" y="666"/>
                  </a:lnTo>
                  <a:lnTo>
                    <a:pt x="163" y="653"/>
                  </a:lnTo>
                  <a:lnTo>
                    <a:pt x="167" y="644"/>
                  </a:lnTo>
                  <a:lnTo>
                    <a:pt x="149" y="636"/>
                  </a:lnTo>
                  <a:lnTo>
                    <a:pt x="136" y="640"/>
                  </a:lnTo>
                  <a:lnTo>
                    <a:pt x="123" y="636"/>
                  </a:lnTo>
                  <a:lnTo>
                    <a:pt x="110" y="622"/>
                  </a:lnTo>
                  <a:lnTo>
                    <a:pt x="92" y="609"/>
                  </a:lnTo>
                  <a:lnTo>
                    <a:pt x="83" y="591"/>
                  </a:lnTo>
                  <a:lnTo>
                    <a:pt x="74" y="587"/>
                  </a:lnTo>
                  <a:lnTo>
                    <a:pt x="70" y="596"/>
                  </a:lnTo>
                  <a:lnTo>
                    <a:pt x="48" y="587"/>
                  </a:lnTo>
                  <a:lnTo>
                    <a:pt x="39" y="569"/>
                  </a:lnTo>
                  <a:lnTo>
                    <a:pt x="30" y="561"/>
                  </a:lnTo>
                  <a:lnTo>
                    <a:pt x="30" y="538"/>
                  </a:lnTo>
                  <a:lnTo>
                    <a:pt x="30" y="530"/>
                  </a:lnTo>
                  <a:lnTo>
                    <a:pt x="13" y="515"/>
                  </a:lnTo>
                  <a:lnTo>
                    <a:pt x="13" y="530"/>
                  </a:lnTo>
                  <a:lnTo>
                    <a:pt x="22" y="543"/>
                  </a:lnTo>
                  <a:lnTo>
                    <a:pt x="26" y="556"/>
                  </a:lnTo>
                  <a:lnTo>
                    <a:pt x="13" y="547"/>
                  </a:lnTo>
                  <a:lnTo>
                    <a:pt x="4" y="534"/>
                  </a:lnTo>
                  <a:lnTo>
                    <a:pt x="0" y="521"/>
                  </a:lnTo>
                  <a:lnTo>
                    <a:pt x="0" y="493"/>
                  </a:lnTo>
                  <a:lnTo>
                    <a:pt x="0" y="463"/>
                  </a:lnTo>
                  <a:lnTo>
                    <a:pt x="0" y="418"/>
                  </a:lnTo>
                  <a:lnTo>
                    <a:pt x="13" y="361"/>
                  </a:lnTo>
                  <a:lnTo>
                    <a:pt x="30" y="299"/>
                  </a:lnTo>
                  <a:lnTo>
                    <a:pt x="61" y="229"/>
                  </a:lnTo>
                  <a:lnTo>
                    <a:pt x="88" y="176"/>
                  </a:lnTo>
                  <a:lnTo>
                    <a:pt x="123" y="119"/>
                  </a:lnTo>
                  <a:lnTo>
                    <a:pt x="154" y="88"/>
                  </a:lnTo>
                  <a:close/>
                </a:path>
              </a:pathLst>
            </a:custGeom>
            <a:solidFill>
              <a:srgbClr val="2144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7200" y="1303200"/>
              <a:ext cx="513000" cy="375120"/>
            </a:xfrm>
            <a:custGeom>
              <a:avLst/>
              <a:gdLst/>
              <a:ahLst/>
              <a:rect l="0" t="0" r="r" b="b"/>
              <a:pathLst>
                <a:path w="1425" h="1042">
                  <a:moveTo>
                    <a:pt x="141" y="92"/>
                  </a:moveTo>
                  <a:lnTo>
                    <a:pt x="158" y="92"/>
                  </a:lnTo>
                  <a:lnTo>
                    <a:pt x="171" y="79"/>
                  </a:lnTo>
                  <a:lnTo>
                    <a:pt x="185" y="70"/>
                  </a:lnTo>
                  <a:lnTo>
                    <a:pt x="194" y="61"/>
                  </a:lnTo>
                  <a:lnTo>
                    <a:pt x="211" y="48"/>
                  </a:lnTo>
                  <a:lnTo>
                    <a:pt x="224" y="44"/>
                  </a:lnTo>
                  <a:lnTo>
                    <a:pt x="242" y="39"/>
                  </a:lnTo>
                  <a:lnTo>
                    <a:pt x="251" y="39"/>
                  </a:lnTo>
                  <a:lnTo>
                    <a:pt x="260" y="35"/>
                  </a:lnTo>
                  <a:lnTo>
                    <a:pt x="273" y="35"/>
                  </a:lnTo>
                  <a:lnTo>
                    <a:pt x="277" y="26"/>
                  </a:lnTo>
                  <a:lnTo>
                    <a:pt x="291" y="30"/>
                  </a:lnTo>
                  <a:lnTo>
                    <a:pt x="304" y="22"/>
                  </a:lnTo>
                  <a:lnTo>
                    <a:pt x="317" y="26"/>
                  </a:lnTo>
                  <a:lnTo>
                    <a:pt x="321" y="35"/>
                  </a:lnTo>
                  <a:lnTo>
                    <a:pt x="317" y="39"/>
                  </a:lnTo>
                  <a:lnTo>
                    <a:pt x="304" y="35"/>
                  </a:lnTo>
                  <a:lnTo>
                    <a:pt x="295" y="44"/>
                  </a:lnTo>
                  <a:lnTo>
                    <a:pt x="286" y="52"/>
                  </a:lnTo>
                  <a:lnTo>
                    <a:pt x="286" y="61"/>
                  </a:lnTo>
                  <a:lnTo>
                    <a:pt x="273" y="66"/>
                  </a:lnTo>
                  <a:lnTo>
                    <a:pt x="260" y="70"/>
                  </a:lnTo>
                  <a:lnTo>
                    <a:pt x="260" y="88"/>
                  </a:lnTo>
                  <a:lnTo>
                    <a:pt x="255" y="97"/>
                  </a:lnTo>
                  <a:lnTo>
                    <a:pt x="251" y="110"/>
                  </a:lnTo>
                  <a:lnTo>
                    <a:pt x="260" y="119"/>
                  </a:lnTo>
                  <a:lnTo>
                    <a:pt x="264" y="92"/>
                  </a:lnTo>
                  <a:lnTo>
                    <a:pt x="273" y="88"/>
                  </a:lnTo>
                  <a:lnTo>
                    <a:pt x="286" y="74"/>
                  </a:lnTo>
                  <a:lnTo>
                    <a:pt x="291" y="57"/>
                  </a:lnTo>
                  <a:lnTo>
                    <a:pt x="313" y="52"/>
                  </a:lnTo>
                  <a:lnTo>
                    <a:pt x="326" y="48"/>
                  </a:lnTo>
                  <a:lnTo>
                    <a:pt x="335" y="30"/>
                  </a:lnTo>
                  <a:lnTo>
                    <a:pt x="348" y="30"/>
                  </a:lnTo>
                  <a:lnTo>
                    <a:pt x="379" y="30"/>
                  </a:lnTo>
                  <a:lnTo>
                    <a:pt x="410" y="22"/>
                  </a:lnTo>
                  <a:lnTo>
                    <a:pt x="418" y="22"/>
                  </a:lnTo>
                  <a:lnTo>
                    <a:pt x="436" y="22"/>
                  </a:lnTo>
                  <a:lnTo>
                    <a:pt x="449" y="22"/>
                  </a:lnTo>
                  <a:lnTo>
                    <a:pt x="463" y="26"/>
                  </a:lnTo>
                  <a:lnTo>
                    <a:pt x="476" y="39"/>
                  </a:lnTo>
                  <a:lnTo>
                    <a:pt x="471" y="44"/>
                  </a:lnTo>
                  <a:lnTo>
                    <a:pt x="454" y="48"/>
                  </a:lnTo>
                  <a:lnTo>
                    <a:pt x="454" y="61"/>
                  </a:lnTo>
                  <a:lnTo>
                    <a:pt x="471" y="66"/>
                  </a:lnTo>
                  <a:lnTo>
                    <a:pt x="476" y="66"/>
                  </a:lnTo>
                  <a:lnTo>
                    <a:pt x="471" y="74"/>
                  </a:lnTo>
                  <a:lnTo>
                    <a:pt x="454" y="92"/>
                  </a:lnTo>
                  <a:lnTo>
                    <a:pt x="445" y="92"/>
                  </a:lnTo>
                  <a:lnTo>
                    <a:pt x="449" y="101"/>
                  </a:lnTo>
                  <a:lnTo>
                    <a:pt x="449" y="110"/>
                  </a:lnTo>
                  <a:lnTo>
                    <a:pt x="445" y="119"/>
                  </a:lnTo>
                  <a:lnTo>
                    <a:pt x="454" y="132"/>
                  </a:lnTo>
                  <a:lnTo>
                    <a:pt x="436" y="136"/>
                  </a:lnTo>
                  <a:lnTo>
                    <a:pt x="418" y="141"/>
                  </a:lnTo>
                  <a:lnTo>
                    <a:pt x="418" y="158"/>
                  </a:lnTo>
                  <a:lnTo>
                    <a:pt x="410" y="171"/>
                  </a:lnTo>
                  <a:lnTo>
                    <a:pt x="401" y="185"/>
                  </a:lnTo>
                  <a:lnTo>
                    <a:pt x="388" y="189"/>
                  </a:lnTo>
                  <a:lnTo>
                    <a:pt x="418" y="189"/>
                  </a:lnTo>
                  <a:lnTo>
                    <a:pt x="436" y="189"/>
                  </a:lnTo>
                  <a:lnTo>
                    <a:pt x="449" y="194"/>
                  </a:lnTo>
                  <a:lnTo>
                    <a:pt x="463" y="185"/>
                  </a:lnTo>
                  <a:lnTo>
                    <a:pt x="471" y="198"/>
                  </a:lnTo>
                  <a:lnTo>
                    <a:pt x="652" y="198"/>
                  </a:lnTo>
                  <a:lnTo>
                    <a:pt x="661" y="189"/>
                  </a:lnTo>
                  <a:lnTo>
                    <a:pt x="683" y="176"/>
                  </a:lnTo>
                  <a:lnTo>
                    <a:pt x="687" y="154"/>
                  </a:lnTo>
                  <a:lnTo>
                    <a:pt x="705" y="136"/>
                  </a:lnTo>
                  <a:lnTo>
                    <a:pt x="715" y="123"/>
                  </a:lnTo>
                  <a:lnTo>
                    <a:pt x="724" y="105"/>
                  </a:lnTo>
                  <a:lnTo>
                    <a:pt x="737" y="97"/>
                  </a:lnTo>
                  <a:lnTo>
                    <a:pt x="741" y="88"/>
                  </a:lnTo>
                  <a:lnTo>
                    <a:pt x="750" y="92"/>
                  </a:lnTo>
                  <a:lnTo>
                    <a:pt x="763" y="83"/>
                  </a:lnTo>
                  <a:lnTo>
                    <a:pt x="772" y="92"/>
                  </a:lnTo>
                  <a:lnTo>
                    <a:pt x="785" y="97"/>
                  </a:lnTo>
                  <a:lnTo>
                    <a:pt x="799" y="101"/>
                  </a:lnTo>
                  <a:lnTo>
                    <a:pt x="812" y="105"/>
                  </a:lnTo>
                  <a:lnTo>
                    <a:pt x="821" y="97"/>
                  </a:lnTo>
                  <a:lnTo>
                    <a:pt x="834" y="105"/>
                  </a:lnTo>
                  <a:lnTo>
                    <a:pt x="843" y="119"/>
                  </a:lnTo>
                  <a:lnTo>
                    <a:pt x="860" y="123"/>
                  </a:lnTo>
                  <a:lnTo>
                    <a:pt x="865" y="136"/>
                  </a:lnTo>
                  <a:lnTo>
                    <a:pt x="860" y="145"/>
                  </a:lnTo>
                  <a:lnTo>
                    <a:pt x="838" y="141"/>
                  </a:lnTo>
                  <a:lnTo>
                    <a:pt x="821" y="132"/>
                  </a:lnTo>
                  <a:lnTo>
                    <a:pt x="821" y="145"/>
                  </a:lnTo>
                  <a:lnTo>
                    <a:pt x="843" y="149"/>
                  </a:lnTo>
                  <a:lnTo>
                    <a:pt x="860" y="158"/>
                  </a:lnTo>
                  <a:lnTo>
                    <a:pt x="882" y="149"/>
                  </a:lnTo>
                  <a:lnTo>
                    <a:pt x="887" y="132"/>
                  </a:lnTo>
                  <a:lnTo>
                    <a:pt x="900" y="114"/>
                  </a:lnTo>
                  <a:lnTo>
                    <a:pt x="913" y="119"/>
                  </a:lnTo>
                  <a:lnTo>
                    <a:pt x="909" y="127"/>
                  </a:lnTo>
                  <a:lnTo>
                    <a:pt x="904" y="136"/>
                  </a:lnTo>
                  <a:lnTo>
                    <a:pt x="904" y="149"/>
                  </a:lnTo>
                  <a:lnTo>
                    <a:pt x="918" y="132"/>
                  </a:lnTo>
                  <a:lnTo>
                    <a:pt x="931" y="123"/>
                  </a:lnTo>
                  <a:lnTo>
                    <a:pt x="957" y="119"/>
                  </a:lnTo>
                  <a:lnTo>
                    <a:pt x="984" y="110"/>
                  </a:lnTo>
                  <a:lnTo>
                    <a:pt x="1006" y="97"/>
                  </a:lnTo>
                  <a:lnTo>
                    <a:pt x="1010" y="88"/>
                  </a:lnTo>
                  <a:lnTo>
                    <a:pt x="993" y="88"/>
                  </a:lnTo>
                  <a:lnTo>
                    <a:pt x="975" y="74"/>
                  </a:lnTo>
                  <a:lnTo>
                    <a:pt x="966" y="57"/>
                  </a:lnTo>
                  <a:lnTo>
                    <a:pt x="975" y="35"/>
                  </a:lnTo>
                  <a:lnTo>
                    <a:pt x="993" y="22"/>
                  </a:lnTo>
                  <a:lnTo>
                    <a:pt x="1006" y="4"/>
                  </a:lnTo>
                  <a:lnTo>
                    <a:pt x="1028" y="4"/>
                  </a:lnTo>
                  <a:lnTo>
                    <a:pt x="1046" y="0"/>
                  </a:lnTo>
                  <a:lnTo>
                    <a:pt x="1046" y="8"/>
                  </a:lnTo>
                  <a:lnTo>
                    <a:pt x="1032" y="13"/>
                  </a:lnTo>
                  <a:lnTo>
                    <a:pt x="1028" y="17"/>
                  </a:lnTo>
                  <a:lnTo>
                    <a:pt x="1010" y="17"/>
                  </a:lnTo>
                  <a:lnTo>
                    <a:pt x="1002" y="30"/>
                  </a:lnTo>
                  <a:lnTo>
                    <a:pt x="997" y="44"/>
                  </a:lnTo>
                  <a:lnTo>
                    <a:pt x="993" y="57"/>
                  </a:lnTo>
                  <a:lnTo>
                    <a:pt x="1006" y="83"/>
                  </a:lnTo>
                  <a:lnTo>
                    <a:pt x="1032" y="92"/>
                  </a:lnTo>
                  <a:lnTo>
                    <a:pt x="1050" y="101"/>
                  </a:lnTo>
                  <a:lnTo>
                    <a:pt x="1059" y="105"/>
                  </a:lnTo>
                  <a:lnTo>
                    <a:pt x="1068" y="119"/>
                  </a:lnTo>
                  <a:lnTo>
                    <a:pt x="1076" y="114"/>
                  </a:lnTo>
                  <a:lnTo>
                    <a:pt x="1076" y="105"/>
                  </a:lnTo>
                  <a:lnTo>
                    <a:pt x="1072" y="92"/>
                  </a:lnTo>
                  <a:lnTo>
                    <a:pt x="1063" y="83"/>
                  </a:lnTo>
                  <a:lnTo>
                    <a:pt x="1059" y="74"/>
                  </a:lnTo>
                  <a:lnTo>
                    <a:pt x="1068" y="57"/>
                  </a:lnTo>
                  <a:lnTo>
                    <a:pt x="1085" y="57"/>
                  </a:lnTo>
                  <a:lnTo>
                    <a:pt x="1099" y="57"/>
                  </a:lnTo>
                  <a:lnTo>
                    <a:pt x="1107" y="66"/>
                  </a:lnTo>
                  <a:lnTo>
                    <a:pt x="1112" y="79"/>
                  </a:lnTo>
                  <a:lnTo>
                    <a:pt x="1116" y="92"/>
                  </a:lnTo>
                  <a:lnTo>
                    <a:pt x="1121" y="79"/>
                  </a:lnTo>
                  <a:lnTo>
                    <a:pt x="1134" y="70"/>
                  </a:lnTo>
                  <a:lnTo>
                    <a:pt x="1147" y="70"/>
                  </a:lnTo>
                  <a:lnTo>
                    <a:pt x="1156" y="70"/>
                  </a:lnTo>
                  <a:lnTo>
                    <a:pt x="1169" y="70"/>
                  </a:lnTo>
                  <a:lnTo>
                    <a:pt x="1169" y="57"/>
                  </a:lnTo>
                  <a:lnTo>
                    <a:pt x="1182" y="57"/>
                  </a:lnTo>
                  <a:lnTo>
                    <a:pt x="1187" y="70"/>
                  </a:lnTo>
                  <a:lnTo>
                    <a:pt x="1204" y="70"/>
                  </a:lnTo>
                  <a:lnTo>
                    <a:pt x="1218" y="61"/>
                  </a:lnTo>
                  <a:lnTo>
                    <a:pt x="1231" y="74"/>
                  </a:lnTo>
                  <a:lnTo>
                    <a:pt x="1248" y="92"/>
                  </a:lnTo>
                  <a:lnTo>
                    <a:pt x="1266" y="92"/>
                  </a:lnTo>
                  <a:lnTo>
                    <a:pt x="1293" y="105"/>
                  </a:lnTo>
                  <a:lnTo>
                    <a:pt x="1301" y="101"/>
                  </a:lnTo>
                  <a:lnTo>
                    <a:pt x="1319" y="132"/>
                  </a:lnTo>
                  <a:lnTo>
                    <a:pt x="1345" y="185"/>
                  </a:lnTo>
                  <a:lnTo>
                    <a:pt x="1368" y="211"/>
                  </a:lnTo>
                  <a:lnTo>
                    <a:pt x="1376" y="242"/>
                  </a:lnTo>
                  <a:lnTo>
                    <a:pt x="1363" y="246"/>
                  </a:lnTo>
                  <a:lnTo>
                    <a:pt x="1354" y="261"/>
                  </a:lnTo>
                  <a:lnTo>
                    <a:pt x="1363" y="287"/>
                  </a:lnTo>
                  <a:lnTo>
                    <a:pt x="1372" y="309"/>
                  </a:lnTo>
                  <a:lnTo>
                    <a:pt x="1381" y="309"/>
                  </a:lnTo>
                  <a:lnTo>
                    <a:pt x="1381" y="292"/>
                  </a:lnTo>
                  <a:lnTo>
                    <a:pt x="1390" y="287"/>
                  </a:lnTo>
                  <a:lnTo>
                    <a:pt x="1394" y="300"/>
                  </a:lnTo>
                  <a:lnTo>
                    <a:pt x="1385" y="309"/>
                  </a:lnTo>
                  <a:lnTo>
                    <a:pt x="1403" y="322"/>
                  </a:lnTo>
                  <a:lnTo>
                    <a:pt x="1390" y="340"/>
                  </a:lnTo>
                  <a:lnTo>
                    <a:pt x="1385" y="353"/>
                  </a:lnTo>
                  <a:lnTo>
                    <a:pt x="1407" y="358"/>
                  </a:lnTo>
                  <a:lnTo>
                    <a:pt x="1398" y="371"/>
                  </a:lnTo>
                  <a:lnTo>
                    <a:pt x="1385" y="375"/>
                  </a:lnTo>
                  <a:lnTo>
                    <a:pt x="1385" y="397"/>
                  </a:lnTo>
                  <a:lnTo>
                    <a:pt x="1398" y="415"/>
                  </a:lnTo>
                  <a:lnTo>
                    <a:pt x="1385" y="419"/>
                  </a:lnTo>
                  <a:lnTo>
                    <a:pt x="1368" y="415"/>
                  </a:lnTo>
                  <a:lnTo>
                    <a:pt x="1372" y="406"/>
                  </a:lnTo>
                  <a:lnTo>
                    <a:pt x="1390" y="406"/>
                  </a:lnTo>
                  <a:lnTo>
                    <a:pt x="1390" y="380"/>
                  </a:lnTo>
                  <a:lnTo>
                    <a:pt x="1372" y="389"/>
                  </a:lnTo>
                  <a:lnTo>
                    <a:pt x="1372" y="371"/>
                  </a:lnTo>
                  <a:lnTo>
                    <a:pt x="1385" y="358"/>
                  </a:lnTo>
                  <a:lnTo>
                    <a:pt x="1390" y="344"/>
                  </a:lnTo>
                  <a:lnTo>
                    <a:pt x="1381" y="327"/>
                  </a:lnTo>
                  <a:lnTo>
                    <a:pt x="1381" y="305"/>
                  </a:lnTo>
                  <a:lnTo>
                    <a:pt x="1368" y="314"/>
                  </a:lnTo>
                  <a:lnTo>
                    <a:pt x="1359" y="331"/>
                  </a:lnTo>
                  <a:lnTo>
                    <a:pt x="1341" y="344"/>
                  </a:lnTo>
                  <a:lnTo>
                    <a:pt x="1345" y="362"/>
                  </a:lnTo>
                  <a:lnTo>
                    <a:pt x="1345" y="380"/>
                  </a:lnTo>
                  <a:lnTo>
                    <a:pt x="1345" y="393"/>
                  </a:lnTo>
                  <a:lnTo>
                    <a:pt x="1354" y="406"/>
                  </a:lnTo>
                  <a:lnTo>
                    <a:pt x="1345" y="415"/>
                  </a:lnTo>
                  <a:lnTo>
                    <a:pt x="1328" y="393"/>
                  </a:lnTo>
                  <a:lnTo>
                    <a:pt x="1319" y="375"/>
                  </a:lnTo>
                  <a:lnTo>
                    <a:pt x="1310" y="362"/>
                  </a:lnTo>
                  <a:lnTo>
                    <a:pt x="1306" y="353"/>
                  </a:lnTo>
                  <a:lnTo>
                    <a:pt x="1288" y="362"/>
                  </a:lnTo>
                  <a:lnTo>
                    <a:pt x="1284" y="375"/>
                  </a:lnTo>
                  <a:lnTo>
                    <a:pt x="1301" y="393"/>
                  </a:lnTo>
                  <a:lnTo>
                    <a:pt x="1310" y="415"/>
                  </a:lnTo>
                  <a:lnTo>
                    <a:pt x="1310" y="437"/>
                  </a:lnTo>
                  <a:lnTo>
                    <a:pt x="1310" y="459"/>
                  </a:lnTo>
                  <a:lnTo>
                    <a:pt x="1310" y="477"/>
                  </a:lnTo>
                  <a:lnTo>
                    <a:pt x="1319" y="464"/>
                  </a:lnTo>
                  <a:lnTo>
                    <a:pt x="1332" y="464"/>
                  </a:lnTo>
                  <a:lnTo>
                    <a:pt x="1341" y="477"/>
                  </a:lnTo>
                  <a:lnTo>
                    <a:pt x="1328" y="494"/>
                  </a:lnTo>
                  <a:lnTo>
                    <a:pt x="1315" y="490"/>
                  </a:lnTo>
                  <a:lnTo>
                    <a:pt x="1310" y="503"/>
                  </a:lnTo>
                  <a:lnTo>
                    <a:pt x="1323" y="516"/>
                  </a:lnTo>
                  <a:lnTo>
                    <a:pt x="1319" y="534"/>
                  </a:lnTo>
                  <a:lnTo>
                    <a:pt x="1332" y="543"/>
                  </a:lnTo>
                  <a:lnTo>
                    <a:pt x="1323" y="556"/>
                  </a:lnTo>
                  <a:lnTo>
                    <a:pt x="1337" y="569"/>
                  </a:lnTo>
                  <a:lnTo>
                    <a:pt x="1328" y="583"/>
                  </a:lnTo>
                  <a:lnTo>
                    <a:pt x="1345" y="574"/>
                  </a:lnTo>
                  <a:lnTo>
                    <a:pt x="1341" y="587"/>
                  </a:lnTo>
                  <a:lnTo>
                    <a:pt x="1368" y="583"/>
                  </a:lnTo>
                  <a:lnTo>
                    <a:pt x="1359" y="600"/>
                  </a:lnTo>
                  <a:lnTo>
                    <a:pt x="1341" y="587"/>
                  </a:lnTo>
                  <a:lnTo>
                    <a:pt x="1337" y="609"/>
                  </a:lnTo>
                  <a:lnTo>
                    <a:pt x="1368" y="605"/>
                  </a:lnTo>
                  <a:lnTo>
                    <a:pt x="1354" y="627"/>
                  </a:lnTo>
                  <a:lnTo>
                    <a:pt x="1332" y="605"/>
                  </a:lnTo>
                  <a:lnTo>
                    <a:pt x="1345" y="636"/>
                  </a:lnTo>
                  <a:lnTo>
                    <a:pt x="1368" y="658"/>
                  </a:lnTo>
                  <a:lnTo>
                    <a:pt x="1345" y="658"/>
                  </a:lnTo>
                  <a:lnTo>
                    <a:pt x="1332" y="609"/>
                  </a:lnTo>
                  <a:lnTo>
                    <a:pt x="1341" y="578"/>
                  </a:lnTo>
                  <a:lnTo>
                    <a:pt x="1323" y="578"/>
                  </a:lnTo>
                  <a:lnTo>
                    <a:pt x="1310" y="561"/>
                  </a:lnTo>
                  <a:lnTo>
                    <a:pt x="1323" y="556"/>
                  </a:lnTo>
                  <a:lnTo>
                    <a:pt x="1323" y="534"/>
                  </a:lnTo>
                  <a:lnTo>
                    <a:pt x="1315" y="499"/>
                  </a:lnTo>
                  <a:lnTo>
                    <a:pt x="1310" y="472"/>
                  </a:lnTo>
                  <a:lnTo>
                    <a:pt x="1310" y="455"/>
                  </a:lnTo>
                  <a:lnTo>
                    <a:pt x="1293" y="477"/>
                  </a:lnTo>
                  <a:lnTo>
                    <a:pt x="1271" y="486"/>
                  </a:lnTo>
                  <a:lnTo>
                    <a:pt x="1257" y="499"/>
                  </a:lnTo>
                  <a:lnTo>
                    <a:pt x="1262" y="516"/>
                  </a:lnTo>
                  <a:lnTo>
                    <a:pt x="1253" y="534"/>
                  </a:lnTo>
                  <a:lnTo>
                    <a:pt x="1240" y="525"/>
                  </a:lnTo>
                  <a:lnTo>
                    <a:pt x="1253" y="508"/>
                  </a:lnTo>
                  <a:lnTo>
                    <a:pt x="1240" y="503"/>
                  </a:lnTo>
                  <a:lnTo>
                    <a:pt x="1226" y="512"/>
                  </a:lnTo>
                  <a:lnTo>
                    <a:pt x="1226" y="530"/>
                  </a:lnTo>
                  <a:lnTo>
                    <a:pt x="1253" y="556"/>
                  </a:lnTo>
                  <a:lnTo>
                    <a:pt x="1257" y="574"/>
                  </a:lnTo>
                  <a:lnTo>
                    <a:pt x="1240" y="596"/>
                  </a:lnTo>
                  <a:lnTo>
                    <a:pt x="1240" y="649"/>
                  </a:lnTo>
                  <a:lnTo>
                    <a:pt x="1240" y="675"/>
                  </a:lnTo>
                  <a:lnTo>
                    <a:pt x="1244" y="688"/>
                  </a:lnTo>
                  <a:lnTo>
                    <a:pt x="1271" y="688"/>
                  </a:lnTo>
                  <a:lnTo>
                    <a:pt x="1288" y="688"/>
                  </a:lnTo>
                  <a:lnTo>
                    <a:pt x="1301" y="671"/>
                  </a:lnTo>
                  <a:lnTo>
                    <a:pt x="1310" y="671"/>
                  </a:lnTo>
                  <a:lnTo>
                    <a:pt x="1306" y="684"/>
                  </a:lnTo>
                  <a:lnTo>
                    <a:pt x="1323" y="697"/>
                  </a:lnTo>
                  <a:lnTo>
                    <a:pt x="1345" y="702"/>
                  </a:lnTo>
                  <a:lnTo>
                    <a:pt x="1341" y="688"/>
                  </a:lnTo>
                  <a:lnTo>
                    <a:pt x="1385" y="688"/>
                  </a:lnTo>
                  <a:lnTo>
                    <a:pt x="1372" y="693"/>
                  </a:lnTo>
                  <a:lnTo>
                    <a:pt x="1368" y="706"/>
                  </a:lnTo>
                  <a:lnTo>
                    <a:pt x="1390" y="710"/>
                  </a:lnTo>
                  <a:lnTo>
                    <a:pt x="1412" y="719"/>
                  </a:lnTo>
                  <a:lnTo>
                    <a:pt x="1420" y="693"/>
                  </a:lnTo>
                  <a:lnTo>
                    <a:pt x="1425" y="684"/>
                  </a:lnTo>
                  <a:lnTo>
                    <a:pt x="1407" y="684"/>
                  </a:lnTo>
                  <a:lnTo>
                    <a:pt x="1394" y="675"/>
                  </a:lnTo>
                  <a:lnTo>
                    <a:pt x="1385" y="675"/>
                  </a:lnTo>
                  <a:lnTo>
                    <a:pt x="1381" y="688"/>
                  </a:lnTo>
                  <a:lnTo>
                    <a:pt x="1337" y="688"/>
                  </a:lnTo>
                  <a:lnTo>
                    <a:pt x="1328" y="666"/>
                  </a:lnTo>
                  <a:lnTo>
                    <a:pt x="1315" y="671"/>
                  </a:lnTo>
                  <a:lnTo>
                    <a:pt x="1301" y="671"/>
                  </a:lnTo>
                  <a:lnTo>
                    <a:pt x="1293" y="644"/>
                  </a:lnTo>
                  <a:lnTo>
                    <a:pt x="1288" y="631"/>
                  </a:lnTo>
                  <a:lnTo>
                    <a:pt x="1301" y="622"/>
                  </a:lnTo>
                  <a:lnTo>
                    <a:pt x="1301" y="609"/>
                  </a:lnTo>
                  <a:lnTo>
                    <a:pt x="1284" y="618"/>
                  </a:lnTo>
                  <a:lnTo>
                    <a:pt x="1266" y="631"/>
                  </a:lnTo>
                  <a:lnTo>
                    <a:pt x="1257" y="649"/>
                  </a:lnTo>
                  <a:lnTo>
                    <a:pt x="1240" y="649"/>
                  </a:lnTo>
                  <a:lnTo>
                    <a:pt x="1240" y="605"/>
                  </a:lnTo>
                  <a:lnTo>
                    <a:pt x="1231" y="613"/>
                  </a:lnTo>
                  <a:lnTo>
                    <a:pt x="1218" y="591"/>
                  </a:lnTo>
                  <a:lnTo>
                    <a:pt x="1200" y="574"/>
                  </a:lnTo>
                  <a:lnTo>
                    <a:pt x="1182" y="578"/>
                  </a:lnTo>
                  <a:lnTo>
                    <a:pt x="1182" y="596"/>
                  </a:lnTo>
                  <a:lnTo>
                    <a:pt x="1191" y="622"/>
                  </a:lnTo>
                  <a:lnTo>
                    <a:pt x="1191" y="640"/>
                  </a:lnTo>
                  <a:lnTo>
                    <a:pt x="1204" y="662"/>
                  </a:lnTo>
                  <a:lnTo>
                    <a:pt x="1213" y="671"/>
                  </a:lnTo>
                  <a:lnTo>
                    <a:pt x="1196" y="671"/>
                  </a:lnTo>
                  <a:lnTo>
                    <a:pt x="1182" y="662"/>
                  </a:lnTo>
                  <a:lnTo>
                    <a:pt x="1178" y="675"/>
                  </a:lnTo>
                  <a:lnTo>
                    <a:pt x="1200" y="702"/>
                  </a:lnTo>
                  <a:lnTo>
                    <a:pt x="1218" y="715"/>
                  </a:lnTo>
                  <a:lnTo>
                    <a:pt x="1235" y="715"/>
                  </a:lnTo>
                  <a:lnTo>
                    <a:pt x="1253" y="719"/>
                  </a:lnTo>
                  <a:lnTo>
                    <a:pt x="1275" y="719"/>
                  </a:lnTo>
                  <a:lnTo>
                    <a:pt x="1293" y="715"/>
                  </a:lnTo>
                  <a:lnTo>
                    <a:pt x="1315" y="724"/>
                  </a:lnTo>
                  <a:lnTo>
                    <a:pt x="1310" y="728"/>
                  </a:lnTo>
                  <a:lnTo>
                    <a:pt x="1288" y="724"/>
                  </a:lnTo>
                  <a:lnTo>
                    <a:pt x="1288" y="759"/>
                  </a:lnTo>
                  <a:lnTo>
                    <a:pt x="1306" y="759"/>
                  </a:lnTo>
                  <a:lnTo>
                    <a:pt x="1310" y="759"/>
                  </a:lnTo>
                  <a:lnTo>
                    <a:pt x="1315" y="746"/>
                  </a:lnTo>
                  <a:lnTo>
                    <a:pt x="1332" y="746"/>
                  </a:lnTo>
                  <a:lnTo>
                    <a:pt x="1354" y="741"/>
                  </a:lnTo>
                  <a:lnTo>
                    <a:pt x="1354" y="755"/>
                  </a:lnTo>
                  <a:lnTo>
                    <a:pt x="1363" y="763"/>
                  </a:lnTo>
                  <a:lnTo>
                    <a:pt x="1372" y="777"/>
                  </a:lnTo>
                  <a:lnTo>
                    <a:pt x="1385" y="763"/>
                  </a:lnTo>
                  <a:lnTo>
                    <a:pt x="1385" y="746"/>
                  </a:lnTo>
                  <a:lnTo>
                    <a:pt x="1385" y="733"/>
                  </a:lnTo>
                  <a:lnTo>
                    <a:pt x="1394" y="746"/>
                  </a:lnTo>
                  <a:lnTo>
                    <a:pt x="1398" y="768"/>
                  </a:lnTo>
                  <a:lnTo>
                    <a:pt x="1381" y="808"/>
                  </a:lnTo>
                  <a:lnTo>
                    <a:pt x="1363" y="848"/>
                  </a:lnTo>
                  <a:lnTo>
                    <a:pt x="1345" y="883"/>
                  </a:lnTo>
                  <a:lnTo>
                    <a:pt x="1323" y="923"/>
                  </a:lnTo>
                  <a:lnTo>
                    <a:pt x="1306" y="914"/>
                  </a:lnTo>
                  <a:lnTo>
                    <a:pt x="1288" y="919"/>
                  </a:lnTo>
                  <a:lnTo>
                    <a:pt x="1284" y="932"/>
                  </a:lnTo>
                  <a:lnTo>
                    <a:pt x="1266" y="945"/>
                  </a:lnTo>
                  <a:lnTo>
                    <a:pt x="1240" y="950"/>
                  </a:lnTo>
                  <a:lnTo>
                    <a:pt x="1226" y="945"/>
                  </a:lnTo>
                  <a:lnTo>
                    <a:pt x="1231" y="923"/>
                  </a:lnTo>
                  <a:lnTo>
                    <a:pt x="1231" y="905"/>
                  </a:lnTo>
                  <a:lnTo>
                    <a:pt x="1240" y="892"/>
                  </a:lnTo>
                  <a:lnTo>
                    <a:pt x="1240" y="879"/>
                  </a:lnTo>
                  <a:lnTo>
                    <a:pt x="1218" y="870"/>
                  </a:lnTo>
                  <a:lnTo>
                    <a:pt x="1222" y="848"/>
                  </a:lnTo>
                  <a:lnTo>
                    <a:pt x="1226" y="822"/>
                  </a:lnTo>
                  <a:lnTo>
                    <a:pt x="1244" y="804"/>
                  </a:lnTo>
                  <a:lnTo>
                    <a:pt x="1271" y="804"/>
                  </a:lnTo>
                  <a:lnTo>
                    <a:pt x="1271" y="791"/>
                  </a:lnTo>
                  <a:lnTo>
                    <a:pt x="1266" y="768"/>
                  </a:lnTo>
                  <a:lnTo>
                    <a:pt x="1284" y="759"/>
                  </a:lnTo>
                  <a:lnTo>
                    <a:pt x="1288" y="759"/>
                  </a:lnTo>
                  <a:lnTo>
                    <a:pt x="1288" y="724"/>
                  </a:lnTo>
                  <a:lnTo>
                    <a:pt x="1271" y="728"/>
                  </a:lnTo>
                  <a:lnTo>
                    <a:pt x="1253" y="737"/>
                  </a:lnTo>
                  <a:lnTo>
                    <a:pt x="1235" y="724"/>
                  </a:lnTo>
                  <a:lnTo>
                    <a:pt x="1218" y="724"/>
                  </a:lnTo>
                  <a:lnTo>
                    <a:pt x="1191" y="715"/>
                  </a:lnTo>
                  <a:lnTo>
                    <a:pt x="1178" y="702"/>
                  </a:lnTo>
                  <a:lnTo>
                    <a:pt x="1169" y="684"/>
                  </a:lnTo>
                  <a:lnTo>
                    <a:pt x="1156" y="671"/>
                  </a:lnTo>
                  <a:lnTo>
                    <a:pt x="1169" y="666"/>
                  </a:lnTo>
                  <a:lnTo>
                    <a:pt x="1178" y="671"/>
                  </a:lnTo>
                  <a:lnTo>
                    <a:pt x="1187" y="658"/>
                  </a:lnTo>
                  <a:lnTo>
                    <a:pt x="1182" y="640"/>
                  </a:lnTo>
                  <a:lnTo>
                    <a:pt x="1169" y="636"/>
                  </a:lnTo>
                  <a:lnTo>
                    <a:pt x="1160" y="613"/>
                  </a:lnTo>
                  <a:lnTo>
                    <a:pt x="1165" y="591"/>
                  </a:lnTo>
                  <a:lnTo>
                    <a:pt x="1178" y="574"/>
                  </a:lnTo>
                  <a:lnTo>
                    <a:pt x="1173" y="556"/>
                  </a:lnTo>
                  <a:lnTo>
                    <a:pt x="1165" y="552"/>
                  </a:lnTo>
                  <a:lnTo>
                    <a:pt x="1156" y="561"/>
                  </a:lnTo>
                  <a:lnTo>
                    <a:pt x="1156" y="574"/>
                  </a:lnTo>
                  <a:lnTo>
                    <a:pt x="1143" y="556"/>
                  </a:lnTo>
                  <a:lnTo>
                    <a:pt x="1121" y="538"/>
                  </a:lnTo>
                  <a:lnTo>
                    <a:pt x="1112" y="538"/>
                  </a:lnTo>
                  <a:lnTo>
                    <a:pt x="1094" y="561"/>
                  </a:lnTo>
                  <a:lnTo>
                    <a:pt x="1076" y="574"/>
                  </a:lnTo>
                  <a:lnTo>
                    <a:pt x="1076" y="587"/>
                  </a:lnTo>
                  <a:lnTo>
                    <a:pt x="1085" y="605"/>
                  </a:lnTo>
                  <a:lnTo>
                    <a:pt x="1081" y="618"/>
                  </a:lnTo>
                  <a:lnTo>
                    <a:pt x="1068" y="618"/>
                  </a:lnTo>
                  <a:lnTo>
                    <a:pt x="1059" y="596"/>
                  </a:lnTo>
                  <a:lnTo>
                    <a:pt x="1041" y="574"/>
                  </a:lnTo>
                  <a:lnTo>
                    <a:pt x="1024" y="561"/>
                  </a:lnTo>
                  <a:lnTo>
                    <a:pt x="1010" y="538"/>
                  </a:lnTo>
                  <a:lnTo>
                    <a:pt x="997" y="530"/>
                  </a:lnTo>
                  <a:lnTo>
                    <a:pt x="975" y="530"/>
                  </a:lnTo>
                  <a:lnTo>
                    <a:pt x="957" y="530"/>
                  </a:lnTo>
                  <a:lnTo>
                    <a:pt x="944" y="538"/>
                  </a:lnTo>
                  <a:lnTo>
                    <a:pt x="931" y="521"/>
                  </a:lnTo>
                  <a:lnTo>
                    <a:pt x="918" y="516"/>
                  </a:lnTo>
                  <a:lnTo>
                    <a:pt x="896" y="499"/>
                  </a:lnTo>
                  <a:lnTo>
                    <a:pt x="909" y="521"/>
                  </a:lnTo>
                  <a:lnTo>
                    <a:pt x="931" y="534"/>
                  </a:lnTo>
                  <a:lnTo>
                    <a:pt x="944" y="556"/>
                  </a:lnTo>
                  <a:lnTo>
                    <a:pt x="940" y="574"/>
                  </a:lnTo>
                  <a:lnTo>
                    <a:pt x="927" y="583"/>
                  </a:lnTo>
                  <a:lnTo>
                    <a:pt x="904" y="587"/>
                  </a:lnTo>
                  <a:lnTo>
                    <a:pt x="887" y="596"/>
                  </a:lnTo>
                  <a:lnTo>
                    <a:pt x="874" y="613"/>
                  </a:lnTo>
                  <a:lnTo>
                    <a:pt x="865" y="622"/>
                  </a:lnTo>
                  <a:lnTo>
                    <a:pt x="860" y="600"/>
                  </a:lnTo>
                  <a:lnTo>
                    <a:pt x="847" y="574"/>
                  </a:lnTo>
                  <a:lnTo>
                    <a:pt x="834" y="556"/>
                  </a:lnTo>
                  <a:lnTo>
                    <a:pt x="834" y="538"/>
                  </a:lnTo>
                  <a:lnTo>
                    <a:pt x="821" y="543"/>
                  </a:lnTo>
                  <a:lnTo>
                    <a:pt x="825" y="569"/>
                  </a:lnTo>
                  <a:lnTo>
                    <a:pt x="838" y="591"/>
                  </a:lnTo>
                  <a:lnTo>
                    <a:pt x="838" y="613"/>
                  </a:lnTo>
                  <a:lnTo>
                    <a:pt x="860" y="622"/>
                  </a:lnTo>
                  <a:lnTo>
                    <a:pt x="865" y="636"/>
                  </a:lnTo>
                  <a:lnTo>
                    <a:pt x="882" y="631"/>
                  </a:lnTo>
                  <a:lnTo>
                    <a:pt x="900" y="627"/>
                  </a:lnTo>
                  <a:lnTo>
                    <a:pt x="922" y="618"/>
                  </a:lnTo>
                  <a:lnTo>
                    <a:pt x="913" y="644"/>
                  </a:lnTo>
                  <a:lnTo>
                    <a:pt x="896" y="675"/>
                  </a:lnTo>
                  <a:lnTo>
                    <a:pt x="882" y="693"/>
                  </a:lnTo>
                  <a:lnTo>
                    <a:pt x="869" y="715"/>
                  </a:lnTo>
                  <a:lnTo>
                    <a:pt x="860" y="728"/>
                  </a:lnTo>
                  <a:lnTo>
                    <a:pt x="856" y="763"/>
                  </a:lnTo>
                  <a:lnTo>
                    <a:pt x="856" y="791"/>
                  </a:lnTo>
                  <a:lnTo>
                    <a:pt x="856" y="817"/>
                  </a:lnTo>
                  <a:lnTo>
                    <a:pt x="860" y="839"/>
                  </a:lnTo>
                  <a:lnTo>
                    <a:pt x="860" y="848"/>
                  </a:lnTo>
                  <a:lnTo>
                    <a:pt x="874" y="844"/>
                  </a:lnTo>
                  <a:lnTo>
                    <a:pt x="878" y="822"/>
                  </a:lnTo>
                  <a:lnTo>
                    <a:pt x="891" y="804"/>
                  </a:lnTo>
                  <a:lnTo>
                    <a:pt x="909" y="791"/>
                  </a:lnTo>
                  <a:lnTo>
                    <a:pt x="913" y="813"/>
                  </a:lnTo>
                  <a:lnTo>
                    <a:pt x="913" y="835"/>
                  </a:lnTo>
                  <a:lnTo>
                    <a:pt x="904" y="848"/>
                  </a:lnTo>
                  <a:lnTo>
                    <a:pt x="904" y="857"/>
                  </a:lnTo>
                  <a:lnTo>
                    <a:pt x="900" y="888"/>
                  </a:lnTo>
                  <a:lnTo>
                    <a:pt x="896" y="901"/>
                  </a:lnTo>
                  <a:lnTo>
                    <a:pt x="882" y="905"/>
                  </a:lnTo>
                  <a:lnTo>
                    <a:pt x="874" y="892"/>
                  </a:lnTo>
                  <a:lnTo>
                    <a:pt x="878" y="870"/>
                  </a:lnTo>
                  <a:lnTo>
                    <a:pt x="878" y="861"/>
                  </a:lnTo>
                  <a:lnTo>
                    <a:pt x="874" y="848"/>
                  </a:lnTo>
                  <a:lnTo>
                    <a:pt x="856" y="848"/>
                  </a:lnTo>
                  <a:lnTo>
                    <a:pt x="852" y="870"/>
                  </a:lnTo>
                  <a:lnTo>
                    <a:pt x="830" y="879"/>
                  </a:lnTo>
                  <a:lnTo>
                    <a:pt x="816" y="892"/>
                  </a:lnTo>
                  <a:lnTo>
                    <a:pt x="816" y="914"/>
                  </a:lnTo>
                  <a:lnTo>
                    <a:pt x="816" y="936"/>
                  </a:lnTo>
                  <a:lnTo>
                    <a:pt x="807" y="963"/>
                  </a:lnTo>
                  <a:lnTo>
                    <a:pt x="777" y="994"/>
                  </a:lnTo>
                  <a:lnTo>
                    <a:pt x="763" y="998"/>
                  </a:lnTo>
                  <a:lnTo>
                    <a:pt x="755" y="976"/>
                  </a:lnTo>
                  <a:lnTo>
                    <a:pt x="737" y="963"/>
                  </a:lnTo>
                  <a:lnTo>
                    <a:pt x="728" y="954"/>
                  </a:lnTo>
                  <a:lnTo>
                    <a:pt x="705" y="919"/>
                  </a:lnTo>
                  <a:lnTo>
                    <a:pt x="692" y="901"/>
                  </a:lnTo>
                  <a:lnTo>
                    <a:pt x="683" y="883"/>
                  </a:lnTo>
                  <a:lnTo>
                    <a:pt x="674" y="866"/>
                  </a:lnTo>
                  <a:lnTo>
                    <a:pt x="670" y="839"/>
                  </a:lnTo>
                  <a:lnTo>
                    <a:pt x="657" y="822"/>
                  </a:lnTo>
                  <a:lnTo>
                    <a:pt x="652" y="808"/>
                  </a:lnTo>
                  <a:lnTo>
                    <a:pt x="661" y="786"/>
                  </a:lnTo>
                  <a:lnTo>
                    <a:pt x="661" y="768"/>
                  </a:lnTo>
                  <a:lnTo>
                    <a:pt x="648" y="759"/>
                  </a:lnTo>
                  <a:lnTo>
                    <a:pt x="626" y="759"/>
                  </a:lnTo>
                  <a:lnTo>
                    <a:pt x="608" y="746"/>
                  </a:lnTo>
                  <a:lnTo>
                    <a:pt x="599" y="759"/>
                  </a:lnTo>
                  <a:lnTo>
                    <a:pt x="582" y="759"/>
                  </a:lnTo>
                  <a:lnTo>
                    <a:pt x="568" y="746"/>
                  </a:lnTo>
                  <a:lnTo>
                    <a:pt x="555" y="737"/>
                  </a:lnTo>
                  <a:lnTo>
                    <a:pt x="537" y="733"/>
                  </a:lnTo>
                  <a:lnTo>
                    <a:pt x="520" y="724"/>
                  </a:lnTo>
                  <a:lnTo>
                    <a:pt x="502" y="710"/>
                  </a:lnTo>
                  <a:lnTo>
                    <a:pt x="502" y="684"/>
                  </a:lnTo>
                  <a:lnTo>
                    <a:pt x="498" y="662"/>
                  </a:lnTo>
                  <a:lnTo>
                    <a:pt x="515" y="649"/>
                  </a:lnTo>
                  <a:lnTo>
                    <a:pt x="511" y="636"/>
                  </a:lnTo>
                  <a:lnTo>
                    <a:pt x="507" y="609"/>
                  </a:lnTo>
                  <a:lnTo>
                    <a:pt x="511" y="587"/>
                  </a:lnTo>
                  <a:lnTo>
                    <a:pt x="502" y="561"/>
                  </a:lnTo>
                  <a:lnTo>
                    <a:pt x="520" y="543"/>
                  </a:lnTo>
                  <a:lnTo>
                    <a:pt x="533" y="534"/>
                  </a:lnTo>
                  <a:lnTo>
                    <a:pt x="546" y="534"/>
                  </a:lnTo>
                  <a:lnTo>
                    <a:pt x="546" y="516"/>
                  </a:lnTo>
                  <a:lnTo>
                    <a:pt x="555" y="499"/>
                  </a:lnTo>
                  <a:lnTo>
                    <a:pt x="568" y="486"/>
                  </a:lnTo>
                  <a:lnTo>
                    <a:pt x="586" y="499"/>
                  </a:lnTo>
                  <a:lnTo>
                    <a:pt x="604" y="503"/>
                  </a:lnTo>
                  <a:lnTo>
                    <a:pt x="630" y="499"/>
                  </a:lnTo>
                  <a:lnTo>
                    <a:pt x="648" y="499"/>
                  </a:lnTo>
                  <a:lnTo>
                    <a:pt x="661" y="499"/>
                  </a:lnTo>
                  <a:lnTo>
                    <a:pt x="665" y="516"/>
                  </a:lnTo>
                  <a:lnTo>
                    <a:pt x="683" y="521"/>
                  </a:lnTo>
                  <a:lnTo>
                    <a:pt x="705" y="530"/>
                  </a:lnTo>
                  <a:lnTo>
                    <a:pt x="715" y="525"/>
                  </a:lnTo>
                  <a:lnTo>
                    <a:pt x="724" y="516"/>
                  </a:lnTo>
                  <a:lnTo>
                    <a:pt x="728" y="503"/>
                  </a:lnTo>
                  <a:lnTo>
                    <a:pt x="746" y="508"/>
                  </a:lnTo>
                  <a:lnTo>
                    <a:pt x="768" y="516"/>
                  </a:lnTo>
                  <a:lnTo>
                    <a:pt x="790" y="521"/>
                  </a:lnTo>
                  <a:lnTo>
                    <a:pt x="803" y="521"/>
                  </a:lnTo>
                  <a:lnTo>
                    <a:pt x="821" y="521"/>
                  </a:lnTo>
                  <a:lnTo>
                    <a:pt x="834" y="508"/>
                  </a:lnTo>
                  <a:lnTo>
                    <a:pt x="843" y="490"/>
                  </a:lnTo>
                  <a:lnTo>
                    <a:pt x="847" y="477"/>
                  </a:lnTo>
                  <a:lnTo>
                    <a:pt x="843" y="477"/>
                  </a:lnTo>
                  <a:lnTo>
                    <a:pt x="834" y="464"/>
                  </a:lnTo>
                  <a:lnTo>
                    <a:pt x="821" y="464"/>
                  </a:lnTo>
                  <a:lnTo>
                    <a:pt x="803" y="464"/>
                  </a:lnTo>
                  <a:lnTo>
                    <a:pt x="790" y="459"/>
                  </a:lnTo>
                  <a:lnTo>
                    <a:pt x="785" y="446"/>
                  </a:lnTo>
                  <a:lnTo>
                    <a:pt x="777" y="441"/>
                  </a:lnTo>
                  <a:lnTo>
                    <a:pt x="772" y="446"/>
                  </a:lnTo>
                  <a:lnTo>
                    <a:pt x="777" y="459"/>
                  </a:lnTo>
                  <a:lnTo>
                    <a:pt x="768" y="472"/>
                  </a:lnTo>
                  <a:lnTo>
                    <a:pt x="750" y="472"/>
                  </a:lnTo>
                  <a:lnTo>
                    <a:pt x="746" y="459"/>
                  </a:lnTo>
                  <a:lnTo>
                    <a:pt x="741" y="441"/>
                  </a:lnTo>
                  <a:lnTo>
                    <a:pt x="741" y="419"/>
                  </a:lnTo>
                  <a:lnTo>
                    <a:pt x="728" y="415"/>
                  </a:lnTo>
                  <a:lnTo>
                    <a:pt x="724" y="428"/>
                  </a:lnTo>
                  <a:lnTo>
                    <a:pt x="728" y="446"/>
                  </a:lnTo>
                  <a:lnTo>
                    <a:pt x="733" y="459"/>
                  </a:lnTo>
                  <a:lnTo>
                    <a:pt x="746" y="468"/>
                  </a:lnTo>
                  <a:lnTo>
                    <a:pt x="733" y="481"/>
                  </a:lnTo>
                  <a:lnTo>
                    <a:pt x="724" y="490"/>
                  </a:lnTo>
                  <a:lnTo>
                    <a:pt x="705" y="486"/>
                  </a:lnTo>
                  <a:lnTo>
                    <a:pt x="705" y="499"/>
                  </a:lnTo>
                  <a:lnTo>
                    <a:pt x="696" y="508"/>
                  </a:lnTo>
                  <a:lnTo>
                    <a:pt x="683" y="490"/>
                  </a:lnTo>
                  <a:lnTo>
                    <a:pt x="683" y="481"/>
                  </a:lnTo>
                  <a:lnTo>
                    <a:pt x="701" y="486"/>
                  </a:lnTo>
                  <a:lnTo>
                    <a:pt x="709" y="486"/>
                  </a:lnTo>
                  <a:lnTo>
                    <a:pt x="728" y="477"/>
                  </a:lnTo>
                  <a:lnTo>
                    <a:pt x="724" y="459"/>
                  </a:lnTo>
                  <a:lnTo>
                    <a:pt x="705" y="450"/>
                  </a:lnTo>
                  <a:lnTo>
                    <a:pt x="696" y="441"/>
                  </a:lnTo>
                  <a:lnTo>
                    <a:pt x="683" y="424"/>
                  </a:lnTo>
                  <a:lnTo>
                    <a:pt x="665" y="411"/>
                  </a:lnTo>
                  <a:lnTo>
                    <a:pt x="665" y="428"/>
                  </a:lnTo>
                  <a:lnTo>
                    <a:pt x="674" y="441"/>
                  </a:lnTo>
                  <a:lnTo>
                    <a:pt x="674" y="459"/>
                  </a:lnTo>
                  <a:lnTo>
                    <a:pt x="674" y="477"/>
                  </a:lnTo>
                  <a:lnTo>
                    <a:pt x="657" y="464"/>
                  </a:lnTo>
                  <a:lnTo>
                    <a:pt x="652" y="450"/>
                  </a:lnTo>
                  <a:lnTo>
                    <a:pt x="661" y="441"/>
                  </a:lnTo>
                  <a:lnTo>
                    <a:pt x="661" y="433"/>
                  </a:lnTo>
                  <a:lnTo>
                    <a:pt x="670" y="428"/>
                  </a:lnTo>
                  <a:lnTo>
                    <a:pt x="670" y="411"/>
                  </a:lnTo>
                  <a:lnTo>
                    <a:pt x="652" y="415"/>
                  </a:lnTo>
                  <a:lnTo>
                    <a:pt x="643" y="428"/>
                  </a:lnTo>
                  <a:lnTo>
                    <a:pt x="630" y="424"/>
                  </a:lnTo>
                  <a:lnTo>
                    <a:pt x="608" y="433"/>
                  </a:lnTo>
                  <a:lnTo>
                    <a:pt x="604" y="455"/>
                  </a:lnTo>
                  <a:lnTo>
                    <a:pt x="586" y="468"/>
                  </a:lnTo>
                  <a:lnTo>
                    <a:pt x="568" y="477"/>
                  </a:lnTo>
                  <a:lnTo>
                    <a:pt x="551" y="481"/>
                  </a:lnTo>
                  <a:lnTo>
                    <a:pt x="533" y="477"/>
                  </a:lnTo>
                  <a:lnTo>
                    <a:pt x="520" y="464"/>
                  </a:lnTo>
                  <a:lnTo>
                    <a:pt x="533" y="455"/>
                  </a:lnTo>
                  <a:lnTo>
                    <a:pt x="520" y="441"/>
                  </a:lnTo>
                  <a:lnTo>
                    <a:pt x="533" y="433"/>
                  </a:lnTo>
                  <a:lnTo>
                    <a:pt x="537" y="419"/>
                  </a:lnTo>
                  <a:lnTo>
                    <a:pt x="537" y="402"/>
                  </a:lnTo>
                  <a:lnTo>
                    <a:pt x="555" y="384"/>
                  </a:lnTo>
                  <a:lnTo>
                    <a:pt x="577" y="393"/>
                  </a:lnTo>
                  <a:lnTo>
                    <a:pt x="604" y="397"/>
                  </a:lnTo>
                  <a:lnTo>
                    <a:pt x="612" y="389"/>
                  </a:lnTo>
                  <a:lnTo>
                    <a:pt x="612" y="371"/>
                  </a:lnTo>
                  <a:lnTo>
                    <a:pt x="599" y="358"/>
                  </a:lnTo>
                  <a:lnTo>
                    <a:pt x="582" y="349"/>
                  </a:lnTo>
                  <a:lnTo>
                    <a:pt x="590" y="340"/>
                  </a:lnTo>
                  <a:lnTo>
                    <a:pt x="608" y="331"/>
                  </a:lnTo>
                  <a:lnTo>
                    <a:pt x="617" y="327"/>
                  </a:lnTo>
                  <a:lnTo>
                    <a:pt x="608" y="327"/>
                  </a:lnTo>
                  <a:lnTo>
                    <a:pt x="590" y="327"/>
                  </a:lnTo>
                  <a:lnTo>
                    <a:pt x="577" y="331"/>
                  </a:lnTo>
                  <a:lnTo>
                    <a:pt x="568" y="336"/>
                  </a:lnTo>
                  <a:lnTo>
                    <a:pt x="573" y="322"/>
                  </a:lnTo>
                  <a:lnTo>
                    <a:pt x="577" y="309"/>
                  </a:lnTo>
                  <a:lnTo>
                    <a:pt x="582" y="296"/>
                  </a:lnTo>
                  <a:lnTo>
                    <a:pt x="586" y="287"/>
                  </a:lnTo>
                  <a:lnTo>
                    <a:pt x="577" y="274"/>
                  </a:lnTo>
                  <a:lnTo>
                    <a:pt x="568" y="283"/>
                  </a:lnTo>
                  <a:lnTo>
                    <a:pt x="568" y="296"/>
                  </a:lnTo>
                  <a:lnTo>
                    <a:pt x="568" y="309"/>
                  </a:lnTo>
                  <a:lnTo>
                    <a:pt x="560" y="327"/>
                  </a:lnTo>
                  <a:lnTo>
                    <a:pt x="546" y="327"/>
                  </a:lnTo>
                  <a:lnTo>
                    <a:pt x="537" y="309"/>
                  </a:lnTo>
                  <a:lnTo>
                    <a:pt x="529" y="292"/>
                  </a:lnTo>
                  <a:lnTo>
                    <a:pt x="546" y="287"/>
                  </a:lnTo>
                  <a:lnTo>
                    <a:pt x="555" y="278"/>
                  </a:lnTo>
                  <a:lnTo>
                    <a:pt x="564" y="278"/>
                  </a:lnTo>
                  <a:lnTo>
                    <a:pt x="564" y="265"/>
                  </a:lnTo>
                  <a:lnTo>
                    <a:pt x="560" y="255"/>
                  </a:lnTo>
                  <a:lnTo>
                    <a:pt x="573" y="246"/>
                  </a:lnTo>
                  <a:lnTo>
                    <a:pt x="586" y="238"/>
                  </a:lnTo>
                  <a:lnTo>
                    <a:pt x="599" y="246"/>
                  </a:lnTo>
                  <a:lnTo>
                    <a:pt x="599" y="261"/>
                  </a:lnTo>
                  <a:lnTo>
                    <a:pt x="604" y="283"/>
                  </a:lnTo>
                  <a:lnTo>
                    <a:pt x="617" y="292"/>
                  </a:lnTo>
                  <a:lnTo>
                    <a:pt x="621" y="309"/>
                  </a:lnTo>
                  <a:lnTo>
                    <a:pt x="617" y="322"/>
                  </a:lnTo>
                  <a:lnTo>
                    <a:pt x="612" y="331"/>
                  </a:lnTo>
                  <a:lnTo>
                    <a:pt x="626" y="327"/>
                  </a:lnTo>
                  <a:lnTo>
                    <a:pt x="643" y="318"/>
                  </a:lnTo>
                  <a:lnTo>
                    <a:pt x="648" y="296"/>
                  </a:lnTo>
                  <a:lnTo>
                    <a:pt x="665" y="296"/>
                  </a:lnTo>
                  <a:lnTo>
                    <a:pt x="670" y="292"/>
                  </a:lnTo>
                  <a:lnTo>
                    <a:pt x="670" y="274"/>
                  </a:lnTo>
                  <a:lnTo>
                    <a:pt x="661" y="261"/>
                  </a:lnTo>
                  <a:lnTo>
                    <a:pt x="674" y="261"/>
                  </a:lnTo>
                  <a:lnTo>
                    <a:pt x="692" y="274"/>
                  </a:lnTo>
                  <a:lnTo>
                    <a:pt x="705" y="287"/>
                  </a:lnTo>
                  <a:lnTo>
                    <a:pt x="719" y="287"/>
                  </a:lnTo>
                  <a:lnTo>
                    <a:pt x="737" y="278"/>
                  </a:lnTo>
                  <a:lnTo>
                    <a:pt x="750" y="261"/>
                  </a:lnTo>
                  <a:lnTo>
                    <a:pt x="759" y="246"/>
                  </a:lnTo>
                  <a:lnTo>
                    <a:pt x="785" y="251"/>
                  </a:lnTo>
                  <a:lnTo>
                    <a:pt x="759" y="238"/>
                  </a:lnTo>
                  <a:lnTo>
                    <a:pt x="746" y="238"/>
                  </a:lnTo>
                  <a:lnTo>
                    <a:pt x="741" y="216"/>
                  </a:lnTo>
                  <a:lnTo>
                    <a:pt x="741" y="207"/>
                  </a:lnTo>
                  <a:lnTo>
                    <a:pt x="759" y="198"/>
                  </a:lnTo>
                  <a:lnTo>
                    <a:pt x="763" y="185"/>
                  </a:lnTo>
                  <a:lnTo>
                    <a:pt x="750" y="194"/>
                  </a:lnTo>
                  <a:lnTo>
                    <a:pt x="733" y="202"/>
                  </a:lnTo>
                  <a:lnTo>
                    <a:pt x="715" y="207"/>
                  </a:lnTo>
                  <a:lnTo>
                    <a:pt x="724" y="224"/>
                  </a:lnTo>
                  <a:lnTo>
                    <a:pt x="724" y="242"/>
                  </a:lnTo>
                  <a:lnTo>
                    <a:pt x="724" y="255"/>
                  </a:lnTo>
                  <a:lnTo>
                    <a:pt x="705" y="265"/>
                  </a:lnTo>
                  <a:lnTo>
                    <a:pt x="692" y="274"/>
                  </a:lnTo>
                  <a:lnTo>
                    <a:pt x="683" y="261"/>
                  </a:lnTo>
                  <a:lnTo>
                    <a:pt x="687" y="246"/>
                  </a:lnTo>
                  <a:lnTo>
                    <a:pt x="687" y="238"/>
                  </a:lnTo>
                  <a:lnTo>
                    <a:pt x="670" y="242"/>
                  </a:lnTo>
                  <a:lnTo>
                    <a:pt x="657" y="233"/>
                  </a:lnTo>
                  <a:lnTo>
                    <a:pt x="648" y="224"/>
                  </a:lnTo>
                  <a:lnTo>
                    <a:pt x="652" y="207"/>
                  </a:lnTo>
                  <a:lnTo>
                    <a:pt x="648" y="202"/>
                  </a:lnTo>
                  <a:lnTo>
                    <a:pt x="652" y="202"/>
                  </a:lnTo>
                  <a:lnTo>
                    <a:pt x="652" y="198"/>
                  </a:lnTo>
                  <a:lnTo>
                    <a:pt x="471" y="198"/>
                  </a:lnTo>
                  <a:lnTo>
                    <a:pt x="458" y="211"/>
                  </a:lnTo>
                  <a:lnTo>
                    <a:pt x="445" y="220"/>
                  </a:lnTo>
                  <a:lnTo>
                    <a:pt x="427" y="216"/>
                  </a:lnTo>
                  <a:lnTo>
                    <a:pt x="418" y="202"/>
                  </a:lnTo>
                  <a:lnTo>
                    <a:pt x="418" y="189"/>
                  </a:lnTo>
                  <a:lnTo>
                    <a:pt x="427" y="189"/>
                  </a:lnTo>
                  <a:lnTo>
                    <a:pt x="388" y="189"/>
                  </a:lnTo>
                  <a:lnTo>
                    <a:pt x="374" y="189"/>
                  </a:lnTo>
                  <a:lnTo>
                    <a:pt x="361" y="216"/>
                  </a:lnTo>
                  <a:lnTo>
                    <a:pt x="357" y="229"/>
                  </a:lnTo>
                  <a:lnTo>
                    <a:pt x="348" y="246"/>
                  </a:lnTo>
                  <a:lnTo>
                    <a:pt x="330" y="242"/>
                  </a:lnTo>
                  <a:lnTo>
                    <a:pt x="317" y="229"/>
                  </a:lnTo>
                  <a:lnTo>
                    <a:pt x="317" y="207"/>
                  </a:lnTo>
                  <a:lnTo>
                    <a:pt x="313" y="176"/>
                  </a:lnTo>
                  <a:lnTo>
                    <a:pt x="299" y="163"/>
                  </a:lnTo>
                  <a:lnTo>
                    <a:pt x="304" y="149"/>
                  </a:lnTo>
                  <a:lnTo>
                    <a:pt x="291" y="132"/>
                  </a:lnTo>
                  <a:lnTo>
                    <a:pt x="282" y="123"/>
                  </a:lnTo>
                  <a:lnTo>
                    <a:pt x="273" y="132"/>
                  </a:lnTo>
                  <a:lnTo>
                    <a:pt x="255" y="119"/>
                  </a:lnTo>
                  <a:lnTo>
                    <a:pt x="242" y="127"/>
                  </a:lnTo>
                  <a:lnTo>
                    <a:pt x="233" y="136"/>
                  </a:lnTo>
                  <a:lnTo>
                    <a:pt x="211" y="141"/>
                  </a:lnTo>
                  <a:lnTo>
                    <a:pt x="202" y="158"/>
                  </a:lnTo>
                  <a:lnTo>
                    <a:pt x="224" y="158"/>
                  </a:lnTo>
                  <a:lnTo>
                    <a:pt x="246" y="171"/>
                  </a:lnTo>
                  <a:lnTo>
                    <a:pt x="260" y="185"/>
                  </a:lnTo>
                  <a:lnTo>
                    <a:pt x="273" y="202"/>
                  </a:lnTo>
                  <a:lnTo>
                    <a:pt x="273" y="229"/>
                  </a:lnTo>
                  <a:lnTo>
                    <a:pt x="264" y="251"/>
                  </a:lnTo>
                  <a:lnTo>
                    <a:pt x="255" y="261"/>
                  </a:lnTo>
                  <a:lnTo>
                    <a:pt x="238" y="242"/>
                  </a:lnTo>
                  <a:lnTo>
                    <a:pt x="207" y="242"/>
                  </a:lnTo>
                  <a:lnTo>
                    <a:pt x="207" y="229"/>
                  </a:lnTo>
                  <a:lnTo>
                    <a:pt x="233" y="224"/>
                  </a:lnTo>
                  <a:lnTo>
                    <a:pt x="238" y="207"/>
                  </a:lnTo>
                  <a:lnTo>
                    <a:pt x="229" y="202"/>
                  </a:lnTo>
                  <a:lnTo>
                    <a:pt x="224" y="216"/>
                  </a:lnTo>
                  <a:lnTo>
                    <a:pt x="207" y="207"/>
                  </a:lnTo>
                  <a:lnTo>
                    <a:pt x="229" y="194"/>
                  </a:lnTo>
                  <a:lnTo>
                    <a:pt x="238" y="207"/>
                  </a:lnTo>
                  <a:lnTo>
                    <a:pt x="224" y="189"/>
                  </a:lnTo>
                  <a:lnTo>
                    <a:pt x="207" y="189"/>
                  </a:lnTo>
                  <a:lnTo>
                    <a:pt x="194" y="202"/>
                  </a:lnTo>
                  <a:lnTo>
                    <a:pt x="198" y="216"/>
                  </a:lnTo>
                  <a:lnTo>
                    <a:pt x="198" y="238"/>
                  </a:lnTo>
                  <a:lnTo>
                    <a:pt x="194" y="255"/>
                  </a:lnTo>
                  <a:lnTo>
                    <a:pt x="198" y="269"/>
                  </a:lnTo>
                  <a:lnTo>
                    <a:pt x="180" y="255"/>
                  </a:lnTo>
                  <a:lnTo>
                    <a:pt x="176" y="265"/>
                  </a:lnTo>
                  <a:lnTo>
                    <a:pt x="171" y="255"/>
                  </a:lnTo>
                  <a:lnTo>
                    <a:pt x="176" y="238"/>
                  </a:lnTo>
                  <a:lnTo>
                    <a:pt x="158" y="246"/>
                  </a:lnTo>
                  <a:lnTo>
                    <a:pt x="154" y="261"/>
                  </a:lnTo>
                  <a:lnTo>
                    <a:pt x="141" y="274"/>
                  </a:lnTo>
                  <a:lnTo>
                    <a:pt x="141" y="287"/>
                  </a:lnTo>
                  <a:lnTo>
                    <a:pt x="123" y="287"/>
                  </a:lnTo>
                  <a:lnTo>
                    <a:pt x="119" y="292"/>
                  </a:lnTo>
                  <a:lnTo>
                    <a:pt x="123" y="314"/>
                  </a:lnTo>
                  <a:lnTo>
                    <a:pt x="145" y="322"/>
                  </a:lnTo>
                  <a:lnTo>
                    <a:pt x="154" y="331"/>
                  </a:lnTo>
                  <a:lnTo>
                    <a:pt x="149" y="349"/>
                  </a:lnTo>
                  <a:lnTo>
                    <a:pt x="163" y="344"/>
                  </a:lnTo>
                  <a:lnTo>
                    <a:pt x="167" y="327"/>
                  </a:lnTo>
                  <a:lnTo>
                    <a:pt x="189" y="327"/>
                  </a:lnTo>
                  <a:lnTo>
                    <a:pt x="202" y="314"/>
                  </a:lnTo>
                  <a:lnTo>
                    <a:pt x="202" y="296"/>
                  </a:lnTo>
                  <a:lnTo>
                    <a:pt x="202" y="265"/>
                  </a:lnTo>
                  <a:lnTo>
                    <a:pt x="207" y="246"/>
                  </a:lnTo>
                  <a:lnTo>
                    <a:pt x="220" y="238"/>
                  </a:lnTo>
                  <a:lnTo>
                    <a:pt x="238" y="246"/>
                  </a:lnTo>
                  <a:lnTo>
                    <a:pt x="255" y="261"/>
                  </a:lnTo>
                  <a:lnTo>
                    <a:pt x="264" y="265"/>
                  </a:lnTo>
                  <a:lnTo>
                    <a:pt x="277" y="287"/>
                  </a:lnTo>
                  <a:lnTo>
                    <a:pt x="291" y="292"/>
                  </a:lnTo>
                  <a:lnTo>
                    <a:pt x="295" y="314"/>
                  </a:lnTo>
                  <a:lnTo>
                    <a:pt x="299" y="327"/>
                  </a:lnTo>
                  <a:lnTo>
                    <a:pt x="313" y="336"/>
                  </a:lnTo>
                  <a:lnTo>
                    <a:pt x="299" y="353"/>
                  </a:lnTo>
                  <a:lnTo>
                    <a:pt x="282" y="353"/>
                  </a:lnTo>
                  <a:lnTo>
                    <a:pt x="260" y="362"/>
                  </a:lnTo>
                  <a:lnTo>
                    <a:pt x="246" y="375"/>
                  </a:lnTo>
                  <a:lnTo>
                    <a:pt x="224" y="384"/>
                  </a:lnTo>
                  <a:lnTo>
                    <a:pt x="207" y="402"/>
                  </a:lnTo>
                  <a:lnTo>
                    <a:pt x="189" y="415"/>
                  </a:lnTo>
                  <a:lnTo>
                    <a:pt x="189" y="428"/>
                  </a:lnTo>
                  <a:lnTo>
                    <a:pt x="189" y="441"/>
                  </a:lnTo>
                  <a:lnTo>
                    <a:pt x="176" y="450"/>
                  </a:lnTo>
                  <a:lnTo>
                    <a:pt x="176" y="464"/>
                  </a:lnTo>
                  <a:lnTo>
                    <a:pt x="163" y="477"/>
                  </a:lnTo>
                  <a:lnTo>
                    <a:pt x="163" y="499"/>
                  </a:lnTo>
                  <a:lnTo>
                    <a:pt x="171" y="516"/>
                  </a:lnTo>
                  <a:lnTo>
                    <a:pt x="167" y="525"/>
                  </a:lnTo>
                  <a:lnTo>
                    <a:pt x="149" y="516"/>
                  </a:lnTo>
                  <a:lnTo>
                    <a:pt x="149" y="499"/>
                  </a:lnTo>
                  <a:lnTo>
                    <a:pt x="136" y="486"/>
                  </a:lnTo>
                  <a:lnTo>
                    <a:pt x="123" y="490"/>
                  </a:lnTo>
                  <a:lnTo>
                    <a:pt x="119" y="503"/>
                  </a:lnTo>
                  <a:lnTo>
                    <a:pt x="101" y="499"/>
                  </a:lnTo>
                  <a:lnTo>
                    <a:pt x="88" y="499"/>
                  </a:lnTo>
                  <a:lnTo>
                    <a:pt x="70" y="512"/>
                  </a:lnTo>
                  <a:lnTo>
                    <a:pt x="66" y="525"/>
                  </a:lnTo>
                  <a:lnTo>
                    <a:pt x="61" y="538"/>
                  </a:lnTo>
                  <a:lnTo>
                    <a:pt x="57" y="561"/>
                  </a:lnTo>
                  <a:lnTo>
                    <a:pt x="70" y="574"/>
                  </a:lnTo>
                  <a:lnTo>
                    <a:pt x="88" y="565"/>
                  </a:lnTo>
                  <a:lnTo>
                    <a:pt x="101" y="565"/>
                  </a:lnTo>
                  <a:lnTo>
                    <a:pt x="101" y="583"/>
                  </a:lnTo>
                  <a:lnTo>
                    <a:pt x="92" y="596"/>
                  </a:lnTo>
                  <a:lnTo>
                    <a:pt x="110" y="600"/>
                  </a:lnTo>
                  <a:lnTo>
                    <a:pt x="119" y="605"/>
                  </a:lnTo>
                  <a:lnTo>
                    <a:pt x="123" y="622"/>
                  </a:lnTo>
                  <a:lnTo>
                    <a:pt x="136" y="631"/>
                  </a:lnTo>
                  <a:lnTo>
                    <a:pt x="158" y="644"/>
                  </a:lnTo>
                  <a:lnTo>
                    <a:pt x="171" y="636"/>
                  </a:lnTo>
                  <a:lnTo>
                    <a:pt x="198" y="644"/>
                  </a:lnTo>
                  <a:lnTo>
                    <a:pt x="220" y="644"/>
                  </a:lnTo>
                  <a:lnTo>
                    <a:pt x="251" y="662"/>
                  </a:lnTo>
                  <a:lnTo>
                    <a:pt x="260" y="675"/>
                  </a:lnTo>
                  <a:lnTo>
                    <a:pt x="277" y="688"/>
                  </a:lnTo>
                  <a:lnTo>
                    <a:pt x="286" y="715"/>
                  </a:lnTo>
                  <a:lnTo>
                    <a:pt x="308" y="724"/>
                  </a:lnTo>
                  <a:lnTo>
                    <a:pt x="326" y="728"/>
                  </a:lnTo>
                  <a:lnTo>
                    <a:pt x="348" y="746"/>
                  </a:lnTo>
                  <a:lnTo>
                    <a:pt x="374" y="746"/>
                  </a:lnTo>
                  <a:lnTo>
                    <a:pt x="374" y="759"/>
                  </a:lnTo>
                  <a:lnTo>
                    <a:pt x="374" y="777"/>
                  </a:lnTo>
                  <a:lnTo>
                    <a:pt x="361" y="791"/>
                  </a:lnTo>
                  <a:lnTo>
                    <a:pt x="361" y="813"/>
                  </a:lnTo>
                  <a:lnTo>
                    <a:pt x="357" y="831"/>
                  </a:lnTo>
                  <a:lnTo>
                    <a:pt x="343" y="853"/>
                  </a:lnTo>
                  <a:lnTo>
                    <a:pt x="321" y="861"/>
                  </a:lnTo>
                  <a:lnTo>
                    <a:pt x="304" y="866"/>
                  </a:lnTo>
                  <a:lnTo>
                    <a:pt x="313" y="883"/>
                  </a:lnTo>
                  <a:lnTo>
                    <a:pt x="299" y="901"/>
                  </a:lnTo>
                  <a:lnTo>
                    <a:pt x="282" y="914"/>
                  </a:lnTo>
                  <a:lnTo>
                    <a:pt x="264" y="928"/>
                  </a:lnTo>
                  <a:lnTo>
                    <a:pt x="255" y="950"/>
                  </a:lnTo>
                  <a:lnTo>
                    <a:pt x="242" y="967"/>
                  </a:lnTo>
                  <a:lnTo>
                    <a:pt x="229" y="972"/>
                  </a:lnTo>
                  <a:lnTo>
                    <a:pt x="220" y="989"/>
                  </a:lnTo>
                  <a:lnTo>
                    <a:pt x="207" y="1003"/>
                  </a:lnTo>
                  <a:lnTo>
                    <a:pt x="202" y="1016"/>
                  </a:lnTo>
                  <a:lnTo>
                    <a:pt x="202" y="1029"/>
                  </a:lnTo>
                  <a:lnTo>
                    <a:pt x="194" y="1042"/>
                  </a:lnTo>
                  <a:lnTo>
                    <a:pt x="185" y="1020"/>
                  </a:lnTo>
                  <a:lnTo>
                    <a:pt x="171" y="1007"/>
                  </a:lnTo>
                  <a:lnTo>
                    <a:pt x="163" y="985"/>
                  </a:lnTo>
                  <a:lnTo>
                    <a:pt x="163" y="967"/>
                  </a:lnTo>
                  <a:lnTo>
                    <a:pt x="158" y="945"/>
                  </a:lnTo>
                  <a:lnTo>
                    <a:pt x="171" y="914"/>
                  </a:lnTo>
                  <a:lnTo>
                    <a:pt x="171" y="883"/>
                  </a:lnTo>
                  <a:lnTo>
                    <a:pt x="167" y="853"/>
                  </a:lnTo>
                  <a:lnTo>
                    <a:pt x="158" y="831"/>
                  </a:lnTo>
                  <a:lnTo>
                    <a:pt x="141" y="813"/>
                  </a:lnTo>
                  <a:lnTo>
                    <a:pt x="123" y="800"/>
                  </a:lnTo>
                  <a:lnTo>
                    <a:pt x="110" y="777"/>
                  </a:lnTo>
                  <a:lnTo>
                    <a:pt x="105" y="746"/>
                  </a:lnTo>
                  <a:lnTo>
                    <a:pt x="119" y="728"/>
                  </a:lnTo>
                  <a:lnTo>
                    <a:pt x="119" y="715"/>
                  </a:lnTo>
                  <a:lnTo>
                    <a:pt x="123" y="688"/>
                  </a:lnTo>
                  <a:lnTo>
                    <a:pt x="136" y="671"/>
                  </a:lnTo>
                  <a:lnTo>
                    <a:pt x="149" y="658"/>
                  </a:lnTo>
                  <a:lnTo>
                    <a:pt x="158" y="644"/>
                  </a:lnTo>
                  <a:lnTo>
                    <a:pt x="136" y="640"/>
                  </a:lnTo>
                  <a:lnTo>
                    <a:pt x="127" y="644"/>
                  </a:lnTo>
                  <a:lnTo>
                    <a:pt x="114" y="636"/>
                  </a:lnTo>
                  <a:lnTo>
                    <a:pt x="101" y="627"/>
                  </a:lnTo>
                  <a:lnTo>
                    <a:pt x="79" y="613"/>
                  </a:lnTo>
                  <a:lnTo>
                    <a:pt x="74" y="596"/>
                  </a:lnTo>
                  <a:lnTo>
                    <a:pt x="66" y="591"/>
                  </a:lnTo>
                  <a:lnTo>
                    <a:pt x="57" y="596"/>
                  </a:lnTo>
                  <a:lnTo>
                    <a:pt x="44" y="587"/>
                  </a:lnTo>
                  <a:lnTo>
                    <a:pt x="30" y="574"/>
                  </a:lnTo>
                  <a:lnTo>
                    <a:pt x="22" y="561"/>
                  </a:lnTo>
                  <a:lnTo>
                    <a:pt x="22" y="543"/>
                  </a:lnTo>
                  <a:lnTo>
                    <a:pt x="22" y="534"/>
                  </a:lnTo>
                  <a:lnTo>
                    <a:pt x="4" y="521"/>
                  </a:lnTo>
                  <a:lnTo>
                    <a:pt x="4" y="530"/>
                  </a:lnTo>
                  <a:lnTo>
                    <a:pt x="13" y="543"/>
                  </a:lnTo>
                  <a:lnTo>
                    <a:pt x="13" y="556"/>
                  </a:lnTo>
                  <a:lnTo>
                    <a:pt x="4" y="547"/>
                  </a:lnTo>
                  <a:lnTo>
                    <a:pt x="0" y="525"/>
                  </a:lnTo>
                  <a:lnTo>
                    <a:pt x="4" y="508"/>
                  </a:lnTo>
                  <a:lnTo>
                    <a:pt x="4" y="481"/>
                  </a:lnTo>
                  <a:lnTo>
                    <a:pt x="4" y="441"/>
                  </a:lnTo>
                  <a:lnTo>
                    <a:pt x="8" y="397"/>
                  </a:lnTo>
                  <a:lnTo>
                    <a:pt x="22" y="353"/>
                  </a:lnTo>
                  <a:lnTo>
                    <a:pt x="35" y="300"/>
                  </a:lnTo>
                  <a:lnTo>
                    <a:pt x="61" y="238"/>
                  </a:lnTo>
                  <a:lnTo>
                    <a:pt x="83" y="189"/>
                  </a:lnTo>
                  <a:lnTo>
                    <a:pt x="119" y="127"/>
                  </a:lnTo>
                  <a:lnTo>
                    <a:pt x="141" y="92"/>
                  </a:lnTo>
                  <a:close/>
                </a:path>
              </a:pathLst>
            </a:custGeom>
            <a:solidFill>
              <a:srgbClr val="7d9cd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7200" y="1303200"/>
              <a:ext cx="514800" cy="376560"/>
            </a:xfrm>
            <a:custGeom>
              <a:avLst/>
              <a:gdLst/>
              <a:ahLst/>
              <a:rect l="0" t="0" r="r" b="b"/>
              <a:pathLst>
                <a:path w="1430" h="1046">
                  <a:moveTo>
                    <a:pt x="154" y="88"/>
                  </a:moveTo>
                  <a:lnTo>
                    <a:pt x="171" y="92"/>
                  </a:lnTo>
                  <a:lnTo>
                    <a:pt x="180" y="79"/>
                  </a:lnTo>
                  <a:lnTo>
                    <a:pt x="194" y="70"/>
                  </a:lnTo>
                  <a:lnTo>
                    <a:pt x="202" y="61"/>
                  </a:lnTo>
                  <a:lnTo>
                    <a:pt x="220" y="48"/>
                  </a:lnTo>
                  <a:lnTo>
                    <a:pt x="233" y="44"/>
                  </a:lnTo>
                  <a:lnTo>
                    <a:pt x="246" y="39"/>
                  </a:lnTo>
                  <a:lnTo>
                    <a:pt x="260" y="39"/>
                  </a:lnTo>
                  <a:lnTo>
                    <a:pt x="264" y="35"/>
                  </a:lnTo>
                  <a:lnTo>
                    <a:pt x="277" y="35"/>
                  </a:lnTo>
                  <a:lnTo>
                    <a:pt x="286" y="26"/>
                  </a:lnTo>
                  <a:lnTo>
                    <a:pt x="299" y="30"/>
                  </a:lnTo>
                  <a:lnTo>
                    <a:pt x="313" y="26"/>
                  </a:lnTo>
                  <a:lnTo>
                    <a:pt x="326" y="26"/>
                  </a:lnTo>
                  <a:lnTo>
                    <a:pt x="330" y="35"/>
                  </a:lnTo>
                  <a:lnTo>
                    <a:pt x="326" y="39"/>
                  </a:lnTo>
                  <a:lnTo>
                    <a:pt x="313" y="35"/>
                  </a:lnTo>
                  <a:lnTo>
                    <a:pt x="304" y="44"/>
                  </a:lnTo>
                  <a:lnTo>
                    <a:pt x="295" y="52"/>
                  </a:lnTo>
                  <a:lnTo>
                    <a:pt x="295" y="61"/>
                  </a:lnTo>
                  <a:lnTo>
                    <a:pt x="282" y="66"/>
                  </a:lnTo>
                  <a:lnTo>
                    <a:pt x="264" y="70"/>
                  </a:lnTo>
                  <a:lnTo>
                    <a:pt x="264" y="88"/>
                  </a:lnTo>
                  <a:lnTo>
                    <a:pt x="264" y="97"/>
                  </a:lnTo>
                  <a:lnTo>
                    <a:pt x="260" y="110"/>
                  </a:lnTo>
                  <a:lnTo>
                    <a:pt x="264" y="119"/>
                  </a:lnTo>
                  <a:lnTo>
                    <a:pt x="273" y="92"/>
                  </a:lnTo>
                  <a:lnTo>
                    <a:pt x="282" y="88"/>
                  </a:lnTo>
                  <a:lnTo>
                    <a:pt x="295" y="74"/>
                  </a:lnTo>
                  <a:lnTo>
                    <a:pt x="299" y="57"/>
                  </a:lnTo>
                  <a:lnTo>
                    <a:pt x="317" y="57"/>
                  </a:lnTo>
                  <a:lnTo>
                    <a:pt x="335" y="48"/>
                  </a:lnTo>
                  <a:lnTo>
                    <a:pt x="343" y="30"/>
                  </a:lnTo>
                  <a:lnTo>
                    <a:pt x="362" y="30"/>
                  </a:lnTo>
                  <a:lnTo>
                    <a:pt x="389" y="30"/>
                  </a:lnTo>
                  <a:lnTo>
                    <a:pt x="419" y="26"/>
                  </a:lnTo>
                  <a:lnTo>
                    <a:pt x="433" y="22"/>
                  </a:lnTo>
                  <a:lnTo>
                    <a:pt x="446" y="22"/>
                  </a:lnTo>
                  <a:lnTo>
                    <a:pt x="459" y="22"/>
                  </a:lnTo>
                  <a:lnTo>
                    <a:pt x="472" y="26"/>
                  </a:lnTo>
                  <a:lnTo>
                    <a:pt x="486" y="44"/>
                  </a:lnTo>
                  <a:lnTo>
                    <a:pt x="477" y="44"/>
                  </a:lnTo>
                  <a:lnTo>
                    <a:pt x="464" y="48"/>
                  </a:lnTo>
                  <a:lnTo>
                    <a:pt x="464" y="61"/>
                  </a:lnTo>
                  <a:lnTo>
                    <a:pt x="477" y="66"/>
                  </a:lnTo>
                  <a:lnTo>
                    <a:pt x="486" y="66"/>
                  </a:lnTo>
                  <a:lnTo>
                    <a:pt x="481" y="74"/>
                  </a:lnTo>
                  <a:lnTo>
                    <a:pt x="464" y="92"/>
                  </a:lnTo>
                  <a:lnTo>
                    <a:pt x="455" y="92"/>
                  </a:lnTo>
                  <a:lnTo>
                    <a:pt x="455" y="101"/>
                  </a:lnTo>
                  <a:lnTo>
                    <a:pt x="459" y="110"/>
                  </a:lnTo>
                  <a:lnTo>
                    <a:pt x="455" y="119"/>
                  </a:lnTo>
                  <a:lnTo>
                    <a:pt x="464" y="132"/>
                  </a:lnTo>
                  <a:lnTo>
                    <a:pt x="446" y="136"/>
                  </a:lnTo>
                  <a:lnTo>
                    <a:pt x="433" y="141"/>
                  </a:lnTo>
                  <a:lnTo>
                    <a:pt x="428" y="158"/>
                  </a:lnTo>
                  <a:lnTo>
                    <a:pt x="419" y="171"/>
                  </a:lnTo>
                  <a:lnTo>
                    <a:pt x="406" y="185"/>
                  </a:lnTo>
                  <a:lnTo>
                    <a:pt x="393" y="189"/>
                  </a:lnTo>
                  <a:lnTo>
                    <a:pt x="428" y="189"/>
                  </a:lnTo>
                  <a:lnTo>
                    <a:pt x="446" y="189"/>
                  </a:lnTo>
                  <a:lnTo>
                    <a:pt x="455" y="194"/>
                  </a:lnTo>
                  <a:lnTo>
                    <a:pt x="472" y="185"/>
                  </a:lnTo>
                  <a:lnTo>
                    <a:pt x="477" y="202"/>
                  </a:lnTo>
                  <a:lnTo>
                    <a:pt x="662" y="202"/>
                  </a:lnTo>
                  <a:lnTo>
                    <a:pt x="671" y="189"/>
                  </a:lnTo>
                  <a:lnTo>
                    <a:pt x="688" y="176"/>
                  </a:lnTo>
                  <a:lnTo>
                    <a:pt x="697" y="158"/>
                  </a:lnTo>
                  <a:lnTo>
                    <a:pt x="715" y="141"/>
                  </a:lnTo>
                  <a:lnTo>
                    <a:pt x="719" y="123"/>
                  </a:lnTo>
                  <a:lnTo>
                    <a:pt x="728" y="105"/>
                  </a:lnTo>
                  <a:lnTo>
                    <a:pt x="741" y="97"/>
                  </a:lnTo>
                  <a:lnTo>
                    <a:pt x="746" y="88"/>
                  </a:lnTo>
                  <a:lnTo>
                    <a:pt x="759" y="92"/>
                  </a:lnTo>
                  <a:lnTo>
                    <a:pt x="772" y="83"/>
                  </a:lnTo>
                  <a:lnTo>
                    <a:pt x="777" y="92"/>
                  </a:lnTo>
                  <a:lnTo>
                    <a:pt x="790" y="97"/>
                  </a:lnTo>
                  <a:lnTo>
                    <a:pt x="807" y="101"/>
                  </a:lnTo>
                  <a:lnTo>
                    <a:pt x="821" y="105"/>
                  </a:lnTo>
                  <a:lnTo>
                    <a:pt x="830" y="97"/>
                  </a:lnTo>
                  <a:lnTo>
                    <a:pt x="843" y="105"/>
                  </a:lnTo>
                  <a:lnTo>
                    <a:pt x="852" y="119"/>
                  </a:lnTo>
                  <a:lnTo>
                    <a:pt x="865" y="123"/>
                  </a:lnTo>
                  <a:lnTo>
                    <a:pt x="874" y="136"/>
                  </a:lnTo>
                  <a:lnTo>
                    <a:pt x="865" y="145"/>
                  </a:lnTo>
                  <a:lnTo>
                    <a:pt x="843" y="141"/>
                  </a:lnTo>
                  <a:lnTo>
                    <a:pt x="830" y="136"/>
                  </a:lnTo>
                  <a:lnTo>
                    <a:pt x="825" y="145"/>
                  </a:lnTo>
                  <a:lnTo>
                    <a:pt x="847" y="145"/>
                  </a:lnTo>
                  <a:lnTo>
                    <a:pt x="865" y="158"/>
                  </a:lnTo>
                  <a:lnTo>
                    <a:pt x="891" y="154"/>
                  </a:lnTo>
                  <a:lnTo>
                    <a:pt x="896" y="132"/>
                  </a:lnTo>
                  <a:lnTo>
                    <a:pt x="909" y="114"/>
                  </a:lnTo>
                  <a:lnTo>
                    <a:pt x="918" y="119"/>
                  </a:lnTo>
                  <a:lnTo>
                    <a:pt x="918" y="127"/>
                  </a:lnTo>
                  <a:lnTo>
                    <a:pt x="909" y="136"/>
                  </a:lnTo>
                  <a:lnTo>
                    <a:pt x="909" y="145"/>
                  </a:lnTo>
                  <a:lnTo>
                    <a:pt x="927" y="136"/>
                  </a:lnTo>
                  <a:lnTo>
                    <a:pt x="935" y="123"/>
                  </a:lnTo>
                  <a:lnTo>
                    <a:pt x="962" y="119"/>
                  </a:lnTo>
                  <a:lnTo>
                    <a:pt x="988" y="110"/>
                  </a:lnTo>
                  <a:lnTo>
                    <a:pt x="1010" y="97"/>
                  </a:lnTo>
                  <a:lnTo>
                    <a:pt x="1015" y="88"/>
                  </a:lnTo>
                  <a:lnTo>
                    <a:pt x="997" y="88"/>
                  </a:lnTo>
                  <a:lnTo>
                    <a:pt x="979" y="74"/>
                  </a:lnTo>
                  <a:lnTo>
                    <a:pt x="971" y="57"/>
                  </a:lnTo>
                  <a:lnTo>
                    <a:pt x="979" y="35"/>
                  </a:lnTo>
                  <a:lnTo>
                    <a:pt x="1002" y="22"/>
                  </a:lnTo>
                  <a:lnTo>
                    <a:pt x="1015" y="8"/>
                  </a:lnTo>
                  <a:lnTo>
                    <a:pt x="1037" y="8"/>
                  </a:lnTo>
                  <a:lnTo>
                    <a:pt x="1054" y="0"/>
                  </a:lnTo>
                  <a:lnTo>
                    <a:pt x="1050" y="8"/>
                  </a:lnTo>
                  <a:lnTo>
                    <a:pt x="1037" y="13"/>
                  </a:lnTo>
                  <a:lnTo>
                    <a:pt x="1032" y="17"/>
                  </a:lnTo>
                  <a:lnTo>
                    <a:pt x="1019" y="17"/>
                  </a:lnTo>
                  <a:lnTo>
                    <a:pt x="1010" y="30"/>
                  </a:lnTo>
                  <a:lnTo>
                    <a:pt x="1002" y="44"/>
                  </a:lnTo>
                  <a:lnTo>
                    <a:pt x="997" y="57"/>
                  </a:lnTo>
                  <a:lnTo>
                    <a:pt x="1015" y="83"/>
                  </a:lnTo>
                  <a:lnTo>
                    <a:pt x="1037" y="92"/>
                  </a:lnTo>
                  <a:lnTo>
                    <a:pt x="1059" y="101"/>
                  </a:lnTo>
                  <a:lnTo>
                    <a:pt x="1063" y="105"/>
                  </a:lnTo>
                  <a:lnTo>
                    <a:pt x="1073" y="119"/>
                  </a:lnTo>
                  <a:lnTo>
                    <a:pt x="1082" y="114"/>
                  </a:lnTo>
                  <a:lnTo>
                    <a:pt x="1082" y="105"/>
                  </a:lnTo>
                  <a:lnTo>
                    <a:pt x="1077" y="92"/>
                  </a:lnTo>
                  <a:lnTo>
                    <a:pt x="1073" y="83"/>
                  </a:lnTo>
                  <a:lnTo>
                    <a:pt x="1068" y="74"/>
                  </a:lnTo>
                  <a:lnTo>
                    <a:pt x="1073" y="57"/>
                  </a:lnTo>
                  <a:lnTo>
                    <a:pt x="1091" y="57"/>
                  </a:lnTo>
                  <a:lnTo>
                    <a:pt x="1104" y="57"/>
                  </a:lnTo>
                  <a:lnTo>
                    <a:pt x="1113" y="66"/>
                  </a:lnTo>
                  <a:lnTo>
                    <a:pt x="1117" y="79"/>
                  </a:lnTo>
                  <a:lnTo>
                    <a:pt x="1122" y="92"/>
                  </a:lnTo>
                  <a:lnTo>
                    <a:pt x="1126" y="79"/>
                  </a:lnTo>
                  <a:lnTo>
                    <a:pt x="1139" y="70"/>
                  </a:lnTo>
                  <a:lnTo>
                    <a:pt x="1152" y="70"/>
                  </a:lnTo>
                  <a:lnTo>
                    <a:pt x="1166" y="70"/>
                  </a:lnTo>
                  <a:lnTo>
                    <a:pt x="1179" y="74"/>
                  </a:lnTo>
                  <a:lnTo>
                    <a:pt x="1179" y="57"/>
                  </a:lnTo>
                  <a:lnTo>
                    <a:pt x="1188" y="57"/>
                  </a:lnTo>
                  <a:lnTo>
                    <a:pt x="1192" y="70"/>
                  </a:lnTo>
                  <a:lnTo>
                    <a:pt x="1210" y="70"/>
                  </a:lnTo>
                  <a:lnTo>
                    <a:pt x="1223" y="61"/>
                  </a:lnTo>
                  <a:lnTo>
                    <a:pt x="1236" y="74"/>
                  </a:lnTo>
                  <a:lnTo>
                    <a:pt x="1254" y="92"/>
                  </a:lnTo>
                  <a:lnTo>
                    <a:pt x="1272" y="92"/>
                  </a:lnTo>
                  <a:lnTo>
                    <a:pt x="1298" y="105"/>
                  </a:lnTo>
                  <a:lnTo>
                    <a:pt x="1307" y="101"/>
                  </a:lnTo>
                  <a:lnTo>
                    <a:pt x="1324" y="136"/>
                  </a:lnTo>
                  <a:lnTo>
                    <a:pt x="1351" y="185"/>
                  </a:lnTo>
                  <a:lnTo>
                    <a:pt x="1373" y="211"/>
                  </a:lnTo>
                  <a:lnTo>
                    <a:pt x="1382" y="242"/>
                  </a:lnTo>
                  <a:lnTo>
                    <a:pt x="1369" y="246"/>
                  </a:lnTo>
                  <a:lnTo>
                    <a:pt x="1360" y="260"/>
                  </a:lnTo>
                  <a:lnTo>
                    <a:pt x="1369" y="286"/>
                  </a:lnTo>
                  <a:lnTo>
                    <a:pt x="1377" y="308"/>
                  </a:lnTo>
                  <a:lnTo>
                    <a:pt x="1386" y="308"/>
                  </a:lnTo>
                  <a:lnTo>
                    <a:pt x="1386" y="291"/>
                  </a:lnTo>
                  <a:lnTo>
                    <a:pt x="1395" y="286"/>
                  </a:lnTo>
                  <a:lnTo>
                    <a:pt x="1399" y="299"/>
                  </a:lnTo>
                  <a:lnTo>
                    <a:pt x="1391" y="308"/>
                  </a:lnTo>
                  <a:lnTo>
                    <a:pt x="1408" y="321"/>
                  </a:lnTo>
                  <a:lnTo>
                    <a:pt x="1395" y="339"/>
                  </a:lnTo>
                  <a:lnTo>
                    <a:pt x="1391" y="352"/>
                  </a:lnTo>
                  <a:lnTo>
                    <a:pt x="1413" y="357"/>
                  </a:lnTo>
                  <a:lnTo>
                    <a:pt x="1404" y="370"/>
                  </a:lnTo>
                  <a:lnTo>
                    <a:pt x="1391" y="374"/>
                  </a:lnTo>
                  <a:lnTo>
                    <a:pt x="1391" y="396"/>
                  </a:lnTo>
                  <a:lnTo>
                    <a:pt x="1404" y="418"/>
                  </a:lnTo>
                  <a:lnTo>
                    <a:pt x="1391" y="423"/>
                  </a:lnTo>
                  <a:lnTo>
                    <a:pt x="1373" y="414"/>
                  </a:lnTo>
                  <a:lnTo>
                    <a:pt x="1377" y="405"/>
                  </a:lnTo>
                  <a:lnTo>
                    <a:pt x="1395" y="405"/>
                  </a:lnTo>
                  <a:lnTo>
                    <a:pt x="1395" y="383"/>
                  </a:lnTo>
                  <a:lnTo>
                    <a:pt x="1377" y="388"/>
                  </a:lnTo>
                  <a:lnTo>
                    <a:pt x="1377" y="370"/>
                  </a:lnTo>
                  <a:lnTo>
                    <a:pt x="1391" y="357"/>
                  </a:lnTo>
                  <a:lnTo>
                    <a:pt x="1395" y="343"/>
                  </a:lnTo>
                  <a:lnTo>
                    <a:pt x="1386" y="326"/>
                  </a:lnTo>
                  <a:lnTo>
                    <a:pt x="1386" y="304"/>
                  </a:lnTo>
                  <a:lnTo>
                    <a:pt x="1373" y="313"/>
                  </a:lnTo>
                  <a:lnTo>
                    <a:pt x="1364" y="330"/>
                  </a:lnTo>
                  <a:lnTo>
                    <a:pt x="1346" y="343"/>
                  </a:lnTo>
                  <a:lnTo>
                    <a:pt x="1351" y="366"/>
                  </a:lnTo>
                  <a:lnTo>
                    <a:pt x="1351" y="383"/>
                  </a:lnTo>
                  <a:lnTo>
                    <a:pt x="1351" y="392"/>
                  </a:lnTo>
                  <a:lnTo>
                    <a:pt x="1360" y="410"/>
                  </a:lnTo>
                  <a:lnTo>
                    <a:pt x="1351" y="414"/>
                  </a:lnTo>
                  <a:lnTo>
                    <a:pt x="1333" y="396"/>
                  </a:lnTo>
                  <a:lnTo>
                    <a:pt x="1324" y="374"/>
                  </a:lnTo>
                  <a:lnTo>
                    <a:pt x="1320" y="361"/>
                  </a:lnTo>
                  <a:lnTo>
                    <a:pt x="1311" y="352"/>
                  </a:lnTo>
                  <a:lnTo>
                    <a:pt x="1298" y="366"/>
                  </a:lnTo>
                  <a:lnTo>
                    <a:pt x="1289" y="379"/>
                  </a:lnTo>
                  <a:lnTo>
                    <a:pt x="1307" y="396"/>
                  </a:lnTo>
                  <a:lnTo>
                    <a:pt x="1316" y="414"/>
                  </a:lnTo>
                  <a:lnTo>
                    <a:pt x="1320" y="436"/>
                  </a:lnTo>
                  <a:lnTo>
                    <a:pt x="1316" y="458"/>
                  </a:lnTo>
                  <a:lnTo>
                    <a:pt x="1316" y="480"/>
                  </a:lnTo>
                  <a:lnTo>
                    <a:pt x="1324" y="463"/>
                  </a:lnTo>
                  <a:lnTo>
                    <a:pt x="1338" y="467"/>
                  </a:lnTo>
                  <a:lnTo>
                    <a:pt x="1346" y="480"/>
                  </a:lnTo>
                  <a:lnTo>
                    <a:pt x="1333" y="493"/>
                  </a:lnTo>
                  <a:lnTo>
                    <a:pt x="1320" y="493"/>
                  </a:lnTo>
                  <a:lnTo>
                    <a:pt x="1320" y="507"/>
                  </a:lnTo>
                  <a:lnTo>
                    <a:pt x="1329" y="515"/>
                  </a:lnTo>
                  <a:lnTo>
                    <a:pt x="1324" y="534"/>
                  </a:lnTo>
                  <a:lnTo>
                    <a:pt x="1338" y="547"/>
                  </a:lnTo>
                  <a:lnTo>
                    <a:pt x="1329" y="556"/>
                  </a:lnTo>
                  <a:lnTo>
                    <a:pt x="1342" y="574"/>
                  </a:lnTo>
                  <a:lnTo>
                    <a:pt x="1333" y="587"/>
                  </a:lnTo>
                  <a:lnTo>
                    <a:pt x="1351" y="578"/>
                  </a:lnTo>
                  <a:lnTo>
                    <a:pt x="1346" y="591"/>
                  </a:lnTo>
                  <a:lnTo>
                    <a:pt x="1373" y="587"/>
                  </a:lnTo>
                  <a:lnTo>
                    <a:pt x="1364" y="605"/>
                  </a:lnTo>
                  <a:lnTo>
                    <a:pt x="1346" y="591"/>
                  </a:lnTo>
                  <a:lnTo>
                    <a:pt x="1342" y="613"/>
                  </a:lnTo>
                  <a:lnTo>
                    <a:pt x="1373" y="609"/>
                  </a:lnTo>
                  <a:lnTo>
                    <a:pt x="1360" y="627"/>
                  </a:lnTo>
                  <a:lnTo>
                    <a:pt x="1338" y="609"/>
                  </a:lnTo>
                  <a:lnTo>
                    <a:pt x="1351" y="640"/>
                  </a:lnTo>
                  <a:lnTo>
                    <a:pt x="1373" y="658"/>
                  </a:lnTo>
                  <a:lnTo>
                    <a:pt x="1351" y="658"/>
                  </a:lnTo>
                  <a:lnTo>
                    <a:pt x="1338" y="613"/>
                  </a:lnTo>
                  <a:lnTo>
                    <a:pt x="1346" y="578"/>
                  </a:lnTo>
                  <a:lnTo>
                    <a:pt x="1329" y="583"/>
                  </a:lnTo>
                  <a:lnTo>
                    <a:pt x="1316" y="565"/>
                  </a:lnTo>
                  <a:lnTo>
                    <a:pt x="1329" y="556"/>
                  </a:lnTo>
                  <a:lnTo>
                    <a:pt x="1329" y="538"/>
                  </a:lnTo>
                  <a:lnTo>
                    <a:pt x="1320" y="498"/>
                  </a:lnTo>
                  <a:lnTo>
                    <a:pt x="1320" y="471"/>
                  </a:lnTo>
                  <a:lnTo>
                    <a:pt x="1316" y="458"/>
                  </a:lnTo>
                  <a:lnTo>
                    <a:pt x="1302" y="480"/>
                  </a:lnTo>
                  <a:lnTo>
                    <a:pt x="1276" y="485"/>
                  </a:lnTo>
                  <a:lnTo>
                    <a:pt x="1263" y="502"/>
                  </a:lnTo>
                  <a:lnTo>
                    <a:pt x="1267" y="520"/>
                  </a:lnTo>
                  <a:lnTo>
                    <a:pt x="1258" y="534"/>
                  </a:lnTo>
                  <a:lnTo>
                    <a:pt x="1245" y="530"/>
                  </a:lnTo>
                  <a:lnTo>
                    <a:pt x="1258" y="511"/>
                  </a:lnTo>
                  <a:lnTo>
                    <a:pt x="1249" y="502"/>
                  </a:lnTo>
                  <a:lnTo>
                    <a:pt x="1232" y="511"/>
                  </a:lnTo>
                  <a:lnTo>
                    <a:pt x="1232" y="530"/>
                  </a:lnTo>
                  <a:lnTo>
                    <a:pt x="1258" y="556"/>
                  </a:lnTo>
                  <a:lnTo>
                    <a:pt x="1263" y="574"/>
                  </a:lnTo>
                  <a:lnTo>
                    <a:pt x="1245" y="596"/>
                  </a:lnTo>
                  <a:lnTo>
                    <a:pt x="1245" y="653"/>
                  </a:lnTo>
                  <a:lnTo>
                    <a:pt x="1245" y="680"/>
                  </a:lnTo>
                  <a:lnTo>
                    <a:pt x="1249" y="693"/>
                  </a:lnTo>
                  <a:lnTo>
                    <a:pt x="1276" y="688"/>
                  </a:lnTo>
                  <a:lnTo>
                    <a:pt x="1294" y="693"/>
                  </a:lnTo>
                  <a:lnTo>
                    <a:pt x="1307" y="671"/>
                  </a:lnTo>
                  <a:lnTo>
                    <a:pt x="1320" y="671"/>
                  </a:lnTo>
                  <a:lnTo>
                    <a:pt x="1316" y="684"/>
                  </a:lnTo>
                  <a:lnTo>
                    <a:pt x="1329" y="702"/>
                  </a:lnTo>
                  <a:lnTo>
                    <a:pt x="1351" y="706"/>
                  </a:lnTo>
                  <a:lnTo>
                    <a:pt x="1346" y="688"/>
                  </a:lnTo>
                  <a:lnTo>
                    <a:pt x="1391" y="688"/>
                  </a:lnTo>
                  <a:lnTo>
                    <a:pt x="1377" y="697"/>
                  </a:lnTo>
                  <a:lnTo>
                    <a:pt x="1373" y="706"/>
                  </a:lnTo>
                  <a:lnTo>
                    <a:pt x="1395" y="715"/>
                  </a:lnTo>
                  <a:lnTo>
                    <a:pt x="1417" y="719"/>
                  </a:lnTo>
                  <a:lnTo>
                    <a:pt x="1426" y="697"/>
                  </a:lnTo>
                  <a:lnTo>
                    <a:pt x="1430" y="684"/>
                  </a:lnTo>
                  <a:lnTo>
                    <a:pt x="1413" y="688"/>
                  </a:lnTo>
                  <a:lnTo>
                    <a:pt x="1399" y="680"/>
                  </a:lnTo>
                  <a:lnTo>
                    <a:pt x="1391" y="675"/>
                  </a:lnTo>
                  <a:lnTo>
                    <a:pt x="1386" y="693"/>
                  </a:lnTo>
                  <a:lnTo>
                    <a:pt x="1342" y="693"/>
                  </a:lnTo>
                  <a:lnTo>
                    <a:pt x="1333" y="671"/>
                  </a:lnTo>
                  <a:lnTo>
                    <a:pt x="1320" y="671"/>
                  </a:lnTo>
                  <a:lnTo>
                    <a:pt x="1307" y="671"/>
                  </a:lnTo>
                  <a:lnTo>
                    <a:pt x="1302" y="644"/>
                  </a:lnTo>
                  <a:lnTo>
                    <a:pt x="1294" y="636"/>
                  </a:lnTo>
                  <a:lnTo>
                    <a:pt x="1307" y="627"/>
                  </a:lnTo>
                  <a:lnTo>
                    <a:pt x="1307" y="613"/>
                  </a:lnTo>
                  <a:lnTo>
                    <a:pt x="1289" y="622"/>
                  </a:lnTo>
                  <a:lnTo>
                    <a:pt x="1272" y="631"/>
                  </a:lnTo>
                  <a:lnTo>
                    <a:pt x="1263" y="649"/>
                  </a:lnTo>
                  <a:lnTo>
                    <a:pt x="1245" y="649"/>
                  </a:lnTo>
                  <a:lnTo>
                    <a:pt x="1245" y="605"/>
                  </a:lnTo>
                  <a:lnTo>
                    <a:pt x="1236" y="613"/>
                  </a:lnTo>
                  <a:lnTo>
                    <a:pt x="1223" y="596"/>
                  </a:lnTo>
                  <a:lnTo>
                    <a:pt x="1210" y="574"/>
                  </a:lnTo>
                  <a:lnTo>
                    <a:pt x="1188" y="583"/>
                  </a:lnTo>
                  <a:lnTo>
                    <a:pt x="1188" y="600"/>
                  </a:lnTo>
                  <a:lnTo>
                    <a:pt x="1197" y="622"/>
                  </a:lnTo>
                  <a:lnTo>
                    <a:pt x="1197" y="644"/>
                  </a:lnTo>
                  <a:lnTo>
                    <a:pt x="1210" y="662"/>
                  </a:lnTo>
                  <a:lnTo>
                    <a:pt x="1219" y="671"/>
                  </a:lnTo>
                  <a:lnTo>
                    <a:pt x="1201" y="671"/>
                  </a:lnTo>
                  <a:lnTo>
                    <a:pt x="1192" y="662"/>
                  </a:lnTo>
                  <a:lnTo>
                    <a:pt x="1183" y="675"/>
                  </a:lnTo>
                  <a:lnTo>
                    <a:pt x="1205" y="702"/>
                  </a:lnTo>
                  <a:lnTo>
                    <a:pt x="1223" y="719"/>
                  </a:lnTo>
                  <a:lnTo>
                    <a:pt x="1236" y="715"/>
                  </a:lnTo>
                  <a:lnTo>
                    <a:pt x="1258" y="724"/>
                  </a:lnTo>
                  <a:lnTo>
                    <a:pt x="1280" y="724"/>
                  </a:lnTo>
                  <a:lnTo>
                    <a:pt x="1302" y="719"/>
                  </a:lnTo>
                  <a:lnTo>
                    <a:pt x="1320" y="728"/>
                  </a:lnTo>
                  <a:lnTo>
                    <a:pt x="1316" y="733"/>
                  </a:lnTo>
                  <a:lnTo>
                    <a:pt x="1294" y="724"/>
                  </a:lnTo>
                  <a:lnTo>
                    <a:pt x="1294" y="763"/>
                  </a:lnTo>
                  <a:lnTo>
                    <a:pt x="1311" y="763"/>
                  </a:lnTo>
                  <a:lnTo>
                    <a:pt x="1320" y="759"/>
                  </a:lnTo>
                  <a:lnTo>
                    <a:pt x="1320" y="750"/>
                  </a:lnTo>
                  <a:lnTo>
                    <a:pt x="1338" y="750"/>
                  </a:lnTo>
                  <a:lnTo>
                    <a:pt x="1360" y="741"/>
                  </a:lnTo>
                  <a:lnTo>
                    <a:pt x="1360" y="755"/>
                  </a:lnTo>
                  <a:lnTo>
                    <a:pt x="1369" y="768"/>
                  </a:lnTo>
                  <a:lnTo>
                    <a:pt x="1377" y="777"/>
                  </a:lnTo>
                  <a:lnTo>
                    <a:pt x="1391" y="768"/>
                  </a:lnTo>
                  <a:lnTo>
                    <a:pt x="1391" y="750"/>
                  </a:lnTo>
                  <a:lnTo>
                    <a:pt x="1391" y="737"/>
                  </a:lnTo>
                  <a:lnTo>
                    <a:pt x="1399" y="750"/>
                  </a:lnTo>
                  <a:lnTo>
                    <a:pt x="1404" y="772"/>
                  </a:lnTo>
                  <a:lnTo>
                    <a:pt x="1386" y="812"/>
                  </a:lnTo>
                  <a:lnTo>
                    <a:pt x="1369" y="852"/>
                  </a:lnTo>
                  <a:lnTo>
                    <a:pt x="1351" y="887"/>
                  </a:lnTo>
                  <a:lnTo>
                    <a:pt x="1329" y="927"/>
                  </a:lnTo>
                  <a:lnTo>
                    <a:pt x="1316" y="913"/>
                  </a:lnTo>
                  <a:lnTo>
                    <a:pt x="1294" y="922"/>
                  </a:lnTo>
                  <a:lnTo>
                    <a:pt x="1289" y="935"/>
                  </a:lnTo>
                  <a:lnTo>
                    <a:pt x="1272" y="944"/>
                  </a:lnTo>
                  <a:lnTo>
                    <a:pt x="1249" y="949"/>
                  </a:lnTo>
                  <a:lnTo>
                    <a:pt x="1232" y="949"/>
                  </a:lnTo>
                  <a:lnTo>
                    <a:pt x="1236" y="927"/>
                  </a:lnTo>
                  <a:lnTo>
                    <a:pt x="1236" y="909"/>
                  </a:lnTo>
                  <a:lnTo>
                    <a:pt x="1245" y="896"/>
                  </a:lnTo>
                  <a:lnTo>
                    <a:pt x="1245" y="882"/>
                  </a:lnTo>
                  <a:lnTo>
                    <a:pt x="1227" y="869"/>
                  </a:lnTo>
                  <a:lnTo>
                    <a:pt x="1227" y="852"/>
                  </a:lnTo>
                  <a:lnTo>
                    <a:pt x="1232" y="830"/>
                  </a:lnTo>
                  <a:lnTo>
                    <a:pt x="1249" y="807"/>
                  </a:lnTo>
                  <a:lnTo>
                    <a:pt x="1276" y="807"/>
                  </a:lnTo>
                  <a:lnTo>
                    <a:pt x="1280" y="794"/>
                  </a:lnTo>
                  <a:lnTo>
                    <a:pt x="1272" y="772"/>
                  </a:lnTo>
                  <a:lnTo>
                    <a:pt x="1289" y="763"/>
                  </a:lnTo>
                  <a:lnTo>
                    <a:pt x="1294" y="763"/>
                  </a:lnTo>
                  <a:lnTo>
                    <a:pt x="1294" y="728"/>
                  </a:lnTo>
                  <a:lnTo>
                    <a:pt x="1276" y="728"/>
                  </a:lnTo>
                  <a:lnTo>
                    <a:pt x="1258" y="737"/>
                  </a:lnTo>
                  <a:lnTo>
                    <a:pt x="1241" y="728"/>
                  </a:lnTo>
                  <a:lnTo>
                    <a:pt x="1223" y="728"/>
                  </a:lnTo>
                  <a:lnTo>
                    <a:pt x="1197" y="719"/>
                  </a:lnTo>
                  <a:lnTo>
                    <a:pt x="1183" y="702"/>
                  </a:lnTo>
                  <a:lnTo>
                    <a:pt x="1174" y="684"/>
                  </a:lnTo>
                  <a:lnTo>
                    <a:pt x="1161" y="671"/>
                  </a:lnTo>
                  <a:lnTo>
                    <a:pt x="1174" y="666"/>
                  </a:lnTo>
                  <a:lnTo>
                    <a:pt x="1183" y="671"/>
                  </a:lnTo>
                  <a:lnTo>
                    <a:pt x="1192" y="662"/>
                  </a:lnTo>
                  <a:lnTo>
                    <a:pt x="1188" y="640"/>
                  </a:lnTo>
                  <a:lnTo>
                    <a:pt x="1174" y="640"/>
                  </a:lnTo>
                  <a:lnTo>
                    <a:pt x="1166" y="618"/>
                  </a:lnTo>
                  <a:lnTo>
                    <a:pt x="1174" y="596"/>
                  </a:lnTo>
                  <a:lnTo>
                    <a:pt x="1183" y="578"/>
                  </a:lnTo>
                  <a:lnTo>
                    <a:pt x="1179" y="556"/>
                  </a:lnTo>
                  <a:lnTo>
                    <a:pt x="1174" y="556"/>
                  </a:lnTo>
                  <a:lnTo>
                    <a:pt x="1161" y="565"/>
                  </a:lnTo>
                  <a:lnTo>
                    <a:pt x="1161" y="578"/>
                  </a:lnTo>
                  <a:lnTo>
                    <a:pt x="1148" y="556"/>
                  </a:lnTo>
                  <a:lnTo>
                    <a:pt x="1130" y="538"/>
                  </a:lnTo>
                  <a:lnTo>
                    <a:pt x="1117" y="543"/>
                  </a:lnTo>
                  <a:lnTo>
                    <a:pt x="1104" y="565"/>
                  </a:lnTo>
                  <a:lnTo>
                    <a:pt x="1082" y="574"/>
                  </a:lnTo>
                  <a:lnTo>
                    <a:pt x="1082" y="591"/>
                  </a:lnTo>
                  <a:lnTo>
                    <a:pt x="1091" y="605"/>
                  </a:lnTo>
                  <a:lnTo>
                    <a:pt x="1086" y="622"/>
                  </a:lnTo>
                  <a:lnTo>
                    <a:pt x="1073" y="622"/>
                  </a:lnTo>
                  <a:lnTo>
                    <a:pt x="1063" y="600"/>
                  </a:lnTo>
                  <a:lnTo>
                    <a:pt x="1046" y="578"/>
                  </a:lnTo>
                  <a:lnTo>
                    <a:pt x="1028" y="565"/>
                  </a:lnTo>
                  <a:lnTo>
                    <a:pt x="1015" y="538"/>
                  </a:lnTo>
                  <a:lnTo>
                    <a:pt x="1002" y="530"/>
                  </a:lnTo>
                  <a:lnTo>
                    <a:pt x="979" y="530"/>
                  </a:lnTo>
                  <a:lnTo>
                    <a:pt x="962" y="530"/>
                  </a:lnTo>
                  <a:lnTo>
                    <a:pt x="949" y="543"/>
                  </a:lnTo>
                  <a:lnTo>
                    <a:pt x="935" y="525"/>
                  </a:lnTo>
                  <a:lnTo>
                    <a:pt x="922" y="515"/>
                  </a:lnTo>
                  <a:lnTo>
                    <a:pt x="904" y="498"/>
                  </a:lnTo>
                  <a:lnTo>
                    <a:pt x="918" y="525"/>
                  </a:lnTo>
                  <a:lnTo>
                    <a:pt x="935" y="534"/>
                  </a:lnTo>
                  <a:lnTo>
                    <a:pt x="953" y="556"/>
                  </a:lnTo>
                  <a:lnTo>
                    <a:pt x="949" y="574"/>
                  </a:lnTo>
                  <a:lnTo>
                    <a:pt x="931" y="587"/>
                  </a:lnTo>
                  <a:lnTo>
                    <a:pt x="909" y="591"/>
                  </a:lnTo>
                  <a:lnTo>
                    <a:pt x="891" y="596"/>
                  </a:lnTo>
                  <a:lnTo>
                    <a:pt x="878" y="613"/>
                  </a:lnTo>
                  <a:lnTo>
                    <a:pt x="874" y="627"/>
                  </a:lnTo>
                  <a:lnTo>
                    <a:pt x="865" y="605"/>
                  </a:lnTo>
                  <a:lnTo>
                    <a:pt x="856" y="574"/>
                  </a:lnTo>
                  <a:lnTo>
                    <a:pt x="843" y="561"/>
                  </a:lnTo>
                  <a:lnTo>
                    <a:pt x="843" y="543"/>
                  </a:lnTo>
                  <a:lnTo>
                    <a:pt x="830" y="543"/>
                  </a:lnTo>
                  <a:lnTo>
                    <a:pt x="834" y="574"/>
                  </a:lnTo>
                  <a:lnTo>
                    <a:pt x="847" y="596"/>
                  </a:lnTo>
                  <a:lnTo>
                    <a:pt x="847" y="613"/>
                  </a:lnTo>
                  <a:lnTo>
                    <a:pt x="865" y="622"/>
                  </a:lnTo>
                  <a:lnTo>
                    <a:pt x="874" y="640"/>
                  </a:lnTo>
                  <a:lnTo>
                    <a:pt x="891" y="631"/>
                  </a:lnTo>
                  <a:lnTo>
                    <a:pt x="909" y="627"/>
                  </a:lnTo>
                  <a:lnTo>
                    <a:pt x="927" y="622"/>
                  </a:lnTo>
                  <a:lnTo>
                    <a:pt x="918" y="644"/>
                  </a:lnTo>
                  <a:lnTo>
                    <a:pt x="904" y="680"/>
                  </a:lnTo>
                  <a:lnTo>
                    <a:pt x="891" y="697"/>
                  </a:lnTo>
                  <a:lnTo>
                    <a:pt x="874" y="715"/>
                  </a:lnTo>
                  <a:lnTo>
                    <a:pt x="865" y="733"/>
                  </a:lnTo>
                  <a:lnTo>
                    <a:pt x="865" y="768"/>
                  </a:lnTo>
                  <a:lnTo>
                    <a:pt x="860" y="794"/>
                  </a:lnTo>
                  <a:lnTo>
                    <a:pt x="860" y="821"/>
                  </a:lnTo>
                  <a:lnTo>
                    <a:pt x="865" y="843"/>
                  </a:lnTo>
                  <a:lnTo>
                    <a:pt x="865" y="852"/>
                  </a:lnTo>
                  <a:lnTo>
                    <a:pt x="878" y="847"/>
                  </a:lnTo>
                  <a:lnTo>
                    <a:pt x="882" y="830"/>
                  </a:lnTo>
                  <a:lnTo>
                    <a:pt x="900" y="807"/>
                  </a:lnTo>
                  <a:lnTo>
                    <a:pt x="918" y="794"/>
                  </a:lnTo>
                  <a:lnTo>
                    <a:pt x="918" y="816"/>
                  </a:lnTo>
                  <a:lnTo>
                    <a:pt x="918" y="838"/>
                  </a:lnTo>
                  <a:lnTo>
                    <a:pt x="909" y="852"/>
                  </a:lnTo>
                  <a:lnTo>
                    <a:pt x="909" y="860"/>
                  </a:lnTo>
                  <a:lnTo>
                    <a:pt x="904" y="887"/>
                  </a:lnTo>
                  <a:lnTo>
                    <a:pt x="900" y="904"/>
                  </a:lnTo>
                  <a:lnTo>
                    <a:pt x="891" y="909"/>
                  </a:lnTo>
                  <a:lnTo>
                    <a:pt x="878" y="896"/>
                  </a:lnTo>
                  <a:lnTo>
                    <a:pt x="882" y="874"/>
                  </a:lnTo>
                  <a:lnTo>
                    <a:pt x="887" y="865"/>
                  </a:lnTo>
                  <a:lnTo>
                    <a:pt x="878" y="852"/>
                  </a:lnTo>
                  <a:lnTo>
                    <a:pt x="865" y="852"/>
                  </a:lnTo>
                  <a:lnTo>
                    <a:pt x="856" y="869"/>
                  </a:lnTo>
                  <a:lnTo>
                    <a:pt x="834" y="882"/>
                  </a:lnTo>
                  <a:lnTo>
                    <a:pt x="821" y="896"/>
                  </a:lnTo>
                  <a:lnTo>
                    <a:pt x="825" y="913"/>
                  </a:lnTo>
                  <a:lnTo>
                    <a:pt x="821" y="940"/>
                  </a:lnTo>
                  <a:lnTo>
                    <a:pt x="816" y="966"/>
                  </a:lnTo>
                  <a:lnTo>
                    <a:pt x="785" y="997"/>
                  </a:lnTo>
                  <a:lnTo>
                    <a:pt x="772" y="997"/>
                  </a:lnTo>
                  <a:lnTo>
                    <a:pt x="759" y="979"/>
                  </a:lnTo>
                  <a:lnTo>
                    <a:pt x="741" y="966"/>
                  </a:lnTo>
                  <a:lnTo>
                    <a:pt x="733" y="962"/>
                  </a:lnTo>
                  <a:lnTo>
                    <a:pt x="715" y="922"/>
                  </a:lnTo>
                  <a:lnTo>
                    <a:pt x="702" y="904"/>
                  </a:lnTo>
                  <a:lnTo>
                    <a:pt x="688" y="887"/>
                  </a:lnTo>
                  <a:lnTo>
                    <a:pt x="680" y="869"/>
                  </a:lnTo>
                  <a:lnTo>
                    <a:pt x="680" y="843"/>
                  </a:lnTo>
                  <a:lnTo>
                    <a:pt x="666" y="830"/>
                  </a:lnTo>
                  <a:lnTo>
                    <a:pt x="662" y="812"/>
                  </a:lnTo>
                  <a:lnTo>
                    <a:pt x="671" y="790"/>
                  </a:lnTo>
                  <a:lnTo>
                    <a:pt x="671" y="772"/>
                  </a:lnTo>
                  <a:lnTo>
                    <a:pt x="658" y="763"/>
                  </a:lnTo>
                  <a:lnTo>
                    <a:pt x="636" y="759"/>
                  </a:lnTo>
                  <a:lnTo>
                    <a:pt x="618" y="750"/>
                  </a:lnTo>
                  <a:lnTo>
                    <a:pt x="605" y="759"/>
                  </a:lnTo>
                  <a:lnTo>
                    <a:pt x="591" y="763"/>
                  </a:lnTo>
                  <a:lnTo>
                    <a:pt x="578" y="750"/>
                  </a:lnTo>
                  <a:lnTo>
                    <a:pt x="565" y="741"/>
                  </a:lnTo>
                  <a:lnTo>
                    <a:pt x="547" y="737"/>
                  </a:lnTo>
                  <a:lnTo>
                    <a:pt x="530" y="728"/>
                  </a:lnTo>
                  <a:lnTo>
                    <a:pt x="512" y="715"/>
                  </a:lnTo>
                  <a:lnTo>
                    <a:pt x="508" y="684"/>
                  </a:lnTo>
                  <a:lnTo>
                    <a:pt x="508" y="662"/>
                  </a:lnTo>
                  <a:lnTo>
                    <a:pt x="521" y="649"/>
                  </a:lnTo>
                  <a:lnTo>
                    <a:pt x="521" y="636"/>
                  </a:lnTo>
                  <a:lnTo>
                    <a:pt x="516" y="613"/>
                  </a:lnTo>
                  <a:lnTo>
                    <a:pt x="516" y="587"/>
                  </a:lnTo>
                  <a:lnTo>
                    <a:pt x="512" y="565"/>
                  </a:lnTo>
                  <a:lnTo>
                    <a:pt x="530" y="547"/>
                  </a:lnTo>
                  <a:lnTo>
                    <a:pt x="543" y="534"/>
                  </a:lnTo>
                  <a:lnTo>
                    <a:pt x="556" y="534"/>
                  </a:lnTo>
                  <a:lnTo>
                    <a:pt x="552" y="515"/>
                  </a:lnTo>
                  <a:lnTo>
                    <a:pt x="561" y="498"/>
                  </a:lnTo>
                  <a:lnTo>
                    <a:pt x="574" y="489"/>
                  </a:lnTo>
                  <a:lnTo>
                    <a:pt x="591" y="498"/>
                  </a:lnTo>
                  <a:lnTo>
                    <a:pt x="613" y="502"/>
                  </a:lnTo>
                  <a:lnTo>
                    <a:pt x="636" y="498"/>
                  </a:lnTo>
                  <a:lnTo>
                    <a:pt x="658" y="498"/>
                  </a:lnTo>
                  <a:lnTo>
                    <a:pt x="666" y="502"/>
                  </a:lnTo>
                  <a:lnTo>
                    <a:pt x="671" y="520"/>
                  </a:lnTo>
                  <a:lnTo>
                    <a:pt x="688" y="525"/>
                  </a:lnTo>
                  <a:lnTo>
                    <a:pt x="710" y="530"/>
                  </a:lnTo>
                  <a:lnTo>
                    <a:pt x="719" y="530"/>
                  </a:lnTo>
                  <a:lnTo>
                    <a:pt x="728" y="515"/>
                  </a:lnTo>
                  <a:lnTo>
                    <a:pt x="737" y="507"/>
                  </a:lnTo>
                  <a:lnTo>
                    <a:pt x="750" y="511"/>
                  </a:lnTo>
                  <a:lnTo>
                    <a:pt x="772" y="520"/>
                  </a:lnTo>
                  <a:lnTo>
                    <a:pt x="794" y="525"/>
                  </a:lnTo>
                  <a:lnTo>
                    <a:pt x="812" y="525"/>
                  </a:lnTo>
                  <a:lnTo>
                    <a:pt x="830" y="525"/>
                  </a:lnTo>
                  <a:lnTo>
                    <a:pt x="843" y="511"/>
                  </a:lnTo>
                  <a:lnTo>
                    <a:pt x="847" y="493"/>
                  </a:lnTo>
                  <a:lnTo>
                    <a:pt x="856" y="480"/>
                  </a:lnTo>
                  <a:lnTo>
                    <a:pt x="847" y="476"/>
                  </a:lnTo>
                  <a:lnTo>
                    <a:pt x="838" y="463"/>
                  </a:lnTo>
                  <a:lnTo>
                    <a:pt x="830" y="467"/>
                  </a:lnTo>
                  <a:lnTo>
                    <a:pt x="807" y="467"/>
                  </a:lnTo>
                  <a:lnTo>
                    <a:pt x="794" y="463"/>
                  </a:lnTo>
                  <a:lnTo>
                    <a:pt x="790" y="445"/>
                  </a:lnTo>
                  <a:lnTo>
                    <a:pt x="785" y="440"/>
                  </a:lnTo>
                  <a:lnTo>
                    <a:pt x="777" y="445"/>
                  </a:lnTo>
                  <a:lnTo>
                    <a:pt x="781" y="463"/>
                  </a:lnTo>
                  <a:lnTo>
                    <a:pt x="772" y="471"/>
                  </a:lnTo>
                  <a:lnTo>
                    <a:pt x="759" y="471"/>
                  </a:lnTo>
                  <a:lnTo>
                    <a:pt x="750" y="458"/>
                  </a:lnTo>
                  <a:lnTo>
                    <a:pt x="746" y="445"/>
                  </a:lnTo>
                  <a:lnTo>
                    <a:pt x="746" y="423"/>
                  </a:lnTo>
                  <a:lnTo>
                    <a:pt x="737" y="418"/>
                  </a:lnTo>
                  <a:lnTo>
                    <a:pt x="733" y="427"/>
                  </a:lnTo>
                  <a:lnTo>
                    <a:pt x="733" y="445"/>
                  </a:lnTo>
                  <a:lnTo>
                    <a:pt x="741" y="458"/>
                  </a:lnTo>
                  <a:lnTo>
                    <a:pt x="750" y="467"/>
                  </a:lnTo>
                  <a:lnTo>
                    <a:pt x="741" y="485"/>
                  </a:lnTo>
                  <a:lnTo>
                    <a:pt x="728" y="493"/>
                  </a:lnTo>
                  <a:lnTo>
                    <a:pt x="715" y="489"/>
                  </a:lnTo>
                  <a:lnTo>
                    <a:pt x="715" y="502"/>
                  </a:lnTo>
                  <a:lnTo>
                    <a:pt x="702" y="511"/>
                  </a:lnTo>
                  <a:lnTo>
                    <a:pt x="688" y="493"/>
                  </a:lnTo>
                  <a:lnTo>
                    <a:pt x="688" y="480"/>
                  </a:lnTo>
                  <a:lnTo>
                    <a:pt x="706" y="489"/>
                  </a:lnTo>
                  <a:lnTo>
                    <a:pt x="719" y="489"/>
                  </a:lnTo>
                  <a:lnTo>
                    <a:pt x="733" y="480"/>
                  </a:lnTo>
                  <a:lnTo>
                    <a:pt x="728" y="463"/>
                  </a:lnTo>
                  <a:lnTo>
                    <a:pt x="715" y="449"/>
                  </a:lnTo>
                  <a:lnTo>
                    <a:pt x="702" y="440"/>
                  </a:lnTo>
                  <a:lnTo>
                    <a:pt x="688" y="427"/>
                  </a:lnTo>
                  <a:lnTo>
                    <a:pt x="675" y="414"/>
                  </a:lnTo>
                  <a:lnTo>
                    <a:pt x="675" y="427"/>
                  </a:lnTo>
                  <a:lnTo>
                    <a:pt x="684" y="440"/>
                  </a:lnTo>
                  <a:lnTo>
                    <a:pt x="680" y="463"/>
                  </a:lnTo>
                  <a:lnTo>
                    <a:pt x="680" y="480"/>
                  </a:lnTo>
                  <a:lnTo>
                    <a:pt x="666" y="467"/>
                  </a:lnTo>
                  <a:lnTo>
                    <a:pt x="662" y="454"/>
                  </a:lnTo>
                  <a:lnTo>
                    <a:pt x="671" y="445"/>
                  </a:lnTo>
                  <a:lnTo>
                    <a:pt x="666" y="432"/>
                  </a:lnTo>
                  <a:lnTo>
                    <a:pt x="675" y="427"/>
                  </a:lnTo>
                  <a:lnTo>
                    <a:pt x="675" y="414"/>
                  </a:lnTo>
                  <a:lnTo>
                    <a:pt x="662" y="414"/>
                  </a:lnTo>
                  <a:lnTo>
                    <a:pt x="653" y="427"/>
                  </a:lnTo>
                  <a:lnTo>
                    <a:pt x="636" y="427"/>
                  </a:lnTo>
                  <a:lnTo>
                    <a:pt x="618" y="436"/>
                  </a:lnTo>
                  <a:lnTo>
                    <a:pt x="613" y="458"/>
                  </a:lnTo>
                  <a:lnTo>
                    <a:pt x="596" y="467"/>
                  </a:lnTo>
                  <a:lnTo>
                    <a:pt x="578" y="480"/>
                  </a:lnTo>
                  <a:lnTo>
                    <a:pt x="561" y="480"/>
                  </a:lnTo>
                  <a:lnTo>
                    <a:pt x="543" y="476"/>
                  </a:lnTo>
                  <a:lnTo>
                    <a:pt x="530" y="467"/>
                  </a:lnTo>
                  <a:lnTo>
                    <a:pt x="538" y="458"/>
                  </a:lnTo>
                  <a:lnTo>
                    <a:pt x="530" y="440"/>
                  </a:lnTo>
                  <a:lnTo>
                    <a:pt x="543" y="432"/>
                  </a:lnTo>
                  <a:lnTo>
                    <a:pt x="547" y="418"/>
                  </a:lnTo>
                  <a:lnTo>
                    <a:pt x="547" y="401"/>
                  </a:lnTo>
                  <a:lnTo>
                    <a:pt x="561" y="383"/>
                  </a:lnTo>
                  <a:lnTo>
                    <a:pt x="583" y="392"/>
                  </a:lnTo>
                  <a:lnTo>
                    <a:pt x="609" y="396"/>
                  </a:lnTo>
                  <a:lnTo>
                    <a:pt x="618" y="388"/>
                  </a:lnTo>
                  <a:lnTo>
                    <a:pt x="618" y="370"/>
                  </a:lnTo>
                  <a:lnTo>
                    <a:pt x="609" y="357"/>
                  </a:lnTo>
                  <a:lnTo>
                    <a:pt x="587" y="348"/>
                  </a:lnTo>
                  <a:lnTo>
                    <a:pt x="600" y="339"/>
                  </a:lnTo>
                  <a:lnTo>
                    <a:pt x="618" y="330"/>
                  </a:lnTo>
                  <a:lnTo>
                    <a:pt x="622" y="330"/>
                  </a:lnTo>
                  <a:lnTo>
                    <a:pt x="618" y="326"/>
                  </a:lnTo>
                  <a:lnTo>
                    <a:pt x="600" y="330"/>
                  </a:lnTo>
                  <a:lnTo>
                    <a:pt x="583" y="330"/>
                  </a:lnTo>
                  <a:lnTo>
                    <a:pt x="574" y="335"/>
                  </a:lnTo>
                  <a:lnTo>
                    <a:pt x="583" y="321"/>
                  </a:lnTo>
                  <a:lnTo>
                    <a:pt x="583" y="308"/>
                  </a:lnTo>
                  <a:lnTo>
                    <a:pt x="591" y="299"/>
                  </a:lnTo>
                  <a:lnTo>
                    <a:pt x="596" y="286"/>
                  </a:lnTo>
                  <a:lnTo>
                    <a:pt x="587" y="273"/>
                  </a:lnTo>
                  <a:lnTo>
                    <a:pt x="574" y="282"/>
                  </a:lnTo>
                  <a:lnTo>
                    <a:pt x="578" y="295"/>
                  </a:lnTo>
                  <a:lnTo>
                    <a:pt x="574" y="308"/>
                  </a:lnTo>
                  <a:lnTo>
                    <a:pt x="569" y="330"/>
                  </a:lnTo>
                  <a:lnTo>
                    <a:pt x="552" y="326"/>
                  </a:lnTo>
                  <a:lnTo>
                    <a:pt x="547" y="308"/>
                  </a:lnTo>
                  <a:lnTo>
                    <a:pt x="538" y="291"/>
                  </a:lnTo>
                  <a:lnTo>
                    <a:pt x="556" y="286"/>
                  </a:lnTo>
                  <a:lnTo>
                    <a:pt x="561" y="282"/>
                  </a:lnTo>
                  <a:lnTo>
                    <a:pt x="569" y="277"/>
                  </a:lnTo>
                  <a:lnTo>
                    <a:pt x="569" y="268"/>
                  </a:lnTo>
                  <a:lnTo>
                    <a:pt x="565" y="255"/>
                  </a:lnTo>
                  <a:lnTo>
                    <a:pt x="578" y="246"/>
                  </a:lnTo>
                  <a:lnTo>
                    <a:pt x="596" y="242"/>
                  </a:lnTo>
                  <a:lnTo>
                    <a:pt x="605" y="246"/>
                  </a:lnTo>
                  <a:lnTo>
                    <a:pt x="609" y="264"/>
                  </a:lnTo>
                  <a:lnTo>
                    <a:pt x="613" y="282"/>
                  </a:lnTo>
                  <a:lnTo>
                    <a:pt x="622" y="291"/>
                  </a:lnTo>
                  <a:lnTo>
                    <a:pt x="631" y="308"/>
                  </a:lnTo>
                  <a:lnTo>
                    <a:pt x="622" y="321"/>
                  </a:lnTo>
                  <a:lnTo>
                    <a:pt x="618" y="330"/>
                  </a:lnTo>
                  <a:lnTo>
                    <a:pt x="636" y="326"/>
                  </a:lnTo>
                  <a:lnTo>
                    <a:pt x="649" y="317"/>
                  </a:lnTo>
                  <a:lnTo>
                    <a:pt x="658" y="295"/>
                  </a:lnTo>
                  <a:lnTo>
                    <a:pt x="671" y="295"/>
                  </a:lnTo>
                  <a:lnTo>
                    <a:pt x="680" y="291"/>
                  </a:lnTo>
                  <a:lnTo>
                    <a:pt x="680" y="273"/>
                  </a:lnTo>
                  <a:lnTo>
                    <a:pt x="671" y="260"/>
                  </a:lnTo>
                  <a:lnTo>
                    <a:pt x="684" y="260"/>
                  </a:lnTo>
                  <a:lnTo>
                    <a:pt x="702" y="273"/>
                  </a:lnTo>
                  <a:lnTo>
                    <a:pt x="715" y="286"/>
                  </a:lnTo>
                  <a:lnTo>
                    <a:pt x="724" y="286"/>
                  </a:lnTo>
                  <a:lnTo>
                    <a:pt x="746" y="282"/>
                  </a:lnTo>
                  <a:lnTo>
                    <a:pt x="759" y="260"/>
                  </a:lnTo>
                  <a:lnTo>
                    <a:pt x="763" y="246"/>
                  </a:lnTo>
                  <a:lnTo>
                    <a:pt x="790" y="251"/>
                  </a:lnTo>
                  <a:lnTo>
                    <a:pt x="768" y="238"/>
                  </a:lnTo>
                  <a:lnTo>
                    <a:pt x="750" y="242"/>
                  </a:lnTo>
                  <a:lnTo>
                    <a:pt x="746" y="220"/>
                  </a:lnTo>
                  <a:lnTo>
                    <a:pt x="746" y="207"/>
                  </a:lnTo>
                  <a:lnTo>
                    <a:pt x="768" y="198"/>
                  </a:lnTo>
                  <a:lnTo>
                    <a:pt x="772" y="185"/>
                  </a:lnTo>
                  <a:lnTo>
                    <a:pt x="759" y="194"/>
                  </a:lnTo>
                  <a:lnTo>
                    <a:pt x="741" y="202"/>
                  </a:lnTo>
                  <a:lnTo>
                    <a:pt x="724" y="207"/>
                  </a:lnTo>
                  <a:lnTo>
                    <a:pt x="733" y="224"/>
                  </a:lnTo>
                  <a:lnTo>
                    <a:pt x="728" y="242"/>
                  </a:lnTo>
                  <a:lnTo>
                    <a:pt x="728" y="255"/>
                  </a:lnTo>
                  <a:lnTo>
                    <a:pt x="715" y="268"/>
                  </a:lnTo>
                  <a:lnTo>
                    <a:pt x="702" y="273"/>
                  </a:lnTo>
                  <a:lnTo>
                    <a:pt x="688" y="260"/>
                  </a:lnTo>
                  <a:lnTo>
                    <a:pt x="693" y="246"/>
                  </a:lnTo>
                  <a:lnTo>
                    <a:pt x="697" y="238"/>
                  </a:lnTo>
                  <a:lnTo>
                    <a:pt x="680" y="242"/>
                  </a:lnTo>
                  <a:lnTo>
                    <a:pt x="662" y="233"/>
                  </a:lnTo>
                  <a:lnTo>
                    <a:pt x="658" y="224"/>
                  </a:lnTo>
                  <a:lnTo>
                    <a:pt x="662" y="207"/>
                  </a:lnTo>
                  <a:lnTo>
                    <a:pt x="658" y="202"/>
                  </a:lnTo>
                  <a:lnTo>
                    <a:pt x="662" y="202"/>
                  </a:lnTo>
                  <a:lnTo>
                    <a:pt x="477" y="202"/>
                  </a:lnTo>
                  <a:lnTo>
                    <a:pt x="468" y="211"/>
                  </a:lnTo>
                  <a:lnTo>
                    <a:pt x="450" y="220"/>
                  </a:lnTo>
                  <a:lnTo>
                    <a:pt x="437" y="216"/>
                  </a:lnTo>
                  <a:lnTo>
                    <a:pt x="433" y="202"/>
                  </a:lnTo>
                  <a:lnTo>
                    <a:pt x="433" y="189"/>
                  </a:lnTo>
                  <a:lnTo>
                    <a:pt x="393" y="189"/>
                  </a:lnTo>
                  <a:lnTo>
                    <a:pt x="384" y="189"/>
                  </a:lnTo>
                  <a:lnTo>
                    <a:pt x="371" y="216"/>
                  </a:lnTo>
                  <a:lnTo>
                    <a:pt x="367" y="233"/>
                  </a:lnTo>
                  <a:lnTo>
                    <a:pt x="362" y="246"/>
                  </a:lnTo>
                  <a:lnTo>
                    <a:pt x="339" y="242"/>
                  </a:lnTo>
                  <a:lnTo>
                    <a:pt x="326" y="233"/>
                  </a:lnTo>
                  <a:lnTo>
                    <a:pt x="326" y="207"/>
                  </a:lnTo>
                  <a:lnTo>
                    <a:pt x="317" y="180"/>
                  </a:lnTo>
                  <a:lnTo>
                    <a:pt x="308" y="163"/>
                  </a:lnTo>
                  <a:lnTo>
                    <a:pt x="313" y="154"/>
                  </a:lnTo>
                  <a:lnTo>
                    <a:pt x="299" y="132"/>
                  </a:lnTo>
                  <a:lnTo>
                    <a:pt x="291" y="123"/>
                  </a:lnTo>
                  <a:lnTo>
                    <a:pt x="277" y="132"/>
                  </a:lnTo>
                  <a:lnTo>
                    <a:pt x="260" y="119"/>
                  </a:lnTo>
                  <a:lnTo>
                    <a:pt x="251" y="127"/>
                  </a:lnTo>
                  <a:lnTo>
                    <a:pt x="242" y="136"/>
                  </a:lnTo>
                  <a:lnTo>
                    <a:pt x="220" y="141"/>
                  </a:lnTo>
                  <a:lnTo>
                    <a:pt x="207" y="158"/>
                  </a:lnTo>
                  <a:lnTo>
                    <a:pt x="233" y="163"/>
                  </a:lnTo>
                  <a:lnTo>
                    <a:pt x="255" y="171"/>
                  </a:lnTo>
                  <a:lnTo>
                    <a:pt x="264" y="185"/>
                  </a:lnTo>
                  <a:lnTo>
                    <a:pt x="277" y="202"/>
                  </a:lnTo>
                  <a:lnTo>
                    <a:pt x="282" y="229"/>
                  </a:lnTo>
                  <a:lnTo>
                    <a:pt x="277" y="251"/>
                  </a:lnTo>
                  <a:lnTo>
                    <a:pt x="260" y="260"/>
                  </a:lnTo>
                  <a:lnTo>
                    <a:pt x="246" y="242"/>
                  </a:lnTo>
                  <a:lnTo>
                    <a:pt x="216" y="242"/>
                  </a:lnTo>
                  <a:lnTo>
                    <a:pt x="216" y="229"/>
                  </a:lnTo>
                  <a:lnTo>
                    <a:pt x="242" y="224"/>
                  </a:lnTo>
                  <a:lnTo>
                    <a:pt x="242" y="211"/>
                  </a:lnTo>
                  <a:lnTo>
                    <a:pt x="242" y="202"/>
                  </a:lnTo>
                  <a:lnTo>
                    <a:pt x="233" y="220"/>
                  </a:lnTo>
                  <a:lnTo>
                    <a:pt x="220" y="207"/>
                  </a:lnTo>
                  <a:lnTo>
                    <a:pt x="238" y="194"/>
                  </a:lnTo>
                  <a:lnTo>
                    <a:pt x="246" y="207"/>
                  </a:lnTo>
                  <a:lnTo>
                    <a:pt x="233" y="189"/>
                  </a:lnTo>
                  <a:lnTo>
                    <a:pt x="216" y="189"/>
                  </a:lnTo>
                  <a:lnTo>
                    <a:pt x="202" y="202"/>
                  </a:lnTo>
                  <a:lnTo>
                    <a:pt x="207" y="220"/>
                  </a:lnTo>
                  <a:lnTo>
                    <a:pt x="207" y="238"/>
                  </a:lnTo>
                  <a:lnTo>
                    <a:pt x="202" y="255"/>
                  </a:lnTo>
                  <a:lnTo>
                    <a:pt x="207" y="268"/>
                  </a:lnTo>
                  <a:lnTo>
                    <a:pt x="189" y="255"/>
                  </a:lnTo>
                  <a:lnTo>
                    <a:pt x="185" y="268"/>
                  </a:lnTo>
                  <a:lnTo>
                    <a:pt x="176" y="255"/>
                  </a:lnTo>
                  <a:lnTo>
                    <a:pt x="185" y="242"/>
                  </a:lnTo>
                  <a:lnTo>
                    <a:pt x="171" y="246"/>
                  </a:lnTo>
                  <a:lnTo>
                    <a:pt x="163" y="260"/>
                  </a:lnTo>
                  <a:lnTo>
                    <a:pt x="149" y="273"/>
                  </a:lnTo>
                  <a:lnTo>
                    <a:pt x="149" y="286"/>
                  </a:lnTo>
                  <a:lnTo>
                    <a:pt x="132" y="286"/>
                  </a:lnTo>
                  <a:lnTo>
                    <a:pt x="127" y="291"/>
                  </a:lnTo>
                  <a:lnTo>
                    <a:pt x="132" y="313"/>
                  </a:lnTo>
                  <a:lnTo>
                    <a:pt x="154" y="321"/>
                  </a:lnTo>
                  <a:lnTo>
                    <a:pt x="163" y="330"/>
                  </a:lnTo>
                  <a:lnTo>
                    <a:pt x="158" y="352"/>
                  </a:lnTo>
                  <a:lnTo>
                    <a:pt x="171" y="348"/>
                  </a:lnTo>
                  <a:lnTo>
                    <a:pt x="176" y="330"/>
                  </a:lnTo>
                  <a:lnTo>
                    <a:pt x="194" y="330"/>
                  </a:lnTo>
                  <a:lnTo>
                    <a:pt x="207" y="313"/>
                  </a:lnTo>
                  <a:lnTo>
                    <a:pt x="211" y="295"/>
                  </a:lnTo>
                  <a:lnTo>
                    <a:pt x="207" y="268"/>
                  </a:lnTo>
                  <a:lnTo>
                    <a:pt x="216" y="251"/>
                  </a:lnTo>
                  <a:lnTo>
                    <a:pt x="224" y="238"/>
                  </a:lnTo>
                  <a:lnTo>
                    <a:pt x="242" y="246"/>
                  </a:lnTo>
                  <a:lnTo>
                    <a:pt x="264" y="260"/>
                  </a:lnTo>
                  <a:lnTo>
                    <a:pt x="273" y="268"/>
                  </a:lnTo>
                  <a:lnTo>
                    <a:pt x="282" y="286"/>
                  </a:lnTo>
                  <a:lnTo>
                    <a:pt x="299" y="291"/>
                  </a:lnTo>
                  <a:lnTo>
                    <a:pt x="304" y="313"/>
                  </a:lnTo>
                  <a:lnTo>
                    <a:pt x="304" y="326"/>
                  </a:lnTo>
                  <a:lnTo>
                    <a:pt x="317" y="339"/>
                  </a:lnTo>
                  <a:lnTo>
                    <a:pt x="308" y="352"/>
                  </a:lnTo>
                  <a:lnTo>
                    <a:pt x="291" y="352"/>
                  </a:lnTo>
                  <a:lnTo>
                    <a:pt x="268" y="361"/>
                  </a:lnTo>
                  <a:lnTo>
                    <a:pt x="255" y="374"/>
                  </a:lnTo>
                  <a:lnTo>
                    <a:pt x="233" y="383"/>
                  </a:lnTo>
                  <a:lnTo>
                    <a:pt x="216" y="401"/>
                  </a:lnTo>
                  <a:lnTo>
                    <a:pt x="198" y="414"/>
                  </a:lnTo>
                  <a:lnTo>
                    <a:pt x="194" y="427"/>
                  </a:lnTo>
                  <a:lnTo>
                    <a:pt x="194" y="440"/>
                  </a:lnTo>
                  <a:lnTo>
                    <a:pt x="185" y="449"/>
                  </a:lnTo>
                  <a:lnTo>
                    <a:pt x="185" y="463"/>
                  </a:lnTo>
                  <a:lnTo>
                    <a:pt x="171" y="480"/>
                  </a:lnTo>
                  <a:lnTo>
                    <a:pt x="171" y="498"/>
                  </a:lnTo>
                  <a:lnTo>
                    <a:pt x="180" y="515"/>
                  </a:lnTo>
                  <a:lnTo>
                    <a:pt x="176" y="530"/>
                  </a:lnTo>
                  <a:lnTo>
                    <a:pt x="158" y="520"/>
                  </a:lnTo>
                  <a:lnTo>
                    <a:pt x="158" y="498"/>
                  </a:lnTo>
                  <a:lnTo>
                    <a:pt x="141" y="489"/>
                  </a:lnTo>
                  <a:lnTo>
                    <a:pt x="132" y="493"/>
                  </a:lnTo>
                  <a:lnTo>
                    <a:pt x="123" y="507"/>
                  </a:lnTo>
                  <a:lnTo>
                    <a:pt x="110" y="498"/>
                  </a:lnTo>
                  <a:lnTo>
                    <a:pt x="97" y="498"/>
                  </a:lnTo>
                  <a:lnTo>
                    <a:pt x="79" y="511"/>
                  </a:lnTo>
                  <a:lnTo>
                    <a:pt x="74" y="530"/>
                  </a:lnTo>
                  <a:lnTo>
                    <a:pt x="70" y="543"/>
                  </a:lnTo>
                  <a:lnTo>
                    <a:pt x="66" y="565"/>
                  </a:lnTo>
                  <a:lnTo>
                    <a:pt x="79" y="578"/>
                  </a:lnTo>
                  <a:lnTo>
                    <a:pt x="92" y="569"/>
                  </a:lnTo>
                  <a:lnTo>
                    <a:pt x="110" y="569"/>
                  </a:lnTo>
                  <a:lnTo>
                    <a:pt x="110" y="587"/>
                  </a:lnTo>
                  <a:lnTo>
                    <a:pt x="101" y="600"/>
                  </a:lnTo>
                  <a:lnTo>
                    <a:pt x="119" y="600"/>
                  </a:lnTo>
                  <a:lnTo>
                    <a:pt x="127" y="605"/>
                  </a:lnTo>
                  <a:lnTo>
                    <a:pt x="132" y="622"/>
                  </a:lnTo>
                  <a:lnTo>
                    <a:pt x="149" y="631"/>
                  </a:lnTo>
                  <a:lnTo>
                    <a:pt x="163" y="644"/>
                  </a:lnTo>
                  <a:lnTo>
                    <a:pt x="176" y="636"/>
                  </a:lnTo>
                  <a:lnTo>
                    <a:pt x="207" y="644"/>
                  </a:lnTo>
                  <a:lnTo>
                    <a:pt x="229" y="644"/>
                  </a:lnTo>
                  <a:lnTo>
                    <a:pt x="260" y="662"/>
                  </a:lnTo>
                  <a:lnTo>
                    <a:pt x="264" y="680"/>
                  </a:lnTo>
                  <a:lnTo>
                    <a:pt x="282" y="693"/>
                  </a:lnTo>
                  <a:lnTo>
                    <a:pt x="295" y="715"/>
                  </a:lnTo>
                  <a:lnTo>
                    <a:pt x="317" y="728"/>
                  </a:lnTo>
                  <a:lnTo>
                    <a:pt x="335" y="728"/>
                  </a:lnTo>
                  <a:lnTo>
                    <a:pt x="358" y="750"/>
                  </a:lnTo>
                  <a:lnTo>
                    <a:pt x="380" y="750"/>
                  </a:lnTo>
                  <a:lnTo>
                    <a:pt x="384" y="763"/>
                  </a:lnTo>
                  <a:lnTo>
                    <a:pt x="384" y="781"/>
                  </a:lnTo>
                  <a:lnTo>
                    <a:pt x="371" y="794"/>
                  </a:lnTo>
                  <a:lnTo>
                    <a:pt x="367" y="816"/>
                  </a:lnTo>
                  <a:lnTo>
                    <a:pt x="367" y="834"/>
                  </a:lnTo>
                  <a:lnTo>
                    <a:pt x="348" y="856"/>
                  </a:lnTo>
                  <a:lnTo>
                    <a:pt x="330" y="865"/>
                  </a:lnTo>
                  <a:lnTo>
                    <a:pt x="313" y="869"/>
                  </a:lnTo>
                  <a:lnTo>
                    <a:pt x="321" y="882"/>
                  </a:lnTo>
                  <a:lnTo>
                    <a:pt x="304" y="904"/>
                  </a:lnTo>
                  <a:lnTo>
                    <a:pt x="291" y="918"/>
                  </a:lnTo>
                  <a:lnTo>
                    <a:pt x="277" y="927"/>
                  </a:lnTo>
                  <a:lnTo>
                    <a:pt x="260" y="953"/>
                  </a:lnTo>
                  <a:lnTo>
                    <a:pt x="251" y="966"/>
                  </a:lnTo>
                  <a:lnTo>
                    <a:pt x="238" y="975"/>
                  </a:lnTo>
                  <a:lnTo>
                    <a:pt x="224" y="993"/>
                  </a:lnTo>
                  <a:lnTo>
                    <a:pt x="220" y="1006"/>
                  </a:lnTo>
                  <a:lnTo>
                    <a:pt x="211" y="1019"/>
                  </a:lnTo>
                  <a:lnTo>
                    <a:pt x="211" y="1032"/>
                  </a:lnTo>
                  <a:lnTo>
                    <a:pt x="202" y="1046"/>
                  </a:lnTo>
                  <a:lnTo>
                    <a:pt x="194" y="1024"/>
                  </a:lnTo>
                  <a:lnTo>
                    <a:pt x="176" y="1010"/>
                  </a:lnTo>
                  <a:lnTo>
                    <a:pt x="171" y="988"/>
                  </a:lnTo>
                  <a:lnTo>
                    <a:pt x="171" y="966"/>
                  </a:lnTo>
                  <a:lnTo>
                    <a:pt x="171" y="944"/>
                  </a:lnTo>
                  <a:lnTo>
                    <a:pt x="176" y="913"/>
                  </a:lnTo>
                  <a:lnTo>
                    <a:pt x="176" y="882"/>
                  </a:lnTo>
                  <a:lnTo>
                    <a:pt x="176" y="856"/>
                  </a:lnTo>
                  <a:lnTo>
                    <a:pt x="171" y="834"/>
                  </a:lnTo>
                  <a:lnTo>
                    <a:pt x="149" y="816"/>
                  </a:lnTo>
                  <a:lnTo>
                    <a:pt x="132" y="799"/>
                  </a:lnTo>
                  <a:lnTo>
                    <a:pt x="119" y="777"/>
                  </a:lnTo>
                  <a:lnTo>
                    <a:pt x="114" y="750"/>
                  </a:lnTo>
                  <a:lnTo>
                    <a:pt x="123" y="733"/>
                  </a:lnTo>
                  <a:lnTo>
                    <a:pt x="123" y="719"/>
                  </a:lnTo>
                  <a:lnTo>
                    <a:pt x="132" y="693"/>
                  </a:lnTo>
                  <a:lnTo>
                    <a:pt x="145" y="671"/>
                  </a:lnTo>
                  <a:lnTo>
                    <a:pt x="158" y="658"/>
                  </a:lnTo>
                  <a:lnTo>
                    <a:pt x="167" y="644"/>
                  </a:lnTo>
                  <a:lnTo>
                    <a:pt x="149" y="640"/>
                  </a:lnTo>
                  <a:lnTo>
                    <a:pt x="136" y="644"/>
                  </a:lnTo>
                  <a:lnTo>
                    <a:pt x="123" y="640"/>
                  </a:lnTo>
                  <a:lnTo>
                    <a:pt x="105" y="627"/>
                  </a:lnTo>
                  <a:lnTo>
                    <a:pt x="92" y="613"/>
                  </a:lnTo>
                  <a:lnTo>
                    <a:pt x="79" y="596"/>
                  </a:lnTo>
                  <a:lnTo>
                    <a:pt x="74" y="596"/>
                  </a:lnTo>
                  <a:lnTo>
                    <a:pt x="66" y="600"/>
                  </a:lnTo>
                  <a:lnTo>
                    <a:pt x="48" y="591"/>
                  </a:lnTo>
                  <a:lnTo>
                    <a:pt x="35" y="574"/>
                  </a:lnTo>
                  <a:lnTo>
                    <a:pt x="30" y="565"/>
                  </a:lnTo>
                  <a:lnTo>
                    <a:pt x="30" y="543"/>
                  </a:lnTo>
                  <a:lnTo>
                    <a:pt x="30" y="534"/>
                  </a:lnTo>
                  <a:lnTo>
                    <a:pt x="13" y="525"/>
                  </a:lnTo>
                  <a:lnTo>
                    <a:pt x="13" y="530"/>
                  </a:lnTo>
                  <a:lnTo>
                    <a:pt x="22" y="547"/>
                  </a:lnTo>
                  <a:lnTo>
                    <a:pt x="26" y="561"/>
                  </a:lnTo>
                  <a:lnTo>
                    <a:pt x="8" y="552"/>
                  </a:lnTo>
                  <a:lnTo>
                    <a:pt x="4" y="538"/>
                  </a:lnTo>
                  <a:lnTo>
                    <a:pt x="0" y="525"/>
                  </a:lnTo>
                  <a:lnTo>
                    <a:pt x="0" y="498"/>
                  </a:lnTo>
                  <a:lnTo>
                    <a:pt x="0" y="467"/>
                  </a:lnTo>
                  <a:lnTo>
                    <a:pt x="0" y="423"/>
                  </a:lnTo>
                  <a:lnTo>
                    <a:pt x="8" y="361"/>
                  </a:lnTo>
                  <a:lnTo>
                    <a:pt x="30" y="299"/>
                  </a:lnTo>
                  <a:lnTo>
                    <a:pt x="61" y="229"/>
                  </a:lnTo>
                  <a:lnTo>
                    <a:pt x="88" y="176"/>
                  </a:lnTo>
                  <a:lnTo>
                    <a:pt x="123" y="123"/>
                  </a:lnTo>
                  <a:lnTo>
                    <a:pt x="154" y="88"/>
                  </a:lnTo>
                  <a:close/>
                </a:path>
              </a:pathLst>
            </a:custGeom>
            <a:solidFill>
              <a:srgbClr val="315fa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7632720" y="6470640"/>
            <a:ext cx="1215000" cy="152640"/>
            <a:chOff x="7632720" y="6470640"/>
            <a:chExt cx="1215000" cy="152640"/>
          </a:xfrm>
        </p:grpSpPr>
        <p:grpSp>
          <p:nvGrpSpPr>
            <p:cNvPr id="8" name=""/>
            <p:cNvGrpSpPr/>
            <p:nvPr/>
          </p:nvGrpSpPr>
          <p:grpSpPr>
            <a:xfrm>
              <a:off x="8813880" y="6472080"/>
              <a:ext cx="33840" cy="32400"/>
              <a:chOff x="8813880" y="6472080"/>
              <a:chExt cx="33840" cy="32400"/>
            </a:xfrm>
          </p:grpSpPr>
          <p:sp>
            <p:nvSpPr>
              <p:cNvPr id="9" name=""/>
              <p:cNvSpPr/>
              <p:nvPr/>
            </p:nvSpPr>
            <p:spPr>
              <a:xfrm>
                <a:off x="8813880" y="647208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w="76" h="76">
                    <a:moveTo>
                      <a:pt x="37" y="7"/>
                    </a:moveTo>
                    <a:lnTo>
                      <a:pt x="43" y="7"/>
                    </a:lnTo>
                    <a:lnTo>
                      <a:pt x="49" y="8"/>
                    </a:lnTo>
                    <a:lnTo>
                      <a:pt x="54" y="11"/>
                    </a:lnTo>
                    <a:lnTo>
                      <a:pt x="60" y="16"/>
                    </a:lnTo>
                    <a:lnTo>
                      <a:pt x="64" y="21"/>
                    </a:lnTo>
                    <a:lnTo>
                      <a:pt x="67" y="26"/>
                    </a:lnTo>
                    <a:lnTo>
                      <a:pt x="69" y="32"/>
                    </a:lnTo>
                    <a:lnTo>
                      <a:pt x="69" y="38"/>
                    </a:lnTo>
                    <a:lnTo>
                      <a:pt x="69" y="42"/>
                    </a:lnTo>
                    <a:lnTo>
                      <a:pt x="67" y="48"/>
                    </a:lnTo>
                    <a:lnTo>
                      <a:pt x="64" y="54"/>
                    </a:lnTo>
                    <a:lnTo>
                      <a:pt x="60" y="58"/>
                    </a:lnTo>
                    <a:lnTo>
                      <a:pt x="54" y="63"/>
                    </a:lnTo>
                    <a:lnTo>
                      <a:pt x="49" y="66"/>
                    </a:lnTo>
                    <a:lnTo>
                      <a:pt x="43" y="67"/>
                    </a:lnTo>
                    <a:lnTo>
                      <a:pt x="37" y="67"/>
                    </a:lnTo>
                    <a:lnTo>
                      <a:pt x="33" y="67"/>
                    </a:lnTo>
                    <a:lnTo>
                      <a:pt x="27" y="66"/>
                    </a:lnTo>
                    <a:lnTo>
                      <a:pt x="20" y="63"/>
                    </a:lnTo>
                    <a:lnTo>
                      <a:pt x="16" y="58"/>
                    </a:lnTo>
                    <a:lnTo>
                      <a:pt x="12" y="54"/>
                    </a:lnTo>
                    <a:lnTo>
                      <a:pt x="9" y="48"/>
                    </a:lnTo>
                    <a:lnTo>
                      <a:pt x="7" y="42"/>
                    </a:lnTo>
                    <a:lnTo>
                      <a:pt x="7" y="38"/>
                    </a:lnTo>
                    <a:lnTo>
                      <a:pt x="7" y="32"/>
                    </a:lnTo>
                    <a:lnTo>
                      <a:pt x="9" y="26"/>
                    </a:lnTo>
                    <a:lnTo>
                      <a:pt x="12" y="21"/>
                    </a:lnTo>
                    <a:lnTo>
                      <a:pt x="16" y="16"/>
                    </a:lnTo>
                    <a:lnTo>
                      <a:pt x="20" y="11"/>
                    </a:lnTo>
                    <a:lnTo>
                      <a:pt x="27" y="8"/>
                    </a:lnTo>
                    <a:lnTo>
                      <a:pt x="33" y="7"/>
                    </a:lnTo>
                    <a:lnTo>
                      <a:pt x="37" y="7"/>
                    </a:lnTo>
                    <a:lnTo>
                      <a:pt x="37" y="0"/>
                    </a:lnTo>
                    <a:lnTo>
                      <a:pt x="30" y="0"/>
                    </a:lnTo>
                    <a:lnTo>
                      <a:pt x="23" y="2"/>
                    </a:lnTo>
                    <a:lnTo>
                      <a:pt x="16" y="5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1" y="51"/>
                    </a:lnTo>
                    <a:lnTo>
                      <a:pt x="6" y="60"/>
                    </a:lnTo>
                    <a:lnTo>
                      <a:pt x="10" y="64"/>
                    </a:lnTo>
                    <a:lnTo>
                      <a:pt x="16" y="69"/>
                    </a:lnTo>
                    <a:lnTo>
                      <a:pt x="23" y="73"/>
                    </a:lnTo>
                    <a:lnTo>
                      <a:pt x="30" y="75"/>
                    </a:lnTo>
                    <a:lnTo>
                      <a:pt x="37" y="76"/>
                    </a:lnTo>
                    <a:lnTo>
                      <a:pt x="46" y="75"/>
                    </a:lnTo>
                    <a:lnTo>
                      <a:pt x="53" y="73"/>
                    </a:lnTo>
                    <a:lnTo>
                      <a:pt x="60" y="69"/>
                    </a:lnTo>
                    <a:lnTo>
                      <a:pt x="66" y="64"/>
                    </a:lnTo>
                    <a:lnTo>
                      <a:pt x="70" y="60"/>
                    </a:lnTo>
                    <a:lnTo>
                      <a:pt x="75" y="51"/>
                    </a:lnTo>
                    <a:lnTo>
                      <a:pt x="76" y="45"/>
                    </a:lnTo>
                    <a:lnTo>
                      <a:pt x="76" y="38"/>
                    </a:lnTo>
                    <a:lnTo>
                      <a:pt x="76" y="30"/>
                    </a:lnTo>
                    <a:lnTo>
                      <a:pt x="75" y="23"/>
                    </a:lnTo>
                    <a:lnTo>
                      <a:pt x="70" y="16"/>
                    </a:lnTo>
                    <a:lnTo>
                      <a:pt x="66" y="10"/>
                    </a:lnTo>
                    <a:lnTo>
                      <a:pt x="60" y="5"/>
                    </a:lnTo>
                    <a:lnTo>
                      <a:pt x="53" y="2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37" y="7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21800" y="6478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2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9" y="5"/>
                    </a:lnTo>
                    <a:lnTo>
                      <a:pt x="65" y="10"/>
                    </a:lnTo>
                    <a:lnTo>
                      <a:pt x="69" y="17"/>
                    </a:lnTo>
                    <a:lnTo>
                      <a:pt x="69" y="21"/>
                    </a:lnTo>
                    <a:lnTo>
                      <a:pt x="69" y="23"/>
                    </a:lnTo>
                    <a:lnTo>
                      <a:pt x="69" y="28"/>
                    </a:lnTo>
                    <a:lnTo>
                      <a:pt x="65" y="33"/>
                    </a:lnTo>
                    <a:lnTo>
                      <a:pt x="55" y="38"/>
                    </a:lnTo>
                    <a:lnTo>
                      <a:pt x="55" y="41"/>
                    </a:lnTo>
                    <a:lnTo>
                      <a:pt x="51" y="41"/>
                    </a:lnTo>
                    <a:lnTo>
                      <a:pt x="72" y="72"/>
                    </a:lnTo>
                    <a:lnTo>
                      <a:pt x="51" y="72"/>
                    </a:lnTo>
                    <a:lnTo>
                      <a:pt x="31" y="43"/>
                    </a:lnTo>
                    <a:lnTo>
                      <a:pt x="16" y="43"/>
                    </a:lnTo>
                    <a:lnTo>
                      <a:pt x="16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6" y="10"/>
                    </a:lnTo>
                    <a:lnTo>
                      <a:pt x="16" y="31"/>
                    </a:lnTo>
                    <a:lnTo>
                      <a:pt x="31" y="31"/>
                    </a:lnTo>
                    <a:lnTo>
                      <a:pt x="41" y="31"/>
                    </a:lnTo>
                    <a:lnTo>
                      <a:pt x="48" y="28"/>
                    </a:lnTo>
                    <a:lnTo>
                      <a:pt x="48" y="26"/>
                    </a:lnTo>
                    <a:lnTo>
                      <a:pt x="48" y="21"/>
                    </a:lnTo>
                    <a:lnTo>
                      <a:pt x="48" y="15"/>
                    </a:lnTo>
                    <a:lnTo>
                      <a:pt x="41" y="12"/>
                    </a:lnTo>
                    <a:lnTo>
                      <a:pt x="34" y="10"/>
                    </a:lnTo>
                    <a:lnTo>
                      <a:pt x="24" y="10"/>
                    </a:lnTo>
                    <a:lnTo>
                      <a:pt x="1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8066160" y="6470640"/>
              <a:ext cx="219600" cy="152640"/>
            </a:xfrm>
            <a:custGeom>
              <a:avLst/>
              <a:gdLst/>
              <a:ahLst/>
              <a:rect l="0" t="0" r="r" b="b"/>
              <a:pathLst>
                <a:path w="610" h="424">
                  <a:moveTo>
                    <a:pt x="202" y="276"/>
                  </a:moveTo>
                  <a:lnTo>
                    <a:pt x="418" y="276"/>
                  </a:lnTo>
                  <a:lnTo>
                    <a:pt x="304" y="93"/>
                  </a:lnTo>
                  <a:lnTo>
                    <a:pt x="95" y="424"/>
                  </a:lnTo>
                  <a:lnTo>
                    <a:pt x="0" y="424"/>
                  </a:lnTo>
                  <a:lnTo>
                    <a:pt x="255" y="26"/>
                  </a:lnTo>
                  <a:lnTo>
                    <a:pt x="264" y="15"/>
                  </a:lnTo>
                  <a:lnTo>
                    <a:pt x="275" y="7"/>
                  </a:lnTo>
                  <a:lnTo>
                    <a:pt x="290" y="1"/>
                  </a:lnTo>
                  <a:lnTo>
                    <a:pt x="304" y="0"/>
                  </a:lnTo>
                  <a:lnTo>
                    <a:pt x="318" y="1"/>
                  </a:lnTo>
                  <a:lnTo>
                    <a:pt x="333" y="7"/>
                  </a:lnTo>
                  <a:lnTo>
                    <a:pt x="344" y="15"/>
                  </a:lnTo>
                  <a:lnTo>
                    <a:pt x="353" y="25"/>
                  </a:lnTo>
                  <a:lnTo>
                    <a:pt x="355" y="26"/>
                  </a:lnTo>
                  <a:lnTo>
                    <a:pt x="356" y="30"/>
                  </a:lnTo>
                  <a:lnTo>
                    <a:pt x="360" y="34"/>
                  </a:lnTo>
                  <a:lnTo>
                    <a:pt x="364" y="42"/>
                  </a:lnTo>
                  <a:lnTo>
                    <a:pt x="371" y="52"/>
                  </a:lnTo>
                  <a:lnTo>
                    <a:pt x="377" y="61"/>
                  </a:lnTo>
                  <a:lnTo>
                    <a:pt x="385" y="74"/>
                  </a:lnTo>
                  <a:lnTo>
                    <a:pt x="393" y="87"/>
                  </a:lnTo>
                  <a:lnTo>
                    <a:pt x="412" y="117"/>
                  </a:lnTo>
                  <a:lnTo>
                    <a:pt x="434" y="152"/>
                  </a:lnTo>
                  <a:lnTo>
                    <a:pt x="458" y="187"/>
                  </a:lnTo>
                  <a:lnTo>
                    <a:pt x="481" y="226"/>
                  </a:lnTo>
                  <a:lnTo>
                    <a:pt x="505" y="262"/>
                  </a:lnTo>
                  <a:lnTo>
                    <a:pt x="529" y="299"/>
                  </a:lnTo>
                  <a:lnTo>
                    <a:pt x="550" y="332"/>
                  </a:lnTo>
                  <a:lnTo>
                    <a:pt x="570" y="362"/>
                  </a:lnTo>
                  <a:lnTo>
                    <a:pt x="578" y="375"/>
                  </a:lnTo>
                  <a:lnTo>
                    <a:pt x="586" y="387"/>
                  </a:lnTo>
                  <a:lnTo>
                    <a:pt x="593" y="398"/>
                  </a:lnTo>
                  <a:lnTo>
                    <a:pt x="599" y="406"/>
                  </a:lnTo>
                  <a:lnTo>
                    <a:pt x="604" y="414"/>
                  </a:lnTo>
                  <a:lnTo>
                    <a:pt x="607" y="419"/>
                  </a:lnTo>
                  <a:lnTo>
                    <a:pt x="608" y="424"/>
                  </a:lnTo>
                  <a:lnTo>
                    <a:pt x="610" y="424"/>
                  </a:lnTo>
                  <a:lnTo>
                    <a:pt x="515" y="424"/>
                  </a:lnTo>
                  <a:lnTo>
                    <a:pt x="470" y="351"/>
                  </a:lnTo>
                  <a:lnTo>
                    <a:pt x="250" y="351"/>
                  </a:lnTo>
                  <a:lnTo>
                    <a:pt x="202" y="276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66120" y="6472080"/>
              <a:ext cx="163800" cy="151200"/>
            </a:xfrm>
            <a:custGeom>
              <a:avLst/>
              <a:gdLst/>
              <a:ahLst/>
              <a:rect l="0" t="0" r="r" b="b"/>
              <a:pathLst>
                <a:path w="455" h="420">
                  <a:moveTo>
                    <a:pt x="79" y="347"/>
                  </a:moveTo>
                  <a:lnTo>
                    <a:pt x="79" y="0"/>
                  </a:lnTo>
                  <a:lnTo>
                    <a:pt x="0" y="0"/>
                  </a:lnTo>
                  <a:lnTo>
                    <a:pt x="0" y="381"/>
                  </a:lnTo>
                  <a:lnTo>
                    <a:pt x="0" y="389"/>
                  </a:lnTo>
                  <a:lnTo>
                    <a:pt x="1" y="395"/>
                  </a:lnTo>
                  <a:lnTo>
                    <a:pt x="6" y="403"/>
                  </a:lnTo>
                  <a:lnTo>
                    <a:pt x="11" y="409"/>
                  </a:lnTo>
                  <a:lnTo>
                    <a:pt x="17" y="414"/>
                  </a:lnTo>
                  <a:lnTo>
                    <a:pt x="23" y="417"/>
                  </a:lnTo>
                  <a:lnTo>
                    <a:pt x="31" y="420"/>
                  </a:lnTo>
                  <a:lnTo>
                    <a:pt x="41" y="420"/>
                  </a:lnTo>
                  <a:lnTo>
                    <a:pt x="407" y="420"/>
                  </a:lnTo>
                  <a:lnTo>
                    <a:pt x="455" y="347"/>
                  </a:lnTo>
                  <a:lnTo>
                    <a:pt x="79" y="347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888320" y="6472080"/>
              <a:ext cx="176400" cy="151200"/>
            </a:xfrm>
            <a:custGeom>
              <a:avLst/>
              <a:gdLst/>
              <a:ahLst/>
              <a:rect l="0" t="0" r="r" b="b"/>
              <a:pathLst>
                <a:path w="490" h="420">
                  <a:moveTo>
                    <a:pt x="350" y="285"/>
                  </a:moveTo>
                  <a:lnTo>
                    <a:pt x="364" y="283"/>
                  </a:lnTo>
                  <a:lnTo>
                    <a:pt x="379" y="281"/>
                  </a:lnTo>
                  <a:lnTo>
                    <a:pt x="391" y="278"/>
                  </a:lnTo>
                  <a:lnTo>
                    <a:pt x="404" y="273"/>
                  </a:lnTo>
                  <a:lnTo>
                    <a:pt x="416" y="267"/>
                  </a:lnTo>
                  <a:lnTo>
                    <a:pt x="429" y="259"/>
                  </a:lnTo>
                  <a:lnTo>
                    <a:pt x="440" y="251"/>
                  </a:lnTo>
                  <a:lnTo>
                    <a:pt x="449" y="242"/>
                  </a:lnTo>
                  <a:lnTo>
                    <a:pt x="459" y="232"/>
                  </a:lnTo>
                  <a:lnTo>
                    <a:pt x="466" y="221"/>
                  </a:lnTo>
                  <a:lnTo>
                    <a:pt x="473" y="210"/>
                  </a:lnTo>
                  <a:lnTo>
                    <a:pt x="479" y="197"/>
                  </a:lnTo>
                  <a:lnTo>
                    <a:pt x="484" y="185"/>
                  </a:lnTo>
                  <a:lnTo>
                    <a:pt x="487" y="170"/>
                  </a:lnTo>
                  <a:lnTo>
                    <a:pt x="490" y="156"/>
                  </a:lnTo>
                  <a:lnTo>
                    <a:pt x="490" y="142"/>
                  </a:lnTo>
                  <a:lnTo>
                    <a:pt x="490" y="127"/>
                  </a:lnTo>
                  <a:lnTo>
                    <a:pt x="487" y="113"/>
                  </a:lnTo>
                  <a:lnTo>
                    <a:pt x="484" y="99"/>
                  </a:lnTo>
                  <a:lnTo>
                    <a:pt x="479" y="87"/>
                  </a:lnTo>
                  <a:lnTo>
                    <a:pt x="473" y="74"/>
                  </a:lnTo>
                  <a:lnTo>
                    <a:pt x="466" y="61"/>
                  </a:lnTo>
                  <a:lnTo>
                    <a:pt x="459" y="50"/>
                  </a:lnTo>
                  <a:lnTo>
                    <a:pt x="449" y="41"/>
                  </a:lnTo>
                  <a:lnTo>
                    <a:pt x="440" y="31"/>
                  </a:lnTo>
                  <a:lnTo>
                    <a:pt x="429" y="23"/>
                  </a:lnTo>
                  <a:lnTo>
                    <a:pt x="416" y="17"/>
                  </a:lnTo>
                  <a:lnTo>
                    <a:pt x="404" y="11"/>
                  </a:lnTo>
                  <a:lnTo>
                    <a:pt x="391" y="6"/>
                  </a:lnTo>
                  <a:lnTo>
                    <a:pt x="379" y="3"/>
                  </a:lnTo>
                  <a:lnTo>
                    <a:pt x="364" y="0"/>
                  </a:lnTo>
                  <a:lnTo>
                    <a:pt x="350" y="0"/>
                  </a:lnTo>
                  <a:lnTo>
                    <a:pt x="0" y="0"/>
                  </a:lnTo>
                  <a:lnTo>
                    <a:pt x="0" y="420"/>
                  </a:lnTo>
                  <a:lnTo>
                    <a:pt x="80" y="420"/>
                  </a:lnTo>
                  <a:lnTo>
                    <a:pt x="80" y="74"/>
                  </a:lnTo>
                  <a:lnTo>
                    <a:pt x="344" y="74"/>
                  </a:lnTo>
                  <a:lnTo>
                    <a:pt x="358" y="74"/>
                  </a:lnTo>
                  <a:lnTo>
                    <a:pt x="371" y="79"/>
                  </a:lnTo>
                  <a:lnTo>
                    <a:pt x="382" y="85"/>
                  </a:lnTo>
                  <a:lnTo>
                    <a:pt x="393" y="93"/>
                  </a:lnTo>
                  <a:lnTo>
                    <a:pt x="401" y="103"/>
                  </a:lnTo>
                  <a:lnTo>
                    <a:pt x="407" y="116"/>
                  </a:lnTo>
                  <a:lnTo>
                    <a:pt x="410" y="129"/>
                  </a:lnTo>
                  <a:lnTo>
                    <a:pt x="412" y="142"/>
                  </a:lnTo>
                  <a:lnTo>
                    <a:pt x="410" y="156"/>
                  </a:lnTo>
                  <a:lnTo>
                    <a:pt x="407" y="169"/>
                  </a:lnTo>
                  <a:lnTo>
                    <a:pt x="401" y="180"/>
                  </a:lnTo>
                  <a:lnTo>
                    <a:pt x="393" y="191"/>
                  </a:lnTo>
                  <a:lnTo>
                    <a:pt x="382" y="199"/>
                  </a:lnTo>
                  <a:lnTo>
                    <a:pt x="371" y="205"/>
                  </a:lnTo>
                  <a:lnTo>
                    <a:pt x="358" y="208"/>
                  </a:lnTo>
                  <a:lnTo>
                    <a:pt x="344" y="210"/>
                  </a:lnTo>
                  <a:lnTo>
                    <a:pt x="119" y="210"/>
                  </a:lnTo>
                  <a:lnTo>
                    <a:pt x="358" y="420"/>
                  </a:lnTo>
                  <a:lnTo>
                    <a:pt x="474" y="420"/>
                  </a:lnTo>
                  <a:lnTo>
                    <a:pt x="313" y="285"/>
                  </a:lnTo>
                  <a:lnTo>
                    <a:pt x="350" y="285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" name=""/>
            <p:cNvGrpSpPr/>
            <p:nvPr/>
          </p:nvGrpSpPr>
          <p:grpSpPr>
            <a:xfrm>
              <a:off x="7632720" y="6472080"/>
              <a:ext cx="238320" cy="151200"/>
              <a:chOff x="7632720" y="6472080"/>
              <a:chExt cx="238320" cy="151200"/>
            </a:xfrm>
          </p:grpSpPr>
          <p:sp>
            <p:nvSpPr>
              <p:cNvPr id="15" name=""/>
              <p:cNvSpPr/>
              <p:nvPr/>
            </p:nvSpPr>
            <p:spPr>
              <a:xfrm>
                <a:off x="7745400" y="6472080"/>
                <a:ext cx="125640" cy="151200"/>
              </a:xfrm>
              <a:custGeom>
                <a:avLst/>
                <a:gdLst/>
                <a:ahLst/>
                <a:rect l="0" t="0" r="r" b="b"/>
                <a:pathLst>
                  <a:path w="349" h="420">
                    <a:moveTo>
                      <a:pt x="0" y="347"/>
                    </a:moveTo>
                    <a:lnTo>
                      <a:pt x="135" y="347"/>
                    </a:lnTo>
                    <a:lnTo>
                      <a:pt x="149" y="346"/>
                    </a:lnTo>
                    <a:lnTo>
                      <a:pt x="162" y="344"/>
                    </a:lnTo>
                    <a:lnTo>
                      <a:pt x="174" y="341"/>
                    </a:lnTo>
                    <a:lnTo>
                      <a:pt x="188" y="336"/>
                    </a:lnTo>
                    <a:lnTo>
                      <a:pt x="212" y="324"/>
                    </a:lnTo>
                    <a:lnTo>
                      <a:pt x="231" y="307"/>
                    </a:lnTo>
                    <a:lnTo>
                      <a:pt x="248" y="286"/>
                    </a:lnTo>
                    <a:lnTo>
                      <a:pt x="261" y="262"/>
                    </a:lnTo>
                    <a:lnTo>
                      <a:pt x="264" y="251"/>
                    </a:lnTo>
                    <a:lnTo>
                      <a:pt x="268" y="237"/>
                    </a:lnTo>
                    <a:lnTo>
                      <a:pt x="270" y="224"/>
                    </a:lnTo>
                    <a:lnTo>
                      <a:pt x="270" y="210"/>
                    </a:lnTo>
                    <a:lnTo>
                      <a:pt x="270" y="196"/>
                    </a:lnTo>
                    <a:lnTo>
                      <a:pt x="268" y="183"/>
                    </a:lnTo>
                    <a:lnTo>
                      <a:pt x="264" y="170"/>
                    </a:lnTo>
                    <a:lnTo>
                      <a:pt x="261" y="158"/>
                    </a:lnTo>
                    <a:lnTo>
                      <a:pt x="248" y="134"/>
                    </a:lnTo>
                    <a:lnTo>
                      <a:pt x="231" y="115"/>
                    </a:lnTo>
                    <a:lnTo>
                      <a:pt x="212" y="96"/>
                    </a:lnTo>
                    <a:lnTo>
                      <a:pt x="188" y="84"/>
                    </a:lnTo>
                    <a:lnTo>
                      <a:pt x="174" y="79"/>
                    </a:lnTo>
                    <a:lnTo>
                      <a:pt x="162" y="76"/>
                    </a:lnTo>
                    <a:lnTo>
                      <a:pt x="149" y="74"/>
                    </a:lnTo>
                    <a:lnTo>
                      <a:pt x="135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40" y="0"/>
                    </a:lnTo>
                    <a:lnTo>
                      <a:pt x="162" y="1"/>
                    </a:lnTo>
                    <a:lnTo>
                      <a:pt x="183" y="4"/>
                    </a:lnTo>
                    <a:lnTo>
                      <a:pt x="202" y="9"/>
                    </a:lnTo>
                    <a:lnTo>
                      <a:pt x="223" y="15"/>
                    </a:lnTo>
                    <a:lnTo>
                      <a:pt x="240" y="25"/>
                    </a:lnTo>
                    <a:lnTo>
                      <a:pt x="257" y="36"/>
                    </a:lnTo>
                    <a:lnTo>
                      <a:pt x="273" y="47"/>
                    </a:lnTo>
                    <a:lnTo>
                      <a:pt x="289" y="61"/>
                    </a:lnTo>
                    <a:lnTo>
                      <a:pt x="302" y="76"/>
                    </a:lnTo>
                    <a:lnTo>
                      <a:pt x="314" y="92"/>
                    </a:lnTo>
                    <a:lnTo>
                      <a:pt x="324" y="110"/>
                    </a:lnTo>
                    <a:lnTo>
                      <a:pt x="333" y="129"/>
                    </a:lnTo>
                    <a:lnTo>
                      <a:pt x="339" y="148"/>
                    </a:lnTo>
                    <a:lnTo>
                      <a:pt x="346" y="167"/>
                    </a:lnTo>
                    <a:lnTo>
                      <a:pt x="349" y="189"/>
                    </a:lnTo>
                    <a:lnTo>
                      <a:pt x="349" y="210"/>
                    </a:lnTo>
                    <a:lnTo>
                      <a:pt x="349" y="232"/>
                    </a:lnTo>
                    <a:lnTo>
                      <a:pt x="346" y="253"/>
                    </a:lnTo>
                    <a:lnTo>
                      <a:pt x="339" y="272"/>
                    </a:lnTo>
                    <a:lnTo>
                      <a:pt x="333" y="292"/>
                    </a:lnTo>
                    <a:lnTo>
                      <a:pt x="324" y="310"/>
                    </a:lnTo>
                    <a:lnTo>
                      <a:pt x="314" y="328"/>
                    </a:lnTo>
                    <a:lnTo>
                      <a:pt x="302" y="344"/>
                    </a:lnTo>
                    <a:lnTo>
                      <a:pt x="289" y="360"/>
                    </a:lnTo>
                    <a:lnTo>
                      <a:pt x="273" y="373"/>
                    </a:lnTo>
                    <a:lnTo>
                      <a:pt x="257" y="386"/>
                    </a:lnTo>
                    <a:lnTo>
                      <a:pt x="240" y="395"/>
                    </a:lnTo>
                    <a:lnTo>
                      <a:pt x="223" y="405"/>
                    </a:lnTo>
                    <a:lnTo>
                      <a:pt x="202" y="411"/>
                    </a:lnTo>
                    <a:lnTo>
                      <a:pt x="183" y="417"/>
                    </a:lnTo>
                    <a:lnTo>
                      <a:pt x="162" y="420"/>
                    </a:lnTo>
                    <a:lnTo>
                      <a:pt x="140" y="420"/>
                    </a:lnTo>
                    <a:lnTo>
                      <a:pt x="0" y="420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720" y="6472080"/>
                <a:ext cx="127440" cy="151200"/>
              </a:xfrm>
              <a:custGeom>
                <a:avLst/>
                <a:gdLst/>
                <a:ahLst/>
                <a:rect l="0" t="0" r="r" b="b"/>
                <a:pathLst>
                  <a:path w="354" h="420">
                    <a:moveTo>
                      <a:pt x="354" y="420"/>
                    </a:moveTo>
                    <a:lnTo>
                      <a:pt x="213" y="420"/>
                    </a:lnTo>
                    <a:lnTo>
                      <a:pt x="190" y="420"/>
                    </a:lnTo>
                    <a:lnTo>
                      <a:pt x="170" y="417"/>
                    </a:lnTo>
                    <a:lnTo>
                      <a:pt x="149" y="411"/>
                    </a:lnTo>
                    <a:lnTo>
                      <a:pt x="130" y="405"/>
                    </a:lnTo>
                    <a:lnTo>
                      <a:pt x="112" y="395"/>
                    </a:lnTo>
                    <a:lnTo>
                      <a:pt x="95" y="386"/>
                    </a:lnTo>
                    <a:lnTo>
                      <a:pt x="78" y="373"/>
                    </a:lnTo>
                    <a:lnTo>
                      <a:pt x="62" y="360"/>
                    </a:lnTo>
                    <a:lnTo>
                      <a:pt x="49" y="344"/>
                    </a:lnTo>
                    <a:lnTo>
                      <a:pt x="36" y="328"/>
                    </a:lnTo>
                    <a:lnTo>
                      <a:pt x="25" y="310"/>
                    </a:lnTo>
                    <a:lnTo>
                      <a:pt x="17" y="292"/>
                    </a:lnTo>
                    <a:lnTo>
                      <a:pt x="9" y="272"/>
                    </a:lnTo>
                    <a:lnTo>
                      <a:pt x="4" y="253"/>
                    </a:lnTo>
                    <a:lnTo>
                      <a:pt x="1" y="232"/>
                    </a:lnTo>
                    <a:lnTo>
                      <a:pt x="0" y="210"/>
                    </a:lnTo>
                    <a:lnTo>
                      <a:pt x="1" y="189"/>
                    </a:lnTo>
                    <a:lnTo>
                      <a:pt x="4" y="167"/>
                    </a:lnTo>
                    <a:lnTo>
                      <a:pt x="9" y="148"/>
                    </a:lnTo>
                    <a:lnTo>
                      <a:pt x="17" y="129"/>
                    </a:lnTo>
                    <a:lnTo>
                      <a:pt x="25" y="110"/>
                    </a:lnTo>
                    <a:lnTo>
                      <a:pt x="36" y="92"/>
                    </a:lnTo>
                    <a:lnTo>
                      <a:pt x="49" y="76"/>
                    </a:lnTo>
                    <a:lnTo>
                      <a:pt x="62" y="61"/>
                    </a:lnTo>
                    <a:lnTo>
                      <a:pt x="78" y="47"/>
                    </a:lnTo>
                    <a:lnTo>
                      <a:pt x="95" y="36"/>
                    </a:lnTo>
                    <a:lnTo>
                      <a:pt x="112" y="25"/>
                    </a:lnTo>
                    <a:lnTo>
                      <a:pt x="130" y="15"/>
                    </a:lnTo>
                    <a:lnTo>
                      <a:pt x="149" y="9"/>
                    </a:lnTo>
                    <a:lnTo>
                      <a:pt x="170" y="4"/>
                    </a:lnTo>
                    <a:lnTo>
                      <a:pt x="190" y="1"/>
                    </a:lnTo>
                    <a:lnTo>
                      <a:pt x="213" y="0"/>
                    </a:lnTo>
                    <a:lnTo>
                      <a:pt x="354" y="0"/>
                    </a:lnTo>
                    <a:lnTo>
                      <a:pt x="354" y="74"/>
                    </a:lnTo>
                    <a:lnTo>
                      <a:pt x="218" y="74"/>
                    </a:lnTo>
                    <a:lnTo>
                      <a:pt x="203" y="74"/>
                    </a:lnTo>
                    <a:lnTo>
                      <a:pt x="190" y="76"/>
                    </a:lnTo>
                    <a:lnTo>
                      <a:pt x="178" y="79"/>
                    </a:lnTo>
                    <a:lnTo>
                      <a:pt x="165" y="84"/>
                    </a:lnTo>
                    <a:lnTo>
                      <a:pt x="141" y="96"/>
                    </a:lnTo>
                    <a:lnTo>
                      <a:pt x="122" y="115"/>
                    </a:lnTo>
                    <a:lnTo>
                      <a:pt x="104" y="134"/>
                    </a:lnTo>
                    <a:lnTo>
                      <a:pt x="91" y="158"/>
                    </a:lnTo>
                    <a:lnTo>
                      <a:pt x="86" y="170"/>
                    </a:lnTo>
                    <a:lnTo>
                      <a:pt x="83" y="183"/>
                    </a:lnTo>
                    <a:lnTo>
                      <a:pt x="81" y="196"/>
                    </a:lnTo>
                    <a:lnTo>
                      <a:pt x="81" y="210"/>
                    </a:lnTo>
                    <a:lnTo>
                      <a:pt x="81" y="224"/>
                    </a:lnTo>
                    <a:lnTo>
                      <a:pt x="83" y="237"/>
                    </a:lnTo>
                    <a:lnTo>
                      <a:pt x="86" y="251"/>
                    </a:lnTo>
                    <a:lnTo>
                      <a:pt x="91" y="262"/>
                    </a:lnTo>
                    <a:lnTo>
                      <a:pt x="104" y="286"/>
                    </a:lnTo>
                    <a:lnTo>
                      <a:pt x="122" y="307"/>
                    </a:lnTo>
                    <a:lnTo>
                      <a:pt x="141" y="324"/>
                    </a:lnTo>
                    <a:lnTo>
                      <a:pt x="165" y="336"/>
                    </a:lnTo>
                    <a:lnTo>
                      <a:pt x="178" y="341"/>
                    </a:lnTo>
                    <a:lnTo>
                      <a:pt x="190" y="344"/>
                    </a:lnTo>
                    <a:lnTo>
                      <a:pt x="203" y="346"/>
                    </a:lnTo>
                    <a:lnTo>
                      <a:pt x="218" y="347"/>
                    </a:lnTo>
                    <a:lnTo>
                      <a:pt x="354" y="347"/>
                    </a:lnTo>
                    <a:lnTo>
                      <a:pt x="354" y="420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>
              <a:off x="8271000" y="6472080"/>
              <a:ext cx="182880" cy="151200"/>
            </a:xfrm>
            <a:custGeom>
              <a:avLst/>
              <a:gdLst/>
              <a:ahLst/>
              <a:rect l="0" t="0" r="r" b="b"/>
              <a:pathLst>
                <a:path w="508" h="420">
                  <a:moveTo>
                    <a:pt x="210" y="420"/>
                  </a:moveTo>
                  <a:lnTo>
                    <a:pt x="188" y="420"/>
                  </a:lnTo>
                  <a:lnTo>
                    <a:pt x="167" y="417"/>
                  </a:lnTo>
                  <a:lnTo>
                    <a:pt x="146" y="411"/>
                  </a:lnTo>
                  <a:lnTo>
                    <a:pt x="127" y="405"/>
                  </a:lnTo>
                  <a:lnTo>
                    <a:pt x="110" y="395"/>
                  </a:lnTo>
                  <a:lnTo>
                    <a:pt x="92" y="386"/>
                  </a:lnTo>
                  <a:lnTo>
                    <a:pt x="76" y="373"/>
                  </a:lnTo>
                  <a:lnTo>
                    <a:pt x="60" y="360"/>
                  </a:lnTo>
                  <a:lnTo>
                    <a:pt x="47" y="344"/>
                  </a:lnTo>
                  <a:lnTo>
                    <a:pt x="35" y="328"/>
                  </a:lnTo>
                  <a:lnTo>
                    <a:pt x="25" y="310"/>
                  </a:lnTo>
                  <a:lnTo>
                    <a:pt x="15" y="292"/>
                  </a:lnTo>
                  <a:lnTo>
                    <a:pt x="9" y="272"/>
                  </a:lnTo>
                  <a:lnTo>
                    <a:pt x="3" y="253"/>
                  </a:lnTo>
                  <a:lnTo>
                    <a:pt x="0" y="232"/>
                  </a:lnTo>
                  <a:lnTo>
                    <a:pt x="0" y="210"/>
                  </a:lnTo>
                  <a:lnTo>
                    <a:pt x="0" y="189"/>
                  </a:lnTo>
                  <a:lnTo>
                    <a:pt x="3" y="167"/>
                  </a:lnTo>
                  <a:lnTo>
                    <a:pt x="9" y="148"/>
                  </a:lnTo>
                  <a:lnTo>
                    <a:pt x="15" y="129"/>
                  </a:lnTo>
                  <a:lnTo>
                    <a:pt x="25" y="110"/>
                  </a:lnTo>
                  <a:lnTo>
                    <a:pt x="35" y="92"/>
                  </a:lnTo>
                  <a:lnTo>
                    <a:pt x="47" y="76"/>
                  </a:lnTo>
                  <a:lnTo>
                    <a:pt x="60" y="61"/>
                  </a:lnTo>
                  <a:lnTo>
                    <a:pt x="76" y="47"/>
                  </a:lnTo>
                  <a:lnTo>
                    <a:pt x="92" y="36"/>
                  </a:lnTo>
                  <a:lnTo>
                    <a:pt x="110" y="25"/>
                  </a:lnTo>
                  <a:lnTo>
                    <a:pt x="127" y="15"/>
                  </a:lnTo>
                  <a:lnTo>
                    <a:pt x="146" y="9"/>
                  </a:lnTo>
                  <a:lnTo>
                    <a:pt x="167" y="4"/>
                  </a:lnTo>
                  <a:lnTo>
                    <a:pt x="188" y="1"/>
                  </a:lnTo>
                  <a:lnTo>
                    <a:pt x="210" y="0"/>
                  </a:lnTo>
                  <a:lnTo>
                    <a:pt x="501" y="0"/>
                  </a:lnTo>
                  <a:lnTo>
                    <a:pt x="453" y="74"/>
                  </a:lnTo>
                  <a:lnTo>
                    <a:pt x="215" y="74"/>
                  </a:lnTo>
                  <a:lnTo>
                    <a:pt x="200" y="74"/>
                  </a:lnTo>
                  <a:lnTo>
                    <a:pt x="188" y="76"/>
                  </a:lnTo>
                  <a:lnTo>
                    <a:pt x="175" y="79"/>
                  </a:lnTo>
                  <a:lnTo>
                    <a:pt x="162" y="84"/>
                  </a:lnTo>
                  <a:lnTo>
                    <a:pt x="138" y="96"/>
                  </a:lnTo>
                  <a:lnTo>
                    <a:pt x="119" y="115"/>
                  </a:lnTo>
                  <a:lnTo>
                    <a:pt x="102" y="134"/>
                  </a:lnTo>
                  <a:lnTo>
                    <a:pt x="89" y="158"/>
                  </a:lnTo>
                  <a:lnTo>
                    <a:pt x="84" y="170"/>
                  </a:lnTo>
                  <a:lnTo>
                    <a:pt x="81" y="183"/>
                  </a:lnTo>
                  <a:lnTo>
                    <a:pt x="79" y="196"/>
                  </a:lnTo>
                  <a:lnTo>
                    <a:pt x="79" y="210"/>
                  </a:lnTo>
                  <a:lnTo>
                    <a:pt x="79" y="224"/>
                  </a:lnTo>
                  <a:lnTo>
                    <a:pt x="81" y="237"/>
                  </a:lnTo>
                  <a:lnTo>
                    <a:pt x="84" y="251"/>
                  </a:lnTo>
                  <a:lnTo>
                    <a:pt x="89" y="262"/>
                  </a:lnTo>
                  <a:lnTo>
                    <a:pt x="102" y="286"/>
                  </a:lnTo>
                  <a:lnTo>
                    <a:pt x="119" y="307"/>
                  </a:lnTo>
                  <a:lnTo>
                    <a:pt x="138" y="324"/>
                  </a:lnTo>
                  <a:lnTo>
                    <a:pt x="162" y="336"/>
                  </a:lnTo>
                  <a:lnTo>
                    <a:pt x="175" y="341"/>
                  </a:lnTo>
                  <a:lnTo>
                    <a:pt x="188" y="344"/>
                  </a:lnTo>
                  <a:lnTo>
                    <a:pt x="200" y="346"/>
                  </a:lnTo>
                  <a:lnTo>
                    <a:pt x="215" y="347"/>
                  </a:lnTo>
                  <a:lnTo>
                    <a:pt x="508" y="347"/>
                  </a:lnTo>
                  <a:lnTo>
                    <a:pt x="461" y="420"/>
                  </a:lnTo>
                  <a:lnTo>
                    <a:pt x="210" y="420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23440" y="6472080"/>
              <a:ext cx="184680" cy="151200"/>
            </a:xfrm>
            <a:custGeom>
              <a:avLst/>
              <a:gdLst/>
              <a:ahLst/>
              <a:rect l="0" t="0" r="r" b="b"/>
              <a:pathLst>
                <a:path w="513" h="420">
                  <a:moveTo>
                    <a:pt x="217" y="347"/>
                  </a:moveTo>
                  <a:lnTo>
                    <a:pt x="195" y="344"/>
                  </a:lnTo>
                  <a:lnTo>
                    <a:pt x="172" y="339"/>
                  </a:lnTo>
                  <a:lnTo>
                    <a:pt x="153" y="330"/>
                  </a:lnTo>
                  <a:lnTo>
                    <a:pt x="134" y="319"/>
                  </a:lnTo>
                  <a:lnTo>
                    <a:pt x="117" y="304"/>
                  </a:lnTo>
                  <a:lnTo>
                    <a:pt x="104" y="286"/>
                  </a:lnTo>
                  <a:lnTo>
                    <a:pt x="93" y="267"/>
                  </a:lnTo>
                  <a:lnTo>
                    <a:pt x="84" y="246"/>
                  </a:lnTo>
                  <a:lnTo>
                    <a:pt x="434" y="246"/>
                  </a:lnTo>
                  <a:lnTo>
                    <a:pt x="483" y="173"/>
                  </a:lnTo>
                  <a:lnTo>
                    <a:pt x="84" y="173"/>
                  </a:lnTo>
                  <a:lnTo>
                    <a:pt x="93" y="153"/>
                  </a:lnTo>
                  <a:lnTo>
                    <a:pt x="104" y="134"/>
                  </a:lnTo>
                  <a:lnTo>
                    <a:pt x="117" y="116"/>
                  </a:lnTo>
                  <a:lnTo>
                    <a:pt x="134" y="101"/>
                  </a:lnTo>
                  <a:lnTo>
                    <a:pt x="153" y="90"/>
                  </a:lnTo>
                  <a:lnTo>
                    <a:pt x="172" y="80"/>
                  </a:lnTo>
                  <a:lnTo>
                    <a:pt x="195" y="76"/>
                  </a:lnTo>
                  <a:lnTo>
                    <a:pt x="217" y="74"/>
                  </a:lnTo>
                  <a:lnTo>
                    <a:pt x="459" y="74"/>
                  </a:lnTo>
                  <a:lnTo>
                    <a:pt x="505" y="0"/>
                  </a:lnTo>
                  <a:lnTo>
                    <a:pt x="212" y="0"/>
                  </a:lnTo>
                  <a:lnTo>
                    <a:pt x="190" y="1"/>
                  </a:lnTo>
                  <a:lnTo>
                    <a:pt x="169" y="4"/>
                  </a:lnTo>
                  <a:lnTo>
                    <a:pt x="150" y="9"/>
                  </a:lnTo>
                  <a:lnTo>
                    <a:pt x="129" y="15"/>
                  </a:lnTo>
                  <a:lnTo>
                    <a:pt x="110" y="25"/>
                  </a:lnTo>
                  <a:lnTo>
                    <a:pt x="93" y="36"/>
                  </a:lnTo>
                  <a:lnTo>
                    <a:pt x="76" y="47"/>
                  </a:lnTo>
                  <a:lnTo>
                    <a:pt x="60" y="61"/>
                  </a:lnTo>
                  <a:lnTo>
                    <a:pt x="48" y="76"/>
                  </a:lnTo>
                  <a:lnTo>
                    <a:pt x="35" y="92"/>
                  </a:lnTo>
                  <a:lnTo>
                    <a:pt x="25" y="110"/>
                  </a:lnTo>
                  <a:lnTo>
                    <a:pt x="16" y="129"/>
                  </a:lnTo>
                  <a:lnTo>
                    <a:pt x="9" y="148"/>
                  </a:lnTo>
                  <a:lnTo>
                    <a:pt x="3" y="167"/>
                  </a:lnTo>
                  <a:lnTo>
                    <a:pt x="0" y="189"/>
                  </a:lnTo>
                  <a:lnTo>
                    <a:pt x="0" y="210"/>
                  </a:lnTo>
                  <a:lnTo>
                    <a:pt x="0" y="232"/>
                  </a:lnTo>
                  <a:lnTo>
                    <a:pt x="3" y="253"/>
                  </a:lnTo>
                  <a:lnTo>
                    <a:pt x="9" y="272"/>
                  </a:lnTo>
                  <a:lnTo>
                    <a:pt x="16" y="292"/>
                  </a:lnTo>
                  <a:lnTo>
                    <a:pt x="25" y="310"/>
                  </a:lnTo>
                  <a:lnTo>
                    <a:pt x="35" y="328"/>
                  </a:lnTo>
                  <a:lnTo>
                    <a:pt x="48" y="344"/>
                  </a:lnTo>
                  <a:lnTo>
                    <a:pt x="60" y="360"/>
                  </a:lnTo>
                  <a:lnTo>
                    <a:pt x="76" y="373"/>
                  </a:lnTo>
                  <a:lnTo>
                    <a:pt x="93" y="386"/>
                  </a:lnTo>
                  <a:lnTo>
                    <a:pt x="110" y="395"/>
                  </a:lnTo>
                  <a:lnTo>
                    <a:pt x="129" y="405"/>
                  </a:lnTo>
                  <a:lnTo>
                    <a:pt x="150" y="411"/>
                  </a:lnTo>
                  <a:lnTo>
                    <a:pt x="169" y="417"/>
                  </a:lnTo>
                  <a:lnTo>
                    <a:pt x="190" y="420"/>
                  </a:lnTo>
                  <a:lnTo>
                    <a:pt x="212" y="420"/>
                  </a:lnTo>
                  <a:lnTo>
                    <a:pt x="465" y="420"/>
                  </a:lnTo>
                  <a:lnTo>
                    <a:pt x="513" y="347"/>
                  </a:lnTo>
                  <a:lnTo>
                    <a:pt x="217" y="347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8234280" y="533520"/>
            <a:ext cx="828720" cy="880920"/>
            <a:chOff x="8234280" y="533520"/>
            <a:chExt cx="828720" cy="880920"/>
          </a:xfrm>
        </p:grpSpPr>
        <p:pic>
          <p:nvPicPr>
            <p:cNvPr id="20" name="" descr=""/>
            <p:cNvPicPr/>
            <p:nvPr/>
          </p:nvPicPr>
          <p:blipFill>
            <a:blip r:embed="rId2"/>
            <a:stretch/>
          </p:blipFill>
          <p:spPr>
            <a:xfrm>
              <a:off x="8234280" y="533520"/>
              <a:ext cx="828720" cy="88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3"/>
            <a:stretch/>
          </p:blipFill>
          <p:spPr>
            <a:xfrm>
              <a:off x="8502480" y="988920"/>
              <a:ext cx="141120" cy="12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008160" y="1066680"/>
            <a:ext cx="3100320" cy="3071880"/>
            <a:chOff x="3008160" y="1066680"/>
            <a:chExt cx="3100320" cy="3071880"/>
          </a:xfrm>
        </p:grpSpPr>
        <p:sp>
          <p:nvSpPr>
            <p:cNvPr id="257" name=""/>
            <p:cNvSpPr/>
            <p:nvPr/>
          </p:nvSpPr>
          <p:spPr>
            <a:xfrm>
              <a:off x="3019320" y="1066680"/>
              <a:ext cx="3089160" cy="307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66a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36960" y="1503360"/>
              <a:ext cx="3043440" cy="2181600"/>
            </a:xfrm>
            <a:custGeom>
              <a:avLst/>
              <a:gdLst/>
              <a:ahLst/>
              <a:rect l="0" t="0" r="r" b="b"/>
              <a:pathLst>
                <a:path w="8454" h="6060">
                  <a:moveTo>
                    <a:pt x="919" y="522"/>
                  </a:moveTo>
                  <a:lnTo>
                    <a:pt x="1011" y="539"/>
                  </a:lnTo>
                  <a:lnTo>
                    <a:pt x="1086" y="468"/>
                  </a:lnTo>
                  <a:lnTo>
                    <a:pt x="1168" y="420"/>
                  </a:lnTo>
                  <a:lnTo>
                    <a:pt x="1223" y="365"/>
                  </a:lnTo>
                  <a:lnTo>
                    <a:pt x="1325" y="300"/>
                  </a:lnTo>
                  <a:lnTo>
                    <a:pt x="1387" y="273"/>
                  </a:lnTo>
                  <a:lnTo>
                    <a:pt x="1472" y="228"/>
                  </a:lnTo>
                  <a:lnTo>
                    <a:pt x="1544" y="228"/>
                  </a:lnTo>
                  <a:lnTo>
                    <a:pt x="1599" y="218"/>
                  </a:lnTo>
                  <a:lnTo>
                    <a:pt x="1664" y="218"/>
                  </a:lnTo>
                  <a:lnTo>
                    <a:pt x="1701" y="174"/>
                  </a:lnTo>
                  <a:lnTo>
                    <a:pt x="1783" y="191"/>
                  </a:lnTo>
                  <a:lnTo>
                    <a:pt x="1869" y="153"/>
                  </a:lnTo>
                  <a:lnTo>
                    <a:pt x="1930" y="174"/>
                  </a:lnTo>
                  <a:lnTo>
                    <a:pt x="1968" y="208"/>
                  </a:lnTo>
                  <a:lnTo>
                    <a:pt x="1930" y="228"/>
                  </a:lnTo>
                  <a:lnTo>
                    <a:pt x="1869" y="218"/>
                  </a:lnTo>
                  <a:lnTo>
                    <a:pt x="1804" y="266"/>
                  </a:lnTo>
                  <a:lnTo>
                    <a:pt x="1756" y="310"/>
                  </a:lnTo>
                  <a:lnTo>
                    <a:pt x="1749" y="375"/>
                  </a:lnTo>
                  <a:lnTo>
                    <a:pt x="1684" y="382"/>
                  </a:lnTo>
                  <a:lnTo>
                    <a:pt x="1599" y="420"/>
                  </a:lnTo>
                  <a:lnTo>
                    <a:pt x="1582" y="512"/>
                  </a:lnTo>
                  <a:lnTo>
                    <a:pt x="1571" y="587"/>
                  </a:lnTo>
                  <a:lnTo>
                    <a:pt x="1544" y="652"/>
                  </a:lnTo>
                  <a:lnTo>
                    <a:pt x="1582" y="697"/>
                  </a:lnTo>
                  <a:lnTo>
                    <a:pt x="1629" y="550"/>
                  </a:lnTo>
                  <a:lnTo>
                    <a:pt x="1684" y="522"/>
                  </a:lnTo>
                  <a:lnTo>
                    <a:pt x="1749" y="447"/>
                  </a:lnTo>
                  <a:lnTo>
                    <a:pt x="1793" y="355"/>
                  </a:lnTo>
                  <a:lnTo>
                    <a:pt x="1903" y="321"/>
                  </a:lnTo>
                  <a:lnTo>
                    <a:pt x="1995" y="283"/>
                  </a:lnTo>
                  <a:lnTo>
                    <a:pt x="2050" y="201"/>
                  </a:lnTo>
                  <a:lnTo>
                    <a:pt x="2135" y="201"/>
                  </a:lnTo>
                  <a:lnTo>
                    <a:pt x="2299" y="191"/>
                  </a:lnTo>
                  <a:lnTo>
                    <a:pt x="2484" y="153"/>
                  </a:lnTo>
                  <a:lnTo>
                    <a:pt x="2549" y="146"/>
                  </a:lnTo>
                  <a:lnTo>
                    <a:pt x="2631" y="146"/>
                  </a:lnTo>
                  <a:lnTo>
                    <a:pt x="2716" y="146"/>
                  </a:lnTo>
                  <a:lnTo>
                    <a:pt x="2788" y="174"/>
                  </a:lnTo>
                  <a:lnTo>
                    <a:pt x="2880" y="256"/>
                  </a:lnTo>
                  <a:lnTo>
                    <a:pt x="2842" y="266"/>
                  </a:lnTo>
                  <a:lnTo>
                    <a:pt x="2743" y="293"/>
                  </a:lnTo>
                  <a:lnTo>
                    <a:pt x="2750" y="375"/>
                  </a:lnTo>
                  <a:lnTo>
                    <a:pt x="2836" y="382"/>
                  </a:lnTo>
                  <a:lnTo>
                    <a:pt x="2870" y="382"/>
                  </a:lnTo>
                  <a:lnTo>
                    <a:pt x="2863" y="457"/>
                  </a:lnTo>
                  <a:lnTo>
                    <a:pt x="2750" y="539"/>
                  </a:lnTo>
                  <a:lnTo>
                    <a:pt x="2695" y="550"/>
                  </a:lnTo>
                  <a:lnTo>
                    <a:pt x="2706" y="604"/>
                  </a:lnTo>
                  <a:lnTo>
                    <a:pt x="2733" y="642"/>
                  </a:lnTo>
                  <a:lnTo>
                    <a:pt x="2695" y="697"/>
                  </a:lnTo>
                  <a:lnTo>
                    <a:pt x="2743" y="768"/>
                  </a:lnTo>
                  <a:lnTo>
                    <a:pt x="2651" y="799"/>
                  </a:lnTo>
                  <a:lnTo>
                    <a:pt x="2549" y="833"/>
                  </a:lnTo>
                  <a:lnTo>
                    <a:pt x="2538" y="936"/>
                  </a:lnTo>
                  <a:lnTo>
                    <a:pt x="2484" y="1008"/>
                  </a:lnTo>
                  <a:lnTo>
                    <a:pt x="2429" y="1066"/>
                  </a:lnTo>
                  <a:lnTo>
                    <a:pt x="2347" y="1110"/>
                  </a:lnTo>
                  <a:lnTo>
                    <a:pt x="2538" y="1110"/>
                  </a:lnTo>
                  <a:lnTo>
                    <a:pt x="2651" y="1110"/>
                  </a:lnTo>
                  <a:lnTo>
                    <a:pt x="2706" y="1137"/>
                  </a:lnTo>
                  <a:lnTo>
                    <a:pt x="2788" y="1093"/>
                  </a:lnTo>
                  <a:lnTo>
                    <a:pt x="2836" y="1175"/>
                  </a:lnTo>
                  <a:lnTo>
                    <a:pt x="3922" y="1175"/>
                  </a:lnTo>
                  <a:lnTo>
                    <a:pt x="3977" y="1110"/>
                  </a:lnTo>
                  <a:lnTo>
                    <a:pt x="4076" y="1038"/>
                  </a:lnTo>
                  <a:lnTo>
                    <a:pt x="4141" y="919"/>
                  </a:lnTo>
                  <a:lnTo>
                    <a:pt x="4234" y="806"/>
                  </a:lnTo>
                  <a:lnTo>
                    <a:pt x="4272" y="714"/>
                  </a:lnTo>
                  <a:lnTo>
                    <a:pt x="4326" y="615"/>
                  </a:lnTo>
                  <a:lnTo>
                    <a:pt x="4401" y="587"/>
                  </a:lnTo>
                  <a:lnTo>
                    <a:pt x="4429" y="522"/>
                  </a:lnTo>
                  <a:lnTo>
                    <a:pt x="4501" y="550"/>
                  </a:lnTo>
                  <a:lnTo>
                    <a:pt x="4565" y="485"/>
                  </a:lnTo>
                  <a:lnTo>
                    <a:pt x="4613" y="539"/>
                  </a:lnTo>
                  <a:lnTo>
                    <a:pt x="4695" y="567"/>
                  </a:lnTo>
                  <a:lnTo>
                    <a:pt x="4777" y="594"/>
                  </a:lnTo>
                  <a:lnTo>
                    <a:pt x="4859" y="615"/>
                  </a:lnTo>
                  <a:lnTo>
                    <a:pt x="4917" y="587"/>
                  </a:lnTo>
                  <a:lnTo>
                    <a:pt x="4989" y="632"/>
                  </a:lnTo>
                  <a:lnTo>
                    <a:pt x="5054" y="697"/>
                  </a:lnTo>
                  <a:lnTo>
                    <a:pt x="5146" y="714"/>
                  </a:lnTo>
                  <a:lnTo>
                    <a:pt x="5163" y="799"/>
                  </a:lnTo>
                  <a:lnTo>
                    <a:pt x="5119" y="854"/>
                  </a:lnTo>
                  <a:lnTo>
                    <a:pt x="4999" y="833"/>
                  </a:lnTo>
                  <a:lnTo>
                    <a:pt x="4907" y="789"/>
                  </a:lnTo>
                  <a:lnTo>
                    <a:pt x="4897" y="861"/>
                  </a:lnTo>
                  <a:lnTo>
                    <a:pt x="5017" y="871"/>
                  </a:lnTo>
                  <a:lnTo>
                    <a:pt x="5119" y="946"/>
                  </a:lnTo>
                  <a:lnTo>
                    <a:pt x="5266" y="888"/>
                  </a:lnTo>
                  <a:lnTo>
                    <a:pt x="5304" y="779"/>
                  </a:lnTo>
                  <a:lnTo>
                    <a:pt x="5368" y="686"/>
                  </a:lnTo>
                  <a:lnTo>
                    <a:pt x="5450" y="707"/>
                  </a:lnTo>
                  <a:lnTo>
                    <a:pt x="5433" y="762"/>
                  </a:lnTo>
                  <a:lnTo>
                    <a:pt x="5386" y="799"/>
                  </a:lnTo>
                  <a:lnTo>
                    <a:pt x="5386" y="871"/>
                  </a:lnTo>
                  <a:lnTo>
                    <a:pt x="5478" y="789"/>
                  </a:lnTo>
                  <a:lnTo>
                    <a:pt x="5560" y="714"/>
                  </a:lnTo>
                  <a:lnTo>
                    <a:pt x="5690" y="697"/>
                  </a:lnTo>
                  <a:lnTo>
                    <a:pt x="5864" y="642"/>
                  </a:lnTo>
                  <a:lnTo>
                    <a:pt x="5994" y="587"/>
                  </a:lnTo>
                  <a:lnTo>
                    <a:pt x="6011" y="512"/>
                  </a:lnTo>
                  <a:lnTo>
                    <a:pt x="5912" y="522"/>
                  </a:lnTo>
                  <a:lnTo>
                    <a:pt x="5819" y="457"/>
                  </a:lnTo>
                  <a:lnTo>
                    <a:pt x="5755" y="355"/>
                  </a:lnTo>
                  <a:lnTo>
                    <a:pt x="5819" y="218"/>
                  </a:lnTo>
                  <a:lnTo>
                    <a:pt x="5919" y="126"/>
                  </a:lnTo>
                  <a:lnTo>
                    <a:pt x="6004" y="54"/>
                  </a:lnTo>
                  <a:lnTo>
                    <a:pt x="6141" y="54"/>
                  </a:lnTo>
                  <a:lnTo>
                    <a:pt x="6243" y="0"/>
                  </a:lnTo>
                  <a:lnTo>
                    <a:pt x="6233" y="61"/>
                  </a:lnTo>
                  <a:lnTo>
                    <a:pt x="6151" y="71"/>
                  </a:lnTo>
                  <a:lnTo>
                    <a:pt x="6103" y="109"/>
                  </a:lnTo>
                  <a:lnTo>
                    <a:pt x="6021" y="116"/>
                  </a:lnTo>
                  <a:lnTo>
                    <a:pt x="5984" y="191"/>
                  </a:lnTo>
                  <a:lnTo>
                    <a:pt x="5929" y="273"/>
                  </a:lnTo>
                  <a:lnTo>
                    <a:pt x="5912" y="355"/>
                  </a:lnTo>
                  <a:lnTo>
                    <a:pt x="6004" y="485"/>
                  </a:lnTo>
                  <a:lnTo>
                    <a:pt x="6158" y="560"/>
                  </a:lnTo>
                  <a:lnTo>
                    <a:pt x="6260" y="604"/>
                  </a:lnTo>
                  <a:lnTo>
                    <a:pt x="6308" y="632"/>
                  </a:lnTo>
                  <a:lnTo>
                    <a:pt x="6353" y="697"/>
                  </a:lnTo>
                  <a:lnTo>
                    <a:pt x="6400" y="686"/>
                  </a:lnTo>
                  <a:lnTo>
                    <a:pt x="6400" y="632"/>
                  </a:lnTo>
                  <a:lnTo>
                    <a:pt x="6380" y="550"/>
                  </a:lnTo>
                  <a:lnTo>
                    <a:pt x="6335" y="502"/>
                  </a:lnTo>
                  <a:lnTo>
                    <a:pt x="6325" y="447"/>
                  </a:lnTo>
                  <a:lnTo>
                    <a:pt x="6353" y="348"/>
                  </a:lnTo>
                  <a:lnTo>
                    <a:pt x="6462" y="348"/>
                  </a:lnTo>
                  <a:lnTo>
                    <a:pt x="6547" y="348"/>
                  </a:lnTo>
                  <a:lnTo>
                    <a:pt x="6592" y="382"/>
                  </a:lnTo>
                  <a:lnTo>
                    <a:pt x="6602" y="475"/>
                  </a:lnTo>
                  <a:lnTo>
                    <a:pt x="6646" y="560"/>
                  </a:lnTo>
                  <a:lnTo>
                    <a:pt x="6667" y="475"/>
                  </a:lnTo>
                  <a:lnTo>
                    <a:pt x="6739" y="420"/>
                  </a:lnTo>
                  <a:lnTo>
                    <a:pt x="6821" y="420"/>
                  </a:lnTo>
                  <a:lnTo>
                    <a:pt x="6896" y="420"/>
                  </a:lnTo>
                  <a:lnTo>
                    <a:pt x="6971" y="430"/>
                  </a:lnTo>
                  <a:lnTo>
                    <a:pt x="6971" y="348"/>
                  </a:lnTo>
                  <a:lnTo>
                    <a:pt x="7015" y="355"/>
                  </a:lnTo>
                  <a:lnTo>
                    <a:pt x="7070" y="403"/>
                  </a:lnTo>
                  <a:lnTo>
                    <a:pt x="7162" y="403"/>
                  </a:lnTo>
                  <a:lnTo>
                    <a:pt x="7244" y="375"/>
                  </a:lnTo>
                  <a:lnTo>
                    <a:pt x="7330" y="447"/>
                  </a:lnTo>
                  <a:lnTo>
                    <a:pt x="7429" y="539"/>
                  </a:lnTo>
                  <a:lnTo>
                    <a:pt x="7542" y="560"/>
                  </a:lnTo>
                  <a:lnTo>
                    <a:pt x="7689" y="615"/>
                  </a:lnTo>
                  <a:lnTo>
                    <a:pt x="7726" y="604"/>
                  </a:lnTo>
                  <a:lnTo>
                    <a:pt x="7835" y="789"/>
                  </a:lnTo>
                  <a:lnTo>
                    <a:pt x="7999" y="1066"/>
                  </a:lnTo>
                  <a:lnTo>
                    <a:pt x="8102" y="1247"/>
                  </a:lnTo>
                  <a:lnTo>
                    <a:pt x="8177" y="1425"/>
                  </a:lnTo>
                  <a:lnTo>
                    <a:pt x="8092" y="1452"/>
                  </a:lnTo>
                  <a:lnTo>
                    <a:pt x="8064" y="1535"/>
                  </a:lnTo>
                  <a:lnTo>
                    <a:pt x="8092" y="1661"/>
                  </a:lnTo>
                  <a:lnTo>
                    <a:pt x="8150" y="1791"/>
                  </a:lnTo>
                  <a:lnTo>
                    <a:pt x="8184" y="1791"/>
                  </a:lnTo>
                  <a:lnTo>
                    <a:pt x="8205" y="1692"/>
                  </a:lnTo>
                  <a:lnTo>
                    <a:pt x="8259" y="1661"/>
                  </a:lnTo>
                  <a:lnTo>
                    <a:pt x="8287" y="1754"/>
                  </a:lnTo>
                  <a:lnTo>
                    <a:pt x="8211" y="1791"/>
                  </a:lnTo>
                  <a:lnTo>
                    <a:pt x="8331" y="1883"/>
                  </a:lnTo>
                  <a:lnTo>
                    <a:pt x="8249" y="1993"/>
                  </a:lnTo>
                  <a:lnTo>
                    <a:pt x="8232" y="2047"/>
                  </a:lnTo>
                  <a:lnTo>
                    <a:pt x="8369" y="2085"/>
                  </a:lnTo>
                  <a:lnTo>
                    <a:pt x="8304" y="2167"/>
                  </a:lnTo>
                  <a:lnTo>
                    <a:pt x="8242" y="2188"/>
                  </a:lnTo>
                  <a:lnTo>
                    <a:pt x="8242" y="2324"/>
                  </a:lnTo>
                  <a:lnTo>
                    <a:pt x="8304" y="2434"/>
                  </a:lnTo>
                  <a:lnTo>
                    <a:pt x="8242" y="2454"/>
                  </a:lnTo>
                  <a:lnTo>
                    <a:pt x="8102" y="2427"/>
                  </a:lnTo>
                  <a:lnTo>
                    <a:pt x="8167" y="2362"/>
                  </a:lnTo>
                  <a:lnTo>
                    <a:pt x="8249" y="2362"/>
                  </a:lnTo>
                  <a:lnTo>
                    <a:pt x="8249" y="2225"/>
                  </a:lnTo>
                  <a:lnTo>
                    <a:pt x="8157" y="2270"/>
                  </a:lnTo>
                  <a:lnTo>
                    <a:pt x="8150" y="2160"/>
                  </a:lnTo>
                  <a:lnTo>
                    <a:pt x="8232" y="2085"/>
                  </a:lnTo>
                  <a:lnTo>
                    <a:pt x="8249" y="2013"/>
                  </a:lnTo>
                  <a:lnTo>
                    <a:pt x="8205" y="1911"/>
                  </a:lnTo>
                  <a:lnTo>
                    <a:pt x="8184" y="1781"/>
                  </a:lnTo>
                  <a:lnTo>
                    <a:pt x="8140" y="1839"/>
                  </a:lnTo>
                  <a:lnTo>
                    <a:pt x="8075" y="1928"/>
                  </a:lnTo>
                  <a:lnTo>
                    <a:pt x="7972" y="2013"/>
                  </a:lnTo>
                  <a:lnTo>
                    <a:pt x="7999" y="2123"/>
                  </a:lnTo>
                  <a:lnTo>
                    <a:pt x="7993" y="2225"/>
                  </a:lnTo>
                  <a:lnTo>
                    <a:pt x="7993" y="2280"/>
                  </a:lnTo>
                  <a:lnTo>
                    <a:pt x="8037" y="2372"/>
                  </a:lnTo>
                  <a:lnTo>
                    <a:pt x="7999" y="2417"/>
                  </a:lnTo>
                  <a:lnTo>
                    <a:pt x="7900" y="2307"/>
                  </a:lnTo>
                  <a:lnTo>
                    <a:pt x="7835" y="2188"/>
                  </a:lnTo>
                  <a:lnTo>
                    <a:pt x="7808" y="2112"/>
                  </a:lnTo>
                  <a:lnTo>
                    <a:pt x="7753" y="2058"/>
                  </a:lnTo>
                  <a:lnTo>
                    <a:pt x="7678" y="2123"/>
                  </a:lnTo>
                  <a:lnTo>
                    <a:pt x="7634" y="2205"/>
                  </a:lnTo>
                  <a:lnTo>
                    <a:pt x="7733" y="2307"/>
                  </a:lnTo>
                  <a:lnTo>
                    <a:pt x="7788" y="2417"/>
                  </a:lnTo>
                  <a:lnTo>
                    <a:pt x="7808" y="2546"/>
                  </a:lnTo>
                  <a:lnTo>
                    <a:pt x="7798" y="2666"/>
                  </a:lnTo>
                  <a:lnTo>
                    <a:pt x="7798" y="2786"/>
                  </a:lnTo>
                  <a:lnTo>
                    <a:pt x="7846" y="2700"/>
                  </a:lnTo>
                  <a:lnTo>
                    <a:pt x="7928" y="2710"/>
                  </a:lnTo>
                  <a:lnTo>
                    <a:pt x="7965" y="2792"/>
                  </a:lnTo>
                  <a:lnTo>
                    <a:pt x="7890" y="2885"/>
                  </a:lnTo>
                  <a:lnTo>
                    <a:pt x="7818" y="2868"/>
                  </a:lnTo>
                  <a:lnTo>
                    <a:pt x="7808" y="2939"/>
                  </a:lnTo>
                  <a:lnTo>
                    <a:pt x="7873" y="3015"/>
                  </a:lnTo>
                  <a:lnTo>
                    <a:pt x="7835" y="3107"/>
                  </a:lnTo>
                  <a:lnTo>
                    <a:pt x="7917" y="3189"/>
                  </a:lnTo>
                  <a:lnTo>
                    <a:pt x="7873" y="3244"/>
                  </a:lnTo>
                  <a:lnTo>
                    <a:pt x="7938" y="3326"/>
                  </a:lnTo>
                  <a:lnTo>
                    <a:pt x="7890" y="3411"/>
                  </a:lnTo>
                  <a:lnTo>
                    <a:pt x="7982" y="3356"/>
                  </a:lnTo>
                  <a:lnTo>
                    <a:pt x="7965" y="3438"/>
                  </a:lnTo>
                  <a:lnTo>
                    <a:pt x="8119" y="3411"/>
                  </a:lnTo>
                  <a:lnTo>
                    <a:pt x="8075" y="3510"/>
                  </a:lnTo>
                  <a:lnTo>
                    <a:pt x="7965" y="3438"/>
                  </a:lnTo>
                  <a:lnTo>
                    <a:pt x="7938" y="3548"/>
                  </a:lnTo>
                  <a:lnTo>
                    <a:pt x="8102" y="3537"/>
                  </a:lnTo>
                  <a:lnTo>
                    <a:pt x="8037" y="3667"/>
                  </a:lnTo>
                  <a:lnTo>
                    <a:pt x="7928" y="3531"/>
                  </a:lnTo>
                  <a:lnTo>
                    <a:pt x="7993" y="3705"/>
                  </a:lnTo>
                  <a:lnTo>
                    <a:pt x="8119" y="3825"/>
                  </a:lnTo>
                  <a:lnTo>
                    <a:pt x="7999" y="3825"/>
                  </a:lnTo>
                  <a:lnTo>
                    <a:pt x="7928" y="3548"/>
                  </a:lnTo>
                  <a:lnTo>
                    <a:pt x="7965" y="3373"/>
                  </a:lnTo>
                  <a:lnTo>
                    <a:pt x="7873" y="3384"/>
                  </a:lnTo>
                  <a:lnTo>
                    <a:pt x="7798" y="3281"/>
                  </a:lnTo>
                  <a:lnTo>
                    <a:pt x="7873" y="3226"/>
                  </a:lnTo>
                  <a:lnTo>
                    <a:pt x="7873" y="3124"/>
                  </a:lnTo>
                  <a:lnTo>
                    <a:pt x="7818" y="2912"/>
                  </a:lnTo>
                  <a:lnTo>
                    <a:pt x="7808" y="2758"/>
                  </a:lnTo>
                  <a:lnTo>
                    <a:pt x="7788" y="2656"/>
                  </a:lnTo>
                  <a:lnTo>
                    <a:pt x="7706" y="2786"/>
                  </a:lnTo>
                  <a:lnTo>
                    <a:pt x="7559" y="2830"/>
                  </a:lnTo>
                  <a:lnTo>
                    <a:pt x="7477" y="2922"/>
                  </a:lnTo>
                  <a:lnTo>
                    <a:pt x="7514" y="3025"/>
                  </a:lnTo>
                  <a:lnTo>
                    <a:pt x="7456" y="3107"/>
                  </a:lnTo>
                  <a:lnTo>
                    <a:pt x="7357" y="3086"/>
                  </a:lnTo>
                  <a:lnTo>
                    <a:pt x="7439" y="2987"/>
                  </a:lnTo>
                  <a:lnTo>
                    <a:pt x="7384" y="2933"/>
                  </a:lnTo>
                  <a:lnTo>
                    <a:pt x="7302" y="2998"/>
                  </a:lnTo>
                  <a:lnTo>
                    <a:pt x="7302" y="3097"/>
                  </a:lnTo>
                  <a:lnTo>
                    <a:pt x="7439" y="3226"/>
                  </a:lnTo>
                  <a:lnTo>
                    <a:pt x="7477" y="3336"/>
                  </a:lnTo>
                  <a:lnTo>
                    <a:pt x="7374" y="3473"/>
                  </a:lnTo>
                  <a:lnTo>
                    <a:pt x="7374" y="3797"/>
                  </a:lnTo>
                  <a:lnTo>
                    <a:pt x="7374" y="3934"/>
                  </a:lnTo>
                  <a:lnTo>
                    <a:pt x="7395" y="4016"/>
                  </a:lnTo>
                  <a:lnTo>
                    <a:pt x="7548" y="4009"/>
                  </a:lnTo>
                  <a:lnTo>
                    <a:pt x="7651" y="4026"/>
                  </a:lnTo>
                  <a:lnTo>
                    <a:pt x="7726" y="3907"/>
                  </a:lnTo>
                  <a:lnTo>
                    <a:pt x="7808" y="3907"/>
                  </a:lnTo>
                  <a:lnTo>
                    <a:pt x="7771" y="3971"/>
                  </a:lnTo>
                  <a:lnTo>
                    <a:pt x="7873" y="4071"/>
                  </a:lnTo>
                  <a:lnTo>
                    <a:pt x="7982" y="4091"/>
                  </a:lnTo>
                  <a:lnTo>
                    <a:pt x="7972" y="4009"/>
                  </a:lnTo>
                  <a:lnTo>
                    <a:pt x="8242" y="4009"/>
                  </a:lnTo>
                  <a:lnTo>
                    <a:pt x="8150" y="4036"/>
                  </a:lnTo>
                  <a:lnTo>
                    <a:pt x="8140" y="4108"/>
                  </a:lnTo>
                  <a:lnTo>
                    <a:pt x="8259" y="4135"/>
                  </a:lnTo>
                  <a:lnTo>
                    <a:pt x="8379" y="4183"/>
                  </a:lnTo>
                  <a:lnTo>
                    <a:pt x="8433" y="4053"/>
                  </a:lnTo>
                  <a:lnTo>
                    <a:pt x="8454" y="3971"/>
                  </a:lnTo>
                  <a:lnTo>
                    <a:pt x="8369" y="3999"/>
                  </a:lnTo>
                  <a:lnTo>
                    <a:pt x="8287" y="3944"/>
                  </a:lnTo>
                  <a:lnTo>
                    <a:pt x="8242" y="3924"/>
                  </a:lnTo>
                  <a:lnTo>
                    <a:pt x="8205" y="4026"/>
                  </a:lnTo>
                  <a:lnTo>
                    <a:pt x="8205" y="4016"/>
                  </a:lnTo>
                  <a:lnTo>
                    <a:pt x="7938" y="4016"/>
                  </a:lnTo>
                  <a:lnTo>
                    <a:pt x="7890" y="3889"/>
                  </a:lnTo>
                  <a:lnTo>
                    <a:pt x="7818" y="3917"/>
                  </a:lnTo>
                  <a:lnTo>
                    <a:pt x="7733" y="3907"/>
                  </a:lnTo>
                  <a:lnTo>
                    <a:pt x="7706" y="3770"/>
                  </a:lnTo>
                  <a:lnTo>
                    <a:pt x="7661" y="3684"/>
                  </a:lnTo>
                  <a:lnTo>
                    <a:pt x="7743" y="3630"/>
                  </a:lnTo>
                  <a:lnTo>
                    <a:pt x="7743" y="3548"/>
                  </a:lnTo>
                  <a:lnTo>
                    <a:pt x="7624" y="3602"/>
                  </a:lnTo>
                  <a:lnTo>
                    <a:pt x="7542" y="3678"/>
                  </a:lnTo>
                  <a:lnTo>
                    <a:pt x="7477" y="3777"/>
                  </a:lnTo>
                  <a:lnTo>
                    <a:pt x="7374" y="3777"/>
                  </a:lnTo>
                  <a:lnTo>
                    <a:pt x="7374" y="3520"/>
                  </a:lnTo>
                  <a:lnTo>
                    <a:pt x="7320" y="3575"/>
                  </a:lnTo>
                  <a:lnTo>
                    <a:pt x="7244" y="3455"/>
                  </a:lnTo>
                  <a:lnTo>
                    <a:pt x="7156" y="3346"/>
                  </a:lnTo>
                  <a:lnTo>
                    <a:pt x="7026" y="3384"/>
                  </a:lnTo>
                  <a:lnTo>
                    <a:pt x="7015" y="3493"/>
                  </a:lnTo>
                  <a:lnTo>
                    <a:pt x="7080" y="3623"/>
                  </a:lnTo>
                  <a:lnTo>
                    <a:pt x="7080" y="3742"/>
                  </a:lnTo>
                  <a:lnTo>
                    <a:pt x="7162" y="3859"/>
                  </a:lnTo>
                  <a:lnTo>
                    <a:pt x="7210" y="3917"/>
                  </a:lnTo>
                  <a:lnTo>
                    <a:pt x="7108" y="3917"/>
                  </a:lnTo>
                  <a:lnTo>
                    <a:pt x="7053" y="3859"/>
                  </a:lnTo>
                  <a:lnTo>
                    <a:pt x="7005" y="3924"/>
                  </a:lnTo>
                  <a:lnTo>
                    <a:pt x="7145" y="4081"/>
                  </a:lnTo>
                  <a:lnTo>
                    <a:pt x="7244" y="4173"/>
                  </a:lnTo>
                  <a:lnTo>
                    <a:pt x="7337" y="4163"/>
                  </a:lnTo>
                  <a:lnTo>
                    <a:pt x="7439" y="4190"/>
                  </a:lnTo>
                  <a:lnTo>
                    <a:pt x="7576" y="4190"/>
                  </a:lnTo>
                  <a:lnTo>
                    <a:pt x="7706" y="4173"/>
                  </a:lnTo>
                  <a:lnTo>
                    <a:pt x="7818" y="4218"/>
                  </a:lnTo>
                  <a:lnTo>
                    <a:pt x="7788" y="4255"/>
                  </a:lnTo>
                  <a:lnTo>
                    <a:pt x="7661" y="4211"/>
                  </a:lnTo>
                  <a:lnTo>
                    <a:pt x="7661" y="4423"/>
                  </a:lnTo>
                  <a:lnTo>
                    <a:pt x="7753" y="4423"/>
                  </a:lnTo>
                  <a:lnTo>
                    <a:pt x="7808" y="4412"/>
                  </a:lnTo>
                  <a:lnTo>
                    <a:pt x="7818" y="4337"/>
                  </a:lnTo>
                  <a:lnTo>
                    <a:pt x="7928" y="4358"/>
                  </a:lnTo>
                  <a:lnTo>
                    <a:pt x="8064" y="4303"/>
                  </a:lnTo>
                  <a:lnTo>
                    <a:pt x="8058" y="4402"/>
                  </a:lnTo>
                  <a:lnTo>
                    <a:pt x="8092" y="4467"/>
                  </a:lnTo>
                  <a:lnTo>
                    <a:pt x="8167" y="4515"/>
                  </a:lnTo>
                  <a:lnTo>
                    <a:pt x="8242" y="4467"/>
                  </a:lnTo>
                  <a:lnTo>
                    <a:pt x="8232" y="4364"/>
                  </a:lnTo>
                  <a:lnTo>
                    <a:pt x="8242" y="4276"/>
                  </a:lnTo>
                  <a:lnTo>
                    <a:pt x="8287" y="4364"/>
                  </a:lnTo>
                  <a:lnTo>
                    <a:pt x="8304" y="4484"/>
                  </a:lnTo>
                  <a:lnTo>
                    <a:pt x="8205" y="4707"/>
                  </a:lnTo>
                  <a:lnTo>
                    <a:pt x="8092" y="4936"/>
                  </a:lnTo>
                  <a:lnTo>
                    <a:pt x="7993" y="5158"/>
                  </a:lnTo>
                  <a:lnTo>
                    <a:pt x="7873" y="5377"/>
                  </a:lnTo>
                  <a:lnTo>
                    <a:pt x="7771" y="5315"/>
                  </a:lnTo>
                  <a:lnTo>
                    <a:pt x="7661" y="5360"/>
                  </a:lnTo>
                  <a:lnTo>
                    <a:pt x="7624" y="5442"/>
                  </a:lnTo>
                  <a:lnTo>
                    <a:pt x="7542" y="5490"/>
                  </a:lnTo>
                  <a:lnTo>
                    <a:pt x="7384" y="5524"/>
                  </a:lnTo>
                  <a:lnTo>
                    <a:pt x="7292" y="5507"/>
                  </a:lnTo>
                  <a:lnTo>
                    <a:pt x="7330" y="5370"/>
                  </a:lnTo>
                  <a:lnTo>
                    <a:pt x="7320" y="5268"/>
                  </a:lnTo>
                  <a:lnTo>
                    <a:pt x="7374" y="5186"/>
                  </a:lnTo>
                  <a:lnTo>
                    <a:pt x="7357" y="5110"/>
                  </a:lnTo>
                  <a:lnTo>
                    <a:pt x="7255" y="5066"/>
                  </a:lnTo>
                  <a:lnTo>
                    <a:pt x="7265" y="4936"/>
                  </a:lnTo>
                  <a:lnTo>
                    <a:pt x="7302" y="4799"/>
                  </a:lnTo>
                  <a:lnTo>
                    <a:pt x="7412" y="4697"/>
                  </a:lnTo>
                  <a:lnTo>
                    <a:pt x="7548" y="4690"/>
                  </a:lnTo>
                  <a:lnTo>
                    <a:pt x="7569" y="4605"/>
                  </a:lnTo>
                  <a:lnTo>
                    <a:pt x="7542" y="4484"/>
                  </a:lnTo>
                  <a:lnTo>
                    <a:pt x="7624" y="4429"/>
                  </a:lnTo>
                  <a:lnTo>
                    <a:pt x="7661" y="4423"/>
                  </a:lnTo>
                  <a:lnTo>
                    <a:pt x="7661" y="4218"/>
                  </a:lnTo>
                  <a:lnTo>
                    <a:pt x="7548" y="4238"/>
                  </a:lnTo>
                  <a:lnTo>
                    <a:pt x="7439" y="4282"/>
                  </a:lnTo>
                  <a:lnTo>
                    <a:pt x="7347" y="4218"/>
                  </a:lnTo>
                  <a:lnTo>
                    <a:pt x="7238" y="4218"/>
                  </a:lnTo>
                  <a:lnTo>
                    <a:pt x="7091" y="4173"/>
                  </a:lnTo>
                  <a:lnTo>
                    <a:pt x="7005" y="4081"/>
                  </a:lnTo>
                  <a:lnTo>
                    <a:pt x="6961" y="3989"/>
                  </a:lnTo>
                  <a:lnTo>
                    <a:pt x="6886" y="3907"/>
                  </a:lnTo>
                  <a:lnTo>
                    <a:pt x="6961" y="3879"/>
                  </a:lnTo>
                  <a:lnTo>
                    <a:pt x="7005" y="3917"/>
                  </a:lnTo>
                  <a:lnTo>
                    <a:pt x="7063" y="3842"/>
                  </a:lnTo>
                  <a:lnTo>
                    <a:pt x="7026" y="3722"/>
                  </a:lnTo>
                  <a:lnTo>
                    <a:pt x="6961" y="3712"/>
                  </a:lnTo>
                  <a:lnTo>
                    <a:pt x="6913" y="3592"/>
                  </a:lnTo>
                  <a:lnTo>
                    <a:pt x="6933" y="3455"/>
                  </a:lnTo>
                  <a:lnTo>
                    <a:pt x="7005" y="3356"/>
                  </a:lnTo>
                  <a:lnTo>
                    <a:pt x="6988" y="3226"/>
                  </a:lnTo>
                  <a:lnTo>
                    <a:pt x="6933" y="3216"/>
                  </a:lnTo>
                  <a:lnTo>
                    <a:pt x="6886" y="3291"/>
                  </a:lnTo>
                  <a:lnTo>
                    <a:pt x="6879" y="3356"/>
                  </a:lnTo>
                  <a:lnTo>
                    <a:pt x="6804" y="3226"/>
                  </a:lnTo>
                  <a:lnTo>
                    <a:pt x="6684" y="3134"/>
                  </a:lnTo>
                  <a:lnTo>
                    <a:pt x="6602" y="3144"/>
                  </a:lnTo>
                  <a:lnTo>
                    <a:pt x="6520" y="3281"/>
                  </a:lnTo>
                  <a:lnTo>
                    <a:pt x="6417" y="3346"/>
                  </a:lnTo>
                  <a:lnTo>
                    <a:pt x="6417" y="3428"/>
                  </a:lnTo>
                  <a:lnTo>
                    <a:pt x="6445" y="3520"/>
                  </a:lnTo>
                  <a:lnTo>
                    <a:pt x="6435" y="3613"/>
                  </a:lnTo>
                  <a:lnTo>
                    <a:pt x="6353" y="3602"/>
                  </a:lnTo>
                  <a:lnTo>
                    <a:pt x="6298" y="3493"/>
                  </a:lnTo>
                  <a:lnTo>
                    <a:pt x="6195" y="3356"/>
                  </a:lnTo>
                  <a:lnTo>
                    <a:pt x="6096" y="3281"/>
                  </a:lnTo>
                  <a:lnTo>
                    <a:pt x="6011" y="3134"/>
                  </a:lnTo>
                  <a:lnTo>
                    <a:pt x="5939" y="3097"/>
                  </a:lnTo>
                  <a:lnTo>
                    <a:pt x="5809" y="3097"/>
                  </a:lnTo>
                  <a:lnTo>
                    <a:pt x="5690" y="3097"/>
                  </a:lnTo>
                  <a:lnTo>
                    <a:pt x="5614" y="3144"/>
                  </a:lnTo>
                  <a:lnTo>
                    <a:pt x="5553" y="3052"/>
                  </a:lnTo>
                  <a:lnTo>
                    <a:pt x="5468" y="3004"/>
                  </a:lnTo>
                  <a:lnTo>
                    <a:pt x="5348" y="2912"/>
                  </a:lnTo>
                  <a:lnTo>
                    <a:pt x="5433" y="3052"/>
                  </a:lnTo>
                  <a:lnTo>
                    <a:pt x="5560" y="3107"/>
                  </a:lnTo>
                  <a:lnTo>
                    <a:pt x="5645" y="3226"/>
                  </a:lnTo>
                  <a:lnTo>
                    <a:pt x="5608" y="3346"/>
                  </a:lnTo>
                  <a:lnTo>
                    <a:pt x="5522" y="3411"/>
                  </a:lnTo>
                  <a:lnTo>
                    <a:pt x="5396" y="3428"/>
                  </a:lnTo>
                  <a:lnTo>
                    <a:pt x="5283" y="3473"/>
                  </a:lnTo>
                  <a:lnTo>
                    <a:pt x="5222" y="3585"/>
                  </a:lnTo>
                  <a:lnTo>
                    <a:pt x="5163" y="3630"/>
                  </a:lnTo>
                  <a:lnTo>
                    <a:pt x="5146" y="3510"/>
                  </a:lnTo>
                  <a:lnTo>
                    <a:pt x="5071" y="3346"/>
                  </a:lnTo>
                  <a:lnTo>
                    <a:pt x="4989" y="3254"/>
                  </a:lnTo>
                  <a:lnTo>
                    <a:pt x="4989" y="3144"/>
                  </a:lnTo>
                  <a:lnTo>
                    <a:pt x="4917" y="3162"/>
                  </a:lnTo>
                  <a:lnTo>
                    <a:pt x="4935" y="3326"/>
                  </a:lnTo>
                  <a:lnTo>
                    <a:pt x="5010" y="3455"/>
                  </a:lnTo>
                  <a:lnTo>
                    <a:pt x="5010" y="3575"/>
                  </a:lnTo>
                  <a:lnTo>
                    <a:pt x="5119" y="3623"/>
                  </a:lnTo>
                  <a:lnTo>
                    <a:pt x="5163" y="3705"/>
                  </a:lnTo>
                  <a:lnTo>
                    <a:pt x="5276" y="3678"/>
                  </a:lnTo>
                  <a:lnTo>
                    <a:pt x="5368" y="3667"/>
                  </a:lnTo>
                  <a:lnTo>
                    <a:pt x="5488" y="3602"/>
                  </a:lnTo>
                  <a:lnTo>
                    <a:pt x="5440" y="3749"/>
                  </a:lnTo>
                  <a:lnTo>
                    <a:pt x="5348" y="3934"/>
                  </a:lnTo>
                  <a:lnTo>
                    <a:pt x="5276" y="4053"/>
                  </a:lnTo>
                  <a:lnTo>
                    <a:pt x="5184" y="4163"/>
                  </a:lnTo>
                  <a:lnTo>
                    <a:pt x="5146" y="4255"/>
                  </a:lnTo>
                  <a:lnTo>
                    <a:pt x="5109" y="4467"/>
                  </a:lnTo>
                  <a:lnTo>
                    <a:pt x="5092" y="4615"/>
                  </a:lnTo>
                  <a:lnTo>
                    <a:pt x="5102" y="4762"/>
                  </a:lnTo>
                  <a:lnTo>
                    <a:pt x="5119" y="4902"/>
                  </a:lnTo>
                  <a:lnTo>
                    <a:pt x="5119" y="4936"/>
                  </a:lnTo>
                  <a:lnTo>
                    <a:pt x="5222" y="4919"/>
                  </a:lnTo>
                  <a:lnTo>
                    <a:pt x="5239" y="4799"/>
                  </a:lnTo>
                  <a:lnTo>
                    <a:pt x="5331" y="4690"/>
                  </a:lnTo>
                  <a:lnTo>
                    <a:pt x="5433" y="4615"/>
                  </a:lnTo>
                  <a:lnTo>
                    <a:pt x="5450" y="4752"/>
                  </a:lnTo>
                  <a:lnTo>
                    <a:pt x="5440" y="4871"/>
                  </a:lnTo>
                  <a:lnTo>
                    <a:pt x="5386" y="4936"/>
                  </a:lnTo>
                  <a:lnTo>
                    <a:pt x="5396" y="5001"/>
                  </a:lnTo>
                  <a:lnTo>
                    <a:pt x="5358" y="5169"/>
                  </a:lnTo>
                  <a:lnTo>
                    <a:pt x="5341" y="5251"/>
                  </a:lnTo>
                  <a:lnTo>
                    <a:pt x="5266" y="5268"/>
                  </a:lnTo>
                  <a:lnTo>
                    <a:pt x="5191" y="5186"/>
                  </a:lnTo>
                  <a:lnTo>
                    <a:pt x="5239" y="5076"/>
                  </a:lnTo>
                  <a:lnTo>
                    <a:pt x="5256" y="5011"/>
                  </a:lnTo>
                  <a:lnTo>
                    <a:pt x="5201" y="4936"/>
                  </a:lnTo>
                  <a:lnTo>
                    <a:pt x="5109" y="4946"/>
                  </a:lnTo>
                  <a:lnTo>
                    <a:pt x="5081" y="5066"/>
                  </a:lnTo>
                  <a:lnTo>
                    <a:pt x="4952" y="5110"/>
                  </a:lnTo>
                  <a:lnTo>
                    <a:pt x="4870" y="5186"/>
                  </a:lnTo>
                  <a:lnTo>
                    <a:pt x="4890" y="5315"/>
                  </a:lnTo>
                  <a:lnTo>
                    <a:pt x="4870" y="5462"/>
                  </a:lnTo>
                  <a:lnTo>
                    <a:pt x="4832" y="5616"/>
                  </a:lnTo>
                  <a:lnTo>
                    <a:pt x="4647" y="5784"/>
                  </a:lnTo>
                  <a:lnTo>
                    <a:pt x="4565" y="5790"/>
                  </a:lnTo>
                  <a:lnTo>
                    <a:pt x="4511" y="5681"/>
                  </a:lnTo>
                  <a:lnTo>
                    <a:pt x="4401" y="5616"/>
                  </a:lnTo>
                  <a:lnTo>
                    <a:pt x="4347" y="5572"/>
                  </a:lnTo>
                  <a:lnTo>
                    <a:pt x="4244" y="5360"/>
                  </a:lnTo>
                  <a:lnTo>
                    <a:pt x="4151" y="5257"/>
                  </a:lnTo>
                  <a:lnTo>
                    <a:pt x="4076" y="5158"/>
                  </a:lnTo>
                  <a:lnTo>
                    <a:pt x="4042" y="5049"/>
                  </a:lnTo>
                  <a:lnTo>
                    <a:pt x="4021" y="4902"/>
                  </a:lnTo>
                  <a:lnTo>
                    <a:pt x="3939" y="4799"/>
                  </a:lnTo>
                  <a:lnTo>
                    <a:pt x="3912" y="4707"/>
                  </a:lnTo>
                  <a:lnTo>
                    <a:pt x="3977" y="4598"/>
                  </a:lnTo>
                  <a:lnTo>
                    <a:pt x="3977" y="4494"/>
                  </a:lnTo>
                  <a:lnTo>
                    <a:pt x="3891" y="4423"/>
                  </a:lnTo>
                  <a:lnTo>
                    <a:pt x="3755" y="4412"/>
                  </a:lnTo>
                  <a:lnTo>
                    <a:pt x="3652" y="4364"/>
                  </a:lnTo>
                  <a:lnTo>
                    <a:pt x="3598" y="4412"/>
                  </a:lnTo>
                  <a:lnTo>
                    <a:pt x="3505" y="4423"/>
                  </a:lnTo>
                  <a:lnTo>
                    <a:pt x="3423" y="4364"/>
                  </a:lnTo>
                  <a:lnTo>
                    <a:pt x="3348" y="4293"/>
                  </a:lnTo>
                  <a:lnTo>
                    <a:pt x="3249" y="4276"/>
                  </a:lnTo>
                  <a:lnTo>
                    <a:pt x="3146" y="4218"/>
                  </a:lnTo>
                  <a:lnTo>
                    <a:pt x="3047" y="4135"/>
                  </a:lnTo>
                  <a:lnTo>
                    <a:pt x="3017" y="3971"/>
                  </a:lnTo>
                  <a:lnTo>
                    <a:pt x="3010" y="3859"/>
                  </a:lnTo>
                  <a:lnTo>
                    <a:pt x="3092" y="3777"/>
                  </a:lnTo>
                  <a:lnTo>
                    <a:pt x="3082" y="3695"/>
                  </a:lnTo>
                  <a:lnTo>
                    <a:pt x="3064" y="3548"/>
                  </a:lnTo>
                  <a:lnTo>
                    <a:pt x="3075" y="3418"/>
                  </a:lnTo>
                  <a:lnTo>
                    <a:pt x="3047" y="3291"/>
                  </a:lnTo>
                  <a:lnTo>
                    <a:pt x="3146" y="3189"/>
                  </a:lnTo>
                  <a:lnTo>
                    <a:pt x="3201" y="3117"/>
                  </a:lnTo>
                  <a:lnTo>
                    <a:pt x="3287" y="3107"/>
                  </a:lnTo>
                  <a:lnTo>
                    <a:pt x="3276" y="3004"/>
                  </a:lnTo>
                  <a:lnTo>
                    <a:pt x="3331" y="2912"/>
                  </a:lnTo>
                  <a:lnTo>
                    <a:pt x="3413" y="2851"/>
                  </a:lnTo>
                  <a:lnTo>
                    <a:pt x="3516" y="2905"/>
                  </a:lnTo>
                  <a:lnTo>
                    <a:pt x="3645" y="2933"/>
                  </a:lnTo>
                  <a:lnTo>
                    <a:pt x="3782" y="2912"/>
                  </a:lnTo>
                  <a:lnTo>
                    <a:pt x="3902" y="2912"/>
                  </a:lnTo>
                  <a:lnTo>
                    <a:pt x="3956" y="2922"/>
                  </a:lnTo>
                  <a:lnTo>
                    <a:pt x="3984" y="3025"/>
                  </a:lnTo>
                  <a:lnTo>
                    <a:pt x="4096" y="3042"/>
                  </a:lnTo>
                  <a:lnTo>
                    <a:pt x="4206" y="3097"/>
                  </a:lnTo>
                  <a:lnTo>
                    <a:pt x="4272" y="3086"/>
                  </a:lnTo>
                  <a:lnTo>
                    <a:pt x="4326" y="3015"/>
                  </a:lnTo>
                  <a:lnTo>
                    <a:pt x="4354" y="2939"/>
                  </a:lnTo>
                  <a:lnTo>
                    <a:pt x="4456" y="2987"/>
                  </a:lnTo>
                  <a:lnTo>
                    <a:pt x="4576" y="3025"/>
                  </a:lnTo>
                  <a:lnTo>
                    <a:pt x="4723" y="3042"/>
                  </a:lnTo>
                  <a:lnTo>
                    <a:pt x="4815" y="3052"/>
                  </a:lnTo>
                  <a:lnTo>
                    <a:pt x="4917" y="3042"/>
                  </a:lnTo>
                  <a:lnTo>
                    <a:pt x="4989" y="2987"/>
                  </a:lnTo>
                  <a:lnTo>
                    <a:pt x="5027" y="2868"/>
                  </a:lnTo>
                  <a:lnTo>
                    <a:pt x="5071" y="2792"/>
                  </a:lnTo>
                  <a:lnTo>
                    <a:pt x="5027" y="2765"/>
                  </a:lnTo>
                  <a:lnTo>
                    <a:pt x="4979" y="2700"/>
                  </a:lnTo>
                  <a:lnTo>
                    <a:pt x="4907" y="2721"/>
                  </a:lnTo>
                  <a:lnTo>
                    <a:pt x="4788" y="2721"/>
                  </a:lnTo>
                  <a:lnTo>
                    <a:pt x="4706" y="2693"/>
                  </a:lnTo>
                  <a:lnTo>
                    <a:pt x="4695" y="2601"/>
                  </a:lnTo>
                  <a:lnTo>
                    <a:pt x="4647" y="2553"/>
                  </a:lnTo>
                  <a:lnTo>
                    <a:pt x="4613" y="2601"/>
                  </a:lnTo>
                  <a:lnTo>
                    <a:pt x="4641" y="2693"/>
                  </a:lnTo>
                  <a:lnTo>
                    <a:pt x="4593" y="2758"/>
                  </a:lnTo>
                  <a:lnTo>
                    <a:pt x="4501" y="2748"/>
                  </a:lnTo>
                  <a:lnTo>
                    <a:pt x="4446" y="2673"/>
                  </a:lnTo>
                  <a:lnTo>
                    <a:pt x="4429" y="2591"/>
                  </a:lnTo>
                  <a:lnTo>
                    <a:pt x="4429" y="2464"/>
                  </a:lnTo>
                  <a:lnTo>
                    <a:pt x="4364" y="2434"/>
                  </a:lnTo>
                  <a:lnTo>
                    <a:pt x="4337" y="2509"/>
                  </a:lnTo>
                  <a:lnTo>
                    <a:pt x="4347" y="2601"/>
                  </a:lnTo>
                  <a:lnTo>
                    <a:pt x="4391" y="2666"/>
                  </a:lnTo>
                  <a:lnTo>
                    <a:pt x="4446" y="2738"/>
                  </a:lnTo>
                  <a:lnTo>
                    <a:pt x="4391" y="2820"/>
                  </a:lnTo>
                  <a:lnTo>
                    <a:pt x="4326" y="2857"/>
                  </a:lnTo>
                  <a:lnTo>
                    <a:pt x="4234" y="2851"/>
                  </a:lnTo>
                  <a:lnTo>
                    <a:pt x="4234" y="2922"/>
                  </a:lnTo>
                  <a:lnTo>
                    <a:pt x="4168" y="2960"/>
                  </a:lnTo>
                  <a:lnTo>
                    <a:pt x="4086" y="2857"/>
                  </a:lnTo>
                  <a:lnTo>
                    <a:pt x="4096" y="2803"/>
                  </a:lnTo>
                  <a:lnTo>
                    <a:pt x="4195" y="2851"/>
                  </a:lnTo>
                  <a:lnTo>
                    <a:pt x="4261" y="2851"/>
                  </a:lnTo>
                  <a:lnTo>
                    <a:pt x="4347" y="2786"/>
                  </a:lnTo>
                  <a:lnTo>
                    <a:pt x="4326" y="2693"/>
                  </a:lnTo>
                  <a:lnTo>
                    <a:pt x="4244" y="2618"/>
                  </a:lnTo>
                  <a:lnTo>
                    <a:pt x="4168" y="2553"/>
                  </a:lnTo>
                  <a:lnTo>
                    <a:pt x="4086" y="2471"/>
                  </a:lnTo>
                  <a:lnTo>
                    <a:pt x="3994" y="2406"/>
                  </a:lnTo>
                  <a:lnTo>
                    <a:pt x="3994" y="2509"/>
                  </a:lnTo>
                  <a:lnTo>
                    <a:pt x="4059" y="2574"/>
                  </a:lnTo>
                  <a:lnTo>
                    <a:pt x="4042" y="2693"/>
                  </a:lnTo>
                  <a:lnTo>
                    <a:pt x="4042" y="2786"/>
                  </a:lnTo>
                  <a:lnTo>
                    <a:pt x="3939" y="2710"/>
                  </a:lnTo>
                  <a:lnTo>
                    <a:pt x="3922" y="2639"/>
                  </a:lnTo>
                  <a:lnTo>
                    <a:pt x="3977" y="2591"/>
                  </a:lnTo>
                  <a:lnTo>
                    <a:pt x="3956" y="2526"/>
                  </a:lnTo>
                  <a:lnTo>
                    <a:pt x="4004" y="2499"/>
                  </a:lnTo>
                  <a:lnTo>
                    <a:pt x="4004" y="2406"/>
                  </a:lnTo>
                  <a:lnTo>
                    <a:pt x="3922" y="2427"/>
                  </a:lnTo>
                  <a:lnTo>
                    <a:pt x="3864" y="2509"/>
                  </a:lnTo>
                  <a:lnTo>
                    <a:pt x="3782" y="2471"/>
                  </a:lnTo>
                  <a:lnTo>
                    <a:pt x="3652" y="2536"/>
                  </a:lnTo>
                  <a:lnTo>
                    <a:pt x="3625" y="2656"/>
                  </a:lnTo>
                  <a:lnTo>
                    <a:pt x="3533" y="2738"/>
                  </a:lnTo>
                  <a:lnTo>
                    <a:pt x="3423" y="2792"/>
                  </a:lnTo>
                  <a:lnTo>
                    <a:pt x="3321" y="2803"/>
                  </a:lnTo>
                  <a:lnTo>
                    <a:pt x="3201" y="2765"/>
                  </a:lnTo>
                  <a:lnTo>
                    <a:pt x="3157" y="2710"/>
                  </a:lnTo>
                  <a:lnTo>
                    <a:pt x="3194" y="2656"/>
                  </a:lnTo>
                  <a:lnTo>
                    <a:pt x="3157" y="2574"/>
                  </a:lnTo>
                  <a:lnTo>
                    <a:pt x="3228" y="2519"/>
                  </a:lnTo>
                  <a:lnTo>
                    <a:pt x="3239" y="2444"/>
                  </a:lnTo>
                  <a:lnTo>
                    <a:pt x="3239" y="2345"/>
                  </a:lnTo>
                  <a:lnTo>
                    <a:pt x="3331" y="2253"/>
                  </a:lnTo>
                  <a:lnTo>
                    <a:pt x="3461" y="2280"/>
                  </a:lnTo>
                  <a:lnTo>
                    <a:pt x="3618" y="2324"/>
                  </a:lnTo>
                  <a:lnTo>
                    <a:pt x="3680" y="2259"/>
                  </a:lnTo>
                  <a:lnTo>
                    <a:pt x="3680" y="2160"/>
                  </a:lnTo>
                  <a:lnTo>
                    <a:pt x="3608" y="2085"/>
                  </a:lnTo>
                  <a:lnTo>
                    <a:pt x="3488" y="2030"/>
                  </a:lnTo>
                  <a:lnTo>
                    <a:pt x="3543" y="1976"/>
                  </a:lnTo>
                  <a:lnTo>
                    <a:pt x="3662" y="1938"/>
                  </a:lnTo>
                  <a:lnTo>
                    <a:pt x="3690" y="1921"/>
                  </a:lnTo>
                  <a:lnTo>
                    <a:pt x="3652" y="1911"/>
                  </a:lnTo>
                  <a:lnTo>
                    <a:pt x="3560" y="1921"/>
                  </a:lnTo>
                  <a:lnTo>
                    <a:pt x="3461" y="1938"/>
                  </a:lnTo>
                  <a:lnTo>
                    <a:pt x="3413" y="1959"/>
                  </a:lnTo>
                  <a:lnTo>
                    <a:pt x="3451" y="1883"/>
                  </a:lnTo>
                  <a:lnTo>
                    <a:pt x="3461" y="1791"/>
                  </a:lnTo>
                  <a:lnTo>
                    <a:pt x="3505" y="1747"/>
                  </a:lnTo>
                  <a:lnTo>
                    <a:pt x="3526" y="1682"/>
                  </a:lnTo>
                  <a:lnTo>
                    <a:pt x="3478" y="1617"/>
                  </a:lnTo>
                  <a:lnTo>
                    <a:pt x="3413" y="1644"/>
                  </a:lnTo>
                  <a:lnTo>
                    <a:pt x="3423" y="1726"/>
                  </a:lnTo>
                  <a:lnTo>
                    <a:pt x="3413" y="1812"/>
                  </a:lnTo>
                  <a:lnTo>
                    <a:pt x="3369" y="1921"/>
                  </a:lnTo>
                  <a:lnTo>
                    <a:pt x="3276" y="1911"/>
                  </a:lnTo>
                  <a:lnTo>
                    <a:pt x="3249" y="1812"/>
                  </a:lnTo>
                  <a:lnTo>
                    <a:pt x="3184" y="1709"/>
                  </a:lnTo>
                  <a:lnTo>
                    <a:pt x="3287" y="1682"/>
                  </a:lnTo>
                  <a:lnTo>
                    <a:pt x="3341" y="1634"/>
                  </a:lnTo>
                  <a:lnTo>
                    <a:pt x="3379" y="1627"/>
                  </a:lnTo>
                  <a:lnTo>
                    <a:pt x="3379" y="1562"/>
                  </a:lnTo>
                  <a:lnTo>
                    <a:pt x="3358" y="1496"/>
                  </a:lnTo>
                  <a:lnTo>
                    <a:pt x="3440" y="1452"/>
                  </a:lnTo>
                  <a:lnTo>
                    <a:pt x="3526" y="1394"/>
                  </a:lnTo>
                  <a:lnTo>
                    <a:pt x="3580" y="1442"/>
                  </a:lnTo>
                  <a:lnTo>
                    <a:pt x="3608" y="1542"/>
                  </a:lnTo>
                  <a:lnTo>
                    <a:pt x="3645" y="1644"/>
                  </a:lnTo>
                  <a:lnTo>
                    <a:pt x="3700" y="1719"/>
                  </a:lnTo>
                  <a:lnTo>
                    <a:pt x="3727" y="1812"/>
                  </a:lnTo>
                  <a:lnTo>
                    <a:pt x="3690" y="1873"/>
                  </a:lnTo>
                  <a:lnTo>
                    <a:pt x="3680" y="1928"/>
                  </a:lnTo>
                  <a:lnTo>
                    <a:pt x="3755" y="1911"/>
                  </a:lnTo>
                  <a:lnTo>
                    <a:pt x="3847" y="1856"/>
                  </a:lnTo>
                  <a:lnTo>
                    <a:pt x="3891" y="1726"/>
                  </a:lnTo>
                  <a:lnTo>
                    <a:pt x="3984" y="1726"/>
                  </a:lnTo>
                  <a:lnTo>
                    <a:pt x="4021" y="1709"/>
                  </a:lnTo>
                  <a:lnTo>
                    <a:pt x="4014" y="1617"/>
                  </a:lnTo>
                  <a:lnTo>
                    <a:pt x="3977" y="1525"/>
                  </a:lnTo>
                  <a:lnTo>
                    <a:pt x="4059" y="1525"/>
                  </a:lnTo>
                  <a:lnTo>
                    <a:pt x="4151" y="1617"/>
                  </a:lnTo>
                  <a:lnTo>
                    <a:pt x="4234" y="1682"/>
                  </a:lnTo>
                  <a:lnTo>
                    <a:pt x="4309" y="1682"/>
                  </a:lnTo>
                  <a:lnTo>
                    <a:pt x="4419" y="1634"/>
                  </a:lnTo>
                  <a:lnTo>
                    <a:pt x="4483" y="1535"/>
                  </a:lnTo>
                  <a:lnTo>
                    <a:pt x="4528" y="1442"/>
                  </a:lnTo>
                  <a:lnTo>
                    <a:pt x="4695" y="1469"/>
                  </a:lnTo>
                  <a:lnTo>
                    <a:pt x="4559" y="1387"/>
                  </a:lnTo>
                  <a:lnTo>
                    <a:pt x="4446" y="1394"/>
                  </a:lnTo>
                  <a:lnTo>
                    <a:pt x="4429" y="1274"/>
                  </a:lnTo>
                  <a:lnTo>
                    <a:pt x="4429" y="1202"/>
                  </a:lnTo>
                  <a:lnTo>
                    <a:pt x="4538" y="1165"/>
                  </a:lnTo>
                  <a:lnTo>
                    <a:pt x="4565" y="1093"/>
                  </a:lnTo>
                  <a:lnTo>
                    <a:pt x="4483" y="1137"/>
                  </a:lnTo>
                  <a:lnTo>
                    <a:pt x="4391" y="1192"/>
                  </a:lnTo>
                  <a:lnTo>
                    <a:pt x="4282" y="1202"/>
                  </a:lnTo>
                  <a:lnTo>
                    <a:pt x="4337" y="1332"/>
                  </a:lnTo>
                  <a:lnTo>
                    <a:pt x="4326" y="1431"/>
                  </a:lnTo>
                  <a:lnTo>
                    <a:pt x="4326" y="1513"/>
                  </a:lnTo>
                  <a:lnTo>
                    <a:pt x="4244" y="1562"/>
                  </a:lnTo>
                  <a:lnTo>
                    <a:pt x="4161" y="1590"/>
                  </a:lnTo>
                  <a:lnTo>
                    <a:pt x="4096" y="1525"/>
                  </a:lnTo>
                  <a:lnTo>
                    <a:pt x="4103" y="1442"/>
                  </a:lnTo>
                  <a:lnTo>
                    <a:pt x="4113" y="1387"/>
                  </a:lnTo>
                  <a:lnTo>
                    <a:pt x="4021" y="1431"/>
                  </a:lnTo>
                  <a:lnTo>
                    <a:pt x="3929" y="1377"/>
                  </a:lnTo>
                  <a:lnTo>
                    <a:pt x="3891" y="1305"/>
                  </a:lnTo>
                  <a:lnTo>
                    <a:pt x="3912" y="1202"/>
                  </a:lnTo>
                  <a:lnTo>
                    <a:pt x="3902" y="1192"/>
                  </a:lnTo>
                  <a:lnTo>
                    <a:pt x="3912" y="1185"/>
                  </a:lnTo>
                  <a:lnTo>
                    <a:pt x="3922" y="1175"/>
                  </a:lnTo>
                  <a:lnTo>
                    <a:pt x="2836" y="1175"/>
                  </a:lnTo>
                  <a:lnTo>
                    <a:pt x="2777" y="1247"/>
                  </a:lnTo>
                  <a:lnTo>
                    <a:pt x="2685" y="1295"/>
                  </a:lnTo>
                  <a:lnTo>
                    <a:pt x="2593" y="1257"/>
                  </a:lnTo>
                  <a:lnTo>
                    <a:pt x="2549" y="1192"/>
                  </a:lnTo>
                  <a:lnTo>
                    <a:pt x="2549" y="1127"/>
                  </a:lnTo>
                  <a:lnTo>
                    <a:pt x="2566" y="1110"/>
                  </a:lnTo>
                  <a:lnTo>
                    <a:pt x="2347" y="1110"/>
                  </a:lnTo>
                  <a:lnTo>
                    <a:pt x="2272" y="1127"/>
                  </a:lnTo>
                  <a:lnTo>
                    <a:pt x="2200" y="1257"/>
                  </a:lnTo>
                  <a:lnTo>
                    <a:pt x="2173" y="1360"/>
                  </a:lnTo>
                  <a:lnTo>
                    <a:pt x="2135" y="1452"/>
                  </a:lnTo>
                  <a:lnTo>
                    <a:pt x="2022" y="1431"/>
                  </a:lnTo>
                  <a:lnTo>
                    <a:pt x="1940" y="1360"/>
                  </a:lnTo>
                  <a:lnTo>
                    <a:pt x="1930" y="1202"/>
                  </a:lnTo>
                  <a:lnTo>
                    <a:pt x="1903" y="1055"/>
                  </a:lnTo>
                  <a:lnTo>
                    <a:pt x="1831" y="963"/>
                  </a:lnTo>
                  <a:lnTo>
                    <a:pt x="1848" y="888"/>
                  </a:lnTo>
                  <a:lnTo>
                    <a:pt x="1793" y="768"/>
                  </a:lnTo>
                  <a:lnTo>
                    <a:pt x="1739" y="714"/>
                  </a:lnTo>
                  <a:lnTo>
                    <a:pt x="1664" y="779"/>
                  </a:lnTo>
                  <a:lnTo>
                    <a:pt x="1554" y="707"/>
                  </a:lnTo>
                  <a:lnTo>
                    <a:pt x="1506" y="762"/>
                  </a:lnTo>
                  <a:lnTo>
                    <a:pt x="1445" y="799"/>
                  </a:lnTo>
                  <a:lnTo>
                    <a:pt x="1325" y="844"/>
                  </a:lnTo>
                  <a:lnTo>
                    <a:pt x="1250" y="936"/>
                  </a:lnTo>
                  <a:lnTo>
                    <a:pt x="1387" y="953"/>
                  </a:lnTo>
                  <a:lnTo>
                    <a:pt x="1517" y="1001"/>
                  </a:lnTo>
                  <a:lnTo>
                    <a:pt x="1582" y="1093"/>
                  </a:lnTo>
                  <a:lnTo>
                    <a:pt x="1664" y="1185"/>
                  </a:lnTo>
                  <a:lnTo>
                    <a:pt x="1684" y="1339"/>
                  </a:lnTo>
                  <a:lnTo>
                    <a:pt x="1636" y="1469"/>
                  </a:lnTo>
                  <a:lnTo>
                    <a:pt x="1554" y="1525"/>
                  </a:lnTo>
                  <a:lnTo>
                    <a:pt x="1462" y="1431"/>
                  </a:lnTo>
                  <a:lnTo>
                    <a:pt x="1288" y="1425"/>
                  </a:lnTo>
                  <a:lnTo>
                    <a:pt x="1288" y="1349"/>
                  </a:lnTo>
                  <a:lnTo>
                    <a:pt x="1445" y="1305"/>
                  </a:lnTo>
                  <a:lnTo>
                    <a:pt x="1452" y="1230"/>
                  </a:lnTo>
                  <a:lnTo>
                    <a:pt x="1435" y="1192"/>
                  </a:lnTo>
                  <a:lnTo>
                    <a:pt x="1380" y="1274"/>
                  </a:lnTo>
                  <a:lnTo>
                    <a:pt x="1295" y="1219"/>
                  </a:lnTo>
                  <a:lnTo>
                    <a:pt x="1418" y="1137"/>
                  </a:lnTo>
                  <a:lnTo>
                    <a:pt x="1462" y="1202"/>
                  </a:lnTo>
                  <a:lnTo>
                    <a:pt x="1380" y="1127"/>
                  </a:lnTo>
                  <a:lnTo>
                    <a:pt x="1288" y="1127"/>
                  </a:lnTo>
                  <a:lnTo>
                    <a:pt x="1223" y="1185"/>
                  </a:lnTo>
                  <a:lnTo>
                    <a:pt x="1240" y="1274"/>
                  </a:lnTo>
                  <a:lnTo>
                    <a:pt x="1240" y="1387"/>
                  </a:lnTo>
                  <a:lnTo>
                    <a:pt x="1206" y="1479"/>
                  </a:lnTo>
                  <a:lnTo>
                    <a:pt x="1240" y="1579"/>
                  </a:lnTo>
                  <a:lnTo>
                    <a:pt x="1141" y="1513"/>
                  </a:lnTo>
                  <a:lnTo>
                    <a:pt x="1093" y="1552"/>
                  </a:lnTo>
                  <a:lnTo>
                    <a:pt x="1076" y="1496"/>
                  </a:lnTo>
                  <a:lnTo>
                    <a:pt x="1093" y="1394"/>
                  </a:lnTo>
                  <a:lnTo>
                    <a:pt x="1011" y="1442"/>
                  </a:lnTo>
                  <a:lnTo>
                    <a:pt x="973" y="1525"/>
                  </a:lnTo>
                  <a:lnTo>
                    <a:pt x="908" y="1590"/>
                  </a:lnTo>
                  <a:lnTo>
                    <a:pt x="908" y="1661"/>
                  </a:lnTo>
                  <a:lnTo>
                    <a:pt x="799" y="1661"/>
                  </a:lnTo>
                  <a:lnTo>
                    <a:pt x="761" y="1719"/>
                  </a:lnTo>
                  <a:lnTo>
                    <a:pt x="799" y="1829"/>
                  </a:lnTo>
                  <a:lnTo>
                    <a:pt x="919" y="1883"/>
                  </a:lnTo>
                  <a:lnTo>
                    <a:pt x="973" y="1938"/>
                  </a:lnTo>
                  <a:lnTo>
                    <a:pt x="963" y="2041"/>
                  </a:lnTo>
                  <a:lnTo>
                    <a:pt x="1028" y="2020"/>
                  </a:lnTo>
                  <a:lnTo>
                    <a:pt x="1048" y="1921"/>
                  </a:lnTo>
                  <a:lnTo>
                    <a:pt x="1175" y="1921"/>
                  </a:lnTo>
                  <a:lnTo>
                    <a:pt x="1250" y="1829"/>
                  </a:lnTo>
                  <a:lnTo>
                    <a:pt x="1260" y="1726"/>
                  </a:lnTo>
                  <a:lnTo>
                    <a:pt x="1250" y="1562"/>
                  </a:lnTo>
                  <a:lnTo>
                    <a:pt x="1288" y="1459"/>
                  </a:lnTo>
                  <a:lnTo>
                    <a:pt x="1353" y="1387"/>
                  </a:lnTo>
                  <a:lnTo>
                    <a:pt x="1452" y="1452"/>
                  </a:lnTo>
                  <a:lnTo>
                    <a:pt x="1571" y="1525"/>
                  </a:lnTo>
                  <a:lnTo>
                    <a:pt x="1629" y="1562"/>
                  </a:lnTo>
                  <a:lnTo>
                    <a:pt x="1691" y="1661"/>
                  </a:lnTo>
                  <a:lnTo>
                    <a:pt x="1776" y="1719"/>
                  </a:lnTo>
                  <a:lnTo>
                    <a:pt x="1804" y="1829"/>
                  </a:lnTo>
                  <a:lnTo>
                    <a:pt x="1821" y="1911"/>
                  </a:lnTo>
                  <a:lnTo>
                    <a:pt x="1903" y="1965"/>
                  </a:lnTo>
                  <a:lnTo>
                    <a:pt x="1831" y="2047"/>
                  </a:lnTo>
                  <a:lnTo>
                    <a:pt x="1718" y="2047"/>
                  </a:lnTo>
                  <a:lnTo>
                    <a:pt x="1609" y="2112"/>
                  </a:lnTo>
                  <a:lnTo>
                    <a:pt x="1517" y="2177"/>
                  </a:lnTo>
                  <a:lnTo>
                    <a:pt x="1387" y="2242"/>
                  </a:lnTo>
                  <a:lnTo>
                    <a:pt x="1288" y="2345"/>
                  </a:lnTo>
                  <a:lnTo>
                    <a:pt x="1185" y="2427"/>
                  </a:lnTo>
                  <a:lnTo>
                    <a:pt x="1175" y="2509"/>
                  </a:lnTo>
                  <a:lnTo>
                    <a:pt x="1175" y="2553"/>
                  </a:lnTo>
                  <a:lnTo>
                    <a:pt x="1093" y="2628"/>
                  </a:lnTo>
                  <a:lnTo>
                    <a:pt x="1103" y="2700"/>
                  </a:lnTo>
                  <a:lnTo>
                    <a:pt x="1021" y="2792"/>
                  </a:lnTo>
                  <a:lnTo>
                    <a:pt x="1021" y="2912"/>
                  </a:lnTo>
                  <a:lnTo>
                    <a:pt x="1086" y="3004"/>
                  </a:lnTo>
                  <a:lnTo>
                    <a:pt x="1048" y="3059"/>
                  </a:lnTo>
                  <a:lnTo>
                    <a:pt x="963" y="3025"/>
                  </a:lnTo>
                  <a:lnTo>
                    <a:pt x="936" y="2912"/>
                  </a:lnTo>
                  <a:lnTo>
                    <a:pt x="864" y="2851"/>
                  </a:lnTo>
                  <a:lnTo>
                    <a:pt x="789" y="2857"/>
                  </a:lnTo>
                  <a:lnTo>
                    <a:pt x="751" y="2939"/>
                  </a:lnTo>
                  <a:lnTo>
                    <a:pt x="669" y="2912"/>
                  </a:lnTo>
                  <a:lnTo>
                    <a:pt x="577" y="2912"/>
                  </a:lnTo>
                  <a:lnTo>
                    <a:pt x="478" y="2998"/>
                  </a:lnTo>
                  <a:lnTo>
                    <a:pt x="457" y="3059"/>
                  </a:lnTo>
                  <a:lnTo>
                    <a:pt x="430" y="3144"/>
                  </a:lnTo>
                  <a:lnTo>
                    <a:pt x="420" y="3281"/>
                  </a:lnTo>
                  <a:lnTo>
                    <a:pt x="478" y="3356"/>
                  </a:lnTo>
                  <a:lnTo>
                    <a:pt x="560" y="3298"/>
                  </a:lnTo>
                  <a:lnTo>
                    <a:pt x="662" y="3298"/>
                  </a:lnTo>
                  <a:lnTo>
                    <a:pt x="669" y="3411"/>
                  </a:lnTo>
                  <a:lnTo>
                    <a:pt x="604" y="3493"/>
                  </a:lnTo>
                  <a:lnTo>
                    <a:pt x="717" y="3503"/>
                  </a:lnTo>
                  <a:lnTo>
                    <a:pt x="761" y="3520"/>
                  </a:lnTo>
                  <a:lnTo>
                    <a:pt x="789" y="3623"/>
                  </a:lnTo>
                  <a:lnTo>
                    <a:pt x="881" y="3678"/>
                  </a:lnTo>
                  <a:lnTo>
                    <a:pt x="994" y="3749"/>
                  </a:lnTo>
                  <a:lnTo>
                    <a:pt x="1076" y="3695"/>
                  </a:lnTo>
                  <a:lnTo>
                    <a:pt x="1240" y="3749"/>
                  </a:lnTo>
                  <a:lnTo>
                    <a:pt x="1359" y="3770"/>
                  </a:lnTo>
                  <a:lnTo>
                    <a:pt x="1544" y="3859"/>
                  </a:lnTo>
                  <a:lnTo>
                    <a:pt x="1582" y="3934"/>
                  </a:lnTo>
                  <a:lnTo>
                    <a:pt x="1691" y="4026"/>
                  </a:lnTo>
                  <a:lnTo>
                    <a:pt x="1749" y="4163"/>
                  </a:lnTo>
                  <a:lnTo>
                    <a:pt x="1875" y="4218"/>
                  </a:lnTo>
                  <a:lnTo>
                    <a:pt x="1995" y="4238"/>
                  </a:lnTo>
                  <a:lnTo>
                    <a:pt x="2108" y="4337"/>
                  </a:lnTo>
                  <a:lnTo>
                    <a:pt x="2261" y="4337"/>
                  </a:lnTo>
                  <a:lnTo>
                    <a:pt x="2272" y="4429"/>
                  </a:lnTo>
                  <a:lnTo>
                    <a:pt x="2272" y="4522"/>
                  </a:lnTo>
                  <a:lnTo>
                    <a:pt x="2200" y="4615"/>
                  </a:lnTo>
                  <a:lnTo>
                    <a:pt x="2190" y="4745"/>
                  </a:lnTo>
                  <a:lnTo>
                    <a:pt x="2173" y="4854"/>
                  </a:lnTo>
                  <a:lnTo>
                    <a:pt x="2087" y="4963"/>
                  </a:lnTo>
                  <a:lnTo>
                    <a:pt x="1968" y="5018"/>
                  </a:lnTo>
                  <a:lnTo>
                    <a:pt x="1869" y="5049"/>
                  </a:lnTo>
                  <a:lnTo>
                    <a:pt x="1913" y="5148"/>
                  </a:lnTo>
                  <a:lnTo>
                    <a:pt x="1821" y="5251"/>
                  </a:lnTo>
                  <a:lnTo>
                    <a:pt x="1739" y="5343"/>
                  </a:lnTo>
                  <a:lnTo>
                    <a:pt x="1636" y="5397"/>
                  </a:lnTo>
                  <a:lnTo>
                    <a:pt x="1554" y="5534"/>
                  </a:lnTo>
                  <a:lnTo>
                    <a:pt x="1506" y="5626"/>
                  </a:lnTo>
                  <a:lnTo>
                    <a:pt x="1418" y="5674"/>
                  </a:lnTo>
                  <a:lnTo>
                    <a:pt x="1353" y="5756"/>
                  </a:lnTo>
                  <a:lnTo>
                    <a:pt x="1295" y="5838"/>
                  </a:lnTo>
                  <a:lnTo>
                    <a:pt x="1260" y="5920"/>
                  </a:lnTo>
                  <a:lnTo>
                    <a:pt x="1267" y="5996"/>
                  </a:lnTo>
                  <a:lnTo>
                    <a:pt x="1223" y="6060"/>
                  </a:lnTo>
                  <a:lnTo>
                    <a:pt x="1158" y="5948"/>
                  </a:lnTo>
                  <a:lnTo>
                    <a:pt x="1055" y="5855"/>
                  </a:lnTo>
                  <a:lnTo>
                    <a:pt x="1021" y="5736"/>
                  </a:lnTo>
                  <a:lnTo>
                    <a:pt x="1021" y="5626"/>
                  </a:lnTo>
                  <a:lnTo>
                    <a:pt x="1011" y="5490"/>
                  </a:lnTo>
                  <a:lnTo>
                    <a:pt x="1055" y="5315"/>
                  </a:lnTo>
                  <a:lnTo>
                    <a:pt x="1076" y="5148"/>
                  </a:lnTo>
                  <a:lnTo>
                    <a:pt x="1048" y="4984"/>
                  </a:lnTo>
                  <a:lnTo>
                    <a:pt x="1011" y="4854"/>
                  </a:lnTo>
                  <a:lnTo>
                    <a:pt x="908" y="4745"/>
                  </a:lnTo>
                  <a:lnTo>
                    <a:pt x="799" y="4653"/>
                  </a:lnTo>
                  <a:lnTo>
                    <a:pt x="717" y="4515"/>
                  </a:lnTo>
                  <a:lnTo>
                    <a:pt x="697" y="4364"/>
                  </a:lnTo>
                  <a:lnTo>
                    <a:pt x="751" y="4265"/>
                  </a:lnTo>
                  <a:lnTo>
                    <a:pt x="751" y="4173"/>
                  </a:lnTo>
                  <a:lnTo>
                    <a:pt x="799" y="4016"/>
                  </a:lnTo>
                  <a:lnTo>
                    <a:pt x="874" y="3907"/>
                  </a:lnTo>
                  <a:lnTo>
                    <a:pt x="963" y="3831"/>
                  </a:lnTo>
                  <a:lnTo>
                    <a:pt x="1001" y="3770"/>
                  </a:lnTo>
                  <a:lnTo>
                    <a:pt x="881" y="3722"/>
                  </a:lnTo>
                  <a:lnTo>
                    <a:pt x="809" y="3749"/>
                  </a:lnTo>
                  <a:lnTo>
                    <a:pt x="744" y="3712"/>
                  </a:lnTo>
                  <a:lnTo>
                    <a:pt x="642" y="3640"/>
                  </a:lnTo>
                  <a:lnTo>
                    <a:pt x="550" y="3575"/>
                  </a:lnTo>
                  <a:lnTo>
                    <a:pt x="505" y="3473"/>
                  </a:lnTo>
                  <a:lnTo>
                    <a:pt x="457" y="3445"/>
                  </a:lnTo>
                  <a:lnTo>
                    <a:pt x="413" y="3493"/>
                  </a:lnTo>
                  <a:lnTo>
                    <a:pt x="300" y="3428"/>
                  </a:lnTo>
                  <a:lnTo>
                    <a:pt x="246" y="3346"/>
                  </a:lnTo>
                  <a:lnTo>
                    <a:pt x="201" y="3281"/>
                  </a:lnTo>
                  <a:lnTo>
                    <a:pt x="201" y="3162"/>
                  </a:lnTo>
                  <a:lnTo>
                    <a:pt x="181" y="3107"/>
                  </a:lnTo>
                  <a:lnTo>
                    <a:pt x="99" y="3032"/>
                  </a:lnTo>
                  <a:lnTo>
                    <a:pt x="99" y="3097"/>
                  </a:lnTo>
                  <a:lnTo>
                    <a:pt x="146" y="3179"/>
                  </a:lnTo>
                  <a:lnTo>
                    <a:pt x="164" y="3254"/>
                  </a:lnTo>
                  <a:lnTo>
                    <a:pt x="82" y="3199"/>
                  </a:lnTo>
                  <a:lnTo>
                    <a:pt x="27" y="3134"/>
                  </a:lnTo>
                  <a:lnTo>
                    <a:pt x="6" y="3042"/>
                  </a:lnTo>
                  <a:lnTo>
                    <a:pt x="17" y="2905"/>
                  </a:lnTo>
                  <a:lnTo>
                    <a:pt x="0" y="2710"/>
                  </a:lnTo>
                  <a:lnTo>
                    <a:pt x="17" y="2464"/>
                  </a:lnTo>
                  <a:lnTo>
                    <a:pt x="82" y="2112"/>
                  </a:lnTo>
                  <a:lnTo>
                    <a:pt x="191" y="1754"/>
                  </a:lnTo>
                  <a:lnTo>
                    <a:pt x="375" y="1339"/>
                  </a:lnTo>
                  <a:lnTo>
                    <a:pt x="522" y="1045"/>
                  </a:lnTo>
                  <a:lnTo>
                    <a:pt x="744" y="714"/>
                  </a:lnTo>
                  <a:lnTo>
                    <a:pt x="919" y="522"/>
                  </a:lnTo>
                  <a:close/>
                </a:path>
              </a:pathLst>
            </a:custGeom>
            <a:solidFill>
              <a:srgbClr val="2144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08160" y="1476360"/>
              <a:ext cx="2999160" cy="2188080"/>
            </a:xfrm>
            <a:custGeom>
              <a:avLst/>
              <a:gdLst/>
              <a:ahLst/>
              <a:rect l="0" t="0" r="r" b="b"/>
              <a:pathLst>
                <a:path w="8331" h="6078">
                  <a:moveTo>
                    <a:pt x="847" y="553"/>
                  </a:moveTo>
                  <a:lnTo>
                    <a:pt x="950" y="543"/>
                  </a:lnTo>
                  <a:lnTo>
                    <a:pt x="1022" y="471"/>
                  </a:lnTo>
                  <a:lnTo>
                    <a:pt x="1107" y="423"/>
                  </a:lnTo>
                  <a:lnTo>
                    <a:pt x="1151" y="369"/>
                  </a:lnTo>
                  <a:lnTo>
                    <a:pt x="1254" y="304"/>
                  </a:lnTo>
                  <a:lnTo>
                    <a:pt x="1336" y="276"/>
                  </a:lnTo>
                  <a:lnTo>
                    <a:pt x="1421" y="249"/>
                  </a:lnTo>
                  <a:lnTo>
                    <a:pt x="1483" y="249"/>
                  </a:lnTo>
                  <a:lnTo>
                    <a:pt x="1531" y="218"/>
                  </a:lnTo>
                  <a:lnTo>
                    <a:pt x="1606" y="218"/>
                  </a:lnTo>
                  <a:lnTo>
                    <a:pt x="1633" y="174"/>
                  </a:lnTo>
                  <a:lnTo>
                    <a:pt x="1715" y="191"/>
                  </a:lnTo>
                  <a:lnTo>
                    <a:pt x="1797" y="146"/>
                  </a:lnTo>
                  <a:lnTo>
                    <a:pt x="1862" y="174"/>
                  </a:lnTo>
                  <a:lnTo>
                    <a:pt x="1900" y="211"/>
                  </a:lnTo>
                  <a:lnTo>
                    <a:pt x="1862" y="249"/>
                  </a:lnTo>
                  <a:lnTo>
                    <a:pt x="1797" y="218"/>
                  </a:lnTo>
                  <a:lnTo>
                    <a:pt x="1732" y="256"/>
                  </a:lnTo>
                  <a:lnTo>
                    <a:pt x="1698" y="314"/>
                  </a:lnTo>
                  <a:lnTo>
                    <a:pt x="1678" y="375"/>
                  </a:lnTo>
                  <a:lnTo>
                    <a:pt x="1613" y="386"/>
                  </a:lnTo>
                  <a:lnTo>
                    <a:pt x="1531" y="423"/>
                  </a:lnTo>
                  <a:lnTo>
                    <a:pt x="1521" y="516"/>
                  </a:lnTo>
                  <a:lnTo>
                    <a:pt x="1514" y="591"/>
                  </a:lnTo>
                  <a:lnTo>
                    <a:pt x="1483" y="645"/>
                  </a:lnTo>
                  <a:lnTo>
                    <a:pt x="1521" y="700"/>
                  </a:lnTo>
                  <a:lnTo>
                    <a:pt x="1558" y="553"/>
                  </a:lnTo>
                  <a:lnTo>
                    <a:pt x="1613" y="526"/>
                  </a:lnTo>
                  <a:lnTo>
                    <a:pt x="1678" y="451"/>
                  </a:lnTo>
                  <a:lnTo>
                    <a:pt x="1726" y="348"/>
                  </a:lnTo>
                  <a:lnTo>
                    <a:pt x="1835" y="331"/>
                  </a:lnTo>
                  <a:lnTo>
                    <a:pt x="1927" y="283"/>
                  </a:lnTo>
                  <a:lnTo>
                    <a:pt x="1982" y="201"/>
                  </a:lnTo>
                  <a:lnTo>
                    <a:pt x="2057" y="201"/>
                  </a:lnTo>
                  <a:lnTo>
                    <a:pt x="2233" y="191"/>
                  </a:lnTo>
                  <a:lnTo>
                    <a:pt x="2417" y="146"/>
                  </a:lnTo>
                  <a:lnTo>
                    <a:pt x="2475" y="146"/>
                  </a:lnTo>
                  <a:lnTo>
                    <a:pt x="2557" y="146"/>
                  </a:lnTo>
                  <a:lnTo>
                    <a:pt x="2639" y="146"/>
                  </a:lnTo>
                  <a:lnTo>
                    <a:pt x="2714" y="174"/>
                  </a:lnTo>
                  <a:lnTo>
                    <a:pt x="2807" y="249"/>
                  </a:lnTo>
                  <a:lnTo>
                    <a:pt x="2769" y="256"/>
                  </a:lnTo>
                  <a:lnTo>
                    <a:pt x="2667" y="293"/>
                  </a:lnTo>
                  <a:lnTo>
                    <a:pt x="2677" y="375"/>
                  </a:lnTo>
                  <a:lnTo>
                    <a:pt x="2759" y="386"/>
                  </a:lnTo>
                  <a:lnTo>
                    <a:pt x="2797" y="386"/>
                  </a:lnTo>
                  <a:lnTo>
                    <a:pt x="2779" y="451"/>
                  </a:lnTo>
                  <a:lnTo>
                    <a:pt x="2677" y="543"/>
                  </a:lnTo>
                  <a:lnTo>
                    <a:pt x="2622" y="553"/>
                  </a:lnTo>
                  <a:lnTo>
                    <a:pt x="2632" y="608"/>
                  </a:lnTo>
                  <a:lnTo>
                    <a:pt x="2650" y="645"/>
                  </a:lnTo>
                  <a:lnTo>
                    <a:pt x="2622" y="700"/>
                  </a:lnTo>
                  <a:lnTo>
                    <a:pt x="2667" y="775"/>
                  </a:lnTo>
                  <a:lnTo>
                    <a:pt x="2568" y="803"/>
                  </a:lnTo>
                  <a:lnTo>
                    <a:pt x="2475" y="830"/>
                  </a:lnTo>
                  <a:lnTo>
                    <a:pt x="2465" y="933"/>
                  </a:lnTo>
                  <a:lnTo>
                    <a:pt x="2417" y="1015"/>
                  </a:lnTo>
                  <a:lnTo>
                    <a:pt x="2352" y="1079"/>
                  </a:lnTo>
                  <a:lnTo>
                    <a:pt x="2270" y="1117"/>
                  </a:lnTo>
                  <a:lnTo>
                    <a:pt x="2465" y="1117"/>
                  </a:lnTo>
                  <a:lnTo>
                    <a:pt x="2568" y="1117"/>
                  </a:lnTo>
                  <a:lnTo>
                    <a:pt x="2632" y="1134"/>
                  </a:lnTo>
                  <a:lnTo>
                    <a:pt x="2714" y="1100"/>
                  </a:lnTo>
                  <a:lnTo>
                    <a:pt x="2759" y="1182"/>
                  </a:lnTo>
                  <a:lnTo>
                    <a:pt x="3839" y="1182"/>
                  </a:lnTo>
                  <a:lnTo>
                    <a:pt x="3877" y="1117"/>
                  </a:lnTo>
                  <a:lnTo>
                    <a:pt x="3996" y="1035"/>
                  </a:lnTo>
                  <a:lnTo>
                    <a:pt x="4044" y="922"/>
                  </a:lnTo>
                  <a:lnTo>
                    <a:pt x="4136" y="813"/>
                  </a:lnTo>
                  <a:lnTo>
                    <a:pt x="4191" y="721"/>
                  </a:lnTo>
                  <a:lnTo>
                    <a:pt x="4229" y="618"/>
                  </a:lnTo>
                  <a:lnTo>
                    <a:pt x="4311" y="591"/>
                  </a:lnTo>
                  <a:lnTo>
                    <a:pt x="4338" y="526"/>
                  </a:lnTo>
                  <a:lnTo>
                    <a:pt x="4403" y="553"/>
                  </a:lnTo>
                  <a:lnTo>
                    <a:pt x="4468" y="498"/>
                  </a:lnTo>
                  <a:lnTo>
                    <a:pt x="4523" y="543"/>
                  </a:lnTo>
                  <a:lnTo>
                    <a:pt x="4608" y="581"/>
                  </a:lnTo>
                  <a:lnTo>
                    <a:pt x="4680" y="598"/>
                  </a:lnTo>
                  <a:lnTo>
                    <a:pt x="4765" y="618"/>
                  </a:lnTo>
                  <a:lnTo>
                    <a:pt x="4820" y="591"/>
                  </a:lnTo>
                  <a:lnTo>
                    <a:pt x="4892" y="628"/>
                  </a:lnTo>
                  <a:lnTo>
                    <a:pt x="4950" y="700"/>
                  </a:lnTo>
                  <a:lnTo>
                    <a:pt x="5042" y="721"/>
                  </a:lnTo>
                  <a:lnTo>
                    <a:pt x="5059" y="803"/>
                  </a:lnTo>
                  <a:lnTo>
                    <a:pt x="5032" y="857"/>
                  </a:lnTo>
                  <a:lnTo>
                    <a:pt x="4902" y="830"/>
                  </a:lnTo>
                  <a:lnTo>
                    <a:pt x="4810" y="792"/>
                  </a:lnTo>
                  <a:lnTo>
                    <a:pt x="4800" y="857"/>
                  </a:lnTo>
                  <a:lnTo>
                    <a:pt x="4929" y="878"/>
                  </a:lnTo>
                  <a:lnTo>
                    <a:pt x="5032" y="950"/>
                  </a:lnTo>
                  <a:lnTo>
                    <a:pt x="5169" y="895"/>
                  </a:lnTo>
                  <a:lnTo>
                    <a:pt x="5206" y="786"/>
                  </a:lnTo>
                  <a:lnTo>
                    <a:pt x="5271" y="690"/>
                  </a:lnTo>
                  <a:lnTo>
                    <a:pt x="5357" y="710"/>
                  </a:lnTo>
                  <a:lnTo>
                    <a:pt x="5336" y="755"/>
                  </a:lnTo>
                  <a:lnTo>
                    <a:pt x="5292" y="803"/>
                  </a:lnTo>
                  <a:lnTo>
                    <a:pt x="5292" y="878"/>
                  </a:lnTo>
                  <a:lnTo>
                    <a:pt x="5374" y="792"/>
                  </a:lnTo>
                  <a:lnTo>
                    <a:pt x="5456" y="721"/>
                  </a:lnTo>
                  <a:lnTo>
                    <a:pt x="5596" y="700"/>
                  </a:lnTo>
                  <a:lnTo>
                    <a:pt x="5760" y="645"/>
                  </a:lnTo>
                  <a:lnTo>
                    <a:pt x="5890" y="591"/>
                  </a:lnTo>
                  <a:lnTo>
                    <a:pt x="5917" y="516"/>
                  </a:lnTo>
                  <a:lnTo>
                    <a:pt x="5808" y="526"/>
                  </a:lnTo>
                  <a:lnTo>
                    <a:pt x="5716" y="451"/>
                  </a:lnTo>
                  <a:lnTo>
                    <a:pt x="5651" y="348"/>
                  </a:lnTo>
                  <a:lnTo>
                    <a:pt x="5716" y="218"/>
                  </a:lnTo>
                  <a:lnTo>
                    <a:pt x="5818" y="136"/>
                  </a:lnTo>
                  <a:lnTo>
                    <a:pt x="5900" y="44"/>
                  </a:lnTo>
                  <a:lnTo>
                    <a:pt x="6030" y="44"/>
                  </a:lnTo>
                  <a:lnTo>
                    <a:pt x="6129" y="0"/>
                  </a:lnTo>
                  <a:lnTo>
                    <a:pt x="6122" y="61"/>
                  </a:lnTo>
                  <a:lnTo>
                    <a:pt x="6037" y="82"/>
                  </a:lnTo>
                  <a:lnTo>
                    <a:pt x="6010" y="109"/>
                  </a:lnTo>
                  <a:lnTo>
                    <a:pt x="5928" y="119"/>
                  </a:lnTo>
                  <a:lnTo>
                    <a:pt x="5873" y="191"/>
                  </a:lnTo>
                  <a:lnTo>
                    <a:pt x="5835" y="276"/>
                  </a:lnTo>
                  <a:lnTo>
                    <a:pt x="5808" y="348"/>
                  </a:lnTo>
                  <a:lnTo>
                    <a:pt x="5900" y="498"/>
                  </a:lnTo>
                  <a:lnTo>
                    <a:pt x="6047" y="553"/>
                  </a:lnTo>
                  <a:lnTo>
                    <a:pt x="6150" y="608"/>
                  </a:lnTo>
                  <a:lnTo>
                    <a:pt x="6204" y="628"/>
                  </a:lnTo>
                  <a:lnTo>
                    <a:pt x="6253" y="700"/>
                  </a:lnTo>
                  <a:lnTo>
                    <a:pt x="6298" y="690"/>
                  </a:lnTo>
                  <a:lnTo>
                    <a:pt x="6298" y="628"/>
                  </a:lnTo>
                  <a:lnTo>
                    <a:pt x="6270" y="553"/>
                  </a:lnTo>
                  <a:lnTo>
                    <a:pt x="6221" y="505"/>
                  </a:lnTo>
                  <a:lnTo>
                    <a:pt x="6215" y="451"/>
                  </a:lnTo>
                  <a:lnTo>
                    <a:pt x="6253" y="348"/>
                  </a:lnTo>
                  <a:lnTo>
                    <a:pt x="6352" y="348"/>
                  </a:lnTo>
                  <a:lnTo>
                    <a:pt x="6438" y="348"/>
                  </a:lnTo>
                  <a:lnTo>
                    <a:pt x="6472" y="386"/>
                  </a:lnTo>
                  <a:lnTo>
                    <a:pt x="6503" y="478"/>
                  </a:lnTo>
                  <a:lnTo>
                    <a:pt x="6537" y="553"/>
                  </a:lnTo>
                  <a:lnTo>
                    <a:pt x="6557" y="478"/>
                  </a:lnTo>
                  <a:lnTo>
                    <a:pt x="6629" y="423"/>
                  </a:lnTo>
                  <a:lnTo>
                    <a:pt x="6715" y="423"/>
                  </a:lnTo>
                  <a:lnTo>
                    <a:pt x="6780" y="423"/>
                  </a:lnTo>
                  <a:lnTo>
                    <a:pt x="6851" y="434"/>
                  </a:lnTo>
                  <a:lnTo>
                    <a:pt x="6851" y="348"/>
                  </a:lnTo>
                  <a:lnTo>
                    <a:pt x="6916" y="348"/>
                  </a:lnTo>
                  <a:lnTo>
                    <a:pt x="6954" y="413"/>
                  </a:lnTo>
                  <a:lnTo>
                    <a:pt x="7046" y="413"/>
                  </a:lnTo>
                  <a:lnTo>
                    <a:pt x="7128" y="375"/>
                  </a:lnTo>
                  <a:lnTo>
                    <a:pt x="7214" y="451"/>
                  </a:lnTo>
                  <a:lnTo>
                    <a:pt x="7313" y="543"/>
                  </a:lnTo>
                  <a:lnTo>
                    <a:pt x="7426" y="553"/>
                  </a:lnTo>
                  <a:lnTo>
                    <a:pt x="7562" y="618"/>
                  </a:lnTo>
                  <a:lnTo>
                    <a:pt x="7610" y="608"/>
                  </a:lnTo>
                  <a:lnTo>
                    <a:pt x="7720" y="792"/>
                  </a:lnTo>
                  <a:lnTo>
                    <a:pt x="7877" y="1079"/>
                  </a:lnTo>
                  <a:lnTo>
                    <a:pt x="7996" y="1257"/>
                  </a:lnTo>
                  <a:lnTo>
                    <a:pt x="8051" y="1421"/>
                  </a:lnTo>
                  <a:lnTo>
                    <a:pt x="7969" y="1459"/>
                  </a:lnTo>
                  <a:lnTo>
                    <a:pt x="7942" y="1535"/>
                  </a:lnTo>
                  <a:lnTo>
                    <a:pt x="7969" y="1672"/>
                  </a:lnTo>
                  <a:lnTo>
                    <a:pt x="8024" y="1802"/>
                  </a:lnTo>
                  <a:lnTo>
                    <a:pt x="8082" y="1802"/>
                  </a:lnTo>
                  <a:lnTo>
                    <a:pt x="8082" y="1699"/>
                  </a:lnTo>
                  <a:lnTo>
                    <a:pt x="8137" y="1672"/>
                  </a:lnTo>
                  <a:lnTo>
                    <a:pt x="8174" y="1764"/>
                  </a:lnTo>
                  <a:lnTo>
                    <a:pt x="8099" y="1802"/>
                  </a:lnTo>
                  <a:lnTo>
                    <a:pt x="8208" y="1894"/>
                  </a:lnTo>
                  <a:lnTo>
                    <a:pt x="8126" y="2007"/>
                  </a:lnTo>
                  <a:lnTo>
                    <a:pt x="8109" y="2061"/>
                  </a:lnTo>
                  <a:lnTo>
                    <a:pt x="8246" y="2099"/>
                  </a:lnTo>
                  <a:lnTo>
                    <a:pt x="8181" y="2171"/>
                  </a:lnTo>
                  <a:lnTo>
                    <a:pt x="8116" y="2201"/>
                  </a:lnTo>
                  <a:lnTo>
                    <a:pt x="8116" y="2328"/>
                  </a:lnTo>
                  <a:lnTo>
                    <a:pt x="8181" y="2441"/>
                  </a:lnTo>
                  <a:lnTo>
                    <a:pt x="8116" y="2468"/>
                  </a:lnTo>
                  <a:lnTo>
                    <a:pt x="7996" y="2430"/>
                  </a:lnTo>
                  <a:lnTo>
                    <a:pt x="8044" y="2376"/>
                  </a:lnTo>
                  <a:lnTo>
                    <a:pt x="8126" y="2376"/>
                  </a:lnTo>
                  <a:lnTo>
                    <a:pt x="8126" y="2229"/>
                  </a:lnTo>
                  <a:lnTo>
                    <a:pt x="8034" y="2273"/>
                  </a:lnTo>
                  <a:lnTo>
                    <a:pt x="8024" y="2171"/>
                  </a:lnTo>
                  <a:lnTo>
                    <a:pt x="8109" y="2099"/>
                  </a:lnTo>
                  <a:lnTo>
                    <a:pt x="8126" y="2014"/>
                  </a:lnTo>
                  <a:lnTo>
                    <a:pt x="8082" y="1914"/>
                  </a:lnTo>
                  <a:lnTo>
                    <a:pt x="8082" y="1795"/>
                  </a:lnTo>
                  <a:lnTo>
                    <a:pt x="8017" y="1839"/>
                  </a:lnTo>
                  <a:lnTo>
                    <a:pt x="7952" y="1931"/>
                  </a:lnTo>
                  <a:lnTo>
                    <a:pt x="7850" y="2014"/>
                  </a:lnTo>
                  <a:lnTo>
                    <a:pt x="7877" y="2126"/>
                  </a:lnTo>
                  <a:lnTo>
                    <a:pt x="7867" y="2229"/>
                  </a:lnTo>
                  <a:lnTo>
                    <a:pt x="7867" y="2294"/>
                  </a:lnTo>
                  <a:lnTo>
                    <a:pt x="7925" y="2376"/>
                  </a:lnTo>
                  <a:lnTo>
                    <a:pt x="7877" y="2424"/>
                  </a:lnTo>
                  <a:lnTo>
                    <a:pt x="7774" y="2311"/>
                  </a:lnTo>
                  <a:lnTo>
                    <a:pt x="7720" y="2201"/>
                  </a:lnTo>
                  <a:lnTo>
                    <a:pt x="7682" y="2116"/>
                  </a:lnTo>
                  <a:lnTo>
                    <a:pt x="7638" y="2078"/>
                  </a:lnTo>
                  <a:lnTo>
                    <a:pt x="7556" y="2126"/>
                  </a:lnTo>
                  <a:lnTo>
                    <a:pt x="7518" y="2208"/>
                  </a:lnTo>
                  <a:lnTo>
                    <a:pt x="7617" y="2311"/>
                  </a:lnTo>
                  <a:lnTo>
                    <a:pt x="7675" y="2424"/>
                  </a:lnTo>
                  <a:lnTo>
                    <a:pt x="7682" y="2550"/>
                  </a:lnTo>
                  <a:lnTo>
                    <a:pt x="7675" y="2680"/>
                  </a:lnTo>
                  <a:lnTo>
                    <a:pt x="7675" y="2782"/>
                  </a:lnTo>
                  <a:lnTo>
                    <a:pt x="7730" y="2707"/>
                  </a:lnTo>
                  <a:lnTo>
                    <a:pt x="7812" y="2718"/>
                  </a:lnTo>
                  <a:lnTo>
                    <a:pt x="7839" y="2800"/>
                  </a:lnTo>
                  <a:lnTo>
                    <a:pt x="7774" y="2885"/>
                  </a:lnTo>
                  <a:lnTo>
                    <a:pt x="7703" y="2875"/>
                  </a:lnTo>
                  <a:lnTo>
                    <a:pt x="7682" y="2950"/>
                  </a:lnTo>
                  <a:lnTo>
                    <a:pt x="7747" y="3022"/>
                  </a:lnTo>
                  <a:lnTo>
                    <a:pt x="7720" y="3117"/>
                  </a:lnTo>
                  <a:lnTo>
                    <a:pt x="7802" y="3189"/>
                  </a:lnTo>
                  <a:lnTo>
                    <a:pt x="7747" y="3254"/>
                  </a:lnTo>
                  <a:lnTo>
                    <a:pt x="7832" y="3336"/>
                  </a:lnTo>
                  <a:lnTo>
                    <a:pt x="7774" y="3422"/>
                  </a:lnTo>
                  <a:lnTo>
                    <a:pt x="7867" y="3367"/>
                  </a:lnTo>
                  <a:lnTo>
                    <a:pt x="7839" y="3449"/>
                  </a:lnTo>
                  <a:lnTo>
                    <a:pt x="8007" y="3422"/>
                  </a:lnTo>
                  <a:lnTo>
                    <a:pt x="7952" y="3524"/>
                  </a:lnTo>
                  <a:lnTo>
                    <a:pt x="7839" y="3449"/>
                  </a:lnTo>
                  <a:lnTo>
                    <a:pt x="7832" y="3558"/>
                  </a:lnTo>
                  <a:lnTo>
                    <a:pt x="7996" y="3551"/>
                  </a:lnTo>
                  <a:lnTo>
                    <a:pt x="7925" y="3671"/>
                  </a:lnTo>
                  <a:lnTo>
                    <a:pt x="7812" y="3541"/>
                  </a:lnTo>
                  <a:lnTo>
                    <a:pt x="7867" y="3715"/>
                  </a:lnTo>
                  <a:lnTo>
                    <a:pt x="8007" y="3839"/>
                  </a:lnTo>
                  <a:lnTo>
                    <a:pt x="7877" y="3839"/>
                  </a:lnTo>
                  <a:lnTo>
                    <a:pt x="7812" y="3558"/>
                  </a:lnTo>
                  <a:lnTo>
                    <a:pt x="7839" y="3384"/>
                  </a:lnTo>
                  <a:lnTo>
                    <a:pt x="7747" y="3384"/>
                  </a:lnTo>
                  <a:lnTo>
                    <a:pt x="7675" y="3281"/>
                  </a:lnTo>
                  <a:lnTo>
                    <a:pt x="7747" y="3244"/>
                  </a:lnTo>
                  <a:lnTo>
                    <a:pt x="7747" y="3134"/>
                  </a:lnTo>
                  <a:lnTo>
                    <a:pt x="7703" y="2923"/>
                  </a:lnTo>
                  <a:lnTo>
                    <a:pt x="7682" y="2772"/>
                  </a:lnTo>
                  <a:lnTo>
                    <a:pt x="7675" y="2663"/>
                  </a:lnTo>
                  <a:lnTo>
                    <a:pt x="7583" y="2782"/>
                  </a:lnTo>
                  <a:lnTo>
                    <a:pt x="7443" y="2837"/>
                  </a:lnTo>
                  <a:lnTo>
                    <a:pt x="7371" y="2929"/>
                  </a:lnTo>
                  <a:lnTo>
                    <a:pt x="7398" y="3032"/>
                  </a:lnTo>
                  <a:lnTo>
                    <a:pt x="7340" y="3117"/>
                  </a:lnTo>
                  <a:lnTo>
                    <a:pt x="7248" y="3087"/>
                  </a:lnTo>
                  <a:lnTo>
                    <a:pt x="7333" y="2977"/>
                  </a:lnTo>
                  <a:lnTo>
                    <a:pt x="7268" y="2940"/>
                  </a:lnTo>
                  <a:lnTo>
                    <a:pt x="7193" y="3005"/>
                  </a:lnTo>
                  <a:lnTo>
                    <a:pt x="7193" y="3107"/>
                  </a:lnTo>
                  <a:lnTo>
                    <a:pt x="7333" y="3244"/>
                  </a:lnTo>
                  <a:lnTo>
                    <a:pt x="7371" y="3346"/>
                  </a:lnTo>
                  <a:lnTo>
                    <a:pt x="7258" y="3493"/>
                  </a:lnTo>
                  <a:lnTo>
                    <a:pt x="7258" y="3808"/>
                  </a:lnTo>
                  <a:lnTo>
                    <a:pt x="7258" y="3948"/>
                  </a:lnTo>
                  <a:lnTo>
                    <a:pt x="7275" y="4030"/>
                  </a:lnTo>
                  <a:lnTo>
                    <a:pt x="7432" y="4023"/>
                  </a:lnTo>
                  <a:lnTo>
                    <a:pt x="7535" y="4040"/>
                  </a:lnTo>
                  <a:lnTo>
                    <a:pt x="7610" y="3921"/>
                  </a:lnTo>
                  <a:lnTo>
                    <a:pt x="7682" y="3921"/>
                  </a:lnTo>
                  <a:lnTo>
                    <a:pt x="7648" y="3996"/>
                  </a:lnTo>
                  <a:lnTo>
                    <a:pt x="7747" y="4078"/>
                  </a:lnTo>
                  <a:lnTo>
                    <a:pt x="7867" y="4095"/>
                  </a:lnTo>
                  <a:lnTo>
                    <a:pt x="7850" y="4023"/>
                  </a:lnTo>
                  <a:lnTo>
                    <a:pt x="8116" y="4023"/>
                  </a:lnTo>
                  <a:lnTo>
                    <a:pt x="8024" y="4050"/>
                  </a:lnTo>
                  <a:lnTo>
                    <a:pt x="8017" y="4122"/>
                  </a:lnTo>
                  <a:lnTo>
                    <a:pt x="8137" y="4160"/>
                  </a:lnTo>
                  <a:lnTo>
                    <a:pt x="8256" y="4197"/>
                  </a:lnTo>
                  <a:lnTo>
                    <a:pt x="8311" y="4061"/>
                  </a:lnTo>
                  <a:lnTo>
                    <a:pt x="8331" y="3996"/>
                  </a:lnTo>
                  <a:lnTo>
                    <a:pt x="8246" y="4003"/>
                  </a:lnTo>
                  <a:lnTo>
                    <a:pt x="8174" y="3958"/>
                  </a:lnTo>
                  <a:lnTo>
                    <a:pt x="8116" y="3938"/>
                  </a:lnTo>
                  <a:lnTo>
                    <a:pt x="8082" y="4040"/>
                  </a:lnTo>
                  <a:lnTo>
                    <a:pt x="8082" y="4030"/>
                  </a:lnTo>
                  <a:lnTo>
                    <a:pt x="7832" y="4030"/>
                  </a:lnTo>
                  <a:lnTo>
                    <a:pt x="7774" y="3893"/>
                  </a:lnTo>
                  <a:lnTo>
                    <a:pt x="7703" y="3931"/>
                  </a:lnTo>
                  <a:lnTo>
                    <a:pt x="7617" y="3921"/>
                  </a:lnTo>
                  <a:lnTo>
                    <a:pt x="7583" y="3774"/>
                  </a:lnTo>
                  <a:lnTo>
                    <a:pt x="7545" y="3688"/>
                  </a:lnTo>
                  <a:lnTo>
                    <a:pt x="7627" y="3644"/>
                  </a:lnTo>
                  <a:lnTo>
                    <a:pt x="7627" y="3558"/>
                  </a:lnTo>
                  <a:lnTo>
                    <a:pt x="7508" y="3616"/>
                  </a:lnTo>
                  <a:lnTo>
                    <a:pt x="7426" y="3688"/>
                  </a:lnTo>
                  <a:lnTo>
                    <a:pt x="7371" y="3791"/>
                  </a:lnTo>
                  <a:lnTo>
                    <a:pt x="7258" y="3791"/>
                  </a:lnTo>
                  <a:lnTo>
                    <a:pt x="7258" y="3531"/>
                  </a:lnTo>
                  <a:lnTo>
                    <a:pt x="7203" y="3589"/>
                  </a:lnTo>
                  <a:lnTo>
                    <a:pt x="7128" y="3466"/>
                  </a:lnTo>
                  <a:lnTo>
                    <a:pt x="7036" y="3357"/>
                  </a:lnTo>
                  <a:lnTo>
                    <a:pt x="6927" y="3384"/>
                  </a:lnTo>
                  <a:lnTo>
                    <a:pt x="6916" y="3493"/>
                  </a:lnTo>
                  <a:lnTo>
                    <a:pt x="6964" y="3633"/>
                  </a:lnTo>
                  <a:lnTo>
                    <a:pt x="6964" y="3753"/>
                  </a:lnTo>
                  <a:lnTo>
                    <a:pt x="7046" y="3866"/>
                  </a:lnTo>
                  <a:lnTo>
                    <a:pt x="7101" y="3931"/>
                  </a:lnTo>
                  <a:lnTo>
                    <a:pt x="7009" y="3931"/>
                  </a:lnTo>
                  <a:lnTo>
                    <a:pt x="6937" y="3866"/>
                  </a:lnTo>
                  <a:lnTo>
                    <a:pt x="6899" y="3938"/>
                  </a:lnTo>
                  <a:lnTo>
                    <a:pt x="7029" y="4095"/>
                  </a:lnTo>
                  <a:lnTo>
                    <a:pt x="7128" y="4180"/>
                  </a:lnTo>
                  <a:lnTo>
                    <a:pt x="7221" y="4170"/>
                  </a:lnTo>
                  <a:lnTo>
                    <a:pt x="7333" y="4197"/>
                  </a:lnTo>
                  <a:lnTo>
                    <a:pt x="7463" y="4197"/>
                  </a:lnTo>
                  <a:lnTo>
                    <a:pt x="7583" y="4180"/>
                  </a:lnTo>
                  <a:lnTo>
                    <a:pt x="7703" y="4245"/>
                  </a:lnTo>
                  <a:lnTo>
                    <a:pt x="7675" y="4262"/>
                  </a:lnTo>
                  <a:lnTo>
                    <a:pt x="7545" y="4225"/>
                  </a:lnTo>
                  <a:lnTo>
                    <a:pt x="7545" y="4437"/>
                  </a:lnTo>
                  <a:lnTo>
                    <a:pt x="7638" y="4437"/>
                  </a:lnTo>
                  <a:lnTo>
                    <a:pt x="7682" y="4430"/>
                  </a:lnTo>
                  <a:lnTo>
                    <a:pt x="7703" y="4355"/>
                  </a:lnTo>
                  <a:lnTo>
                    <a:pt x="7812" y="4365"/>
                  </a:lnTo>
                  <a:lnTo>
                    <a:pt x="7942" y="4327"/>
                  </a:lnTo>
                  <a:lnTo>
                    <a:pt x="7932" y="4409"/>
                  </a:lnTo>
                  <a:lnTo>
                    <a:pt x="7969" y="4474"/>
                  </a:lnTo>
                  <a:lnTo>
                    <a:pt x="8044" y="4532"/>
                  </a:lnTo>
                  <a:lnTo>
                    <a:pt x="8116" y="4474"/>
                  </a:lnTo>
                  <a:lnTo>
                    <a:pt x="8109" y="4375"/>
                  </a:lnTo>
                  <a:lnTo>
                    <a:pt x="8116" y="4290"/>
                  </a:lnTo>
                  <a:lnTo>
                    <a:pt x="8174" y="4375"/>
                  </a:lnTo>
                  <a:lnTo>
                    <a:pt x="8181" y="4502"/>
                  </a:lnTo>
                  <a:lnTo>
                    <a:pt x="8082" y="4725"/>
                  </a:lnTo>
                  <a:lnTo>
                    <a:pt x="7969" y="4947"/>
                  </a:lnTo>
                  <a:lnTo>
                    <a:pt x="7867" y="5169"/>
                  </a:lnTo>
                  <a:lnTo>
                    <a:pt x="7747" y="5391"/>
                  </a:lnTo>
                  <a:lnTo>
                    <a:pt x="7648" y="5336"/>
                  </a:lnTo>
                  <a:lnTo>
                    <a:pt x="7545" y="5374"/>
                  </a:lnTo>
                  <a:lnTo>
                    <a:pt x="7508" y="5456"/>
                  </a:lnTo>
                  <a:lnTo>
                    <a:pt x="7426" y="5511"/>
                  </a:lnTo>
                  <a:lnTo>
                    <a:pt x="7268" y="5542"/>
                  </a:lnTo>
                  <a:lnTo>
                    <a:pt x="7176" y="5521"/>
                  </a:lnTo>
                  <a:lnTo>
                    <a:pt x="7214" y="5384"/>
                  </a:lnTo>
                  <a:lnTo>
                    <a:pt x="7203" y="5282"/>
                  </a:lnTo>
                  <a:lnTo>
                    <a:pt x="7258" y="5207"/>
                  </a:lnTo>
                  <a:lnTo>
                    <a:pt x="7248" y="5131"/>
                  </a:lnTo>
                  <a:lnTo>
                    <a:pt x="7139" y="5077"/>
                  </a:lnTo>
                  <a:lnTo>
                    <a:pt x="7149" y="4947"/>
                  </a:lnTo>
                  <a:lnTo>
                    <a:pt x="7193" y="4810"/>
                  </a:lnTo>
                  <a:lnTo>
                    <a:pt x="7296" y="4708"/>
                  </a:lnTo>
                  <a:lnTo>
                    <a:pt x="7432" y="4708"/>
                  </a:lnTo>
                  <a:lnTo>
                    <a:pt x="7453" y="4626"/>
                  </a:lnTo>
                  <a:lnTo>
                    <a:pt x="7426" y="4502"/>
                  </a:lnTo>
                  <a:lnTo>
                    <a:pt x="7508" y="4447"/>
                  </a:lnTo>
                  <a:lnTo>
                    <a:pt x="7545" y="4437"/>
                  </a:lnTo>
                  <a:lnTo>
                    <a:pt x="7545" y="4245"/>
                  </a:lnTo>
                  <a:lnTo>
                    <a:pt x="7432" y="4252"/>
                  </a:lnTo>
                  <a:lnTo>
                    <a:pt x="7333" y="4300"/>
                  </a:lnTo>
                  <a:lnTo>
                    <a:pt x="7231" y="4245"/>
                  </a:lnTo>
                  <a:lnTo>
                    <a:pt x="7121" y="4245"/>
                  </a:lnTo>
                  <a:lnTo>
                    <a:pt x="6971" y="4180"/>
                  </a:lnTo>
                  <a:lnTo>
                    <a:pt x="6899" y="4095"/>
                  </a:lnTo>
                  <a:lnTo>
                    <a:pt x="6845" y="3996"/>
                  </a:lnTo>
                  <a:lnTo>
                    <a:pt x="6769" y="3921"/>
                  </a:lnTo>
                  <a:lnTo>
                    <a:pt x="6845" y="3893"/>
                  </a:lnTo>
                  <a:lnTo>
                    <a:pt x="6899" y="3931"/>
                  </a:lnTo>
                  <a:lnTo>
                    <a:pt x="6944" y="3856"/>
                  </a:lnTo>
                  <a:lnTo>
                    <a:pt x="6927" y="3746"/>
                  </a:lnTo>
                  <a:lnTo>
                    <a:pt x="6845" y="3726"/>
                  </a:lnTo>
                  <a:lnTo>
                    <a:pt x="6807" y="3596"/>
                  </a:lnTo>
                  <a:lnTo>
                    <a:pt x="6834" y="3466"/>
                  </a:lnTo>
                  <a:lnTo>
                    <a:pt x="6899" y="3367"/>
                  </a:lnTo>
                  <a:lnTo>
                    <a:pt x="6872" y="3244"/>
                  </a:lnTo>
                  <a:lnTo>
                    <a:pt x="6834" y="3227"/>
                  </a:lnTo>
                  <a:lnTo>
                    <a:pt x="6769" y="3292"/>
                  </a:lnTo>
                  <a:lnTo>
                    <a:pt x="6759" y="3367"/>
                  </a:lnTo>
                  <a:lnTo>
                    <a:pt x="6694" y="3244"/>
                  </a:lnTo>
                  <a:lnTo>
                    <a:pt x="6564" y="3145"/>
                  </a:lnTo>
                  <a:lnTo>
                    <a:pt x="6503" y="3162"/>
                  </a:lnTo>
                  <a:lnTo>
                    <a:pt x="6417" y="3281"/>
                  </a:lnTo>
                  <a:lnTo>
                    <a:pt x="6308" y="3357"/>
                  </a:lnTo>
                  <a:lnTo>
                    <a:pt x="6308" y="3439"/>
                  </a:lnTo>
                  <a:lnTo>
                    <a:pt x="6346" y="3531"/>
                  </a:lnTo>
                  <a:lnTo>
                    <a:pt x="6335" y="3623"/>
                  </a:lnTo>
                  <a:lnTo>
                    <a:pt x="6253" y="3616"/>
                  </a:lnTo>
                  <a:lnTo>
                    <a:pt x="6194" y="3493"/>
                  </a:lnTo>
                  <a:lnTo>
                    <a:pt x="6102" y="3367"/>
                  </a:lnTo>
                  <a:lnTo>
                    <a:pt x="6003" y="3281"/>
                  </a:lnTo>
                  <a:lnTo>
                    <a:pt x="5917" y="3145"/>
                  </a:lnTo>
                  <a:lnTo>
                    <a:pt x="5845" y="3107"/>
                  </a:lnTo>
                  <a:lnTo>
                    <a:pt x="5705" y="3107"/>
                  </a:lnTo>
                  <a:lnTo>
                    <a:pt x="5596" y="3107"/>
                  </a:lnTo>
                  <a:lnTo>
                    <a:pt x="5521" y="3162"/>
                  </a:lnTo>
                  <a:lnTo>
                    <a:pt x="5449" y="3059"/>
                  </a:lnTo>
                  <a:lnTo>
                    <a:pt x="5364" y="3015"/>
                  </a:lnTo>
                  <a:lnTo>
                    <a:pt x="5254" y="2923"/>
                  </a:lnTo>
                  <a:lnTo>
                    <a:pt x="5336" y="3059"/>
                  </a:lnTo>
                  <a:lnTo>
                    <a:pt x="5456" y="3117"/>
                  </a:lnTo>
                  <a:lnTo>
                    <a:pt x="5541" y="3244"/>
                  </a:lnTo>
                  <a:lnTo>
                    <a:pt x="5511" y="3357"/>
                  </a:lnTo>
                  <a:lnTo>
                    <a:pt x="5428" y="3422"/>
                  </a:lnTo>
                  <a:lnTo>
                    <a:pt x="5299" y="3439"/>
                  </a:lnTo>
                  <a:lnTo>
                    <a:pt x="5199" y="3493"/>
                  </a:lnTo>
                  <a:lnTo>
                    <a:pt x="5124" y="3596"/>
                  </a:lnTo>
                  <a:lnTo>
                    <a:pt x="5059" y="3644"/>
                  </a:lnTo>
                  <a:lnTo>
                    <a:pt x="5042" y="3524"/>
                  </a:lnTo>
                  <a:lnTo>
                    <a:pt x="4967" y="3357"/>
                  </a:lnTo>
                  <a:lnTo>
                    <a:pt x="4892" y="3264"/>
                  </a:lnTo>
                  <a:lnTo>
                    <a:pt x="4892" y="3162"/>
                  </a:lnTo>
                  <a:lnTo>
                    <a:pt x="4820" y="3179"/>
                  </a:lnTo>
                  <a:lnTo>
                    <a:pt x="4847" y="3336"/>
                  </a:lnTo>
                  <a:lnTo>
                    <a:pt x="4923" y="3466"/>
                  </a:lnTo>
                  <a:lnTo>
                    <a:pt x="4923" y="3589"/>
                  </a:lnTo>
                  <a:lnTo>
                    <a:pt x="5032" y="3633"/>
                  </a:lnTo>
                  <a:lnTo>
                    <a:pt x="5059" y="3715"/>
                  </a:lnTo>
                  <a:lnTo>
                    <a:pt x="5179" y="3688"/>
                  </a:lnTo>
                  <a:lnTo>
                    <a:pt x="5271" y="3671"/>
                  </a:lnTo>
                  <a:lnTo>
                    <a:pt x="5391" y="3616"/>
                  </a:lnTo>
                  <a:lnTo>
                    <a:pt x="5346" y="3763"/>
                  </a:lnTo>
                  <a:lnTo>
                    <a:pt x="5254" y="3948"/>
                  </a:lnTo>
                  <a:lnTo>
                    <a:pt x="5179" y="4061"/>
                  </a:lnTo>
                  <a:lnTo>
                    <a:pt x="5097" y="4170"/>
                  </a:lnTo>
                  <a:lnTo>
                    <a:pt x="5042" y="4262"/>
                  </a:lnTo>
                  <a:lnTo>
                    <a:pt x="5022" y="4474"/>
                  </a:lnTo>
                  <a:lnTo>
                    <a:pt x="5005" y="4632"/>
                  </a:lnTo>
                  <a:lnTo>
                    <a:pt x="5015" y="4773"/>
                  </a:lnTo>
                  <a:lnTo>
                    <a:pt x="5032" y="4913"/>
                  </a:lnTo>
                  <a:lnTo>
                    <a:pt x="5032" y="4947"/>
                  </a:lnTo>
                  <a:lnTo>
                    <a:pt x="5124" y="4940"/>
                  </a:lnTo>
                  <a:lnTo>
                    <a:pt x="5135" y="4810"/>
                  </a:lnTo>
                  <a:lnTo>
                    <a:pt x="5227" y="4708"/>
                  </a:lnTo>
                  <a:lnTo>
                    <a:pt x="5336" y="4632"/>
                  </a:lnTo>
                  <a:lnTo>
                    <a:pt x="5357" y="4762"/>
                  </a:lnTo>
                  <a:lnTo>
                    <a:pt x="5346" y="4882"/>
                  </a:lnTo>
                  <a:lnTo>
                    <a:pt x="5292" y="4947"/>
                  </a:lnTo>
                  <a:lnTo>
                    <a:pt x="5299" y="5012"/>
                  </a:lnTo>
                  <a:lnTo>
                    <a:pt x="5264" y="5179"/>
                  </a:lnTo>
                  <a:lnTo>
                    <a:pt x="5234" y="5261"/>
                  </a:lnTo>
                  <a:lnTo>
                    <a:pt x="5169" y="5282"/>
                  </a:lnTo>
                  <a:lnTo>
                    <a:pt x="5107" y="5207"/>
                  </a:lnTo>
                  <a:lnTo>
                    <a:pt x="5135" y="5087"/>
                  </a:lnTo>
                  <a:lnTo>
                    <a:pt x="5152" y="5032"/>
                  </a:lnTo>
                  <a:lnTo>
                    <a:pt x="5114" y="4947"/>
                  </a:lnTo>
                  <a:lnTo>
                    <a:pt x="5022" y="4957"/>
                  </a:lnTo>
                  <a:lnTo>
                    <a:pt x="4984" y="5077"/>
                  </a:lnTo>
                  <a:lnTo>
                    <a:pt x="4858" y="5131"/>
                  </a:lnTo>
                  <a:lnTo>
                    <a:pt x="4772" y="5207"/>
                  </a:lnTo>
                  <a:lnTo>
                    <a:pt x="4793" y="5336"/>
                  </a:lnTo>
                  <a:lnTo>
                    <a:pt x="4772" y="5477"/>
                  </a:lnTo>
                  <a:lnTo>
                    <a:pt x="4738" y="5634"/>
                  </a:lnTo>
                  <a:lnTo>
                    <a:pt x="4550" y="5808"/>
                  </a:lnTo>
                  <a:lnTo>
                    <a:pt x="4468" y="5825"/>
                  </a:lnTo>
                  <a:lnTo>
                    <a:pt x="4424" y="5699"/>
                  </a:lnTo>
                  <a:lnTo>
                    <a:pt x="4311" y="5634"/>
                  </a:lnTo>
                  <a:lnTo>
                    <a:pt x="4256" y="5586"/>
                  </a:lnTo>
                  <a:lnTo>
                    <a:pt x="4147" y="5374"/>
                  </a:lnTo>
                  <a:lnTo>
                    <a:pt x="4054" y="5272"/>
                  </a:lnTo>
                  <a:lnTo>
                    <a:pt x="3996" y="5169"/>
                  </a:lnTo>
                  <a:lnTo>
                    <a:pt x="3952" y="5060"/>
                  </a:lnTo>
                  <a:lnTo>
                    <a:pt x="3942" y="4913"/>
                  </a:lnTo>
                  <a:lnTo>
                    <a:pt x="3860" y="4810"/>
                  </a:lnTo>
                  <a:lnTo>
                    <a:pt x="3832" y="4725"/>
                  </a:lnTo>
                  <a:lnTo>
                    <a:pt x="3877" y="4605"/>
                  </a:lnTo>
                  <a:lnTo>
                    <a:pt x="3877" y="4502"/>
                  </a:lnTo>
                  <a:lnTo>
                    <a:pt x="3805" y="4437"/>
                  </a:lnTo>
                  <a:lnTo>
                    <a:pt x="3675" y="4430"/>
                  </a:lnTo>
                  <a:lnTo>
                    <a:pt x="3562" y="4375"/>
                  </a:lnTo>
                  <a:lnTo>
                    <a:pt x="3518" y="4430"/>
                  </a:lnTo>
                  <a:lnTo>
                    <a:pt x="3425" y="4437"/>
                  </a:lnTo>
                  <a:lnTo>
                    <a:pt x="3343" y="4375"/>
                  </a:lnTo>
                  <a:lnTo>
                    <a:pt x="3268" y="4300"/>
                  </a:lnTo>
                  <a:lnTo>
                    <a:pt x="3166" y="4290"/>
                  </a:lnTo>
                  <a:lnTo>
                    <a:pt x="3056" y="4245"/>
                  </a:lnTo>
                  <a:lnTo>
                    <a:pt x="2964" y="4160"/>
                  </a:lnTo>
                  <a:lnTo>
                    <a:pt x="2944" y="3996"/>
                  </a:lnTo>
                  <a:lnTo>
                    <a:pt x="2937" y="3866"/>
                  </a:lnTo>
                  <a:lnTo>
                    <a:pt x="3019" y="3791"/>
                  </a:lnTo>
                  <a:lnTo>
                    <a:pt x="3008" y="3709"/>
                  </a:lnTo>
                  <a:lnTo>
                    <a:pt x="2971" y="3558"/>
                  </a:lnTo>
                  <a:lnTo>
                    <a:pt x="3002" y="3432"/>
                  </a:lnTo>
                  <a:lnTo>
                    <a:pt x="2964" y="3292"/>
                  </a:lnTo>
                  <a:lnTo>
                    <a:pt x="3056" y="3189"/>
                  </a:lnTo>
                  <a:lnTo>
                    <a:pt x="3128" y="3124"/>
                  </a:lnTo>
                  <a:lnTo>
                    <a:pt x="3214" y="3117"/>
                  </a:lnTo>
                  <a:lnTo>
                    <a:pt x="3203" y="3015"/>
                  </a:lnTo>
                  <a:lnTo>
                    <a:pt x="3251" y="2923"/>
                  </a:lnTo>
                  <a:lnTo>
                    <a:pt x="3333" y="2858"/>
                  </a:lnTo>
                  <a:lnTo>
                    <a:pt x="3436" y="2912"/>
                  </a:lnTo>
                  <a:lnTo>
                    <a:pt x="3555" y="2940"/>
                  </a:lnTo>
                  <a:lnTo>
                    <a:pt x="3702" y="2923"/>
                  </a:lnTo>
                  <a:lnTo>
                    <a:pt x="3812" y="2923"/>
                  </a:lnTo>
                  <a:lnTo>
                    <a:pt x="3870" y="2929"/>
                  </a:lnTo>
                  <a:lnTo>
                    <a:pt x="3897" y="3032"/>
                  </a:lnTo>
                  <a:lnTo>
                    <a:pt x="4017" y="3052"/>
                  </a:lnTo>
                  <a:lnTo>
                    <a:pt x="4126" y="3107"/>
                  </a:lnTo>
                  <a:lnTo>
                    <a:pt x="4191" y="3087"/>
                  </a:lnTo>
                  <a:lnTo>
                    <a:pt x="4229" y="3022"/>
                  </a:lnTo>
                  <a:lnTo>
                    <a:pt x="4266" y="2950"/>
                  </a:lnTo>
                  <a:lnTo>
                    <a:pt x="4365" y="2977"/>
                  </a:lnTo>
                  <a:lnTo>
                    <a:pt x="4488" y="3032"/>
                  </a:lnTo>
                  <a:lnTo>
                    <a:pt x="4625" y="3052"/>
                  </a:lnTo>
                  <a:lnTo>
                    <a:pt x="4718" y="3059"/>
                  </a:lnTo>
                  <a:lnTo>
                    <a:pt x="4820" y="3052"/>
                  </a:lnTo>
                  <a:lnTo>
                    <a:pt x="4892" y="2977"/>
                  </a:lnTo>
                  <a:lnTo>
                    <a:pt x="4940" y="2875"/>
                  </a:lnTo>
                  <a:lnTo>
                    <a:pt x="4967" y="2800"/>
                  </a:lnTo>
                  <a:lnTo>
                    <a:pt x="4940" y="2782"/>
                  </a:lnTo>
                  <a:lnTo>
                    <a:pt x="4875" y="2707"/>
                  </a:lnTo>
                  <a:lnTo>
                    <a:pt x="4810" y="2728"/>
                  </a:lnTo>
                  <a:lnTo>
                    <a:pt x="4700" y="2728"/>
                  </a:lnTo>
                  <a:lnTo>
                    <a:pt x="4615" y="2700"/>
                  </a:lnTo>
                  <a:lnTo>
                    <a:pt x="4608" y="2608"/>
                  </a:lnTo>
                  <a:lnTo>
                    <a:pt x="4550" y="2581"/>
                  </a:lnTo>
                  <a:lnTo>
                    <a:pt x="4523" y="2608"/>
                  </a:lnTo>
                  <a:lnTo>
                    <a:pt x="4543" y="2700"/>
                  </a:lnTo>
                  <a:lnTo>
                    <a:pt x="4506" y="2772"/>
                  </a:lnTo>
                  <a:lnTo>
                    <a:pt x="4403" y="2755"/>
                  </a:lnTo>
                  <a:lnTo>
                    <a:pt x="4359" y="2680"/>
                  </a:lnTo>
                  <a:lnTo>
                    <a:pt x="4338" y="2598"/>
                  </a:lnTo>
                  <a:lnTo>
                    <a:pt x="4338" y="2468"/>
                  </a:lnTo>
                  <a:lnTo>
                    <a:pt x="4273" y="2441"/>
                  </a:lnTo>
                  <a:lnTo>
                    <a:pt x="4239" y="2516"/>
                  </a:lnTo>
                  <a:lnTo>
                    <a:pt x="4256" y="2608"/>
                  </a:lnTo>
                  <a:lnTo>
                    <a:pt x="4304" y="2680"/>
                  </a:lnTo>
                  <a:lnTo>
                    <a:pt x="4359" y="2745"/>
                  </a:lnTo>
                  <a:lnTo>
                    <a:pt x="4304" y="2830"/>
                  </a:lnTo>
                  <a:lnTo>
                    <a:pt x="4229" y="2875"/>
                  </a:lnTo>
                  <a:lnTo>
                    <a:pt x="4136" y="2858"/>
                  </a:lnTo>
                  <a:lnTo>
                    <a:pt x="4136" y="2929"/>
                  </a:lnTo>
                  <a:lnTo>
                    <a:pt x="4082" y="2977"/>
                  </a:lnTo>
                  <a:lnTo>
                    <a:pt x="4007" y="2875"/>
                  </a:lnTo>
                  <a:lnTo>
                    <a:pt x="4017" y="2810"/>
                  </a:lnTo>
                  <a:lnTo>
                    <a:pt x="4116" y="2858"/>
                  </a:lnTo>
                  <a:lnTo>
                    <a:pt x="4174" y="2858"/>
                  </a:lnTo>
                  <a:lnTo>
                    <a:pt x="4256" y="2782"/>
                  </a:lnTo>
                  <a:lnTo>
                    <a:pt x="4229" y="2700"/>
                  </a:lnTo>
                  <a:lnTo>
                    <a:pt x="4147" y="2625"/>
                  </a:lnTo>
                  <a:lnTo>
                    <a:pt x="4082" y="2581"/>
                  </a:lnTo>
                  <a:lnTo>
                    <a:pt x="4007" y="2478"/>
                  </a:lnTo>
                  <a:lnTo>
                    <a:pt x="3914" y="2413"/>
                  </a:lnTo>
                  <a:lnTo>
                    <a:pt x="3914" y="2516"/>
                  </a:lnTo>
                  <a:lnTo>
                    <a:pt x="3962" y="2581"/>
                  </a:lnTo>
                  <a:lnTo>
                    <a:pt x="3952" y="2700"/>
                  </a:lnTo>
                  <a:lnTo>
                    <a:pt x="3952" y="2782"/>
                  </a:lnTo>
                  <a:lnTo>
                    <a:pt x="3860" y="2718"/>
                  </a:lnTo>
                  <a:lnTo>
                    <a:pt x="3839" y="2642"/>
                  </a:lnTo>
                  <a:lnTo>
                    <a:pt x="3877" y="2598"/>
                  </a:lnTo>
                  <a:lnTo>
                    <a:pt x="3870" y="2533"/>
                  </a:lnTo>
                  <a:lnTo>
                    <a:pt x="3925" y="2506"/>
                  </a:lnTo>
                  <a:lnTo>
                    <a:pt x="3925" y="2413"/>
                  </a:lnTo>
                  <a:lnTo>
                    <a:pt x="3839" y="2430"/>
                  </a:lnTo>
                  <a:lnTo>
                    <a:pt x="3778" y="2516"/>
                  </a:lnTo>
                  <a:lnTo>
                    <a:pt x="3702" y="2478"/>
                  </a:lnTo>
                  <a:lnTo>
                    <a:pt x="3562" y="2543"/>
                  </a:lnTo>
                  <a:lnTo>
                    <a:pt x="3545" y="2663"/>
                  </a:lnTo>
                  <a:lnTo>
                    <a:pt x="3453" y="2745"/>
                  </a:lnTo>
                  <a:lnTo>
                    <a:pt x="3343" y="2800"/>
                  </a:lnTo>
                  <a:lnTo>
                    <a:pt x="3231" y="2810"/>
                  </a:lnTo>
                  <a:lnTo>
                    <a:pt x="3128" y="2782"/>
                  </a:lnTo>
                  <a:lnTo>
                    <a:pt x="3063" y="2718"/>
                  </a:lnTo>
                  <a:lnTo>
                    <a:pt x="3121" y="2663"/>
                  </a:lnTo>
                  <a:lnTo>
                    <a:pt x="3063" y="2581"/>
                  </a:lnTo>
                  <a:lnTo>
                    <a:pt x="3138" y="2523"/>
                  </a:lnTo>
                  <a:lnTo>
                    <a:pt x="3149" y="2451"/>
                  </a:lnTo>
                  <a:lnTo>
                    <a:pt x="3149" y="2348"/>
                  </a:lnTo>
                  <a:lnTo>
                    <a:pt x="3251" y="2256"/>
                  </a:lnTo>
                  <a:lnTo>
                    <a:pt x="3388" y="2294"/>
                  </a:lnTo>
                  <a:lnTo>
                    <a:pt x="3535" y="2328"/>
                  </a:lnTo>
                  <a:lnTo>
                    <a:pt x="3600" y="2273"/>
                  </a:lnTo>
                  <a:lnTo>
                    <a:pt x="3600" y="2171"/>
                  </a:lnTo>
                  <a:lnTo>
                    <a:pt x="3528" y="2099"/>
                  </a:lnTo>
                  <a:lnTo>
                    <a:pt x="3415" y="2034"/>
                  </a:lnTo>
                  <a:lnTo>
                    <a:pt x="3463" y="1996"/>
                  </a:lnTo>
                  <a:lnTo>
                    <a:pt x="3583" y="1942"/>
                  </a:lnTo>
                  <a:lnTo>
                    <a:pt x="3610" y="1921"/>
                  </a:lnTo>
                  <a:lnTo>
                    <a:pt x="3562" y="1914"/>
                  </a:lnTo>
                  <a:lnTo>
                    <a:pt x="3470" y="1921"/>
                  </a:lnTo>
                  <a:lnTo>
                    <a:pt x="3388" y="1942"/>
                  </a:lnTo>
                  <a:lnTo>
                    <a:pt x="3333" y="1969"/>
                  </a:lnTo>
                  <a:lnTo>
                    <a:pt x="3371" y="1894"/>
                  </a:lnTo>
                  <a:lnTo>
                    <a:pt x="3388" y="1802"/>
                  </a:lnTo>
                  <a:lnTo>
                    <a:pt x="3425" y="1747"/>
                  </a:lnTo>
                  <a:lnTo>
                    <a:pt x="3443" y="1692"/>
                  </a:lnTo>
                  <a:lnTo>
                    <a:pt x="3398" y="1617"/>
                  </a:lnTo>
                  <a:lnTo>
                    <a:pt x="3333" y="1665"/>
                  </a:lnTo>
                  <a:lnTo>
                    <a:pt x="3343" y="1730"/>
                  </a:lnTo>
                  <a:lnTo>
                    <a:pt x="3333" y="1812"/>
                  </a:lnTo>
                  <a:lnTo>
                    <a:pt x="3296" y="1921"/>
                  </a:lnTo>
                  <a:lnTo>
                    <a:pt x="3203" y="1914"/>
                  </a:lnTo>
                  <a:lnTo>
                    <a:pt x="3166" y="1812"/>
                  </a:lnTo>
                  <a:lnTo>
                    <a:pt x="3111" y="1709"/>
                  </a:lnTo>
                  <a:lnTo>
                    <a:pt x="3214" y="1692"/>
                  </a:lnTo>
                  <a:lnTo>
                    <a:pt x="3258" y="1638"/>
                  </a:lnTo>
                  <a:lnTo>
                    <a:pt x="3306" y="1627"/>
                  </a:lnTo>
                  <a:lnTo>
                    <a:pt x="3306" y="1562"/>
                  </a:lnTo>
                  <a:lnTo>
                    <a:pt x="3278" y="1507"/>
                  </a:lnTo>
                  <a:lnTo>
                    <a:pt x="3361" y="1459"/>
                  </a:lnTo>
                  <a:lnTo>
                    <a:pt x="3443" y="1414"/>
                  </a:lnTo>
                  <a:lnTo>
                    <a:pt x="3507" y="1442"/>
                  </a:lnTo>
                  <a:lnTo>
                    <a:pt x="3528" y="1542"/>
                  </a:lnTo>
                  <a:lnTo>
                    <a:pt x="3555" y="1665"/>
                  </a:lnTo>
                  <a:lnTo>
                    <a:pt x="3620" y="1720"/>
                  </a:lnTo>
                  <a:lnTo>
                    <a:pt x="3637" y="1812"/>
                  </a:lnTo>
                  <a:lnTo>
                    <a:pt x="3610" y="1887"/>
                  </a:lnTo>
                  <a:lnTo>
                    <a:pt x="3600" y="1931"/>
                  </a:lnTo>
                  <a:lnTo>
                    <a:pt x="3675" y="1914"/>
                  </a:lnTo>
                  <a:lnTo>
                    <a:pt x="3767" y="1867"/>
                  </a:lnTo>
                  <a:lnTo>
                    <a:pt x="3805" y="1730"/>
                  </a:lnTo>
                  <a:lnTo>
                    <a:pt x="3897" y="1730"/>
                  </a:lnTo>
                  <a:lnTo>
                    <a:pt x="3942" y="1709"/>
                  </a:lnTo>
                  <a:lnTo>
                    <a:pt x="3931" y="1617"/>
                  </a:lnTo>
                  <a:lnTo>
                    <a:pt x="3877" y="1525"/>
                  </a:lnTo>
                  <a:lnTo>
                    <a:pt x="3962" y="1525"/>
                  </a:lnTo>
                  <a:lnTo>
                    <a:pt x="4054" y="1617"/>
                  </a:lnTo>
                  <a:lnTo>
                    <a:pt x="4136" y="1692"/>
                  </a:lnTo>
                  <a:lnTo>
                    <a:pt x="4218" y="1692"/>
                  </a:lnTo>
                  <a:lnTo>
                    <a:pt x="4321" y="1638"/>
                  </a:lnTo>
                  <a:lnTo>
                    <a:pt x="4396" y="1535"/>
                  </a:lnTo>
                  <a:lnTo>
                    <a:pt x="4441" y="1442"/>
                  </a:lnTo>
                  <a:lnTo>
                    <a:pt x="4608" y="1476"/>
                  </a:lnTo>
                  <a:lnTo>
                    <a:pt x="4458" y="1394"/>
                  </a:lnTo>
                  <a:lnTo>
                    <a:pt x="4359" y="1414"/>
                  </a:lnTo>
                  <a:lnTo>
                    <a:pt x="4338" y="1285"/>
                  </a:lnTo>
                  <a:lnTo>
                    <a:pt x="4338" y="1209"/>
                  </a:lnTo>
                  <a:lnTo>
                    <a:pt x="4451" y="1162"/>
                  </a:lnTo>
                  <a:lnTo>
                    <a:pt x="4468" y="1100"/>
                  </a:lnTo>
                  <a:lnTo>
                    <a:pt x="4396" y="1134"/>
                  </a:lnTo>
                  <a:lnTo>
                    <a:pt x="4304" y="1199"/>
                  </a:lnTo>
                  <a:lnTo>
                    <a:pt x="4201" y="1209"/>
                  </a:lnTo>
                  <a:lnTo>
                    <a:pt x="4239" y="1329"/>
                  </a:lnTo>
                  <a:lnTo>
                    <a:pt x="4229" y="1431"/>
                  </a:lnTo>
                  <a:lnTo>
                    <a:pt x="4229" y="1514"/>
                  </a:lnTo>
                  <a:lnTo>
                    <a:pt x="4147" y="1562"/>
                  </a:lnTo>
                  <a:lnTo>
                    <a:pt x="4061" y="1600"/>
                  </a:lnTo>
                  <a:lnTo>
                    <a:pt x="4017" y="1525"/>
                  </a:lnTo>
                  <a:lnTo>
                    <a:pt x="4024" y="1442"/>
                  </a:lnTo>
                  <a:lnTo>
                    <a:pt x="4034" y="1394"/>
                  </a:lnTo>
                  <a:lnTo>
                    <a:pt x="3942" y="1431"/>
                  </a:lnTo>
                  <a:lnTo>
                    <a:pt x="3849" y="1384"/>
                  </a:lnTo>
                  <a:lnTo>
                    <a:pt x="3805" y="1312"/>
                  </a:lnTo>
                  <a:lnTo>
                    <a:pt x="3832" y="1209"/>
                  </a:lnTo>
                  <a:lnTo>
                    <a:pt x="3812" y="1199"/>
                  </a:lnTo>
                  <a:lnTo>
                    <a:pt x="3832" y="1192"/>
                  </a:lnTo>
                  <a:lnTo>
                    <a:pt x="3839" y="1182"/>
                  </a:lnTo>
                  <a:lnTo>
                    <a:pt x="2759" y="1182"/>
                  </a:lnTo>
                  <a:lnTo>
                    <a:pt x="2704" y="1257"/>
                  </a:lnTo>
                  <a:lnTo>
                    <a:pt x="2612" y="1302"/>
                  </a:lnTo>
                  <a:lnTo>
                    <a:pt x="2520" y="1264"/>
                  </a:lnTo>
                  <a:lnTo>
                    <a:pt x="2475" y="1199"/>
                  </a:lnTo>
                  <a:lnTo>
                    <a:pt x="2475" y="1127"/>
                  </a:lnTo>
                  <a:lnTo>
                    <a:pt x="2503" y="1117"/>
                  </a:lnTo>
                  <a:lnTo>
                    <a:pt x="2270" y="1117"/>
                  </a:lnTo>
                  <a:lnTo>
                    <a:pt x="2205" y="1127"/>
                  </a:lnTo>
                  <a:lnTo>
                    <a:pt x="2133" y="1264"/>
                  </a:lnTo>
                  <a:lnTo>
                    <a:pt x="2106" y="1356"/>
                  </a:lnTo>
                  <a:lnTo>
                    <a:pt x="2057" y="1459"/>
                  </a:lnTo>
                  <a:lnTo>
                    <a:pt x="1955" y="1431"/>
                  </a:lnTo>
                  <a:lnTo>
                    <a:pt x="1873" y="1356"/>
                  </a:lnTo>
                  <a:lnTo>
                    <a:pt x="1862" y="1209"/>
                  </a:lnTo>
                  <a:lnTo>
                    <a:pt x="1835" y="1052"/>
                  </a:lnTo>
                  <a:lnTo>
                    <a:pt x="1763" y="960"/>
                  </a:lnTo>
                  <a:lnTo>
                    <a:pt x="1791" y="895"/>
                  </a:lnTo>
                  <a:lnTo>
                    <a:pt x="1726" y="775"/>
                  </a:lnTo>
                  <a:lnTo>
                    <a:pt x="1671" y="721"/>
                  </a:lnTo>
                  <a:lnTo>
                    <a:pt x="1606" y="786"/>
                  </a:lnTo>
                  <a:lnTo>
                    <a:pt x="1503" y="710"/>
                  </a:lnTo>
                  <a:lnTo>
                    <a:pt x="1439" y="755"/>
                  </a:lnTo>
                  <a:lnTo>
                    <a:pt x="1374" y="803"/>
                  </a:lnTo>
                  <a:lnTo>
                    <a:pt x="1254" y="840"/>
                  </a:lnTo>
                  <a:lnTo>
                    <a:pt x="1189" y="933"/>
                  </a:lnTo>
                  <a:lnTo>
                    <a:pt x="1336" y="950"/>
                  </a:lnTo>
                  <a:lnTo>
                    <a:pt x="1449" y="1004"/>
                  </a:lnTo>
                  <a:lnTo>
                    <a:pt x="1521" y="1100"/>
                  </a:lnTo>
                  <a:lnTo>
                    <a:pt x="1606" y="1192"/>
                  </a:lnTo>
                  <a:lnTo>
                    <a:pt x="1613" y="1339"/>
                  </a:lnTo>
                  <a:lnTo>
                    <a:pt x="1568" y="1476"/>
                  </a:lnTo>
                  <a:lnTo>
                    <a:pt x="1503" y="1525"/>
                  </a:lnTo>
                  <a:lnTo>
                    <a:pt x="1401" y="1431"/>
                  </a:lnTo>
                  <a:lnTo>
                    <a:pt x="1227" y="1421"/>
                  </a:lnTo>
                  <a:lnTo>
                    <a:pt x="1227" y="1356"/>
                  </a:lnTo>
                  <a:lnTo>
                    <a:pt x="1374" y="1312"/>
                  </a:lnTo>
                  <a:lnTo>
                    <a:pt x="1391" y="1226"/>
                  </a:lnTo>
                  <a:lnTo>
                    <a:pt x="1363" y="1199"/>
                  </a:lnTo>
                  <a:lnTo>
                    <a:pt x="1319" y="1285"/>
                  </a:lnTo>
                  <a:lnTo>
                    <a:pt x="1237" y="1220"/>
                  </a:lnTo>
                  <a:lnTo>
                    <a:pt x="1346" y="1134"/>
                  </a:lnTo>
                  <a:lnTo>
                    <a:pt x="1401" y="1209"/>
                  </a:lnTo>
                  <a:lnTo>
                    <a:pt x="1319" y="1127"/>
                  </a:lnTo>
                  <a:lnTo>
                    <a:pt x="1227" y="1127"/>
                  </a:lnTo>
                  <a:lnTo>
                    <a:pt x="1151" y="1192"/>
                  </a:lnTo>
                  <a:lnTo>
                    <a:pt x="1172" y="1285"/>
                  </a:lnTo>
                  <a:lnTo>
                    <a:pt x="1172" y="1394"/>
                  </a:lnTo>
                  <a:lnTo>
                    <a:pt x="1145" y="1496"/>
                  </a:lnTo>
                  <a:lnTo>
                    <a:pt x="1172" y="1590"/>
                  </a:lnTo>
                  <a:lnTo>
                    <a:pt x="1069" y="1514"/>
                  </a:lnTo>
                  <a:lnTo>
                    <a:pt x="1032" y="1562"/>
                  </a:lnTo>
                  <a:lnTo>
                    <a:pt x="1004" y="1507"/>
                  </a:lnTo>
                  <a:lnTo>
                    <a:pt x="1032" y="1414"/>
                  </a:lnTo>
                  <a:lnTo>
                    <a:pt x="950" y="1442"/>
                  </a:lnTo>
                  <a:lnTo>
                    <a:pt x="922" y="1525"/>
                  </a:lnTo>
                  <a:lnTo>
                    <a:pt x="847" y="1600"/>
                  </a:lnTo>
                  <a:lnTo>
                    <a:pt x="847" y="1672"/>
                  </a:lnTo>
                  <a:lnTo>
                    <a:pt x="738" y="1672"/>
                  </a:lnTo>
                  <a:lnTo>
                    <a:pt x="700" y="1720"/>
                  </a:lnTo>
                  <a:lnTo>
                    <a:pt x="738" y="1829"/>
                  </a:lnTo>
                  <a:lnTo>
                    <a:pt x="857" y="1894"/>
                  </a:lnTo>
                  <a:lnTo>
                    <a:pt x="922" y="1942"/>
                  </a:lnTo>
                  <a:lnTo>
                    <a:pt x="895" y="2044"/>
                  </a:lnTo>
                  <a:lnTo>
                    <a:pt x="967" y="2024"/>
                  </a:lnTo>
                  <a:lnTo>
                    <a:pt x="987" y="1921"/>
                  </a:lnTo>
                  <a:lnTo>
                    <a:pt x="1114" y="1921"/>
                  </a:lnTo>
                  <a:lnTo>
                    <a:pt x="1189" y="1829"/>
                  </a:lnTo>
                  <a:lnTo>
                    <a:pt x="1199" y="1730"/>
                  </a:lnTo>
                  <a:lnTo>
                    <a:pt x="1189" y="1562"/>
                  </a:lnTo>
                  <a:lnTo>
                    <a:pt x="1227" y="1459"/>
                  </a:lnTo>
                  <a:lnTo>
                    <a:pt x="1292" y="1394"/>
                  </a:lnTo>
                  <a:lnTo>
                    <a:pt x="1391" y="1459"/>
                  </a:lnTo>
                  <a:lnTo>
                    <a:pt x="1514" y="1525"/>
                  </a:lnTo>
                  <a:lnTo>
                    <a:pt x="1558" y="1562"/>
                  </a:lnTo>
                  <a:lnTo>
                    <a:pt x="1623" y="1672"/>
                  </a:lnTo>
                  <a:lnTo>
                    <a:pt x="1705" y="1720"/>
                  </a:lnTo>
                  <a:lnTo>
                    <a:pt x="1732" y="1829"/>
                  </a:lnTo>
                  <a:lnTo>
                    <a:pt x="1753" y="1914"/>
                  </a:lnTo>
                  <a:lnTo>
                    <a:pt x="1835" y="1969"/>
                  </a:lnTo>
                  <a:lnTo>
                    <a:pt x="1763" y="2061"/>
                  </a:lnTo>
                  <a:lnTo>
                    <a:pt x="1650" y="2061"/>
                  </a:lnTo>
                  <a:lnTo>
                    <a:pt x="1541" y="2116"/>
                  </a:lnTo>
                  <a:lnTo>
                    <a:pt x="1449" y="2191"/>
                  </a:lnTo>
                  <a:lnTo>
                    <a:pt x="1336" y="2246"/>
                  </a:lnTo>
                  <a:lnTo>
                    <a:pt x="1227" y="2348"/>
                  </a:lnTo>
                  <a:lnTo>
                    <a:pt x="1124" y="2430"/>
                  </a:lnTo>
                  <a:lnTo>
                    <a:pt x="1114" y="2516"/>
                  </a:lnTo>
                  <a:lnTo>
                    <a:pt x="1114" y="2581"/>
                  </a:lnTo>
                  <a:lnTo>
                    <a:pt x="1032" y="2636"/>
                  </a:lnTo>
                  <a:lnTo>
                    <a:pt x="1042" y="2707"/>
                  </a:lnTo>
                  <a:lnTo>
                    <a:pt x="957" y="2800"/>
                  </a:lnTo>
                  <a:lnTo>
                    <a:pt x="957" y="2923"/>
                  </a:lnTo>
                  <a:lnTo>
                    <a:pt x="1022" y="3015"/>
                  </a:lnTo>
                  <a:lnTo>
                    <a:pt x="987" y="3087"/>
                  </a:lnTo>
                  <a:lnTo>
                    <a:pt x="895" y="3032"/>
                  </a:lnTo>
                  <a:lnTo>
                    <a:pt x="885" y="2923"/>
                  </a:lnTo>
                  <a:lnTo>
                    <a:pt x="803" y="2858"/>
                  </a:lnTo>
                  <a:lnTo>
                    <a:pt x="728" y="2875"/>
                  </a:lnTo>
                  <a:lnTo>
                    <a:pt x="700" y="2950"/>
                  </a:lnTo>
                  <a:lnTo>
                    <a:pt x="618" y="2923"/>
                  </a:lnTo>
                  <a:lnTo>
                    <a:pt x="526" y="2923"/>
                  </a:lnTo>
                  <a:lnTo>
                    <a:pt x="430" y="3005"/>
                  </a:lnTo>
                  <a:lnTo>
                    <a:pt x="396" y="3087"/>
                  </a:lnTo>
                  <a:lnTo>
                    <a:pt x="369" y="3162"/>
                  </a:lnTo>
                  <a:lnTo>
                    <a:pt x="358" y="3281"/>
                  </a:lnTo>
                  <a:lnTo>
                    <a:pt x="430" y="3367"/>
                  </a:lnTo>
                  <a:lnTo>
                    <a:pt x="516" y="3309"/>
                  </a:lnTo>
                  <a:lnTo>
                    <a:pt x="598" y="3309"/>
                  </a:lnTo>
                  <a:lnTo>
                    <a:pt x="618" y="3422"/>
                  </a:lnTo>
                  <a:lnTo>
                    <a:pt x="543" y="3493"/>
                  </a:lnTo>
                  <a:lnTo>
                    <a:pt x="652" y="3514"/>
                  </a:lnTo>
                  <a:lnTo>
                    <a:pt x="700" y="3531"/>
                  </a:lnTo>
                  <a:lnTo>
                    <a:pt x="728" y="3633"/>
                  </a:lnTo>
                  <a:lnTo>
                    <a:pt x="820" y="3688"/>
                  </a:lnTo>
                  <a:lnTo>
                    <a:pt x="929" y="3763"/>
                  </a:lnTo>
                  <a:lnTo>
                    <a:pt x="1004" y="3709"/>
                  </a:lnTo>
                  <a:lnTo>
                    <a:pt x="1172" y="3763"/>
                  </a:lnTo>
                  <a:lnTo>
                    <a:pt x="1298" y="3774"/>
                  </a:lnTo>
                  <a:lnTo>
                    <a:pt x="1483" y="3866"/>
                  </a:lnTo>
                  <a:lnTo>
                    <a:pt x="1521" y="3948"/>
                  </a:lnTo>
                  <a:lnTo>
                    <a:pt x="1623" y="4040"/>
                  </a:lnTo>
                  <a:lnTo>
                    <a:pt x="1678" y="4170"/>
                  </a:lnTo>
                  <a:lnTo>
                    <a:pt x="1808" y="4245"/>
                  </a:lnTo>
                  <a:lnTo>
                    <a:pt x="1927" y="4252"/>
                  </a:lnTo>
                  <a:lnTo>
                    <a:pt x="2040" y="4355"/>
                  </a:lnTo>
                  <a:lnTo>
                    <a:pt x="2198" y="4355"/>
                  </a:lnTo>
                  <a:lnTo>
                    <a:pt x="2205" y="4447"/>
                  </a:lnTo>
                  <a:lnTo>
                    <a:pt x="2205" y="4539"/>
                  </a:lnTo>
                  <a:lnTo>
                    <a:pt x="2133" y="4632"/>
                  </a:lnTo>
                  <a:lnTo>
                    <a:pt x="2123" y="4755"/>
                  </a:lnTo>
                  <a:lnTo>
                    <a:pt x="2106" y="4865"/>
                  </a:lnTo>
                  <a:lnTo>
                    <a:pt x="2020" y="4974"/>
                  </a:lnTo>
                  <a:lnTo>
                    <a:pt x="1900" y="5039"/>
                  </a:lnTo>
                  <a:lnTo>
                    <a:pt x="1797" y="5060"/>
                  </a:lnTo>
                  <a:lnTo>
                    <a:pt x="1845" y="5162"/>
                  </a:lnTo>
                  <a:lnTo>
                    <a:pt x="1753" y="5261"/>
                  </a:lnTo>
                  <a:lnTo>
                    <a:pt x="1671" y="5354"/>
                  </a:lnTo>
                  <a:lnTo>
                    <a:pt x="1568" y="5418"/>
                  </a:lnTo>
                  <a:lnTo>
                    <a:pt x="1503" y="5548"/>
                  </a:lnTo>
                  <a:lnTo>
                    <a:pt x="1439" y="5641"/>
                  </a:lnTo>
                  <a:lnTo>
                    <a:pt x="1346" y="5688"/>
                  </a:lnTo>
                  <a:lnTo>
                    <a:pt x="1292" y="5771"/>
                  </a:lnTo>
                  <a:lnTo>
                    <a:pt x="1237" y="5856"/>
                  </a:lnTo>
                  <a:lnTo>
                    <a:pt x="1199" y="5928"/>
                  </a:lnTo>
                  <a:lnTo>
                    <a:pt x="1199" y="6020"/>
                  </a:lnTo>
                  <a:lnTo>
                    <a:pt x="1151" y="6078"/>
                  </a:lnTo>
                  <a:lnTo>
                    <a:pt x="1097" y="5965"/>
                  </a:lnTo>
                  <a:lnTo>
                    <a:pt x="1004" y="5873"/>
                  </a:lnTo>
                  <a:lnTo>
                    <a:pt x="957" y="5753"/>
                  </a:lnTo>
                  <a:lnTo>
                    <a:pt x="957" y="5641"/>
                  </a:lnTo>
                  <a:lnTo>
                    <a:pt x="950" y="5511"/>
                  </a:lnTo>
                  <a:lnTo>
                    <a:pt x="1004" y="5336"/>
                  </a:lnTo>
                  <a:lnTo>
                    <a:pt x="1004" y="5162"/>
                  </a:lnTo>
                  <a:lnTo>
                    <a:pt x="987" y="4995"/>
                  </a:lnTo>
                  <a:lnTo>
                    <a:pt x="950" y="4865"/>
                  </a:lnTo>
                  <a:lnTo>
                    <a:pt x="847" y="4755"/>
                  </a:lnTo>
                  <a:lnTo>
                    <a:pt x="738" y="4660"/>
                  </a:lnTo>
                  <a:lnTo>
                    <a:pt x="652" y="4532"/>
                  </a:lnTo>
                  <a:lnTo>
                    <a:pt x="635" y="4375"/>
                  </a:lnTo>
                  <a:lnTo>
                    <a:pt x="700" y="4273"/>
                  </a:lnTo>
                  <a:lnTo>
                    <a:pt x="700" y="4180"/>
                  </a:lnTo>
                  <a:lnTo>
                    <a:pt x="738" y="4030"/>
                  </a:lnTo>
                  <a:lnTo>
                    <a:pt x="810" y="3921"/>
                  </a:lnTo>
                  <a:lnTo>
                    <a:pt x="895" y="3845"/>
                  </a:lnTo>
                  <a:lnTo>
                    <a:pt x="939" y="3774"/>
                  </a:lnTo>
                  <a:lnTo>
                    <a:pt x="820" y="3746"/>
                  </a:lnTo>
                  <a:lnTo>
                    <a:pt x="755" y="3763"/>
                  </a:lnTo>
                  <a:lnTo>
                    <a:pt x="690" y="3726"/>
                  </a:lnTo>
                  <a:lnTo>
                    <a:pt x="598" y="3661"/>
                  </a:lnTo>
                  <a:lnTo>
                    <a:pt x="488" y="3589"/>
                  </a:lnTo>
                  <a:lnTo>
                    <a:pt x="440" y="3493"/>
                  </a:lnTo>
                  <a:lnTo>
                    <a:pt x="396" y="3459"/>
                  </a:lnTo>
                  <a:lnTo>
                    <a:pt x="348" y="3493"/>
                  </a:lnTo>
                  <a:lnTo>
                    <a:pt x="256" y="3439"/>
                  </a:lnTo>
                  <a:lnTo>
                    <a:pt x="191" y="3357"/>
                  </a:lnTo>
                  <a:lnTo>
                    <a:pt x="146" y="3281"/>
                  </a:lnTo>
                  <a:lnTo>
                    <a:pt x="146" y="3179"/>
                  </a:lnTo>
                  <a:lnTo>
                    <a:pt x="126" y="3117"/>
                  </a:lnTo>
                  <a:lnTo>
                    <a:pt x="44" y="3042"/>
                  </a:lnTo>
                  <a:lnTo>
                    <a:pt x="44" y="3107"/>
                  </a:lnTo>
                  <a:lnTo>
                    <a:pt x="99" y="3189"/>
                  </a:lnTo>
                  <a:lnTo>
                    <a:pt x="99" y="3264"/>
                  </a:lnTo>
                  <a:lnTo>
                    <a:pt x="27" y="3210"/>
                  </a:lnTo>
                  <a:lnTo>
                    <a:pt x="0" y="3080"/>
                  </a:lnTo>
                  <a:lnTo>
                    <a:pt x="27" y="2977"/>
                  </a:lnTo>
                  <a:lnTo>
                    <a:pt x="27" y="2830"/>
                  </a:lnTo>
                  <a:lnTo>
                    <a:pt x="44" y="2581"/>
                  </a:lnTo>
                  <a:lnTo>
                    <a:pt x="71" y="2328"/>
                  </a:lnTo>
                  <a:lnTo>
                    <a:pt x="136" y="2061"/>
                  </a:lnTo>
                  <a:lnTo>
                    <a:pt x="229" y="1764"/>
                  </a:lnTo>
                  <a:lnTo>
                    <a:pt x="375" y="1394"/>
                  </a:lnTo>
                  <a:lnTo>
                    <a:pt x="505" y="1107"/>
                  </a:lnTo>
                  <a:lnTo>
                    <a:pt x="717" y="755"/>
                  </a:lnTo>
                  <a:lnTo>
                    <a:pt x="847" y="553"/>
                  </a:lnTo>
                  <a:close/>
                </a:path>
              </a:pathLst>
            </a:custGeom>
            <a:solidFill>
              <a:srgbClr val="7d9cd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08160" y="1476360"/>
              <a:ext cx="3007080" cy="2198880"/>
            </a:xfrm>
            <a:custGeom>
              <a:avLst/>
              <a:gdLst/>
              <a:ahLst/>
              <a:rect l="0" t="0" r="r" b="b"/>
              <a:pathLst>
                <a:path w="8353" h="6108">
                  <a:moveTo>
                    <a:pt x="902" y="533"/>
                  </a:moveTo>
                  <a:lnTo>
                    <a:pt x="1004" y="543"/>
                  </a:lnTo>
                  <a:lnTo>
                    <a:pt x="1059" y="468"/>
                  </a:lnTo>
                  <a:lnTo>
                    <a:pt x="1144" y="430"/>
                  </a:lnTo>
                  <a:lnTo>
                    <a:pt x="1209" y="365"/>
                  </a:lnTo>
                  <a:lnTo>
                    <a:pt x="1302" y="300"/>
                  </a:lnTo>
                  <a:lnTo>
                    <a:pt x="1373" y="273"/>
                  </a:lnTo>
                  <a:lnTo>
                    <a:pt x="1459" y="246"/>
                  </a:lnTo>
                  <a:lnTo>
                    <a:pt x="1530" y="246"/>
                  </a:lnTo>
                  <a:lnTo>
                    <a:pt x="1568" y="218"/>
                  </a:lnTo>
                  <a:lnTo>
                    <a:pt x="1643" y="218"/>
                  </a:lnTo>
                  <a:lnTo>
                    <a:pt x="1681" y="174"/>
                  </a:lnTo>
                  <a:lnTo>
                    <a:pt x="1763" y="191"/>
                  </a:lnTo>
                  <a:lnTo>
                    <a:pt x="1845" y="164"/>
                  </a:lnTo>
                  <a:lnTo>
                    <a:pt x="1920" y="174"/>
                  </a:lnTo>
                  <a:lnTo>
                    <a:pt x="1947" y="208"/>
                  </a:lnTo>
                  <a:lnTo>
                    <a:pt x="1920" y="246"/>
                  </a:lnTo>
                  <a:lnTo>
                    <a:pt x="1845" y="218"/>
                  </a:lnTo>
                  <a:lnTo>
                    <a:pt x="1780" y="266"/>
                  </a:lnTo>
                  <a:lnTo>
                    <a:pt x="1736" y="311"/>
                  </a:lnTo>
                  <a:lnTo>
                    <a:pt x="1725" y="375"/>
                  </a:lnTo>
                  <a:lnTo>
                    <a:pt x="1650" y="386"/>
                  </a:lnTo>
                  <a:lnTo>
                    <a:pt x="1568" y="430"/>
                  </a:lnTo>
                  <a:lnTo>
                    <a:pt x="1558" y="522"/>
                  </a:lnTo>
                  <a:lnTo>
                    <a:pt x="1551" y="587"/>
                  </a:lnTo>
                  <a:lnTo>
                    <a:pt x="1530" y="663"/>
                  </a:lnTo>
                  <a:lnTo>
                    <a:pt x="1558" y="707"/>
                  </a:lnTo>
                  <a:lnTo>
                    <a:pt x="1616" y="550"/>
                  </a:lnTo>
                  <a:lnTo>
                    <a:pt x="1650" y="533"/>
                  </a:lnTo>
                  <a:lnTo>
                    <a:pt x="1725" y="451"/>
                  </a:lnTo>
                  <a:lnTo>
                    <a:pt x="1773" y="358"/>
                  </a:lnTo>
                  <a:lnTo>
                    <a:pt x="1872" y="338"/>
                  </a:lnTo>
                  <a:lnTo>
                    <a:pt x="1964" y="283"/>
                  </a:lnTo>
                  <a:lnTo>
                    <a:pt x="2029" y="201"/>
                  </a:lnTo>
                  <a:lnTo>
                    <a:pt x="2115" y="201"/>
                  </a:lnTo>
                  <a:lnTo>
                    <a:pt x="2279" y="191"/>
                  </a:lnTo>
                  <a:lnTo>
                    <a:pt x="2457" y="164"/>
                  </a:lnTo>
                  <a:lnTo>
                    <a:pt x="2528" y="146"/>
                  </a:lnTo>
                  <a:lnTo>
                    <a:pt x="2604" y="146"/>
                  </a:lnTo>
                  <a:lnTo>
                    <a:pt x="2686" y="146"/>
                  </a:lnTo>
                  <a:lnTo>
                    <a:pt x="2761" y="174"/>
                  </a:lnTo>
                  <a:lnTo>
                    <a:pt x="2853" y="256"/>
                  </a:lnTo>
                  <a:lnTo>
                    <a:pt x="2805" y="266"/>
                  </a:lnTo>
                  <a:lnTo>
                    <a:pt x="2706" y="293"/>
                  </a:lnTo>
                  <a:lnTo>
                    <a:pt x="2713" y="375"/>
                  </a:lnTo>
                  <a:lnTo>
                    <a:pt x="2798" y="386"/>
                  </a:lnTo>
                  <a:lnTo>
                    <a:pt x="2843" y="386"/>
                  </a:lnTo>
                  <a:lnTo>
                    <a:pt x="2815" y="457"/>
                  </a:lnTo>
                  <a:lnTo>
                    <a:pt x="2713" y="543"/>
                  </a:lnTo>
                  <a:lnTo>
                    <a:pt x="2658" y="550"/>
                  </a:lnTo>
                  <a:lnTo>
                    <a:pt x="2679" y="615"/>
                  </a:lnTo>
                  <a:lnTo>
                    <a:pt x="2696" y="642"/>
                  </a:lnTo>
                  <a:lnTo>
                    <a:pt x="2658" y="707"/>
                  </a:lnTo>
                  <a:lnTo>
                    <a:pt x="2706" y="772"/>
                  </a:lnTo>
                  <a:lnTo>
                    <a:pt x="2614" y="810"/>
                  </a:lnTo>
                  <a:lnTo>
                    <a:pt x="2528" y="837"/>
                  </a:lnTo>
                  <a:lnTo>
                    <a:pt x="2511" y="936"/>
                  </a:lnTo>
                  <a:lnTo>
                    <a:pt x="2457" y="1021"/>
                  </a:lnTo>
                  <a:lnTo>
                    <a:pt x="2392" y="1086"/>
                  </a:lnTo>
                  <a:lnTo>
                    <a:pt x="2316" y="1121"/>
                  </a:lnTo>
                  <a:lnTo>
                    <a:pt x="2511" y="1121"/>
                  </a:lnTo>
                  <a:lnTo>
                    <a:pt x="2614" y="1121"/>
                  </a:lnTo>
                  <a:lnTo>
                    <a:pt x="2679" y="1141"/>
                  </a:lnTo>
                  <a:lnTo>
                    <a:pt x="2761" y="1103"/>
                  </a:lnTo>
                  <a:lnTo>
                    <a:pt x="2798" y="1185"/>
                  </a:lnTo>
                  <a:lnTo>
                    <a:pt x="3878" y="1185"/>
                  </a:lnTo>
                  <a:lnTo>
                    <a:pt x="3926" y="1121"/>
                  </a:lnTo>
                  <a:lnTo>
                    <a:pt x="4025" y="1038"/>
                  </a:lnTo>
                  <a:lnTo>
                    <a:pt x="4090" y="929"/>
                  </a:lnTo>
                  <a:lnTo>
                    <a:pt x="4183" y="827"/>
                  </a:lnTo>
                  <a:lnTo>
                    <a:pt x="4221" y="724"/>
                  </a:lnTo>
                  <a:lnTo>
                    <a:pt x="4269" y="625"/>
                  </a:lnTo>
                  <a:lnTo>
                    <a:pt x="4351" y="587"/>
                  </a:lnTo>
                  <a:lnTo>
                    <a:pt x="4368" y="533"/>
                  </a:lnTo>
                  <a:lnTo>
                    <a:pt x="4443" y="550"/>
                  </a:lnTo>
                  <a:lnTo>
                    <a:pt x="4518" y="495"/>
                  </a:lnTo>
                  <a:lnTo>
                    <a:pt x="4552" y="543"/>
                  </a:lnTo>
                  <a:lnTo>
                    <a:pt x="4638" y="577"/>
                  </a:lnTo>
                  <a:lnTo>
                    <a:pt x="4720" y="598"/>
                  </a:lnTo>
                  <a:lnTo>
                    <a:pt x="4802" y="625"/>
                  </a:lnTo>
                  <a:lnTo>
                    <a:pt x="4860" y="587"/>
                  </a:lnTo>
                  <a:lnTo>
                    <a:pt x="4932" y="632"/>
                  </a:lnTo>
                  <a:lnTo>
                    <a:pt x="4980" y="707"/>
                  </a:lnTo>
                  <a:lnTo>
                    <a:pt x="5072" y="724"/>
                  </a:lnTo>
                  <a:lnTo>
                    <a:pt x="5109" y="810"/>
                  </a:lnTo>
                  <a:lnTo>
                    <a:pt x="5062" y="854"/>
                  </a:lnTo>
                  <a:lnTo>
                    <a:pt x="4942" y="837"/>
                  </a:lnTo>
                  <a:lnTo>
                    <a:pt x="4850" y="799"/>
                  </a:lnTo>
                  <a:lnTo>
                    <a:pt x="4829" y="864"/>
                  </a:lnTo>
                  <a:lnTo>
                    <a:pt x="4959" y="874"/>
                  </a:lnTo>
                  <a:lnTo>
                    <a:pt x="5062" y="946"/>
                  </a:lnTo>
                  <a:lnTo>
                    <a:pt x="5209" y="909"/>
                  </a:lnTo>
                  <a:lnTo>
                    <a:pt x="5236" y="782"/>
                  </a:lnTo>
                  <a:lnTo>
                    <a:pt x="5311" y="690"/>
                  </a:lnTo>
                  <a:lnTo>
                    <a:pt x="5386" y="717"/>
                  </a:lnTo>
                  <a:lnTo>
                    <a:pt x="5366" y="762"/>
                  </a:lnTo>
                  <a:lnTo>
                    <a:pt x="5321" y="810"/>
                  </a:lnTo>
                  <a:lnTo>
                    <a:pt x="5321" y="874"/>
                  </a:lnTo>
                  <a:lnTo>
                    <a:pt x="5414" y="799"/>
                  </a:lnTo>
                  <a:lnTo>
                    <a:pt x="5485" y="724"/>
                  </a:lnTo>
                  <a:lnTo>
                    <a:pt x="5625" y="707"/>
                  </a:lnTo>
                  <a:lnTo>
                    <a:pt x="5793" y="642"/>
                  </a:lnTo>
                  <a:lnTo>
                    <a:pt x="5913" y="587"/>
                  </a:lnTo>
                  <a:lnTo>
                    <a:pt x="5950" y="522"/>
                  </a:lnTo>
                  <a:lnTo>
                    <a:pt x="5848" y="533"/>
                  </a:lnTo>
                  <a:lnTo>
                    <a:pt x="5745" y="457"/>
                  </a:lnTo>
                  <a:lnTo>
                    <a:pt x="5690" y="358"/>
                  </a:lnTo>
                  <a:lnTo>
                    <a:pt x="5745" y="218"/>
                  </a:lnTo>
                  <a:lnTo>
                    <a:pt x="5858" y="126"/>
                  </a:lnTo>
                  <a:lnTo>
                    <a:pt x="5940" y="54"/>
                  </a:lnTo>
                  <a:lnTo>
                    <a:pt x="6059" y="54"/>
                  </a:lnTo>
                  <a:lnTo>
                    <a:pt x="6162" y="0"/>
                  </a:lnTo>
                  <a:lnTo>
                    <a:pt x="6152" y="61"/>
                  </a:lnTo>
                  <a:lnTo>
                    <a:pt x="6070" y="82"/>
                  </a:lnTo>
                  <a:lnTo>
                    <a:pt x="6042" y="109"/>
                  </a:lnTo>
                  <a:lnTo>
                    <a:pt x="5957" y="119"/>
                  </a:lnTo>
                  <a:lnTo>
                    <a:pt x="5902" y="191"/>
                  </a:lnTo>
                  <a:lnTo>
                    <a:pt x="5865" y="273"/>
                  </a:lnTo>
                  <a:lnTo>
                    <a:pt x="5848" y="358"/>
                  </a:lnTo>
                  <a:lnTo>
                    <a:pt x="5940" y="495"/>
                  </a:lnTo>
                  <a:lnTo>
                    <a:pt x="6077" y="560"/>
                  </a:lnTo>
                  <a:lnTo>
                    <a:pt x="6189" y="615"/>
                  </a:lnTo>
                  <a:lnTo>
                    <a:pt x="6227" y="632"/>
                  </a:lnTo>
                  <a:lnTo>
                    <a:pt x="6282" y="707"/>
                  </a:lnTo>
                  <a:lnTo>
                    <a:pt x="6319" y="690"/>
                  </a:lnTo>
                  <a:lnTo>
                    <a:pt x="6319" y="632"/>
                  </a:lnTo>
                  <a:lnTo>
                    <a:pt x="6299" y="550"/>
                  </a:lnTo>
                  <a:lnTo>
                    <a:pt x="6265" y="505"/>
                  </a:lnTo>
                  <a:lnTo>
                    <a:pt x="6244" y="451"/>
                  </a:lnTo>
                  <a:lnTo>
                    <a:pt x="6282" y="348"/>
                  </a:lnTo>
                  <a:lnTo>
                    <a:pt x="6384" y="348"/>
                  </a:lnTo>
                  <a:lnTo>
                    <a:pt x="6466" y="348"/>
                  </a:lnTo>
                  <a:lnTo>
                    <a:pt x="6504" y="386"/>
                  </a:lnTo>
                  <a:lnTo>
                    <a:pt x="6521" y="478"/>
                  </a:lnTo>
                  <a:lnTo>
                    <a:pt x="6569" y="560"/>
                  </a:lnTo>
                  <a:lnTo>
                    <a:pt x="6586" y="478"/>
                  </a:lnTo>
                  <a:lnTo>
                    <a:pt x="6661" y="430"/>
                  </a:lnTo>
                  <a:lnTo>
                    <a:pt x="6733" y="430"/>
                  </a:lnTo>
                  <a:lnTo>
                    <a:pt x="6808" y="430"/>
                  </a:lnTo>
                  <a:lnTo>
                    <a:pt x="6883" y="440"/>
                  </a:lnTo>
                  <a:lnTo>
                    <a:pt x="6883" y="348"/>
                  </a:lnTo>
                  <a:lnTo>
                    <a:pt x="6938" y="358"/>
                  </a:lnTo>
                  <a:lnTo>
                    <a:pt x="6982" y="413"/>
                  </a:lnTo>
                  <a:lnTo>
                    <a:pt x="7074" y="413"/>
                  </a:lnTo>
                  <a:lnTo>
                    <a:pt x="7150" y="375"/>
                  </a:lnTo>
                  <a:lnTo>
                    <a:pt x="7232" y="451"/>
                  </a:lnTo>
                  <a:lnTo>
                    <a:pt x="7334" y="543"/>
                  </a:lnTo>
                  <a:lnTo>
                    <a:pt x="7447" y="560"/>
                  </a:lnTo>
                  <a:lnTo>
                    <a:pt x="7604" y="625"/>
                  </a:lnTo>
                  <a:lnTo>
                    <a:pt x="7631" y="615"/>
                  </a:lnTo>
                  <a:lnTo>
                    <a:pt x="7741" y="799"/>
                  </a:lnTo>
                  <a:lnTo>
                    <a:pt x="7908" y="1086"/>
                  </a:lnTo>
                  <a:lnTo>
                    <a:pt x="8018" y="1250"/>
                  </a:lnTo>
                  <a:lnTo>
                    <a:pt x="8072" y="1425"/>
                  </a:lnTo>
                  <a:lnTo>
                    <a:pt x="8001" y="1462"/>
                  </a:lnTo>
                  <a:lnTo>
                    <a:pt x="7963" y="1537"/>
                  </a:lnTo>
                  <a:lnTo>
                    <a:pt x="8001" y="1674"/>
                  </a:lnTo>
                  <a:lnTo>
                    <a:pt x="8045" y="1804"/>
                  </a:lnTo>
                  <a:lnTo>
                    <a:pt x="8103" y="1804"/>
                  </a:lnTo>
                  <a:lnTo>
                    <a:pt x="8110" y="1702"/>
                  </a:lnTo>
                  <a:lnTo>
                    <a:pt x="8158" y="1674"/>
                  </a:lnTo>
                  <a:lnTo>
                    <a:pt x="8185" y="1766"/>
                  </a:lnTo>
                  <a:lnTo>
                    <a:pt x="8120" y="1804"/>
                  </a:lnTo>
                  <a:lnTo>
                    <a:pt x="8229" y="1903"/>
                  </a:lnTo>
                  <a:lnTo>
                    <a:pt x="8147" y="2006"/>
                  </a:lnTo>
                  <a:lnTo>
                    <a:pt x="8130" y="2071"/>
                  </a:lnTo>
                  <a:lnTo>
                    <a:pt x="8267" y="2098"/>
                  </a:lnTo>
                  <a:lnTo>
                    <a:pt x="8212" y="2180"/>
                  </a:lnTo>
                  <a:lnTo>
                    <a:pt x="8137" y="2207"/>
                  </a:lnTo>
                  <a:lnTo>
                    <a:pt x="8137" y="2337"/>
                  </a:lnTo>
                  <a:lnTo>
                    <a:pt x="8212" y="2447"/>
                  </a:lnTo>
                  <a:lnTo>
                    <a:pt x="8137" y="2477"/>
                  </a:lnTo>
                  <a:lnTo>
                    <a:pt x="8018" y="2440"/>
                  </a:lnTo>
                  <a:lnTo>
                    <a:pt x="8065" y="2375"/>
                  </a:lnTo>
                  <a:lnTo>
                    <a:pt x="8147" y="2375"/>
                  </a:lnTo>
                  <a:lnTo>
                    <a:pt x="8147" y="2245"/>
                  </a:lnTo>
                  <a:lnTo>
                    <a:pt x="8055" y="2283"/>
                  </a:lnTo>
                  <a:lnTo>
                    <a:pt x="8045" y="2173"/>
                  </a:lnTo>
                  <a:lnTo>
                    <a:pt x="8130" y="2098"/>
                  </a:lnTo>
                  <a:lnTo>
                    <a:pt x="8147" y="2023"/>
                  </a:lnTo>
                  <a:lnTo>
                    <a:pt x="8110" y="1913"/>
                  </a:lnTo>
                  <a:lnTo>
                    <a:pt x="8103" y="1794"/>
                  </a:lnTo>
                  <a:lnTo>
                    <a:pt x="8038" y="1848"/>
                  </a:lnTo>
                  <a:lnTo>
                    <a:pt x="7973" y="1941"/>
                  </a:lnTo>
                  <a:lnTo>
                    <a:pt x="7871" y="2023"/>
                  </a:lnTo>
                  <a:lnTo>
                    <a:pt x="7908" y="2146"/>
                  </a:lnTo>
                  <a:lnTo>
                    <a:pt x="7898" y="2245"/>
                  </a:lnTo>
                  <a:lnTo>
                    <a:pt x="7898" y="2310"/>
                  </a:lnTo>
                  <a:lnTo>
                    <a:pt x="7946" y="2402"/>
                  </a:lnTo>
                  <a:lnTo>
                    <a:pt x="7908" y="2429"/>
                  </a:lnTo>
                  <a:lnTo>
                    <a:pt x="7806" y="2327"/>
                  </a:lnTo>
                  <a:lnTo>
                    <a:pt x="7741" y="2207"/>
                  </a:lnTo>
                  <a:lnTo>
                    <a:pt x="7713" y="2125"/>
                  </a:lnTo>
                  <a:lnTo>
                    <a:pt x="7659" y="2081"/>
                  </a:lnTo>
                  <a:lnTo>
                    <a:pt x="7584" y="2146"/>
                  </a:lnTo>
                  <a:lnTo>
                    <a:pt x="7539" y="2228"/>
                  </a:lnTo>
                  <a:lnTo>
                    <a:pt x="7638" y="2327"/>
                  </a:lnTo>
                  <a:lnTo>
                    <a:pt x="7696" y="2429"/>
                  </a:lnTo>
                  <a:lnTo>
                    <a:pt x="7713" y="2566"/>
                  </a:lnTo>
                  <a:lnTo>
                    <a:pt x="7703" y="2689"/>
                  </a:lnTo>
                  <a:lnTo>
                    <a:pt x="7703" y="2809"/>
                  </a:lnTo>
                  <a:lnTo>
                    <a:pt x="7751" y="2723"/>
                  </a:lnTo>
                  <a:lnTo>
                    <a:pt x="7833" y="2734"/>
                  </a:lnTo>
                  <a:lnTo>
                    <a:pt x="7860" y="2816"/>
                  </a:lnTo>
                  <a:lnTo>
                    <a:pt x="7795" y="2908"/>
                  </a:lnTo>
                  <a:lnTo>
                    <a:pt x="7724" y="2901"/>
                  </a:lnTo>
                  <a:lnTo>
                    <a:pt x="7713" y="2973"/>
                  </a:lnTo>
                  <a:lnTo>
                    <a:pt x="7768" y="3028"/>
                  </a:lnTo>
                  <a:lnTo>
                    <a:pt x="7741" y="3121"/>
                  </a:lnTo>
                  <a:lnTo>
                    <a:pt x="7823" y="3203"/>
                  </a:lnTo>
                  <a:lnTo>
                    <a:pt x="7768" y="3268"/>
                  </a:lnTo>
                  <a:lnTo>
                    <a:pt x="7854" y="3353"/>
                  </a:lnTo>
                  <a:lnTo>
                    <a:pt x="7795" y="3435"/>
                  </a:lnTo>
                  <a:lnTo>
                    <a:pt x="7888" y="3387"/>
                  </a:lnTo>
                  <a:lnTo>
                    <a:pt x="7860" y="3473"/>
                  </a:lnTo>
                  <a:lnTo>
                    <a:pt x="8028" y="3435"/>
                  </a:lnTo>
                  <a:lnTo>
                    <a:pt x="7973" y="3538"/>
                  </a:lnTo>
                  <a:lnTo>
                    <a:pt x="7860" y="3473"/>
                  </a:lnTo>
                  <a:lnTo>
                    <a:pt x="7854" y="3582"/>
                  </a:lnTo>
                  <a:lnTo>
                    <a:pt x="8018" y="3572"/>
                  </a:lnTo>
                  <a:lnTo>
                    <a:pt x="7946" y="3685"/>
                  </a:lnTo>
                  <a:lnTo>
                    <a:pt x="7833" y="3565"/>
                  </a:lnTo>
                  <a:lnTo>
                    <a:pt x="7898" y="3739"/>
                  </a:lnTo>
                  <a:lnTo>
                    <a:pt x="8028" y="3849"/>
                  </a:lnTo>
                  <a:lnTo>
                    <a:pt x="7908" y="3849"/>
                  </a:lnTo>
                  <a:lnTo>
                    <a:pt x="7833" y="3582"/>
                  </a:lnTo>
                  <a:lnTo>
                    <a:pt x="7860" y="3398"/>
                  </a:lnTo>
                  <a:lnTo>
                    <a:pt x="7768" y="3408"/>
                  </a:lnTo>
                  <a:lnTo>
                    <a:pt x="7703" y="3305"/>
                  </a:lnTo>
                  <a:lnTo>
                    <a:pt x="7768" y="3261"/>
                  </a:lnTo>
                  <a:lnTo>
                    <a:pt x="7768" y="3158"/>
                  </a:lnTo>
                  <a:lnTo>
                    <a:pt x="7724" y="2928"/>
                  </a:lnTo>
                  <a:lnTo>
                    <a:pt x="7713" y="2778"/>
                  </a:lnTo>
                  <a:lnTo>
                    <a:pt x="7696" y="2679"/>
                  </a:lnTo>
                  <a:lnTo>
                    <a:pt x="7611" y="2809"/>
                  </a:lnTo>
                  <a:lnTo>
                    <a:pt x="7464" y="2843"/>
                  </a:lnTo>
                  <a:lnTo>
                    <a:pt x="7389" y="2935"/>
                  </a:lnTo>
                  <a:lnTo>
                    <a:pt x="7416" y="3056"/>
                  </a:lnTo>
                  <a:lnTo>
                    <a:pt x="7361" y="3121"/>
                  </a:lnTo>
                  <a:lnTo>
                    <a:pt x="7279" y="3104"/>
                  </a:lnTo>
                  <a:lnTo>
                    <a:pt x="7355" y="3000"/>
                  </a:lnTo>
                  <a:lnTo>
                    <a:pt x="7297" y="2956"/>
                  </a:lnTo>
                  <a:lnTo>
                    <a:pt x="7215" y="3011"/>
                  </a:lnTo>
                  <a:lnTo>
                    <a:pt x="7215" y="3114"/>
                  </a:lnTo>
                  <a:lnTo>
                    <a:pt x="7355" y="3261"/>
                  </a:lnTo>
                  <a:lnTo>
                    <a:pt x="7389" y="3360"/>
                  </a:lnTo>
                  <a:lnTo>
                    <a:pt x="7290" y="3500"/>
                  </a:lnTo>
                  <a:lnTo>
                    <a:pt x="7290" y="3832"/>
                  </a:lnTo>
                  <a:lnTo>
                    <a:pt x="7290" y="3968"/>
                  </a:lnTo>
                  <a:lnTo>
                    <a:pt x="7307" y="4050"/>
                  </a:lnTo>
                  <a:lnTo>
                    <a:pt x="7454" y="4033"/>
                  </a:lnTo>
                  <a:lnTo>
                    <a:pt x="7556" y="4061"/>
                  </a:lnTo>
                  <a:lnTo>
                    <a:pt x="7631" y="3931"/>
                  </a:lnTo>
                  <a:lnTo>
                    <a:pt x="7713" y="3931"/>
                  </a:lnTo>
                  <a:lnTo>
                    <a:pt x="7686" y="4006"/>
                  </a:lnTo>
                  <a:lnTo>
                    <a:pt x="7768" y="4098"/>
                  </a:lnTo>
                  <a:lnTo>
                    <a:pt x="7888" y="4126"/>
                  </a:lnTo>
                  <a:lnTo>
                    <a:pt x="7871" y="4033"/>
                  </a:lnTo>
                  <a:lnTo>
                    <a:pt x="8137" y="4033"/>
                  </a:lnTo>
                  <a:lnTo>
                    <a:pt x="8045" y="4071"/>
                  </a:lnTo>
                  <a:lnTo>
                    <a:pt x="8038" y="4143"/>
                  </a:lnTo>
                  <a:lnTo>
                    <a:pt x="8158" y="4180"/>
                  </a:lnTo>
                  <a:lnTo>
                    <a:pt x="8277" y="4218"/>
                  </a:lnTo>
                  <a:lnTo>
                    <a:pt x="8332" y="4088"/>
                  </a:lnTo>
                  <a:lnTo>
                    <a:pt x="8353" y="4006"/>
                  </a:lnTo>
                  <a:lnTo>
                    <a:pt x="8267" y="4023"/>
                  </a:lnTo>
                  <a:lnTo>
                    <a:pt x="8185" y="3979"/>
                  </a:lnTo>
                  <a:lnTo>
                    <a:pt x="8137" y="3951"/>
                  </a:lnTo>
                  <a:lnTo>
                    <a:pt x="8110" y="4061"/>
                  </a:lnTo>
                  <a:lnTo>
                    <a:pt x="8110" y="4050"/>
                  </a:lnTo>
                  <a:lnTo>
                    <a:pt x="7854" y="4050"/>
                  </a:lnTo>
                  <a:lnTo>
                    <a:pt x="7795" y="3924"/>
                  </a:lnTo>
                  <a:lnTo>
                    <a:pt x="7724" y="3941"/>
                  </a:lnTo>
                  <a:lnTo>
                    <a:pt x="7638" y="3931"/>
                  </a:lnTo>
                  <a:lnTo>
                    <a:pt x="7611" y="3784"/>
                  </a:lnTo>
                  <a:lnTo>
                    <a:pt x="7567" y="3719"/>
                  </a:lnTo>
                  <a:lnTo>
                    <a:pt x="7649" y="3664"/>
                  </a:lnTo>
                  <a:lnTo>
                    <a:pt x="7649" y="3582"/>
                  </a:lnTo>
                  <a:lnTo>
                    <a:pt x="7529" y="3637"/>
                  </a:lnTo>
                  <a:lnTo>
                    <a:pt x="7447" y="3692"/>
                  </a:lnTo>
                  <a:lnTo>
                    <a:pt x="7389" y="3811"/>
                  </a:lnTo>
                  <a:lnTo>
                    <a:pt x="7290" y="3811"/>
                  </a:lnTo>
                  <a:lnTo>
                    <a:pt x="7290" y="3555"/>
                  </a:lnTo>
                  <a:lnTo>
                    <a:pt x="7225" y="3593"/>
                  </a:lnTo>
                  <a:lnTo>
                    <a:pt x="7150" y="3490"/>
                  </a:lnTo>
                  <a:lnTo>
                    <a:pt x="7068" y="3370"/>
                  </a:lnTo>
                  <a:lnTo>
                    <a:pt x="6948" y="3408"/>
                  </a:lnTo>
                  <a:lnTo>
                    <a:pt x="6938" y="3507"/>
                  </a:lnTo>
                  <a:lnTo>
                    <a:pt x="6992" y="3657"/>
                  </a:lnTo>
                  <a:lnTo>
                    <a:pt x="6992" y="3767"/>
                  </a:lnTo>
                  <a:lnTo>
                    <a:pt x="7074" y="3886"/>
                  </a:lnTo>
                  <a:lnTo>
                    <a:pt x="7122" y="3941"/>
                  </a:lnTo>
                  <a:lnTo>
                    <a:pt x="7030" y="3941"/>
                  </a:lnTo>
                  <a:lnTo>
                    <a:pt x="6965" y="3886"/>
                  </a:lnTo>
                  <a:lnTo>
                    <a:pt x="6917" y="3951"/>
                  </a:lnTo>
                  <a:lnTo>
                    <a:pt x="7047" y="4109"/>
                  </a:lnTo>
                  <a:lnTo>
                    <a:pt x="7150" y="4208"/>
                  </a:lnTo>
                  <a:lnTo>
                    <a:pt x="7242" y="4191"/>
                  </a:lnTo>
                  <a:lnTo>
                    <a:pt x="7355" y="4228"/>
                  </a:lnTo>
                  <a:lnTo>
                    <a:pt x="7491" y="4228"/>
                  </a:lnTo>
                  <a:lnTo>
                    <a:pt x="7611" y="4208"/>
                  </a:lnTo>
                  <a:lnTo>
                    <a:pt x="7724" y="4256"/>
                  </a:lnTo>
                  <a:lnTo>
                    <a:pt x="7696" y="4293"/>
                  </a:lnTo>
                  <a:lnTo>
                    <a:pt x="7567" y="4245"/>
                  </a:lnTo>
                  <a:lnTo>
                    <a:pt x="7567" y="4467"/>
                  </a:lnTo>
                  <a:lnTo>
                    <a:pt x="7659" y="4467"/>
                  </a:lnTo>
                  <a:lnTo>
                    <a:pt x="7713" y="4440"/>
                  </a:lnTo>
                  <a:lnTo>
                    <a:pt x="7724" y="4382"/>
                  </a:lnTo>
                  <a:lnTo>
                    <a:pt x="7833" y="4392"/>
                  </a:lnTo>
                  <a:lnTo>
                    <a:pt x="7963" y="4338"/>
                  </a:lnTo>
                  <a:lnTo>
                    <a:pt x="7953" y="4430"/>
                  </a:lnTo>
                  <a:lnTo>
                    <a:pt x="8001" y="4505"/>
                  </a:lnTo>
                  <a:lnTo>
                    <a:pt x="8065" y="4560"/>
                  </a:lnTo>
                  <a:lnTo>
                    <a:pt x="8137" y="4505"/>
                  </a:lnTo>
                  <a:lnTo>
                    <a:pt x="8130" y="4403"/>
                  </a:lnTo>
                  <a:lnTo>
                    <a:pt x="8137" y="4310"/>
                  </a:lnTo>
                  <a:lnTo>
                    <a:pt x="8185" y="4403"/>
                  </a:lnTo>
                  <a:lnTo>
                    <a:pt x="8212" y="4512"/>
                  </a:lnTo>
                  <a:lnTo>
                    <a:pt x="8110" y="4751"/>
                  </a:lnTo>
                  <a:lnTo>
                    <a:pt x="8001" y="4973"/>
                  </a:lnTo>
                  <a:lnTo>
                    <a:pt x="7898" y="5185"/>
                  </a:lnTo>
                  <a:lnTo>
                    <a:pt x="7768" y="5424"/>
                  </a:lnTo>
                  <a:lnTo>
                    <a:pt x="7686" y="5349"/>
                  </a:lnTo>
                  <a:lnTo>
                    <a:pt x="7567" y="5407"/>
                  </a:lnTo>
                  <a:lnTo>
                    <a:pt x="7529" y="5479"/>
                  </a:lnTo>
                  <a:lnTo>
                    <a:pt x="7447" y="5534"/>
                  </a:lnTo>
                  <a:lnTo>
                    <a:pt x="7297" y="5561"/>
                  </a:lnTo>
                  <a:lnTo>
                    <a:pt x="7204" y="5554"/>
                  </a:lnTo>
                  <a:lnTo>
                    <a:pt x="7232" y="5414"/>
                  </a:lnTo>
                  <a:lnTo>
                    <a:pt x="7225" y="5315"/>
                  </a:lnTo>
                  <a:lnTo>
                    <a:pt x="7290" y="5230"/>
                  </a:lnTo>
                  <a:lnTo>
                    <a:pt x="7279" y="5158"/>
                  </a:lnTo>
                  <a:lnTo>
                    <a:pt x="7167" y="5093"/>
                  </a:lnTo>
                  <a:lnTo>
                    <a:pt x="7187" y="4973"/>
                  </a:lnTo>
                  <a:lnTo>
                    <a:pt x="7215" y="4843"/>
                  </a:lnTo>
                  <a:lnTo>
                    <a:pt x="7317" y="4734"/>
                  </a:lnTo>
                  <a:lnTo>
                    <a:pt x="7454" y="4724"/>
                  </a:lnTo>
                  <a:lnTo>
                    <a:pt x="7481" y="4642"/>
                  </a:lnTo>
                  <a:lnTo>
                    <a:pt x="7447" y="4512"/>
                  </a:lnTo>
                  <a:lnTo>
                    <a:pt x="7529" y="4474"/>
                  </a:lnTo>
                  <a:lnTo>
                    <a:pt x="7567" y="4467"/>
                  </a:lnTo>
                  <a:lnTo>
                    <a:pt x="7567" y="4256"/>
                  </a:lnTo>
                  <a:lnTo>
                    <a:pt x="7454" y="4273"/>
                  </a:lnTo>
                  <a:lnTo>
                    <a:pt x="7355" y="4320"/>
                  </a:lnTo>
                  <a:lnTo>
                    <a:pt x="7252" y="4256"/>
                  </a:lnTo>
                  <a:lnTo>
                    <a:pt x="7139" y="4256"/>
                  </a:lnTo>
                  <a:lnTo>
                    <a:pt x="7003" y="4208"/>
                  </a:lnTo>
                  <a:lnTo>
                    <a:pt x="6917" y="4109"/>
                  </a:lnTo>
                  <a:lnTo>
                    <a:pt x="6873" y="4016"/>
                  </a:lnTo>
                  <a:lnTo>
                    <a:pt x="6798" y="3931"/>
                  </a:lnTo>
                  <a:lnTo>
                    <a:pt x="6873" y="3914"/>
                  </a:lnTo>
                  <a:lnTo>
                    <a:pt x="6917" y="3941"/>
                  </a:lnTo>
                  <a:lnTo>
                    <a:pt x="6975" y="3869"/>
                  </a:lnTo>
                  <a:lnTo>
                    <a:pt x="6948" y="3757"/>
                  </a:lnTo>
                  <a:lnTo>
                    <a:pt x="6873" y="3746"/>
                  </a:lnTo>
                  <a:lnTo>
                    <a:pt x="6825" y="3620"/>
                  </a:lnTo>
                  <a:lnTo>
                    <a:pt x="6863" y="3490"/>
                  </a:lnTo>
                  <a:lnTo>
                    <a:pt x="6917" y="3387"/>
                  </a:lnTo>
                  <a:lnTo>
                    <a:pt x="6900" y="3261"/>
                  </a:lnTo>
                  <a:lnTo>
                    <a:pt x="6863" y="3251"/>
                  </a:lnTo>
                  <a:lnTo>
                    <a:pt x="6798" y="3316"/>
                  </a:lnTo>
                  <a:lnTo>
                    <a:pt x="6791" y="3387"/>
                  </a:lnTo>
                  <a:lnTo>
                    <a:pt x="6716" y="3261"/>
                  </a:lnTo>
                  <a:lnTo>
                    <a:pt x="6606" y="3169"/>
                  </a:lnTo>
                  <a:lnTo>
                    <a:pt x="6521" y="3176"/>
                  </a:lnTo>
                  <a:lnTo>
                    <a:pt x="6449" y="3305"/>
                  </a:lnTo>
                  <a:lnTo>
                    <a:pt x="6336" y="3370"/>
                  </a:lnTo>
                  <a:lnTo>
                    <a:pt x="6336" y="3452"/>
                  </a:lnTo>
                  <a:lnTo>
                    <a:pt x="6374" y="3555"/>
                  </a:lnTo>
                  <a:lnTo>
                    <a:pt x="6364" y="3647"/>
                  </a:lnTo>
                  <a:lnTo>
                    <a:pt x="6282" y="3637"/>
                  </a:lnTo>
                  <a:lnTo>
                    <a:pt x="6217" y="3507"/>
                  </a:lnTo>
                  <a:lnTo>
                    <a:pt x="6124" y="3387"/>
                  </a:lnTo>
                  <a:lnTo>
                    <a:pt x="6022" y="3305"/>
                  </a:lnTo>
                  <a:lnTo>
                    <a:pt x="5950" y="3169"/>
                  </a:lnTo>
                  <a:lnTo>
                    <a:pt x="5875" y="3114"/>
                  </a:lnTo>
                  <a:lnTo>
                    <a:pt x="5735" y="3114"/>
                  </a:lnTo>
                  <a:lnTo>
                    <a:pt x="5625" y="3114"/>
                  </a:lnTo>
                  <a:lnTo>
                    <a:pt x="5550" y="3176"/>
                  </a:lnTo>
                  <a:lnTo>
                    <a:pt x="5479" y="3083"/>
                  </a:lnTo>
                  <a:lnTo>
                    <a:pt x="5393" y="3021"/>
                  </a:lnTo>
                  <a:lnTo>
                    <a:pt x="5284" y="2928"/>
                  </a:lnTo>
                  <a:lnTo>
                    <a:pt x="5366" y="3083"/>
                  </a:lnTo>
                  <a:lnTo>
                    <a:pt x="5485" y="3121"/>
                  </a:lnTo>
                  <a:lnTo>
                    <a:pt x="5571" y="3261"/>
                  </a:lnTo>
                  <a:lnTo>
                    <a:pt x="5543" y="3370"/>
                  </a:lnTo>
                  <a:lnTo>
                    <a:pt x="5458" y="3435"/>
                  </a:lnTo>
                  <a:lnTo>
                    <a:pt x="5328" y="3452"/>
                  </a:lnTo>
                  <a:lnTo>
                    <a:pt x="5229" y="3500"/>
                  </a:lnTo>
                  <a:lnTo>
                    <a:pt x="5154" y="3599"/>
                  </a:lnTo>
                  <a:lnTo>
                    <a:pt x="5109" y="3664"/>
                  </a:lnTo>
                  <a:lnTo>
                    <a:pt x="5072" y="3538"/>
                  </a:lnTo>
                  <a:lnTo>
                    <a:pt x="5017" y="3370"/>
                  </a:lnTo>
                  <a:lnTo>
                    <a:pt x="4932" y="3278"/>
                  </a:lnTo>
                  <a:lnTo>
                    <a:pt x="4932" y="3176"/>
                  </a:lnTo>
                  <a:lnTo>
                    <a:pt x="4860" y="3186"/>
                  </a:lnTo>
                  <a:lnTo>
                    <a:pt x="4877" y="3353"/>
                  </a:lnTo>
                  <a:lnTo>
                    <a:pt x="4952" y="3490"/>
                  </a:lnTo>
                  <a:lnTo>
                    <a:pt x="4952" y="3593"/>
                  </a:lnTo>
                  <a:lnTo>
                    <a:pt x="5062" y="3657"/>
                  </a:lnTo>
                  <a:lnTo>
                    <a:pt x="5109" y="3739"/>
                  </a:lnTo>
                  <a:lnTo>
                    <a:pt x="5219" y="3692"/>
                  </a:lnTo>
                  <a:lnTo>
                    <a:pt x="5311" y="3685"/>
                  </a:lnTo>
                  <a:lnTo>
                    <a:pt x="5431" y="3637"/>
                  </a:lnTo>
                  <a:lnTo>
                    <a:pt x="5376" y="3777"/>
                  </a:lnTo>
                  <a:lnTo>
                    <a:pt x="5284" y="3968"/>
                  </a:lnTo>
                  <a:lnTo>
                    <a:pt x="5219" y="4088"/>
                  </a:lnTo>
                  <a:lnTo>
                    <a:pt x="5127" y="4191"/>
                  </a:lnTo>
                  <a:lnTo>
                    <a:pt x="5072" y="4293"/>
                  </a:lnTo>
                  <a:lnTo>
                    <a:pt x="5051" y="4505"/>
                  </a:lnTo>
                  <a:lnTo>
                    <a:pt x="5034" y="4659"/>
                  </a:lnTo>
                  <a:lnTo>
                    <a:pt x="5045" y="4799"/>
                  </a:lnTo>
                  <a:lnTo>
                    <a:pt x="5062" y="4936"/>
                  </a:lnTo>
                  <a:lnTo>
                    <a:pt x="5062" y="4973"/>
                  </a:lnTo>
                  <a:lnTo>
                    <a:pt x="5154" y="4963"/>
                  </a:lnTo>
                  <a:lnTo>
                    <a:pt x="5164" y="4843"/>
                  </a:lnTo>
                  <a:lnTo>
                    <a:pt x="5267" y="4724"/>
                  </a:lnTo>
                  <a:lnTo>
                    <a:pt x="5366" y="4659"/>
                  </a:lnTo>
                  <a:lnTo>
                    <a:pt x="5386" y="4789"/>
                  </a:lnTo>
                  <a:lnTo>
                    <a:pt x="5376" y="4908"/>
                  </a:lnTo>
                  <a:lnTo>
                    <a:pt x="5321" y="4973"/>
                  </a:lnTo>
                  <a:lnTo>
                    <a:pt x="5328" y="5048"/>
                  </a:lnTo>
                  <a:lnTo>
                    <a:pt x="5294" y="5202"/>
                  </a:lnTo>
                  <a:lnTo>
                    <a:pt x="5273" y="5288"/>
                  </a:lnTo>
                  <a:lnTo>
                    <a:pt x="5209" y="5315"/>
                  </a:lnTo>
                  <a:lnTo>
                    <a:pt x="5137" y="5230"/>
                  </a:lnTo>
                  <a:lnTo>
                    <a:pt x="5164" y="5103"/>
                  </a:lnTo>
                  <a:lnTo>
                    <a:pt x="5191" y="5055"/>
                  </a:lnTo>
                  <a:lnTo>
                    <a:pt x="5144" y="4973"/>
                  </a:lnTo>
                  <a:lnTo>
                    <a:pt x="5051" y="4984"/>
                  </a:lnTo>
                  <a:lnTo>
                    <a:pt x="5024" y="5093"/>
                  </a:lnTo>
                  <a:lnTo>
                    <a:pt x="4894" y="5158"/>
                  </a:lnTo>
                  <a:lnTo>
                    <a:pt x="4812" y="5230"/>
                  </a:lnTo>
                  <a:lnTo>
                    <a:pt x="4822" y="5349"/>
                  </a:lnTo>
                  <a:lnTo>
                    <a:pt x="4812" y="5506"/>
                  </a:lnTo>
                  <a:lnTo>
                    <a:pt x="4775" y="5653"/>
                  </a:lnTo>
                  <a:lnTo>
                    <a:pt x="4600" y="5831"/>
                  </a:lnTo>
                  <a:lnTo>
                    <a:pt x="4518" y="5838"/>
                  </a:lnTo>
                  <a:lnTo>
                    <a:pt x="4453" y="5729"/>
                  </a:lnTo>
                  <a:lnTo>
                    <a:pt x="4351" y="5653"/>
                  </a:lnTo>
                  <a:lnTo>
                    <a:pt x="4296" y="5619"/>
                  </a:lnTo>
                  <a:lnTo>
                    <a:pt x="4194" y="5407"/>
                  </a:lnTo>
                  <a:lnTo>
                    <a:pt x="4100" y="5295"/>
                  </a:lnTo>
                  <a:lnTo>
                    <a:pt x="4025" y="5185"/>
                  </a:lnTo>
                  <a:lnTo>
                    <a:pt x="3988" y="5083"/>
                  </a:lnTo>
                  <a:lnTo>
                    <a:pt x="3981" y="4936"/>
                  </a:lnTo>
                  <a:lnTo>
                    <a:pt x="3895" y="4843"/>
                  </a:lnTo>
                  <a:lnTo>
                    <a:pt x="3868" y="4751"/>
                  </a:lnTo>
                  <a:lnTo>
                    <a:pt x="3926" y="4632"/>
                  </a:lnTo>
                  <a:lnTo>
                    <a:pt x="3926" y="4522"/>
                  </a:lnTo>
                  <a:lnTo>
                    <a:pt x="3841" y="4467"/>
                  </a:lnTo>
                  <a:lnTo>
                    <a:pt x="3711" y="4440"/>
                  </a:lnTo>
                  <a:lnTo>
                    <a:pt x="3612" y="4403"/>
                  </a:lnTo>
                  <a:lnTo>
                    <a:pt x="3554" y="4440"/>
                  </a:lnTo>
                  <a:lnTo>
                    <a:pt x="3461" y="4467"/>
                  </a:lnTo>
                  <a:lnTo>
                    <a:pt x="3379" y="4403"/>
                  </a:lnTo>
                  <a:lnTo>
                    <a:pt x="3304" y="4327"/>
                  </a:lnTo>
                  <a:lnTo>
                    <a:pt x="3205" y="4310"/>
                  </a:lnTo>
                  <a:lnTo>
                    <a:pt x="3102" y="4256"/>
                  </a:lnTo>
                  <a:lnTo>
                    <a:pt x="3010" y="4180"/>
                  </a:lnTo>
                  <a:lnTo>
                    <a:pt x="2983" y="4006"/>
                  </a:lnTo>
                  <a:lnTo>
                    <a:pt x="2973" y="3886"/>
                  </a:lnTo>
                  <a:lnTo>
                    <a:pt x="3055" y="3811"/>
                  </a:lnTo>
                  <a:lnTo>
                    <a:pt x="3048" y="3729"/>
                  </a:lnTo>
                  <a:lnTo>
                    <a:pt x="3020" y="3582"/>
                  </a:lnTo>
                  <a:lnTo>
                    <a:pt x="3027" y="3446"/>
                  </a:lnTo>
                  <a:lnTo>
                    <a:pt x="3010" y="3316"/>
                  </a:lnTo>
                  <a:lnTo>
                    <a:pt x="3102" y="3203"/>
                  </a:lnTo>
                  <a:lnTo>
                    <a:pt x="3178" y="3141"/>
                  </a:lnTo>
                  <a:lnTo>
                    <a:pt x="3260" y="3121"/>
                  </a:lnTo>
                  <a:lnTo>
                    <a:pt x="3232" y="3021"/>
                  </a:lnTo>
                  <a:lnTo>
                    <a:pt x="3287" y="2928"/>
                  </a:lnTo>
                  <a:lnTo>
                    <a:pt x="3369" y="2870"/>
                  </a:lnTo>
                  <a:lnTo>
                    <a:pt x="3472" y="2918"/>
                  </a:lnTo>
                  <a:lnTo>
                    <a:pt x="3601" y="2956"/>
                  </a:lnTo>
                  <a:lnTo>
                    <a:pt x="3731" y="2928"/>
                  </a:lnTo>
                  <a:lnTo>
                    <a:pt x="3851" y="2928"/>
                  </a:lnTo>
                  <a:lnTo>
                    <a:pt x="3906" y="2935"/>
                  </a:lnTo>
                  <a:lnTo>
                    <a:pt x="3933" y="3056"/>
                  </a:lnTo>
                  <a:lnTo>
                    <a:pt x="4046" y="3076"/>
                  </a:lnTo>
                  <a:lnTo>
                    <a:pt x="4155" y="3114"/>
                  </a:lnTo>
                  <a:lnTo>
                    <a:pt x="4221" y="3104"/>
                  </a:lnTo>
                  <a:lnTo>
                    <a:pt x="4269" y="3028"/>
                  </a:lnTo>
                  <a:lnTo>
                    <a:pt x="4303" y="2973"/>
                  </a:lnTo>
                  <a:lnTo>
                    <a:pt x="4405" y="3000"/>
                  </a:lnTo>
                  <a:lnTo>
                    <a:pt x="4525" y="3056"/>
                  </a:lnTo>
                  <a:lnTo>
                    <a:pt x="4655" y="3076"/>
                  </a:lnTo>
                  <a:lnTo>
                    <a:pt x="4747" y="3083"/>
                  </a:lnTo>
                  <a:lnTo>
                    <a:pt x="4860" y="3076"/>
                  </a:lnTo>
                  <a:lnTo>
                    <a:pt x="4932" y="3000"/>
                  </a:lnTo>
                  <a:lnTo>
                    <a:pt x="4969" y="2901"/>
                  </a:lnTo>
                  <a:lnTo>
                    <a:pt x="5017" y="2816"/>
                  </a:lnTo>
                  <a:lnTo>
                    <a:pt x="4969" y="2788"/>
                  </a:lnTo>
                  <a:lnTo>
                    <a:pt x="4915" y="2723"/>
                  </a:lnTo>
                  <a:lnTo>
                    <a:pt x="4850" y="2744"/>
                  </a:lnTo>
                  <a:lnTo>
                    <a:pt x="4730" y="2744"/>
                  </a:lnTo>
                  <a:lnTo>
                    <a:pt x="4645" y="2706"/>
                  </a:lnTo>
                  <a:lnTo>
                    <a:pt x="4638" y="2614"/>
                  </a:lnTo>
                  <a:lnTo>
                    <a:pt x="4600" y="2587"/>
                  </a:lnTo>
                  <a:lnTo>
                    <a:pt x="4552" y="2614"/>
                  </a:lnTo>
                  <a:lnTo>
                    <a:pt x="4573" y="2706"/>
                  </a:lnTo>
                  <a:lnTo>
                    <a:pt x="4535" y="2778"/>
                  </a:lnTo>
                  <a:lnTo>
                    <a:pt x="4443" y="2771"/>
                  </a:lnTo>
                  <a:lnTo>
                    <a:pt x="4395" y="2696"/>
                  </a:lnTo>
                  <a:lnTo>
                    <a:pt x="4368" y="2604"/>
                  </a:lnTo>
                  <a:lnTo>
                    <a:pt x="4368" y="2494"/>
                  </a:lnTo>
                  <a:lnTo>
                    <a:pt x="4313" y="2447"/>
                  </a:lnTo>
                  <a:lnTo>
                    <a:pt x="4286" y="2522"/>
                  </a:lnTo>
                  <a:lnTo>
                    <a:pt x="4296" y="2614"/>
                  </a:lnTo>
                  <a:lnTo>
                    <a:pt x="4330" y="2689"/>
                  </a:lnTo>
                  <a:lnTo>
                    <a:pt x="4395" y="2751"/>
                  </a:lnTo>
                  <a:lnTo>
                    <a:pt x="4330" y="2836"/>
                  </a:lnTo>
                  <a:lnTo>
                    <a:pt x="4269" y="2891"/>
                  </a:lnTo>
                  <a:lnTo>
                    <a:pt x="4183" y="2870"/>
                  </a:lnTo>
                  <a:lnTo>
                    <a:pt x="4183" y="2935"/>
                  </a:lnTo>
                  <a:lnTo>
                    <a:pt x="4117" y="2990"/>
                  </a:lnTo>
                  <a:lnTo>
                    <a:pt x="4035" y="2891"/>
                  </a:lnTo>
                  <a:lnTo>
                    <a:pt x="4046" y="2826"/>
                  </a:lnTo>
                  <a:lnTo>
                    <a:pt x="4145" y="2870"/>
                  </a:lnTo>
                  <a:lnTo>
                    <a:pt x="4211" y="2870"/>
                  </a:lnTo>
                  <a:lnTo>
                    <a:pt x="4296" y="2809"/>
                  </a:lnTo>
                  <a:lnTo>
                    <a:pt x="4269" y="2706"/>
                  </a:lnTo>
                  <a:lnTo>
                    <a:pt x="4194" y="2641"/>
                  </a:lnTo>
                  <a:lnTo>
                    <a:pt x="4117" y="2587"/>
                  </a:lnTo>
                  <a:lnTo>
                    <a:pt x="4035" y="2505"/>
                  </a:lnTo>
                  <a:lnTo>
                    <a:pt x="3943" y="2419"/>
                  </a:lnTo>
                  <a:lnTo>
                    <a:pt x="3943" y="2522"/>
                  </a:lnTo>
                  <a:lnTo>
                    <a:pt x="4008" y="2597"/>
                  </a:lnTo>
                  <a:lnTo>
                    <a:pt x="3988" y="2706"/>
                  </a:lnTo>
                  <a:lnTo>
                    <a:pt x="3988" y="2809"/>
                  </a:lnTo>
                  <a:lnTo>
                    <a:pt x="3895" y="2734"/>
                  </a:lnTo>
                  <a:lnTo>
                    <a:pt x="3878" y="2658"/>
                  </a:lnTo>
                  <a:lnTo>
                    <a:pt x="3926" y="2604"/>
                  </a:lnTo>
                  <a:lnTo>
                    <a:pt x="3906" y="2539"/>
                  </a:lnTo>
                  <a:lnTo>
                    <a:pt x="3953" y="2512"/>
                  </a:lnTo>
                  <a:lnTo>
                    <a:pt x="3953" y="2419"/>
                  </a:lnTo>
                  <a:lnTo>
                    <a:pt x="3878" y="2440"/>
                  </a:lnTo>
                  <a:lnTo>
                    <a:pt x="3813" y="2522"/>
                  </a:lnTo>
                  <a:lnTo>
                    <a:pt x="3731" y="2505"/>
                  </a:lnTo>
                  <a:lnTo>
                    <a:pt x="3612" y="2559"/>
                  </a:lnTo>
                  <a:lnTo>
                    <a:pt x="3591" y="2679"/>
                  </a:lnTo>
                  <a:lnTo>
                    <a:pt x="3489" y="2751"/>
                  </a:lnTo>
                  <a:lnTo>
                    <a:pt x="3379" y="2816"/>
                  </a:lnTo>
                  <a:lnTo>
                    <a:pt x="3277" y="2826"/>
                  </a:lnTo>
                  <a:lnTo>
                    <a:pt x="3178" y="2788"/>
                  </a:lnTo>
                  <a:lnTo>
                    <a:pt x="3113" y="2734"/>
                  </a:lnTo>
                  <a:lnTo>
                    <a:pt x="3157" y="2679"/>
                  </a:lnTo>
                  <a:lnTo>
                    <a:pt x="3113" y="2597"/>
                  </a:lnTo>
                  <a:lnTo>
                    <a:pt x="3184" y="2532"/>
                  </a:lnTo>
                  <a:lnTo>
                    <a:pt x="3195" y="2457"/>
                  </a:lnTo>
                  <a:lnTo>
                    <a:pt x="3195" y="2358"/>
                  </a:lnTo>
                  <a:lnTo>
                    <a:pt x="3287" y="2265"/>
                  </a:lnTo>
                  <a:lnTo>
                    <a:pt x="3427" y="2310"/>
                  </a:lnTo>
                  <a:lnTo>
                    <a:pt x="3574" y="2337"/>
                  </a:lnTo>
                  <a:lnTo>
                    <a:pt x="3629" y="2272"/>
                  </a:lnTo>
                  <a:lnTo>
                    <a:pt x="3629" y="2173"/>
                  </a:lnTo>
                  <a:lnTo>
                    <a:pt x="3564" y="2098"/>
                  </a:lnTo>
                  <a:lnTo>
                    <a:pt x="3444" y="2043"/>
                  </a:lnTo>
                  <a:lnTo>
                    <a:pt x="3509" y="1995"/>
                  </a:lnTo>
                  <a:lnTo>
                    <a:pt x="3618" y="1951"/>
                  </a:lnTo>
                  <a:lnTo>
                    <a:pt x="3639" y="1934"/>
                  </a:lnTo>
                  <a:lnTo>
                    <a:pt x="3612" y="1913"/>
                  </a:lnTo>
                  <a:lnTo>
                    <a:pt x="3519" y="1934"/>
                  </a:lnTo>
                  <a:lnTo>
                    <a:pt x="3427" y="1951"/>
                  </a:lnTo>
                  <a:lnTo>
                    <a:pt x="3369" y="1968"/>
                  </a:lnTo>
                  <a:lnTo>
                    <a:pt x="3407" y="1903"/>
                  </a:lnTo>
                  <a:lnTo>
                    <a:pt x="3427" y="1804"/>
                  </a:lnTo>
                  <a:lnTo>
                    <a:pt x="3461" y="1756"/>
                  </a:lnTo>
                  <a:lnTo>
                    <a:pt x="3482" y="1691"/>
                  </a:lnTo>
                  <a:lnTo>
                    <a:pt x="3434" y="1619"/>
                  </a:lnTo>
                  <a:lnTo>
                    <a:pt x="3369" y="1664"/>
                  </a:lnTo>
                  <a:lnTo>
                    <a:pt x="3379" y="1749"/>
                  </a:lnTo>
                  <a:lnTo>
                    <a:pt x="3369" y="1821"/>
                  </a:lnTo>
                  <a:lnTo>
                    <a:pt x="3325" y="1934"/>
                  </a:lnTo>
                  <a:lnTo>
                    <a:pt x="3232" y="1913"/>
                  </a:lnTo>
                  <a:lnTo>
                    <a:pt x="3205" y="1821"/>
                  </a:lnTo>
                  <a:lnTo>
                    <a:pt x="3147" y="1712"/>
                  </a:lnTo>
                  <a:lnTo>
                    <a:pt x="3260" y="1691"/>
                  </a:lnTo>
                  <a:lnTo>
                    <a:pt x="3297" y="1657"/>
                  </a:lnTo>
                  <a:lnTo>
                    <a:pt x="3342" y="1630"/>
                  </a:lnTo>
                  <a:lnTo>
                    <a:pt x="3342" y="1582"/>
                  </a:lnTo>
                  <a:lnTo>
                    <a:pt x="3314" y="1510"/>
                  </a:lnTo>
                  <a:lnTo>
                    <a:pt x="3396" y="1462"/>
                  </a:lnTo>
                  <a:lnTo>
                    <a:pt x="3482" y="1418"/>
                  </a:lnTo>
                  <a:lnTo>
                    <a:pt x="3536" y="1452"/>
                  </a:lnTo>
                  <a:lnTo>
                    <a:pt x="3564" y="1555"/>
                  </a:lnTo>
                  <a:lnTo>
                    <a:pt x="3601" y="1664"/>
                  </a:lnTo>
                  <a:lnTo>
                    <a:pt x="3656" y="1722"/>
                  </a:lnTo>
                  <a:lnTo>
                    <a:pt x="3683" y="1821"/>
                  </a:lnTo>
                  <a:lnTo>
                    <a:pt x="3639" y="1886"/>
                  </a:lnTo>
                  <a:lnTo>
                    <a:pt x="3629" y="1941"/>
                  </a:lnTo>
                  <a:lnTo>
                    <a:pt x="3711" y="1913"/>
                  </a:lnTo>
                  <a:lnTo>
                    <a:pt x="3803" y="1869"/>
                  </a:lnTo>
                  <a:lnTo>
                    <a:pt x="3841" y="1749"/>
                  </a:lnTo>
                  <a:lnTo>
                    <a:pt x="3933" y="1749"/>
                  </a:lnTo>
                  <a:lnTo>
                    <a:pt x="3981" y="1712"/>
                  </a:lnTo>
                  <a:lnTo>
                    <a:pt x="3970" y="1619"/>
                  </a:lnTo>
                  <a:lnTo>
                    <a:pt x="3926" y="1527"/>
                  </a:lnTo>
                  <a:lnTo>
                    <a:pt x="4008" y="1527"/>
                  </a:lnTo>
                  <a:lnTo>
                    <a:pt x="4100" y="1619"/>
                  </a:lnTo>
                  <a:lnTo>
                    <a:pt x="4183" y="1691"/>
                  </a:lnTo>
                  <a:lnTo>
                    <a:pt x="4248" y="1691"/>
                  </a:lnTo>
                  <a:lnTo>
                    <a:pt x="4361" y="1657"/>
                  </a:lnTo>
                  <a:lnTo>
                    <a:pt x="4433" y="1537"/>
                  </a:lnTo>
                  <a:lnTo>
                    <a:pt x="4470" y="1452"/>
                  </a:lnTo>
                  <a:lnTo>
                    <a:pt x="4638" y="1490"/>
                  </a:lnTo>
                  <a:lnTo>
                    <a:pt x="4498" y="1408"/>
                  </a:lnTo>
                  <a:lnTo>
                    <a:pt x="4395" y="1418"/>
                  </a:lnTo>
                  <a:lnTo>
                    <a:pt x="4368" y="1288"/>
                  </a:lnTo>
                  <a:lnTo>
                    <a:pt x="4368" y="1213"/>
                  </a:lnTo>
                  <a:lnTo>
                    <a:pt x="4487" y="1179"/>
                  </a:lnTo>
                  <a:lnTo>
                    <a:pt x="4518" y="1103"/>
                  </a:lnTo>
                  <a:lnTo>
                    <a:pt x="4433" y="1141"/>
                  </a:lnTo>
                  <a:lnTo>
                    <a:pt x="4330" y="1206"/>
                  </a:lnTo>
                  <a:lnTo>
                    <a:pt x="4231" y="1213"/>
                  </a:lnTo>
                  <a:lnTo>
                    <a:pt x="4286" y="1332"/>
                  </a:lnTo>
                  <a:lnTo>
                    <a:pt x="4269" y="1435"/>
                  </a:lnTo>
                  <a:lnTo>
                    <a:pt x="4269" y="1517"/>
                  </a:lnTo>
                  <a:lnTo>
                    <a:pt x="4194" y="1582"/>
                  </a:lnTo>
                  <a:lnTo>
                    <a:pt x="4111" y="1599"/>
                  </a:lnTo>
                  <a:lnTo>
                    <a:pt x="4046" y="1527"/>
                  </a:lnTo>
                  <a:lnTo>
                    <a:pt x="4052" y="1452"/>
                  </a:lnTo>
                  <a:lnTo>
                    <a:pt x="4073" y="1408"/>
                  </a:lnTo>
                  <a:lnTo>
                    <a:pt x="3981" y="1435"/>
                  </a:lnTo>
                  <a:lnTo>
                    <a:pt x="3888" y="1387"/>
                  </a:lnTo>
                  <a:lnTo>
                    <a:pt x="3841" y="1326"/>
                  </a:lnTo>
                  <a:lnTo>
                    <a:pt x="3868" y="1213"/>
                  </a:lnTo>
                  <a:lnTo>
                    <a:pt x="3851" y="1206"/>
                  </a:lnTo>
                  <a:lnTo>
                    <a:pt x="3868" y="1196"/>
                  </a:lnTo>
                  <a:lnTo>
                    <a:pt x="3878" y="1185"/>
                  </a:lnTo>
                  <a:lnTo>
                    <a:pt x="2798" y="1185"/>
                  </a:lnTo>
                  <a:lnTo>
                    <a:pt x="2740" y="1250"/>
                  </a:lnTo>
                  <a:lnTo>
                    <a:pt x="2648" y="1305"/>
                  </a:lnTo>
                  <a:lnTo>
                    <a:pt x="2556" y="1267"/>
                  </a:lnTo>
                  <a:lnTo>
                    <a:pt x="2528" y="1206"/>
                  </a:lnTo>
                  <a:lnTo>
                    <a:pt x="2528" y="1131"/>
                  </a:lnTo>
                  <a:lnTo>
                    <a:pt x="2539" y="1121"/>
                  </a:lnTo>
                  <a:lnTo>
                    <a:pt x="2316" y="1121"/>
                  </a:lnTo>
                  <a:lnTo>
                    <a:pt x="2241" y="1131"/>
                  </a:lnTo>
                  <a:lnTo>
                    <a:pt x="2180" y="1267"/>
                  </a:lnTo>
                  <a:lnTo>
                    <a:pt x="2142" y="1370"/>
                  </a:lnTo>
                  <a:lnTo>
                    <a:pt x="2115" y="1462"/>
                  </a:lnTo>
                  <a:lnTo>
                    <a:pt x="2002" y="1435"/>
                  </a:lnTo>
                  <a:lnTo>
                    <a:pt x="1930" y="1370"/>
                  </a:lnTo>
                  <a:lnTo>
                    <a:pt x="1920" y="1213"/>
                  </a:lnTo>
                  <a:lnTo>
                    <a:pt x="1872" y="1056"/>
                  </a:lnTo>
                  <a:lnTo>
                    <a:pt x="1807" y="967"/>
                  </a:lnTo>
                  <a:lnTo>
                    <a:pt x="1838" y="909"/>
                  </a:lnTo>
                  <a:lnTo>
                    <a:pt x="1773" y="772"/>
                  </a:lnTo>
                  <a:lnTo>
                    <a:pt x="1715" y="724"/>
                  </a:lnTo>
                  <a:lnTo>
                    <a:pt x="1643" y="782"/>
                  </a:lnTo>
                  <a:lnTo>
                    <a:pt x="1541" y="717"/>
                  </a:lnTo>
                  <a:lnTo>
                    <a:pt x="1476" y="762"/>
                  </a:lnTo>
                  <a:lnTo>
                    <a:pt x="1431" y="810"/>
                  </a:lnTo>
                  <a:lnTo>
                    <a:pt x="1302" y="844"/>
                  </a:lnTo>
                  <a:lnTo>
                    <a:pt x="1226" y="936"/>
                  </a:lnTo>
                  <a:lnTo>
                    <a:pt x="1373" y="956"/>
                  </a:lnTo>
                  <a:lnTo>
                    <a:pt x="1503" y="1011"/>
                  </a:lnTo>
                  <a:lnTo>
                    <a:pt x="1558" y="1103"/>
                  </a:lnTo>
                  <a:lnTo>
                    <a:pt x="1643" y="1196"/>
                  </a:lnTo>
                  <a:lnTo>
                    <a:pt x="1650" y="1343"/>
                  </a:lnTo>
                  <a:lnTo>
                    <a:pt x="1623" y="1490"/>
                  </a:lnTo>
                  <a:lnTo>
                    <a:pt x="1541" y="1527"/>
                  </a:lnTo>
                  <a:lnTo>
                    <a:pt x="1448" y="1435"/>
                  </a:lnTo>
                  <a:lnTo>
                    <a:pt x="1274" y="1425"/>
                  </a:lnTo>
                  <a:lnTo>
                    <a:pt x="1274" y="1360"/>
                  </a:lnTo>
                  <a:lnTo>
                    <a:pt x="1431" y="1326"/>
                  </a:lnTo>
                  <a:lnTo>
                    <a:pt x="1438" y="1240"/>
                  </a:lnTo>
                  <a:lnTo>
                    <a:pt x="1421" y="1206"/>
                  </a:lnTo>
                  <a:lnTo>
                    <a:pt x="1366" y="1288"/>
                  </a:lnTo>
                  <a:lnTo>
                    <a:pt x="1291" y="1223"/>
                  </a:lnTo>
                  <a:lnTo>
                    <a:pt x="1394" y="1141"/>
                  </a:lnTo>
                  <a:lnTo>
                    <a:pt x="1448" y="1213"/>
                  </a:lnTo>
                  <a:lnTo>
                    <a:pt x="1366" y="1131"/>
                  </a:lnTo>
                  <a:lnTo>
                    <a:pt x="1274" y="1131"/>
                  </a:lnTo>
                  <a:lnTo>
                    <a:pt x="1209" y="1196"/>
                  </a:lnTo>
                  <a:lnTo>
                    <a:pt x="1216" y="1288"/>
                  </a:lnTo>
                  <a:lnTo>
                    <a:pt x="1216" y="1408"/>
                  </a:lnTo>
                  <a:lnTo>
                    <a:pt x="1199" y="1500"/>
                  </a:lnTo>
                  <a:lnTo>
                    <a:pt x="1216" y="1592"/>
                  </a:lnTo>
                  <a:lnTo>
                    <a:pt x="1124" y="1517"/>
                  </a:lnTo>
                  <a:lnTo>
                    <a:pt x="1090" y="1572"/>
                  </a:lnTo>
                  <a:lnTo>
                    <a:pt x="1052" y="1510"/>
                  </a:lnTo>
                  <a:lnTo>
                    <a:pt x="1090" y="1418"/>
                  </a:lnTo>
                  <a:lnTo>
                    <a:pt x="1004" y="1452"/>
                  </a:lnTo>
                  <a:lnTo>
                    <a:pt x="960" y="1527"/>
                  </a:lnTo>
                  <a:lnTo>
                    <a:pt x="895" y="1599"/>
                  </a:lnTo>
                  <a:lnTo>
                    <a:pt x="895" y="1674"/>
                  </a:lnTo>
                  <a:lnTo>
                    <a:pt x="792" y="1674"/>
                  </a:lnTo>
                  <a:lnTo>
                    <a:pt x="755" y="1722"/>
                  </a:lnTo>
                  <a:lnTo>
                    <a:pt x="792" y="1842"/>
                  </a:lnTo>
                  <a:lnTo>
                    <a:pt x="902" y="1903"/>
                  </a:lnTo>
                  <a:lnTo>
                    <a:pt x="960" y="1951"/>
                  </a:lnTo>
                  <a:lnTo>
                    <a:pt x="950" y="2060"/>
                  </a:lnTo>
                  <a:lnTo>
                    <a:pt x="1025" y="2033"/>
                  </a:lnTo>
                  <a:lnTo>
                    <a:pt x="1032" y="1934"/>
                  </a:lnTo>
                  <a:lnTo>
                    <a:pt x="1151" y="1934"/>
                  </a:lnTo>
                  <a:lnTo>
                    <a:pt x="1226" y="1842"/>
                  </a:lnTo>
                  <a:lnTo>
                    <a:pt x="1237" y="1749"/>
                  </a:lnTo>
                  <a:lnTo>
                    <a:pt x="1226" y="1582"/>
                  </a:lnTo>
                  <a:lnTo>
                    <a:pt x="1274" y="1473"/>
                  </a:lnTo>
                  <a:lnTo>
                    <a:pt x="1339" y="1408"/>
                  </a:lnTo>
                  <a:lnTo>
                    <a:pt x="1438" y="1462"/>
                  </a:lnTo>
                  <a:lnTo>
                    <a:pt x="1551" y="1527"/>
                  </a:lnTo>
                  <a:lnTo>
                    <a:pt x="1616" y="1582"/>
                  </a:lnTo>
                  <a:lnTo>
                    <a:pt x="1671" y="1674"/>
                  </a:lnTo>
                  <a:lnTo>
                    <a:pt x="1753" y="1722"/>
                  </a:lnTo>
                  <a:lnTo>
                    <a:pt x="1780" y="1842"/>
                  </a:lnTo>
                  <a:lnTo>
                    <a:pt x="1790" y="1913"/>
                  </a:lnTo>
                  <a:lnTo>
                    <a:pt x="1872" y="1989"/>
                  </a:lnTo>
                  <a:lnTo>
                    <a:pt x="1807" y="2071"/>
                  </a:lnTo>
                  <a:lnTo>
                    <a:pt x="1708" y="2071"/>
                  </a:lnTo>
                  <a:lnTo>
                    <a:pt x="1589" y="2125"/>
                  </a:lnTo>
                  <a:lnTo>
                    <a:pt x="1503" y="2190"/>
                  </a:lnTo>
                  <a:lnTo>
                    <a:pt x="1373" y="2255"/>
                  </a:lnTo>
                  <a:lnTo>
                    <a:pt x="1274" y="2358"/>
                  </a:lnTo>
                  <a:lnTo>
                    <a:pt x="1172" y="2440"/>
                  </a:lnTo>
                  <a:lnTo>
                    <a:pt x="1151" y="2522"/>
                  </a:lnTo>
                  <a:lnTo>
                    <a:pt x="1151" y="2587"/>
                  </a:lnTo>
                  <a:lnTo>
                    <a:pt x="1090" y="2652"/>
                  </a:lnTo>
                  <a:lnTo>
                    <a:pt x="1096" y="2723"/>
                  </a:lnTo>
                  <a:lnTo>
                    <a:pt x="1014" y="2816"/>
                  </a:lnTo>
                  <a:lnTo>
                    <a:pt x="1014" y="2928"/>
                  </a:lnTo>
                  <a:lnTo>
                    <a:pt x="1059" y="3021"/>
                  </a:lnTo>
                  <a:lnTo>
                    <a:pt x="1032" y="3094"/>
                  </a:lnTo>
                  <a:lnTo>
                    <a:pt x="950" y="3056"/>
                  </a:lnTo>
                  <a:lnTo>
                    <a:pt x="932" y="2928"/>
                  </a:lnTo>
                  <a:lnTo>
                    <a:pt x="847" y="2870"/>
                  </a:lnTo>
                  <a:lnTo>
                    <a:pt x="782" y="2891"/>
                  </a:lnTo>
                  <a:lnTo>
                    <a:pt x="738" y="2973"/>
                  </a:lnTo>
                  <a:lnTo>
                    <a:pt x="652" y="2928"/>
                  </a:lnTo>
                  <a:lnTo>
                    <a:pt x="570" y="2928"/>
                  </a:lnTo>
                  <a:lnTo>
                    <a:pt x="478" y="3011"/>
                  </a:lnTo>
                  <a:lnTo>
                    <a:pt x="451" y="3094"/>
                  </a:lnTo>
                  <a:lnTo>
                    <a:pt x="423" y="3176"/>
                  </a:lnTo>
                  <a:lnTo>
                    <a:pt x="403" y="3305"/>
                  </a:lnTo>
                  <a:lnTo>
                    <a:pt x="478" y="3387"/>
                  </a:lnTo>
                  <a:lnTo>
                    <a:pt x="553" y="3326"/>
                  </a:lnTo>
                  <a:lnTo>
                    <a:pt x="645" y="3326"/>
                  </a:lnTo>
                  <a:lnTo>
                    <a:pt x="652" y="3435"/>
                  </a:lnTo>
                  <a:lnTo>
                    <a:pt x="598" y="3507"/>
                  </a:lnTo>
                  <a:lnTo>
                    <a:pt x="710" y="3528"/>
                  </a:lnTo>
                  <a:lnTo>
                    <a:pt x="755" y="3555"/>
                  </a:lnTo>
                  <a:lnTo>
                    <a:pt x="782" y="3657"/>
                  </a:lnTo>
                  <a:lnTo>
                    <a:pt x="874" y="3692"/>
                  </a:lnTo>
                  <a:lnTo>
                    <a:pt x="977" y="3777"/>
                  </a:lnTo>
                  <a:lnTo>
                    <a:pt x="1052" y="3729"/>
                  </a:lnTo>
                  <a:lnTo>
                    <a:pt x="1216" y="3777"/>
                  </a:lnTo>
                  <a:lnTo>
                    <a:pt x="1346" y="3784"/>
                  </a:lnTo>
                  <a:lnTo>
                    <a:pt x="1530" y="3886"/>
                  </a:lnTo>
                  <a:lnTo>
                    <a:pt x="1558" y="3968"/>
                  </a:lnTo>
                  <a:lnTo>
                    <a:pt x="1671" y="4061"/>
                  </a:lnTo>
                  <a:lnTo>
                    <a:pt x="1725" y="4191"/>
                  </a:lnTo>
                  <a:lnTo>
                    <a:pt x="1855" y="4256"/>
                  </a:lnTo>
                  <a:lnTo>
                    <a:pt x="1964" y="4273"/>
                  </a:lnTo>
                  <a:lnTo>
                    <a:pt x="2088" y="4382"/>
                  </a:lnTo>
                  <a:lnTo>
                    <a:pt x="2234" y="4382"/>
                  </a:lnTo>
                  <a:lnTo>
                    <a:pt x="2241" y="4474"/>
                  </a:lnTo>
                  <a:lnTo>
                    <a:pt x="2241" y="4567"/>
                  </a:lnTo>
                  <a:lnTo>
                    <a:pt x="2180" y="4659"/>
                  </a:lnTo>
                  <a:lnTo>
                    <a:pt x="2159" y="4772"/>
                  </a:lnTo>
                  <a:lnTo>
                    <a:pt x="2142" y="4891"/>
                  </a:lnTo>
                  <a:lnTo>
                    <a:pt x="2057" y="5001"/>
                  </a:lnTo>
                  <a:lnTo>
                    <a:pt x="1947" y="5066"/>
                  </a:lnTo>
                  <a:lnTo>
                    <a:pt x="1845" y="5083"/>
                  </a:lnTo>
                  <a:lnTo>
                    <a:pt x="1882" y="5175"/>
                  </a:lnTo>
                  <a:lnTo>
                    <a:pt x="1790" y="5288"/>
                  </a:lnTo>
                  <a:lnTo>
                    <a:pt x="1715" y="5380"/>
                  </a:lnTo>
                  <a:lnTo>
                    <a:pt x="1623" y="5435"/>
                  </a:lnTo>
                  <a:lnTo>
                    <a:pt x="1541" y="5571"/>
                  </a:lnTo>
                  <a:lnTo>
                    <a:pt x="1476" y="5664"/>
                  </a:lnTo>
                  <a:lnTo>
                    <a:pt x="1394" y="5718"/>
                  </a:lnTo>
                  <a:lnTo>
                    <a:pt x="1339" y="5804"/>
                  </a:lnTo>
                  <a:lnTo>
                    <a:pt x="1291" y="5886"/>
                  </a:lnTo>
                  <a:lnTo>
                    <a:pt x="1237" y="5968"/>
                  </a:lnTo>
                  <a:lnTo>
                    <a:pt x="1254" y="6043"/>
                  </a:lnTo>
                  <a:lnTo>
                    <a:pt x="1209" y="6108"/>
                  </a:lnTo>
                  <a:lnTo>
                    <a:pt x="1134" y="5995"/>
                  </a:lnTo>
                  <a:lnTo>
                    <a:pt x="1042" y="5903"/>
                  </a:lnTo>
                  <a:lnTo>
                    <a:pt x="1014" y="5783"/>
                  </a:lnTo>
                  <a:lnTo>
                    <a:pt x="1014" y="5664"/>
                  </a:lnTo>
                  <a:lnTo>
                    <a:pt x="1004" y="5534"/>
                  </a:lnTo>
                  <a:lnTo>
                    <a:pt x="1042" y="5349"/>
                  </a:lnTo>
                  <a:lnTo>
                    <a:pt x="1052" y="5175"/>
                  </a:lnTo>
                  <a:lnTo>
                    <a:pt x="1032" y="5011"/>
                  </a:lnTo>
                  <a:lnTo>
                    <a:pt x="1004" y="4891"/>
                  </a:lnTo>
                  <a:lnTo>
                    <a:pt x="895" y="4772"/>
                  </a:lnTo>
                  <a:lnTo>
                    <a:pt x="792" y="4679"/>
                  </a:lnTo>
                  <a:lnTo>
                    <a:pt x="710" y="4560"/>
                  </a:lnTo>
                  <a:lnTo>
                    <a:pt x="690" y="4403"/>
                  </a:lnTo>
                  <a:lnTo>
                    <a:pt x="738" y="4300"/>
                  </a:lnTo>
                  <a:lnTo>
                    <a:pt x="738" y="4208"/>
                  </a:lnTo>
                  <a:lnTo>
                    <a:pt x="792" y="4050"/>
                  </a:lnTo>
                  <a:lnTo>
                    <a:pt x="857" y="3931"/>
                  </a:lnTo>
                  <a:lnTo>
                    <a:pt x="950" y="3859"/>
                  </a:lnTo>
                  <a:lnTo>
                    <a:pt x="987" y="3784"/>
                  </a:lnTo>
                  <a:lnTo>
                    <a:pt x="874" y="3757"/>
                  </a:lnTo>
                  <a:lnTo>
                    <a:pt x="803" y="3777"/>
                  </a:lnTo>
                  <a:lnTo>
                    <a:pt x="727" y="3746"/>
                  </a:lnTo>
                  <a:lnTo>
                    <a:pt x="635" y="3675"/>
                  </a:lnTo>
                  <a:lnTo>
                    <a:pt x="543" y="3593"/>
                  </a:lnTo>
                  <a:lnTo>
                    <a:pt x="488" y="3500"/>
                  </a:lnTo>
                  <a:lnTo>
                    <a:pt x="451" y="3480"/>
                  </a:lnTo>
                  <a:lnTo>
                    <a:pt x="396" y="3507"/>
                  </a:lnTo>
                  <a:lnTo>
                    <a:pt x="304" y="3452"/>
                  </a:lnTo>
                  <a:lnTo>
                    <a:pt x="228" y="3370"/>
                  </a:lnTo>
                  <a:lnTo>
                    <a:pt x="201" y="3305"/>
                  </a:lnTo>
                  <a:lnTo>
                    <a:pt x="201" y="3186"/>
                  </a:lnTo>
                  <a:lnTo>
                    <a:pt x="184" y="3121"/>
                  </a:lnTo>
                  <a:lnTo>
                    <a:pt x="99" y="3066"/>
                  </a:lnTo>
                  <a:lnTo>
                    <a:pt x="99" y="3114"/>
                  </a:lnTo>
                  <a:lnTo>
                    <a:pt x="136" y="3196"/>
                  </a:lnTo>
                  <a:lnTo>
                    <a:pt x="153" y="3278"/>
                  </a:lnTo>
                  <a:lnTo>
                    <a:pt x="71" y="3223"/>
                  </a:lnTo>
                  <a:lnTo>
                    <a:pt x="27" y="3169"/>
                  </a:lnTo>
                  <a:lnTo>
                    <a:pt x="6" y="3076"/>
                  </a:lnTo>
                  <a:lnTo>
                    <a:pt x="17" y="2918"/>
                  </a:lnTo>
                  <a:lnTo>
                    <a:pt x="0" y="2734"/>
                  </a:lnTo>
                  <a:lnTo>
                    <a:pt x="17" y="2494"/>
                  </a:lnTo>
                  <a:lnTo>
                    <a:pt x="71" y="2125"/>
                  </a:lnTo>
                  <a:lnTo>
                    <a:pt x="191" y="1766"/>
                  </a:lnTo>
                  <a:lnTo>
                    <a:pt x="375" y="1343"/>
                  </a:lnTo>
                  <a:lnTo>
                    <a:pt x="516" y="1049"/>
                  </a:lnTo>
                  <a:lnTo>
                    <a:pt x="727" y="724"/>
                  </a:lnTo>
                  <a:lnTo>
                    <a:pt x="902" y="533"/>
                  </a:lnTo>
                  <a:close/>
                </a:path>
              </a:pathLst>
            </a:custGeom>
            <a:solidFill>
              <a:srgbClr val="315fa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765440" y="4718160"/>
            <a:ext cx="5651640" cy="714600"/>
            <a:chOff x="1765440" y="4718160"/>
            <a:chExt cx="5651640" cy="714600"/>
          </a:xfrm>
        </p:grpSpPr>
        <p:grpSp>
          <p:nvGrpSpPr>
            <p:cNvPr id="262" name=""/>
            <p:cNvGrpSpPr/>
            <p:nvPr/>
          </p:nvGrpSpPr>
          <p:grpSpPr>
            <a:xfrm>
              <a:off x="7284960" y="4724280"/>
              <a:ext cx="132120" cy="132120"/>
              <a:chOff x="7284960" y="4724280"/>
              <a:chExt cx="132120" cy="132120"/>
            </a:xfrm>
          </p:grpSpPr>
          <p:sp>
            <p:nvSpPr>
              <p:cNvPr id="263" name=""/>
              <p:cNvSpPr/>
              <p:nvPr/>
            </p:nvSpPr>
            <p:spPr>
              <a:xfrm>
                <a:off x="7284960" y="472428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179" y="36"/>
                    </a:moveTo>
                    <a:lnTo>
                      <a:pt x="210" y="36"/>
                    </a:lnTo>
                    <a:lnTo>
                      <a:pt x="240" y="43"/>
                    </a:lnTo>
                    <a:lnTo>
                      <a:pt x="262" y="58"/>
                    </a:lnTo>
                    <a:lnTo>
                      <a:pt x="284" y="80"/>
                    </a:lnTo>
                    <a:lnTo>
                      <a:pt x="307" y="102"/>
                    </a:lnTo>
                    <a:lnTo>
                      <a:pt x="322" y="124"/>
                    </a:lnTo>
                    <a:lnTo>
                      <a:pt x="329" y="153"/>
                    </a:lnTo>
                    <a:lnTo>
                      <a:pt x="329" y="183"/>
                    </a:lnTo>
                    <a:lnTo>
                      <a:pt x="329" y="205"/>
                    </a:lnTo>
                    <a:lnTo>
                      <a:pt x="322" y="235"/>
                    </a:lnTo>
                    <a:lnTo>
                      <a:pt x="307" y="264"/>
                    </a:lnTo>
                    <a:lnTo>
                      <a:pt x="284" y="279"/>
                    </a:lnTo>
                    <a:lnTo>
                      <a:pt x="262" y="301"/>
                    </a:lnTo>
                    <a:lnTo>
                      <a:pt x="240" y="315"/>
                    </a:lnTo>
                    <a:lnTo>
                      <a:pt x="210" y="323"/>
                    </a:lnTo>
                    <a:lnTo>
                      <a:pt x="179" y="323"/>
                    </a:lnTo>
                    <a:lnTo>
                      <a:pt x="156" y="323"/>
                    </a:lnTo>
                    <a:lnTo>
                      <a:pt x="126" y="315"/>
                    </a:lnTo>
                    <a:lnTo>
                      <a:pt x="97" y="301"/>
                    </a:lnTo>
                    <a:lnTo>
                      <a:pt x="82" y="279"/>
                    </a:lnTo>
                    <a:lnTo>
                      <a:pt x="59" y="264"/>
                    </a:lnTo>
                    <a:lnTo>
                      <a:pt x="44" y="235"/>
                    </a:lnTo>
                    <a:lnTo>
                      <a:pt x="37" y="205"/>
                    </a:lnTo>
                    <a:lnTo>
                      <a:pt x="37" y="183"/>
                    </a:lnTo>
                    <a:lnTo>
                      <a:pt x="37" y="153"/>
                    </a:lnTo>
                    <a:lnTo>
                      <a:pt x="44" y="124"/>
                    </a:lnTo>
                    <a:lnTo>
                      <a:pt x="59" y="102"/>
                    </a:lnTo>
                    <a:lnTo>
                      <a:pt x="82" y="80"/>
                    </a:lnTo>
                    <a:lnTo>
                      <a:pt x="97" y="58"/>
                    </a:lnTo>
                    <a:lnTo>
                      <a:pt x="126" y="43"/>
                    </a:lnTo>
                    <a:lnTo>
                      <a:pt x="156" y="36"/>
                    </a:lnTo>
                    <a:lnTo>
                      <a:pt x="179" y="36"/>
                    </a:lnTo>
                    <a:lnTo>
                      <a:pt x="179" y="0"/>
                    </a:lnTo>
                    <a:lnTo>
                      <a:pt x="141" y="0"/>
                    </a:lnTo>
                    <a:lnTo>
                      <a:pt x="112" y="14"/>
                    </a:lnTo>
                    <a:lnTo>
                      <a:pt x="82" y="29"/>
                    </a:lnTo>
                    <a:lnTo>
                      <a:pt x="52" y="51"/>
                    </a:lnTo>
                    <a:lnTo>
                      <a:pt x="29" y="80"/>
                    </a:lnTo>
                    <a:lnTo>
                      <a:pt x="7" y="109"/>
                    </a:lnTo>
                    <a:lnTo>
                      <a:pt x="0" y="146"/>
                    </a:lnTo>
                    <a:lnTo>
                      <a:pt x="0" y="183"/>
                    </a:lnTo>
                    <a:lnTo>
                      <a:pt x="0" y="220"/>
                    </a:lnTo>
                    <a:lnTo>
                      <a:pt x="7" y="249"/>
                    </a:lnTo>
                    <a:lnTo>
                      <a:pt x="29" y="286"/>
                    </a:lnTo>
                    <a:lnTo>
                      <a:pt x="52" y="308"/>
                    </a:lnTo>
                    <a:lnTo>
                      <a:pt x="82" y="330"/>
                    </a:lnTo>
                    <a:lnTo>
                      <a:pt x="112" y="352"/>
                    </a:lnTo>
                    <a:lnTo>
                      <a:pt x="141" y="359"/>
                    </a:lnTo>
                    <a:lnTo>
                      <a:pt x="179" y="367"/>
                    </a:lnTo>
                    <a:lnTo>
                      <a:pt x="225" y="359"/>
                    </a:lnTo>
                    <a:lnTo>
                      <a:pt x="254" y="352"/>
                    </a:lnTo>
                    <a:lnTo>
                      <a:pt x="284" y="330"/>
                    </a:lnTo>
                    <a:lnTo>
                      <a:pt x="314" y="308"/>
                    </a:lnTo>
                    <a:lnTo>
                      <a:pt x="337" y="286"/>
                    </a:lnTo>
                    <a:lnTo>
                      <a:pt x="359" y="249"/>
                    </a:lnTo>
                    <a:lnTo>
                      <a:pt x="367" y="220"/>
                    </a:lnTo>
                    <a:lnTo>
                      <a:pt x="367" y="183"/>
                    </a:lnTo>
                    <a:lnTo>
                      <a:pt x="367" y="146"/>
                    </a:lnTo>
                    <a:lnTo>
                      <a:pt x="359" y="109"/>
                    </a:lnTo>
                    <a:lnTo>
                      <a:pt x="337" y="80"/>
                    </a:lnTo>
                    <a:lnTo>
                      <a:pt x="314" y="51"/>
                    </a:lnTo>
                    <a:lnTo>
                      <a:pt x="284" y="29"/>
                    </a:lnTo>
                    <a:lnTo>
                      <a:pt x="254" y="14"/>
                    </a:lnTo>
                    <a:lnTo>
                      <a:pt x="225" y="0"/>
                    </a:lnTo>
                    <a:lnTo>
                      <a:pt x="179" y="0"/>
                    </a:lnTo>
                    <a:lnTo>
                      <a:pt x="179" y="36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326360" y="4751280"/>
                <a:ext cx="54360" cy="71640"/>
              </a:xfrm>
              <a:custGeom>
                <a:avLst/>
                <a:gdLst/>
                <a:ahLst/>
                <a:rect l="0" t="0" r="r" b="b"/>
                <a:pathLst>
                  <a:path w="151" h="199">
                    <a:moveTo>
                      <a:pt x="0" y="0"/>
                    </a:moveTo>
                    <a:lnTo>
                      <a:pt x="50" y="0"/>
                    </a:lnTo>
                    <a:lnTo>
                      <a:pt x="72" y="0"/>
                    </a:lnTo>
                    <a:lnTo>
                      <a:pt x="86" y="0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23" y="14"/>
                    </a:lnTo>
                    <a:lnTo>
                      <a:pt x="137" y="28"/>
                    </a:lnTo>
                    <a:lnTo>
                      <a:pt x="144" y="49"/>
                    </a:lnTo>
                    <a:lnTo>
                      <a:pt x="144" y="56"/>
                    </a:lnTo>
                    <a:lnTo>
                      <a:pt x="144" y="63"/>
                    </a:lnTo>
                    <a:lnTo>
                      <a:pt x="144" y="77"/>
                    </a:lnTo>
                    <a:lnTo>
                      <a:pt x="137" y="92"/>
                    </a:lnTo>
                    <a:lnTo>
                      <a:pt x="116" y="107"/>
                    </a:lnTo>
                    <a:lnTo>
                      <a:pt x="116" y="114"/>
                    </a:lnTo>
                    <a:lnTo>
                      <a:pt x="108" y="114"/>
                    </a:lnTo>
                    <a:lnTo>
                      <a:pt x="151" y="199"/>
                    </a:lnTo>
                    <a:lnTo>
                      <a:pt x="108" y="199"/>
                    </a:lnTo>
                    <a:lnTo>
                      <a:pt x="65" y="121"/>
                    </a:lnTo>
                    <a:lnTo>
                      <a:pt x="35" y="121"/>
                    </a:lnTo>
                    <a:lnTo>
                      <a:pt x="35" y="199"/>
                    </a:lnTo>
                    <a:lnTo>
                      <a:pt x="0" y="199"/>
                    </a:lnTo>
                    <a:lnTo>
                      <a:pt x="0" y="0"/>
                    </a:lnTo>
                    <a:lnTo>
                      <a:pt x="35" y="28"/>
                    </a:lnTo>
                    <a:lnTo>
                      <a:pt x="35" y="85"/>
                    </a:lnTo>
                    <a:lnTo>
                      <a:pt x="65" y="85"/>
                    </a:lnTo>
                    <a:lnTo>
                      <a:pt x="86" y="85"/>
                    </a:lnTo>
                    <a:lnTo>
                      <a:pt x="100" y="77"/>
                    </a:lnTo>
                    <a:lnTo>
                      <a:pt x="100" y="70"/>
                    </a:lnTo>
                    <a:lnTo>
                      <a:pt x="100" y="56"/>
                    </a:lnTo>
                    <a:lnTo>
                      <a:pt x="100" y="42"/>
                    </a:lnTo>
                    <a:lnTo>
                      <a:pt x="86" y="35"/>
                    </a:lnTo>
                    <a:lnTo>
                      <a:pt x="72" y="28"/>
                    </a:lnTo>
                    <a:lnTo>
                      <a:pt x="50" y="28"/>
                    </a:lnTo>
                    <a:lnTo>
                      <a:pt x="35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3795840" y="4718160"/>
              <a:ext cx="1024200" cy="714600"/>
            </a:xfrm>
            <a:custGeom>
              <a:avLst/>
              <a:gdLst/>
              <a:ahLst/>
              <a:rect l="0" t="0" r="r" b="b"/>
              <a:pathLst>
                <a:path w="2845" h="1985">
                  <a:moveTo>
                    <a:pt x="943" y="1294"/>
                  </a:moveTo>
                  <a:lnTo>
                    <a:pt x="1954" y="1294"/>
                  </a:lnTo>
                  <a:lnTo>
                    <a:pt x="1418" y="438"/>
                  </a:lnTo>
                  <a:lnTo>
                    <a:pt x="445" y="1985"/>
                  </a:lnTo>
                  <a:lnTo>
                    <a:pt x="0" y="1985"/>
                  </a:lnTo>
                  <a:lnTo>
                    <a:pt x="1188" y="126"/>
                  </a:lnTo>
                  <a:lnTo>
                    <a:pt x="1232" y="74"/>
                  </a:lnTo>
                  <a:lnTo>
                    <a:pt x="1284" y="37"/>
                  </a:lnTo>
                  <a:lnTo>
                    <a:pt x="1351" y="7"/>
                  </a:lnTo>
                  <a:lnTo>
                    <a:pt x="1418" y="0"/>
                  </a:lnTo>
                  <a:lnTo>
                    <a:pt x="1486" y="7"/>
                  </a:lnTo>
                  <a:lnTo>
                    <a:pt x="1553" y="37"/>
                  </a:lnTo>
                  <a:lnTo>
                    <a:pt x="1605" y="74"/>
                  </a:lnTo>
                  <a:lnTo>
                    <a:pt x="1649" y="118"/>
                  </a:lnTo>
                  <a:lnTo>
                    <a:pt x="1657" y="126"/>
                  </a:lnTo>
                  <a:lnTo>
                    <a:pt x="1664" y="141"/>
                  </a:lnTo>
                  <a:lnTo>
                    <a:pt x="1679" y="163"/>
                  </a:lnTo>
                  <a:lnTo>
                    <a:pt x="1701" y="200"/>
                  </a:lnTo>
                  <a:lnTo>
                    <a:pt x="1731" y="245"/>
                  </a:lnTo>
                  <a:lnTo>
                    <a:pt x="1761" y="289"/>
                  </a:lnTo>
                  <a:lnTo>
                    <a:pt x="1798" y="349"/>
                  </a:lnTo>
                  <a:lnTo>
                    <a:pt x="1835" y="408"/>
                  </a:lnTo>
                  <a:lnTo>
                    <a:pt x="1924" y="549"/>
                  </a:lnTo>
                  <a:lnTo>
                    <a:pt x="2028" y="713"/>
                  </a:lnTo>
                  <a:lnTo>
                    <a:pt x="2132" y="876"/>
                  </a:lnTo>
                  <a:lnTo>
                    <a:pt x="2243" y="1056"/>
                  </a:lnTo>
                  <a:lnTo>
                    <a:pt x="2355" y="1227"/>
                  </a:lnTo>
                  <a:lnTo>
                    <a:pt x="2466" y="1398"/>
                  </a:lnTo>
                  <a:lnTo>
                    <a:pt x="2563" y="1554"/>
                  </a:lnTo>
                  <a:lnTo>
                    <a:pt x="2659" y="1695"/>
                  </a:lnTo>
                  <a:lnTo>
                    <a:pt x="2696" y="1754"/>
                  </a:lnTo>
                  <a:lnTo>
                    <a:pt x="2733" y="1814"/>
                  </a:lnTo>
                  <a:lnTo>
                    <a:pt x="2763" y="1866"/>
                  </a:lnTo>
                  <a:lnTo>
                    <a:pt x="2793" y="1903"/>
                  </a:lnTo>
                  <a:lnTo>
                    <a:pt x="2815" y="1940"/>
                  </a:lnTo>
                  <a:lnTo>
                    <a:pt x="2830" y="1963"/>
                  </a:lnTo>
                  <a:lnTo>
                    <a:pt x="2837" y="1985"/>
                  </a:lnTo>
                  <a:lnTo>
                    <a:pt x="2845" y="1985"/>
                  </a:lnTo>
                  <a:lnTo>
                    <a:pt x="2399" y="1985"/>
                  </a:lnTo>
                  <a:lnTo>
                    <a:pt x="2191" y="1643"/>
                  </a:lnTo>
                  <a:lnTo>
                    <a:pt x="1165" y="1643"/>
                  </a:lnTo>
                  <a:lnTo>
                    <a:pt x="943" y="1294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65680" y="4727520"/>
              <a:ext cx="768600" cy="705240"/>
            </a:xfrm>
            <a:custGeom>
              <a:avLst/>
              <a:gdLst/>
              <a:ahLst/>
              <a:rect l="0" t="0" r="r" b="b"/>
              <a:pathLst>
                <a:path w="2135" h="1959">
                  <a:moveTo>
                    <a:pt x="371" y="1618"/>
                  </a:moveTo>
                  <a:lnTo>
                    <a:pt x="371" y="0"/>
                  </a:lnTo>
                  <a:lnTo>
                    <a:pt x="0" y="0"/>
                  </a:lnTo>
                  <a:lnTo>
                    <a:pt x="0" y="1774"/>
                  </a:lnTo>
                  <a:lnTo>
                    <a:pt x="0" y="1811"/>
                  </a:lnTo>
                  <a:lnTo>
                    <a:pt x="7" y="1841"/>
                  </a:lnTo>
                  <a:lnTo>
                    <a:pt x="29" y="1878"/>
                  </a:lnTo>
                  <a:lnTo>
                    <a:pt x="52" y="1908"/>
                  </a:lnTo>
                  <a:lnTo>
                    <a:pt x="81" y="1930"/>
                  </a:lnTo>
                  <a:lnTo>
                    <a:pt x="111" y="1945"/>
                  </a:lnTo>
                  <a:lnTo>
                    <a:pt x="148" y="1959"/>
                  </a:lnTo>
                  <a:lnTo>
                    <a:pt x="193" y="1959"/>
                  </a:lnTo>
                  <a:lnTo>
                    <a:pt x="1912" y="1959"/>
                  </a:lnTo>
                  <a:lnTo>
                    <a:pt x="2135" y="1618"/>
                  </a:lnTo>
                  <a:lnTo>
                    <a:pt x="371" y="1618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57400" y="4727520"/>
              <a:ext cx="832320" cy="705240"/>
            </a:xfrm>
            <a:custGeom>
              <a:avLst/>
              <a:gdLst/>
              <a:ahLst/>
              <a:rect l="0" t="0" r="r" b="b"/>
              <a:pathLst>
                <a:path w="2312" h="1959">
                  <a:moveTo>
                    <a:pt x="1652" y="1328"/>
                  </a:moveTo>
                  <a:lnTo>
                    <a:pt x="1719" y="1321"/>
                  </a:lnTo>
                  <a:lnTo>
                    <a:pt x="1786" y="1313"/>
                  </a:lnTo>
                  <a:lnTo>
                    <a:pt x="1846" y="1298"/>
                  </a:lnTo>
                  <a:lnTo>
                    <a:pt x="1905" y="1276"/>
                  </a:lnTo>
                  <a:lnTo>
                    <a:pt x="1964" y="1246"/>
                  </a:lnTo>
                  <a:lnTo>
                    <a:pt x="2023" y="1209"/>
                  </a:lnTo>
                  <a:lnTo>
                    <a:pt x="2075" y="1172"/>
                  </a:lnTo>
                  <a:lnTo>
                    <a:pt x="2120" y="1128"/>
                  </a:lnTo>
                  <a:lnTo>
                    <a:pt x="2164" y="1083"/>
                  </a:lnTo>
                  <a:lnTo>
                    <a:pt x="2201" y="1031"/>
                  </a:lnTo>
                  <a:lnTo>
                    <a:pt x="2231" y="979"/>
                  </a:lnTo>
                  <a:lnTo>
                    <a:pt x="2260" y="920"/>
                  </a:lnTo>
                  <a:lnTo>
                    <a:pt x="2283" y="861"/>
                  </a:lnTo>
                  <a:lnTo>
                    <a:pt x="2297" y="794"/>
                  </a:lnTo>
                  <a:lnTo>
                    <a:pt x="2312" y="727"/>
                  </a:lnTo>
                  <a:lnTo>
                    <a:pt x="2312" y="661"/>
                  </a:lnTo>
                  <a:lnTo>
                    <a:pt x="2312" y="594"/>
                  </a:lnTo>
                  <a:lnTo>
                    <a:pt x="2297" y="527"/>
                  </a:lnTo>
                  <a:lnTo>
                    <a:pt x="2283" y="467"/>
                  </a:lnTo>
                  <a:lnTo>
                    <a:pt x="2260" y="407"/>
                  </a:lnTo>
                  <a:lnTo>
                    <a:pt x="2231" y="348"/>
                  </a:lnTo>
                  <a:lnTo>
                    <a:pt x="2201" y="289"/>
                  </a:lnTo>
                  <a:lnTo>
                    <a:pt x="2164" y="237"/>
                  </a:lnTo>
                  <a:lnTo>
                    <a:pt x="2120" y="192"/>
                  </a:lnTo>
                  <a:lnTo>
                    <a:pt x="2075" y="148"/>
                  </a:lnTo>
                  <a:lnTo>
                    <a:pt x="2023" y="111"/>
                  </a:lnTo>
                  <a:lnTo>
                    <a:pt x="1964" y="81"/>
                  </a:lnTo>
                  <a:lnTo>
                    <a:pt x="1905" y="51"/>
                  </a:lnTo>
                  <a:lnTo>
                    <a:pt x="1846" y="29"/>
                  </a:lnTo>
                  <a:lnTo>
                    <a:pt x="1786" y="14"/>
                  </a:lnTo>
                  <a:lnTo>
                    <a:pt x="1719" y="0"/>
                  </a:lnTo>
                  <a:lnTo>
                    <a:pt x="1652" y="0"/>
                  </a:lnTo>
                  <a:lnTo>
                    <a:pt x="0" y="0"/>
                  </a:lnTo>
                  <a:lnTo>
                    <a:pt x="0" y="1959"/>
                  </a:lnTo>
                  <a:lnTo>
                    <a:pt x="377" y="1959"/>
                  </a:lnTo>
                  <a:lnTo>
                    <a:pt x="377" y="348"/>
                  </a:lnTo>
                  <a:lnTo>
                    <a:pt x="1622" y="348"/>
                  </a:lnTo>
                  <a:lnTo>
                    <a:pt x="1689" y="348"/>
                  </a:lnTo>
                  <a:lnTo>
                    <a:pt x="1749" y="370"/>
                  </a:lnTo>
                  <a:lnTo>
                    <a:pt x="1801" y="400"/>
                  </a:lnTo>
                  <a:lnTo>
                    <a:pt x="1853" y="437"/>
                  </a:lnTo>
                  <a:lnTo>
                    <a:pt x="1890" y="482"/>
                  </a:lnTo>
                  <a:lnTo>
                    <a:pt x="1920" y="542"/>
                  </a:lnTo>
                  <a:lnTo>
                    <a:pt x="1934" y="601"/>
                  </a:lnTo>
                  <a:lnTo>
                    <a:pt x="1942" y="661"/>
                  </a:lnTo>
                  <a:lnTo>
                    <a:pt x="1934" y="727"/>
                  </a:lnTo>
                  <a:lnTo>
                    <a:pt x="1920" y="787"/>
                  </a:lnTo>
                  <a:lnTo>
                    <a:pt x="1890" y="839"/>
                  </a:lnTo>
                  <a:lnTo>
                    <a:pt x="1853" y="890"/>
                  </a:lnTo>
                  <a:lnTo>
                    <a:pt x="1801" y="928"/>
                  </a:lnTo>
                  <a:lnTo>
                    <a:pt x="1749" y="957"/>
                  </a:lnTo>
                  <a:lnTo>
                    <a:pt x="1689" y="972"/>
                  </a:lnTo>
                  <a:lnTo>
                    <a:pt x="1622" y="979"/>
                  </a:lnTo>
                  <a:lnTo>
                    <a:pt x="562" y="979"/>
                  </a:lnTo>
                  <a:lnTo>
                    <a:pt x="1689" y="1959"/>
                  </a:lnTo>
                  <a:lnTo>
                    <a:pt x="2238" y="1959"/>
                  </a:lnTo>
                  <a:lnTo>
                    <a:pt x="1474" y="1328"/>
                  </a:lnTo>
                  <a:lnTo>
                    <a:pt x="1652" y="1328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1765440" y="4727520"/>
              <a:ext cx="1117800" cy="705240"/>
              <a:chOff x="1765440" y="4727520"/>
              <a:chExt cx="1117800" cy="705240"/>
            </a:xfrm>
          </p:grpSpPr>
          <p:sp>
            <p:nvSpPr>
              <p:cNvPr id="269" name=""/>
              <p:cNvSpPr/>
              <p:nvPr/>
            </p:nvSpPr>
            <p:spPr>
              <a:xfrm>
                <a:off x="2293920" y="4727520"/>
                <a:ext cx="589320" cy="705240"/>
              </a:xfrm>
              <a:custGeom>
                <a:avLst/>
                <a:gdLst/>
                <a:ahLst/>
                <a:rect l="0" t="0" r="r" b="b"/>
                <a:pathLst>
                  <a:path w="1637" h="1959">
                    <a:moveTo>
                      <a:pt x="0" y="1618"/>
                    </a:moveTo>
                    <a:lnTo>
                      <a:pt x="636" y="1618"/>
                    </a:lnTo>
                    <a:lnTo>
                      <a:pt x="703" y="1611"/>
                    </a:lnTo>
                    <a:lnTo>
                      <a:pt x="762" y="1603"/>
                    </a:lnTo>
                    <a:lnTo>
                      <a:pt x="822" y="1589"/>
                    </a:lnTo>
                    <a:lnTo>
                      <a:pt x="881" y="1566"/>
                    </a:lnTo>
                    <a:lnTo>
                      <a:pt x="992" y="1507"/>
                    </a:lnTo>
                    <a:lnTo>
                      <a:pt x="1081" y="1432"/>
                    </a:lnTo>
                    <a:lnTo>
                      <a:pt x="1163" y="1335"/>
                    </a:lnTo>
                    <a:lnTo>
                      <a:pt x="1222" y="1224"/>
                    </a:lnTo>
                    <a:lnTo>
                      <a:pt x="1237" y="1172"/>
                    </a:lnTo>
                    <a:lnTo>
                      <a:pt x="1259" y="1106"/>
                    </a:lnTo>
                    <a:lnTo>
                      <a:pt x="1266" y="1046"/>
                    </a:lnTo>
                    <a:lnTo>
                      <a:pt x="1266" y="979"/>
                    </a:lnTo>
                    <a:lnTo>
                      <a:pt x="1266" y="913"/>
                    </a:lnTo>
                    <a:lnTo>
                      <a:pt x="1259" y="853"/>
                    </a:lnTo>
                    <a:lnTo>
                      <a:pt x="1237" y="794"/>
                    </a:lnTo>
                    <a:lnTo>
                      <a:pt x="1222" y="735"/>
                    </a:lnTo>
                    <a:lnTo>
                      <a:pt x="1163" y="623"/>
                    </a:lnTo>
                    <a:lnTo>
                      <a:pt x="1081" y="534"/>
                    </a:lnTo>
                    <a:lnTo>
                      <a:pt x="992" y="452"/>
                    </a:lnTo>
                    <a:lnTo>
                      <a:pt x="881" y="393"/>
                    </a:lnTo>
                    <a:lnTo>
                      <a:pt x="822" y="370"/>
                    </a:lnTo>
                    <a:lnTo>
                      <a:pt x="762" y="355"/>
                    </a:lnTo>
                    <a:lnTo>
                      <a:pt x="703" y="348"/>
                    </a:lnTo>
                    <a:lnTo>
                      <a:pt x="636" y="348"/>
                    </a:lnTo>
                    <a:lnTo>
                      <a:pt x="0" y="348"/>
                    </a:lnTo>
                    <a:lnTo>
                      <a:pt x="0" y="0"/>
                    </a:lnTo>
                    <a:lnTo>
                      <a:pt x="658" y="0"/>
                    </a:lnTo>
                    <a:lnTo>
                      <a:pt x="762" y="7"/>
                    </a:lnTo>
                    <a:lnTo>
                      <a:pt x="859" y="22"/>
                    </a:lnTo>
                    <a:lnTo>
                      <a:pt x="948" y="44"/>
                    </a:lnTo>
                    <a:lnTo>
                      <a:pt x="1044" y="74"/>
                    </a:lnTo>
                    <a:lnTo>
                      <a:pt x="1126" y="118"/>
                    </a:lnTo>
                    <a:lnTo>
                      <a:pt x="1207" y="170"/>
                    </a:lnTo>
                    <a:lnTo>
                      <a:pt x="1281" y="222"/>
                    </a:lnTo>
                    <a:lnTo>
                      <a:pt x="1355" y="289"/>
                    </a:lnTo>
                    <a:lnTo>
                      <a:pt x="1414" y="355"/>
                    </a:lnTo>
                    <a:lnTo>
                      <a:pt x="1474" y="430"/>
                    </a:lnTo>
                    <a:lnTo>
                      <a:pt x="1518" y="512"/>
                    </a:lnTo>
                    <a:lnTo>
                      <a:pt x="1562" y="601"/>
                    </a:lnTo>
                    <a:lnTo>
                      <a:pt x="1592" y="690"/>
                    </a:lnTo>
                    <a:lnTo>
                      <a:pt x="1622" y="779"/>
                    </a:lnTo>
                    <a:lnTo>
                      <a:pt x="1637" y="883"/>
                    </a:lnTo>
                    <a:lnTo>
                      <a:pt x="1637" y="979"/>
                    </a:lnTo>
                    <a:lnTo>
                      <a:pt x="1637" y="1083"/>
                    </a:lnTo>
                    <a:lnTo>
                      <a:pt x="1622" y="1180"/>
                    </a:lnTo>
                    <a:lnTo>
                      <a:pt x="1592" y="1269"/>
                    </a:lnTo>
                    <a:lnTo>
                      <a:pt x="1562" y="1365"/>
                    </a:lnTo>
                    <a:lnTo>
                      <a:pt x="1518" y="1447"/>
                    </a:lnTo>
                    <a:lnTo>
                      <a:pt x="1474" y="1529"/>
                    </a:lnTo>
                    <a:lnTo>
                      <a:pt x="1414" y="1603"/>
                    </a:lnTo>
                    <a:lnTo>
                      <a:pt x="1355" y="1678"/>
                    </a:lnTo>
                    <a:lnTo>
                      <a:pt x="1281" y="1737"/>
                    </a:lnTo>
                    <a:lnTo>
                      <a:pt x="1207" y="1796"/>
                    </a:lnTo>
                    <a:lnTo>
                      <a:pt x="1126" y="1841"/>
                    </a:lnTo>
                    <a:lnTo>
                      <a:pt x="1044" y="1885"/>
                    </a:lnTo>
                    <a:lnTo>
                      <a:pt x="948" y="1915"/>
                    </a:lnTo>
                    <a:lnTo>
                      <a:pt x="859" y="1945"/>
                    </a:lnTo>
                    <a:lnTo>
                      <a:pt x="762" y="1959"/>
                    </a:lnTo>
                    <a:lnTo>
                      <a:pt x="658" y="1959"/>
                    </a:lnTo>
                    <a:lnTo>
                      <a:pt x="0" y="1959"/>
                    </a:lnTo>
                    <a:lnTo>
                      <a:pt x="0" y="1618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765440" y="4727520"/>
                <a:ext cx="592560" cy="705240"/>
              </a:xfrm>
              <a:custGeom>
                <a:avLst/>
                <a:gdLst/>
                <a:ahLst/>
                <a:rect l="0" t="0" r="r" b="b"/>
                <a:pathLst>
                  <a:path w="1646" h="1959">
                    <a:moveTo>
                      <a:pt x="1646" y="1959"/>
                    </a:moveTo>
                    <a:lnTo>
                      <a:pt x="990" y="1959"/>
                    </a:lnTo>
                    <a:lnTo>
                      <a:pt x="886" y="1959"/>
                    </a:lnTo>
                    <a:lnTo>
                      <a:pt x="789" y="1945"/>
                    </a:lnTo>
                    <a:lnTo>
                      <a:pt x="693" y="1915"/>
                    </a:lnTo>
                    <a:lnTo>
                      <a:pt x="603" y="1885"/>
                    </a:lnTo>
                    <a:lnTo>
                      <a:pt x="521" y="1841"/>
                    </a:lnTo>
                    <a:lnTo>
                      <a:pt x="440" y="1796"/>
                    </a:lnTo>
                    <a:lnTo>
                      <a:pt x="364" y="1737"/>
                    </a:lnTo>
                    <a:lnTo>
                      <a:pt x="290" y="1678"/>
                    </a:lnTo>
                    <a:lnTo>
                      <a:pt x="230" y="1603"/>
                    </a:lnTo>
                    <a:lnTo>
                      <a:pt x="171" y="1529"/>
                    </a:lnTo>
                    <a:lnTo>
                      <a:pt x="119" y="1447"/>
                    </a:lnTo>
                    <a:lnTo>
                      <a:pt x="81" y="1365"/>
                    </a:lnTo>
                    <a:lnTo>
                      <a:pt x="44" y="1269"/>
                    </a:lnTo>
                    <a:lnTo>
                      <a:pt x="22" y="1180"/>
                    </a:lnTo>
                    <a:lnTo>
                      <a:pt x="7" y="1083"/>
                    </a:lnTo>
                    <a:lnTo>
                      <a:pt x="0" y="979"/>
                    </a:lnTo>
                    <a:lnTo>
                      <a:pt x="7" y="883"/>
                    </a:lnTo>
                    <a:lnTo>
                      <a:pt x="22" y="779"/>
                    </a:lnTo>
                    <a:lnTo>
                      <a:pt x="44" y="690"/>
                    </a:lnTo>
                    <a:lnTo>
                      <a:pt x="81" y="601"/>
                    </a:lnTo>
                    <a:lnTo>
                      <a:pt x="119" y="512"/>
                    </a:lnTo>
                    <a:lnTo>
                      <a:pt x="171" y="430"/>
                    </a:lnTo>
                    <a:lnTo>
                      <a:pt x="230" y="355"/>
                    </a:lnTo>
                    <a:lnTo>
                      <a:pt x="290" y="289"/>
                    </a:lnTo>
                    <a:lnTo>
                      <a:pt x="364" y="222"/>
                    </a:lnTo>
                    <a:lnTo>
                      <a:pt x="440" y="170"/>
                    </a:lnTo>
                    <a:lnTo>
                      <a:pt x="521" y="118"/>
                    </a:lnTo>
                    <a:lnTo>
                      <a:pt x="603" y="74"/>
                    </a:lnTo>
                    <a:lnTo>
                      <a:pt x="693" y="44"/>
                    </a:lnTo>
                    <a:lnTo>
                      <a:pt x="789" y="22"/>
                    </a:lnTo>
                    <a:lnTo>
                      <a:pt x="886" y="7"/>
                    </a:lnTo>
                    <a:lnTo>
                      <a:pt x="990" y="0"/>
                    </a:lnTo>
                    <a:lnTo>
                      <a:pt x="1646" y="0"/>
                    </a:lnTo>
                    <a:lnTo>
                      <a:pt x="1646" y="348"/>
                    </a:lnTo>
                    <a:lnTo>
                      <a:pt x="1013" y="348"/>
                    </a:lnTo>
                    <a:lnTo>
                      <a:pt x="946" y="348"/>
                    </a:lnTo>
                    <a:lnTo>
                      <a:pt x="886" y="355"/>
                    </a:lnTo>
                    <a:lnTo>
                      <a:pt x="827" y="370"/>
                    </a:lnTo>
                    <a:lnTo>
                      <a:pt x="767" y="393"/>
                    </a:lnTo>
                    <a:lnTo>
                      <a:pt x="655" y="452"/>
                    </a:lnTo>
                    <a:lnTo>
                      <a:pt x="566" y="534"/>
                    </a:lnTo>
                    <a:lnTo>
                      <a:pt x="484" y="623"/>
                    </a:lnTo>
                    <a:lnTo>
                      <a:pt x="425" y="735"/>
                    </a:lnTo>
                    <a:lnTo>
                      <a:pt x="401" y="794"/>
                    </a:lnTo>
                    <a:lnTo>
                      <a:pt x="387" y="853"/>
                    </a:lnTo>
                    <a:lnTo>
                      <a:pt x="379" y="913"/>
                    </a:lnTo>
                    <a:lnTo>
                      <a:pt x="379" y="979"/>
                    </a:lnTo>
                    <a:lnTo>
                      <a:pt x="379" y="1046"/>
                    </a:lnTo>
                    <a:lnTo>
                      <a:pt x="387" y="1106"/>
                    </a:lnTo>
                    <a:lnTo>
                      <a:pt x="401" y="1172"/>
                    </a:lnTo>
                    <a:lnTo>
                      <a:pt x="425" y="1224"/>
                    </a:lnTo>
                    <a:lnTo>
                      <a:pt x="484" y="1335"/>
                    </a:lnTo>
                    <a:lnTo>
                      <a:pt x="566" y="1432"/>
                    </a:lnTo>
                    <a:lnTo>
                      <a:pt x="655" y="1507"/>
                    </a:lnTo>
                    <a:lnTo>
                      <a:pt x="767" y="1566"/>
                    </a:lnTo>
                    <a:lnTo>
                      <a:pt x="827" y="1589"/>
                    </a:lnTo>
                    <a:lnTo>
                      <a:pt x="886" y="1603"/>
                    </a:lnTo>
                    <a:lnTo>
                      <a:pt x="946" y="1611"/>
                    </a:lnTo>
                    <a:lnTo>
                      <a:pt x="1013" y="1618"/>
                    </a:lnTo>
                    <a:lnTo>
                      <a:pt x="1646" y="1618"/>
                    </a:lnTo>
                    <a:lnTo>
                      <a:pt x="1646" y="1959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4753080" y="4727520"/>
              <a:ext cx="849600" cy="705240"/>
            </a:xfrm>
            <a:custGeom>
              <a:avLst/>
              <a:gdLst/>
              <a:ahLst/>
              <a:rect l="0" t="0" r="r" b="b"/>
              <a:pathLst>
                <a:path w="2360" h="1959">
                  <a:moveTo>
                    <a:pt x="979" y="1959"/>
                  </a:moveTo>
                  <a:lnTo>
                    <a:pt x="875" y="1959"/>
                  </a:lnTo>
                  <a:lnTo>
                    <a:pt x="778" y="1945"/>
                  </a:lnTo>
                  <a:lnTo>
                    <a:pt x="682" y="1915"/>
                  </a:lnTo>
                  <a:lnTo>
                    <a:pt x="593" y="1885"/>
                  </a:lnTo>
                  <a:lnTo>
                    <a:pt x="511" y="1841"/>
                  </a:lnTo>
                  <a:lnTo>
                    <a:pt x="430" y="1796"/>
                  </a:lnTo>
                  <a:lnTo>
                    <a:pt x="356" y="1737"/>
                  </a:lnTo>
                  <a:lnTo>
                    <a:pt x="281" y="1678"/>
                  </a:lnTo>
                  <a:lnTo>
                    <a:pt x="222" y="1603"/>
                  </a:lnTo>
                  <a:lnTo>
                    <a:pt x="163" y="1529"/>
                  </a:lnTo>
                  <a:lnTo>
                    <a:pt x="118" y="1447"/>
                  </a:lnTo>
                  <a:lnTo>
                    <a:pt x="74" y="1365"/>
                  </a:lnTo>
                  <a:lnTo>
                    <a:pt x="44" y="1269"/>
                  </a:lnTo>
                  <a:lnTo>
                    <a:pt x="14" y="1180"/>
                  </a:lnTo>
                  <a:lnTo>
                    <a:pt x="0" y="1083"/>
                  </a:lnTo>
                  <a:lnTo>
                    <a:pt x="0" y="979"/>
                  </a:lnTo>
                  <a:lnTo>
                    <a:pt x="0" y="883"/>
                  </a:lnTo>
                  <a:lnTo>
                    <a:pt x="14" y="779"/>
                  </a:lnTo>
                  <a:lnTo>
                    <a:pt x="44" y="690"/>
                  </a:lnTo>
                  <a:lnTo>
                    <a:pt x="74" y="601"/>
                  </a:lnTo>
                  <a:lnTo>
                    <a:pt x="118" y="512"/>
                  </a:lnTo>
                  <a:lnTo>
                    <a:pt x="163" y="430"/>
                  </a:lnTo>
                  <a:lnTo>
                    <a:pt x="222" y="355"/>
                  </a:lnTo>
                  <a:lnTo>
                    <a:pt x="281" y="289"/>
                  </a:lnTo>
                  <a:lnTo>
                    <a:pt x="356" y="222"/>
                  </a:lnTo>
                  <a:lnTo>
                    <a:pt x="430" y="170"/>
                  </a:lnTo>
                  <a:lnTo>
                    <a:pt x="511" y="118"/>
                  </a:lnTo>
                  <a:lnTo>
                    <a:pt x="593" y="74"/>
                  </a:lnTo>
                  <a:lnTo>
                    <a:pt x="682" y="44"/>
                  </a:lnTo>
                  <a:lnTo>
                    <a:pt x="778" y="22"/>
                  </a:lnTo>
                  <a:lnTo>
                    <a:pt x="875" y="7"/>
                  </a:lnTo>
                  <a:lnTo>
                    <a:pt x="979" y="0"/>
                  </a:lnTo>
                  <a:lnTo>
                    <a:pt x="2330" y="0"/>
                  </a:lnTo>
                  <a:lnTo>
                    <a:pt x="2107" y="348"/>
                  </a:lnTo>
                  <a:lnTo>
                    <a:pt x="1001" y="348"/>
                  </a:lnTo>
                  <a:lnTo>
                    <a:pt x="934" y="348"/>
                  </a:lnTo>
                  <a:lnTo>
                    <a:pt x="875" y="355"/>
                  </a:lnTo>
                  <a:lnTo>
                    <a:pt x="816" y="370"/>
                  </a:lnTo>
                  <a:lnTo>
                    <a:pt x="756" y="393"/>
                  </a:lnTo>
                  <a:lnTo>
                    <a:pt x="645" y="452"/>
                  </a:lnTo>
                  <a:lnTo>
                    <a:pt x="556" y="534"/>
                  </a:lnTo>
                  <a:lnTo>
                    <a:pt x="474" y="623"/>
                  </a:lnTo>
                  <a:lnTo>
                    <a:pt x="415" y="735"/>
                  </a:lnTo>
                  <a:lnTo>
                    <a:pt x="393" y="794"/>
                  </a:lnTo>
                  <a:lnTo>
                    <a:pt x="378" y="853"/>
                  </a:lnTo>
                  <a:lnTo>
                    <a:pt x="370" y="913"/>
                  </a:lnTo>
                  <a:lnTo>
                    <a:pt x="370" y="979"/>
                  </a:lnTo>
                  <a:lnTo>
                    <a:pt x="370" y="1046"/>
                  </a:lnTo>
                  <a:lnTo>
                    <a:pt x="378" y="1106"/>
                  </a:lnTo>
                  <a:lnTo>
                    <a:pt x="393" y="1172"/>
                  </a:lnTo>
                  <a:lnTo>
                    <a:pt x="415" y="1224"/>
                  </a:lnTo>
                  <a:lnTo>
                    <a:pt x="474" y="1335"/>
                  </a:lnTo>
                  <a:lnTo>
                    <a:pt x="556" y="1432"/>
                  </a:lnTo>
                  <a:lnTo>
                    <a:pt x="645" y="1507"/>
                  </a:lnTo>
                  <a:lnTo>
                    <a:pt x="756" y="1566"/>
                  </a:lnTo>
                  <a:lnTo>
                    <a:pt x="816" y="1589"/>
                  </a:lnTo>
                  <a:lnTo>
                    <a:pt x="875" y="1603"/>
                  </a:lnTo>
                  <a:lnTo>
                    <a:pt x="934" y="1611"/>
                  </a:lnTo>
                  <a:lnTo>
                    <a:pt x="1001" y="1618"/>
                  </a:lnTo>
                  <a:lnTo>
                    <a:pt x="2360" y="1618"/>
                  </a:lnTo>
                  <a:lnTo>
                    <a:pt x="2145" y="1959"/>
                  </a:lnTo>
                  <a:lnTo>
                    <a:pt x="979" y="1959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05480" y="4727520"/>
              <a:ext cx="856080" cy="705240"/>
            </a:xfrm>
            <a:custGeom>
              <a:avLst/>
              <a:gdLst/>
              <a:ahLst/>
              <a:rect l="0" t="0" r="r" b="b"/>
              <a:pathLst>
                <a:path w="2378" h="1959">
                  <a:moveTo>
                    <a:pt x="1006" y="1618"/>
                  </a:moveTo>
                  <a:lnTo>
                    <a:pt x="902" y="1603"/>
                  </a:lnTo>
                  <a:lnTo>
                    <a:pt x="798" y="1581"/>
                  </a:lnTo>
                  <a:lnTo>
                    <a:pt x="708" y="1537"/>
                  </a:lnTo>
                  <a:lnTo>
                    <a:pt x="619" y="1485"/>
                  </a:lnTo>
                  <a:lnTo>
                    <a:pt x="543" y="1417"/>
                  </a:lnTo>
                  <a:lnTo>
                    <a:pt x="484" y="1335"/>
                  </a:lnTo>
                  <a:lnTo>
                    <a:pt x="432" y="1246"/>
                  </a:lnTo>
                  <a:lnTo>
                    <a:pt x="394" y="1150"/>
                  </a:lnTo>
                  <a:lnTo>
                    <a:pt x="2013" y="1150"/>
                  </a:lnTo>
                  <a:lnTo>
                    <a:pt x="2237" y="809"/>
                  </a:lnTo>
                  <a:lnTo>
                    <a:pt x="394" y="809"/>
                  </a:lnTo>
                  <a:lnTo>
                    <a:pt x="432" y="712"/>
                  </a:lnTo>
                  <a:lnTo>
                    <a:pt x="484" y="623"/>
                  </a:lnTo>
                  <a:lnTo>
                    <a:pt x="543" y="542"/>
                  </a:lnTo>
                  <a:lnTo>
                    <a:pt x="619" y="474"/>
                  </a:lnTo>
                  <a:lnTo>
                    <a:pt x="708" y="422"/>
                  </a:lnTo>
                  <a:lnTo>
                    <a:pt x="798" y="378"/>
                  </a:lnTo>
                  <a:lnTo>
                    <a:pt x="902" y="355"/>
                  </a:lnTo>
                  <a:lnTo>
                    <a:pt x="1006" y="348"/>
                  </a:lnTo>
                  <a:lnTo>
                    <a:pt x="2125" y="348"/>
                  </a:lnTo>
                  <a:lnTo>
                    <a:pt x="2341" y="0"/>
                  </a:lnTo>
                  <a:lnTo>
                    <a:pt x="984" y="0"/>
                  </a:lnTo>
                  <a:lnTo>
                    <a:pt x="880" y="7"/>
                  </a:lnTo>
                  <a:lnTo>
                    <a:pt x="783" y="22"/>
                  </a:lnTo>
                  <a:lnTo>
                    <a:pt x="693" y="44"/>
                  </a:lnTo>
                  <a:lnTo>
                    <a:pt x="597" y="74"/>
                  </a:lnTo>
                  <a:lnTo>
                    <a:pt x="514" y="118"/>
                  </a:lnTo>
                  <a:lnTo>
                    <a:pt x="432" y="170"/>
                  </a:lnTo>
                  <a:lnTo>
                    <a:pt x="357" y="222"/>
                  </a:lnTo>
                  <a:lnTo>
                    <a:pt x="283" y="289"/>
                  </a:lnTo>
                  <a:lnTo>
                    <a:pt x="223" y="355"/>
                  </a:lnTo>
                  <a:lnTo>
                    <a:pt x="163" y="430"/>
                  </a:lnTo>
                  <a:lnTo>
                    <a:pt x="119" y="512"/>
                  </a:lnTo>
                  <a:lnTo>
                    <a:pt x="74" y="601"/>
                  </a:lnTo>
                  <a:lnTo>
                    <a:pt x="44" y="690"/>
                  </a:lnTo>
                  <a:lnTo>
                    <a:pt x="14" y="779"/>
                  </a:lnTo>
                  <a:lnTo>
                    <a:pt x="0" y="883"/>
                  </a:lnTo>
                  <a:lnTo>
                    <a:pt x="0" y="979"/>
                  </a:lnTo>
                  <a:lnTo>
                    <a:pt x="0" y="1083"/>
                  </a:lnTo>
                  <a:lnTo>
                    <a:pt x="14" y="1180"/>
                  </a:lnTo>
                  <a:lnTo>
                    <a:pt x="44" y="1269"/>
                  </a:lnTo>
                  <a:lnTo>
                    <a:pt x="74" y="1365"/>
                  </a:lnTo>
                  <a:lnTo>
                    <a:pt x="119" y="1447"/>
                  </a:lnTo>
                  <a:lnTo>
                    <a:pt x="163" y="1529"/>
                  </a:lnTo>
                  <a:lnTo>
                    <a:pt x="223" y="1603"/>
                  </a:lnTo>
                  <a:lnTo>
                    <a:pt x="283" y="1678"/>
                  </a:lnTo>
                  <a:lnTo>
                    <a:pt x="357" y="1737"/>
                  </a:lnTo>
                  <a:lnTo>
                    <a:pt x="432" y="1796"/>
                  </a:lnTo>
                  <a:lnTo>
                    <a:pt x="514" y="1841"/>
                  </a:lnTo>
                  <a:lnTo>
                    <a:pt x="597" y="1885"/>
                  </a:lnTo>
                  <a:lnTo>
                    <a:pt x="693" y="1915"/>
                  </a:lnTo>
                  <a:lnTo>
                    <a:pt x="783" y="1945"/>
                  </a:lnTo>
                  <a:lnTo>
                    <a:pt x="880" y="1959"/>
                  </a:lnTo>
                  <a:lnTo>
                    <a:pt x="984" y="1959"/>
                  </a:lnTo>
                  <a:lnTo>
                    <a:pt x="2155" y="1959"/>
                  </a:lnTo>
                  <a:lnTo>
                    <a:pt x="2378" y="1618"/>
                  </a:lnTo>
                  <a:lnTo>
                    <a:pt x="1006" y="1618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‚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ÝB“I</a:t>
            </a:r>
            <a:br>
              <a:rPr sz="18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by•‹yƒvƒ‰ƒ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ŽèŽè’i‚ÌŠÈ—ª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oƒCƒiƒŠ”z•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50000"/>
              <a:buFont typeface="ZapfDingbats"/>
              <a:buChar char="l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m‚Æ‚©deb‚Æ‚©packages‚Æ‚©pkg‚Æ‚©exe‚Æ‚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î•ñ‚ÌMax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oƒCƒuƒ‹iK&amp;R‚Ý‚½‚¢‚É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hƒLƒ…ƒƒ“ƒgiƒ\[ƒX‚ð“Ç‚ß‚È‚¢l‚É‚Ë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Zƒ~ƒi[iŒŽ1‰ñH(Î)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Ž¦‰ï‚Öo“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‚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ÝB“I</a:t>
            </a:r>
            <a:br>
              <a:rPr sz="18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by•‹yƒvƒ‰ƒ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rƒWƒlƒXƒ‚ƒfƒ‹‚Éæ‚¹‚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‰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ïŽÐ‚ðì‚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I[ƒvƒ“ƒ\[ƒX‚ÅFX”„‚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50000"/>
              <a:buFont typeface="ZapfDingbats"/>
              <a:buChar char="l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‰ƒCƒZƒ“ƒX‚ð”„‚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17136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by Enterprise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50000"/>
              <a:buFont typeface="ZapfDingbats"/>
              <a:buChar char="l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hƒLƒ…ƒƒ“ƒg‚ð”„‚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50000"/>
              <a:buFont typeface="ZapfDingbats"/>
              <a:buChar char="l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—˜‚Èƒ‰ƒCƒuƒ‰ƒŠ‚ð”„‚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50000"/>
              <a:buFont typeface="ZapfDingbats"/>
              <a:buChar char="l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Zƒ~ƒi[ŠJ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50000"/>
              <a:buFont typeface="ZapfDingbats"/>
              <a:buChar char="l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VƒXƒeƒ€\’z‚ð¿‚¯•‰‚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50000"/>
              <a:buFont typeface="ZapfDingbats"/>
              <a:buChar char="l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ˆç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‚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ÝB“I</a:t>
            </a:r>
            <a:br>
              <a:rPr sz="18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by•‹yƒvƒ‰ƒ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wVisual Ruby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x‚ðŠJ”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ƒx[ƒX‚Ì“‡ŠJ”­ŠÂ‹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ƒrƒ‹ƒ_[‘•”õi‚Û‚Æ‚Ø‚½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ÔƒR[ƒh‚Å‚à‚¢‚¢‚©‚çAƒoƒCƒgƒR[ƒh‰»‚ð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NƒƒXƒvƒ‰ƒbƒgƒtƒH[ƒ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uƒIƒuƒWƒFƒNƒgŽwŒüŠJ”­ƒc[ƒ‹v‚È‚Ç‚Æ‚Ù‚´‚¢‚Ä‚¢‚éwVisual ›asicx‚É³‹`‚Ì“S’Æ‚ð(Î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‚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ÝB“I</a:t>
            </a:r>
            <a:br>
              <a:rPr sz="18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by•‹yƒvƒ‰ƒ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Cƒ[ƒWí—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ƒSƒ^ƒCƒv‚ðì‚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AƒCƒRƒ“‚ðì‚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}ƒXƒRƒbƒgƒLƒƒƒ‰ƒNƒ^[‚ðì‚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50000"/>
              <a:buFont typeface="ZapfDingbats"/>
              <a:buChar char="l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wRuby‚¿‚á‚ñ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17136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ÎB‚Z2”N¶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17136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‚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ß‚ª‚Ë‚Á–º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17136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Ž©•ª‚ÌHP‚ÉŒfŽ¦”Â‚ðì‚é‚½‚ß‚ÉRuby‚ð•×‹­’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1523880"/>
            <a:ext cx="9142560" cy="358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15fa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861080"/>
            <a:ext cx="91425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96840" y="3005280"/>
            <a:ext cx="895176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K‚¹‚É‚È‚ë‚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1812960"/>
            <a:ext cx="91425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203720" y="1309680"/>
            <a:ext cx="768240" cy="763560"/>
            <a:chOff x="4203720" y="1309680"/>
            <a:chExt cx="768240" cy="763560"/>
          </a:xfrm>
        </p:grpSpPr>
        <p:sp>
          <p:nvSpPr>
            <p:cNvPr id="340" name=""/>
            <p:cNvSpPr/>
            <p:nvPr/>
          </p:nvSpPr>
          <p:spPr>
            <a:xfrm>
              <a:off x="4205160" y="1309680"/>
              <a:ext cx="766800" cy="76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66a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11640" y="1417680"/>
              <a:ext cx="756000" cy="543240"/>
            </a:xfrm>
            <a:custGeom>
              <a:avLst/>
              <a:gdLst/>
              <a:ahLst/>
              <a:rect l="0" t="0" r="r" b="b"/>
              <a:pathLst>
                <a:path w="2100" h="1509">
                  <a:moveTo>
                    <a:pt x="228" y="130"/>
                  </a:moveTo>
                  <a:lnTo>
                    <a:pt x="251" y="135"/>
                  </a:lnTo>
                  <a:lnTo>
                    <a:pt x="269" y="116"/>
                  </a:lnTo>
                  <a:lnTo>
                    <a:pt x="290" y="105"/>
                  </a:lnTo>
                  <a:lnTo>
                    <a:pt x="304" y="91"/>
                  </a:lnTo>
                  <a:lnTo>
                    <a:pt x="329" y="75"/>
                  </a:lnTo>
                  <a:lnTo>
                    <a:pt x="345" y="68"/>
                  </a:lnTo>
                  <a:lnTo>
                    <a:pt x="365" y="57"/>
                  </a:lnTo>
                  <a:lnTo>
                    <a:pt x="384" y="57"/>
                  </a:lnTo>
                  <a:lnTo>
                    <a:pt x="397" y="54"/>
                  </a:lnTo>
                  <a:lnTo>
                    <a:pt x="413" y="54"/>
                  </a:lnTo>
                  <a:lnTo>
                    <a:pt x="423" y="43"/>
                  </a:lnTo>
                  <a:lnTo>
                    <a:pt x="443" y="48"/>
                  </a:lnTo>
                  <a:lnTo>
                    <a:pt x="464" y="38"/>
                  </a:lnTo>
                  <a:lnTo>
                    <a:pt x="480" y="43"/>
                  </a:lnTo>
                  <a:lnTo>
                    <a:pt x="489" y="52"/>
                  </a:lnTo>
                  <a:lnTo>
                    <a:pt x="480" y="57"/>
                  </a:lnTo>
                  <a:lnTo>
                    <a:pt x="464" y="54"/>
                  </a:lnTo>
                  <a:lnTo>
                    <a:pt x="448" y="66"/>
                  </a:lnTo>
                  <a:lnTo>
                    <a:pt x="436" y="77"/>
                  </a:lnTo>
                  <a:lnTo>
                    <a:pt x="434" y="93"/>
                  </a:lnTo>
                  <a:lnTo>
                    <a:pt x="418" y="96"/>
                  </a:lnTo>
                  <a:lnTo>
                    <a:pt x="397" y="105"/>
                  </a:lnTo>
                  <a:lnTo>
                    <a:pt x="393" y="128"/>
                  </a:lnTo>
                  <a:lnTo>
                    <a:pt x="390" y="146"/>
                  </a:lnTo>
                  <a:lnTo>
                    <a:pt x="384" y="162"/>
                  </a:lnTo>
                  <a:lnTo>
                    <a:pt x="393" y="173"/>
                  </a:lnTo>
                  <a:lnTo>
                    <a:pt x="404" y="137"/>
                  </a:lnTo>
                  <a:lnTo>
                    <a:pt x="418" y="130"/>
                  </a:lnTo>
                  <a:lnTo>
                    <a:pt x="434" y="112"/>
                  </a:lnTo>
                  <a:lnTo>
                    <a:pt x="445" y="89"/>
                  </a:lnTo>
                  <a:lnTo>
                    <a:pt x="473" y="80"/>
                  </a:lnTo>
                  <a:lnTo>
                    <a:pt x="496" y="70"/>
                  </a:lnTo>
                  <a:lnTo>
                    <a:pt x="509" y="50"/>
                  </a:lnTo>
                  <a:lnTo>
                    <a:pt x="530" y="50"/>
                  </a:lnTo>
                  <a:lnTo>
                    <a:pt x="571" y="48"/>
                  </a:lnTo>
                  <a:lnTo>
                    <a:pt x="617" y="38"/>
                  </a:lnTo>
                  <a:lnTo>
                    <a:pt x="633" y="36"/>
                  </a:lnTo>
                  <a:lnTo>
                    <a:pt x="653" y="36"/>
                  </a:lnTo>
                  <a:lnTo>
                    <a:pt x="674" y="36"/>
                  </a:lnTo>
                  <a:lnTo>
                    <a:pt x="692" y="43"/>
                  </a:lnTo>
                  <a:lnTo>
                    <a:pt x="715" y="64"/>
                  </a:lnTo>
                  <a:lnTo>
                    <a:pt x="706" y="66"/>
                  </a:lnTo>
                  <a:lnTo>
                    <a:pt x="681" y="73"/>
                  </a:lnTo>
                  <a:lnTo>
                    <a:pt x="683" y="93"/>
                  </a:lnTo>
                  <a:lnTo>
                    <a:pt x="704" y="96"/>
                  </a:lnTo>
                  <a:lnTo>
                    <a:pt x="713" y="96"/>
                  </a:lnTo>
                  <a:lnTo>
                    <a:pt x="711" y="114"/>
                  </a:lnTo>
                  <a:lnTo>
                    <a:pt x="683" y="135"/>
                  </a:lnTo>
                  <a:lnTo>
                    <a:pt x="669" y="137"/>
                  </a:lnTo>
                  <a:lnTo>
                    <a:pt x="672" y="151"/>
                  </a:lnTo>
                  <a:lnTo>
                    <a:pt x="679" y="160"/>
                  </a:lnTo>
                  <a:lnTo>
                    <a:pt x="669" y="173"/>
                  </a:lnTo>
                  <a:lnTo>
                    <a:pt x="681" y="192"/>
                  </a:lnTo>
                  <a:lnTo>
                    <a:pt x="658" y="199"/>
                  </a:lnTo>
                  <a:lnTo>
                    <a:pt x="633" y="208"/>
                  </a:lnTo>
                  <a:lnTo>
                    <a:pt x="631" y="233"/>
                  </a:lnTo>
                  <a:lnTo>
                    <a:pt x="617" y="251"/>
                  </a:lnTo>
                  <a:lnTo>
                    <a:pt x="603" y="265"/>
                  </a:lnTo>
                  <a:lnTo>
                    <a:pt x="583" y="276"/>
                  </a:lnTo>
                  <a:lnTo>
                    <a:pt x="631" y="276"/>
                  </a:lnTo>
                  <a:lnTo>
                    <a:pt x="658" y="276"/>
                  </a:lnTo>
                  <a:lnTo>
                    <a:pt x="672" y="283"/>
                  </a:lnTo>
                  <a:lnTo>
                    <a:pt x="692" y="272"/>
                  </a:lnTo>
                  <a:lnTo>
                    <a:pt x="704" y="292"/>
                  </a:lnTo>
                  <a:lnTo>
                    <a:pt x="974" y="292"/>
                  </a:lnTo>
                  <a:lnTo>
                    <a:pt x="987" y="276"/>
                  </a:lnTo>
                  <a:lnTo>
                    <a:pt x="1012" y="258"/>
                  </a:lnTo>
                  <a:lnTo>
                    <a:pt x="1028" y="228"/>
                  </a:lnTo>
                  <a:lnTo>
                    <a:pt x="1052" y="201"/>
                  </a:lnTo>
                  <a:lnTo>
                    <a:pt x="1061" y="178"/>
                  </a:lnTo>
                  <a:lnTo>
                    <a:pt x="1075" y="153"/>
                  </a:lnTo>
                  <a:lnTo>
                    <a:pt x="1093" y="146"/>
                  </a:lnTo>
                  <a:lnTo>
                    <a:pt x="1100" y="130"/>
                  </a:lnTo>
                  <a:lnTo>
                    <a:pt x="1119" y="137"/>
                  </a:lnTo>
                  <a:lnTo>
                    <a:pt x="1135" y="121"/>
                  </a:lnTo>
                  <a:lnTo>
                    <a:pt x="1146" y="135"/>
                  </a:lnTo>
                  <a:lnTo>
                    <a:pt x="1167" y="141"/>
                  </a:lnTo>
                  <a:lnTo>
                    <a:pt x="1187" y="148"/>
                  </a:lnTo>
                  <a:lnTo>
                    <a:pt x="1208" y="153"/>
                  </a:lnTo>
                  <a:lnTo>
                    <a:pt x="1222" y="146"/>
                  </a:lnTo>
                  <a:lnTo>
                    <a:pt x="1240" y="157"/>
                  </a:lnTo>
                  <a:lnTo>
                    <a:pt x="1256" y="173"/>
                  </a:lnTo>
                  <a:lnTo>
                    <a:pt x="1279" y="178"/>
                  </a:lnTo>
                  <a:lnTo>
                    <a:pt x="1283" y="199"/>
                  </a:lnTo>
                  <a:lnTo>
                    <a:pt x="1272" y="212"/>
                  </a:lnTo>
                  <a:lnTo>
                    <a:pt x="1242" y="208"/>
                  </a:lnTo>
                  <a:lnTo>
                    <a:pt x="1219" y="196"/>
                  </a:lnTo>
                  <a:lnTo>
                    <a:pt x="1217" y="215"/>
                  </a:lnTo>
                  <a:lnTo>
                    <a:pt x="1247" y="217"/>
                  </a:lnTo>
                  <a:lnTo>
                    <a:pt x="1272" y="235"/>
                  </a:lnTo>
                  <a:lnTo>
                    <a:pt x="1308" y="221"/>
                  </a:lnTo>
                  <a:lnTo>
                    <a:pt x="1318" y="194"/>
                  </a:lnTo>
                  <a:lnTo>
                    <a:pt x="1334" y="171"/>
                  </a:lnTo>
                  <a:lnTo>
                    <a:pt x="1354" y="176"/>
                  </a:lnTo>
                  <a:lnTo>
                    <a:pt x="1350" y="189"/>
                  </a:lnTo>
                  <a:lnTo>
                    <a:pt x="1338" y="199"/>
                  </a:lnTo>
                  <a:lnTo>
                    <a:pt x="1338" y="217"/>
                  </a:lnTo>
                  <a:lnTo>
                    <a:pt x="1361" y="196"/>
                  </a:lnTo>
                  <a:lnTo>
                    <a:pt x="1382" y="178"/>
                  </a:lnTo>
                  <a:lnTo>
                    <a:pt x="1414" y="173"/>
                  </a:lnTo>
                  <a:lnTo>
                    <a:pt x="1457" y="160"/>
                  </a:lnTo>
                  <a:lnTo>
                    <a:pt x="1489" y="146"/>
                  </a:lnTo>
                  <a:lnTo>
                    <a:pt x="1494" y="128"/>
                  </a:lnTo>
                  <a:lnTo>
                    <a:pt x="1468" y="130"/>
                  </a:lnTo>
                  <a:lnTo>
                    <a:pt x="1446" y="114"/>
                  </a:lnTo>
                  <a:lnTo>
                    <a:pt x="1430" y="89"/>
                  </a:lnTo>
                  <a:lnTo>
                    <a:pt x="1446" y="54"/>
                  </a:lnTo>
                  <a:lnTo>
                    <a:pt x="1471" y="32"/>
                  </a:lnTo>
                  <a:lnTo>
                    <a:pt x="1491" y="13"/>
                  </a:lnTo>
                  <a:lnTo>
                    <a:pt x="1526" y="13"/>
                  </a:lnTo>
                  <a:lnTo>
                    <a:pt x="1551" y="0"/>
                  </a:lnTo>
                  <a:lnTo>
                    <a:pt x="1548" y="16"/>
                  </a:lnTo>
                  <a:lnTo>
                    <a:pt x="1528" y="18"/>
                  </a:lnTo>
                  <a:lnTo>
                    <a:pt x="1516" y="27"/>
                  </a:lnTo>
                  <a:lnTo>
                    <a:pt x="1496" y="29"/>
                  </a:lnTo>
                  <a:lnTo>
                    <a:pt x="1487" y="48"/>
                  </a:lnTo>
                  <a:lnTo>
                    <a:pt x="1473" y="68"/>
                  </a:lnTo>
                  <a:lnTo>
                    <a:pt x="1468" y="89"/>
                  </a:lnTo>
                  <a:lnTo>
                    <a:pt x="1491" y="121"/>
                  </a:lnTo>
                  <a:lnTo>
                    <a:pt x="1530" y="139"/>
                  </a:lnTo>
                  <a:lnTo>
                    <a:pt x="1555" y="151"/>
                  </a:lnTo>
                  <a:lnTo>
                    <a:pt x="1567" y="157"/>
                  </a:lnTo>
                  <a:lnTo>
                    <a:pt x="1578" y="173"/>
                  </a:lnTo>
                  <a:lnTo>
                    <a:pt x="1590" y="171"/>
                  </a:lnTo>
                  <a:lnTo>
                    <a:pt x="1590" y="157"/>
                  </a:lnTo>
                  <a:lnTo>
                    <a:pt x="1585" y="137"/>
                  </a:lnTo>
                  <a:lnTo>
                    <a:pt x="1574" y="125"/>
                  </a:lnTo>
                  <a:lnTo>
                    <a:pt x="1571" y="112"/>
                  </a:lnTo>
                  <a:lnTo>
                    <a:pt x="1578" y="86"/>
                  </a:lnTo>
                  <a:lnTo>
                    <a:pt x="1606" y="86"/>
                  </a:lnTo>
                  <a:lnTo>
                    <a:pt x="1626" y="86"/>
                  </a:lnTo>
                  <a:lnTo>
                    <a:pt x="1638" y="96"/>
                  </a:lnTo>
                  <a:lnTo>
                    <a:pt x="1640" y="119"/>
                  </a:lnTo>
                  <a:lnTo>
                    <a:pt x="1651" y="139"/>
                  </a:lnTo>
                  <a:lnTo>
                    <a:pt x="1656" y="119"/>
                  </a:lnTo>
                  <a:lnTo>
                    <a:pt x="1674" y="105"/>
                  </a:lnTo>
                  <a:lnTo>
                    <a:pt x="1695" y="105"/>
                  </a:lnTo>
                  <a:lnTo>
                    <a:pt x="1713" y="105"/>
                  </a:lnTo>
                  <a:lnTo>
                    <a:pt x="1731" y="107"/>
                  </a:lnTo>
                  <a:lnTo>
                    <a:pt x="1731" y="86"/>
                  </a:lnTo>
                  <a:lnTo>
                    <a:pt x="1743" y="89"/>
                  </a:lnTo>
                  <a:lnTo>
                    <a:pt x="1757" y="100"/>
                  </a:lnTo>
                  <a:lnTo>
                    <a:pt x="1779" y="100"/>
                  </a:lnTo>
                  <a:lnTo>
                    <a:pt x="1800" y="93"/>
                  </a:lnTo>
                  <a:lnTo>
                    <a:pt x="1821" y="112"/>
                  </a:lnTo>
                  <a:lnTo>
                    <a:pt x="1846" y="135"/>
                  </a:lnTo>
                  <a:lnTo>
                    <a:pt x="1873" y="139"/>
                  </a:lnTo>
                  <a:lnTo>
                    <a:pt x="1910" y="153"/>
                  </a:lnTo>
                  <a:lnTo>
                    <a:pt x="1919" y="151"/>
                  </a:lnTo>
                  <a:lnTo>
                    <a:pt x="1946" y="196"/>
                  </a:lnTo>
                  <a:lnTo>
                    <a:pt x="1987" y="265"/>
                  </a:lnTo>
                  <a:lnTo>
                    <a:pt x="2013" y="311"/>
                  </a:lnTo>
                  <a:lnTo>
                    <a:pt x="2031" y="354"/>
                  </a:lnTo>
                  <a:lnTo>
                    <a:pt x="2010" y="361"/>
                  </a:lnTo>
                  <a:lnTo>
                    <a:pt x="2003" y="382"/>
                  </a:lnTo>
                  <a:lnTo>
                    <a:pt x="2010" y="414"/>
                  </a:lnTo>
                  <a:lnTo>
                    <a:pt x="2024" y="446"/>
                  </a:lnTo>
                  <a:lnTo>
                    <a:pt x="2033" y="446"/>
                  </a:lnTo>
                  <a:lnTo>
                    <a:pt x="2038" y="421"/>
                  </a:lnTo>
                  <a:lnTo>
                    <a:pt x="2052" y="414"/>
                  </a:lnTo>
                  <a:lnTo>
                    <a:pt x="2058" y="437"/>
                  </a:lnTo>
                  <a:lnTo>
                    <a:pt x="2040" y="446"/>
                  </a:lnTo>
                  <a:lnTo>
                    <a:pt x="2070" y="469"/>
                  </a:lnTo>
                  <a:lnTo>
                    <a:pt x="2049" y="496"/>
                  </a:lnTo>
                  <a:lnTo>
                    <a:pt x="2045" y="510"/>
                  </a:lnTo>
                  <a:lnTo>
                    <a:pt x="2079" y="519"/>
                  </a:lnTo>
                  <a:lnTo>
                    <a:pt x="2063" y="540"/>
                  </a:lnTo>
                  <a:lnTo>
                    <a:pt x="2047" y="544"/>
                  </a:lnTo>
                  <a:lnTo>
                    <a:pt x="2047" y="578"/>
                  </a:lnTo>
                  <a:lnTo>
                    <a:pt x="2063" y="606"/>
                  </a:lnTo>
                  <a:lnTo>
                    <a:pt x="2047" y="611"/>
                  </a:lnTo>
                  <a:lnTo>
                    <a:pt x="2013" y="604"/>
                  </a:lnTo>
                  <a:lnTo>
                    <a:pt x="2029" y="588"/>
                  </a:lnTo>
                  <a:lnTo>
                    <a:pt x="2049" y="588"/>
                  </a:lnTo>
                  <a:lnTo>
                    <a:pt x="2049" y="553"/>
                  </a:lnTo>
                  <a:lnTo>
                    <a:pt x="2026" y="565"/>
                  </a:lnTo>
                  <a:lnTo>
                    <a:pt x="2024" y="537"/>
                  </a:lnTo>
                  <a:lnTo>
                    <a:pt x="2045" y="519"/>
                  </a:lnTo>
                  <a:lnTo>
                    <a:pt x="2049" y="501"/>
                  </a:lnTo>
                  <a:lnTo>
                    <a:pt x="2038" y="476"/>
                  </a:lnTo>
                  <a:lnTo>
                    <a:pt x="2033" y="443"/>
                  </a:lnTo>
                  <a:lnTo>
                    <a:pt x="2022" y="457"/>
                  </a:lnTo>
                  <a:lnTo>
                    <a:pt x="2006" y="480"/>
                  </a:lnTo>
                  <a:lnTo>
                    <a:pt x="1981" y="501"/>
                  </a:lnTo>
                  <a:lnTo>
                    <a:pt x="1987" y="528"/>
                  </a:lnTo>
                  <a:lnTo>
                    <a:pt x="1985" y="553"/>
                  </a:lnTo>
                  <a:lnTo>
                    <a:pt x="1985" y="567"/>
                  </a:lnTo>
                  <a:lnTo>
                    <a:pt x="1997" y="590"/>
                  </a:lnTo>
                  <a:lnTo>
                    <a:pt x="1987" y="601"/>
                  </a:lnTo>
                  <a:lnTo>
                    <a:pt x="1962" y="574"/>
                  </a:lnTo>
                  <a:lnTo>
                    <a:pt x="1946" y="544"/>
                  </a:lnTo>
                  <a:lnTo>
                    <a:pt x="1939" y="526"/>
                  </a:lnTo>
                  <a:lnTo>
                    <a:pt x="1926" y="512"/>
                  </a:lnTo>
                  <a:lnTo>
                    <a:pt x="1907" y="528"/>
                  </a:lnTo>
                  <a:lnTo>
                    <a:pt x="1896" y="549"/>
                  </a:lnTo>
                  <a:lnTo>
                    <a:pt x="1921" y="574"/>
                  </a:lnTo>
                  <a:lnTo>
                    <a:pt x="1935" y="601"/>
                  </a:lnTo>
                  <a:lnTo>
                    <a:pt x="1939" y="633"/>
                  </a:lnTo>
                  <a:lnTo>
                    <a:pt x="1937" y="663"/>
                  </a:lnTo>
                  <a:lnTo>
                    <a:pt x="1937" y="693"/>
                  </a:lnTo>
                  <a:lnTo>
                    <a:pt x="1949" y="672"/>
                  </a:lnTo>
                  <a:lnTo>
                    <a:pt x="1969" y="675"/>
                  </a:lnTo>
                  <a:lnTo>
                    <a:pt x="1978" y="695"/>
                  </a:lnTo>
                  <a:lnTo>
                    <a:pt x="1960" y="718"/>
                  </a:lnTo>
                  <a:lnTo>
                    <a:pt x="1942" y="714"/>
                  </a:lnTo>
                  <a:lnTo>
                    <a:pt x="1939" y="732"/>
                  </a:lnTo>
                  <a:lnTo>
                    <a:pt x="1955" y="750"/>
                  </a:lnTo>
                  <a:lnTo>
                    <a:pt x="1946" y="774"/>
                  </a:lnTo>
                  <a:lnTo>
                    <a:pt x="1967" y="795"/>
                  </a:lnTo>
                  <a:lnTo>
                    <a:pt x="1955" y="808"/>
                  </a:lnTo>
                  <a:lnTo>
                    <a:pt x="1971" y="829"/>
                  </a:lnTo>
                  <a:lnTo>
                    <a:pt x="1960" y="850"/>
                  </a:lnTo>
                  <a:lnTo>
                    <a:pt x="1983" y="836"/>
                  </a:lnTo>
                  <a:lnTo>
                    <a:pt x="1978" y="856"/>
                  </a:lnTo>
                  <a:lnTo>
                    <a:pt x="2017" y="850"/>
                  </a:lnTo>
                  <a:lnTo>
                    <a:pt x="2006" y="875"/>
                  </a:lnTo>
                  <a:lnTo>
                    <a:pt x="1978" y="856"/>
                  </a:lnTo>
                  <a:lnTo>
                    <a:pt x="1971" y="884"/>
                  </a:lnTo>
                  <a:lnTo>
                    <a:pt x="2013" y="882"/>
                  </a:lnTo>
                  <a:lnTo>
                    <a:pt x="1997" y="914"/>
                  </a:lnTo>
                  <a:lnTo>
                    <a:pt x="1969" y="879"/>
                  </a:lnTo>
                  <a:lnTo>
                    <a:pt x="1985" y="923"/>
                  </a:lnTo>
                  <a:lnTo>
                    <a:pt x="2017" y="953"/>
                  </a:lnTo>
                  <a:lnTo>
                    <a:pt x="1987" y="953"/>
                  </a:lnTo>
                  <a:lnTo>
                    <a:pt x="1969" y="884"/>
                  </a:lnTo>
                  <a:lnTo>
                    <a:pt x="1978" y="840"/>
                  </a:lnTo>
                  <a:lnTo>
                    <a:pt x="1955" y="843"/>
                  </a:lnTo>
                  <a:lnTo>
                    <a:pt x="1937" y="817"/>
                  </a:lnTo>
                  <a:lnTo>
                    <a:pt x="1955" y="804"/>
                  </a:lnTo>
                  <a:lnTo>
                    <a:pt x="1955" y="779"/>
                  </a:lnTo>
                  <a:lnTo>
                    <a:pt x="1942" y="725"/>
                  </a:lnTo>
                  <a:lnTo>
                    <a:pt x="1939" y="686"/>
                  </a:lnTo>
                  <a:lnTo>
                    <a:pt x="1935" y="661"/>
                  </a:lnTo>
                  <a:lnTo>
                    <a:pt x="1914" y="693"/>
                  </a:lnTo>
                  <a:lnTo>
                    <a:pt x="1878" y="704"/>
                  </a:lnTo>
                  <a:lnTo>
                    <a:pt x="1857" y="727"/>
                  </a:lnTo>
                  <a:lnTo>
                    <a:pt x="1866" y="752"/>
                  </a:lnTo>
                  <a:lnTo>
                    <a:pt x="1853" y="774"/>
                  </a:lnTo>
                  <a:lnTo>
                    <a:pt x="1827" y="769"/>
                  </a:lnTo>
                  <a:lnTo>
                    <a:pt x="1848" y="743"/>
                  </a:lnTo>
                  <a:lnTo>
                    <a:pt x="1834" y="730"/>
                  </a:lnTo>
                  <a:lnTo>
                    <a:pt x="1814" y="746"/>
                  </a:lnTo>
                  <a:lnTo>
                    <a:pt x="1814" y="772"/>
                  </a:lnTo>
                  <a:lnTo>
                    <a:pt x="1848" y="804"/>
                  </a:lnTo>
                  <a:lnTo>
                    <a:pt x="1857" y="831"/>
                  </a:lnTo>
                  <a:lnTo>
                    <a:pt x="1832" y="866"/>
                  </a:lnTo>
                  <a:lnTo>
                    <a:pt x="1832" y="946"/>
                  </a:lnTo>
                  <a:lnTo>
                    <a:pt x="1832" y="980"/>
                  </a:lnTo>
                  <a:lnTo>
                    <a:pt x="1837" y="1001"/>
                  </a:lnTo>
                  <a:lnTo>
                    <a:pt x="1875" y="998"/>
                  </a:lnTo>
                  <a:lnTo>
                    <a:pt x="1901" y="1003"/>
                  </a:lnTo>
                  <a:lnTo>
                    <a:pt x="1919" y="973"/>
                  </a:lnTo>
                  <a:lnTo>
                    <a:pt x="1939" y="973"/>
                  </a:lnTo>
                  <a:lnTo>
                    <a:pt x="1930" y="989"/>
                  </a:lnTo>
                  <a:lnTo>
                    <a:pt x="1955" y="1014"/>
                  </a:lnTo>
                  <a:lnTo>
                    <a:pt x="1983" y="1019"/>
                  </a:lnTo>
                  <a:lnTo>
                    <a:pt x="1981" y="998"/>
                  </a:lnTo>
                  <a:lnTo>
                    <a:pt x="2047" y="998"/>
                  </a:lnTo>
                  <a:lnTo>
                    <a:pt x="2024" y="1005"/>
                  </a:lnTo>
                  <a:lnTo>
                    <a:pt x="2022" y="1023"/>
                  </a:lnTo>
                  <a:lnTo>
                    <a:pt x="2052" y="1030"/>
                  </a:lnTo>
                  <a:lnTo>
                    <a:pt x="2081" y="1042"/>
                  </a:lnTo>
                  <a:lnTo>
                    <a:pt x="2095" y="1010"/>
                  </a:lnTo>
                  <a:lnTo>
                    <a:pt x="2100" y="989"/>
                  </a:lnTo>
                  <a:lnTo>
                    <a:pt x="2079" y="996"/>
                  </a:lnTo>
                  <a:lnTo>
                    <a:pt x="2058" y="982"/>
                  </a:lnTo>
                  <a:lnTo>
                    <a:pt x="2047" y="978"/>
                  </a:lnTo>
                  <a:lnTo>
                    <a:pt x="2038" y="1003"/>
                  </a:lnTo>
                  <a:lnTo>
                    <a:pt x="2038" y="1001"/>
                  </a:lnTo>
                  <a:lnTo>
                    <a:pt x="1971" y="1001"/>
                  </a:lnTo>
                  <a:lnTo>
                    <a:pt x="1960" y="969"/>
                  </a:lnTo>
                  <a:lnTo>
                    <a:pt x="1942" y="975"/>
                  </a:lnTo>
                  <a:lnTo>
                    <a:pt x="1921" y="973"/>
                  </a:lnTo>
                  <a:lnTo>
                    <a:pt x="1914" y="939"/>
                  </a:lnTo>
                  <a:lnTo>
                    <a:pt x="1903" y="918"/>
                  </a:lnTo>
                  <a:lnTo>
                    <a:pt x="1923" y="904"/>
                  </a:lnTo>
                  <a:lnTo>
                    <a:pt x="1923" y="884"/>
                  </a:lnTo>
                  <a:lnTo>
                    <a:pt x="1894" y="898"/>
                  </a:lnTo>
                  <a:lnTo>
                    <a:pt x="1873" y="916"/>
                  </a:lnTo>
                  <a:lnTo>
                    <a:pt x="1857" y="941"/>
                  </a:lnTo>
                  <a:lnTo>
                    <a:pt x="1832" y="941"/>
                  </a:lnTo>
                  <a:lnTo>
                    <a:pt x="1832" y="877"/>
                  </a:lnTo>
                  <a:lnTo>
                    <a:pt x="1818" y="891"/>
                  </a:lnTo>
                  <a:lnTo>
                    <a:pt x="1800" y="861"/>
                  </a:lnTo>
                  <a:lnTo>
                    <a:pt x="1777" y="834"/>
                  </a:lnTo>
                  <a:lnTo>
                    <a:pt x="1745" y="843"/>
                  </a:lnTo>
                  <a:lnTo>
                    <a:pt x="1743" y="870"/>
                  </a:lnTo>
                  <a:lnTo>
                    <a:pt x="1759" y="902"/>
                  </a:lnTo>
                  <a:lnTo>
                    <a:pt x="1759" y="932"/>
                  </a:lnTo>
                  <a:lnTo>
                    <a:pt x="1779" y="962"/>
                  </a:lnTo>
                  <a:lnTo>
                    <a:pt x="1791" y="975"/>
                  </a:lnTo>
                  <a:lnTo>
                    <a:pt x="1766" y="975"/>
                  </a:lnTo>
                  <a:lnTo>
                    <a:pt x="1752" y="962"/>
                  </a:lnTo>
                  <a:lnTo>
                    <a:pt x="1741" y="978"/>
                  </a:lnTo>
                  <a:lnTo>
                    <a:pt x="1775" y="1017"/>
                  </a:lnTo>
                  <a:lnTo>
                    <a:pt x="1800" y="1039"/>
                  </a:lnTo>
                  <a:lnTo>
                    <a:pt x="1823" y="1037"/>
                  </a:lnTo>
                  <a:lnTo>
                    <a:pt x="1848" y="1044"/>
                  </a:lnTo>
                  <a:lnTo>
                    <a:pt x="1882" y="1044"/>
                  </a:lnTo>
                  <a:lnTo>
                    <a:pt x="1914" y="1039"/>
                  </a:lnTo>
                  <a:lnTo>
                    <a:pt x="1942" y="1051"/>
                  </a:lnTo>
                  <a:lnTo>
                    <a:pt x="1935" y="1060"/>
                  </a:lnTo>
                  <a:lnTo>
                    <a:pt x="1903" y="1049"/>
                  </a:lnTo>
                  <a:lnTo>
                    <a:pt x="1903" y="1101"/>
                  </a:lnTo>
                  <a:lnTo>
                    <a:pt x="1926" y="1101"/>
                  </a:lnTo>
                  <a:lnTo>
                    <a:pt x="1939" y="1099"/>
                  </a:lnTo>
                  <a:lnTo>
                    <a:pt x="1942" y="1081"/>
                  </a:lnTo>
                  <a:lnTo>
                    <a:pt x="1969" y="1085"/>
                  </a:lnTo>
                  <a:lnTo>
                    <a:pt x="2003" y="1072"/>
                  </a:lnTo>
                  <a:lnTo>
                    <a:pt x="2001" y="1097"/>
                  </a:lnTo>
                  <a:lnTo>
                    <a:pt x="2010" y="1113"/>
                  </a:lnTo>
                  <a:lnTo>
                    <a:pt x="2029" y="1124"/>
                  </a:lnTo>
                  <a:lnTo>
                    <a:pt x="2047" y="1113"/>
                  </a:lnTo>
                  <a:lnTo>
                    <a:pt x="2045" y="1088"/>
                  </a:lnTo>
                  <a:lnTo>
                    <a:pt x="2047" y="1065"/>
                  </a:lnTo>
                  <a:lnTo>
                    <a:pt x="2058" y="1088"/>
                  </a:lnTo>
                  <a:lnTo>
                    <a:pt x="2063" y="1117"/>
                  </a:lnTo>
                  <a:lnTo>
                    <a:pt x="2038" y="1172"/>
                  </a:lnTo>
                  <a:lnTo>
                    <a:pt x="2010" y="1229"/>
                  </a:lnTo>
                  <a:lnTo>
                    <a:pt x="1985" y="1284"/>
                  </a:lnTo>
                  <a:lnTo>
                    <a:pt x="1955" y="1339"/>
                  </a:lnTo>
                  <a:lnTo>
                    <a:pt x="1930" y="1323"/>
                  </a:lnTo>
                  <a:lnTo>
                    <a:pt x="1903" y="1335"/>
                  </a:lnTo>
                  <a:lnTo>
                    <a:pt x="1894" y="1355"/>
                  </a:lnTo>
                  <a:lnTo>
                    <a:pt x="1873" y="1367"/>
                  </a:lnTo>
                  <a:lnTo>
                    <a:pt x="1834" y="1376"/>
                  </a:lnTo>
                  <a:lnTo>
                    <a:pt x="1811" y="1371"/>
                  </a:lnTo>
                  <a:lnTo>
                    <a:pt x="1821" y="1337"/>
                  </a:lnTo>
                  <a:lnTo>
                    <a:pt x="1818" y="1312"/>
                  </a:lnTo>
                  <a:lnTo>
                    <a:pt x="1832" y="1291"/>
                  </a:lnTo>
                  <a:lnTo>
                    <a:pt x="1827" y="1273"/>
                  </a:lnTo>
                  <a:lnTo>
                    <a:pt x="1802" y="1261"/>
                  </a:lnTo>
                  <a:lnTo>
                    <a:pt x="1805" y="1229"/>
                  </a:lnTo>
                  <a:lnTo>
                    <a:pt x="1814" y="1195"/>
                  </a:lnTo>
                  <a:lnTo>
                    <a:pt x="1841" y="1170"/>
                  </a:lnTo>
                  <a:lnTo>
                    <a:pt x="1875" y="1168"/>
                  </a:lnTo>
                  <a:lnTo>
                    <a:pt x="1880" y="1147"/>
                  </a:lnTo>
                  <a:lnTo>
                    <a:pt x="1873" y="1117"/>
                  </a:lnTo>
                  <a:lnTo>
                    <a:pt x="1894" y="1104"/>
                  </a:lnTo>
                  <a:lnTo>
                    <a:pt x="1903" y="1101"/>
                  </a:lnTo>
                  <a:lnTo>
                    <a:pt x="1903" y="1051"/>
                  </a:lnTo>
                  <a:lnTo>
                    <a:pt x="1875" y="1056"/>
                  </a:lnTo>
                  <a:lnTo>
                    <a:pt x="1848" y="1067"/>
                  </a:lnTo>
                  <a:lnTo>
                    <a:pt x="1825" y="1051"/>
                  </a:lnTo>
                  <a:lnTo>
                    <a:pt x="1798" y="1051"/>
                  </a:lnTo>
                  <a:lnTo>
                    <a:pt x="1761" y="1039"/>
                  </a:lnTo>
                  <a:lnTo>
                    <a:pt x="1741" y="1017"/>
                  </a:lnTo>
                  <a:lnTo>
                    <a:pt x="1729" y="994"/>
                  </a:lnTo>
                  <a:lnTo>
                    <a:pt x="1711" y="973"/>
                  </a:lnTo>
                  <a:lnTo>
                    <a:pt x="1729" y="966"/>
                  </a:lnTo>
                  <a:lnTo>
                    <a:pt x="1741" y="975"/>
                  </a:lnTo>
                  <a:lnTo>
                    <a:pt x="1754" y="957"/>
                  </a:lnTo>
                  <a:lnTo>
                    <a:pt x="1745" y="927"/>
                  </a:lnTo>
                  <a:lnTo>
                    <a:pt x="1729" y="925"/>
                  </a:lnTo>
                  <a:lnTo>
                    <a:pt x="1718" y="895"/>
                  </a:lnTo>
                  <a:lnTo>
                    <a:pt x="1722" y="861"/>
                  </a:lnTo>
                  <a:lnTo>
                    <a:pt x="1741" y="836"/>
                  </a:lnTo>
                  <a:lnTo>
                    <a:pt x="1736" y="804"/>
                  </a:lnTo>
                  <a:lnTo>
                    <a:pt x="1722" y="801"/>
                  </a:lnTo>
                  <a:lnTo>
                    <a:pt x="1711" y="820"/>
                  </a:lnTo>
                  <a:lnTo>
                    <a:pt x="1709" y="836"/>
                  </a:lnTo>
                  <a:lnTo>
                    <a:pt x="1690" y="804"/>
                  </a:lnTo>
                  <a:lnTo>
                    <a:pt x="1661" y="781"/>
                  </a:lnTo>
                  <a:lnTo>
                    <a:pt x="1640" y="783"/>
                  </a:lnTo>
                  <a:lnTo>
                    <a:pt x="1619" y="817"/>
                  </a:lnTo>
                  <a:lnTo>
                    <a:pt x="1594" y="834"/>
                  </a:lnTo>
                  <a:lnTo>
                    <a:pt x="1594" y="854"/>
                  </a:lnTo>
                  <a:lnTo>
                    <a:pt x="1601" y="877"/>
                  </a:lnTo>
                  <a:lnTo>
                    <a:pt x="1599" y="900"/>
                  </a:lnTo>
                  <a:lnTo>
                    <a:pt x="1578" y="898"/>
                  </a:lnTo>
                  <a:lnTo>
                    <a:pt x="1564" y="870"/>
                  </a:lnTo>
                  <a:lnTo>
                    <a:pt x="1539" y="836"/>
                  </a:lnTo>
                  <a:lnTo>
                    <a:pt x="1514" y="817"/>
                  </a:lnTo>
                  <a:lnTo>
                    <a:pt x="1494" y="781"/>
                  </a:lnTo>
                  <a:lnTo>
                    <a:pt x="1475" y="772"/>
                  </a:lnTo>
                  <a:lnTo>
                    <a:pt x="1443" y="772"/>
                  </a:lnTo>
                  <a:lnTo>
                    <a:pt x="1414" y="772"/>
                  </a:lnTo>
                  <a:lnTo>
                    <a:pt x="1395" y="783"/>
                  </a:lnTo>
                  <a:lnTo>
                    <a:pt x="1379" y="760"/>
                  </a:lnTo>
                  <a:lnTo>
                    <a:pt x="1359" y="748"/>
                  </a:lnTo>
                  <a:lnTo>
                    <a:pt x="1329" y="725"/>
                  </a:lnTo>
                  <a:lnTo>
                    <a:pt x="1350" y="760"/>
                  </a:lnTo>
                  <a:lnTo>
                    <a:pt x="1382" y="774"/>
                  </a:lnTo>
                  <a:lnTo>
                    <a:pt x="1402" y="804"/>
                  </a:lnTo>
                  <a:lnTo>
                    <a:pt x="1393" y="834"/>
                  </a:lnTo>
                  <a:lnTo>
                    <a:pt x="1372" y="850"/>
                  </a:lnTo>
                  <a:lnTo>
                    <a:pt x="1340" y="854"/>
                  </a:lnTo>
                  <a:lnTo>
                    <a:pt x="1313" y="866"/>
                  </a:lnTo>
                  <a:lnTo>
                    <a:pt x="1297" y="893"/>
                  </a:lnTo>
                  <a:lnTo>
                    <a:pt x="1283" y="904"/>
                  </a:lnTo>
                  <a:lnTo>
                    <a:pt x="1279" y="875"/>
                  </a:lnTo>
                  <a:lnTo>
                    <a:pt x="1260" y="834"/>
                  </a:lnTo>
                  <a:lnTo>
                    <a:pt x="1240" y="811"/>
                  </a:lnTo>
                  <a:lnTo>
                    <a:pt x="1240" y="783"/>
                  </a:lnTo>
                  <a:lnTo>
                    <a:pt x="1222" y="788"/>
                  </a:lnTo>
                  <a:lnTo>
                    <a:pt x="1226" y="829"/>
                  </a:lnTo>
                  <a:lnTo>
                    <a:pt x="1244" y="861"/>
                  </a:lnTo>
                  <a:lnTo>
                    <a:pt x="1244" y="891"/>
                  </a:lnTo>
                  <a:lnTo>
                    <a:pt x="1272" y="902"/>
                  </a:lnTo>
                  <a:lnTo>
                    <a:pt x="1283" y="923"/>
                  </a:lnTo>
                  <a:lnTo>
                    <a:pt x="1311" y="916"/>
                  </a:lnTo>
                  <a:lnTo>
                    <a:pt x="1334" y="914"/>
                  </a:lnTo>
                  <a:lnTo>
                    <a:pt x="1363" y="898"/>
                  </a:lnTo>
                  <a:lnTo>
                    <a:pt x="1352" y="934"/>
                  </a:lnTo>
                  <a:lnTo>
                    <a:pt x="1329" y="980"/>
                  </a:lnTo>
                  <a:lnTo>
                    <a:pt x="1311" y="1010"/>
                  </a:lnTo>
                  <a:lnTo>
                    <a:pt x="1288" y="1037"/>
                  </a:lnTo>
                  <a:lnTo>
                    <a:pt x="1279" y="1060"/>
                  </a:lnTo>
                  <a:lnTo>
                    <a:pt x="1270" y="1113"/>
                  </a:lnTo>
                  <a:lnTo>
                    <a:pt x="1265" y="1149"/>
                  </a:lnTo>
                  <a:lnTo>
                    <a:pt x="1267" y="1186"/>
                  </a:lnTo>
                  <a:lnTo>
                    <a:pt x="1272" y="1220"/>
                  </a:lnTo>
                  <a:lnTo>
                    <a:pt x="1272" y="1229"/>
                  </a:lnTo>
                  <a:lnTo>
                    <a:pt x="1297" y="1225"/>
                  </a:lnTo>
                  <a:lnTo>
                    <a:pt x="1302" y="1195"/>
                  </a:lnTo>
                  <a:lnTo>
                    <a:pt x="1324" y="1168"/>
                  </a:lnTo>
                  <a:lnTo>
                    <a:pt x="1350" y="1149"/>
                  </a:lnTo>
                  <a:lnTo>
                    <a:pt x="1354" y="1184"/>
                  </a:lnTo>
                  <a:lnTo>
                    <a:pt x="1352" y="1213"/>
                  </a:lnTo>
                  <a:lnTo>
                    <a:pt x="1338" y="1229"/>
                  </a:lnTo>
                  <a:lnTo>
                    <a:pt x="1340" y="1245"/>
                  </a:lnTo>
                  <a:lnTo>
                    <a:pt x="1331" y="1287"/>
                  </a:lnTo>
                  <a:lnTo>
                    <a:pt x="1327" y="1307"/>
                  </a:lnTo>
                  <a:lnTo>
                    <a:pt x="1308" y="1312"/>
                  </a:lnTo>
                  <a:lnTo>
                    <a:pt x="1290" y="1291"/>
                  </a:lnTo>
                  <a:lnTo>
                    <a:pt x="1302" y="1264"/>
                  </a:lnTo>
                  <a:lnTo>
                    <a:pt x="1306" y="1248"/>
                  </a:lnTo>
                  <a:lnTo>
                    <a:pt x="1292" y="1229"/>
                  </a:lnTo>
                  <a:lnTo>
                    <a:pt x="1270" y="1232"/>
                  </a:lnTo>
                  <a:lnTo>
                    <a:pt x="1263" y="1261"/>
                  </a:lnTo>
                  <a:lnTo>
                    <a:pt x="1231" y="1273"/>
                  </a:lnTo>
                  <a:lnTo>
                    <a:pt x="1210" y="1291"/>
                  </a:lnTo>
                  <a:lnTo>
                    <a:pt x="1215" y="1323"/>
                  </a:lnTo>
                  <a:lnTo>
                    <a:pt x="1210" y="1360"/>
                  </a:lnTo>
                  <a:lnTo>
                    <a:pt x="1201" y="1399"/>
                  </a:lnTo>
                  <a:lnTo>
                    <a:pt x="1155" y="1440"/>
                  </a:lnTo>
                  <a:lnTo>
                    <a:pt x="1135" y="1442"/>
                  </a:lnTo>
                  <a:lnTo>
                    <a:pt x="1121" y="1415"/>
                  </a:lnTo>
                  <a:lnTo>
                    <a:pt x="1093" y="1399"/>
                  </a:lnTo>
                  <a:lnTo>
                    <a:pt x="1080" y="1387"/>
                  </a:lnTo>
                  <a:lnTo>
                    <a:pt x="1055" y="1335"/>
                  </a:lnTo>
                  <a:lnTo>
                    <a:pt x="1031" y="1310"/>
                  </a:lnTo>
                  <a:lnTo>
                    <a:pt x="1012" y="1284"/>
                  </a:lnTo>
                  <a:lnTo>
                    <a:pt x="1003" y="1257"/>
                  </a:lnTo>
                  <a:lnTo>
                    <a:pt x="999" y="1220"/>
                  </a:lnTo>
                  <a:lnTo>
                    <a:pt x="978" y="1195"/>
                  </a:lnTo>
                  <a:lnTo>
                    <a:pt x="971" y="1172"/>
                  </a:lnTo>
                  <a:lnTo>
                    <a:pt x="987" y="1145"/>
                  </a:lnTo>
                  <a:lnTo>
                    <a:pt x="987" y="1120"/>
                  </a:lnTo>
                  <a:lnTo>
                    <a:pt x="967" y="1101"/>
                  </a:lnTo>
                  <a:lnTo>
                    <a:pt x="932" y="1099"/>
                  </a:lnTo>
                  <a:lnTo>
                    <a:pt x="907" y="1088"/>
                  </a:lnTo>
                  <a:lnTo>
                    <a:pt x="894" y="1099"/>
                  </a:lnTo>
                  <a:lnTo>
                    <a:pt x="871" y="1101"/>
                  </a:lnTo>
                  <a:lnTo>
                    <a:pt x="850" y="1088"/>
                  </a:lnTo>
                  <a:lnTo>
                    <a:pt x="832" y="1069"/>
                  </a:lnTo>
                  <a:lnTo>
                    <a:pt x="807" y="1065"/>
                  </a:lnTo>
                  <a:lnTo>
                    <a:pt x="781" y="1051"/>
                  </a:lnTo>
                  <a:lnTo>
                    <a:pt x="756" y="1030"/>
                  </a:lnTo>
                  <a:lnTo>
                    <a:pt x="749" y="989"/>
                  </a:lnTo>
                  <a:lnTo>
                    <a:pt x="747" y="962"/>
                  </a:lnTo>
                  <a:lnTo>
                    <a:pt x="768" y="941"/>
                  </a:lnTo>
                  <a:lnTo>
                    <a:pt x="765" y="920"/>
                  </a:lnTo>
                  <a:lnTo>
                    <a:pt x="761" y="884"/>
                  </a:lnTo>
                  <a:lnTo>
                    <a:pt x="763" y="852"/>
                  </a:lnTo>
                  <a:lnTo>
                    <a:pt x="756" y="820"/>
                  </a:lnTo>
                  <a:lnTo>
                    <a:pt x="781" y="795"/>
                  </a:lnTo>
                  <a:lnTo>
                    <a:pt x="795" y="776"/>
                  </a:lnTo>
                  <a:lnTo>
                    <a:pt x="816" y="774"/>
                  </a:lnTo>
                  <a:lnTo>
                    <a:pt x="814" y="748"/>
                  </a:lnTo>
                  <a:lnTo>
                    <a:pt x="827" y="725"/>
                  </a:lnTo>
                  <a:lnTo>
                    <a:pt x="848" y="709"/>
                  </a:lnTo>
                  <a:lnTo>
                    <a:pt x="873" y="723"/>
                  </a:lnTo>
                  <a:lnTo>
                    <a:pt x="905" y="730"/>
                  </a:lnTo>
                  <a:lnTo>
                    <a:pt x="939" y="725"/>
                  </a:lnTo>
                  <a:lnTo>
                    <a:pt x="969" y="725"/>
                  </a:lnTo>
                  <a:lnTo>
                    <a:pt x="983" y="727"/>
                  </a:lnTo>
                  <a:lnTo>
                    <a:pt x="990" y="752"/>
                  </a:lnTo>
                  <a:lnTo>
                    <a:pt x="1017" y="758"/>
                  </a:lnTo>
                  <a:lnTo>
                    <a:pt x="1044" y="772"/>
                  </a:lnTo>
                  <a:lnTo>
                    <a:pt x="1061" y="769"/>
                  </a:lnTo>
                  <a:lnTo>
                    <a:pt x="1075" y="750"/>
                  </a:lnTo>
                  <a:lnTo>
                    <a:pt x="1082" y="732"/>
                  </a:lnTo>
                  <a:lnTo>
                    <a:pt x="1107" y="743"/>
                  </a:lnTo>
                  <a:lnTo>
                    <a:pt x="1137" y="752"/>
                  </a:lnTo>
                  <a:lnTo>
                    <a:pt x="1173" y="758"/>
                  </a:lnTo>
                  <a:lnTo>
                    <a:pt x="1196" y="760"/>
                  </a:lnTo>
                  <a:lnTo>
                    <a:pt x="1222" y="758"/>
                  </a:lnTo>
                  <a:lnTo>
                    <a:pt x="1240" y="743"/>
                  </a:lnTo>
                  <a:lnTo>
                    <a:pt x="1249" y="714"/>
                  </a:lnTo>
                  <a:lnTo>
                    <a:pt x="1260" y="695"/>
                  </a:lnTo>
                  <a:lnTo>
                    <a:pt x="1249" y="688"/>
                  </a:lnTo>
                  <a:lnTo>
                    <a:pt x="1238" y="672"/>
                  </a:lnTo>
                  <a:lnTo>
                    <a:pt x="1219" y="677"/>
                  </a:lnTo>
                  <a:lnTo>
                    <a:pt x="1189" y="677"/>
                  </a:lnTo>
                  <a:lnTo>
                    <a:pt x="1169" y="670"/>
                  </a:lnTo>
                  <a:lnTo>
                    <a:pt x="1167" y="647"/>
                  </a:lnTo>
                  <a:lnTo>
                    <a:pt x="1155" y="636"/>
                  </a:lnTo>
                  <a:lnTo>
                    <a:pt x="1146" y="647"/>
                  </a:lnTo>
                  <a:lnTo>
                    <a:pt x="1153" y="670"/>
                  </a:lnTo>
                  <a:lnTo>
                    <a:pt x="1141" y="686"/>
                  </a:lnTo>
                  <a:lnTo>
                    <a:pt x="1119" y="684"/>
                  </a:lnTo>
                  <a:lnTo>
                    <a:pt x="1105" y="665"/>
                  </a:lnTo>
                  <a:lnTo>
                    <a:pt x="1100" y="645"/>
                  </a:lnTo>
                  <a:lnTo>
                    <a:pt x="1100" y="613"/>
                  </a:lnTo>
                  <a:lnTo>
                    <a:pt x="1084" y="606"/>
                  </a:lnTo>
                  <a:lnTo>
                    <a:pt x="1077" y="624"/>
                  </a:lnTo>
                  <a:lnTo>
                    <a:pt x="1080" y="647"/>
                  </a:lnTo>
                  <a:lnTo>
                    <a:pt x="1091" y="663"/>
                  </a:lnTo>
                  <a:lnTo>
                    <a:pt x="1105" y="681"/>
                  </a:lnTo>
                  <a:lnTo>
                    <a:pt x="1091" y="702"/>
                  </a:lnTo>
                  <a:lnTo>
                    <a:pt x="1075" y="711"/>
                  </a:lnTo>
                  <a:lnTo>
                    <a:pt x="1052" y="709"/>
                  </a:lnTo>
                  <a:lnTo>
                    <a:pt x="1052" y="727"/>
                  </a:lnTo>
                  <a:lnTo>
                    <a:pt x="1035" y="736"/>
                  </a:lnTo>
                  <a:lnTo>
                    <a:pt x="1015" y="711"/>
                  </a:lnTo>
                  <a:lnTo>
                    <a:pt x="1017" y="697"/>
                  </a:lnTo>
                  <a:lnTo>
                    <a:pt x="1042" y="709"/>
                  </a:lnTo>
                  <a:lnTo>
                    <a:pt x="1059" y="709"/>
                  </a:lnTo>
                  <a:lnTo>
                    <a:pt x="1080" y="693"/>
                  </a:lnTo>
                  <a:lnTo>
                    <a:pt x="1075" y="670"/>
                  </a:lnTo>
                  <a:lnTo>
                    <a:pt x="1055" y="652"/>
                  </a:lnTo>
                  <a:lnTo>
                    <a:pt x="1035" y="636"/>
                  </a:lnTo>
                  <a:lnTo>
                    <a:pt x="1015" y="615"/>
                  </a:lnTo>
                  <a:lnTo>
                    <a:pt x="992" y="599"/>
                  </a:lnTo>
                  <a:lnTo>
                    <a:pt x="992" y="624"/>
                  </a:lnTo>
                  <a:lnTo>
                    <a:pt x="1008" y="640"/>
                  </a:lnTo>
                  <a:lnTo>
                    <a:pt x="1003" y="670"/>
                  </a:lnTo>
                  <a:lnTo>
                    <a:pt x="1003" y="693"/>
                  </a:lnTo>
                  <a:lnTo>
                    <a:pt x="978" y="675"/>
                  </a:lnTo>
                  <a:lnTo>
                    <a:pt x="974" y="656"/>
                  </a:lnTo>
                  <a:lnTo>
                    <a:pt x="987" y="645"/>
                  </a:lnTo>
                  <a:lnTo>
                    <a:pt x="983" y="629"/>
                  </a:lnTo>
                  <a:lnTo>
                    <a:pt x="994" y="622"/>
                  </a:lnTo>
                  <a:lnTo>
                    <a:pt x="994" y="599"/>
                  </a:lnTo>
                  <a:lnTo>
                    <a:pt x="974" y="604"/>
                  </a:lnTo>
                  <a:lnTo>
                    <a:pt x="960" y="624"/>
                  </a:lnTo>
                  <a:lnTo>
                    <a:pt x="939" y="615"/>
                  </a:lnTo>
                  <a:lnTo>
                    <a:pt x="907" y="631"/>
                  </a:lnTo>
                  <a:lnTo>
                    <a:pt x="900" y="661"/>
                  </a:lnTo>
                  <a:lnTo>
                    <a:pt x="878" y="681"/>
                  </a:lnTo>
                  <a:lnTo>
                    <a:pt x="850" y="695"/>
                  </a:lnTo>
                  <a:lnTo>
                    <a:pt x="825" y="697"/>
                  </a:lnTo>
                  <a:lnTo>
                    <a:pt x="795" y="688"/>
                  </a:lnTo>
                  <a:lnTo>
                    <a:pt x="784" y="675"/>
                  </a:lnTo>
                  <a:lnTo>
                    <a:pt x="793" y="661"/>
                  </a:lnTo>
                  <a:lnTo>
                    <a:pt x="784" y="640"/>
                  </a:lnTo>
                  <a:lnTo>
                    <a:pt x="802" y="627"/>
                  </a:lnTo>
                  <a:lnTo>
                    <a:pt x="804" y="608"/>
                  </a:lnTo>
                  <a:lnTo>
                    <a:pt x="804" y="583"/>
                  </a:lnTo>
                  <a:lnTo>
                    <a:pt x="827" y="560"/>
                  </a:lnTo>
                  <a:lnTo>
                    <a:pt x="859" y="567"/>
                  </a:lnTo>
                  <a:lnTo>
                    <a:pt x="898" y="578"/>
                  </a:lnTo>
                  <a:lnTo>
                    <a:pt x="914" y="562"/>
                  </a:lnTo>
                  <a:lnTo>
                    <a:pt x="914" y="537"/>
                  </a:lnTo>
                  <a:lnTo>
                    <a:pt x="896" y="519"/>
                  </a:lnTo>
                  <a:lnTo>
                    <a:pt x="866" y="505"/>
                  </a:lnTo>
                  <a:lnTo>
                    <a:pt x="880" y="492"/>
                  </a:lnTo>
                  <a:lnTo>
                    <a:pt x="910" y="482"/>
                  </a:lnTo>
                  <a:lnTo>
                    <a:pt x="916" y="478"/>
                  </a:lnTo>
                  <a:lnTo>
                    <a:pt x="907" y="476"/>
                  </a:lnTo>
                  <a:lnTo>
                    <a:pt x="884" y="478"/>
                  </a:lnTo>
                  <a:lnTo>
                    <a:pt x="859" y="482"/>
                  </a:lnTo>
                  <a:lnTo>
                    <a:pt x="848" y="487"/>
                  </a:lnTo>
                  <a:lnTo>
                    <a:pt x="857" y="469"/>
                  </a:lnTo>
                  <a:lnTo>
                    <a:pt x="859" y="446"/>
                  </a:lnTo>
                  <a:lnTo>
                    <a:pt x="871" y="434"/>
                  </a:lnTo>
                  <a:lnTo>
                    <a:pt x="875" y="418"/>
                  </a:lnTo>
                  <a:lnTo>
                    <a:pt x="864" y="402"/>
                  </a:lnTo>
                  <a:lnTo>
                    <a:pt x="848" y="409"/>
                  </a:lnTo>
                  <a:lnTo>
                    <a:pt x="850" y="430"/>
                  </a:lnTo>
                  <a:lnTo>
                    <a:pt x="848" y="450"/>
                  </a:lnTo>
                  <a:lnTo>
                    <a:pt x="836" y="478"/>
                  </a:lnTo>
                  <a:lnTo>
                    <a:pt x="814" y="476"/>
                  </a:lnTo>
                  <a:lnTo>
                    <a:pt x="807" y="450"/>
                  </a:lnTo>
                  <a:lnTo>
                    <a:pt x="791" y="425"/>
                  </a:lnTo>
                  <a:lnTo>
                    <a:pt x="816" y="418"/>
                  </a:lnTo>
                  <a:lnTo>
                    <a:pt x="830" y="407"/>
                  </a:lnTo>
                  <a:lnTo>
                    <a:pt x="839" y="405"/>
                  </a:lnTo>
                  <a:lnTo>
                    <a:pt x="839" y="389"/>
                  </a:lnTo>
                  <a:lnTo>
                    <a:pt x="834" y="373"/>
                  </a:lnTo>
                  <a:lnTo>
                    <a:pt x="855" y="361"/>
                  </a:lnTo>
                  <a:lnTo>
                    <a:pt x="875" y="347"/>
                  </a:lnTo>
                  <a:lnTo>
                    <a:pt x="889" y="359"/>
                  </a:lnTo>
                  <a:lnTo>
                    <a:pt x="896" y="384"/>
                  </a:lnTo>
                  <a:lnTo>
                    <a:pt x="905" y="409"/>
                  </a:lnTo>
                  <a:lnTo>
                    <a:pt x="919" y="427"/>
                  </a:lnTo>
                  <a:lnTo>
                    <a:pt x="926" y="450"/>
                  </a:lnTo>
                  <a:lnTo>
                    <a:pt x="916" y="466"/>
                  </a:lnTo>
                  <a:lnTo>
                    <a:pt x="914" y="480"/>
                  </a:lnTo>
                  <a:lnTo>
                    <a:pt x="932" y="476"/>
                  </a:lnTo>
                  <a:lnTo>
                    <a:pt x="955" y="462"/>
                  </a:lnTo>
                  <a:lnTo>
                    <a:pt x="967" y="430"/>
                  </a:lnTo>
                  <a:lnTo>
                    <a:pt x="990" y="430"/>
                  </a:lnTo>
                  <a:lnTo>
                    <a:pt x="999" y="425"/>
                  </a:lnTo>
                  <a:lnTo>
                    <a:pt x="996" y="402"/>
                  </a:lnTo>
                  <a:lnTo>
                    <a:pt x="987" y="379"/>
                  </a:lnTo>
                  <a:lnTo>
                    <a:pt x="1008" y="379"/>
                  </a:lnTo>
                  <a:lnTo>
                    <a:pt x="1031" y="402"/>
                  </a:lnTo>
                  <a:lnTo>
                    <a:pt x="1052" y="418"/>
                  </a:lnTo>
                  <a:lnTo>
                    <a:pt x="1071" y="418"/>
                  </a:lnTo>
                  <a:lnTo>
                    <a:pt x="1098" y="407"/>
                  </a:lnTo>
                  <a:lnTo>
                    <a:pt x="1114" y="382"/>
                  </a:lnTo>
                  <a:lnTo>
                    <a:pt x="1125" y="359"/>
                  </a:lnTo>
                  <a:lnTo>
                    <a:pt x="1167" y="366"/>
                  </a:lnTo>
                  <a:lnTo>
                    <a:pt x="1132" y="345"/>
                  </a:lnTo>
                  <a:lnTo>
                    <a:pt x="1105" y="347"/>
                  </a:lnTo>
                  <a:lnTo>
                    <a:pt x="1100" y="318"/>
                  </a:lnTo>
                  <a:lnTo>
                    <a:pt x="1100" y="299"/>
                  </a:lnTo>
                  <a:lnTo>
                    <a:pt x="1128" y="290"/>
                  </a:lnTo>
                  <a:lnTo>
                    <a:pt x="1135" y="272"/>
                  </a:lnTo>
                  <a:lnTo>
                    <a:pt x="1114" y="283"/>
                  </a:lnTo>
                  <a:lnTo>
                    <a:pt x="1091" y="297"/>
                  </a:lnTo>
                  <a:lnTo>
                    <a:pt x="1064" y="299"/>
                  </a:lnTo>
                  <a:lnTo>
                    <a:pt x="1077" y="331"/>
                  </a:lnTo>
                  <a:lnTo>
                    <a:pt x="1075" y="357"/>
                  </a:lnTo>
                  <a:lnTo>
                    <a:pt x="1075" y="377"/>
                  </a:lnTo>
                  <a:lnTo>
                    <a:pt x="1055" y="389"/>
                  </a:lnTo>
                  <a:lnTo>
                    <a:pt x="1033" y="395"/>
                  </a:lnTo>
                  <a:lnTo>
                    <a:pt x="1017" y="379"/>
                  </a:lnTo>
                  <a:lnTo>
                    <a:pt x="1019" y="359"/>
                  </a:lnTo>
                  <a:lnTo>
                    <a:pt x="1022" y="345"/>
                  </a:lnTo>
                  <a:lnTo>
                    <a:pt x="999" y="357"/>
                  </a:lnTo>
                  <a:lnTo>
                    <a:pt x="976" y="343"/>
                  </a:lnTo>
                  <a:lnTo>
                    <a:pt x="967" y="324"/>
                  </a:lnTo>
                  <a:lnTo>
                    <a:pt x="971" y="299"/>
                  </a:lnTo>
                  <a:lnTo>
                    <a:pt x="969" y="297"/>
                  </a:lnTo>
                  <a:lnTo>
                    <a:pt x="971" y="295"/>
                  </a:lnTo>
                  <a:lnTo>
                    <a:pt x="974" y="292"/>
                  </a:lnTo>
                  <a:lnTo>
                    <a:pt x="704" y="292"/>
                  </a:lnTo>
                  <a:lnTo>
                    <a:pt x="690" y="311"/>
                  </a:lnTo>
                  <a:lnTo>
                    <a:pt x="667" y="322"/>
                  </a:lnTo>
                  <a:lnTo>
                    <a:pt x="644" y="313"/>
                  </a:lnTo>
                  <a:lnTo>
                    <a:pt x="633" y="297"/>
                  </a:lnTo>
                  <a:lnTo>
                    <a:pt x="633" y="281"/>
                  </a:lnTo>
                  <a:lnTo>
                    <a:pt x="637" y="276"/>
                  </a:lnTo>
                  <a:lnTo>
                    <a:pt x="583" y="276"/>
                  </a:lnTo>
                  <a:lnTo>
                    <a:pt x="564" y="281"/>
                  </a:lnTo>
                  <a:lnTo>
                    <a:pt x="546" y="313"/>
                  </a:lnTo>
                  <a:lnTo>
                    <a:pt x="539" y="338"/>
                  </a:lnTo>
                  <a:lnTo>
                    <a:pt x="530" y="361"/>
                  </a:lnTo>
                  <a:lnTo>
                    <a:pt x="503" y="357"/>
                  </a:lnTo>
                  <a:lnTo>
                    <a:pt x="482" y="338"/>
                  </a:lnTo>
                  <a:lnTo>
                    <a:pt x="480" y="299"/>
                  </a:lnTo>
                  <a:lnTo>
                    <a:pt x="473" y="263"/>
                  </a:lnTo>
                  <a:lnTo>
                    <a:pt x="455" y="240"/>
                  </a:lnTo>
                  <a:lnTo>
                    <a:pt x="459" y="221"/>
                  </a:lnTo>
                  <a:lnTo>
                    <a:pt x="445" y="192"/>
                  </a:lnTo>
                  <a:lnTo>
                    <a:pt x="432" y="178"/>
                  </a:lnTo>
                  <a:lnTo>
                    <a:pt x="413" y="194"/>
                  </a:lnTo>
                  <a:lnTo>
                    <a:pt x="386" y="176"/>
                  </a:lnTo>
                  <a:lnTo>
                    <a:pt x="374" y="189"/>
                  </a:lnTo>
                  <a:lnTo>
                    <a:pt x="358" y="199"/>
                  </a:lnTo>
                  <a:lnTo>
                    <a:pt x="329" y="210"/>
                  </a:lnTo>
                  <a:lnTo>
                    <a:pt x="310" y="233"/>
                  </a:lnTo>
                  <a:lnTo>
                    <a:pt x="345" y="238"/>
                  </a:lnTo>
                  <a:lnTo>
                    <a:pt x="377" y="249"/>
                  </a:lnTo>
                  <a:lnTo>
                    <a:pt x="393" y="272"/>
                  </a:lnTo>
                  <a:lnTo>
                    <a:pt x="413" y="295"/>
                  </a:lnTo>
                  <a:lnTo>
                    <a:pt x="418" y="334"/>
                  </a:lnTo>
                  <a:lnTo>
                    <a:pt x="407" y="366"/>
                  </a:lnTo>
                  <a:lnTo>
                    <a:pt x="386" y="379"/>
                  </a:lnTo>
                  <a:lnTo>
                    <a:pt x="363" y="357"/>
                  </a:lnTo>
                  <a:lnTo>
                    <a:pt x="320" y="354"/>
                  </a:lnTo>
                  <a:lnTo>
                    <a:pt x="320" y="336"/>
                  </a:lnTo>
                  <a:lnTo>
                    <a:pt x="358" y="324"/>
                  </a:lnTo>
                  <a:lnTo>
                    <a:pt x="361" y="306"/>
                  </a:lnTo>
                  <a:lnTo>
                    <a:pt x="356" y="297"/>
                  </a:lnTo>
                  <a:lnTo>
                    <a:pt x="342" y="318"/>
                  </a:lnTo>
                  <a:lnTo>
                    <a:pt x="322" y="304"/>
                  </a:lnTo>
                  <a:lnTo>
                    <a:pt x="352" y="283"/>
                  </a:lnTo>
                  <a:lnTo>
                    <a:pt x="363" y="299"/>
                  </a:lnTo>
                  <a:lnTo>
                    <a:pt x="342" y="281"/>
                  </a:lnTo>
                  <a:lnTo>
                    <a:pt x="320" y="281"/>
                  </a:lnTo>
                  <a:lnTo>
                    <a:pt x="304" y="295"/>
                  </a:lnTo>
                  <a:lnTo>
                    <a:pt x="308" y="318"/>
                  </a:lnTo>
                  <a:lnTo>
                    <a:pt x="308" y="345"/>
                  </a:lnTo>
                  <a:lnTo>
                    <a:pt x="299" y="368"/>
                  </a:lnTo>
                  <a:lnTo>
                    <a:pt x="308" y="393"/>
                  </a:lnTo>
                  <a:lnTo>
                    <a:pt x="283" y="377"/>
                  </a:lnTo>
                  <a:lnTo>
                    <a:pt x="272" y="386"/>
                  </a:lnTo>
                  <a:lnTo>
                    <a:pt x="267" y="373"/>
                  </a:lnTo>
                  <a:lnTo>
                    <a:pt x="272" y="347"/>
                  </a:lnTo>
                  <a:lnTo>
                    <a:pt x="251" y="359"/>
                  </a:lnTo>
                  <a:lnTo>
                    <a:pt x="242" y="379"/>
                  </a:lnTo>
                  <a:lnTo>
                    <a:pt x="226" y="395"/>
                  </a:lnTo>
                  <a:lnTo>
                    <a:pt x="226" y="414"/>
                  </a:lnTo>
                  <a:lnTo>
                    <a:pt x="198" y="414"/>
                  </a:lnTo>
                  <a:lnTo>
                    <a:pt x="189" y="427"/>
                  </a:lnTo>
                  <a:lnTo>
                    <a:pt x="198" y="455"/>
                  </a:lnTo>
                  <a:lnTo>
                    <a:pt x="228" y="469"/>
                  </a:lnTo>
                  <a:lnTo>
                    <a:pt x="242" y="482"/>
                  </a:lnTo>
                  <a:lnTo>
                    <a:pt x="240" y="508"/>
                  </a:lnTo>
                  <a:lnTo>
                    <a:pt x="256" y="503"/>
                  </a:lnTo>
                  <a:lnTo>
                    <a:pt x="260" y="478"/>
                  </a:lnTo>
                  <a:lnTo>
                    <a:pt x="292" y="478"/>
                  </a:lnTo>
                  <a:lnTo>
                    <a:pt x="310" y="455"/>
                  </a:lnTo>
                  <a:lnTo>
                    <a:pt x="313" y="430"/>
                  </a:lnTo>
                  <a:lnTo>
                    <a:pt x="310" y="389"/>
                  </a:lnTo>
                  <a:lnTo>
                    <a:pt x="320" y="363"/>
                  </a:lnTo>
                  <a:lnTo>
                    <a:pt x="336" y="345"/>
                  </a:lnTo>
                  <a:lnTo>
                    <a:pt x="361" y="361"/>
                  </a:lnTo>
                  <a:lnTo>
                    <a:pt x="390" y="379"/>
                  </a:lnTo>
                  <a:lnTo>
                    <a:pt x="404" y="389"/>
                  </a:lnTo>
                  <a:lnTo>
                    <a:pt x="420" y="414"/>
                  </a:lnTo>
                  <a:lnTo>
                    <a:pt x="441" y="427"/>
                  </a:lnTo>
                  <a:lnTo>
                    <a:pt x="448" y="455"/>
                  </a:lnTo>
                  <a:lnTo>
                    <a:pt x="452" y="476"/>
                  </a:lnTo>
                  <a:lnTo>
                    <a:pt x="473" y="489"/>
                  </a:lnTo>
                  <a:lnTo>
                    <a:pt x="455" y="510"/>
                  </a:lnTo>
                  <a:lnTo>
                    <a:pt x="427" y="510"/>
                  </a:lnTo>
                  <a:lnTo>
                    <a:pt x="400" y="526"/>
                  </a:lnTo>
                  <a:lnTo>
                    <a:pt x="377" y="542"/>
                  </a:lnTo>
                  <a:lnTo>
                    <a:pt x="345" y="558"/>
                  </a:lnTo>
                  <a:lnTo>
                    <a:pt x="320" y="583"/>
                  </a:lnTo>
                  <a:lnTo>
                    <a:pt x="294" y="604"/>
                  </a:lnTo>
                  <a:lnTo>
                    <a:pt x="292" y="624"/>
                  </a:lnTo>
                  <a:lnTo>
                    <a:pt x="292" y="636"/>
                  </a:lnTo>
                  <a:lnTo>
                    <a:pt x="272" y="654"/>
                  </a:lnTo>
                  <a:lnTo>
                    <a:pt x="274" y="672"/>
                  </a:lnTo>
                  <a:lnTo>
                    <a:pt x="253" y="695"/>
                  </a:lnTo>
                  <a:lnTo>
                    <a:pt x="253" y="725"/>
                  </a:lnTo>
                  <a:lnTo>
                    <a:pt x="269" y="748"/>
                  </a:lnTo>
                  <a:lnTo>
                    <a:pt x="260" y="763"/>
                  </a:lnTo>
                  <a:lnTo>
                    <a:pt x="240" y="752"/>
                  </a:lnTo>
                  <a:lnTo>
                    <a:pt x="233" y="725"/>
                  </a:lnTo>
                  <a:lnTo>
                    <a:pt x="214" y="709"/>
                  </a:lnTo>
                  <a:lnTo>
                    <a:pt x="196" y="711"/>
                  </a:lnTo>
                  <a:lnTo>
                    <a:pt x="187" y="732"/>
                  </a:lnTo>
                  <a:lnTo>
                    <a:pt x="166" y="725"/>
                  </a:lnTo>
                  <a:lnTo>
                    <a:pt x="144" y="725"/>
                  </a:lnTo>
                  <a:lnTo>
                    <a:pt x="118" y="746"/>
                  </a:lnTo>
                  <a:lnTo>
                    <a:pt x="114" y="763"/>
                  </a:lnTo>
                  <a:lnTo>
                    <a:pt x="107" y="783"/>
                  </a:lnTo>
                  <a:lnTo>
                    <a:pt x="105" y="817"/>
                  </a:lnTo>
                  <a:lnTo>
                    <a:pt x="118" y="836"/>
                  </a:lnTo>
                  <a:lnTo>
                    <a:pt x="139" y="822"/>
                  </a:lnTo>
                  <a:lnTo>
                    <a:pt x="164" y="822"/>
                  </a:lnTo>
                  <a:lnTo>
                    <a:pt x="166" y="850"/>
                  </a:lnTo>
                  <a:lnTo>
                    <a:pt x="150" y="870"/>
                  </a:lnTo>
                  <a:lnTo>
                    <a:pt x="178" y="872"/>
                  </a:lnTo>
                  <a:lnTo>
                    <a:pt x="189" y="877"/>
                  </a:lnTo>
                  <a:lnTo>
                    <a:pt x="196" y="902"/>
                  </a:lnTo>
                  <a:lnTo>
                    <a:pt x="219" y="916"/>
                  </a:lnTo>
                  <a:lnTo>
                    <a:pt x="246" y="934"/>
                  </a:lnTo>
                  <a:lnTo>
                    <a:pt x="267" y="920"/>
                  </a:lnTo>
                  <a:lnTo>
                    <a:pt x="308" y="934"/>
                  </a:lnTo>
                  <a:lnTo>
                    <a:pt x="338" y="939"/>
                  </a:lnTo>
                  <a:lnTo>
                    <a:pt x="384" y="962"/>
                  </a:lnTo>
                  <a:lnTo>
                    <a:pt x="393" y="980"/>
                  </a:lnTo>
                  <a:lnTo>
                    <a:pt x="420" y="1003"/>
                  </a:lnTo>
                  <a:lnTo>
                    <a:pt x="434" y="1037"/>
                  </a:lnTo>
                  <a:lnTo>
                    <a:pt x="466" y="1051"/>
                  </a:lnTo>
                  <a:lnTo>
                    <a:pt x="496" y="1056"/>
                  </a:lnTo>
                  <a:lnTo>
                    <a:pt x="523" y="1081"/>
                  </a:lnTo>
                  <a:lnTo>
                    <a:pt x="562" y="1081"/>
                  </a:lnTo>
                  <a:lnTo>
                    <a:pt x="564" y="1104"/>
                  </a:lnTo>
                  <a:lnTo>
                    <a:pt x="564" y="1126"/>
                  </a:lnTo>
                  <a:lnTo>
                    <a:pt x="546" y="1149"/>
                  </a:lnTo>
                  <a:lnTo>
                    <a:pt x="544" y="1181"/>
                  </a:lnTo>
                  <a:lnTo>
                    <a:pt x="539" y="1209"/>
                  </a:lnTo>
                  <a:lnTo>
                    <a:pt x="519" y="1236"/>
                  </a:lnTo>
                  <a:lnTo>
                    <a:pt x="489" y="1250"/>
                  </a:lnTo>
                  <a:lnTo>
                    <a:pt x="464" y="1257"/>
                  </a:lnTo>
                  <a:lnTo>
                    <a:pt x="475" y="1282"/>
                  </a:lnTo>
                  <a:lnTo>
                    <a:pt x="452" y="1307"/>
                  </a:lnTo>
                  <a:lnTo>
                    <a:pt x="432" y="1330"/>
                  </a:lnTo>
                  <a:lnTo>
                    <a:pt x="407" y="1344"/>
                  </a:lnTo>
                  <a:lnTo>
                    <a:pt x="386" y="1378"/>
                  </a:lnTo>
                  <a:lnTo>
                    <a:pt x="374" y="1401"/>
                  </a:lnTo>
                  <a:lnTo>
                    <a:pt x="352" y="1413"/>
                  </a:lnTo>
                  <a:lnTo>
                    <a:pt x="336" y="1433"/>
                  </a:lnTo>
                  <a:lnTo>
                    <a:pt x="322" y="1454"/>
                  </a:lnTo>
                  <a:lnTo>
                    <a:pt x="313" y="1474"/>
                  </a:lnTo>
                  <a:lnTo>
                    <a:pt x="315" y="1493"/>
                  </a:lnTo>
                  <a:lnTo>
                    <a:pt x="304" y="1509"/>
                  </a:lnTo>
                  <a:lnTo>
                    <a:pt x="288" y="1481"/>
                  </a:lnTo>
                  <a:lnTo>
                    <a:pt x="262" y="1458"/>
                  </a:lnTo>
                  <a:lnTo>
                    <a:pt x="253" y="1429"/>
                  </a:lnTo>
                  <a:lnTo>
                    <a:pt x="253" y="1401"/>
                  </a:lnTo>
                  <a:lnTo>
                    <a:pt x="251" y="1367"/>
                  </a:lnTo>
                  <a:lnTo>
                    <a:pt x="262" y="1323"/>
                  </a:lnTo>
                  <a:lnTo>
                    <a:pt x="267" y="1282"/>
                  </a:lnTo>
                  <a:lnTo>
                    <a:pt x="260" y="1241"/>
                  </a:lnTo>
                  <a:lnTo>
                    <a:pt x="251" y="1209"/>
                  </a:lnTo>
                  <a:lnTo>
                    <a:pt x="226" y="1181"/>
                  </a:lnTo>
                  <a:lnTo>
                    <a:pt x="198" y="1158"/>
                  </a:lnTo>
                  <a:lnTo>
                    <a:pt x="178" y="1124"/>
                  </a:lnTo>
                  <a:lnTo>
                    <a:pt x="173" y="1088"/>
                  </a:lnTo>
                  <a:lnTo>
                    <a:pt x="187" y="1062"/>
                  </a:lnTo>
                  <a:lnTo>
                    <a:pt x="187" y="1039"/>
                  </a:lnTo>
                  <a:lnTo>
                    <a:pt x="198" y="1001"/>
                  </a:lnTo>
                  <a:lnTo>
                    <a:pt x="217" y="973"/>
                  </a:lnTo>
                  <a:lnTo>
                    <a:pt x="240" y="955"/>
                  </a:lnTo>
                  <a:lnTo>
                    <a:pt x="249" y="939"/>
                  </a:lnTo>
                  <a:lnTo>
                    <a:pt x="219" y="927"/>
                  </a:lnTo>
                  <a:lnTo>
                    <a:pt x="201" y="934"/>
                  </a:lnTo>
                  <a:lnTo>
                    <a:pt x="185" y="925"/>
                  </a:lnTo>
                  <a:lnTo>
                    <a:pt x="160" y="907"/>
                  </a:lnTo>
                  <a:lnTo>
                    <a:pt x="137" y="891"/>
                  </a:lnTo>
                  <a:lnTo>
                    <a:pt x="125" y="866"/>
                  </a:lnTo>
                  <a:lnTo>
                    <a:pt x="114" y="859"/>
                  </a:lnTo>
                  <a:lnTo>
                    <a:pt x="102" y="870"/>
                  </a:lnTo>
                  <a:lnTo>
                    <a:pt x="75" y="854"/>
                  </a:lnTo>
                  <a:lnTo>
                    <a:pt x="61" y="834"/>
                  </a:lnTo>
                  <a:lnTo>
                    <a:pt x="50" y="817"/>
                  </a:lnTo>
                  <a:lnTo>
                    <a:pt x="50" y="788"/>
                  </a:lnTo>
                  <a:lnTo>
                    <a:pt x="45" y="774"/>
                  </a:lnTo>
                  <a:lnTo>
                    <a:pt x="25" y="756"/>
                  </a:lnTo>
                  <a:lnTo>
                    <a:pt x="25" y="772"/>
                  </a:lnTo>
                  <a:lnTo>
                    <a:pt x="36" y="792"/>
                  </a:lnTo>
                  <a:lnTo>
                    <a:pt x="41" y="811"/>
                  </a:lnTo>
                  <a:lnTo>
                    <a:pt x="20" y="797"/>
                  </a:lnTo>
                  <a:lnTo>
                    <a:pt x="6" y="781"/>
                  </a:lnTo>
                  <a:lnTo>
                    <a:pt x="2" y="758"/>
                  </a:lnTo>
                  <a:lnTo>
                    <a:pt x="4" y="723"/>
                  </a:lnTo>
                  <a:lnTo>
                    <a:pt x="0" y="675"/>
                  </a:lnTo>
                  <a:lnTo>
                    <a:pt x="4" y="613"/>
                  </a:lnTo>
                  <a:lnTo>
                    <a:pt x="20" y="526"/>
                  </a:lnTo>
                  <a:lnTo>
                    <a:pt x="48" y="437"/>
                  </a:lnTo>
                  <a:lnTo>
                    <a:pt x="93" y="334"/>
                  </a:lnTo>
                  <a:lnTo>
                    <a:pt x="130" y="260"/>
                  </a:lnTo>
                  <a:lnTo>
                    <a:pt x="185" y="178"/>
                  </a:lnTo>
                  <a:lnTo>
                    <a:pt x="228" y="130"/>
                  </a:lnTo>
                  <a:close/>
                </a:path>
              </a:pathLst>
            </a:custGeom>
            <a:solidFill>
              <a:srgbClr val="2144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03720" y="1413000"/>
              <a:ext cx="743400" cy="541800"/>
            </a:xfrm>
            <a:custGeom>
              <a:avLst/>
              <a:gdLst/>
              <a:ahLst/>
              <a:rect l="0" t="0" r="r" b="b"/>
              <a:pathLst>
                <a:path w="2065" h="1505">
                  <a:moveTo>
                    <a:pt x="210" y="137"/>
                  </a:moveTo>
                  <a:lnTo>
                    <a:pt x="235" y="135"/>
                  </a:lnTo>
                  <a:lnTo>
                    <a:pt x="253" y="116"/>
                  </a:lnTo>
                  <a:lnTo>
                    <a:pt x="274" y="105"/>
                  </a:lnTo>
                  <a:lnTo>
                    <a:pt x="285" y="91"/>
                  </a:lnTo>
                  <a:lnTo>
                    <a:pt x="311" y="75"/>
                  </a:lnTo>
                  <a:lnTo>
                    <a:pt x="331" y="68"/>
                  </a:lnTo>
                  <a:lnTo>
                    <a:pt x="352" y="61"/>
                  </a:lnTo>
                  <a:lnTo>
                    <a:pt x="368" y="61"/>
                  </a:lnTo>
                  <a:lnTo>
                    <a:pt x="379" y="54"/>
                  </a:lnTo>
                  <a:lnTo>
                    <a:pt x="398" y="54"/>
                  </a:lnTo>
                  <a:lnTo>
                    <a:pt x="404" y="43"/>
                  </a:lnTo>
                  <a:lnTo>
                    <a:pt x="425" y="48"/>
                  </a:lnTo>
                  <a:lnTo>
                    <a:pt x="446" y="36"/>
                  </a:lnTo>
                  <a:lnTo>
                    <a:pt x="462" y="43"/>
                  </a:lnTo>
                  <a:lnTo>
                    <a:pt x="471" y="52"/>
                  </a:lnTo>
                  <a:lnTo>
                    <a:pt x="462" y="61"/>
                  </a:lnTo>
                  <a:lnTo>
                    <a:pt x="446" y="54"/>
                  </a:lnTo>
                  <a:lnTo>
                    <a:pt x="430" y="64"/>
                  </a:lnTo>
                  <a:lnTo>
                    <a:pt x="420" y="77"/>
                  </a:lnTo>
                  <a:lnTo>
                    <a:pt x="416" y="93"/>
                  </a:lnTo>
                  <a:lnTo>
                    <a:pt x="400" y="96"/>
                  </a:lnTo>
                  <a:lnTo>
                    <a:pt x="379" y="105"/>
                  </a:lnTo>
                  <a:lnTo>
                    <a:pt x="377" y="128"/>
                  </a:lnTo>
                  <a:lnTo>
                    <a:pt x="375" y="146"/>
                  </a:lnTo>
                  <a:lnTo>
                    <a:pt x="368" y="160"/>
                  </a:lnTo>
                  <a:lnTo>
                    <a:pt x="377" y="173"/>
                  </a:lnTo>
                  <a:lnTo>
                    <a:pt x="386" y="137"/>
                  </a:lnTo>
                  <a:lnTo>
                    <a:pt x="400" y="130"/>
                  </a:lnTo>
                  <a:lnTo>
                    <a:pt x="416" y="112"/>
                  </a:lnTo>
                  <a:lnTo>
                    <a:pt x="427" y="86"/>
                  </a:lnTo>
                  <a:lnTo>
                    <a:pt x="455" y="82"/>
                  </a:lnTo>
                  <a:lnTo>
                    <a:pt x="478" y="70"/>
                  </a:lnTo>
                  <a:lnTo>
                    <a:pt x="491" y="50"/>
                  </a:lnTo>
                  <a:lnTo>
                    <a:pt x="510" y="50"/>
                  </a:lnTo>
                  <a:lnTo>
                    <a:pt x="554" y="48"/>
                  </a:lnTo>
                  <a:lnTo>
                    <a:pt x="600" y="36"/>
                  </a:lnTo>
                  <a:lnTo>
                    <a:pt x="614" y="36"/>
                  </a:lnTo>
                  <a:lnTo>
                    <a:pt x="634" y="36"/>
                  </a:lnTo>
                  <a:lnTo>
                    <a:pt x="655" y="36"/>
                  </a:lnTo>
                  <a:lnTo>
                    <a:pt x="673" y="43"/>
                  </a:lnTo>
                  <a:lnTo>
                    <a:pt x="696" y="61"/>
                  </a:lnTo>
                  <a:lnTo>
                    <a:pt x="687" y="64"/>
                  </a:lnTo>
                  <a:lnTo>
                    <a:pt x="662" y="73"/>
                  </a:lnTo>
                  <a:lnTo>
                    <a:pt x="664" y="93"/>
                  </a:lnTo>
                  <a:lnTo>
                    <a:pt x="685" y="96"/>
                  </a:lnTo>
                  <a:lnTo>
                    <a:pt x="694" y="96"/>
                  </a:lnTo>
                  <a:lnTo>
                    <a:pt x="689" y="112"/>
                  </a:lnTo>
                  <a:lnTo>
                    <a:pt x="664" y="135"/>
                  </a:lnTo>
                  <a:lnTo>
                    <a:pt x="650" y="137"/>
                  </a:lnTo>
                  <a:lnTo>
                    <a:pt x="653" y="151"/>
                  </a:lnTo>
                  <a:lnTo>
                    <a:pt x="657" y="160"/>
                  </a:lnTo>
                  <a:lnTo>
                    <a:pt x="650" y="173"/>
                  </a:lnTo>
                  <a:lnTo>
                    <a:pt x="662" y="192"/>
                  </a:lnTo>
                  <a:lnTo>
                    <a:pt x="637" y="199"/>
                  </a:lnTo>
                  <a:lnTo>
                    <a:pt x="614" y="205"/>
                  </a:lnTo>
                  <a:lnTo>
                    <a:pt x="611" y="231"/>
                  </a:lnTo>
                  <a:lnTo>
                    <a:pt x="600" y="251"/>
                  </a:lnTo>
                  <a:lnTo>
                    <a:pt x="584" y="267"/>
                  </a:lnTo>
                  <a:lnTo>
                    <a:pt x="563" y="276"/>
                  </a:lnTo>
                  <a:lnTo>
                    <a:pt x="611" y="276"/>
                  </a:lnTo>
                  <a:lnTo>
                    <a:pt x="637" y="276"/>
                  </a:lnTo>
                  <a:lnTo>
                    <a:pt x="653" y="281"/>
                  </a:lnTo>
                  <a:lnTo>
                    <a:pt x="673" y="272"/>
                  </a:lnTo>
                  <a:lnTo>
                    <a:pt x="685" y="292"/>
                  </a:lnTo>
                  <a:lnTo>
                    <a:pt x="952" y="292"/>
                  </a:lnTo>
                  <a:lnTo>
                    <a:pt x="961" y="276"/>
                  </a:lnTo>
                  <a:lnTo>
                    <a:pt x="991" y="256"/>
                  </a:lnTo>
                  <a:lnTo>
                    <a:pt x="1003" y="228"/>
                  </a:lnTo>
                  <a:lnTo>
                    <a:pt x="1026" y="201"/>
                  </a:lnTo>
                  <a:lnTo>
                    <a:pt x="1039" y="178"/>
                  </a:lnTo>
                  <a:lnTo>
                    <a:pt x="1048" y="153"/>
                  </a:lnTo>
                  <a:lnTo>
                    <a:pt x="1069" y="146"/>
                  </a:lnTo>
                  <a:lnTo>
                    <a:pt x="1076" y="130"/>
                  </a:lnTo>
                  <a:lnTo>
                    <a:pt x="1092" y="137"/>
                  </a:lnTo>
                  <a:lnTo>
                    <a:pt x="1108" y="123"/>
                  </a:lnTo>
                  <a:lnTo>
                    <a:pt x="1122" y="135"/>
                  </a:lnTo>
                  <a:lnTo>
                    <a:pt x="1142" y="144"/>
                  </a:lnTo>
                  <a:lnTo>
                    <a:pt x="1161" y="148"/>
                  </a:lnTo>
                  <a:lnTo>
                    <a:pt x="1181" y="153"/>
                  </a:lnTo>
                  <a:lnTo>
                    <a:pt x="1195" y="146"/>
                  </a:lnTo>
                  <a:lnTo>
                    <a:pt x="1213" y="155"/>
                  </a:lnTo>
                  <a:lnTo>
                    <a:pt x="1227" y="173"/>
                  </a:lnTo>
                  <a:lnTo>
                    <a:pt x="1250" y="178"/>
                  </a:lnTo>
                  <a:lnTo>
                    <a:pt x="1254" y="199"/>
                  </a:lnTo>
                  <a:lnTo>
                    <a:pt x="1247" y="212"/>
                  </a:lnTo>
                  <a:lnTo>
                    <a:pt x="1215" y="205"/>
                  </a:lnTo>
                  <a:lnTo>
                    <a:pt x="1193" y="196"/>
                  </a:lnTo>
                  <a:lnTo>
                    <a:pt x="1190" y="212"/>
                  </a:lnTo>
                  <a:lnTo>
                    <a:pt x="1222" y="217"/>
                  </a:lnTo>
                  <a:lnTo>
                    <a:pt x="1247" y="235"/>
                  </a:lnTo>
                  <a:lnTo>
                    <a:pt x="1282" y="222"/>
                  </a:lnTo>
                  <a:lnTo>
                    <a:pt x="1291" y="194"/>
                  </a:lnTo>
                  <a:lnTo>
                    <a:pt x="1307" y="171"/>
                  </a:lnTo>
                  <a:lnTo>
                    <a:pt x="1328" y="176"/>
                  </a:lnTo>
                  <a:lnTo>
                    <a:pt x="1323" y="187"/>
                  </a:lnTo>
                  <a:lnTo>
                    <a:pt x="1312" y="199"/>
                  </a:lnTo>
                  <a:lnTo>
                    <a:pt x="1312" y="217"/>
                  </a:lnTo>
                  <a:lnTo>
                    <a:pt x="1332" y="196"/>
                  </a:lnTo>
                  <a:lnTo>
                    <a:pt x="1353" y="178"/>
                  </a:lnTo>
                  <a:lnTo>
                    <a:pt x="1387" y="173"/>
                  </a:lnTo>
                  <a:lnTo>
                    <a:pt x="1428" y="160"/>
                  </a:lnTo>
                  <a:lnTo>
                    <a:pt x="1460" y="146"/>
                  </a:lnTo>
                  <a:lnTo>
                    <a:pt x="1467" y="128"/>
                  </a:lnTo>
                  <a:lnTo>
                    <a:pt x="1440" y="130"/>
                  </a:lnTo>
                  <a:lnTo>
                    <a:pt x="1417" y="112"/>
                  </a:lnTo>
                  <a:lnTo>
                    <a:pt x="1401" y="86"/>
                  </a:lnTo>
                  <a:lnTo>
                    <a:pt x="1417" y="54"/>
                  </a:lnTo>
                  <a:lnTo>
                    <a:pt x="1442" y="34"/>
                  </a:lnTo>
                  <a:lnTo>
                    <a:pt x="1463" y="11"/>
                  </a:lnTo>
                  <a:lnTo>
                    <a:pt x="1495" y="11"/>
                  </a:lnTo>
                  <a:lnTo>
                    <a:pt x="1520" y="0"/>
                  </a:lnTo>
                  <a:lnTo>
                    <a:pt x="1517" y="16"/>
                  </a:lnTo>
                  <a:lnTo>
                    <a:pt x="1497" y="20"/>
                  </a:lnTo>
                  <a:lnTo>
                    <a:pt x="1490" y="27"/>
                  </a:lnTo>
                  <a:lnTo>
                    <a:pt x="1469" y="29"/>
                  </a:lnTo>
                  <a:lnTo>
                    <a:pt x="1456" y="48"/>
                  </a:lnTo>
                  <a:lnTo>
                    <a:pt x="1446" y="68"/>
                  </a:lnTo>
                  <a:lnTo>
                    <a:pt x="1440" y="86"/>
                  </a:lnTo>
                  <a:lnTo>
                    <a:pt x="1463" y="123"/>
                  </a:lnTo>
                  <a:lnTo>
                    <a:pt x="1499" y="137"/>
                  </a:lnTo>
                  <a:lnTo>
                    <a:pt x="1524" y="151"/>
                  </a:lnTo>
                  <a:lnTo>
                    <a:pt x="1538" y="155"/>
                  </a:lnTo>
                  <a:lnTo>
                    <a:pt x="1550" y="173"/>
                  </a:lnTo>
                  <a:lnTo>
                    <a:pt x="1562" y="171"/>
                  </a:lnTo>
                  <a:lnTo>
                    <a:pt x="1562" y="155"/>
                  </a:lnTo>
                  <a:lnTo>
                    <a:pt x="1555" y="137"/>
                  </a:lnTo>
                  <a:lnTo>
                    <a:pt x="1543" y="125"/>
                  </a:lnTo>
                  <a:lnTo>
                    <a:pt x="1540" y="112"/>
                  </a:lnTo>
                  <a:lnTo>
                    <a:pt x="1550" y="86"/>
                  </a:lnTo>
                  <a:lnTo>
                    <a:pt x="1576" y="86"/>
                  </a:lnTo>
                  <a:lnTo>
                    <a:pt x="1596" y="86"/>
                  </a:lnTo>
                  <a:lnTo>
                    <a:pt x="1605" y="96"/>
                  </a:lnTo>
                  <a:lnTo>
                    <a:pt x="1612" y="119"/>
                  </a:lnTo>
                  <a:lnTo>
                    <a:pt x="1621" y="137"/>
                  </a:lnTo>
                  <a:lnTo>
                    <a:pt x="1626" y="119"/>
                  </a:lnTo>
                  <a:lnTo>
                    <a:pt x="1644" y="105"/>
                  </a:lnTo>
                  <a:lnTo>
                    <a:pt x="1665" y="105"/>
                  </a:lnTo>
                  <a:lnTo>
                    <a:pt x="1681" y="105"/>
                  </a:lnTo>
                  <a:lnTo>
                    <a:pt x="1699" y="107"/>
                  </a:lnTo>
                  <a:lnTo>
                    <a:pt x="1699" y="86"/>
                  </a:lnTo>
                  <a:lnTo>
                    <a:pt x="1715" y="86"/>
                  </a:lnTo>
                  <a:lnTo>
                    <a:pt x="1724" y="102"/>
                  </a:lnTo>
                  <a:lnTo>
                    <a:pt x="1747" y="102"/>
                  </a:lnTo>
                  <a:lnTo>
                    <a:pt x="1768" y="93"/>
                  </a:lnTo>
                  <a:lnTo>
                    <a:pt x="1788" y="112"/>
                  </a:lnTo>
                  <a:lnTo>
                    <a:pt x="1814" y="135"/>
                  </a:lnTo>
                  <a:lnTo>
                    <a:pt x="1841" y="137"/>
                  </a:lnTo>
                  <a:lnTo>
                    <a:pt x="1875" y="153"/>
                  </a:lnTo>
                  <a:lnTo>
                    <a:pt x="1887" y="151"/>
                  </a:lnTo>
                  <a:lnTo>
                    <a:pt x="1914" y="196"/>
                  </a:lnTo>
                  <a:lnTo>
                    <a:pt x="1953" y="267"/>
                  </a:lnTo>
                  <a:lnTo>
                    <a:pt x="1983" y="311"/>
                  </a:lnTo>
                  <a:lnTo>
                    <a:pt x="1997" y="352"/>
                  </a:lnTo>
                  <a:lnTo>
                    <a:pt x="1976" y="361"/>
                  </a:lnTo>
                  <a:lnTo>
                    <a:pt x="1969" y="380"/>
                  </a:lnTo>
                  <a:lnTo>
                    <a:pt x="1976" y="415"/>
                  </a:lnTo>
                  <a:lnTo>
                    <a:pt x="1990" y="447"/>
                  </a:lnTo>
                  <a:lnTo>
                    <a:pt x="2003" y="447"/>
                  </a:lnTo>
                  <a:lnTo>
                    <a:pt x="2003" y="422"/>
                  </a:lnTo>
                  <a:lnTo>
                    <a:pt x="2017" y="415"/>
                  </a:lnTo>
                  <a:lnTo>
                    <a:pt x="2026" y="438"/>
                  </a:lnTo>
                  <a:lnTo>
                    <a:pt x="2008" y="447"/>
                  </a:lnTo>
                  <a:lnTo>
                    <a:pt x="2036" y="470"/>
                  </a:lnTo>
                  <a:lnTo>
                    <a:pt x="2015" y="497"/>
                  </a:lnTo>
                  <a:lnTo>
                    <a:pt x="2010" y="511"/>
                  </a:lnTo>
                  <a:lnTo>
                    <a:pt x="2045" y="520"/>
                  </a:lnTo>
                  <a:lnTo>
                    <a:pt x="2029" y="538"/>
                  </a:lnTo>
                  <a:lnTo>
                    <a:pt x="2013" y="545"/>
                  </a:lnTo>
                  <a:lnTo>
                    <a:pt x="2013" y="577"/>
                  </a:lnTo>
                  <a:lnTo>
                    <a:pt x="2029" y="605"/>
                  </a:lnTo>
                  <a:lnTo>
                    <a:pt x="2013" y="612"/>
                  </a:lnTo>
                  <a:lnTo>
                    <a:pt x="1983" y="602"/>
                  </a:lnTo>
                  <a:lnTo>
                    <a:pt x="1994" y="589"/>
                  </a:lnTo>
                  <a:lnTo>
                    <a:pt x="2015" y="589"/>
                  </a:lnTo>
                  <a:lnTo>
                    <a:pt x="2015" y="552"/>
                  </a:lnTo>
                  <a:lnTo>
                    <a:pt x="1992" y="564"/>
                  </a:lnTo>
                  <a:lnTo>
                    <a:pt x="1990" y="538"/>
                  </a:lnTo>
                  <a:lnTo>
                    <a:pt x="2010" y="520"/>
                  </a:lnTo>
                  <a:lnTo>
                    <a:pt x="2015" y="499"/>
                  </a:lnTo>
                  <a:lnTo>
                    <a:pt x="2003" y="474"/>
                  </a:lnTo>
                  <a:lnTo>
                    <a:pt x="2003" y="445"/>
                  </a:lnTo>
                  <a:lnTo>
                    <a:pt x="1987" y="456"/>
                  </a:lnTo>
                  <a:lnTo>
                    <a:pt x="1971" y="479"/>
                  </a:lnTo>
                  <a:lnTo>
                    <a:pt x="1946" y="499"/>
                  </a:lnTo>
                  <a:lnTo>
                    <a:pt x="1953" y="527"/>
                  </a:lnTo>
                  <a:lnTo>
                    <a:pt x="1951" y="552"/>
                  </a:lnTo>
                  <a:lnTo>
                    <a:pt x="1951" y="568"/>
                  </a:lnTo>
                  <a:lnTo>
                    <a:pt x="1965" y="589"/>
                  </a:lnTo>
                  <a:lnTo>
                    <a:pt x="1953" y="600"/>
                  </a:lnTo>
                  <a:lnTo>
                    <a:pt x="1928" y="573"/>
                  </a:lnTo>
                  <a:lnTo>
                    <a:pt x="1914" y="545"/>
                  </a:lnTo>
                  <a:lnTo>
                    <a:pt x="1905" y="525"/>
                  </a:lnTo>
                  <a:lnTo>
                    <a:pt x="1894" y="515"/>
                  </a:lnTo>
                  <a:lnTo>
                    <a:pt x="1873" y="527"/>
                  </a:lnTo>
                  <a:lnTo>
                    <a:pt x="1864" y="548"/>
                  </a:lnTo>
                  <a:lnTo>
                    <a:pt x="1889" y="573"/>
                  </a:lnTo>
                  <a:lnTo>
                    <a:pt x="1903" y="600"/>
                  </a:lnTo>
                  <a:lnTo>
                    <a:pt x="1905" y="632"/>
                  </a:lnTo>
                  <a:lnTo>
                    <a:pt x="1903" y="664"/>
                  </a:lnTo>
                  <a:lnTo>
                    <a:pt x="1903" y="689"/>
                  </a:lnTo>
                  <a:lnTo>
                    <a:pt x="1917" y="671"/>
                  </a:lnTo>
                  <a:lnTo>
                    <a:pt x="1937" y="673"/>
                  </a:lnTo>
                  <a:lnTo>
                    <a:pt x="1944" y="694"/>
                  </a:lnTo>
                  <a:lnTo>
                    <a:pt x="1928" y="715"/>
                  </a:lnTo>
                  <a:lnTo>
                    <a:pt x="1910" y="712"/>
                  </a:lnTo>
                  <a:lnTo>
                    <a:pt x="1905" y="731"/>
                  </a:lnTo>
                  <a:lnTo>
                    <a:pt x="1921" y="749"/>
                  </a:lnTo>
                  <a:lnTo>
                    <a:pt x="1914" y="772"/>
                  </a:lnTo>
                  <a:lnTo>
                    <a:pt x="1935" y="790"/>
                  </a:lnTo>
                  <a:lnTo>
                    <a:pt x="1921" y="806"/>
                  </a:lnTo>
                  <a:lnTo>
                    <a:pt x="1942" y="827"/>
                  </a:lnTo>
                  <a:lnTo>
                    <a:pt x="1928" y="847"/>
                  </a:lnTo>
                  <a:lnTo>
                    <a:pt x="1951" y="834"/>
                  </a:lnTo>
                  <a:lnTo>
                    <a:pt x="1944" y="854"/>
                  </a:lnTo>
                  <a:lnTo>
                    <a:pt x="1985" y="847"/>
                  </a:lnTo>
                  <a:lnTo>
                    <a:pt x="1971" y="873"/>
                  </a:lnTo>
                  <a:lnTo>
                    <a:pt x="1944" y="854"/>
                  </a:lnTo>
                  <a:lnTo>
                    <a:pt x="1942" y="882"/>
                  </a:lnTo>
                  <a:lnTo>
                    <a:pt x="1983" y="879"/>
                  </a:lnTo>
                  <a:lnTo>
                    <a:pt x="1965" y="909"/>
                  </a:lnTo>
                  <a:lnTo>
                    <a:pt x="1937" y="877"/>
                  </a:lnTo>
                  <a:lnTo>
                    <a:pt x="1951" y="921"/>
                  </a:lnTo>
                  <a:lnTo>
                    <a:pt x="1985" y="950"/>
                  </a:lnTo>
                  <a:lnTo>
                    <a:pt x="1953" y="950"/>
                  </a:lnTo>
                  <a:lnTo>
                    <a:pt x="1937" y="882"/>
                  </a:lnTo>
                  <a:lnTo>
                    <a:pt x="1944" y="838"/>
                  </a:lnTo>
                  <a:lnTo>
                    <a:pt x="1921" y="838"/>
                  </a:lnTo>
                  <a:lnTo>
                    <a:pt x="1903" y="813"/>
                  </a:lnTo>
                  <a:lnTo>
                    <a:pt x="1921" y="804"/>
                  </a:lnTo>
                  <a:lnTo>
                    <a:pt x="1921" y="776"/>
                  </a:lnTo>
                  <a:lnTo>
                    <a:pt x="1910" y="724"/>
                  </a:lnTo>
                  <a:lnTo>
                    <a:pt x="1905" y="687"/>
                  </a:lnTo>
                  <a:lnTo>
                    <a:pt x="1903" y="660"/>
                  </a:lnTo>
                  <a:lnTo>
                    <a:pt x="1880" y="689"/>
                  </a:lnTo>
                  <a:lnTo>
                    <a:pt x="1846" y="703"/>
                  </a:lnTo>
                  <a:lnTo>
                    <a:pt x="1827" y="726"/>
                  </a:lnTo>
                  <a:lnTo>
                    <a:pt x="1834" y="751"/>
                  </a:lnTo>
                  <a:lnTo>
                    <a:pt x="1820" y="772"/>
                  </a:lnTo>
                  <a:lnTo>
                    <a:pt x="1798" y="765"/>
                  </a:lnTo>
                  <a:lnTo>
                    <a:pt x="1818" y="737"/>
                  </a:lnTo>
                  <a:lnTo>
                    <a:pt x="1802" y="728"/>
                  </a:lnTo>
                  <a:lnTo>
                    <a:pt x="1784" y="744"/>
                  </a:lnTo>
                  <a:lnTo>
                    <a:pt x="1784" y="770"/>
                  </a:lnTo>
                  <a:lnTo>
                    <a:pt x="1818" y="804"/>
                  </a:lnTo>
                  <a:lnTo>
                    <a:pt x="1827" y="829"/>
                  </a:lnTo>
                  <a:lnTo>
                    <a:pt x="1800" y="866"/>
                  </a:lnTo>
                  <a:lnTo>
                    <a:pt x="1800" y="943"/>
                  </a:lnTo>
                  <a:lnTo>
                    <a:pt x="1800" y="978"/>
                  </a:lnTo>
                  <a:lnTo>
                    <a:pt x="1804" y="998"/>
                  </a:lnTo>
                  <a:lnTo>
                    <a:pt x="1843" y="996"/>
                  </a:lnTo>
                  <a:lnTo>
                    <a:pt x="1868" y="1001"/>
                  </a:lnTo>
                  <a:lnTo>
                    <a:pt x="1887" y="971"/>
                  </a:lnTo>
                  <a:lnTo>
                    <a:pt x="1905" y="971"/>
                  </a:lnTo>
                  <a:lnTo>
                    <a:pt x="1896" y="989"/>
                  </a:lnTo>
                  <a:lnTo>
                    <a:pt x="1921" y="1010"/>
                  </a:lnTo>
                  <a:lnTo>
                    <a:pt x="1951" y="1014"/>
                  </a:lnTo>
                  <a:lnTo>
                    <a:pt x="1946" y="996"/>
                  </a:lnTo>
                  <a:lnTo>
                    <a:pt x="2013" y="996"/>
                  </a:lnTo>
                  <a:lnTo>
                    <a:pt x="1990" y="1003"/>
                  </a:lnTo>
                  <a:lnTo>
                    <a:pt x="1987" y="1021"/>
                  </a:lnTo>
                  <a:lnTo>
                    <a:pt x="2017" y="1030"/>
                  </a:lnTo>
                  <a:lnTo>
                    <a:pt x="2047" y="1040"/>
                  </a:lnTo>
                  <a:lnTo>
                    <a:pt x="2061" y="1005"/>
                  </a:lnTo>
                  <a:lnTo>
                    <a:pt x="2065" y="989"/>
                  </a:lnTo>
                  <a:lnTo>
                    <a:pt x="2045" y="992"/>
                  </a:lnTo>
                  <a:lnTo>
                    <a:pt x="2026" y="980"/>
                  </a:lnTo>
                  <a:lnTo>
                    <a:pt x="2013" y="976"/>
                  </a:lnTo>
                  <a:lnTo>
                    <a:pt x="2003" y="1001"/>
                  </a:lnTo>
                  <a:lnTo>
                    <a:pt x="2003" y="998"/>
                  </a:lnTo>
                  <a:lnTo>
                    <a:pt x="1942" y="998"/>
                  </a:lnTo>
                  <a:lnTo>
                    <a:pt x="1928" y="964"/>
                  </a:lnTo>
                  <a:lnTo>
                    <a:pt x="1910" y="973"/>
                  </a:lnTo>
                  <a:lnTo>
                    <a:pt x="1889" y="971"/>
                  </a:lnTo>
                  <a:lnTo>
                    <a:pt x="1880" y="934"/>
                  </a:lnTo>
                  <a:lnTo>
                    <a:pt x="1871" y="914"/>
                  </a:lnTo>
                  <a:lnTo>
                    <a:pt x="1891" y="902"/>
                  </a:lnTo>
                  <a:lnTo>
                    <a:pt x="1891" y="882"/>
                  </a:lnTo>
                  <a:lnTo>
                    <a:pt x="1862" y="895"/>
                  </a:lnTo>
                  <a:lnTo>
                    <a:pt x="1841" y="914"/>
                  </a:lnTo>
                  <a:lnTo>
                    <a:pt x="1827" y="939"/>
                  </a:lnTo>
                  <a:lnTo>
                    <a:pt x="1800" y="939"/>
                  </a:lnTo>
                  <a:lnTo>
                    <a:pt x="1800" y="875"/>
                  </a:lnTo>
                  <a:lnTo>
                    <a:pt x="1786" y="889"/>
                  </a:lnTo>
                  <a:lnTo>
                    <a:pt x="1768" y="859"/>
                  </a:lnTo>
                  <a:lnTo>
                    <a:pt x="1745" y="831"/>
                  </a:lnTo>
                  <a:lnTo>
                    <a:pt x="1717" y="838"/>
                  </a:lnTo>
                  <a:lnTo>
                    <a:pt x="1715" y="866"/>
                  </a:lnTo>
                  <a:lnTo>
                    <a:pt x="1727" y="900"/>
                  </a:lnTo>
                  <a:lnTo>
                    <a:pt x="1727" y="930"/>
                  </a:lnTo>
                  <a:lnTo>
                    <a:pt x="1747" y="957"/>
                  </a:lnTo>
                  <a:lnTo>
                    <a:pt x="1761" y="973"/>
                  </a:lnTo>
                  <a:lnTo>
                    <a:pt x="1738" y="973"/>
                  </a:lnTo>
                  <a:lnTo>
                    <a:pt x="1720" y="957"/>
                  </a:lnTo>
                  <a:lnTo>
                    <a:pt x="1711" y="976"/>
                  </a:lnTo>
                  <a:lnTo>
                    <a:pt x="1743" y="1014"/>
                  </a:lnTo>
                  <a:lnTo>
                    <a:pt x="1768" y="1035"/>
                  </a:lnTo>
                  <a:lnTo>
                    <a:pt x="1791" y="1033"/>
                  </a:lnTo>
                  <a:lnTo>
                    <a:pt x="1818" y="1040"/>
                  </a:lnTo>
                  <a:lnTo>
                    <a:pt x="1850" y="1040"/>
                  </a:lnTo>
                  <a:lnTo>
                    <a:pt x="1880" y="1035"/>
                  </a:lnTo>
                  <a:lnTo>
                    <a:pt x="1910" y="1051"/>
                  </a:lnTo>
                  <a:lnTo>
                    <a:pt x="1903" y="1056"/>
                  </a:lnTo>
                  <a:lnTo>
                    <a:pt x="1871" y="1046"/>
                  </a:lnTo>
                  <a:lnTo>
                    <a:pt x="1871" y="1099"/>
                  </a:lnTo>
                  <a:lnTo>
                    <a:pt x="1894" y="1099"/>
                  </a:lnTo>
                  <a:lnTo>
                    <a:pt x="1905" y="1097"/>
                  </a:lnTo>
                  <a:lnTo>
                    <a:pt x="1910" y="1079"/>
                  </a:lnTo>
                  <a:lnTo>
                    <a:pt x="1937" y="1081"/>
                  </a:lnTo>
                  <a:lnTo>
                    <a:pt x="1969" y="1072"/>
                  </a:lnTo>
                  <a:lnTo>
                    <a:pt x="1967" y="1092"/>
                  </a:lnTo>
                  <a:lnTo>
                    <a:pt x="1976" y="1108"/>
                  </a:lnTo>
                  <a:lnTo>
                    <a:pt x="1994" y="1122"/>
                  </a:lnTo>
                  <a:lnTo>
                    <a:pt x="2013" y="1108"/>
                  </a:lnTo>
                  <a:lnTo>
                    <a:pt x="2010" y="1083"/>
                  </a:lnTo>
                  <a:lnTo>
                    <a:pt x="2013" y="1062"/>
                  </a:lnTo>
                  <a:lnTo>
                    <a:pt x="2026" y="1083"/>
                  </a:lnTo>
                  <a:lnTo>
                    <a:pt x="2029" y="1115"/>
                  </a:lnTo>
                  <a:lnTo>
                    <a:pt x="2003" y="1171"/>
                  </a:lnTo>
                  <a:lnTo>
                    <a:pt x="1976" y="1226"/>
                  </a:lnTo>
                  <a:lnTo>
                    <a:pt x="1951" y="1281"/>
                  </a:lnTo>
                  <a:lnTo>
                    <a:pt x="1921" y="1336"/>
                  </a:lnTo>
                  <a:lnTo>
                    <a:pt x="1896" y="1322"/>
                  </a:lnTo>
                  <a:lnTo>
                    <a:pt x="1871" y="1331"/>
                  </a:lnTo>
                  <a:lnTo>
                    <a:pt x="1862" y="1352"/>
                  </a:lnTo>
                  <a:lnTo>
                    <a:pt x="1841" y="1366"/>
                  </a:lnTo>
                  <a:lnTo>
                    <a:pt x="1802" y="1372"/>
                  </a:lnTo>
                  <a:lnTo>
                    <a:pt x="1779" y="1368"/>
                  </a:lnTo>
                  <a:lnTo>
                    <a:pt x="1788" y="1334"/>
                  </a:lnTo>
                  <a:lnTo>
                    <a:pt x="1786" y="1308"/>
                  </a:lnTo>
                  <a:lnTo>
                    <a:pt x="1800" y="1290"/>
                  </a:lnTo>
                  <a:lnTo>
                    <a:pt x="1798" y="1272"/>
                  </a:lnTo>
                  <a:lnTo>
                    <a:pt x="1770" y="1258"/>
                  </a:lnTo>
                  <a:lnTo>
                    <a:pt x="1772" y="1226"/>
                  </a:lnTo>
                  <a:lnTo>
                    <a:pt x="1784" y="1192"/>
                  </a:lnTo>
                  <a:lnTo>
                    <a:pt x="1809" y="1166"/>
                  </a:lnTo>
                  <a:lnTo>
                    <a:pt x="1843" y="1166"/>
                  </a:lnTo>
                  <a:lnTo>
                    <a:pt x="1848" y="1146"/>
                  </a:lnTo>
                  <a:lnTo>
                    <a:pt x="1841" y="1115"/>
                  </a:lnTo>
                  <a:lnTo>
                    <a:pt x="1862" y="1101"/>
                  </a:lnTo>
                  <a:lnTo>
                    <a:pt x="1871" y="1099"/>
                  </a:lnTo>
                  <a:lnTo>
                    <a:pt x="1871" y="1051"/>
                  </a:lnTo>
                  <a:lnTo>
                    <a:pt x="1843" y="1053"/>
                  </a:lnTo>
                  <a:lnTo>
                    <a:pt x="1818" y="1065"/>
                  </a:lnTo>
                  <a:lnTo>
                    <a:pt x="1793" y="1051"/>
                  </a:lnTo>
                  <a:lnTo>
                    <a:pt x="1766" y="1051"/>
                  </a:lnTo>
                  <a:lnTo>
                    <a:pt x="1729" y="1035"/>
                  </a:lnTo>
                  <a:lnTo>
                    <a:pt x="1711" y="1014"/>
                  </a:lnTo>
                  <a:lnTo>
                    <a:pt x="1697" y="989"/>
                  </a:lnTo>
                  <a:lnTo>
                    <a:pt x="1679" y="971"/>
                  </a:lnTo>
                  <a:lnTo>
                    <a:pt x="1697" y="964"/>
                  </a:lnTo>
                  <a:lnTo>
                    <a:pt x="1711" y="973"/>
                  </a:lnTo>
                  <a:lnTo>
                    <a:pt x="1722" y="955"/>
                  </a:lnTo>
                  <a:lnTo>
                    <a:pt x="1717" y="927"/>
                  </a:lnTo>
                  <a:lnTo>
                    <a:pt x="1697" y="923"/>
                  </a:lnTo>
                  <a:lnTo>
                    <a:pt x="1688" y="891"/>
                  </a:lnTo>
                  <a:lnTo>
                    <a:pt x="1695" y="859"/>
                  </a:lnTo>
                  <a:lnTo>
                    <a:pt x="1711" y="834"/>
                  </a:lnTo>
                  <a:lnTo>
                    <a:pt x="1704" y="804"/>
                  </a:lnTo>
                  <a:lnTo>
                    <a:pt x="1695" y="799"/>
                  </a:lnTo>
                  <a:lnTo>
                    <a:pt x="1679" y="815"/>
                  </a:lnTo>
                  <a:lnTo>
                    <a:pt x="1676" y="834"/>
                  </a:lnTo>
                  <a:lnTo>
                    <a:pt x="1660" y="804"/>
                  </a:lnTo>
                  <a:lnTo>
                    <a:pt x="1628" y="779"/>
                  </a:lnTo>
                  <a:lnTo>
                    <a:pt x="1612" y="783"/>
                  </a:lnTo>
                  <a:lnTo>
                    <a:pt x="1592" y="813"/>
                  </a:lnTo>
                  <a:lnTo>
                    <a:pt x="1564" y="831"/>
                  </a:lnTo>
                  <a:lnTo>
                    <a:pt x="1564" y="852"/>
                  </a:lnTo>
                  <a:lnTo>
                    <a:pt x="1573" y="875"/>
                  </a:lnTo>
                  <a:lnTo>
                    <a:pt x="1571" y="898"/>
                  </a:lnTo>
                  <a:lnTo>
                    <a:pt x="1550" y="895"/>
                  </a:lnTo>
                  <a:lnTo>
                    <a:pt x="1536" y="866"/>
                  </a:lnTo>
                  <a:lnTo>
                    <a:pt x="1513" y="834"/>
                  </a:lnTo>
                  <a:lnTo>
                    <a:pt x="1488" y="813"/>
                  </a:lnTo>
                  <a:lnTo>
                    <a:pt x="1467" y="779"/>
                  </a:lnTo>
                  <a:lnTo>
                    <a:pt x="1449" y="770"/>
                  </a:lnTo>
                  <a:lnTo>
                    <a:pt x="1414" y="770"/>
                  </a:lnTo>
                  <a:lnTo>
                    <a:pt x="1387" y="770"/>
                  </a:lnTo>
                  <a:lnTo>
                    <a:pt x="1369" y="783"/>
                  </a:lnTo>
                  <a:lnTo>
                    <a:pt x="1350" y="758"/>
                  </a:lnTo>
                  <a:lnTo>
                    <a:pt x="1330" y="747"/>
                  </a:lnTo>
                  <a:lnTo>
                    <a:pt x="1302" y="724"/>
                  </a:lnTo>
                  <a:lnTo>
                    <a:pt x="1323" y="758"/>
                  </a:lnTo>
                  <a:lnTo>
                    <a:pt x="1353" y="772"/>
                  </a:lnTo>
                  <a:lnTo>
                    <a:pt x="1373" y="804"/>
                  </a:lnTo>
                  <a:lnTo>
                    <a:pt x="1366" y="831"/>
                  </a:lnTo>
                  <a:lnTo>
                    <a:pt x="1346" y="847"/>
                  </a:lnTo>
                  <a:lnTo>
                    <a:pt x="1314" y="852"/>
                  </a:lnTo>
                  <a:lnTo>
                    <a:pt x="1289" y="866"/>
                  </a:lnTo>
                  <a:lnTo>
                    <a:pt x="1270" y="891"/>
                  </a:lnTo>
                  <a:lnTo>
                    <a:pt x="1254" y="902"/>
                  </a:lnTo>
                  <a:lnTo>
                    <a:pt x="1250" y="873"/>
                  </a:lnTo>
                  <a:lnTo>
                    <a:pt x="1231" y="831"/>
                  </a:lnTo>
                  <a:lnTo>
                    <a:pt x="1213" y="808"/>
                  </a:lnTo>
                  <a:lnTo>
                    <a:pt x="1213" y="783"/>
                  </a:lnTo>
                  <a:lnTo>
                    <a:pt x="1195" y="788"/>
                  </a:lnTo>
                  <a:lnTo>
                    <a:pt x="1202" y="827"/>
                  </a:lnTo>
                  <a:lnTo>
                    <a:pt x="1220" y="859"/>
                  </a:lnTo>
                  <a:lnTo>
                    <a:pt x="1220" y="889"/>
                  </a:lnTo>
                  <a:lnTo>
                    <a:pt x="1247" y="900"/>
                  </a:lnTo>
                  <a:lnTo>
                    <a:pt x="1254" y="921"/>
                  </a:lnTo>
                  <a:lnTo>
                    <a:pt x="1284" y="914"/>
                  </a:lnTo>
                  <a:lnTo>
                    <a:pt x="1307" y="909"/>
                  </a:lnTo>
                  <a:lnTo>
                    <a:pt x="1337" y="895"/>
                  </a:lnTo>
                  <a:lnTo>
                    <a:pt x="1325" y="932"/>
                  </a:lnTo>
                  <a:lnTo>
                    <a:pt x="1302" y="978"/>
                  </a:lnTo>
                  <a:lnTo>
                    <a:pt x="1284" y="1005"/>
                  </a:lnTo>
                  <a:lnTo>
                    <a:pt x="1263" y="1033"/>
                  </a:lnTo>
                  <a:lnTo>
                    <a:pt x="1250" y="1056"/>
                  </a:lnTo>
                  <a:lnTo>
                    <a:pt x="1245" y="1108"/>
                  </a:lnTo>
                  <a:lnTo>
                    <a:pt x="1241" y="1148"/>
                  </a:lnTo>
                  <a:lnTo>
                    <a:pt x="1243" y="1183"/>
                  </a:lnTo>
                  <a:lnTo>
                    <a:pt x="1247" y="1217"/>
                  </a:lnTo>
                  <a:lnTo>
                    <a:pt x="1247" y="1226"/>
                  </a:lnTo>
                  <a:lnTo>
                    <a:pt x="1270" y="1224"/>
                  </a:lnTo>
                  <a:lnTo>
                    <a:pt x="1273" y="1192"/>
                  </a:lnTo>
                  <a:lnTo>
                    <a:pt x="1295" y="1166"/>
                  </a:lnTo>
                  <a:lnTo>
                    <a:pt x="1323" y="1148"/>
                  </a:lnTo>
                  <a:lnTo>
                    <a:pt x="1328" y="1180"/>
                  </a:lnTo>
                  <a:lnTo>
                    <a:pt x="1325" y="1210"/>
                  </a:lnTo>
                  <a:lnTo>
                    <a:pt x="1312" y="1226"/>
                  </a:lnTo>
                  <a:lnTo>
                    <a:pt x="1314" y="1242"/>
                  </a:lnTo>
                  <a:lnTo>
                    <a:pt x="1305" y="1283"/>
                  </a:lnTo>
                  <a:lnTo>
                    <a:pt x="1298" y="1304"/>
                  </a:lnTo>
                  <a:lnTo>
                    <a:pt x="1282" y="1308"/>
                  </a:lnTo>
                  <a:lnTo>
                    <a:pt x="1266" y="1290"/>
                  </a:lnTo>
                  <a:lnTo>
                    <a:pt x="1273" y="1260"/>
                  </a:lnTo>
                  <a:lnTo>
                    <a:pt x="1277" y="1247"/>
                  </a:lnTo>
                  <a:lnTo>
                    <a:pt x="1268" y="1226"/>
                  </a:lnTo>
                  <a:lnTo>
                    <a:pt x="1245" y="1228"/>
                  </a:lnTo>
                  <a:lnTo>
                    <a:pt x="1236" y="1258"/>
                  </a:lnTo>
                  <a:lnTo>
                    <a:pt x="1204" y="1272"/>
                  </a:lnTo>
                  <a:lnTo>
                    <a:pt x="1183" y="1290"/>
                  </a:lnTo>
                  <a:lnTo>
                    <a:pt x="1188" y="1322"/>
                  </a:lnTo>
                  <a:lnTo>
                    <a:pt x="1183" y="1356"/>
                  </a:lnTo>
                  <a:lnTo>
                    <a:pt x="1174" y="1395"/>
                  </a:lnTo>
                  <a:lnTo>
                    <a:pt x="1128" y="1439"/>
                  </a:lnTo>
                  <a:lnTo>
                    <a:pt x="1108" y="1443"/>
                  </a:lnTo>
                  <a:lnTo>
                    <a:pt x="1096" y="1411"/>
                  </a:lnTo>
                  <a:lnTo>
                    <a:pt x="1069" y="1395"/>
                  </a:lnTo>
                  <a:lnTo>
                    <a:pt x="1055" y="1384"/>
                  </a:lnTo>
                  <a:lnTo>
                    <a:pt x="1028" y="1331"/>
                  </a:lnTo>
                  <a:lnTo>
                    <a:pt x="1005" y="1306"/>
                  </a:lnTo>
                  <a:lnTo>
                    <a:pt x="991" y="1281"/>
                  </a:lnTo>
                  <a:lnTo>
                    <a:pt x="980" y="1253"/>
                  </a:lnTo>
                  <a:lnTo>
                    <a:pt x="977" y="1217"/>
                  </a:lnTo>
                  <a:lnTo>
                    <a:pt x="957" y="1192"/>
                  </a:lnTo>
                  <a:lnTo>
                    <a:pt x="950" y="1171"/>
                  </a:lnTo>
                  <a:lnTo>
                    <a:pt x="961" y="1141"/>
                  </a:lnTo>
                  <a:lnTo>
                    <a:pt x="961" y="1115"/>
                  </a:lnTo>
                  <a:lnTo>
                    <a:pt x="943" y="1099"/>
                  </a:lnTo>
                  <a:lnTo>
                    <a:pt x="911" y="1097"/>
                  </a:lnTo>
                  <a:lnTo>
                    <a:pt x="884" y="1083"/>
                  </a:lnTo>
                  <a:lnTo>
                    <a:pt x="872" y="1097"/>
                  </a:lnTo>
                  <a:lnTo>
                    <a:pt x="849" y="1099"/>
                  </a:lnTo>
                  <a:lnTo>
                    <a:pt x="829" y="1083"/>
                  </a:lnTo>
                  <a:lnTo>
                    <a:pt x="810" y="1065"/>
                  </a:lnTo>
                  <a:lnTo>
                    <a:pt x="785" y="1062"/>
                  </a:lnTo>
                  <a:lnTo>
                    <a:pt x="758" y="1051"/>
                  </a:lnTo>
                  <a:lnTo>
                    <a:pt x="735" y="1030"/>
                  </a:lnTo>
                  <a:lnTo>
                    <a:pt x="730" y="989"/>
                  </a:lnTo>
                  <a:lnTo>
                    <a:pt x="728" y="957"/>
                  </a:lnTo>
                  <a:lnTo>
                    <a:pt x="749" y="939"/>
                  </a:lnTo>
                  <a:lnTo>
                    <a:pt x="746" y="918"/>
                  </a:lnTo>
                  <a:lnTo>
                    <a:pt x="737" y="882"/>
                  </a:lnTo>
                  <a:lnTo>
                    <a:pt x="744" y="850"/>
                  </a:lnTo>
                  <a:lnTo>
                    <a:pt x="735" y="815"/>
                  </a:lnTo>
                  <a:lnTo>
                    <a:pt x="758" y="790"/>
                  </a:lnTo>
                  <a:lnTo>
                    <a:pt x="776" y="774"/>
                  </a:lnTo>
                  <a:lnTo>
                    <a:pt x="797" y="772"/>
                  </a:lnTo>
                  <a:lnTo>
                    <a:pt x="794" y="747"/>
                  </a:lnTo>
                  <a:lnTo>
                    <a:pt x="806" y="724"/>
                  </a:lnTo>
                  <a:lnTo>
                    <a:pt x="826" y="708"/>
                  </a:lnTo>
                  <a:lnTo>
                    <a:pt x="852" y="721"/>
                  </a:lnTo>
                  <a:lnTo>
                    <a:pt x="881" y="728"/>
                  </a:lnTo>
                  <a:lnTo>
                    <a:pt x="918" y="724"/>
                  </a:lnTo>
                  <a:lnTo>
                    <a:pt x="945" y="724"/>
                  </a:lnTo>
                  <a:lnTo>
                    <a:pt x="959" y="726"/>
                  </a:lnTo>
                  <a:lnTo>
                    <a:pt x="966" y="751"/>
                  </a:lnTo>
                  <a:lnTo>
                    <a:pt x="996" y="756"/>
                  </a:lnTo>
                  <a:lnTo>
                    <a:pt x="1023" y="770"/>
                  </a:lnTo>
                  <a:lnTo>
                    <a:pt x="1039" y="765"/>
                  </a:lnTo>
                  <a:lnTo>
                    <a:pt x="1048" y="749"/>
                  </a:lnTo>
                  <a:lnTo>
                    <a:pt x="1058" y="731"/>
                  </a:lnTo>
                  <a:lnTo>
                    <a:pt x="1083" y="737"/>
                  </a:lnTo>
                  <a:lnTo>
                    <a:pt x="1112" y="751"/>
                  </a:lnTo>
                  <a:lnTo>
                    <a:pt x="1147" y="756"/>
                  </a:lnTo>
                  <a:lnTo>
                    <a:pt x="1170" y="758"/>
                  </a:lnTo>
                  <a:lnTo>
                    <a:pt x="1195" y="756"/>
                  </a:lnTo>
                  <a:lnTo>
                    <a:pt x="1213" y="737"/>
                  </a:lnTo>
                  <a:lnTo>
                    <a:pt x="1225" y="712"/>
                  </a:lnTo>
                  <a:lnTo>
                    <a:pt x="1231" y="694"/>
                  </a:lnTo>
                  <a:lnTo>
                    <a:pt x="1225" y="689"/>
                  </a:lnTo>
                  <a:lnTo>
                    <a:pt x="1209" y="671"/>
                  </a:lnTo>
                  <a:lnTo>
                    <a:pt x="1193" y="676"/>
                  </a:lnTo>
                  <a:lnTo>
                    <a:pt x="1165" y="676"/>
                  </a:lnTo>
                  <a:lnTo>
                    <a:pt x="1144" y="669"/>
                  </a:lnTo>
                  <a:lnTo>
                    <a:pt x="1142" y="646"/>
                  </a:lnTo>
                  <a:lnTo>
                    <a:pt x="1128" y="639"/>
                  </a:lnTo>
                  <a:lnTo>
                    <a:pt x="1122" y="646"/>
                  </a:lnTo>
                  <a:lnTo>
                    <a:pt x="1126" y="669"/>
                  </a:lnTo>
                  <a:lnTo>
                    <a:pt x="1117" y="687"/>
                  </a:lnTo>
                  <a:lnTo>
                    <a:pt x="1092" y="683"/>
                  </a:lnTo>
                  <a:lnTo>
                    <a:pt x="1080" y="664"/>
                  </a:lnTo>
                  <a:lnTo>
                    <a:pt x="1076" y="644"/>
                  </a:lnTo>
                  <a:lnTo>
                    <a:pt x="1076" y="612"/>
                  </a:lnTo>
                  <a:lnTo>
                    <a:pt x="1060" y="605"/>
                  </a:lnTo>
                  <a:lnTo>
                    <a:pt x="1051" y="623"/>
                  </a:lnTo>
                  <a:lnTo>
                    <a:pt x="1055" y="646"/>
                  </a:lnTo>
                  <a:lnTo>
                    <a:pt x="1067" y="664"/>
                  </a:lnTo>
                  <a:lnTo>
                    <a:pt x="1080" y="680"/>
                  </a:lnTo>
                  <a:lnTo>
                    <a:pt x="1067" y="701"/>
                  </a:lnTo>
                  <a:lnTo>
                    <a:pt x="1048" y="712"/>
                  </a:lnTo>
                  <a:lnTo>
                    <a:pt x="1026" y="708"/>
                  </a:lnTo>
                  <a:lnTo>
                    <a:pt x="1026" y="726"/>
                  </a:lnTo>
                  <a:lnTo>
                    <a:pt x="1012" y="737"/>
                  </a:lnTo>
                  <a:lnTo>
                    <a:pt x="993" y="712"/>
                  </a:lnTo>
                  <a:lnTo>
                    <a:pt x="996" y="696"/>
                  </a:lnTo>
                  <a:lnTo>
                    <a:pt x="1021" y="708"/>
                  </a:lnTo>
                  <a:lnTo>
                    <a:pt x="1035" y="708"/>
                  </a:lnTo>
                  <a:lnTo>
                    <a:pt x="1055" y="689"/>
                  </a:lnTo>
                  <a:lnTo>
                    <a:pt x="1048" y="669"/>
                  </a:lnTo>
                  <a:lnTo>
                    <a:pt x="1028" y="651"/>
                  </a:lnTo>
                  <a:lnTo>
                    <a:pt x="1012" y="639"/>
                  </a:lnTo>
                  <a:lnTo>
                    <a:pt x="993" y="614"/>
                  </a:lnTo>
                  <a:lnTo>
                    <a:pt x="971" y="598"/>
                  </a:lnTo>
                  <a:lnTo>
                    <a:pt x="971" y="623"/>
                  </a:lnTo>
                  <a:lnTo>
                    <a:pt x="982" y="639"/>
                  </a:lnTo>
                  <a:lnTo>
                    <a:pt x="980" y="669"/>
                  </a:lnTo>
                  <a:lnTo>
                    <a:pt x="980" y="689"/>
                  </a:lnTo>
                  <a:lnTo>
                    <a:pt x="957" y="673"/>
                  </a:lnTo>
                  <a:lnTo>
                    <a:pt x="952" y="655"/>
                  </a:lnTo>
                  <a:lnTo>
                    <a:pt x="961" y="644"/>
                  </a:lnTo>
                  <a:lnTo>
                    <a:pt x="959" y="628"/>
                  </a:lnTo>
                  <a:lnTo>
                    <a:pt x="973" y="621"/>
                  </a:lnTo>
                  <a:lnTo>
                    <a:pt x="973" y="598"/>
                  </a:lnTo>
                  <a:lnTo>
                    <a:pt x="952" y="602"/>
                  </a:lnTo>
                  <a:lnTo>
                    <a:pt x="936" y="623"/>
                  </a:lnTo>
                  <a:lnTo>
                    <a:pt x="918" y="614"/>
                  </a:lnTo>
                  <a:lnTo>
                    <a:pt x="884" y="630"/>
                  </a:lnTo>
                  <a:lnTo>
                    <a:pt x="879" y="660"/>
                  </a:lnTo>
                  <a:lnTo>
                    <a:pt x="856" y="680"/>
                  </a:lnTo>
                  <a:lnTo>
                    <a:pt x="829" y="694"/>
                  </a:lnTo>
                  <a:lnTo>
                    <a:pt x="801" y="696"/>
                  </a:lnTo>
                  <a:lnTo>
                    <a:pt x="776" y="689"/>
                  </a:lnTo>
                  <a:lnTo>
                    <a:pt x="760" y="673"/>
                  </a:lnTo>
                  <a:lnTo>
                    <a:pt x="774" y="660"/>
                  </a:lnTo>
                  <a:lnTo>
                    <a:pt x="760" y="639"/>
                  </a:lnTo>
                  <a:lnTo>
                    <a:pt x="778" y="625"/>
                  </a:lnTo>
                  <a:lnTo>
                    <a:pt x="781" y="607"/>
                  </a:lnTo>
                  <a:lnTo>
                    <a:pt x="781" y="582"/>
                  </a:lnTo>
                  <a:lnTo>
                    <a:pt x="806" y="559"/>
                  </a:lnTo>
                  <a:lnTo>
                    <a:pt x="840" y="568"/>
                  </a:lnTo>
                  <a:lnTo>
                    <a:pt x="877" y="577"/>
                  </a:lnTo>
                  <a:lnTo>
                    <a:pt x="893" y="564"/>
                  </a:lnTo>
                  <a:lnTo>
                    <a:pt x="893" y="538"/>
                  </a:lnTo>
                  <a:lnTo>
                    <a:pt x="875" y="520"/>
                  </a:lnTo>
                  <a:lnTo>
                    <a:pt x="847" y="504"/>
                  </a:lnTo>
                  <a:lnTo>
                    <a:pt x="858" y="495"/>
                  </a:lnTo>
                  <a:lnTo>
                    <a:pt x="888" y="481"/>
                  </a:lnTo>
                  <a:lnTo>
                    <a:pt x="895" y="477"/>
                  </a:lnTo>
                  <a:lnTo>
                    <a:pt x="884" y="474"/>
                  </a:lnTo>
                  <a:lnTo>
                    <a:pt x="861" y="477"/>
                  </a:lnTo>
                  <a:lnTo>
                    <a:pt x="840" y="481"/>
                  </a:lnTo>
                  <a:lnTo>
                    <a:pt x="826" y="488"/>
                  </a:lnTo>
                  <a:lnTo>
                    <a:pt x="836" y="470"/>
                  </a:lnTo>
                  <a:lnTo>
                    <a:pt x="840" y="447"/>
                  </a:lnTo>
                  <a:lnTo>
                    <a:pt x="849" y="433"/>
                  </a:lnTo>
                  <a:lnTo>
                    <a:pt x="854" y="419"/>
                  </a:lnTo>
                  <a:lnTo>
                    <a:pt x="842" y="401"/>
                  </a:lnTo>
                  <a:lnTo>
                    <a:pt x="826" y="412"/>
                  </a:lnTo>
                  <a:lnTo>
                    <a:pt x="829" y="428"/>
                  </a:lnTo>
                  <a:lnTo>
                    <a:pt x="826" y="449"/>
                  </a:lnTo>
                  <a:lnTo>
                    <a:pt x="817" y="477"/>
                  </a:lnTo>
                  <a:lnTo>
                    <a:pt x="794" y="474"/>
                  </a:lnTo>
                  <a:lnTo>
                    <a:pt x="785" y="449"/>
                  </a:lnTo>
                  <a:lnTo>
                    <a:pt x="772" y="424"/>
                  </a:lnTo>
                  <a:lnTo>
                    <a:pt x="797" y="419"/>
                  </a:lnTo>
                  <a:lnTo>
                    <a:pt x="808" y="406"/>
                  </a:lnTo>
                  <a:lnTo>
                    <a:pt x="820" y="403"/>
                  </a:lnTo>
                  <a:lnTo>
                    <a:pt x="820" y="387"/>
                  </a:lnTo>
                  <a:lnTo>
                    <a:pt x="813" y="373"/>
                  </a:lnTo>
                  <a:lnTo>
                    <a:pt x="833" y="361"/>
                  </a:lnTo>
                  <a:lnTo>
                    <a:pt x="854" y="350"/>
                  </a:lnTo>
                  <a:lnTo>
                    <a:pt x="870" y="357"/>
                  </a:lnTo>
                  <a:lnTo>
                    <a:pt x="875" y="383"/>
                  </a:lnTo>
                  <a:lnTo>
                    <a:pt x="881" y="412"/>
                  </a:lnTo>
                  <a:lnTo>
                    <a:pt x="897" y="426"/>
                  </a:lnTo>
                  <a:lnTo>
                    <a:pt x="902" y="449"/>
                  </a:lnTo>
                  <a:lnTo>
                    <a:pt x="895" y="467"/>
                  </a:lnTo>
                  <a:lnTo>
                    <a:pt x="893" y="479"/>
                  </a:lnTo>
                  <a:lnTo>
                    <a:pt x="911" y="474"/>
                  </a:lnTo>
                  <a:lnTo>
                    <a:pt x="934" y="463"/>
                  </a:lnTo>
                  <a:lnTo>
                    <a:pt x="943" y="428"/>
                  </a:lnTo>
                  <a:lnTo>
                    <a:pt x="966" y="428"/>
                  </a:lnTo>
                  <a:lnTo>
                    <a:pt x="977" y="424"/>
                  </a:lnTo>
                  <a:lnTo>
                    <a:pt x="975" y="401"/>
                  </a:lnTo>
                  <a:lnTo>
                    <a:pt x="961" y="378"/>
                  </a:lnTo>
                  <a:lnTo>
                    <a:pt x="982" y="378"/>
                  </a:lnTo>
                  <a:lnTo>
                    <a:pt x="1005" y="401"/>
                  </a:lnTo>
                  <a:lnTo>
                    <a:pt x="1026" y="419"/>
                  </a:lnTo>
                  <a:lnTo>
                    <a:pt x="1046" y="419"/>
                  </a:lnTo>
                  <a:lnTo>
                    <a:pt x="1071" y="406"/>
                  </a:lnTo>
                  <a:lnTo>
                    <a:pt x="1090" y="380"/>
                  </a:lnTo>
                  <a:lnTo>
                    <a:pt x="1101" y="357"/>
                  </a:lnTo>
                  <a:lnTo>
                    <a:pt x="1142" y="366"/>
                  </a:lnTo>
                  <a:lnTo>
                    <a:pt x="1106" y="345"/>
                  </a:lnTo>
                  <a:lnTo>
                    <a:pt x="1080" y="350"/>
                  </a:lnTo>
                  <a:lnTo>
                    <a:pt x="1076" y="318"/>
                  </a:lnTo>
                  <a:lnTo>
                    <a:pt x="1076" y="299"/>
                  </a:lnTo>
                  <a:lnTo>
                    <a:pt x="1103" y="288"/>
                  </a:lnTo>
                  <a:lnTo>
                    <a:pt x="1108" y="272"/>
                  </a:lnTo>
                  <a:lnTo>
                    <a:pt x="1090" y="281"/>
                  </a:lnTo>
                  <a:lnTo>
                    <a:pt x="1067" y="297"/>
                  </a:lnTo>
                  <a:lnTo>
                    <a:pt x="1042" y="299"/>
                  </a:lnTo>
                  <a:lnTo>
                    <a:pt x="1051" y="329"/>
                  </a:lnTo>
                  <a:lnTo>
                    <a:pt x="1048" y="354"/>
                  </a:lnTo>
                  <a:lnTo>
                    <a:pt x="1048" y="375"/>
                  </a:lnTo>
                  <a:lnTo>
                    <a:pt x="1028" y="387"/>
                  </a:lnTo>
                  <a:lnTo>
                    <a:pt x="1007" y="396"/>
                  </a:lnTo>
                  <a:lnTo>
                    <a:pt x="996" y="378"/>
                  </a:lnTo>
                  <a:lnTo>
                    <a:pt x="998" y="357"/>
                  </a:lnTo>
                  <a:lnTo>
                    <a:pt x="1000" y="345"/>
                  </a:lnTo>
                  <a:lnTo>
                    <a:pt x="977" y="354"/>
                  </a:lnTo>
                  <a:lnTo>
                    <a:pt x="955" y="343"/>
                  </a:lnTo>
                  <a:lnTo>
                    <a:pt x="943" y="325"/>
                  </a:lnTo>
                  <a:lnTo>
                    <a:pt x="950" y="299"/>
                  </a:lnTo>
                  <a:lnTo>
                    <a:pt x="945" y="297"/>
                  </a:lnTo>
                  <a:lnTo>
                    <a:pt x="950" y="295"/>
                  </a:lnTo>
                  <a:lnTo>
                    <a:pt x="952" y="292"/>
                  </a:lnTo>
                  <a:lnTo>
                    <a:pt x="685" y="292"/>
                  </a:lnTo>
                  <a:lnTo>
                    <a:pt x="671" y="311"/>
                  </a:lnTo>
                  <a:lnTo>
                    <a:pt x="648" y="322"/>
                  </a:lnTo>
                  <a:lnTo>
                    <a:pt x="625" y="313"/>
                  </a:lnTo>
                  <a:lnTo>
                    <a:pt x="614" y="297"/>
                  </a:lnTo>
                  <a:lnTo>
                    <a:pt x="614" y="279"/>
                  </a:lnTo>
                  <a:lnTo>
                    <a:pt x="621" y="276"/>
                  </a:lnTo>
                  <a:lnTo>
                    <a:pt x="563" y="276"/>
                  </a:lnTo>
                  <a:lnTo>
                    <a:pt x="547" y="279"/>
                  </a:lnTo>
                  <a:lnTo>
                    <a:pt x="529" y="313"/>
                  </a:lnTo>
                  <a:lnTo>
                    <a:pt x="522" y="336"/>
                  </a:lnTo>
                  <a:lnTo>
                    <a:pt x="510" y="361"/>
                  </a:lnTo>
                  <a:lnTo>
                    <a:pt x="485" y="354"/>
                  </a:lnTo>
                  <a:lnTo>
                    <a:pt x="464" y="336"/>
                  </a:lnTo>
                  <a:lnTo>
                    <a:pt x="462" y="299"/>
                  </a:lnTo>
                  <a:lnTo>
                    <a:pt x="455" y="260"/>
                  </a:lnTo>
                  <a:lnTo>
                    <a:pt x="437" y="238"/>
                  </a:lnTo>
                  <a:lnTo>
                    <a:pt x="443" y="222"/>
                  </a:lnTo>
                  <a:lnTo>
                    <a:pt x="427" y="192"/>
                  </a:lnTo>
                  <a:lnTo>
                    <a:pt x="414" y="178"/>
                  </a:lnTo>
                  <a:lnTo>
                    <a:pt x="398" y="194"/>
                  </a:lnTo>
                  <a:lnTo>
                    <a:pt x="372" y="176"/>
                  </a:lnTo>
                  <a:lnTo>
                    <a:pt x="356" y="187"/>
                  </a:lnTo>
                  <a:lnTo>
                    <a:pt x="340" y="199"/>
                  </a:lnTo>
                  <a:lnTo>
                    <a:pt x="311" y="208"/>
                  </a:lnTo>
                  <a:lnTo>
                    <a:pt x="295" y="231"/>
                  </a:lnTo>
                  <a:lnTo>
                    <a:pt x="331" y="235"/>
                  </a:lnTo>
                  <a:lnTo>
                    <a:pt x="359" y="249"/>
                  </a:lnTo>
                  <a:lnTo>
                    <a:pt x="377" y="272"/>
                  </a:lnTo>
                  <a:lnTo>
                    <a:pt x="398" y="295"/>
                  </a:lnTo>
                  <a:lnTo>
                    <a:pt x="400" y="331"/>
                  </a:lnTo>
                  <a:lnTo>
                    <a:pt x="388" y="366"/>
                  </a:lnTo>
                  <a:lnTo>
                    <a:pt x="372" y="378"/>
                  </a:lnTo>
                  <a:lnTo>
                    <a:pt x="347" y="354"/>
                  </a:lnTo>
                  <a:lnTo>
                    <a:pt x="304" y="352"/>
                  </a:lnTo>
                  <a:lnTo>
                    <a:pt x="304" y="336"/>
                  </a:lnTo>
                  <a:lnTo>
                    <a:pt x="340" y="325"/>
                  </a:lnTo>
                  <a:lnTo>
                    <a:pt x="345" y="304"/>
                  </a:lnTo>
                  <a:lnTo>
                    <a:pt x="338" y="297"/>
                  </a:lnTo>
                  <a:lnTo>
                    <a:pt x="327" y="318"/>
                  </a:lnTo>
                  <a:lnTo>
                    <a:pt x="306" y="302"/>
                  </a:lnTo>
                  <a:lnTo>
                    <a:pt x="334" y="281"/>
                  </a:lnTo>
                  <a:lnTo>
                    <a:pt x="347" y="299"/>
                  </a:lnTo>
                  <a:lnTo>
                    <a:pt x="327" y="279"/>
                  </a:lnTo>
                  <a:lnTo>
                    <a:pt x="304" y="279"/>
                  </a:lnTo>
                  <a:lnTo>
                    <a:pt x="285" y="295"/>
                  </a:lnTo>
                  <a:lnTo>
                    <a:pt x="290" y="318"/>
                  </a:lnTo>
                  <a:lnTo>
                    <a:pt x="290" y="345"/>
                  </a:lnTo>
                  <a:lnTo>
                    <a:pt x="283" y="370"/>
                  </a:lnTo>
                  <a:lnTo>
                    <a:pt x="290" y="394"/>
                  </a:lnTo>
                  <a:lnTo>
                    <a:pt x="265" y="375"/>
                  </a:lnTo>
                  <a:lnTo>
                    <a:pt x="256" y="387"/>
                  </a:lnTo>
                  <a:lnTo>
                    <a:pt x="249" y="373"/>
                  </a:lnTo>
                  <a:lnTo>
                    <a:pt x="256" y="350"/>
                  </a:lnTo>
                  <a:lnTo>
                    <a:pt x="235" y="357"/>
                  </a:lnTo>
                  <a:lnTo>
                    <a:pt x="228" y="378"/>
                  </a:lnTo>
                  <a:lnTo>
                    <a:pt x="210" y="396"/>
                  </a:lnTo>
                  <a:lnTo>
                    <a:pt x="210" y="415"/>
                  </a:lnTo>
                  <a:lnTo>
                    <a:pt x="183" y="415"/>
                  </a:lnTo>
                  <a:lnTo>
                    <a:pt x="173" y="426"/>
                  </a:lnTo>
                  <a:lnTo>
                    <a:pt x="183" y="454"/>
                  </a:lnTo>
                  <a:lnTo>
                    <a:pt x="212" y="470"/>
                  </a:lnTo>
                  <a:lnTo>
                    <a:pt x="228" y="481"/>
                  </a:lnTo>
                  <a:lnTo>
                    <a:pt x="221" y="506"/>
                  </a:lnTo>
                  <a:lnTo>
                    <a:pt x="240" y="502"/>
                  </a:lnTo>
                  <a:lnTo>
                    <a:pt x="244" y="477"/>
                  </a:lnTo>
                  <a:lnTo>
                    <a:pt x="276" y="477"/>
                  </a:lnTo>
                  <a:lnTo>
                    <a:pt x="295" y="454"/>
                  </a:lnTo>
                  <a:lnTo>
                    <a:pt x="297" y="428"/>
                  </a:lnTo>
                  <a:lnTo>
                    <a:pt x="295" y="387"/>
                  </a:lnTo>
                  <a:lnTo>
                    <a:pt x="304" y="361"/>
                  </a:lnTo>
                  <a:lnTo>
                    <a:pt x="320" y="345"/>
                  </a:lnTo>
                  <a:lnTo>
                    <a:pt x="345" y="361"/>
                  </a:lnTo>
                  <a:lnTo>
                    <a:pt x="375" y="378"/>
                  </a:lnTo>
                  <a:lnTo>
                    <a:pt x="386" y="387"/>
                  </a:lnTo>
                  <a:lnTo>
                    <a:pt x="402" y="415"/>
                  </a:lnTo>
                  <a:lnTo>
                    <a:pt x="423" y="426"/>
                  </a:lnTo>
                  <a:lnTo>
                    <a:pt x="430" y="454"/>
                  </a:lnTo>
                  <a:lnTo>
                    <a:pt x="434" y="474"/>
                  </a:lnTo>
                  <a:lnTo>
                    <a:pt x="455" y="488"/>
                  </a:lnTo>
                  <a:lnTo>
                    <a:pt x="437" y="511"/>
                  </a:lnTo>
                  <a:lnTo>
                    <a:pt x="409" y="511"/>
                  </a:lnTo>
                  <a:lnTo>
                    <a:pt x="382" y="525"/>
                  </a:lnTo>
                  <a:lnTo>
                    <a:pt x="359" y="543"/>
                  </a:lnTo>
                  <a:lnTo>
                    <a:pt x="331" y="557"/>
                  </a:lnTo>
                  <a:lnTo>
                    <a:pt x="304" y="582"/>
                  </a:lnTo>
                  <a:lnTo>
                    <a:pt x="279" y="602"/>
                  </a:lnTo>
                  <a:lnTo>
                    <a:pt x="276" y="623"/>
                  </a:lnTo>
                  <a:lnTo>
                    <a:pt x="276" y="639"/>
                  </a:lnTo>
                  <a:lnTo>
                    <a:pt x="256" y="653"/>
                  </a:lnTo>
                  <a:lnTo>
                    <a:pt x="258" y="671"/>
                  </a:lnTo>
                  <a:lnTo>
                    <a:pt x="237" y="694"/>
                  </a:lnTo>
                  <a:lnTo>
                    <a:pt x="237" y="724"/>
                  </a:lnTo>
                  <a:lnTo>
                    <a:pt x="253" y="747"/>
                  </a:lnTo>
                  <a:lnTo>
                    <a:pt x="244" y="765"/>
                  </a:lnTo>
                  <a:lnTo>
                    <a:pt x="221" y="751"/>
                  </a:lnTo>
                  <a:lnTo>
                    <a:pt x="219" y="724"/>
                  </a:lnTo>
                  <a:lnTo>
                    <a:pt x="199" y="708"/>
                  </a:lnTo>
                  <a:lnTo>
                    <a:pt x="180" y="712"/>
                  </a:lnTo>
                  <a:lnTo>
                    <a:pt x="173" y="731"/>
                  </a:lnTo>
                  <a:lnTo>
                    <a:pt x="153" y="724"/>
                  </a:lnTo>
                  <a:lnTo>
                    <a:pt x="130" y="724"/>
                  </a:lnTo>
                  <a:lnTo>
                    <a:pt x="107" y="744"/>
                  </a:lnTo>
                  <a:lnTo>
                    <a:pt x="98" y="765"/>
                  </a:lnTo>
                  <a:lnTo>
                    <a:pt x="91" y="783"/>
                  </a:lnTo>
                  <a:lnTo>
                    <a:pt x="89" y="813"/>
                  </a:lnTo>
                  <a:lnTo>
                    <a:pt x="107" y="834"/>
                  </a:lnTo>
                  <a:lnTo>
                    <a:pt x="128" y="820"/>
                  </a:lnTo>
                  <a:lnTo>
                    <a:pt x="148" y="820"/>
                  </a:lnTo>
                  <a:lnTo>
                    <a:pt x="153" y="847"/>
                  </a:lnTo>
                  <a:lnTo>
                    <a:pt x="134" y="866"/>
                  </a:lnTo>
                  <a:lnTo>
                    <a:pt x="162" y="870"/>
                  </a:lnTo>
                  <a:lnTo>
                    <a:pt x="173" y="875"/>
                  </a:lnTo>
                  <a:lnTo>
                    <a:pt x="180" y="900"/>
                  </a:lnTo>
                  <a:lnTo>
                    <a:pt x="203" y="914"/>
                  </a:lnTo>
                  <a:lnTo>
                    <a:pt x="231" y="932"/>
                  </a:lnTo>
                  <a:lnTo>
                    <a:pt x="249" y="918"/>
                  </a:lnTo>
                  <a:lnTo>
                    <a:pt x="290" y="932"/>
                  </a:lnTo>
                  <a:lnTo>
                    <a:pt x="322" y="934"/>
                  </a:lnTo>
                  <a:lnTo>
                    <a:pt x="368" y="957"/>
                  </a:lnTo>
                  <a:lnTo>
                    <a:pt x="377" y="978"/>
                  </a:lnTo>
                  <a:lnTo>
                    <a:pt x="402" y="1001"/>
                  </a:lnTo>
                  <a:lnTo>
                    <a:pt x="416" y="1033"/>
                  </a:lnTo>
                  <a:lnTo>
                    <a:pt x="448" y="1051"/>
                  </a:lnTo>
                  <a:lnTo>
                    <a:pt x="478" y="1053"/>
                  </a:lnTo>
                  <a:lnTo>
                    <a:pt x="505" y="1079"/>
                  </a:lnTo>
                  <a:lnTo>
                    <a:pt x="545" y="1079"/>
                  </a:lnTo>
                  <a:lnTo>
                    <a:pt x="547" y="1101"/>
                  </a:lnTo>
                  <a:lnTo>
                    <a:pt x="547" y="1124"/>
                  </a:lnTo>
                  <a:lnTo>
                    <a:pt x="529" y="1148"/>
                  </a:lnTo>
                  <a:lnTo>
                    <a:pt x="527" y="1178"/>
                  </a:lnTo>
                  <a:lnTo>
                    <a:pt x="522" y="1205"/>
                  </a:lnTo>
                  <a:lnTo>
                    <a:pt x="501" y="1233"/>
                  </a:lnTo>
                  <a:lnTo>
                    <a:pt x="471" y="1249"/>
                  </a:lnTo>
                  <a:lnTo>
                    <a:pt x="446" y="1253"/>
                  </a:lnTo>
                  <a:lnTo>
                    <a:pt x="457" y="1279"/>
                  </a:lnTo>
                  <a:lnTo>
                    <a:pt x="434" y="1304"/>
                  </a:lnTo>
                  <a:lnTo>
                    <a:pt x="414" y="1327"/>
                  </a:lnTo>
                  <a:lnTo>
                    <a:pt x="388" y="1343"/>
                  </a:lnTo>
                  <a:lnTo>
                    <a:pt x="372" y="1375"/>
                  </a:lnTo>
                  <a:lnTo>
                    <a:pt x="356" y="1398"/>
                  </a:lnTo>
                  <a:lnTo>
                    <a:pt x="334" y="1409"/>
                  </a:lnTo>
                  <a:lnTo>
                    <a:pt x="320" y="1430"/>
                  </a:lnTo>
                  <a:lnTo>
                    <a:pt x="306" y="1450"/>
                  </a:lnTo>
                  <a:lnTo>
                    <a:pt x="297" y="1469"/>
                  </a:lnTo>
                  <a:lnTo>
                    <a:pt x="297" y="1491"/>
                  </a:lnTo>
                  <a:lnTo>
                    <a:pt x="285" y="1505"/>
                  </a:lnTo>
                  <a:lnTo>
                    <a:pt x="272" y="1478"/>
                  </a:lnTo>
                  <a:lnTo>
                    <a:pt x="249" y="1455"/>
                  </a:lnTo>
                  <a:lnTo>
                    <a:pt x="237" y="1425"/>
                  </a:lnTo>
                  <a:lnTo>
                    <a:pt x="237" y="1398"/>
                  </a:lnTo>
                  <a:lnTo>
                    <a:pt x="235" y="1366"/>
                  </a:lnTo>
                  <a:lnTo>
                    <a:pt x="249" y="1322"/>
                  </a:lnTo>
                  <a:lnTo>
                    <a:pt x="249" y="1279"/>
                  </a:lnTo>
                  <a:lnTo>
                    <a:pt x="244" y="1237"/>
                  </a:lnTo>
                  <a:lnTo>
                    <a:pt x="235" y="1205"/>
                  </a:lnTo>
                  <a:lnTo>
                    <a:pt x="210" y="1178"/>
                  </a:lnTo>
                  <a:lnTo>
                    <a:pt x="183" y="1155"/>
                  </a:lnTo>
                  <a:lnTo>
                    <a:pt x="162" y="1122"/>
                  </a:lnTo>
                  <a:lnTo>
                    <a:pt x="157" y="1083"/>
                  </a:lnTo>
                  <a:lnTo>
                    <a:pt x="173" y="1058"/>
                  </a:lnTo>
                  <a:lnTo>
                    <a:pt x="173" y="1035"/>
                  </a:lnTo>
                  <a:lnTo>
                    <a:pt x="183" y="998"/>
                  </a:lnTo>
                  <a:lnTo>
                    <a:pt x="201" y="971"/>
                  </a:lnTo>
                  <a:lnTo>
                    <a:pt x="221" y="953"/>
                  </a:lnTo>
                  <a:lnTo>
                    <a:pt x="233" y="934"/>
                  </a:lnTo>
                  <a:lnTo>
                    <a:pt x="203" y="927"/>
                  </a:lnTo>
                  <a:lnTo>
                    <a:pt x="187" y="932"/>
                  </a:lnTo>
                  <a:lnTo>
                    <a:pt x="171" y="923"/>
                  </a:lnTo>
                  <a:lnTo>
                    <a:pt x="148" y="907"/>
                  </a:lnTo>
                  <a:lnTo>
                    <a:pt x="121" y="889"/>
                  </a:lnTo>
                  <a:lnTo>
                    <a:pt x="109" y="866"/>
                  </a:lnTo>
                  <a:lnTo>
                    <a:pt x="98" y="856"/>
                  </a:lnTo>
                  <a:lnTo>
                    <a:pt x="86" y="866"/>
                  </a:lnTo>
                  <a:lnTo>
                    <a:pt x="64" y="852"/>
                  </a:lnTo>
                  <a:lnTo>
                    <a:pt x="48" y="831"/>
                  </a:lnTo>
                  <a:lnTo>
                    <a:pt x="36" y="813"/>
                  </a:lnTo>
                  <a:lnTo>
                    <a:pt x="36" y="788"/>
                  </a:lnTo>
                  <a:lnTo>
                    <a:pt x="32" y="772"/>
                  </a:lnTo>
                  <a:lnTo>
                    <a:pt x="11" y="754"/>
                  </a:lnTo>
                  <a:lnTo>
                    <a:pt x="11" y="770"/>
                  </a:lnTo>
                  <a:lnTo>
                    <a:pt x="25" y="790"/>
                  </a:lnTo>
                  <a:lnTo>
                    <a:pt x="25" y="808"/>
                  </a:lnTo>
                  <a:lnTo>
                    <a:pt x="6" y="795"/>
                  </a:lnTo>
                  <a:lnTo>
                    <a:pt x="0" y="763"/>
                  </a:lnTo>
                  <a:lnTo>
                    <a:pt x="6" y="737"/>
                  </a:lnTo>
                  <a:lnTo>
                    <a:pt x="6" y="701"/>
                  </a:lnTo>
                  <a:lnTo>
                    <a:pt x="11" y="639"/>
                  </a:lnTo>
                  <a:lnTo>
                    <a:pt x="18" y="577"/>
                  </a:lnTo>
                  <a:lnTo>
                    <a:pt x="34" y="511"/>
                  </a:lnTo>
                  <a:lnTo>
                    <a:pt x="57" y="438"/>
                  </a:lnTo>
                  <a:lnTo>
                    <a:pt x="93" y="345"/>
                  </a:lnTo>
                  <a:lnTo>
                    <a:pt x="125" y="274"/>
                  </a:lnTo>
                  <a:lnTo>
                    <a:pt x="178" y="187"/>
                  </a:lnTo>
                  <a:lnTo>
                    <a:pt x="210" y="137"/>
                  </a:lnTo>
                  <a:close/>
                </a:path>
              </a:pathLst>
            </a:custGeom>
            <a:solidFill>
              <a:srgbClr val="7d9cd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03720" y="1413000"/>
              <a:ext cx="743400" cy="546480"/>
            </a:xfrm>
            <a:custGeom>
              <a:avLst/>
              <a:gdLst/>
              <a:ahLst/>
              <a:rect l="0" t="0" r="r" b="b"/>
              <a:pathLst>
                <a:path w="2065" h="1518">
                  <a:moveTo>
                    <a:pt x="223" y="132"/>
                  </a:moveTo>
                  <a:lnTo>
                    <a:pt x="248" y="134"/>
                  </a:lnTo>
                  <a:lnTo>
                    <a:pt x="262" y="116"/>
                  </a:lnTo>
                  <a:lnTo>
                    <a:pt x="283" y="107"/>
                  </a:lnTo>
                  <a:lnTo>
                    <a:pt x="299" y="91"/>
                  </a:lnTo>
                  <a:lnTo>
                    <a:pt x="321" y="75"/>
                  </a:lnTo>
                  <a:lnTo>
                    <a:pt x="340" y="68"/>
                  </a:lnTo>
                  <a:lnTo>
                    <a:pt x="360" y="61"/>
                  </a:lnTo>
                  <a:lnTo>
                    <a:pt x="378" y="61"/>
                  </a:lnTo>
                  <a:lnTo>
                    <a:pt x="388" y="54"/>
                  </a:lnTo>
                  <a:lnTo>
                    <a:pt x="406" y="54"/>
                  </a:lnTo>
                  <a:lnTo>
                    <a:pt x="415" y="43"/>
                  </a:lnTo>
                  <a:lnTo>
                    <a:pt x="436" y="48"/>
                  </a:lnTo>
                  <a:lnTo>
                    <a:pt x="456" y="41"/>
                  </a:lnTo>
                  <a:lnTo>
                    <a:pt x="474" y="43"/>
                  </a:lnTo>
                  <a:lnTo>
                    <a:pt x="481" y="52"/>
                  </a:lnTo>
                  <a:lnTo>
                    <a:pt x="474" y="61"/>
                  </a:lnTo>
                  <a:lnTo>
                    <a:pt x="456" y="54"/>
                  </a:lnTo>
                  <a:lnTo>
                    <a:pt x="440" y="66"/>
                  </a:lnTo>
                  <a:lnTo>
                    <a:pt x="429" y="77"/>
                  </a:lnTo>
                  <a:lnTo>
                    <a:pt x="426" y="93"/>
                  </a:lnTo>
                  <a:lnTo>
                    <a:pt x="408" y="96"/>
                  </a:lnTo>
                  <a:lnTo>
                    <a:pt x="388" y="107"/>
                  </a:lnTo>
                  <a:lnTo>
                    <a:pt x="385" y="130"/>
                  </a:lnTo>
                  <a:lnTo>
                    <a:pt x="383" y="146"/>
                  </a:lnTo>
                  <a:lnTo>
                    <a:pt x="378" y="164"/>
                  </a:lnTo>
                  <a:lnTo>
                    <a:pt x="385" y="176"/>
                  </a:lnTo>
                  <a:lnTo>
                    <a:pt x="399" y="137"/>
                  </a:lnTo>
                  <a:lnTo>
                    <a:pt x="408" y="132"/>
                  </a:lnTo>
                  <a:lnTo>
                    <a:pt x="426" y="112"/>
                  </a:lnTo>
                  <a:lnTo>
                    <a:pt x="438" y="89"/>
                  </a:lnTo>
                  <a:lnTo>
                    <a:pt x="463" y="84"/>
                  </a:lnTo>
                  <a:lnTo>
                    <a:pt x="486" y="70"/>
                  </a:lnTo>
                  <a:lnTo>
                    <a:pt x="502" y="50"/>
                  </a:lnTo>
                  <a:lnTo>
                    <a:pt x="523" y="50"/>
                  </a:lnTo>
                  <a:lnTo>
                    <a:pt x="564" y="48"/>
                  </a:lnTo>
                  <a:lnTo>
                    <a:pt x="608" y="41"/>
                  </a:lnTo>
                  <a:lnTo>
                    <a:pt x="626" y="36"/>
                  </a:lnTo>
                  <a:lnTo>
                    <a:pt x="644" y="36"/>
                  </a:lnTo>
                  <a:lnTo>
                    <a:pt x="665" y="36"/>
                  </a:lnTo>
                  <a:lnTo>
                    <a:pt x="683" y="43"/>
                  </a:lnTo>
                  <a:lnTo>
                    <a:pt x="706" y="64"/>
                  </a:lnTo>
                  <a:lnTo>
                    <a:pt x="695" y="66"/>
                  </a:lnTo>
                  <a:lnTo>
                    <a:pt x="669" y="73"/>
                  </a:lnTo>
                  <a:lnTo>
                    <a:pt x="672" y="93"/>
                  </a:lnTo>
                  <a:lnTo>
                    <a:pt x="692" y="96"/>
                  </a:lnTo>
                  <a:lnTo>
                    <a:pt x="704" y="96"/>
                  </a:lnTo>
                  <a:lnTo>
                    <a:pt x="697" y="114"/>
                  </a:lnTo>
                  <a:lnTo>
                    <a:pt x="672" y="134"/>
                  </a:lnTo>
                  <a:lnTo>
                    <a:pt x="658" y="137"/>
                  </a:lnTo>
                  <a:lnTo>
                    <a:pt x="663" y="153"/>
                  </a:lnTo>
                  <a:lnTo>
                    <a:pt x="667" y="160"/>
                  </a:lnTo>
                  <a:lnTo>
                    <a:pt x="658" y="176"/>
                  </a:lnTo>
                  <a:lnTo>
                    <a:pt x="669" y="192"/>
                  </a:lnTo>
                  <a:lnTo>
                    <a:pt x="647" y="201"/>
                  </a:lnTo>
                  <a:lnTo>
                    <a:pt x="626" y="208"/>
                  </a:lnTo>
                  <a:lnTo>
                    <a:pt x="621" y="233"/>
                  </a:lnTo>
                  <a:lnTo>
                    <a:pt x="608" y="253"/>
                  </a:lnTo>
                  <a:lnTo>
                    <a:pt x="592" y="269"/>
                  </a:lnTo>
                  <a:lnTo>
                    <a:pt x="574" y="279"/>
                  </a:lnTo>
                  <a:lnTo>
                    <a:pt x="621" y="279"/>
                  </a:lnTo>
                  <a:lnTo>
                    <a:pt x="647" y="279"/>
                  </a:lnTo>
                  <a:lnTo>
                    <a:pt x="663" y="283"/>
                  </a:lnTo>
                  <a:lnTo>
                    <a:pt x="683" y="274"/>
                  </a:lnTo>
                  <a:lnTo>
                    <a:pt x="692" y="295"/>
                  </a:lnTo>
                  <a:lnTo>
                    <a:pt x="959" y="295"/>
                  </a:lnTo>
                  <a:lnTo>
                    <a:pt x="971" y="279"/>
                  </a:lnTo>
                  <a:lnTo>
                    <a:pt x="996" y="258"/>
                  </a:lnTo>
                  <a:lnTo>
                    <a:pt x="1012" y="231"/>
                  </a:lnTo>
                  <a:lnTo>
                    <a:pt x="1035" y="205"/>
                  </a:lnTo>
                  <a:lnTo>
                    <a:pt x="1044" y="180"/>
                  </a:lnTo>
                  <a:lnTo>
                    <a:pt x="1055" y="155"/>
                  </a:lnTo>
                  <a:lnTo>
                    <a:pt x="1076" y="146"/>
                  </a:lnTo>
                  <a:lnTo>
                    <a:pt x="1080" y="132"/>
                  </a:lnTo>
                  <a:lnTo>
                    <a:pt x="1099" y="137"/>
                  </a:lnTo>
                  <a:lnTo>
                    <a:pt x="1117" y="123"/>
                  </a:lnTo>
                  <a:lnTo>
                    <a:pt x="1126" y="134"/>
                  </a:lnTo>
                  <a:lnTo>
                    <a:pt x="1147" y="144"/>
                  </a:lnTo>
                  <a:lnTo>
                    <a:pt x="1167" y="148"/>
                  </a:lnTo>
                  <a:lnTo>
                    <a:pt x="1188" y="155"/>
                  </a:lnTo>
                  <a:lnTo>
                    <a:pt x="1201" y="146"/>
                  </a:lnTo>
                  <a:lnTo>
                    <a:pt x="1220" y="157"/>
                  </a:lnTo>
                  <a:lnTo>
                    <a:pt x="1231" y="176"/>
                  </a:lnTo>
                  <a:lnTo>
                    <a:pt x="1254" y="180"/>
                  </a:lnTo>
                  <a:lnTo>
                    <a:pt x="1263" y="201"/>
                  </a:lnTo>
                  <a:lnTo>
                    <a:pt x="1252" y="212"/>
                  </a:lnTo>
                  <a:lnTo>
                    <a:pt x="1222" y="208"/>
                  </a:lnTo>
                  <a:lnTo>
                    <a:pt x="1199" y="199"/>
                  </a:lnTo>
                  <a:lnTo>
                    <a:pt x="1194" y="215"/>
                  </a:lnTo>
                  <a:lnTo>
                    <a:pt x="1226" y="217"/>
                  </a:lnTo>
                  <a:lnTo>
                    <a:pt x="1252" y="235"/>
                  </a:lnTo>
                  <a:lnTo>
                    <a:pt x="1288" y="226"/>
                  </a:lnTo>
                  <a:lnTo>
                    <a:pt x="1295" y="194"/>
                  </a:lnTo>
                  <a:lnTo>
                    <a:pt x="1313" y="171"/>
                  </a:lnTo>
                  <a:lnTo>
                    <a:pt x="1331" y="178"/>
                  </a:lnTo>
                  <a:lnTo>
                    <a:pt x="1327" y="189"/>
                  </a:lnTo>
                  <a:lnTo>
                    <a:pt x="1315" y="201"/>
                  </a:lnTo>
                  <a:lnTo>
                    <a:pt x="1315" y="217"/>
                  </a:lnTo>
                  <a:lnTo>
                    <a:pt x="1338" y="199"/>
                  </a:lnTo>
                  <a:lnTo>
                    <a:pt x="1357" y="180"/>
                  </a:lnTo>
                  <a:lnTo>
                    <a:pt x="1391" y="176"/>
                  </a:lnTo>
                  <a:lnTo>
                    <a:pt x="1432" y="160"/>
                  </a:lnTo>
                  <a:lnTo>
                    <a:pt x="1462" y="146"/>
                  </a:lnTo>
                  <a:lnTo>
                    <a:pt x="1471" y="130"/>
                  </a:lnTo>
                  <a:lnTo>
                    <a:pt x="1446" y="132"/>
                  </a:lnTo>
                  <a:lnTo>
                    <a:pt x="1420" y="114"/>
                  </a:lnTo>
                  <a:lnTo>
                    <a:pt x="1407" y="89"/>
                  </a:lnTo>
                  <a:lnTo>
                    <a:pt x="1420" y="54"/>
                  </a:lnTo>
                  <a:lnTo>
                    <a:pt x="1448" y="32"/>
                  </a:lnTo>
                  <a:lnTo>
                    <a:pt x="1468" y="13"/>
                  </a:lnTo>
                  <a:lnTo>
                    <a:pt x="1498" y="13"/>
                  </a:lnTo>
                  <a:lnTo>
                    <a:pt x="1523" y="0"/>
                  </a:lnTo>
                  <a:lnTo>
                    <a:pt x="1521" y="16"/>
                  </a:lnTo>
                  <a:lnTo>
                    <a:pt x="1500" y="20"/>
                  </a:lnTo>
                  <a:lnTo>
                    <a:pt x="1494" y="27"/>
                  </a:lnTo>
                  <a:lnTo>
                    <a:pt x="1473" y="29"/>
                  </a:lnTo>
                  <a:lnTo>
                    <a:pt x="1459" y="48"/>
                  </a:lnTo>
                  <a:lnTo>
                    <a:pt x="1450" y="68"/>
                  </a:lnTo>
                  <a:lnTo>
                    <a:pt x="1446" y="89"/>
                  </a:lnTo>
                  <a:lnTo>
                    <a:pt x="1468" y="123"/>
                  </a:lnTo>
                  <a:lnTo>
                    <a:pt x="1503" y="139"/>
                  </a:lnTo>
                  <a:lnTo>
                    <a:pt x="1530" y="153"/>
                  </a:lnTo>
                  <a:lnTo>
                    <a:pt x="1539" y="157"/>
                  </a:lnTo>
                  <a:lnTo>
                    <a:pt x="1554" y="176"/>
                  </a:lnTo>
                  <a:lnTo>
                    <a:pt x="1563" y="171"/>
                  </a:lnTo>
                  <a:lnTo>
                    <a:pt x="1563" y="157"/>
                  </a:lnTo>
                  <a:lnTo>
                    <a:pt x="1558" y="137"/>
                  </a:lnTo>
                  <a:lnTo>
                    <a:pt x="1548" y="125"/>
                  </a:lnTo>
                  <a:lnTo>
                    <a:pt x="1544" y="112"/>
                  </a:lnTo>
                  <a:lnTo>
                    <a:pt x="1554" y="86"/>
                  </a:lnTo>
                  <a:lnTo>
                    <a:pt x="1579" y="86"/>
                  </a:lnTo>
                  <a:lnTo>
                    <a:pt x="1600" y="86"/>
                  </a:lnTo>
                  <a:lnTo>
                    <a:pt x="1609" y="96"/>
                  </a:lnTo>
                  <a:lnTo>
                    <a:pt x="1613" y="118"/>
                  </a:lnTo>
                  <a:lnTo>
                    <a:pt x="1625" y="139"/>
                  </a:lnTo>
                  <a:lnTo>
                    <a:pt x="1629" y="118"/>
                  </a:lnTo>
                  <a:lnTo>
                    <a:pt x="1647" y="107"/>
                  </a:lnTo>
                  <a:lnTo>
                    <a:pt x="1666" y="107"/>
                  </a:lnTo>
                  <a:lnTo>
                    <a:pt x="1684" y="107"/>
                  </a:lnTo>
                  <a:lnTo>
                    <a:pt x="1702" y="109"/>
                  </a:lnTo>
                  <a:lnTo>
                    <a:pt x="1702" y="86"/>
                  </a:lnTo>
                  <a:lnTo>
                    <a:pt x="1716" y="89"/>
                  </a:lnTo>
                  <a:lnTo>
                    <a:pt x="1727" y="102"/>
                  </a:lnTo>
                  <a:lnTo>
                    <a:pt x="1750" y="102"/>
                  </a:lnTo>
                  <a:lnTo>
                    <a:pt x="1768" y="93"/>
                  </a:lnTo>
                  <a:lnTo>
                    <a:pt x="1789" y="112"/>
                  </a:lnTo>
                  <a:lnTo>
                    <a:pt x="1814" y="134"/>
                  </a:lnTo>
                  <a:lnTo>
                    <a:pt x="1842" y="139"/>
                  </a:lnTo>
                  <a:lnTo>
                    <a:pt x="1880" y="155"/>
                  </a:lnTo>
                  <a:lnTo>
                    <a:pt x="1887" y="153"/>
                  </a:lnTo>
                  <a:lnTo>
                    <a:pt x="1915" y="199"/>
                  </a:lnTo>
                  <a:lnTo>
                    <a:pt x="1956" y="269"/>
                  </a:lnTo>
                  <a:lnTo>
                    <a:pt x="1983" y="311"/>
                  </a:lnTo>
                  <a:lnTo>
                    <a:pt x="1997" y="354"/>
                  </a:lnTo>
                  <a:lnTo>
                    <a:pt x="1978" y="363"/>
                  </a:lnTo>
                  <a:lnTo>
                    <a:pt x="1969" y="383"/>
                  </a:lnTo>
                  <a:lnTo>
                    <a:pt x="1978" y="417"/>
                  </a:lnTo>
                  <a:lnTo>
                    <a:pt x="1990" y="449"/>
                  </a:lnTo>
                  <a:lnTo>
                    <a:pt x="2004" y="449"/>
                  </a:lnTo>
                  <a:lnTo>
                    <a:pt x="2006" y="424"/>
                  </a:lnTo>
                  <a:lnTo>
                    <a:pt x="2017" y="417"/>
                  </a:lnTo>
                  <a:lnTo>
                    <a:pt x="2024" y="440"/>
                  </a:lnTo>
                  <a:lnTo>
                    <a:pt x="2008" y="449"/>
                  </a:lnTo>
                  <a:lnTo>
                    <a:pt x="2036" y="474"/>
                  </a:lnTo>
                  <a:lnTo>
                    <a:pt x="2015" y="499"/>
                  </a:lnTo>
                  <a:lnTo>
                    <a:pt x="2010" y="515"/>
                  </a:lnTo>
                  <a:lnTo>
                    <a:pt x="2045" y="522"/>
                  </a:lnTo>
                  <a:lnTo>
                    <a:pt x="2031" y="543"/>
                  </a:lnTo>
                  <a:lnTo>
                    <a:pt x="2013" y="550"/>
                  </a:lnTo>
                  <a:lnTo>
                    <a:pt x="2013" y="582"/>
                  </a:lnTo>
                  <a:lnTo>
                    <a:pt x="2031" y="609"/>
                  </a:lnTo>
                  <a:lnTo>
                    <a:pt x="2013" y="616"/>
                  </a:lnTo>
                  <a:lnTo>
                    <a:pt x="1983" y="607"/>
                  </a:lnTo>
                  <a:lnTo>
                    <a:pt x="1994" y="591"/>
                  </a:lnTo>
                  <a:lnTo>
                    <a:pt x="2015" y="591"/>
                  </a:lnTo>
                  <a:lnTo>
                    <a:pt x="2015" y="559"/>
                  </a:lnTo>
                  <a:lnTo>
                    <a:pt x="1992" y="568"/>
                  </a:lnTo>
                  <a:lnTo>
                    <a:pt x="1990" y="540"/>
                  </a:lnTo>
                  <a:lnTo>
                    <a:pt x="2010" y="522"/>
                  </a:lnTo>
                  <a:lnTo>
                    <a:pt x="2015" y="504"/>
                  </a:lnTo>
                  <a:lnTo>
                    <a:pt x="2006" y="476"/>
                  </a:lnTo>
                  <a:lnTo>
                    <a:pt x="2004" y="447"/>
                  </a:lnTo>
                  <a:lnTo>
                    <a:pt x="1988" y="460"/>
                  </a:lnTo>
                  <a:lnTo>
                    <a:pt x="1972" y="483"/>
                  </a:lnTo>
                  <a:lnTo>
                    <a:pt x="1947" y="504"/>
                  </a:lnTo>
                  <a:lnTo>
                    <a:pt x="1956" y="534"/>
                  </a:lnTo>
                  <a:lnTo>
                    <a:pt x="1953" y="559"/>
                  </a:lnTo>
                  <a:lnTo>
                    <a:pt x="1953" y="575"/>
                  </a:lnTo>
                  <a:lnTo>
                    <a:pt x="1965" y="598"/>
                  </a:lnTo>
                  <a:lnTo>
                    <a:pt x="1956" y="605"/>
                  </a:lnTo>
                  <a:lnTo>
                    <a:pt x="1931" y="579"/>
                  </a:lnTo>
                  <a:lnTo>
                    <a:pt x="1915" y="550"/>
                  </a:lnTo>
                  <a:lnTo>
                    <a:pt x="1908" y="529"/>
                  </a:lnTo>
                  <a:lnTo>
                    <a:pt x="1894" y="518"/>
                  </a:lnTo>
                  <a:lnTo>
                    <a:pt x="1876" y="534"/>
                  </a:lnTo>
                  <a:lnTo>
                    <a:pt x="1864" y="554"/>
                  </a:lnTo>
                  <a:lnTo>
                    <a:pt x="1889" y="579"/>
                  </a:lnTo>
                  <a:lnTo>
                    <a:pt x="1903" y="605"/>
                  </a:lnTo>
                  <a:lnTo>
                    <a:pt x="1908" y="639"/>
                  </a:lnTo>
                  <a:lnTo>
                    <a:pt x="1905" y="669"/>
                  </a:lnTo>
                  <a:lnTo>
                    <a:pt x="1905" y="698"/>
                  </a:lnTo>
                  <a:lnTo>
                    <a:pt x="1917" y="678"/>
                  </a:lnTo>
                  <a:lnTo>
                    <a:pt x="1937" y="680"/>
                  </a:lnTo>
                  <a:lnTo>
                    <a:pt x="1944" y="701"/>
                  </a:lnTo>
                  <a:lnTo>
                    <a:pt x="1928" y="724"/>
                  </a:lnTo>
                  <a:lnTo>
                    <a:pt x="1910" y="721"/>
                  </a:lnTo>
                  <a:lnTo>
                    <a:pt x="1908" y="740"/>
                  </a:lnTo>
                  <a:lnTo>
                    <a:pt x="1921" y="753"/>
                  </a:lnTo>
                  <a:lnTo>
                    <a:pt x="1915" y="776"/>
                  </a:lnTo>
                  <a:lnTo>
                    <a:pt x="1935" y="797"/>
                  </a:lnTo>
                  <a:lnTo>
                    <a:pt x="1921" y="813"/>
                  </a:lnTo>
                  <a:lnTo>
                    <a:pt x="1942" y="833"/>
                  </a:lnTo>
                  <a:lnTo>
                    <a:pt x="1928" y="854"/>
                  </a:lnTo>
                  <a:lnTo>
                    <a:pt x="1951" y="842"/>
                  </a:lnTo>
                  <a:lnTo>
                    <a:pt x="1944" y="863"/>
                  </a:lnTo>
                  <a:lnTo>
                    <a:pt x="1985" y="854"/>
                  </a:lnTo>
                  <a:lnTo>
                    <a:pt x="1972" y="879"/>
                  </a:lnTo>
                  <a:lnTo>
                    <a:pt x="1944" y="863"/>
                  </a:lnTo>
                  <a:lnTo>
                    <a:pt x="1942" y="891"/>
                  </a:lnTo>
                  <a:lnTo>
                    <a:pt x="1983" y="888"/>
                  </a:lnTo>
                  <a:lnTo>
                    <a:pt x="1965" y="916"/>
                  </a:lnTo>
                  <a:lnTo>
                    <a:pt x="1937" y="886"/>
                  </a:lnTo>
                  <a:lnTo>
                    <a:pt x="1953" y="929"/>
                  </a:lnTo>
                  <a:lnTo>
                    <a:pt x="1985" y="957"/>
                  </a:lnTo>
                  <a:lnTo>
                    <a:pt x="1956" y="957"/>
                  </a:lnTo>
                  <a:lnTo>
                    <a:pt x="1937" y="891"/>
                  </a:lnTo>
                  <a:lnTo>
                    <a:pt x="1944" y="845"/>
                  </a:lnTo>
                  <a:lnTo>
                    <a:pt x="1921" y="847"/>
                  </a:lnTo>
                  <a:lnTo>
                    <a:pt x="1905" y="822"/>
                  </a:lnTo>
                  <a:lnTo>
                    <a:pt x="1921" y="810"/>
                  </a:lnTo>
                  <a:lnTo>
                    <a:pt x="1921" y="785"/>
                  </a:lnTo>
                  <a:lnTo>
                    <a:pt x="1910" y="728"/>
                  </a:lnTo>
                  <a:lnTo>
                    <a:pt x="1908" y="691"/>
                  </a:lnTo>
                  <a:lnTo>
                    <a:pt x="1903" y="666"/>
                  </a:lnTo>
                  <a:lnTo>
                    <a:pt x="1883" y="698"/>
                  </a:lnTo>
                  <a:lnTo>
                    <a:pt x="1846" y="707"/>
                  </a:lnTo>
                  <a:lnTo>
                    <a:pt x="1828" y="730"/>
                  </a:lnTo>
                  <a:lnTo>
                    <a:pt x="1835" y="760"/>
                  </a:lnTo>
                  <a:lnTo>
                    <a:pt x="1821" y="776"/>
                  </a:lnTo>
                  <a:lnTo>
                    <a:pt x="1800" y="772"/>
                  </a:lnTo>
                  <a:lnTo>
                    <a:pt x="1819" y="746"/>
                  </a:lnTo>
                  <a:lnTo>
                    <a:pt x="1805" y="735"/>
                  </a:lnTo>
                  <a:lnTo>
                    <a:pt x="1784" y="749"/>
                  </a:lnTo>
                  <a:lnTo>
                    <a:pt x="1784" y="774"/>
                  </a:lnTo>
                  <a:lnTo>
                    <a:pt x="1819" y="810"/>
                  </a:lnTo>
                  <a:lnTo>
                    <a:pt x="1828" y="836"/>
                  </a:lnTo>
                  <a:lnTo>
                    <a:pt x="1803" y="870"/>
                  </a:lnTo>
                  <a:lnTo>
                    <a:pt x="1803" y="952"/>
                  </a:lnTo>
                  <a:lnTo>
                    <a:pt x="1803" y="987"/>
                  </a:lnTo>
                  <a:lnTo>
                    <a:pt x="1807" y="1007"/>
                  </a:lnTo>
                  <a:lnTo>
                    <a:pt x="1844" y="1003"/>
                  </a:lnTo>
                  <a:lnTo>
                    <a:pt x="1869" y="1010"/>
                  </a:lnTo>
                  <a:lnTo>
                    <a:pt x="1887" y="977"/>
                  </a:lnTo>
                  <a:lnTo>
                    <a:pt x="1908" y="977"/>
                  </a:lnTo>
                  <a:lnTo>
                    <a:pt x="1901" y="996"/>
                  </a:lnTo>
                  <a:lnTo>
                    <a:pt x="1921" y="1019"/>
                  </a:lnTo>
                  <a:lnTo>
                    <a:pt x="1951" y="1026"/>
                  </a:lnTo>
                  <a:lnTo>
                    <a:pt x="1947" y="1003"/>
                  </a:lnTo>
                  <a:lnTo>
                    <a:pt x="2013" y="1003"/>
                  </a:lnTo>
                  <a:lnTo>
                    <a:pt x="1990" y="1012"/>
                  </a:lnTo>
                  <a:lnTo>
                    <a:pt x="1988" y="1030"/>
                  </a:lnTo>
                  <a:lnTo>
                    <a:pt x="2017" y="1039"/>
                  </a:lnTo>
                  <a:lnTo>
                    <a:pt x="2047" y="1048"/>
                  </a:lnTo>
                  <a:lnTo>
                    <a:pt x="2061" y="1016"/>
                  </a:lnTo>
                  <a:lnTo>
                    <a:pt x="2065" y="996"/>
                  </a:lnTo>
                  <a:lnTo>
                    <a:pt x="2045" y="1000"/>
                  </a:lnTo>
                  <a:lnTo>
                    <a:pt x="2024" y="989"/>
                  </a:lnTo>
                  <a:lnTo>
                    <a:pt x="2013" y="982"/>
                  </a:lnTo>
                  <a:lnTo>
                    <a:pt x="2006" y="1010"/>
                  </a:lnTo>
                  <a:lnTo>
                    <a:pt x="2006" y="1007"/>
                  </a:lnTo>
                  <a:lnTo>
                    <a:pt x="1942" y="1007"/>
                  </a:lnTo>
                  <a:lnTo>
                    <a:pt x="1928" y="975"/>
                  </a:lnTo>
                  <a:lnTo>
                    <a:pt x="1910" y="980"/>
                  </a:lnTo>
                  <a:lnTo>
                    <a:pt x="1889" y="977"/>
                  </a:lnTo>
                  <a:lnTo>
                    <a:pt x="1883" y="941"/>
                  </a:lnTo>
                  <a:lnTo>
                    <a:pt x="1871" y="925"/>
                  </a:lnTo>
                  <a:lnTo>
                    <a:pt x="1892" y="911"/>
                  </a:lnTo>
                  <a:lnTo>
                    <a:pt x="1892" y="891"/>
                  </a:lnTo>
                  <a:lnTo>
                    <a:pt x="1862" y="904"/>
                  </a:lnTo>
                  <a:lnTo>
                    <a:pt x="1842" y="918"/>
                  </a:lnTo>
                  <a:lnTo>
                    <a:pt x="1828" y="948"/>
                  </a:lnTo>
                  <a:lnTo>
                    <a:pt x="1803" y="948"/>
                  </a:lnTo>
                  <a:lnTo>
                    <a:pt x="1803" y="884"/>
                  </a:lnTo>
                  <a:lnTo>
                    <a:pt x="1787" y="893"/>
                  </a:lnTo>
                  <a:lnTo>
                    <a:pt x="1768" y="868"/>
                  </a:lnTo>
                  <a:lnTo>
                    <a:pt x="1748" y="838"/>
                  </a:lnTo>
                  <a:lnTo>
                    <a:pt x="1718" y="847"/>
                  </a:lnTo>
                  <a:lnTo>
                    <a:pt x="1716" y="872"/>
                  </a:lnTo>
                  <a:lnTo>
                    <a:pt x="1730" y="909"/>
                  </a:lnTo>
                  <a:lnTo>
                    <a:pt x="1730" y="936"/>
                  </a:lnTo>
                  <a:lnTo>
                    <a:pt x="1750" y="966"/>
                  </a:lnTo>
                  <a:lnTo>
                    <a:pt x="1762" y="980"/>
                  </a:lnTo>
                  <a:lnTo>
                    <a:pt x="1739" y="980"/>
                  </a:lnTo>
                  <a:lnTo>
                    <a:pt x="1723" y="966"/>
                  </a:lnTo>
                  <a:lnTo>
                    <a:pt x="1711" y="982"/>
                  </a:lnTo>
                  <a:lnTo>
                    <a:pt x="1743" y="1021"/>
                  </a:lnTo>
                  <a:lnTo>
                    <a:pt x="1768" y="1046"/>
                  </a:lnTo>
                  <a:lnTo>
                    <a:pt x="1791" y="1042"/>
                  </a:lnTo>
                  <a:lnTo>
                    <a:pt x="1819" y="1051"/>
                  </a:lnTo>
                  <a:lnTo>
                    <a:pt x="1853" y="1051"/>
                  </a:lnTo>
                  <a:lnTo>
                    <a:pt x="1883" y="1046"/>
                  </a:lnTo>
                  <a:lnTo>
                    <a:pt x="1910" y="1058"/>
                  </a:lnTo>
                  <a:lnTo>
                    <a:pt x="1903" y="1067"/>
                  </a:lnTo>
                  <a:lnTo>
                    <a:pt x="1871" y="1055"/>
                  </a:lnTo>
                  <a:lnTo>
                    <a:pt x="1871" y="1110"/>
                  </a:lnTo>
                  <a:lnTo>
                    <a:pt x="1894" y="1110"/>
                  </a:lnTo>
                  <a:lnTo>
                    <a:pt x="1908" y="1103"/>
                  </a:lnTo>
                  <a:lnTo>
                    <a:pt x="1910" y="1090"/>
                  </a:lnTo>
                  <a:lnTo>
                    <a:pt x="1937" y="1092"/>
                  </a:lnTo>
                  <a:lnTo>
                    <a:pt x="1969" y="1078"/>
                  </a:lnTo>
                  <a:lnTo>
                    <a:pt x="1967" y="1101"/>
                  </a:lnTo>
                  <a:lnTo>
                    <a:pt x="1978" y="1119"/>
                  </a:lnTo>
                  <a:lnTo>
                    <a:pt x="1994" y="1133"/>
                  </a:lnTo>
                  <a:lnTo>
                    <a:pt x="2013" y="1119"/>
                  </a:lnTo>
                  <a:lnTo>
                    <a:pt x="2010" y="1094"/>
                  </a:lnTo>
                  <a:lnTo>
                    <a:pt x="2013" y="1071"/>
                  </a:lnTo>
                  <a:lnTo>
                    <a:pt x="2024" y="1094"/>
                  </a:lnTo>
                  <a:lnTo>
                    <a:pt x="2031" y="1122"/>
                  </a:lnTo>
                  <a:lnTo>
                    <a:pt x="2006" y="1182"/>
                  </a:lnTo>
                  <a:lnTo>
                    <a:pt x="1978" y="1237"/>
                  </a:lnTo>
                  <a:lnTo>
                    <a:pt x="1953" y="1290"/>
                  </a:lnTo>
                  <a:lnTo>
                    <a:pt x="1921" y="1349"/>
                  </a:lnTo>
                  <a:lnTo>
                    <a:pt x="1901" y="1331"/>
                  </a:lnTo>
                  <a:lnTo>
                    <a:pt x="1871" y="1345"/>
                  </a:lnTo>
                  <a:lnTo>
                    <a:pt x="1862" y="1363"/>
                  </a:lnTo>
                  <a:lnTo>
                    <a:pt x="1842" y="1377"/>
                  </a:lnTo>
                  <a:lnTo>
                    <a:pt x="1805" y="1383"/>
                  </a:lnTo>
                  <a:lnTo>
                    <a:pt x="1782" y="1381"/>
                  </a:lnTo>
                  <a:lnTo>
                    <a:pt x="1789" y="1347"/>
                  </a:lnTo>
                  <a:lnTo>
                    <a:pt x="1787" y="1322"/>
                  </a:lnTo>
                  <a:lnTo>
                    <a:pt x="1803" y="1301"/>
                  </a:lnTo>
                  <a:lnTo>
                    <a:pt x="1800" y="1283"/>
                  </a:lnTo>
                  <a:lnTo>
                    <a:pt x="1773" y="1267"/>
                  </a:lnTo>
                  <a:lnTo>
                    <a:pt x="1778" y="1237"/>
                  </a:lnTo>
                  <a:lnTo>
                    <a:pt x="1784" y="1205"/>
                  </a:lnTo>
                  <a:lnTo>
                    <a:pt x="1810" y="1178"/>
                  </a:lnTo>
                  <a:lnTo>
                    <a:pt x="1844" y="1175"/>
                  </a:lnTo>
                  <a:lnTo>
                    <a:pt x="1851" y="1155"/>
                  </a:lnTo>
                  <a:lnTo>
                    <a:pt x="1842" y="1122"/>
                  </a:lnTo>
                  <a:lnTo>
                    <a:pt x="1862" y="1112"/>
                  </a:lnTo>
                  <a:lnTo>
                    <a:pt x="1871" y="1110"/>
                  </a:lnTo>
                  <a:lnTo>
                    <a:pt x="1871" y="1058"/>
                  </a:lnTo>
                  <a:lnTo>
                    <a:pt x="1844" y="1062"/>
                  </a:lnTo>
                  <a:lnTo>
                    <a:pt x="1819" y="1074"/>
                  </a:lnTo>
                  <a:lnTo>
                    <a:pt x="1794" y="1058"/>
                  </a:lnTo>
                  <a:lnTo>
                    <a:pt x="1766" y="1058"/>
                  </a:lnTo>
                  <a:lnTo>
                    <a:pt x="1732" y="1046"/>
                  </a:lnTo>
                  <a:lnTo>
                    <a:pt x="1711" y="1021"/>
                  </a:lnTo>
                  <a:lnTo>
                    <a:pt x="1700" y="998"/>
                  </a:lnTo>
                  <a:lnTo>
                    <a:pt x="1682" y="977"/>
                  </a:lnTo>
                  <a:lnTo>
                    <a:pt x="1700" y="973"/>
                  </a:lnTo>
                  <a:lnTo>
                    <a:pt x="1711" y="980"/>
                  </a:lnTo>
                  <a:lnTo>
                    <a:pt x="1725" y="961"/>
                  </a:lnTo>
                  <a:lnTo>
                    <a:pt x="1718" y="934"/>
                  </a:lnTo>
                  <a:lnTo>
                    <a:pt x="1700" y="932"/>
                  </a:lnTo>
                  <a:lnTo>
                    <a:pt x="1689" y="900"/>
                  </a:lnTo>
                  <a:lnTo>
                    <a:pt x="1698" y="868"/>
                  </a:lnTo>
                  <a:lnTo>
                    <a:pt x="1711" y="842"/>
                  </a:lnTo>
                  <a:lnTo>
                    <a:pt x="1707" y="810"/>
                  </a:lnTo>
                  <a:lnTo>
                    <a:pt x="1698" y="808"/>
                  </a:lnTo>
                  <a:lnTo>
                    <a:pt x="1682" y="824"/>
                  </a:lnTo>
                  <a:lnTo>
                    <a:pt x="1679" y="842"/>
                  </a:lnTo>
                  <a:lnTo>
                    <a:pt x="1661" y="810"/>
                  </a:lnTo>
                  <a:lnTo>
                    <a:pt x="1634" y="788"/>
                  </a:lnTo>
                  <a:lnTo>
                    <a:pt x="1613" y="790"/>
                  </a:lnTo>
                  <a:lnTo>
                    <a:pt x="1595" y="822"/>
                  </a:lnTo>
                  <a:lnTo>
                    <a:pt x="1568" y="838"/>
                  </a:lnTo>
                  <a:lnTo>
                    <a:pt x="1568" y="859"/>
                  </a:lnTo>
                  <a:lnTo>
                    <a:pt x="1577" y="884"/>
                  </a:lnTo>
                  <a:lnTo>
                    <a:pt x="1574" y="907"/>
                  </a:lnTo>
                  <a:lnTo>
                    <a:pt x="1554" y="904"/>
                  </a:lnTo>
                  <a:lnTo>
                    <a:pt x="1537" y="872"/>
                  </a:lnTo>
                  <a:lnTo>
                    <a:pt x="1514" y="842"/>
                  </a:lnTo>
                  <a:lnTo>
                    <a:pt x="1489" y="822"/>
                  </a:lnTo>
                  <a:lnTo>
                    <a:pt x="1471" y="788"/>
                  </a:lnTo>
                  <a:lnTo>
                    <a:pt x="1452" y="774"/>
                  </a:lnTo>
                  <a:lnTo>
                    <a:pt x="1418" y="774"/>
                  </a:lnTo>
                  <a:lnTo>
                    <a:pt x="1391" y="774"/>
                  </a:lnTo>
                  <a:lnTo>
                    <a:pt x="1373" y="790"/>
                  </a:lnTo>
                  <a:lnTo>
                    <a:pt x="1354" y="767"/>
                  </a:lnTo>
                  <a:lnTo>
                    <a:pt x="1334" y="751"/>
                  </a:lnTo>
                  <a:lnTo>
                    <a:pt x="1306" y="728"/>
                  </a:lnTo>
                  <a:lnTo>
                    <a:pt x="1327" y="767"/>
                  </a:lnTo>
                  <a:lnTo>
                    <a:pt x="1357" y="776"/>
                  </a:lnTo>
                  <a:lnTo>
                    <a:pt x="1377" y="810"/>
                  </a:lnTo>
                  <a:lnTo>
                    <a:pt x="1370" y="838"/>
                  </a:lnTo>
                  <a:lnTo>
                    <a:pt x="1350" y="854"/>
                  </a:lnTo>
                  <a:lnTo>
                    <a:pt x="1318" y="859"/>
                  </a:lnTo>
                  <a:lnTo>
                    <a:pt x="1293" y="870"/>
                  </a:lnTo>
                  <a:lnTo>
                    <a:pt x="1274" y="895"/>
                  </a:lnTo>
                  <a:lnTo>
                    <a:pt x="1263" y="911"/>
                  </a:lnTo>
                  <a:lnTo>
                    <a:pt x="1254" y="879"/>
                  </a:lnTo>
                  <a:lnTo>
                    <a:pt x="1240" y="838"/>
                  </a:lnTo>
                  <a:lnTo>
                    <a:pt x="1220" y="815"/>
                  </a:lnTo>
                  <a:lnTo>
                    <a:pt x="1220" y="790"/>
                  </a:lnTo>
                  <a:lnTo>
                    <a:pt x="1201" y="792"/>
                  </a:lnTo>
                  <a:lnTo>
                    <a:pt x="1206" y="833"/>
                  </a:lnTo>
                  <a:lnTo>
                    <a:pt x="1224" y="868"/>
                  </a:lnTo>
                  <a:lnTo>
                    <a:pt x="1224" y="893"/>
                  </a:lnTo>
                  <a:lnTo>
                    <a:pt x="1252" y="909"/>
                  </a:lnTo>
                  <a:lnTo>
                    <a:pt x="1263" y="929"/>
                  </a:lnTo>
                  <a:lnTo>
                    <a:pt x="1290" y="918"/>
                  </a:lnTo>
                  <a:lnTo>
                    <a:pt x="1313" y="916"/>
                  </a:lnTo>
                  <a:lnTo>
                    <a:pt x="1343" y="904"/>
                  </a:lnTo>
                  <a:lnTo>
                    <a:pt x="1329" y="939"/>
                  </a:lnTo>
                  <a:lnTo>
                    <a:pt x="1306" y="987"/>
                  </a:lnTo>
                  <a:lnTo>
                    <a:pt x="1290" y="1016"/>
                  </a:lnTo>
                  <a:lnTo>
                    <a:pt x="1268" y="1042"/>
                  </a:lnTo>
                  <a:lnTo>
                    <a:pt x="1254" y="1067"/>
                  </a:lnTo>
                  <a:lnTo>
                    <a:pt x="1249" y="1119"/>
                  </a:lnTo>
                  <a:lnTo>
                    <a:pt x="1245" y="1159"/>
                  </a:lnTo>
                  <a:lnTo>
                    <a:pt x="1247" y="1194"/>
                  </a:lnTo>
                  <a:lnTo>
                    <a:pt x="1252" y="1228"/>
                  </a:lnTo>
                  <a:lnTo>
                    <a:pt x="1252" y="1237"/>
                  </a:lnTo>
                  <a:lnTo>
                    <a:pt x="1274" y="1235"/>
                  </a:lnTo>
                  <a:lnTo>
                    <a:pt x="1277" y="1205"/>
                  </a:lnTo>
                  <a:lnTo>
                    <a:pt x="1302" y="1175"/>
                  </a:lnTo>
                  <a:lnTo>
                    <a:pt x="1327" y="1159"/>
                  </a:lnTo>
                  <a:lnTo>
                    <a:pt x="1331" y="1191"/>
                  </a:lnTo>
                  <a:lnTo>
                    <a:pt x="1329" y="1221"/>
                  </a:lnTo>
                  <a:lnTo>
                    <a:pt x="1315" y="1237"/>
                  </a:lnTo>
                  <a:lnTo>
                    <a:pt x="1318" y="1255"/>
                  </a:lnTo>
                  <a:lnTo>
                    <a:pt x="1309" y="1294"/>
                  </a:lnTo>
                  <a:lnTo>
                    <a:pt x="1304" y="1315"/>
                  </a:lnTo>
                  <a:lnTo>
                    <a:pt x="1288" y="1322"/>
                  </a:lnTo>
                  <a:lnTo>
                    <a:pt x="1270" y="1301"/>
                  </a:lnTo>
                  <a:lnTo>
                    <a:pt x="1277" y="1269"/>
                  </a:lnTo>
                  <a:lnTo>
                    <a:pt x="1283" y="1258"/>
                  </a:lnTo>
                  <a:lnTo>
                    <a:pt x="1272" y="1237"/>
                  </a:lnTo>
                  <a:lnTo>
                    <a:pt x="1249" y="1239"/>
                  </a:lnTo>
                  <a:lnTo>
                    <a:pt x="1242" y="1267"/>
                  </a:lnTo>
                  <a:lnTo>
                    <a:pt x="1210" y="1283"/>
                  </a:lnTo>
                  <a:lnTo>
                    <a:pt x="1190" y="1301"/>
                  </a:lnTo>
                  <a:lnTo>
                    <a:pt x="1192" y="1331"/>
                  </a:lnTo>
                  <a:lnTo>
                    <a:pt x="1190" y="1370"/>
                  </a:lnTo>
                  <a:lnTo>
                    <a:pt x="1181" y="1406"/>
                  </a:lnTo>
                  <a:lnTo>
                    <a:pt x="1137" y="1450"/>
                  </a:lnTo>
                  <a:lnTo>
                    <a:pt x="1117" y="1452"/>
                  </a:lnTo>
                  <a:lnTo>
                    <a:pt x="1101" y="1425"/>
                  </a:lnTo>
                  <a:lnTo>
                    <a:pt x="1076" y="1406"/>
                  </a:lnTo>
                  <a:lnTo>
                    <a:pt x="1062" y="1397"/>
                  </a:lnTo>
                  <a:lnTo>
                    <a:pt x="1037" y="1345"/>
                  </a:lnTo>
                  <a:lnTo>
                    <a:pt x="1014" y="1317"/>
                  </a:lnTo>
                  <a:lnTo>
                    <a:pt x="996" y="1290"/>
                  </a:lnTo>
                  <a:lnTo>
                    <a:pt x="987" y="1264"/>
                  </a:lnTo>
                  <a:lnTo>
                    <a:pt x="984" y="1228"/>
                  </a:lnTo>
                  <a:lnTo>
                    <a:pt x="964" y="1205"/>
                  </a:lnTo>
                  <a:lnTo>
                    <a:pt x="957" y="1182"/>
                  </a:lnTo>
                  <a:lnTo>
                    <a:pt x="971" y="1152"/>
                  </a:lnTo>
                  <a:lnTo>
                    <a:pt x="971" y="1124"/>
                  </a:lnTo>
                  <a:lnTo>
                    <a:pt x="950" y="1110"/>
                  </a:lnTo>
                  <a:lnTo>
                    <a:pt x="918" y="1103"/>
                  </a:lnTo>
                  <a:lnTo>
                    <a:pt x="893" y="1094"/>
                  </a:lnTo>
                  <a:lnTo>
                    <a:pt x="879" y="1103"/>
                  </a:lnTo>
                  <a:lnTo>
                    <a:pt x="857" y="1110"/>
                  </a:lnTo>
                  <a:lnTo>
                    <a:pt x="836" y="1094"/>
                  </a:lnTo>
                  <a:lnTo>
                    <a:pt x="818" y="1076"/>
                  </a:lnTo>
                  <a:lnTo>
                    <a:pt x="793" y="1071"/>
                  </a:lnTo>
                  <a:lnTo>
                    <a:pt x="768" y="1058"/>
                  </a:lnTo>
                  <a:lnTo>
                    <a:pt x="745" y="1039"/>
                  </a:lnTo>
                  <a:lnTo>
                    <a:pt x="738" y="996"/>
                  </a:lnTo>
                  <a:lnTo>
                    <a:pt x="736" y="966"/>
                  </a:lnTo>
                  <a:lnTo>
                    <a:pt x="756" y="948"/>
                  </a:lnTo>
                  <a:lnTo>
                    <a:pt x="754" y="927"/>
                  </a:lnTo>
                  <a:lnTo>
                    <a:pt x="747" y="891"/>
                  </a:lnTo>
                  <a:lnTo>
                    <a:pt x="749" y="856"/>
                  </a:lnTo>
                  <a:lnTo>
                    <a:pt x="745" y="824"/>
                  </a:lnTo>
                  <a:lnTo>
                    <a:pt x="768" y="797"/>
                  </a:lnTo>
                  <a:lnTo>
                    <a:pt x="786" y="781"/>
                  </a:lnTo>
                  <a:lnTo>
                    <a:pt x="806" y="776"/>
                  </a:lnTo>
                  <a:lnTo>
                    <a:pt x="800" y="751"/>
                  </a:lnTo>
                  <a:lnTo>
                    <a:pt x="813" y="728"/>
                  </a:lnTo>
                  <a:lnTo>
                    <a:pt x="834" y="714"/>
                  </a:lnTo>
                  <a:lnTo>
                    <a:pt x="859" y="726"/>
                  </a:lnTo>
                  <a:lnTo>
                    <a:pt x="891" y="735"/>
                  </a:lnTo>
                  <a:lnTo>
                    <a:pt x="923" y="728"/>
                  </a:lnTo>
                  <a:lnTo>
                    <a:pt x="952" y="728"/>
                  </a:lnTo>
                  <a:lnTo>
                    <a:pt x="966" y="730"/>
                  </a:lnTo>
                  <a:lnTo>
                    <a:pt x="973" y="760"/>
                  </a:lnTo>
                  <a:lnTo>
                    <a:pt x="1000" y="765"/>
                  </a:lnTo>
                  <a:lnTo>
                    <a:pt x="1028" y="774"/>
                  </a:lnTo>
                  <a:lnTo>
                    <a:pt x="1044" y="772"/>
                  </a:lnTo>
                  <a:lnTo>
                    <a:pt x="1055" y="753"/>
                  </a:lnTo>
                  <a:lnTo>
                    <a:pt x="1064" y="740"/>
                  </a:lnTo>
                  <a:lnTo>
                    <a:pt x="1089" y="746"/>
                  </a:lnTo>
                  <a:lnTo>
                    <a:pt x="1119" y="760"/>
                  </a:lnTo>
                  <a:lnTo>
                    <a:pt x="1151" y="765"/>
                  </a:lnTo>
                  <a:lnTo>
                    <a:pt x="1174" y="767"/>
                  </a:lnTo>
                  <a:lnTo>
                    <a:pt x="1201" y="765"/>
                  </a:lnTo>
                  <a:lnTo>
                    <a:pt x="1220" y="746"/>
                  </a:lnTo>
                  <a:lnTo>
                    <a:pt x="1229" y="721"/>
                  </a:lnTo>
                  <a:lnTo>
                    <a:pt x="1240" y="701"/>
                  </a:lnTo>
                  <a:lnTo>
                    <a:pt x="1229" y="694"/>
                  </a:lnTo>
                  <a:lnTo>
                    <a:pt x="1215" y="678"/>
                  </a:lnTo>
                  <a:lnTo>
                    <a:pt x="1199" y="682"/>
                  </a:lnTo>
                  <a:lnTo>
                    <a:pt x="1169" y="682"/>
                  </a:lnTo>
                  <a:lnTo>
                    <a:pt x="1149" y="673"/>
                  </a:lnTo>
                  <a:lnTo>
                    <a:pt x="1147" y="650"/>
                  </a:lnTo>
                  <a:lnTo>
                    <a:pt x="1137" y="643"/>
                  </a:lnTo>
                  <a:lnTo>
                    <a:pt x="1126" y="650"/>
                  </a:lnTo>
                  <a:lnTo>
                    <a:pt x="1131" y="673"/>
                  </a:lnTo>
                  <a:lnTo>
                    <a:pt x="1121" y="691"/>
                  </a:lnTo>
                  <a:lnTo>
                    <a:pt x="1099" y="689"/>
                  </a:lnTo>
                  <a:lnTo>
                    <a:pt x="1087" y="671"/>
                  </a:lnTo>
                  <a:lnTo>
                    <a:pt x="1080" y="648"/>
                  </a:lnTo>
                  <a:lnTo>
                    <a:pt x="1080" y="621"/>
                  </a:lnTo>
                  <a:lnTo>
                    <a:pt x="1067" y="609"/>
                  </a:lnTo>
                  <a:lnTo>
                    <a:pt x="1060" y="627"/>
                  </a:lnTo>
                  <a:lnTo>
                    <a:pt x="1062" y="650"/>
                  </a:lnTo>
                  <a:lnTo>
                    <a:pt x="1071" y="669"/>
                  </a:lnTo>
                  <a:lnTo>
                    <a:pt x="1087" y="685"/>
                  </a:lnTo>
                  <a:lnTo>
                    <a:pt x="1071" y="705"/>
                  </a:lnTo>
                  <a:lnTo>
                    <a:pt x="1055" y="719"/>
                  </a:lnTo>
                  <a:lnTo>
                    <a:pt x="1035" y="714"/>
                  </a:lnTo>
                  <a:lnTo>
                    <a:pt x="1035" y="730"/>
                  </a:lnTo>
                  <a:lnTo>
                    <a:pt x="1019" y="744"/>
                  </a:lnTo>
                  <a:lnTo>
                    <a:pt x="998" y="719"/>
                  </a:lnTo>
                  <a:lnTo>
                    <a:pt x="1000" y="703"/>
                  </a:lnTo>
                  <a:lnTo>
                    <a:pt x="1026" y="714"/>
                  </a:lnTo>
                  <a:lnTo>
                    <a:pt x="1042" y="714"/>
                  </a:lnTo>
                  <a:lnTo>
                    <a:pt x="1062" y="698"/>
                  </a:lnTo>
                  <a:lnTo>
                    <a:pt x="1055" y="673"/>
                  </a:lnTo>
                  <a:lnTo>
                    <a:pt x="1037" y="657"/>
                  </a:lnTo>
                  <a:lnTo>
                    <a:pt x="1019" y="643"/>
                  </a:lnTo>
                  <a:lnTo>
                    <a:pt x="998" y="623"/>
                  </a:lnTo>
                  <a:lnTo>
                    <a:pt x="975" y="602"/>
                  </a:lnTo>
                  <a:lnTo>
                    <a:pt x="975" y="627"/>
                  </a:lnTo>
                  <a:lnTo>
                    <a:pt x="991" y="646"/>
                  </a:lnTo>
                  <a:lnTo>
                    <a:pt x="987" y="673"/>
                  </a:lnTo>
                  <a:lnTo>
                    <a:pt x="987" y="698"/>
                  </a:lnTo>
                  <a:lnTo>
                    <a:pt x="964" y="680"/>
                  </a:lnTo>
                  <a:lnTo>
                    <a:pt x="959" y="662"/>
                  </a:lnTo>
                  <a:lnTo>
                    <a:pt x="971" y="648"/>
                  </a:lnTo>
                  <a:lnTo>
                    <a:pt x="966" y="632"/>
                  </a:lnTo>
                  <a:lnTo>
                    <a:pt x="978" y="625"/>
                  </a:lnTo>
                  <a:lnTo>
                    <a:pt x="978" y="602"/>
                  </a:lnTo>
                  <a:lnTo>
                    <a:pt x="959" y="607"/>
                  </a:lnTo>
                  <a:lnTo>
                    <a:pt x="943" y="627"/>
                  </a:lnTo>
                  <a:lnTo>
                    <a:pt x="923" y="623"/>
                  </a:lnTo>
                  <a:lnTo>
                    <a:pt x="893" y="637"/>
                  </a:lnTo>
                  <a:lnTo>
                    <a:pt x="889" y="666"/>
                  </a:lnTo>
                  <a:lnTo>
                    <a:pt x="863" y="685"/>
                  </a:lnTo>
                  <a:lnTo>
                    <a:pt x="836" y="701"/>
                  </a:lnTo>
                  <a:lnTo>
                    <a:pt x="811" y="703"/>
                  </a:lnTo>
                  <a:lnTo>
                    <a:pt x="786" y="694"/>
                  </a:lnTo>
                  <a:lnTo>
                    <a:pt x="770" y="680"/>
                  </a:lnTo>
                  <a:lnTo>
                    <a:pt x="781" y="666"/>
                  </a:lnTo>
                  <a:lnTo>
                    <a:pt x="770" y="646"/>
                  </a:lnTo>
                  <a:lnTo>
                    <a:pt x="788" y="630"/>
                  </a:lnTo>
                  <a:lnTo>
                    <a:pt x="790" y="611"/>
                  </a:lnTo>
                  <a:lnTo>
                    <a:pt x="790" y="586"/>
                  </a:lnTo>
                  <a:lnTo>
                    <a:pt x="813" y="563"/>
                  </a:lnTo>
                  <a:lnTo>
                    <a:pt x="847" y="575"/>
                  </a:lnTo>
                  <a:lnTo>
                    <a:pt x="884" y="582"/>
                  </a:lnTo>
                  <a:lnTo>
                    <a:pt x="898" y="566"/>
                  </a:lnTo>
                  <a:lnTo>
                    <a:pt x="898" y="540"/>
                  </a:lnTo>
                  <a:lnTo>
                    <a:pt x="882" y="522"/>
                  </a:lnTo>
                  <a:lnTo>
                    <a:pt x="852" y="508"/>
                  </a:lnTo>
                  <a:lnTo>
                    <a:pt x="868" y="497"/>
                  </a:lnTo>
                  <a:lnTo>
                    <a:pt x="895" y="486"/>
                  </a:lnTo>
                  <a:lnTo>
                    <a:pt x="900" y="481"/>
                  </a:lnTo>
                  <a:lnTo>
                    <a:pt x="893" y="476"/>
                  </a:lnTo>
                  <a:lnTo>
                    <a:pt x="870" y="481"/>
                  </a:lnTo>
                  <a:lnTo>
                    <a:pt x="847" y="486"/>
                  </a:lnTo>
                  <a:lnTo>
                    <a:pt x="834" y="490"/>
                  </a:lnTo>
                  <a:lnTo>
                    <a:pt x="843" y="474"/>
                  </a:lnTo>
                  <a:lnTo>
                    <a:pt x="847" y="449"/>
                  </a:lnTo>
                  <a:lnTo>
                    <a:pt x="857" y="438"/>
                  </a:lnTo>
                  <a:lnTo>
                    <a:pt x="861" y="421"/>
                  </a:lnTo>
                  <a:lnTo>
                    <a:pt x="850" y="403"/>
                  </a:lnTo>
                  <a:lnTo>
                    <a:pt x="834" y="415"/>
                  </a:lnTo>
                  <a:lnTo>
                    <a:pt x="836" y="435"/>
                  </a:lnTo>
                  <a:lnTo>
                    <a:pt x="834" y="454"/>
                  </a:lnTo>
                  <a:lnTo>
                    <a:pt x="822" y="481"/>
                  </a:lnTo>
                  <a:lnTo>
                    <a:pt x="800" y="476"/>
                  </a:lnTo>
                  <a:lnTo>
                    <a:pt x="793" y="454"/>
                  </a:lnTo>
                  <a:lnTo>
                    <a:pt x="779" y="426"/>
                  </a:lnTo>
                  <a:lnTo>
                    <a:pt x="806" y="421"/>
                  </a:lnTo>
                  <a:lnTo>
                    <a:pt x="815" y="412"/>
                  </a:lnTo>
                  <a:lnTo>
                    <a:pt x="827" y="405"/>
                  </a:lnTo>
                  <a:lnTo>
                    <a:pt x="827" y="394"/>
                  </a:lnTo>
                  <a:lnTo>
                    <a:pt x="820" y="375"/>
                  </a:lnTo>
                  <a:lnTo>
                    <a:pt x="841" y="363"/>
                  </a:lnTo>
                  <a:lnTo>
                    <a:pt x="861" y="352"/>
                  </a:lnTo>
                  <a:lnTo>
                    <a:pt x="875" y="361"/>
                  </a:lnTo>
                  <a:lnTo>
                    <a:pt x="882" y="387"/>
                  </a:lnTo>
                  <a:lnTo>
                    <a:pt x="891" y="415"/>
                  </a:lnTo>
                  <a:lnTo>
                    <a:pt x="905" y="428"/>
                  </a:lnTo>
                  <a:lnTo>
                    <a:pt x="911" y="454"/>
                  </a:lnTo>
                  <a:lnTo>
                    <a:pt x="900" y="470"/>
                  </a:lnTo>
                  <a:lnTo>
                    <a:pt x="898" y="483"/>
                  </a:lnTo>
                  <a:lnTo>
                    <a:pt x="918" y="476"/>
                  </a:lnTo>
                  <a:lnTo>
                    <a:pt x="941" y="465"/>
                  </a:lnTo>
                  <a:lnTo>
                    <a:pt x="950" y="435"/>
                  </a:lnTo>
                  <a:lnTo>
                    <a:pt x="973" y="435"/>
                  </a:lnTo>
                  <a:lnTo>
                    <a:pt x="984" y="426"/>
                  </a:lnTo>
                  <a:lnTo>
                    <a:pt x="982" y="403"/>
                  </a:lnTo>
                  <a:lnTo>
                    <a:pt x="971" y="380"/>
                  </a:lnTo>
                  <a:lnTo>
                    <a:pt x="991" y="380"/>
                  </a:lnTo>
                  <a:lnTo>
                    <a:pt x="1014" y="403"/>
                  </a:lnTo>
                  <a:lnTo>
                    <a:pt x="1035" y="421"/>
                  </a:lnTo>
                  <a:lnTo>
                    <a:pt x="1051" y="421"/>
                  </a:lnTo>
                  <a:lnTo>
                    <a:pt x="1078" y="412"/>
                  </a:lnTo>
                  <a:lnTo>
                    <a:pt x="1096" y="383"/>
                  </a:lnTo>
                  <a:lnTo>
                    <a:pt x="1105" y="361"/>
                  </a:lnTo>
                  <a:lnTo>
                    <a:pt x="1147" y="370"/>
                  </a:lnTo>
                  <a:lnTo>
                    <a:pt x="1112" y="350"/>
                  </a:lnTo>
                  <a:lnTo>
                    <a:pt x="1087" y="352"/>
                  </a:lnTo>
                  <a:lnTo>
                    <a:pt x="1080" y="320"/>
                  </a:lnTo>
                  <a:lnTo>
                    <a:pt x="1080" y="302"/>
                  </a:lnTo>
                  <a:lnTo>
                    <a:pt x="1110" y="292"/>
                  </a:lnTo>
                  <a:lnTo>
                    <a:pt x="1117" y="274"/>
                  </a:lnTo>
                  <a:lnTo>
                    <a:pt x="1096" y="283"/>
                  </a:lnTo>
                  <a:lnTo>
                    <a:pt x="1071" y="299"/>
                  </a:lnTo>
                  <a:lnTo>
                    <a:pt x="1046" y="302"/>
                  </a:lnTo>
                  <a:lnTo>
                    <a:pt x="1060" y="331"/>
                  </a:lnTo>
                  <a:lnTo>
                    <a:pt x="1055" y="356"/>
                  </a:lnTo>
                  <a:lnTo>
                    <a:pt x="1055" y="377"/>
                  </a:lnTo>
                  <a:lnTo>
                    <a:pt x="1037" y="394"/>
                  </a:lnTo>
                  <a:lnTo>
                    <a:pt x="1016" y="399"/>
                  </a:lnTo>
                  <a:lnTo>
                    <a:pt x="1000" y="380"/>
                  </a:lnTo>
                  <a:lnTo>
                    <a:pt x="1003" y="361"/>
                  </a:lnTo>
                  <a:lnTo>
                    <a:pt x="1007" y="350"/>
                  </a:lnTo>
                  <a:lnTo>
                    <a:pt x="984" y="356"/>
                  </a:lnTo>
                  <a:lnTo>
                    <a:pt x="962" y="345"/>
                  </a:lnTo>
                  <a:lnTo>
                    <a:pt x="950" y="329"/>
                  </a:lnTo>
                  <a:lnTo>
                    <a:pt x="957" y="302"/>
                  </a:lnTo>
                  <a:lnTo>
                    <a:pt x="952" y="299"/>
                  </a:lnTo>
                  <a:lnTo>
                    <a:pt x="957" y="297"/>
                  </a:lnTo>
                  <a:lnTo>
                    <a:pt x="959" y="295"/>
                  </a:lnTo>
                  <a:lnTo>
                    <a:pt x="692" y="295"/>
                  </a:lnTo>
                  <a:lnTo>
                    <a:pt x="679" y="311"/>
                  </a:lnTo>
                  <a:lnTo>
                    <a:pt x="656" y="324"/>
                  </a:lnTo>
                  <a:lnTo>
                    <a:pt x="633" y="315"/>
                  </a:lnTo>
                  <a:lnTo>
                    <a:pt x="626" y="299"/>
                  </a:lnTo>
                  <a:lnTo>
                    <a:pt x="626" y="281"/>
                  </a:lnTo>
                  <a:lnTo>
                    <a:pt x="628" y="279"/>
                  </a:lnTo>
                  <a:lnTo>
                    <a:pt x="574" y="279"/>
                  </a:lnTo>
                  <a:lnTo>
                    <a:pt x="555" y="281"/>
                  </a:lnTo>
                  <a:lnTo>
                    <a:pt x="539" y="315"/>
                  </a:lnTo>
                  <a:lnTo>
                    <a:pt x="530" y="340"/>
                  </a:lnTo>
                  <a:lnTo>
                    <a:pt x="523" y="363"/>
                  </a:lnTo>
                  <a:lnTo>
                    <a:pt x="495" y="356"/>
                  </a:lnTo>
                  <a:lnTo>
                    <a:pt x="477" y="340"/>
                  </a:lnTo>
                  <a:lnTo>
                    <a:pt x="474" y="302"/>
                  </a:lnTo>
                  <a:lnTo>
                    <a:pt x="463" y="263"/>
                  </a:lnTo>
                  <a:lnTo>
                    <a:pt x="447" y="240"/>
                  </a:lnTo>
                  <a:lnTo>
                    <a:pt x="454" y="226"/>
                  </a:lnTo>
                  <a:lnTo>
                    <a:pt x="438" y="192"/>
                  </a:lnTo>
                  <a:lnTo>
                    <a:pt x="424" y="180"/>
                  </a:lnTo>
                  <a:lnTo>
                    <a:pt x="406" y="194"/>
                  </a:lnTo>
                  <a:lnTo>
                    <a:pt x="381" y="178"/>
                  </a:lnTo>
                  <a:lnTo>
                    <a:pt x="365" y="189"/>
                  </a:lnTo>
                  <a:lnTo>
                    <a:pt x="353" y="201"/>
                  </a:lnTo>
                  <a:lnTo>
                    <a:pt x="321" y="210"/>
                  </a:lnTo>
                  <a:lnTo>
                    <a:pt x="303" y="233"/>
                  </a:lnTo>
                  <a:lnTo>
                    <a:pt x="340" y="237"/>
                  </a:lnTo>
                  <a:lnTo>
                    <a:pt x="372" y="251"/>
                  </a:lnTo>
                  <a:lnTo>
                    <a:pt x="385" y="274"/>
                  </a:lnTo>
                  <a:lnTo>
                    <a:pt x="406" y="297"/>
                  </a:lnTo>
                  <a:lnTo>
                    <a:pt x="408" y="334"/>
                  </a:lnTo>
                  <a:lnTo>
                    <a:pt x="401" y="370"/>
                  </a:lnTo>
                  <a:lnTo>
                    <a:pt x="381" y="380"/>
                  </a:lnTo>
                  <a:lnTo>
                    <a:pt x="358" y="356"/>
                  </a:lnTo>
                  <a:lnTo>
                    <a:pt x="315" y="354"/>
                  </a:lnTo>
                  <a:lnTo>
                    <a:pt x="315" y="338"/>
                  </a:lnTo>
                  <a:lnTo>
                    <a:pt x="353" y="329"/>
                  </a:lnTo>
                  <a:lnTo>
                    <a:pt x="356" y="308"/>
                  </a:lnTo>
                  <a:lnTo>
                    <a:pt x="351" y="299"/>
                  </a:lnTo>
                  <a:lnTo>
                    <a:pt x="337" y="320"/>
                  </a:lnTo>
                  <a:lnTo>
                    <a:pt x="319" y="304"/>
                  </a:lnTo>
                  <a:lnTo>
                    <a:pt x="344" y="283"/>
                  </a:lnTo>
                  <a:lnTo>
                    <a:pt x="358" y="302"/>
                  </a:lnTo>
                  <a:lnTo>
                    <a:pt x="337" y="281"/>
                  </a:lnTo>
                  <a:lnTo>
                    <a:pt x="315" y="281"/>
                  </a:lnTo>
                  <a:lnTo>
                    <a:pt x="299" y="297"/>
                  </a:lnTo>
                  <a:lnTo>
                    <a:pt x="301" y="320"/>
                  </a:lnTo>
                  <a:lnTo>
                    <a:pt x="301" y="350"/>
                  </a:lnTo>
                  <a:lnTo>
                    <a:pt x="296" y="372"/>
                  </a:lnTo>
                  <a:lnTo>
                    <a:pt x="301" y="396"/>
                  </a:lnTo>
                  <a:lnTo>
                    <a:pt x="278" y="377"/>
                  </a:lnTo>
                  <a:lnTo>
                    <a:pt x="269" y="392"/>
                  </a:lnTo>
                  <a:lnTo>
                    <a:pt x="260" y="375"/>
                  </a:lnTo>
                  <a:lnTo>
                    <a:pt x="269" y="352"/>
                  </a:lnTo>
                  <a:lnTo>
                    <a:pt x="248" y="361"/>
                  </a:lnTo>
                  <a:lnTo>
                    <a:pt x="237" y="380"/>
                  </a:lnTo>
                  <a:lnTo>
                    <a:pt x="221" y="399"/>
                  </a:lnTo>
                  <a:lnTo>
                    <a:pt x="221" y="417"/>
                  </a:lnTo>
                  <a:lnTo>
                    <a:pt x="196" y="417"/>
                  </a:lnTo>
                  <a:lnTo>
                    <a:pt x="187" y="428"/>
                  </a:lnTo>
                  <a:lnTo>
                    <a:pt x="196" y="458"/>
                  </a:lnTo>
                  <a:lnTo>
                    <a:pt x="223" y="474"/>
                  </a:lnTo>
                  <a:lnTo>
                    <a:pt x="237" y="486"/>
                  </a:lnTo>
                  <a:lnTo>
                    <a:pt x="235" y="513"/>
                  </a:lnTo>
                  <a:lnTo>
                    <a:pt x="253" y="506"/>
                  </a:lnTo>
                  <a:lnTo>
                    <a:pt x="255" y="481"/>
                  </a:lnTo>
                  <a:lnTo>
                    <a:pt x="285" y="481"/>
                  </a:lnTo>
                  <a:lnTo>
                    <a:pt x="303" y="458"/>
                  </a:lnTo>
                  <a:lnTo>
                    <a:pt x="305" y="435"/>
                  </a:lnTo>
                  <a:lnTo>
                    <a:pt x="303" y="394"/>
                  </a:lnTo>
                  <a:lnTo>
                    <a:pt x="315" y="366"/>
                  </a:lnTo>
                  <a:lnTo>
                    <a:pt x="331" y="350"/>
                  </a:lnTo>
                  <a:lnTo>
                    <a:pt x="356" y="363"/>
                  </a:lnTo>
                  <a:lnTo>
                    <a:pt x="383" y="380"/>
                  </a:lnTo>
                  <a:lnTo>
                    <a:pt x="399" y="394"/>
                  </a:lnTo>
                  <a:lnTo>
                    <a:pt x="413" y="417"/>
                  </a:lnTo>
                  <a:lnTo>
                    <a:pt x="433" y="428"/>
                  </a:lnTo>
                  <a:lnTo>
                    <a:pt x="440" y="458"/>
                  </a:lnTo>
                  <a:lnTo>
                    <a:pt x="442" y="476"/>
                  </a:lnTo>
                  <a:lnTo>
                    <a:pt x="463" y="495"/>
                  </a:lnTo>
                  <a:lnTo>
                    <a:pt x="447" y="515"/>
                  </a:lnTo>
                  <a:lnTo>
                    <a:pt x="422" y="515"/>
                  </a:lnTo>
                  <a:lnTo>
                    <a:pt x="392" y="529"/>
                  </a:lnTo>
                  <a:lnTo>
                    <a:pt x="372" y="545"/>
                  </a:lnTo>
                  <a:lnTo>
                    <a:pt x="340" y="561"/>
                  </a:lnTo>
                  <a:lnTo>
                    <a:pt x="315" y="586"/>
                  </a:lnTo>
                  <a:lnTo>
                    <a:pt x="289" y="607"/>
                  </a:lnTo>
                  <a:lnTo>
                    <a:pt x="285" y="627"/>
                  </a:lnTo>
                  <a:lnTo>
                    <a:pt x="285" y="643"/>
                  </a:lnTo>
                  <a:lnTo>
                    <a:pt x="269" y="659"/>
                  </a:lnTo>
                  <a:lnTo>
                    <a:pt x="271" y="678"/>
                  </a:lnTo>
                  <a:lnTo>
                    <a:pt x="251" y="701"/>
                  </a:lnTo>
                  <a:lnTo>
                    <a:pt x="251" y="728"/>
                  </a:lnTo>
                  <a:lnTo>
                    <a:pt x="262" y="751"/>
                  </a:lnTo>
                  <a:lnTo>
                    <a:pt x="255" y="769"/>
                  </a:lnTo>
                  <a:lnTo>
                    <a:pt x="235" y="760"/>
                  </a:lnTo>
                  <a:lnTo>
                    <a:pt x="230" y="728"/>
                  </a:lnTo>
                  <a:lnTo>
                    <a:pt x="210" y="714"/>
                  </a:lnTo>
                  <a:lnTo>
                    <a:pt x="194" y="719"/>
                  </a:lnTo>
                  <a:lnTo>
                    <a:pt x="182" y="740"/>
                  </a:lnTo>
                  <a:lnTo>
                    <a:pt x="162" y="728"/>
                  </a:lnTo>
                  <a:lnTo>
                    <a:pt x="141" y="728"/>
                  </a:lnTo>
                  <a:lnTo>
                    <a:pt x="118" y="749"/>
                  </a:lnTo>
                  <a:lnTo>
                    <a:pt x="111" y="769"/>
                  </a:lnTo>
                  <a:lnTo>
                    <a:pt x="105" y="790"/>
                  </a:lnTo>
                  <a:lnTo>
                    <a:pt x="100" y="822"/>
                  </a:lnTo>
                  <a:lnTo>
                    <a:pt x="118" y="842"/>
                  </a:lnTo>
                  <a:lnTo>
                    <a:pt x="136" y="826"/>
                  </a:lnTo>
                  <a:lnTo>
                    <a:pt x="159" y="826"/>
                  </a:lnTo>
                  <a:lnTo>
                    <a:pt x="162" y="854"/>
                  </a:lnTo>
                  <a:lnTo>
                    <a:pt x="148" y="872"/>
                  </a:lnTo>
                  <a:lnTo>
                    <a:pt x="175" y="877"/>
                  </a:lnTo>
                  <a:lnTo>
                    <a:pt x="187" y="884"/>
                  </a:lnTo>
                  <a:lnTo>
                    <a:pt x="194" y="909"/>
                  </a:lnTo>
                  <a:lnTo>
                    <a:pt x="216" y="918"/>
                  </a:lnTo>
                  <a:lnTo>
                    <a:pt x="241" y="939"/>
                  </a:lnTo>
                  <a:lnTo>
                    <a:pt x="260" y="927"/>
                  </a:lnTo>
                  <a:lnTo>
                    <a:pt x="301" y="939"/>
                  </a:lnTo>
                  <a:lnTo>
                    <a:pt x="333" y="941"/>
                  </a:lnTo>
                  <a:lnTo>
                    <a:pt x="378" y="966"/>
                  </a:lnTo>
                  <a:lnTo>
                    <a:pt x="385" y="987"/>
                  </a:lnTo>
                  <a:lnTo>
                    <a:pt x="413" y="1010"/>
                  </a:lnTo>
                  <a:lnTo>
                    <a:pt x="426" y="1042"/>
                  </a:lnTo>
                  <a:lnTo>
                    <a:pt x="458" y="1058"/>
                  </a:lnTo>
                  <a:lnTo>
                    <a:pt x="486" y="1062"/>
                  </a:lnTo>
                  <a:lnTo>
                    <a:pt x="515" y="1090"/>
                  </a:lnTo>
                  <a:lnTo>
                    <a:pt x="553" y="1090"/>
                  </a:lnTo>
                  <a:lnTo>
                    <a:pt x="555" y="1112"/>
                  </a:lnTo>
                  <a:lnTo>
                    <a:pt x="555" y="1135"/>
                  </a:lnTo>
                  <a:lnTo>
                    <a:pt x="539" y="1159"/>
                  </a:lnTo>
                  <a:lnTo>
                    <a:pt x="535" y="1187"/>
                  </a:lnTo>
                  <a:lnTo>
                    <a:pt x="530" y="1216"/>
                  </a:lnTo>
                  <a:lnTo>
                    <a:pt x="509" y="1244"/>
                  </a:lnTo>
                  <a:lnTo>
                    <a:pt x="481" y="1260"/>
                  </a:lnTo>
                  <a:lnTo>
                    <a:pt x="456" y="1264"/>
                  </a:lnTo>
                  <a:lnTo>
                    <a:pt x="465" y="1287"/>
                  </a:lnTo>
                  <a:lnTo>
                    <a:pt x="442" y="1315"/>
                  </a:lnTo>
                  <a:lnTo>
                    <a:pt x="424" y="1338"/>
                  </a:lnTo>
                  <a:lnTo>
                    <a:pt x="401" y="1351"/>
                  </a:lnTo>
                  <a:lnTo>
                    <a:pt x="381" y="1386"/>
                  </a:lnTo>
                  <a:lnTo>
                    <a:pt x="365" y="1409"/>
                  </a:lnTo>
                  <a:lnTo>
                    <a:pt x="344" y="1422"/>
                  </a:lnTo>
                  <a:lnTo>
                    <a:pt x="331" y="1443"/>
                  </a:lnTo>
                  <a:lnTo>
                    <a:pt x="319" y="1464"/>
                  </a:lnTo>
                  <a:lnTo>
                    <a:pt x="305" y="1484"/>
                  </a:lnTo>
                  <a:lnTo>
                    <a:pt x="310" y="1502"/>
                  </a:lnTo>
                  <a:lnTo>
                    <a:pt x="299" y="1518"/>
                  </a:lnTo>
                  <a:lnTo>
                    <a:pt x="280" y="1491"/>
                  </a:lnTo>
                  <a:lnTo>
                    <a:pt x="257" y="1468"/>
                  </a:lnTo>
                  <a:lnTo>
                    <a:pt x="251" y="1438"/>
                  </a:lnTo>
                  <a:lnTo>
                    <a:pt x="251" y="1409"/>
                  </a:lnTo>
                  <a:lnTo>
                    <a:pt x="248" y="1377"/>
                  </a:lnTo>
                  <a:lnTo>
                    <a:pt x="257" y="1331"/>
                  </a:lnTo>
                  <a:lnTo>
                    <a:pt x="260" y="1287"/>
                  </a:lnTo>
                  <a:lnTo>
                    <a:pt x="255" y="1246"/>
                  </a:lnTo>
                  <a:lnTo>
                    <a:pt x="248" y="1216"/>
                  </a:lnTo>
                  <a:lnTo>
                    <a:pt x="221" y="1187"/>
                  </a:lnTo>
                  <a:lnTo>
                    <a:pt x="196" y="1164"/>
                  </a:lnTo>
                  <a:lnTo>
                    <a:pt x="175" y="1133"/>
                  </a:lnTo>
                  <a:lnTo>
                    <a:pt x="171" y="1094"/>
                  </a:lnTo>
                  <a:lnTo>
                    <a:pt x="182" y="1069"/>
                  </a:lnTo>
                  <a:lnTo>
                    <a:pt x="182" y="1046"/>
                  </a:lnTo>
                  <a:lnTo>
                    <a:pt x="196" y="1007"/>
                  </a:lnTo>
                  <a:lnTo>
                    <a:pt x="212" y="977"/>
                  </a:lnTo>
                  <a:lnTo>
                    <a:pt x="235" y="959"/>
                  </a:lnTo>
                  <a:lnTo>
                    <a:pt x="244" y="941"/>
                  </a:lnTo>
                  <a:lnTo>
                    <a:pt x="216" y="934"/>
                  </a:lnTo>
                  <a:lnTo>
                    <a:pt x="198" y="939"/>
                  </a:lnTo>
                  <a:lnTo>
                    <a:pt x="180" y="932"/>
                  </a:lnTo>
                  <a:lnTo>
                    <a:pt x="157" y="913"/>
                  </a:lnTo>
                  <a:lnTo>
                    <a:pt x="134" y="893"/>
                  </a:lnTo>
                  <a:lnTo>
                    <a:pt x="120" y="870"/>
                  </a:lnTo>
                  <a:lnTo>
                    <a:pt x="111" y="865"/>
                  </a:lnTo>
                  <a:lnTo>
                    <a:pt x="98" y="872"/>
                  </a:lnTo>
                  <a:lnTo>
                    <a:pt x="75" y="859"/>
                  </a:lnTo>
                  <a:lnTo>
                    <a:pt x="57" y="838"/>
                  </a:lnTo>
                  <a:lnTo>
                    <a:pt x="50" y="822"/>
                  </a:lnTo>
                  <a:lnTo>
                    <a:pt x="50" y="792"/>
                  </a:lnTo>
                  <a:lnTo>
                    <a:pt x="45" y="776"/>
                  </a:lnTo>
                  <a:lnTo>
                    <a:pt x="25" y="762"/>
                  </a:lnTo>
                  <a:lnTo>
                    <a:pt x="25" y="774"/>
                  </a:lnTo>
                  <a:lnTo>
                    <a:pt x="34" y="794"/>
                  </a:lnTo>
                  <a:lnTo>
                    <a:pt x="38" y="815"/>
                  </a:lnTo>
                  <a:lnTo>
                    <a:pt x="18" y="801"/>
                  </a:lnTo>
                  <a:lnTo>
                    <a:pt x="6" y="788"/>
                  </a:lnTo>
                  <a:lnTo>
                    <a:pt x="2" y="765"/>
                  </a:lnTo>
                  <a:lnTo>
                    <a:pt x="4" y="726"/>
                  </a:lnTo>
                  <a:lnTo>
                    <a:pt x="0" y="680"/>
                  </a:lnTo>
                  <a:lnTo>
                    <a:pt x="4" y="621"/>
                  </a:lnTo>
                  <a:lnTo>
                    <a:pt x="18" y="529"/>
                  </a:lnTo>
                  <a:lnTo>
                    <a:pt x="47" y="440"/>
                  </a:lnTo>
                  <a:lnTo>
                    <a:pt x="93" y="334"/>
                  </a:lnTo>
                  <a:lnTo>
                    <a:pt x="127" y="260"/>
                  </a:lnTo>
                  <a:lnTo>
                    <a:pt x="180" y="180"/>
                  </a:lnTo>
                  <a:lnTo>
                    <a:pt x="223" y="132"/>
                  </a:lnTo>
                  <a:close/>
                </a:path>
              </a:pathLst>
            </a:custGeom>
            <a:solidFill>
              <a:srgbClr val="315fa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7632720" y="6470640"/>
            <a:ext cx="1215000" cy="152640"/>
            <a:chOff x="7632720" y="6470640"/>
            <a:chExt cx="1215000" cy="152640"/>
          </a:xfrm>
        </p:grpSpPr>
        <p:grpSp>
          <p:nvGrpSpPr>
            <p:cNvPr id="345" name=""/>
            <p:cNvGrpSpPr/>
            <p:nvPr/>
          </p:nvGrpSpPr>
          <p:grpSpPr>
            <a:xfrm>
              <a:off x="8813880" y="6472080"/>
              <a:ext cx="33840" cy="32400"/>
              <a:chOff x="8813880" y="6472080"/>
              <a:chExt cx="33840" cy="32400"/>
            </a:xfrm>
          </p:grpSpPr>
          <p:sp>
            <p:nvSpPr>
              <p:cNvPr id="346" name=""/>
              <p:cNvSpPr/>
              <p:nvPr/>
            </p:nvSpPr>
            <p:spPr>
              <a:xfrm>
                <a:off x="8813880" y="647208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w="76" h="76">
                    <a:moveTo>
                      <a:pt x="37" y="7"/>
                    </a:moveTo>
                    <a:lnTo>
                      <a:pt x="43" y="7"/>
                    </a:lnTo>
                    <a:lnTo>
                      <a:pt x="49" y="8"/>
                    </a:lnTo>
                    <a:lnTo>
                      <a:pt x="54" y="11"/>
                    </a:lnTo>
                    <a:lnTo>
                      <a:pt x="60" y="16"/>
                    </a:lnTo>
                    <a:lnTo>
                      <a:pt x="64" y="21"/>
                    </a:lnTo>
                    <a:lnTo>
                      <a:pt x="67" y="26"/>
                    </a:lnTo>
                    <a:lnTo>
                      <a:pt x="69" y="32"/>
                    </a:lnTo>
                    <a:lnTo>
                      <a:pt x="69" y="38"/>
                    </a:lnTo>
                    <a:lnTo>
                      <a:pt x="69" y="42"/>
                    </a:lnTo>
                    <a:lnTo>
                      <a:pt x="67" y="48"/>
                    </a:lnTo>
                    <a:lnTo>
                      <a:pt x="64" y="54"/>
                    </a:lnTo>
                    <a:lnTo>
                      <a:pt x="60" y="58"/>
                    </a:lnTo>
                    <a:lnTo>
                      <a:pt x="54" y="63"/>
                    </a:lnTo>
                    <a:lnTo>
                      <a:pt x="49" y="66"/>
                    </a:lnTo>
                    <a:lnTo>
                      <a:pt x="43" y="67"/>
                    </a:lnTo>
                    <a:lnTo>
                      <a:pt x="37" y="67"/>
                    </a:lnTo>
                    <a:lnTo>
                      <a:pt x="33" y="67"/>
                    </a:lnTo>
                    <a:lnTo>
                      <a:pt x="27" y="66"/>
                    </a:lnTo>
                    <a:lnTo>
                      <a:pt x="20" y="63"/>
                    </a:lnTo>
                    <a:lnTo>
                      <a:pt x="16" y="58"/>
                    </a:lnTo>
                    <a:lnTo>
                      <a:pt x="12" y="54"/>
                    </a:lnTo>
                    <a:lnTo>
                      <a:pt x="9" y="48"/>
                    </a:lnTo>
                    <a:lnTo>
                      <a:pt x="7" y="42"/>
                    </a:lnTo>
                    <a:lnTo>
                      <a:pt x="7" y="38"/>
                    </a:lnTo>
                    <a:lnTo>
                      <a:pt x="7" y="32"/>
                    </a:lnTo>
                    <a:lnTo>
                      <a:pt x="9" y="26"/>
                    </a:lnTo>
                    <a:lnTo>
                      <a:pt x="12" y="21"/>
                    </a:lnTo>
                    <a:lnTo>
                      <a:pt x="16" y="16"/>
                    </a:lnTo>
                    <a:lnTo>
                      <a:pt x="20" y="11"/>
                    </a:lnTo>
                    <a:lnTo>
                      <a:pt x="27" y="8"/>
                    </a:lnTo>
                    <a:lnTo>
                      <a:pt x="33" y="7"/>
                    </a:lnTo>
                    <a:lnTo>
                      <a:pt x="37" y="7"/>
                    </a:lnTo>
                    <a:lnTo>
                      <a:pt x="37" y="0"/>
                    </a:lnTo>
                    <a:lnTo>
                      <a:pt x="30" y="0"/>
                    </a:lnTo>
                    <a:lnTo>
                      <a:pt x="23" y="2"/>
                    </a:lnTo>
                    <a:lnTo>
                      <a:pt x="16" y="5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1" y="51"/>
                    </a:lnTo>
                    <a:lnTo>
                      <a:pt x="6" y="60"/>
                    </a:lnTo>
                    <a:lnTo>
                      <a:pt x="10" y="64"/>
                    </a:lnTo>
                    <a:lnTo>
                      <a:pt x="16" y="69"/>
                    </a:lnTo>
                    <a:lnTo>
                      <a:pt x="23" y="73"/>
                    </a:lnTo>
                    <a:lnTo>
                      <a:pt x="30" y="75"/>
                    </a:lnTo>
                    <a:lnTo>
                      <a:pt x="37" y="76"/>
                    </a:lnTo>
                    <a:lnTo>
                      <a:pt x="46" y="75"/>
                    </a:lnTo>
                    <a:lnTo>
                      <a:pt x="53" y="73"/>
                    </a:lnTo>
                    <a:lnTo>
                      <a:pt x="60" y="69"/>
                    </a:lnTo>
                    <a:lnTo>
                      <a:pt x="66" y="64"/>
                    </a:lnTo>
                    <a:lnTo>
                      <a:pt x="70" y="60"/>
                    </a:lnTo>
                    <a:lnTo>
                      <a:pt x="75" y="51"/>
                    </a:lnTo>
                    <a:lnTo>
                      <a:pt x="76" y="45"/>
                    </a:lnTo>
                    <a:lnTo>
                      <a:pt x="76" y="38"/>
                    </a:lnTo>
                    <a:lnTo>
                      <a:pt x="76" y="30"/>
                    </a:lnTo>
                    <a:lnTo>
                      <a:pt x="75" y="23"/>
                    </a:lnTo>
                    <a:lnTo>
                      <a:pt x="70" y="16"/>
                    </a:lnTo>
                    <a:lnTo>
                      <a:pt x="66" y="10"/>
                    </a:lnTo>
                    <a:lnTo>
                      <a:pt x="60" y="5"/>
                    </a:lnTo>
                    <a:lnTo>
                      <a:pt x="53" y="2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37" y="7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821800" y="6478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2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9" y="5"/>
                    </a:lnTo>
                    <a:lnTo>
                      <a:pt x="65" y="10"/>
                    </a:lnTo>
                    <a:lnTo>
                      <a:pt x="69" y="17"/>
                    </a:lnTo>
                    <a:lnTo>
                      <a:pt x="69" y="21"/>
                    </a:lnTo>
                    <a:lnTo>
                      <a:pt x="69" y="23"/>
                    </a:lnTo>
                    <a:lnTo>
                      <a:pt x="69" y="28"/>
                    </a:lnTo>
                    <a:lnTo>
                      <a:pt x="65" y="33"/>
                    </a:lnTo>
                    <a:lnTo>
                      <a:pt x="55" y="38"/>
                    </a:lnTo>
                    <a:lnTo>
                      <a:pt x="55" y="41"/>
                    </a:lnTo>
                    <a:lnTo>
                      <a:pt x="51" y="41"/>
                    </a:lnTo>
                    <a:lnTo>
                      <a:pt x="72" y="72"/>
                    </a:lnTo>
                    <a:lnTo>
                      <a:pt x="51" y="72"/>
                    </a:lnTo>
                    <a:lnTo>
                      <a:pt x="31" y="43"/>
                    </a:lnTo>
                    <a:lnTo>
                      <a:pt x="16" y="43"/>
                    </a:lnTo>
                    <a:lnTo>
                      <a:pt x="16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6" y="10"/>
                    </a:lnTo>
                    <a:lnTo>
                      <a:pt x="16" y="31"/>
                    </a:lnTo>
                    <a:lnTo>
                      <a:pt x="31" y="31"/>
                    </a:lnTo>
                    <a:lnTo>
                      <a:pt x="41" y="31"/>
                    </a:lnTo>
                    <a:lnTo>
                      <a:pt x="48" y="28"/>
                    </a:lnTo>
                    <a:lnTo>
                      <a:pt x="48" y="26"/>
                    </a:lnTo>
                    <a:lnTo>
                      <a:pt x="48" y="21"/>
                    </a:lnTo>
                    <a:lnTo>
                      <a:pt x="48" y="15"/>
                    </a:lnTo>
                    <a:lnTo>
                      <a:pt x="41" y="12"/>
                    </a:lnTo>
                    <a:lnTo>
                      <a:pt x="34" y="10"/>
                    </a:lnTo>
                    <a:lnTo>
                      <a:pt x="24" y="10"/>
                    </a:lnTo>
                    <a:lnTo>
                      <a:pt x="1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8066160" y="6470640"/>
              <a:ext cx="219600" cy="152640"/>
            </a:xfrm>
            <a:custGeom>
              <a:avLst/>
              <a:gdLst/>
              <a:ahLst/>
              <a:rect l="0" t="0" r="r" b="b"/>
              <a:pathLst>
                <a:path w="610" h="424">
                  <a:moveTo>
                    <a:pt x="202" y="276"/>
                  </a:moveTo>
                  <a:lnTo>
                    <a:pt x="418" y="276"/>
                  </a:lnTo>
                  <a:lnTo>
                    <a:pt x="304" y="93"/>
                  </a:lnTo>
                  <a:lnTo>
                    <a:pt x="95" y="424"/>
                  </a:lnTo>
                  <a:lnTo>
                    <a:pt x="0" y="424"/>
                  </a:lnTo>
                  <a:lnTo>
                    <a:pt x="255" y="26"/>
                  </a:lnTo>
                  <a:lnTo>
                    <a:pt x="264" y="15"/>
                  </a:lnTo>
                  <a:lnTo>
                    <a:pt x="275" y="7"/>
                  </a:lnTo>
                  <a:lnTo>
                    <a:pt x="290" y="1"/>
                  </a:lnTo>
                  <a:lnTo>
                    <a:pt x="304" y="0"/>
                  </a:lnTo>
                  <a:lnTo>
                    <a:pt x="318" y="1"/>
                  </a:lnTo>
                  <a:lnTo>
                    <a:pt x="333" y="7"/>
                  </a:lnTo>
                  <a:lnTo>
                    <a:pt x="344" y="15"/>
                  </a:lnTo>
                  <a:lnTo>
                    <a:pt x="353" y="25"/>
                  </a:lnTo>
                  <a:lnTo>
                    <a:pt x="355" y="26"/>
                  </a:lnTo>
                  <a:lnTo>
                    <a:pt x="356" y="30"/>
                  </a:lnTo>
                  <a:lnTo>
                    <a:pt x="360" y="34"/>
                  </a:lnTo>
                  <a:lnTo>
                    <a:pt x="364" y="42"/>
                  </a:lnTo>
                  <a:lnTo>
                    <a:pt x="371" y="52"/>
                  </a:lnTo>
                  <a:lnTo>
                    <a:pt x="377" y="61"/>
                  </a:lnTo>
                  <a:lnTo>
                    <a:pt x="385" y="74"/>
                  </a:lnTo>
                  <a:lnTo>
                    <a:pt x="393" y="87"/>
                  </a:lnTo>
                  <a:lnTo>
                    <a:pt x="412" y="117"/>
                  </a:lnTo>
                  <a:lnTo>
                    <a:pt x="434" y="152"/>
                  </a:lnTo>
                  <a:lnTo>
                    <a:pt x="458" y="187"/>
                  </a:lnTo>
                  <a:lnTo>
                    <a:pt x="481" y="226"/>
                  </a:lnTo>
                  <a:lnTo>
                    <a:pt x="505" y="262"/>
                  </a:lnTo>
                  <a:lnTo>
                    <a:pt x="529" y="299"/>
                  </a:lnTo>
                  <a:lnTo>
                    <a:pt x="550" y="332"/>
                  </a:lnTo>
                  <a:lnTo>
                    <a:pt x="570" y="362"/>
                  </a:lnTo>
                  <a:lnTo>
                    <a:pt x="578" y="375"/>
                  </a:lnTo>
                  <a:lnTo>
                    <a:pt x="586" y="387"/>
                  </a:lnTo>
                  <a:lnTo>
                    <a:pt x="593" y="398"/>
                  </a:lnTo>
                  <a:lnTo>
                    <a:pt x="599" y="406"/>
                  </a:lnTo>
                  <a:lnTo>
                    <a:pt x="604" y="414"/>
                  </a:lnTo>
                  <a:lnTo>
                    <a:pt x="607" y="419"/>
                  </a:lnTo>
                  <a:lnTo>
                    <a:pt x="608" y="424"/>
                  </a:lnTo>
                  <a:lnTo>
                    <a:pt x="610" y="424"/>
                  </a:lnTo>
                  <a:lnTo>
                    <a:pt x="515" y="424"/>
                  </a:lnTo>
                  <a:lnTo>
                    <a:pt x="470" y="351"/>
                  </a:lnTo>
                  <a:lnTo>
                    <a:pt x="250" y="351"/>
                  </a:lnTo>
                  <a:lnTo>
                    <a:pt x="202" y="276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66120" y="6472080"/>
              <a:ext cx="163800" cy="151200"/>
            </a:xfrm>
            <a:custGeom>
              <a:avLst/>
              <a:gdLst/>
              <a:ahLst/>
              <a:rect l="0" t="0" r="r" b="b"/>
              <a:pathLst>
                <a:path w="455" h="420">
                  <a:moveTo>
                    <a:pt x="79" y="347"/>
                  </a:moveTo>
                  <a:lnTo>
                    <a:pt x="79" y="0"/>
                  </a:lnTo>
                  <a:lnTo>
                    <a:pt x="0" y="0"/>
                  </a:lnTo>
                  <a:lnTo>
                    <a:pt x="0" y="381"/>
                  </a:lnTo>
                  <a:lnTo>
                    <a:pt x="0" y="389"/>
                  </a:lnTo>
                  <a:lnTo>
                    <a:pt x="1" y="395"/>
                  </a:lnTo>
                  <a:lnTo>
                    <a:pt x="6" y="403"/>
                  </a:lnTo>
                  <a:lnTo>
                    <a:pt x="11" y="409"/>
                  </a:lnTo>
                  <a:lnTo>
                    <a:pt x="17" y="414"/>
                  </a:lnTo>
                  <a:lnTo>
                    <a:pt x="23" y="417"/>
                  </a:lnTo>
                  <a:lnTo>
                    <a:pt x="31" y="420"/>
                  </a:lnTo>
                  <a:lnTo>
                    <a:pt x="41" y="420"/>
                  </a:lnTo>
                  <a:lnTo>
                    <a:pt x="407" y="420"/>
                  </a:lnTo>
                  <a:lnTo>
                    <a:pt x="455" y="347"/>
                  </a:lnTo>
                  <a:lnTo>
                    <a:pt x="79" y="347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88320" y="6472080"/>
              <a:ext cx="176400" cy="151200"/>
            </a:xfrm>
            <a:custGeom>
              <a:avLst/>
              <a:gdLst/>
              <a:ahLst/>
              <a:rect l="0" t="0" r="r" b="b"/>
              <a:pathLst>
                <a:path w="490" h="420">
                  <a:moveTo>
                    <a:pt x="350" y="285"/>
                  </a:moveTo>
                  <a:lnTo>
                    <a:pt x="364" y="283"/>
                  </a:lnTo>
                  <a:lnTo>
                    <a:pt x="379" y="281"/>
                  </a:lnTo>
                  <a:lnTo>
                    <a:pt x="391" y="278"/>
                  </a:lnTo>
                  <a:lnTo>
                    <a:pt x="404" y="273"/>
                  </a:lnTo>
                  <a:lnTo>
                    <a:pt x="416" y="267"/>
                  </a:lnTo>
                  <a:lnTo>
                    <a:pt x="429" y="259"/>
                  </a:lnTo>
                  <a:lnTo>
                    <a:pt x="440" y="251"/>
                  </a:lnTo>
                  <a:lnTo>
                    <a:pt x="449" y="242"/>
                  </a:lnTo>
                  <a:lnTo>
                    <a:pt x="459" y="232"/>
                  </a:lnTo>
                  <a:lnTo>
                    <a:pt x="466" y="221"/>
                  </a:lnTo>
                  <a:lnTo>
                    <a:pt x="473" y="210"/>
                  </a:lnTo>
                  <a:lnTo>
                    <a:pt x="479" y="197"/>
                  </a:lnTo>
                  <a:lnTo>
                    <a:pt x="484" y="185"/>
                  </a:lnTo>
                  <a:lnTo>
                    <a:pt x="487" y="170"/>
                  </a:lnTo>
                  <a:lnTo>
                    <a:pt x="490" y="156"/>
                  </a:lnTo>
                  <a:lnTo>
                    <a:pt x="490" y="142"/>
                  </a:lnTo>
                  <a:lnTo>
                    <a:pt x="490" y="127"/>
                  </a:lnTo>
                  <a:lnTo>
                    <a:pt x="487" y="113"/>
                  </a:lnTo>
                  <a:lnTo>
                    <a:pt x="484" y="99"/>
                  </a:lnTo>
                  <a:lnTo>
                    <a:pt x="479" y="87"/>
                  </a:lnTo>
                  <a:lnTo>
                    <a:pt x="473" y="74"/>
                  </a:lnTo>
                  <a:lnTo>
                    <a:pt x="466" y="61"/>
                  </a:lnTo>
                  <a:lnTo>
                    <a:pt x="459" y="50"/>
                  </a:lnTo>
                  <a:lnTo>
                    <a:pt x="449" y="41"/>
                  </a:lnTo>
                  <a:lnTo>
                    <a:pt x="440" y="31"/>
                  </a:lnTo>
                  <a:lnTo>
                    <a:pt x="429" y="23"/>
                  </a:lnTo>
                  <a:lnTo>
                    <a:pt x="416" y="17"/>
                  </a:lnTo>
                  <a:lnTo>
                    <a:pt x="404" y="11"/>
                  </a:lnTo>
                  <a:lnTo>
                    <a:pt x="391" y="6"/>
                  </a:lnTo>
                  <a:lnTo>
                    <a:pt x="379" y="3"/>
                  </a:lnTo>
                  <a:lnTo>
                    <a:pt x="364" y="0"/>
                  </a:lnTo>
                  <a:lnTo>
                    <a:pt x="350" y="0"/>
                  </a:lnTo>
                  <a:lnTo>
                    <a:pt x="0" y="0"/>
                  </a:lnTo>
                  <a:lnTo>
                    <a:pt x="0" y="420"/>
                  </a:lnTo>
                  <a:lnTo>
                    <a:pt x="80" y="420"/>
                  </a:lnTo>
                  <a:lnTo>
                    <a:pt x="80" y="74"/>
                  </a:lnTo>
                  <a:lnTo>
                    <a:pt x="344" y="74"/>
                  </a:lnTo>
                  <a:lnTo>
                    <a:pt x="358" y="74"/>
                  </a:lnTo>
                  <a:lnTo>
                    <a:pt x="371" y="79"/>
                  </a:lnTo>
                  <a:lnTo>
                    <a:pt x="382" y="85"/>
                  </a:lnTo>
                  <a:lnTo>
                    <a:pt x="393" y="93"/>
                  </a:lnTo>
                  <a:lnTo>
                    <a:pt x="401" y="103"/>
                  </a:lnTo>
                  <a:lnTo>
                    <a:pt x="407" y="116"/>
                  </a:lnTo>
                  <a:lnTo>
                    <a:pt x="410" y="129"/>
                  </a:lnTo>
                  <a:lnTo>
                    <a:pt x="412" y="142"/>
                  </a:lnTo>
                  <a:lnTo>
                    <a:pt x="410" y="156"/>
                  </a:lnTo>
                  <a:lnTo>
                    <a:pt x="407" y="169"/>
                  </a:lnTo>
                  <a:lnTo>
                    <a:pt x="401" y="180"/>
                  </a:lnTo>
                  <a:lnTo>
                    <a:pt x="393" y="191"/>
                  </a:lnTo>
                  <a:lnTo>
                    <a:pt x="382" y="199"/>
                  </a:lnTo>
                  <a:lnTo>
                    <a:pt x="371" y="205"/>
                  </a:lnTo>
                  <a:lnTo>
                    <a:pt x="358" y="208"/>
                  </a:lnTo>
                  <a:lnTo>
                    <a:pt x="344" y="210"/>
                  </a:lnTo>
                  <a:lnTo>
                    <a:pt x="119" y="210"/>
                  </a:lnTo>
                  <a:lnTo>
                    <a:pt x="358" y="420"/>
                  </a:lnTo>
                  <a:lnTo>
                    <a:pt x="474" y="420"/>
                  </a:lnTo>
                  <a:lnTo>
                    <a:pt x="313" y="285"/>
                  </a:lnTo>
                  <a:lnTo>
                    <a:pt x="350" y="285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7632720" y="6472080"/>
              <a:ext cx="238320" cy="151200"/>
              <a:chOff x="7632720" y="6472080"/>
              <a:chExt cx="238320" cy="151200"/>
            </a:xfrm>
          </p:grpSpPr>
          <p:sp>
            <p:nvSpPr>
              <p:cNvPr id="352" name=""/>
              <p:cNvSpPr/>
              <p:nvPr/>
            </p:nvSpPr>
            <p:spPr>
              <a:xfrm>
                <a:off x="7745400" y="6472080"/>
                <a:ext cx="125640" cy="151200"/>
              </a:xfrm>
              <a:custGeom>
                <a:avLst/>
                <a:gdLst/>
                <a:ahLst/>
                <a:rect l="0" t="0" r="r" b="b"/>
                <a:pathLst>
                  <a:path w="349" h="420">
                    <a:moveTo>
                      <a:pt x="0" y="347"/>
                    </a:moveTo>
                    <a:lnTo>
                      <a:pt x="135" y="347"/>
                    </a:lnTo>
                    <a:lnTo>
                      <a:pt x="149" y="346"/>
                    </a:lnTo>
                    <a:lnTo>
                      <a:pt x="162" y="344"/>
                    </a:lnTo>
                    <a:lnTo>
                      <a:pt x="174" y="341"/>
                    </a:lnTo>
                    <a:lnTo>
                      <a:pt x="188" y="336"/>
                    </a:lnTo>
                    <a:lnTo>
                      <a:pt x="212" y="324"/>
                    </a:lnTo>
                    <a:lnTo>
                      <a:pt x="231" y="307"/>
                    </a:lnTo>
                    <a:lnTo>
                      <a:pt x="248" y="286"/>
                    </a:lnTo>
                    <a:lnTo>
                      <a:pt x="261" y="262"/>
                    </a:lnTo>
                    <a:lnTo>
                      <a:pt x="264" y="251"/>
                    </a:lnTo>
                    <a:lnTo>
                      <a:pt x="268" y="237"/>
                    </a:lnTo>
                    <a:lnTo>
                      <a:pt x="270" y="224"/>
                    </a:lnTo>
                    <a:lnTo>
                      <a:pt x="270" y="210"/>
                    </a:lnTo>
                    <a:lnTo>
                      <a:pt x="270" y="196"/>
                    </a:lnTo>
                    <a:lnTo>
                      <a:pt x="268" y="183"/>
                    </a:lnTo>
                    <a:lnTo>
                      <a:pt x="264" y="170"/>
                    </a:lnTo>
                    <a:lnTo>
                      <a:pt x="261" y="158"/>
                    </a:lnTo>
                    <a:lnTo>
                      <a:pt x="248" y="134"/>
                    </a:lnTo>
                    <a:lnTo>
                      <a:pt x="231" y="115"/>
                    </a:lnTo>
                    <a:lnTo>
                      <a:pt x="212" y="96"/>
                    </a:lnTo>
                    <a:lnTo>
                      <a:pt x="188" y="84"/>
                    </a:lnTo>
                    <a:lnTo>
                      <a:pt x="174" y="79"/>
                    </a:lnTo>
                    <a:lnTo>
                      <a:pt x="162" y="76"/>
                    </a:lnTo>
                    <a:lnTo>
                      <a:pt x="149" y="74"/>
                    </a:lnTo>
                    <a:lnTo>
                      <a:pt x="135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40" y="0"/>
                    </a:lnTo>
                    <a:lnTo>
                      <a:pt x="162" y="1"/>
                    </a:lnTo>
                    <a:lnTo>
                      <a:pt x="183" y="4"/>
                    </a:lnTo>
                    <a:lnTo>
                      <a:pt x="202" y="9"/>
                    </a:lnTo>
                    <a:lnTo>
                      <a:pt x="223" y="15"/>
                    </a:lnTo>
                    <a:lnTo>
                      <a:pt x="240" y="25"/>
                    </a:lnTo>
                    <a:lnTo>
                      <a:pt x="257" y="36"/>
                    </a:lnTo>
                    <a:lnTo>
                      <a:pt x="273" y="47"/>
                    </a:lnTo>
                    <a:lnTo>
                      <a:pt x="289" y="61"/>
                    </a:lnTo>
                    <a:lnTo>
                      <a:pt x="302" y="76"/>
                    </a:lnTo>
                    <a:lnTo>
                      <a:pt x="314" y="92"/>
                    </a:lnTo>
                    <a:lnTo>
                      <a:pt x="324" y="110"/>
                    </a:lnTo>
                    <a:lnTo>
                      <a:pt x="333" y="129"/>
                    </a:lnTo>
                    <a:lnTo>
                      <a:pt x="339" y="148"/>
                    </a:lnTo>
                    <a:lnTo>
                      <a:pt x="346" y="167"/>
                    </a:lnTo>
                    <a:lnTo>
                      <a:pt x="349" y="189"/>
                    </a:lnTo>
                    <a:lnTo>
                      <a:pt x="349" y="210"/>
                    </a:lnTo>
                    <a:lnTo>
                      <a:pt x="349" y="232"/>
                    </a:lnTo>
                    <a:lnTo>
                      <a:pt x="346" y="253"/>
                    </a:lnTo>
                    <a:lnTo>
                      <a:pt x="339" y="272"/>
                    </a:lnTo>
                    <a:lnTo>
                      <a:pt x="333" y="292"/>
                    </a:lnTo>
                    <a:lnTo>
                      <a:pt x="324" y="310"/>
                    </a:lnTo>
                    <a:lnTo>
                      <a:pt x="314" y="328"/>
                    </a:lnTo>
                    <a:lnTo>
                      <a:pt x="302" y="344"/>
                    </a:lnTo>
                    <a:lnTo>
                      <a:pt x="289" y="360"/>
                    </a:lnTo>
                    <a:lnTo>
                      <a:pt x="273" y="373"/>
                    </a:lnTo>
                    <a:lnTo>
                      <a:pt x="257" y="386"/>
                    </a:lnTo>
                    <a:lnTo>
                      <a:pt x="240" y="395"/>
                    </a:lnTo>
                    <a:lnTo>
                      <a:pt x="223" y="405"/>
                    </a:lnTo>
                    <a:lnTo>
                      <a:pt x="202" y="411"/>
                    </a:lnTo>
                    <a:lnTo>
                      <a:pt x="183" y="417"/>
                    </a:lnTo>
                    <a:lnTo>
                      <a:pt x="162" y="420"/>
                    </a:lnTo>
                    <a:lnTo>
                      <a:pt x="140" y="420"/>
                    </a:lnTo>
                    <a:lnTo>
                      <a:pt x="0" y="420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632720" y="6472080"/>
                <a:ext cx="127440" cy="151200"/>
              </a:xfrm>
              <a:custGeom>
                <a:avLst/>
                <a:gdLst/>
                <a:ahLst/>
                <a:rect l="0" t="0" r="r" b="b"/>
                <a:pathLst>
                  <a:path w="354" h="420">
                    <a:moveTo>
                      <a:pt x="354" y="420"/>
                    </a:moveTo>
                    <a:lnTo>
                      <a:pt x="213" y="420"/>
                    </a:lnTo>
                    <a:lnTo>
                      <a:pt x="190" y="420"/>
                    </a:lnTo>
                    <a:lnTo>
                      <a:pt x="170" y="417"/>
                    </a:lnTo>
                    <a:lnTo>
                      <a:pt x="149" y="411"/>
                    </a:lnTo>
                    <a:lnTo>
                      <a:pt x="130" y="405"/>
                    </a:lnTo>
                    <a:lnTo>
                      <a:pt x="112" y="395"/>
                    </a:lnTo>
                    <a:lnTo>
                      <a:pt x="95" y="386"/>
                    </a:lnTo>
                    <a:lnTo>
                      <a:pt x="78" y="373"/>
                    </a:lnTo>
                    <a:lnTo>
                      <a:pt x="62" y="360"/>
                    </a:lnTo>
                    <a:lnTo>
                      <a:pt x="49" y="344"/>
                    </a:lnTo>
                    <a:lnTo>
                      <a:pt x="36" y="328"/>
                    </a:lnTo>
                    <a:lnTo>
                      <a:pt x="25" y="310"/>
                    </a:lnTo>
                    <a:lnTo>
                      <a:pt x="17" y="292"/>
                    </a:lnTo>
                    <a:lnTo>
                      <a:pt x="9" y="272"/>
                    </a:lnTo>
                    <a:lnTo>
                      <a:pt x="4" y="253"/>
                    </a:lnTo>
                    <a:lnTo>
                      <a:pt x="1" y="232"/>
                    </a:lnTo>
                    <a:lnTo>
                      <a:pt x="0" y="210"/>
                    </a:lnTo>
                    <a:lnTo>
                      <a:pt x="1" y="189"/>
                    </a:lnTo>
                    <a:lnTo>
                      <a:pt x="4" y="167"/>
                    </a:lnTo>
                    <a:lnTo>
                      <a:pt x="9" y="148"/>
                    </a:lnTo>
                    <a:lnTo>
                      <a:pt x="17" y="129"/>
                    </a:lnTo>
                    <a:lnTo>
                      <a:pt x="25" y="110"/>
                    </a:lnTo>
                    <a:lnTo>
                      <a:pt x="36" y="92"/>
                    </a:lnTo>
                    <a:lnTo>
                      <a:pt x="49" y="76"/>
                    </a:lnTo>
                    <a:lnTo>
                      <a:pt x="62" y="61"/>
                    </a:lnTo>
                    <a:lnTo>
                      <a:pt x="78" y="47"/>
                    </a:lnTo>
                    <a:lnTo>
                      <a:pt x="95" y="36"/>
                    </a:lnTo>
                    <a:lnTo>
                      <a:pt x="112" y="25"/>
                    </a:lnTo>
                    <a:lnTo>
                      <a:pt x="130" y="15"/>
                    </a:lnTo>
                    <a:lnTo>
                      <a:pt x="149" y="9"/>
                    </a:lnTo>
                    <a:lnTo>
                      <a:pt x="170" y="4"/>
                    </a:lnTo>
                    <a:lnTo>
                      <a:pt x="190" y="1"/>
                    </a:lnTo>
                    <a:lnTo>
                      <a:pt x="213" y="0"/>
                    </a:lnTo>
                    <a:lnTo>
                      <a:pt x="354" y="0"/>
                    </a:lnTo>
                    <a:lnTo>
                      <a:pt x="354" y="74"/>
                    </a:lnTo>
                    <a:lnTo>
                      <a:pt x="218" y="74"/>
                    </a:lnTo>
                    <a:lnTo>
                      <a:pt x="203" y="74"/>
                    </a:lnTo>
                    <a:lnTo>
                      <a:pt x="190" y="76"/>
                    </a:lnTo>
                    <a:lnTo>
                      <a:pt x="178" y="79"/>
                    </a:lnTo>
                    <a:lnTo>
                      <a:pt x="165" y="84"/>
                    </a:lnTo>
                    <a:lnTo>
                      <a:pt x="141" y="96"/>
                    </a:lnTo>
                    <a:lnTo>
                      <a:pt x="122" y="115"/>
                    </a:lnTo>
                    <a:lnTo>
                      <a:pt x="104" y="134"/>
                    </a:lnTo>
                    <a:lnTo>
                      <a:pt x="91" y="158"/>
                    </a:lnTo>
                    <a:lnTo>
                      <a:pt x="86" y="170"/>
                    </a:lnTo>
                    <a:lnTo>
                      <a:pt x="83" y="183"/>
                    </a:lnTo>
                    <a:lnTo>
                      <a:pt x="81" y="196"/>
                    </a:lnTo>
                    <a:lnTo>
                      <a:pt x="81" y="210"/>
                    </a:lnTo>
                    <a:lnTo>
                      <a:pt x="81" y="224"/>
                    </a:lnTo>
                    <a:lnTo>
                      <a:pt x="83" y="237"/>
                    </a:lnTo>
                    <a:lnTo>
                      <a:pt x="86" y="251"/>
                    </a:lnTo>
                    <a:lnTo>
                      <a:pt x="91" y="262"/>
                    </a:lnTo>
                    <a:lnTo>
                      <a:pt x="104" y="286"/>
                    </a:lnTo>
                    <a:lnTo>
                      <a:pt x="122" y="307"/>
                    </a:lnTo>
                    <a:lnTo>
                      <a:pt x="141" y="324"/>
                    </a:lnTo>
                    <a:lnTo>
                      <a:pt x="165" y="336"/>
                    </a:lnTo>
                    <a:lnTo>
                      <a:pt x="178" y="341"/>
                    </a:lnTo>
                    <a:lnTo>
                      <a:pt x="190" y="344"/>
                    </a:lnTo>
                    <a:lnTo>
                      <a:pt x="203" y="346"/>
                    </a:lnTo>
                    <a:lnTo>
                      <a:pt x="218" y="347"/>
                    </a:lnTo>
                    <a:lnTo>
                      <a:pt x="354" y="347"/>
                    </a:lnTo>
                    <a:lnTo>
                      <a:pt x="354" y="420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8271000" y="6472080"/>
              <a:ext cx="182880" cy="151200"/>
            </a:xfrm>
            <a:custGeom>
              <a:avLst/>
              <a:gdLst/>
              <a:ahLst/>
              <a:rect l="0" t="0" r="r" b="b"/>
              <a:pathLst>
                <a:path w="508" h="420">
                  <a:moveTo>
                    <a:pt x="210" y="420"/>
                  </a:moveTo>
                  <a:lnTo>
                    <a:pt x="188" y="420"/>
                  </a:lnTo>
                  <a:lnTo>
                    <a:pt x="167" y="417"/>
                  </a:lnTo>
                  <a:lnTo>
                    <a:pt x="146" y="411"/>
                  </a:lnTo>
                  <a:lnTo>
                    <a:pt x="127" y="405"/>
                  </a:lnTo>
                  <a:lnTo>
                    <a:pt x="110" y="395"/>
                  </a:lnTo>
                  <a:lnTo>
                    <a:pt x="92" y="386"/>
                  </a:lnTo>
                  <a:lnTo>
                    <a:pt x="76" y="373"/>
                  </a:lnTo>
                  <a:lnTo>
                    <a:pt x="60" y="360"/>
                  </a:lnTo>
                  <a:lnTo>
                    <a:pt x="47" y="344"/>
                  </a:lnTo>
                  <a:lnTo>
                    <a:pt x="35" y="328"/>
                  </a:lnTo>
                  <a:lnTo>
                    <a:pt x="25" y="310"/>
                  </a:lnTo>
                  <a:lnTo>
                    <a:pt x="15" y="292"/>
                  </a:lnTo>
                  <a:lnTo>
                    <a:pt x="9" y="272"/>
                  </a:lnTo>
                  <a:lnTo>
                    <a:pt x="3" y="253"/>
                  </a:lnTo>
                  <a:lnTo>
                    <a:pt x="0" y="232"/>
                  </a:lnTo>
                  <a:lnTo>
                    <a:pt x="0" y="210"/>
                  </a:lnTo>
                  <a:lnTo>
                    <a:pt x="0" y="189"/>
                  </a:lnTo>
                  <a:lnTo>
                    <a:pt x="3" y="167"/>
                  </a:lnTo>
                  <a:lnTo>
                    <a:pt x="9" y="148"/>
                  </a:lnTo>
                  <a:lnTo>
                    <a:pt x="15" y="129"/>
                  </a:lnTo>
                  <a:lnTo>
                    <a:pt x="25" y="110"/>
                  </a:lnTo>
                  <a:lnTo>
                    <a:pt x="35" y="92"/>
                  </a:lnTo>
                  <a:lnTo>
                    <a:pt x="47" y="76"/>
                  </a:lnTo>
                  <a:lnTo>
                    <a:pt x="60" y="61"/>
                  </a:lnTo>
                  <a:lnTo>
                    <a:pt x="76" y="47"/>
                  </a:lnTo>
                  <a:lnTo>
                    <a:pt x="92" y="36"/>
                  </a:lnTo>
                  <a:lnTo>
                    <a:pt x="110" y="25"/>
                  </a:lnTo>
                  <a:lnTo>
                    <a:pt x="127" y="15"/>
                  </a:lnTo>
                  <a:lnTo>
                    <a:pt x="146" y="9"/>
                  </a:lnTo>
                  <a:lnTo>
                    <a:pt x="167" y="4"/>
                  </a:lnTo>
                  <a:lnTo>
                    <a:pt x="188" y="1"/>
                  </a:lnTo>
                  <a:lnTo>
                    <a:pt x="210" y="0"/>
                  </a:lnTo>
                  <a:lnTo>
                    <a:pt x="501" y="0"/>
                  </a:lnTo>
                  <a:lnTo>
                    <a:pt x="453" y="74"/>
                  </a:lnTo>
                  <a:lnTo>
                    <a:pt x="215" y="74"/>
                  </a:lnTo>
                  <a:lnTo>
                    <a:pt x="200" y="74"/>
                  </a:lnTo>
                  <a:lnTo>
                    <a:pt x="188" y="76"/>
                  </a:lnTo>
                  <a:lnTo>
                    <a:pt x="175" y="79"/>
                  </a:lnTo>
                  <a:lnTo>
                    <a:pt x="162" y="84"/>
                  </a:lnTo>
                  <a:lnTo>
                    <a:pt x="138" y="96"/>
                  </a:lnTo>
                  <a:lnTo>
                    <a:pt x="119" y="115"/>
                  </a:lnTo>
                  <a:lnTo>
                    <a:pt x="102" y="134"/>
                  </a:lnTo>
                  <a:lnTo>
                    <a:pt x="89" y="158"/>
                  </a:lnTo>
                  <a:lnTo>
                    <a:pt x="84" y="170"/>
                  </a:lnTo>
                  <a:lnTo>
                    <a:pt x="81" y="183"/>
                  </a:lnTo>
                  <a:lnTo>
                    <a:pt x="79" y="196"/>
                  </a:lnTo>
                  <a:lnTo>
                    <a:pt x="79" y="210"/>
                  </a:lnTo>
                  <a:lnTo>
                    <a:pt x="79" y="224"/>
                  </a:lnTo>
                  <a:lnTo>
                    <a:pt x="81" y="237"/>
                  </a:lnTo>
                  <a:lnTo>
                    <a:pt x="84" y="251"/>
                  </a:lnTo>
                  <a:lnTo>
                    <a:pt x="89" y="262"/>
                  </a:lnTo>
                  <a:lnTo>
                    <a:pt x="102" y="286"/>
                  </a:lnTo>
                  <a:lnTo>
                    <a:pt x="119" y="307"/>
                  </a:lnTo>
                  <a:lnTo>
                    <a:pt x="138" y="324"/>
                  </a:lnTo>
                  <a:lnTo>
                    <a:pt x="162" y="336"/>
                  </a:lnTo>
                  <a:lnTo>
                    <a:pt x="175" y="341"/>
                  </a:lnTo>
                  <a:lnTo>
                    <a:pt x="188" y="344"/>
                  </a:lnTo>
                  <a:lnTo>
                    <a:pt x="200" y="346"/>
                  </a:lnTo>
                  <a:lnTo>
                    <a:pt x="215" y="347"/>
                  </a:lnTo>
                  <a:lnTo>
                    <a:pt x="508" y="347"/>
                  </a:lnTo>
                  <a:lnTo>
                    <a:pt x="461" y="420"/>
                  </a:lnTo>
                  <a:lnTo>
                    <a:pt x="210" y="420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623440" y="6472080"/>
              <a:ext cx="184680" cy="151200"/>
            </a:xfrm>
            <a:custGeom>
              <a:avLst/>
              <a:gdLst/>
              <a:ahLst/>
              <a:rect l="0" t="0" r="r" b="b"/>
              <a:pathLst>
                <a:path w="513" h="420">
                  <a:moveTo>
                    <a:pt x="217" y="347"/>
                  </a:moveTo>
                  <a:lnTo>
                    <a:pt x="195" y="344"/>
                  </a:lnTo>
                  <a:lnTo>
                    <a:pt x="172" y="339"/>
                  </a:lnTo>
                  <a:lnTo>
                    <a:pt x="153" y="330"/>
                  </a:lnTo>
                  <a:lnTo>
                    <a:pt x="134" y="319"/>
                  </a:lnTo>
                  <a:lnTo>
                    <a:pt x="117" y="304"/>
                  </a:lnTo>
                  <a:lnTo>
                    <a:pt x="104" y="286"/>
                  </a:lnTo>
                  <a:lnTo>
                    <a:pt x="93" y="267"/>
                  </a:lnTo>
                  <a:lnTo>
                    <a:pt x="84" y="246"/>
                  </a:lnTo>
                  <a:lnTo>
                    <a:pt x="434" y="246"/>
                  </a:lnTo>
                  <a:lnTo>
                    <a:pt x="483" y="173"/>
                  </a:lnTo>
                  <a:lnTo>
                    <a:pt x="84" y="173"/>
                  </a:lnTo>
                  <a:lnTo>
                    <a:pt x="93" y="153"/>
                  </a:lnTo>
                  <a:lnTo>
                    <a:pt x="104" y="134"/>
                  </a:lnTo>
                  <a:lnTo>
                    <a:pt x="117" y="116"/>
                  </a:lnTo>
                  <a:lnTo>
                    <a:pt x="134" y="101"/>
                  </a:lnTo>
                  <a:lnTo>
                    <a:pt x="153" y="90"/>
                  </a:lnTo>
                  <a:lnTo>
                    <a:pt x="172" y="80"/>
                  </a:lnTo>
                  <a:lnTo>
                    <a:pt x="195" y="76"/>
                  </a:lnTo>
                  <a:lnTo>
                    <a:pt x="217" y="74"/>
                  </a:lnTo>
                  <a:lnTo>
                    <a:pt x="459" y="74"/>
                  </a:lnTo>
                  <a:lnTo>
                    <a:pt x="505" y="0"/>
                  </a:lnTo>
                  <a:lnTo>
                    <a:pt x="212" y="0"/>
                  </a:lnTo>
                  <a:lnTo>
                    <a:pt x="190" y="1"/>
                  </a:lnTo>
                  <a:lnTo>
                    <a:pt x="169" y="4"/>
                  </a:lnTo>
                  <a:lnTo>
                    <a:pt x="150" y="9"/>
                  </a:lnTo>
                  <a:lnTo>
                    <a:pt x="129" y="15"/>
                  </a:lnTo>
                  <a:lnTo>
                    <a:pt x="110" y="25"/>
                  </a:lnTo>
                  <a:lnTo>
                    <a:pt x="93" y="36"/>
                  </a:lnTo>
                  <a:lnTo>
                    <a:pt x="76" y="47"/>
                  </a:lnTo>
                  <a:lnTo>
                    <a:pt x="60" y="61"/>
                  </a:lnTo>
                  <a:lnTo>
                    <a:pt x="48" y="76"/>
                  </a:lnTo>
                  <a:lnTo>
                    <a:pt x="35" y="92"/>
                  </a:lnTo>
                  <a:lnTo>
                    <a:pt x="25" y="110"/>
                  </a:lnTo>
                  <a:lnTo>
                    <a:pt x="16" y="129"/>
                  </a:lnTo>
                  <a:lnTo>
                    <a:pt x="9" y="148"/>
                  </a:lnTo>
                  <a:lnTo>
                    <a:pt x="3" y="167"/>
                  </a:lnTo>
                  <a:lnTo>
                    <a:pt x="0" y="189"/>
                  </a:lnTo>
                  <a:lnTo>
                    <a:pt x="0" y="210"/>
                  </a:lnTo>
                  <a:lnTo>
                    <a:pt x="0" y="232"/>
                  </a:lnTo>
                  <a:lnTo>
                    <a:pt x="3" y="253"/>
                  </a:lnTo>
                  <a:lnTo>
                    <a:pt x="9" y="272"/>
                  </a:lnTo>
                  <a:lnTo>
                    <a:pt x="16" y="292"/>
                  </a:lnTo>
                  <a:lnTo>
                    <a:pt x="25" y="310"/>
                  </a:lnTo>
                  <a:lnTo>
                    <a:pt x="35" y="328"/>
                  </a:lnTo>
                  <a:lnTo>
                    <a:pt x="48" y="344"/>
                  </a:lnTo>
                  <a:lnTo>
                    <a:pt x="60" y="360"/>
                  </a:lnTo>
                  <a:lnTo>
                    <a:pt x="76" y="373"/>
                  </a:lnTo>
                  <a:lnTo>
                    <a:pt x="93" y="386"/>
                  </a:lnTo>
                  <a:lnTo>
                    <a:pt x="110" y="395"/>
                  </a:lnTo>
                  <a:lnTo>
                    <a:pt x="129" y="405"/>
                  </a:lnTo>
                  <a:lnTo>
                    <a:pt x="150" y="411"/>
                  </a:lnTo>
                  <a:lnTo>
                    <a:pt x="169" y="417"/>
                  </a:lnTo>
                  <a:lnTo>
                    <a:pt x="190" y="420"/>
                  </a:lnTo>
                  <a:lnTo>
                    <a:pt x="212" y="420"/>
                  </a:lnTo>
                  <a:lnTo>
                    <a:pt x="465" y="420"/>
                  </a:lnTo>
                  <a:lnTo>
                    <a:pt x="513" y="347"/>
                  </a:lnTo>
                  <a:lnTo>
                    <a:pt x="217" y="347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3008160" y="1066680"/>
            <a:ext cx="3100320" cy="3071880"/>
            <a:chOff x="3008160" y="1066680"/>
            <a:chExt cx="3100320" cy="3071880"/>
          </a:xfrm>
        </p:grpSpPr>
        <p:sp>
          <p:nvSpPr>
            <p:cNvPr id="357" name=""/>
            <p:cNvSpPr/>
            <p:nvPr/>
          </p:nvSpPr>
          <p:spPr>
            <a:xfrm>
              <a:off x="3019320" y="1066680"/>
              <a:ext cx="3089160" cy="307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66a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36960" y="1503360"/>
              <a:ext cx="3043440" cy="2181600"/>
            </a:xfrm>
            <a:custGeom>
              <a:avLst/>
              <a:gdLst/>
              <a:ahLst/>
              <a:rect l="0" t="0" r="r" b="b"/>
              <a:pathLst>
                <a:path w="8454" h="6060">
                  <a:moveTo>
                    <a:pt x="919" y="522"/>
                  </a:moveTo>
                  <a:lnTo>
                    <a:pt x="1011" y="539"/>
                  </a:lnTo>
                  <a:lnTo>
                    <a:pt x="1086" y="468"/>
                  </a:lnTo>
                  <a:lnTo>
                    <a:pt x="1168" y="420"/>
                  </a:lnTo>
                  <a:lnTo>
                    <a:pt x="1223" y="365"/>
                  </a:lnTo>
                  <a:lnTo>
                    <a:pt x="1325" y="300"/>
                  </a:lnTo>
                  <a:lnTo>
                    <a:pt x="1387" y="273"/>
                  </a:lnTo>
                  <a:lnTo>
                    <a:pt x="1472" y="228"/>
                  </a:lnTo>
                  <a:lnTo>
                    <a:pt x="1544" y="228"/>
                  </a:lnTo>
                  <a:lnTo>
                    <a:pt x="1599" y="218"/>
                  </a:lnTo>
                  <a:lnTo>
                    <a:pt x="1664" y="218"/>
                  </a:lnTo>
                  <a:lnTo>
                    <a:pt x="1701" y="174"/>
                  </a:lnTo>
                  <a:lnTo>
                    <a:pt x="1783" y="191"/>
                  </a:lnTo>
                  <a:lnTo>
                    <a:pt x="1869" y="153"/>
                  </a:lnTo>
                  <a:lnTo>
                    <a:pt x="1930" y="174"/>
                  </a:lnTo>
                  <a:lnTo>
                    <a:pt x="1968" y="208"/>
                  </a:lnTo>
                  <a:lnTo>
                    <a:pt x="1930" y="228"/>
                  </a:lnTo>
                  <a:lnTo>
                    <a:pt x="1869" y="218"/>
                  </a:lnTo>
                  <a:lnTo>
                    <a:pt x="1804" y="266"/>
                  </a:lnTo>
                  <a:lnTo>
                    <a:pt x="1756" y="310"/>
                  </a:lnTo>
                  <a:lnTo>
                    <a:pt x="1749" y="375"/>
                  </a:lnTo>
                  <a:lnTo>
                    <a:pt x="1684" y="382"/>
                  </a:lnTo>
                  <a:lnTo>
                    <a:pt x="1599" y="420"/>
                  </a:lnTo>
                  <a:lnTo>
                    <a:pt x="1582" y="512"/>
                  </a:lnTo>
                  <a:lnTo>
                    <a:pt x="1571" y="587"/>
                  </a:lnTo>
                  <a:lnTo>
                    <a:pt x="1544" y="652"/>
                  </a:lnTo>
                  <a:lnTo>
                    <a:pt x="1582" y="697"/>
                  </a:lnTo>
                  <a:lnTo>
                    <a:pt x="1629" y="550"/>
                  </a:lnTo>
                  <a:lnTo>
                    <a:pt x="1684" y="522"/>
                  </a:lnTo>
                  <a:lnTo>
                    <a:pt x="1749" y="447"/>
                  </a:lnTo>
                  <a:lnTo>
                    <a:pt x="1793" y="355"/>
                  </a:lnTo>
                  <a:lnTo>
                    <a:pt x="1903" y="321"/>
                  </a:lnTo>
                  <a:lnTo>
                    <a:pt x="1995" y="283"/>
                  </a:lnTo>
                  <a:lnTo>
                    <a:pt x="2050" y="201"/>
                  </a:lnTo>
                  <a:lnTo>
                    <a:pt x="2135" y="201"/>
                  </a:lnTo>
                  <a:lnTo>
                    <a:pt x="2299" y="191"/>
                  </a:lnTo>
                  <a:lnTo>
                    <a:pt x="2484" y="153"/>
                  </a:lnTo>
                  <a:lnTo>
                    <a:pt x="2549" y="146"/>
                  </a:lnTo>
                  <a:lnTo>
                    <a:pt x="2631" y="146"/>
                  </a:lnTo>
                  <a:lnTo>
                    <a:pt x="2716" y="146"/>
                  </a:lnTo>
                  <a:lnTo>
                    <a:pt x="2788" y="174"/>
                  </a:lnTo>
                  <a:lnTo>
                    <a:pt x="2880" y="256"/>
                  </a:lnTo>
                  <a:lnTo>
                    <a:pt x="2842" y="266"/>
                  </a:lnTo>
                  <a:lnTo>
                    <a:pt x="2743" y="293"/>
                  </a:lnTo>
                  <a:lnTo>
                    <a:pt x="2750" y="375"/>
                  </a:lnTo>
                  <a:lnTo>
                    <a:pt x="2836" y="382"/>
                  </a:lnTo>
                  <a:lnTo>
                    <a:pt x="2870" y="382"/>
                  </a:lnTo>
                  <a:lnTo>
                    <a:pt x="2863" y="457"/>
                  </a:lnTo>
                  <a:lnTo>
                    <a:pt x="2750" y="539"/>
                  </a:lnTo>
                  <a:lnTo>
                    <a:pt x="2695" y="550"/>
                  </a:lnTo>
                  <a:lnTo>
                    <a:pt x="2706" y="604"/>
                  </a:lnTo>
                  <a:lnTo>
                    <a:pt x="2733" y="642"/>
                  </a:lnTo>
                  <a:lnTo>
                    <a:pt x="2695" y="697"/>
                  </a:lnTo>
                  <a:lnTo>
                    <a:pt x="2743" y="768"/>
                  </a:lnTo>
                  <a:lnTo>
                    <a:pt x="2651" y="799"/>
                  </a:lnTo>
                  <a:lnTo>
                    <a:pt x="2549" y="833"/>
                  </a:lnTo>
                  <a:lnTo>
                    <a:pt x="2538" y="936"/>
                  </a:lnTo>
                  <a:lnTo>
                    <a:pt x="2484" y="1008"/>
                  </a:lnTo>
                  <a:lnTo>
                    <a:pt x="2429" y="1066"/>
                  </a:lnTo>
                  <a:lnTo>
                    <a:pt x="2347" y="1110"/>
                  </a:lnTo>
                  <a:lnTo>
                    <a:pt x="2538" y="1110"/>
                  </a:lnTo>
                  <a:lnTo>
                    <a:pt x="2651" y="1110"/>
                  </a:lnTo>
                  <a:lnTo>
                    <a:pt x="2706" y="1137"/>
                  </a:lnTo>
                  <a:lnTo>
                    <a:pt x="2788" y="1093"/>
                  </a:lnTo>
                  <a:lnTo>
                    <a:pt x="2836" y="1175"/>
                  </a:lnTo>
                  <a:lnTo>
                    <a:pt x="3922" y="1175"/>
                  </a:lnTo>
                  <a:lnTo>
                    <a:pt x="3977" y="1110"/>
                  </a:lnTo>
                  <a:lnTo>
                    <a:pt x="4076" y="1038"/>
                  </a:lnTo>
                  <a:lnTo>
                    <a:pt x="4141" y="919"/>
                  </a:lnTo>
                  <a:lnTo>
                    <a:pt x="4234" y="806"/>
                  </a:lnTo>
                  <a:lnTo>
                    <a:pt x="4272" y="714"/>
                  </a:lnTo>
                  <a:lnTo>
                    <a:pt x="4326" y="615"/>
                  </a:lnTo>
                  <a:lnTo>
                    <a:pt x="4401" y="587"/>
                  </a:lnTo>
                  <a:lnTo>
                    <a:pt x="4429" y="522"/>
                  </a:lnTo>
                  <a:lnTo>
                    <a:pt x="4501" y="550"/>
                  </a:lnTo>
                  <a:lnTo>
                    <a:pt x="4565" y="485"/>
                  </a:lnTo>
                  <a:lnTo>
                    <a:pt x="4613" y="539"/>
                  </a:lnTo>
                  <a:lnTo>
                    <a:pt x="4695" y="567"/>
                  </a:lnTo>
                  <a:lnTo>
                    <a:pt x="4777" y="594"/>
                  </a:lnTo>
                  <a:lnTo>
                    <a:pt x="4859" y="615"/>
                  </a:lnTo>
                  <a:lnTo>
                    <a:pt x="4917" y="587"/>
                  </a:lnTo>
                  <a:lnTo>
                    <a:pt x="4989" y="632"/>
                  </a:lnTo>
                  <a:lnTo>
                    <a:pt x="5054" y="697"/>
                  </a:lnTo>
                  <a:lnTo>
                    <a:pt x="5146" y="714"/>
                  </a:lnTo>
                  <a:lnTo>
                    <a:pt x="5163" y="799"/>
                  </a:lnTo>
                  <a:lnTo>
                    <a:pt x="5119" y="854"/>
                  </a:lnTo>
                  <a:lnTo>
                    <a:pt x="4999" y="833"/>
                  </a:lnTo>
                  <a:lnTo>
                    <a:pt x="4907" y="789"/>
                  </a:lnTo>
                  <a:lnTo>
                    <a:pt x="4897" y="861"/>
                  </a:lnTo>
                  <a:lnTo>
                    <a:pt x="5017" y="871"/>
                  </a:lnTo>
                  <a:lnTo>
                    <a:pt x="5119" y="946"/>
                  </a:lnTo>
                  <a:lnTo>
                    <a:pt x="5266" y="888"/>
                  </a:lnTo>
                  <a:lnTo>
                    <a:pt x="5304" y="779"/>
                  </a:lnTo>
                  <a:lnTo>
                    <a:pt x="5368" y="686"/>
                  </a:lnTo>
                  <a:lnTo>
                    <a:pt x="5450" y="707"/>
                  </a:lnTo>
                  <a:lnTo>
                    <a:pt x="5433" y="762"/>
                  </a:lnTo>
                  <a:lnTo>
                    <a:pt x="5386" y="799"/>
                  </a:lnTo>
                  <a:lnTo>
                    <a:pt x="5386" y="871"/>
                  </a:lnTo>
                  <a:lnTo>
                    <a:pt x="5478" y="789"/>
                  </a:lnTo>
                  <a:lnTo>
                    <a:pt x="5560" y="714"/>
                  </a:lnTo>
                  <a:lnTo>
                    <a:pt x="5690" y="697"/>
                  </a:lnTo>
                  <a:lnTo>
                    <a:pt x="5864" y="642"/>
                  </a:lnTo>
                  <a:lnTo>
                    <a:pt x="5994" y="587"/>
                  </a:lnTo>
                  <a:lnTo>
                    <a:pt x="6011" y="512"/>
                  </a:lnTo>
                  <a:lnTo>
                    <a:pt x="5912" y="522"/>
                  </a:lnTo>
                  <a:lnTo>
                    <a:pt x="5819" y="457"/>
                  </a:lnTo>
                  <a:lnTo>
                    <a:pt x="5755" y="355"/>
                  </a:lnTo>
                  <a:lnTo>
                    <a:pt x="5819" y="218"/>
                  </a:lnTo>
                  <a:lnTo>
                    <a:pt x="5919" y="126"/>
                  </a:lnTo>
                  <a:lnTo>
                    <a:pt x="6004" y="54"/>
                  </a:lnTo>
                  <a:lnTo>
                    <a:pt x="6141" y="54"/>
                  </a:lnTo>
                  <a:lnTo>
                    <a:pt x="6243" y="0"/>
                  </a:lnTo>
                  <a:lnTo>
                    <a:pt x="6233" y="61"/>
                  </a:lnTo>
                  <a:lnTo>
                    <a:pt x="6151" y="71"/>
                  </a:lnTo>
                  <a:lnTo>
                    <a:pt x="6103" y="109"/>
                  </a:lnTo>
                  <a:lnTo>
                    <a:pt x="6021" y="116"/>
                  </a:lnTo>
                  <a:lnTo>
                    <a:pt x="5984" y="191"/>
                  </a:lnTo>
                  <a:lnTo>
                    <a:pt x="5929" y="273"/>
                  </a:lnTo>
                  <a:lnTo>
                    <a:pt x="5912" y="355"/>
                  </a:lnTo>
                  <a:lnTo>
                    <a:pt x="6004" y="485"/>
                  </a:lnTo>
                  <a:lnTo>
                    <a:pt x="6158" y="560"/>
                  </a:lnTo>
                  <a:lnTo>
                    <a:pt x="6260" y="604"/>
                  </a:lnTo>
                  <a:lnTo>
                    <a:pt x="6308" y="632"/>
                  </a:lnTo>
                  <a:lnTo>
                    <a:pt x="6353" y="697"/>
                  </a:lnTo>
                  <a:lnTo>
                    <a:pt x="6400" y="686"/>
                  </a:lnTo>
                  <a:lnTo>
                    <a:pt x="6400" y="632"/>
                  </a:lnTo>
                  <a:lnTo>
                    <a:pt x="6380" y="550"/>
                  </a:lnTo>
                  <a:lnTo>
                    <a:pt x="6335" y="502"/>
                  </a:lnTo>
                  <a:lnTo>
                    <a:pt x="6325" y="447"/>
                  </a:lnTo>
                  <a:lnTo>
                    <a:pt x="6353" y="348"/>
                  </a:lnTo>
                  <a:lnTo>
                    <a:pt x="6462" y="348"/>
                  </a:lnTo>
                  <a:lnTo>
                    <a:pt x="6547" y="348"/>
                  </a:lnTo>
                  <a:lnTo>
                    <a:pt x="6592" y="382"/>
                  </a:lnTo>
                  <a:lnTo>
                    <a:pt x="6602" y="475"/>
                  </a:lnTo>
                  <a:lnTo>
                    <a:pt x="6646" y="560"/>
                  </a:lnTo>
                  <a:lnTo>
                    <a:pt x="6667" y="475"/>
                  </a:lnTo>
                  <a:lnTo>
                    <a:pt x="6739" y="420"/>
                  </a:lnTo>
                  <a:lnTo>
                    <a:pt x="6821" y="420"/>
                  </a:lnTo>
                  <a:lnTo>
                    <a:pt x="6896" y="420"/>
                  </a:lnTo>
                  <a:lnTo>
                    <a:pt x="6971" y="430"/>
                  </a:lnTo>
                  <a:lnTo>
                    <a:pt x="6971" y="348"/>
                  </a:lnTo>
                  <a:lnTo>
                    <a:pt x="7015" y="355"/>
                  </a:lnTo>
                  <a:lnTo>
                    <a:pt x="7070" y="403"/>
                  </a:lnTo>
                  <a:lnTo>
                    <a:pt x="7162" y="403"/>
                  </a:lnTo>
                  <a:lnTo>
                    <a:pt x="7244" y="375"/>
                  </a:lnTo>
                  <a:lnTo>
                    <a:pt x="7330" y="447"/>
                  </a:lnTo>
                  <a:lnTo>
                    <a:pt x="7429" y="539"/>
                  </a:lnTo>
                  <a:lnTo>
                    <a:pt x="7542" y="560"/>
                  </a:lnTo>
                  <a:lnTo>
                    <a:pt x="7689" y="615"/>
                  </a:lnTo>
                  <a:lnTo>
                    <a:pt x="7726" y="604"/>
                  </a:lnTo>
                  <a:lnTo>
                    <a:pt x="7835" y="789"/>
                  </a:lnTo>
                  <a:lnTo>
                    <a:pt x="7999" y="1066"/>
                  </a:lnTo>
                  <a:lnTo>
                    <a:pt x="8102" y="1247"/>
                  </a:lnTo>
                  <a:lnTo>
                    <a:pt x="8177" y="1425"/>
                  </a:lnTo>
                  <a:lnTo>
                    <a:pt x="8092" y="1452"/>
                  </a:lnTo>
                  <a:lnTo>
                    <a:pt x="8064" y="1535"/>
                  </a:lnTo>
                  <a:lnTo>
                    <a:pt x="8092" y="1661"/>
                  </a:lnTo>
                  <a:lnTo>
                    <a:pt x="8150" y="1791"/>
                  </a:lnTo>
                  <a:lnTo>
                    <a:pt x="8184" y="1791"/>
                  </a:lnTo>
                  <a:lnTo>
                    <a:pt x="8205" y="1692"/>
                  </a:lnTo>
                  <a:lnTo>
                    <a:pt x="8259" y="1661"/>
                  </a:lnTo>
                  <a:lnTo>
                    <a:pt x="8287" y="1754"/>
                  </a:lnTo>
                  <a:lnTo>
                    <a:pt x="8211" y="1791"/>
                  </a:lnTo>
                  <a:lnTo>
                    <a:pt x="8331" y="1883"/>
                  </a:lnTo>
                  <a:lnTo>
                    <a:pt x="8249" y="1993"/>
                  </a:lnTo>
                  <a:lnTo>
                    <a:pt x="8232" y="2047"/>
                  </a:lnTo>
                  <a:lnTo>
                    <a:pt x="8369" y="2085"/>
                  </a:lnTo>
                  <a:lnTo>
                    <a:pt x="8304" y="2167"/>
                  </a:lnTo>
                  <a:lnTo>
                    <a:pt x="8242" y="2188"/>
                  </a:lnTo>
                  <a:lnTo>
                    <a:pt x="8242" y="2324"/>
                  </a:lnTo>
                  <a:lnTo>
                    <a:pt x="8304" y="2434"/>
                  </a:lnTo>
                  <a:lnTo>
                    <a:pt x="8242" y="2454"/>
                  </a:lnTo>
                  <a:lnTo>
                    <a:pt x="8102" y="2427"/>
                  </a:lnTo>
                  <a:lnTo>
                    <a:pt x="8167" y="2362"/>
                  </a:lnTo>
                  <a:lnTo>
                    <a:pt x="8249" y="2362"/>
                  </a:lnTo>
                  <a:lnTo>
                    <a:pt x="8249" y="2225"/>
                  </a:lnTo>
                  <a:lnTo>
                    <a:pt x="8157" y="2270"/>
                  </a:lnTo>
                  <a:lnTo>
                    <a:pt x="8150" y="2160"/>
                  </a:lnTo>
                  <a:lnTo>
                    <a:pt x="8232" y="2085"/>
                  </a:lnTo>
                  <a:lnTo>
                    <a:pt x="8249" y="2013"/>
                  </a:lnTo>
                  <a:lnTo>
                    <a:pt x="8205" y="1911"/>
                  </a:lnTo>
                  <a:lnTo>
                    <a:pt x="8184" y="1781"/>
                  </a:lnTo>
                  <a:lnTo>
                    <a:pt x="8140" y="1839"/>
                  </a:lnTo>
                  <a:lnTo>
                    <a:pt x="8075" y="1928"/>
                  </a:lnTo>
                  <a:lnTo>
                    <a:pt x="7972" y="2013"/>
                  </a:lnTo>
                  <a:lnTo>
                    <a:pt x="7999" y="2123"/>
                  </a:lnTo>
                  <a:lnTo>
                    <a:pt x="7993" y="2225"/>
                  </a:lnTo>
                  <a:lnTo>
                    <a:pt x="7993" y="2280"/>
                  </a:lnTo>
                  <a:lnTo>
                    <a:pt x="8037" y="2372"/>
                  </a:lnTo>
                  <a:lnTo>
                    <a:pt x="7999" y="2417"/>
                  </a:lnTo>
                  <a:lnTo>
                    <a:pt x="7900" y="2307"/>
                  </a:lnTo>
                  <a:lnTo>
                    <a:pt x="7835" y="2188"/>
                  </a:lnTo>
                  <a:lnTo>
                    <a:pt x="7808" y="2112"/>
                  </a:lnTo>
                  <a:lnTo>
                    <a:pt x="7753" y="2058"/>
                  </a:lnTo>
                  <a:lnTo>
                    <a:pt x="7678" y="2123"/>
                  </a:lnTo>
                  <a:lnTo>
                    <a:pt x="7634" y="2205"/>
                  </a:lnTo>
                  <a:lnTo>
                    <a:pt x="7733" y="2307"/>
                  </a:lnTo>
                  <a:lnTo>
                    <a:pt x="7788" y="2417"/>
                  </a:lnTo>
                  <a:lnTo>
                    <a:pt x="7808" y="2546"/>
                  </a:lnTo>
                  <a:lnTo>
                    <a:pt x="7798" y="2666"/>
                  </a:lnTo>
                  <a:lnTo>
                    <a:pt x="7798" y="2786"/>
                  </a:lnTo>
                  <a:lnTo>
                    <a:pt x="7846" y="2700"/>
                  </a:lnTo>
                  <a:lnTo>
                    <a:pt x="7928" y="2710"/>
                  </a:lnTo>
                  <a:lnTo>
                    <a:pt x="7965" y="2792"/>
                  </a:lnTo>
                  <a:lnTo>
                    <a:pt x="7890" y="2885"/>
                  </a:lnTo>
                  <a:lnTo>
                    <a:pt x="7818" y="2868"/>
                  </a:lnTo>
                  <a:lnTo>
                    <a:pt x="7808" y="2939"/>
                  </a:lnTo>
                  <a:lnTo>
                    <a:pt x="7873" y="3015"/>
                  </a:lnTo>
                  <a:lnTo>
                    <a:pt x="7835" y="3107"/>
                  </a:lnTo>
                  <a:lnTo>
                    <a:pt x="7917" y="3189"/>
                  </a:lnTo>
                  <a:lnTo>
                    <a:pt x="7873" y="3244"/>
                  </a:lnTo>
                  <a:lnTo>
                    <a:pt x="7938" y="3326"/>
                  </a:lnTo>
                  <a:lnTo>
                    <a:pt x="7890" y="3411"/>
                  </a:lnTo>
                  <a:lnTo>
                    <a:pt x="7982" y="3356"/>
                  </a:lnTo>
                  <a:lnTo>
                    <a:pt x="7965" y="3438"/>
                  </a:lnTo>
                  <a:lnTo>
                    <a:pt x="8119" y="3411"/>
                  </a:lnTo>
                  <a:lnTo>
                    <a:pt x="8075" y="3510"/>
                  </a:lnTo>
                  <a:lnTo>
                    <a:pt x="7965" y="3438"/>
                  </a:lnTo>
                  <a:lnTo>
                    <a:pt x="7938" y="3548"/>
                  </a:lnTo>
                  <a:lnTo>
                    <a:pt x="8102" y="3537"/>
                  </a:lnTo>
                  <a:lnTo>
                    <a:pt x="8037" y="3667"/>
                  </a:lnTo>
                  <a:lnTo>
                    <a:pt x="7928" y="3531"/>
                  </a:lnTo>
                  <a:lnTo>
                    <a:pt x="7993" y="3705"/>
                  </a:lnTo>
                  <a:lnTo>
                    <a:pt x="8119" y="3825"/>
                  </a:lnTo>
                  <a:lnTo>
                    <a:pt x="7999" y="3825"/>
                  </a:lnTo>
                  <a:lnTo>
                    <a:pt x="7928" y="3548"/>
                  </a:lnTo>
                  <a:lnTo>
                    <a:pt x="7965" y="3373"/>
                  </a:lnTo>
                  <a:lnTo>
                    <a:pt x="7873" y="3384"/>
                  </a:lnTo>
                  <a:lnTo>
                    <a:pt x="7798" y="3281"/>
                  </a:lnTo>
                  <a:lnTo>
                    <a:pt x="7873" y="3226"/>
                  </a:lnTo>
                  <a:lnTo>
                    <a:pt x="7873" y="3124"/>
                  </a:lnTo>
                  <a:lnTo>
                    <a:pt x="7818" y="2912"/>
                  </a:lnTo>
                  <a:lnTo>
                    <a:pt x="7808" y="2758"/>
                  </a:lnTo>
                  <a:lnTo>
                    <a:pt x="7788" y="2656"/>
                  </a:lnTo>
                  <a:lnTo>
                    <a:pt x="7706" y="2786"/>
                  </a:lnTo>
                  <a:lnTo>
                    <a:pt x="7559" y="2830"/>
                  </a:lnTo>
                  <a:lnTo>
                    <a:pt x="7477" y="2922"/>
                  </a:lnTo>
                  <a:lnTo>
                    <a:pt x="7514" y="3025"/>
                  </a:lnTo>
                  <a:lnTo>
                    <a:pt x="7456" y="3107"/>
                  </a:lnTo>
                  <a:lnTo>
                    <a:pt x="7357" y="3086"/>
                  </a:lnTo>
                  <a:lnTo>
                    <a:pt x="7439" y="2987"/>
                  </a:lnTo>
                  <a:lnTo>
                    <a:pt x="7384" y="2933"/>
                  </a:lnTo>
                  <a:lnTo>
                    <a:pt x="7302" y="2998"/>
                  </a:lnTo>
                  <a:lnTo>
                    <a:pt x="7302" y="3097"/>
                  </a:lnTo>
                  <a:lnTo>
                    <a:pt x="7439" y="3226"/>
                  </a:lnTo>
                  <a:lnTo>
                    <a:pt x="7477" y="3336"/>
                  </a:lnTo>
                  <a:lnTo>
                    <a:pt x="7374" y="3473"/>
                  </a:lnTo>
                  <a:lnTo>
                    <a:pt x="7374" y="3797"/>
                  </a:lnTo>
                  <a:lnTo>
                    <a:pt x="7374" y="3934"/>
                  </a:lnTo>
                  <a:lnTo>
                    <a:pt x="7395" y="4016"/>
                  </a:lnTo>
                  <a:lnTo>
                    <a:pt x="7548" y="4009"/>
                  </a:lnTo>
                  <a:lnTo>
                    <a:pt x="7651" y="4026"/>
                  </a:lnTo>
                  <a:lnTo>
                    <a:pt x="7726" y="3907"/>
                  </a:lnTo>
                  <a:lnTo>
                    <a:pt x="7808" y="3907"/>
                  </a:lnTo>
                  <a:lnTo>
                    <a:pt x="7771" y="3971"/>
                  </a:lnTo>
                  <a:lnTo>
                    <a:pt x="7873" y="4071"/>
                  </a:lnTo>
                  <a:lnTo>
                    <a:pt x="7982" y="4091"/>
                  </a:lnTo>
                  <a:lnTo>
                    <a:pt x="7972" y="4009"/>
                  </a:lnTo>
                  <a:lnTo>
                    <a:pt x="8242" y="4009"/>
                  </a:lnTo>
                  <a:lnTo>
                    <a:pt x="8150" y="4036"/>
                  </a:lnTo>
                  <a:lnTo>
                    <a:pt x="8140" y="4108"/>
                  </a:lnTo>
                  <a:lnTo>
                    <a:pt x="8259" y="4135"/>
                  </a:lnTo>
                  <a:lnTo>
                    <a:pt x="8379" y="4183"/>
                  </a:lnTo>
                  <a:lnTo>
                    <a:pt x="8433" y="4053"/>
                  </a:lnTo>
                  <a:lnTo>
                    <a:pt x="8454" y="3971"/>
                  </a:lnTo>
                  <a:lnTo>
                    <a:pt x="8369" y="3999"/>
                  </a:lnTo>
                  <a:lnTo>
                    <a:pt x="8287" y="3944"/>
                  </a:lnTo>
                  <a:lnTo>
                    <a:pt x="8242" y="3924"/>
                  </a:lnTo>
                  <a:lnTo>
                    <a:pt x="8205" y="4026"/>
                  </a:lnTo>
                  <a:lnTo>
                    <a:pt x="8205" y="4016"/>
                  </a:lnTo>
                  <a:lnTo>
                    <a:pt x="7938" y="4016"/>
                  </a:lnTo>
                  <a:lnTo>
                    <a:pt x="7890" y="3889"/>
                  </a:lnTo>
                  <a:lnTo>
                    <a:pt x="7818" y="3917"/>
                  </a:lnTo>
                  <a:lnTo>
                    <a:pt x="7733" y="3907"/>
                  </a:lnTo>
                  <a:lnTo>
                    <a:pt x="7706" y="3770"/>
                  </a:lnTo>
                  <a:lnTo>
                    <a:pt x="7661" y="3684"/>
                  </a:lnTo>
                  <a:lnTo>
                    <a:pt x="7743" y="3630"/>
                  </a:lnTo>
                  <a:lnTo>
                    <a:pt x="7743" y="3548"/>
                  </a:lnTo>
                  <a:lnTo>
                    <a:pt x="7624" y="3602"/>
                  </a:lnTo>
                  <a:lnTo>
                    <a:pt x="7542" y="3678"/>
                  </a:lnTo>
                  <a:lnTo>
                    <a:pt x="7477" y="3777"/>
                  </a:lnTo>
                  <a:lnTo>
                    <a:pt x="7374" y="3777"/>
                  </a:lnTo>
                  <a:lnTo>
                    <a:pt x="7374" y="3520"/>
                  </a:lnTo>
                  <a:lnTo>
                    <a:pt x="7320" y="3575"/>
                  </a:lnTo>
                  <a:lnTo>
                    <a:pt x="7244" y="3455"/>
                  </a:lnTo>
                  <a:lnTo>
                    <a:pt x="7156" y="3346"/>
                  </a:lnTo>
                  <a:lnTo>
                    <a:pt x="7026" y="3384"/>
                  </a:lnTo>
                  <a:lnTo>
                    <a:pt x="7015" y="3493"/>
                  </a:lnTo>
                  <a:lnTo>
                    <a:pt x="7080" y="3623"/>
                  </a:lnTo>
                  <a:lnTo>
                    <a:pt x="7080" y="3742"/>
                  </a:lnTo>
                  <a:lnTo>
                    <a:pt x="7162" y="3859"/>
                  </a:lnTo>
                  <a:lnTo>
                    <a:pt x="7210" y="3917"/>
                  </a:lnTo>
                  <a:lnTo>
                    <a:pt x="7108" y="3917"/>
                  </a:lnTo>
                  <a:lnTo>
                    <a:pt x="7053" y="3859"/>
                  </a:lnTo>
                  <a:lnTo>
                    <a:pt x="7005" y="3924"/>
                  </a:lnTo>
                  <a:lnTo>
                    <a:pt x="7145" y="4081"/>
                  </a:lnTo>
                  <a:lnTo>
                    <a:pt x="7244" y="4173"/>
                  </a:lnTo>
                  <a:lnTo>
                    <a:pt x="7337" y="4163"/>
                  </a:lnTo>
                  <a:lnTo>
                    <a:pt x="7439" y="4190"/>
                  </a:lnTo>
                  <a:lnTo>
                    <a:pt x="7576" y="4190"/>
                  </a:lnTo>
                  <a:lnTo>
                    <a:pt x="7706" y="4173"/>
                  </a:lnTo>
                  <a:lnTo>
                    <a:pt x="7818" y="4218"/>
                  </a:lnTo>
                  <a:lnTo>
                    <a:pt x="7788" y="4255"/>
                  </a:lnTo>
                  <a:lnTo>
                    <a:pt x="7661" y="4211"/>
                  </a:lnTo>
                  <a:lnTo>
                    <a:pt x="7661" y="4423"/>
                  </a:lnTo>
                  <a:lnTo>
                    <a:pt x="7753" y="4423"/>
                  </a:lnTo>
                  <a:lnTo>
                    <a:pt x="7808" y="4412"/>
                  </a:lnTo>
                  <a:lnTo>
                    <a:pt x="7818" y="4337"/>
                  </a:lnTo>
                  <a:lnTo>
                    <a:pt x="7928" y="4358"/>
                  </a:lnTo>
                  <a:lnTo>
                    <a:pt x="8064" y="4303"/>
                  </a:lnTo>
                  <a:lnTo>
                    <a:pt x="8058" y="4402"/>
                  </a:lnTo>
                  <a:lnTo>
                    <a:pt x="8092" y="4467"/>
                  </a:lnTo>
                  <a:lnTo>
                    <a:pt x="8167" y="4515"/>
                  </a:lnTo>
                  <a:lnTo>
                    <a:pt x="8242" y="4467"/>
                  </a:lnTo>
                  <a:lnTo>
                    <a:pt x="8232" y="4364"/>
                  </a:lnTo>
                  <a:lnTo>
                    <a:pt x="8242" y="4276"/>
                  </a:lnTo>
                  <a:lnTo>
                    <a:pt x="8287" y="4364"/>
                  </a:lnTo>
                  <a:lnTo>
                    <a:pt x="8304" y="4484"/>
                  </a:lnTo>
                  <a:lnTo>
                    <a:pt x="8205" y="4707"/>
                  </a:lnTo>
                  <a:lnTo>
                    <a:pt x="8092" y="4936"/>
                  </a:lnTo>
                  <a:lnTo>
                    <a:pt x="7993" y="5158"/>
                  </a:lnTo>
                  <a:lnTo>
                    <a:pt x="7873" y="5377"/>
                  </a:lnTo>
                  <a:lnTo>
                    <a:pt x="7771" y="5315"/>
                  </a:lnTo>
                  <a:lnTo>
                    <a:pt x="7661" y="5360"/>
                  </a:lnTo>
                  <a:lnTo>
                    <a:pt x="7624" y="5442"/>
                  </a:lnTo>
                  <a:lnTo>
                    <a:pt x="7542" y="5490"/>
                  </a:lnTo>
                  <a:lnTo>
                    <a:pt x="7384" y="5524"/>
                  </a:lnTo>
                  <a:lnTo>
                    <a:pt x="7292" y="5507"/>
                  </a:lnTo>
                  <a:lnTo>
                    <a:pt x="7330" y="5370"/>
                  </a:lnTo>
                  <a:lnTo>
                    <a:pt x="7320" y="5268"/>
                  </a:lnTo>
                  <a:lnTo>
                    <a:pt x="7374" y="5186"/>
                  </a:lnTo>
                  <a:lnTo>
                    <a:pt x="7357" y="5110"/>
                  </a:lnTo>
                  <a:lnTo>
                    <a:pt x="7255" y="5066"/>
                  </a:lnTo>
                  <a:lnTo>
                    <a:pt x="7265" y="4936"/>
                  </a:lnTo>
                  <a:lnTo>
                    <a:pt x="7302" y="4799"/>
                  </a:lnTo>
                  <a:lnTo>
                    <a:pt x="7412" y="4697"/>
                  </a:lnTo>
                  <a:lnTo>
                    <a:pt x="7548" y="4690"/>
                  </a:lnTo>
                  <a:lnTo>
                    <a:pt x="7569" y="4605"/>
                  </a:lnTo>
                  <a:lnTo>
                    <a:pt x="7542" y="4484"/>
                  </a:lnTo>
                  <a:lnTo>
                    <a:pt x="7624" y="4429"/>
                  </a:lnTo>
                  <a:lnTo>
                    <a:pt x="7661" y="4423"/>
                  </a:lnTo>
                  <a:lnTo>
                    <a:pt x="7661" y="4218"/>
                  </a:lnTo>
                  <a:lnTo>
                    <a:pt x="7548" y="4238"/>
                  </a:lnTo>
                  <a:lnTo>
                    <a:pt x="7439" y="4282"/>
                  </a:lnTo>
                  <a:lnTo>
                    <a:pt x="7347" y="4218"/>
                  </a:lnTo>
                  <a:lnTo>
                    <a:pt x="7238" y="4218"/>
                  </a:lnTo>
                  <a:lnTo>
                    <a:pt x="7091" y="4173"/>
                  </a:lnTo>
                  <a:lnTo>
                    <a:pt x="7005" y="4081"/>
                  </a:lnTo>
                  <a:lnTo>
                    <a:pt x="6961" y="3989"/>
                  </a:lnTo>
                  <a:lnTo>
                    <a:pt x="6886" y="3907"/>
                  </a:lnTo>
                  <a:lnTo>
                    <a:pt x="6961" y="3879"/>
                  </a:lnTo>
                  <a:lnTo>
                    <a:pt x="7005" y="3917"/>
                  </a:lnTo>
                  <a:lnTo>
                    <a:pt x="7063" y="3842"/>
                  </a:lnTo>
                  <a:lnTo>
                    <a:pt x="7026" y="3722"/>
                  </a:lnTo>
                  <a:lnTo>
                    <a:pt x="6961" y="3712"/>
                  </a:lnTo>
                  <a:lnTo>
                    <a:pt x="6913" y="3592"/>
                  </a:lnTo>
                  <a:lnTo>
                    <a:pt x="6933" y="3455"/>
                  </a:lnTo>
                  <a:lnTo>
                    <a:pt x="7005" y="3356"/>
                  </a:lnTo>
                  <a:lnTo>
                    <a:pt x="6988" y="3226"/>
                  </a:lnTo>
                  <a:lnTo>
                    <a:pt x="6933" y="3216"/>
                  </a:lnTo>
                  <a:lnTo>
                    <a:pt x="6886" y="3291"/>
                  </a:lnTo>
                  <a:lnTo>
                    <a:pt x="6879" y="3356"/>
                  </a:lnTo>
                  <a:lnTo>
                    <a:pt x="6804" y="3226"/>
                  </a:lnTo>
                  <a:lnTo>
                    <a:pt x="6684" y="3134"/>
                  </a:lnTo>
                  <a:lnTo>
                    <a:pt x="6602" y="3144"/>
                  </a:lnTo>
                  <a:lnTo>
                    <a:pt x="6520" y="3281"/>
                  </a:lnTo>
                  <a:lnTo>
                    <a:pt x="6417" y="3346"/>
                  </a:lnTo>
                  <a:lnTo>
                    <a:pt x="6417" y="3428"/>
                  </a:lnTo>
                  <a:lnTo>
                    <a:pt x="6445" y="3520"/>
                  </a:lnTo>
                  <a:lnTo>
                    <a:pt x="6435" y="3613"/>
                  </a:lnTo>
                  <a:lnTo>
                    <a:pt x="6353" y="3602"/>
                  </a:lnTo>
                  <a:lnTo>
                    <a:pt x="6298" y="3493"/>
                  </a:lnTo>
                  <a:lnTo>
                    <a:pt x="6195" y="3356"/>
                  </a:lnTo>
                  <a:lnTo>
                    <a:pt x="6096" y="3281"/>
                  </a:lnTo>
                  <a:lnTo>
                    <a:pt x="6011" y="3134"/>
                  </a:lnTo>
                  <a:lnTo>
                    <a:pt x="5939" y="3097"/>
                  </a:lnTo>
                  <a:lnTo>
                    <a:pt x="5809" y="3097"/>
                  </a:lnTo>
                  <a:lnTo>
                    <a:pt x="5690" y="3097"/>
                  </a:lnTo>
                  <a:lnTo>
                    <a:pt x="5614" y="3144"/>
                  </a:lnTo>
                  <a:lnTo>
                    <a:pt x="5553" y="3052"/>
                  </a:lnTo>
                  <a:lnTo>
                    <a:pt x="5468" y="3004"/>
                  </a:lnTo>
                  <a:lnTo>
                    <a:pt x="5348" y="2912"/>
                  </a:lnTo>
                  <a:lnTo>
                    <a:pt x="5433" y="3052"/>
                  </a:lnTo>
                  <a:lnTo>
                    <a:pt x="5560" y="3107"/>
                  </a:lnTo>
                  <a:lnTo>
                    <a:pt x="5645" y="3226"/>
                  </a:lnTo>
                  <a:lnTo>
                    <a:pt x="5608" y="3346"/>
                  </a:lnTo>
                  <a:lnTo>
                    <a:pt x="5522" y="3411"/>
                  </a:lnTo>
                  <a:lnTo>
                    <a:pt x="5396" y="3428"/>
                  </a:lnTo>
                  <a:lnTo>
                    <a:pt x="5283" y="3473"/>
                  </a:lnTo>
                  <a:lnTo>
                    <a:pt x="5222" y="3585"/>
                  </a:lnTo>
                  <a:lnTo>
                    <a:pt x="5163" y="3630"/>
                  </a:lnTo>
                  <a:lnTo>
                    <a:pt x="5146" y="3510"/>
                  </a:lnTo>
                  <a:lnTo>
                    <a:pt x="5071" y="3346"/>
                  </a:lnTo>
                  <a:lnTo>
                    <a:pt x="4989" y="3254"/>
                  </a:lnTo>
                  <a:lnTo>
                    <a:pt x="4989" y="3144"/>
                  </a:lnTo>
                  <a:lnTo>
                    <a:pt x="4917" y="3162"/>
                  </a:lnTo>
                  <a:lnTo>
                    <a:pt x="4935" y="3326"/>
                  </a:lnTo>
                  <a:lnTo>
                    <a:pt x="5010" y="3455"/>
                  </a:lnTo>
                  <a:lnTo>
                    <a:pt x="5010" y="3575"/>
                  </a:lnTo>
                  <a:lnTo>
                    <a:pt x="5119" y="3623"/>
                  </a:lnTo>
                  <a:lnTo>
                    <a:pt x="5163" y="3705"/>
                  </a:lnTo>
                  <a:lnTo>
                    <a:pt x="5276" y="3678"/>
                  </a:lnTo>
                  <a:lnTo>
                    <a:pt x="5368" y="3667"/>
                  </a:lnTo>
                  <a:lnTo>
                    <a:pt x="5488" y="3602"/>
                  </a:lnTo>
                  <a:lnTo>
                    <a:pt x="5440" y="3749"/>
                  </a:lnTo>
                  <a:lnTo>
                    <a:pt x="5348" y="3934"/>
                  </a:lnTo>
                  <a:lnTo>
                    <a:pt x="5276" y="4053"/>
                  </a:lnTo>
                  <a:lnTo>
                    <a:pt x="5184" y="4163"/>
                  </a:lnTo>
                  <a:lnTo>
                    <a:pt x="5146" y="4255"/>
                  </a:lnTo>
                  <a:lnTo>
                    <a:pt x="5109" y="4467"/>
                  </a:lnTo>
                  <a:lnTo>
                    <a:pt x="5092" y="4615"/>
                  </a:lnTo>
                  <a:lnTo>
                    <a:pt x="5102" y="4762"/>
                  </a:lnTo>
                  <a:lnTo>
                    <a:pt x="5119" y="4902"/>
                  </a:lnTo>
                  <a:lnTo>
                    <a:pt x="5119" y="4936"/>
                  </a:lnTo>
                  <a:lnTo>
                    <a:pt x="5222" y="4919"/>
                  </a:lnTo>
                  <a:lnTo>
                    <a:pt x="5239" y="4799"/>
                  </a:lnTo>
                  <a:lnTo>
                    <a:pt x="5331" y="4690"/>
                  </a:lnTo>
                  <a:lnTo>
                    <a:pt x="5433" y="4615"/>
                  </a:lnTo>
                  <a:lnTo>
                    <a:pt x="5450" y="4752"/>
                  </a:lnTo>
                  <a:lnTo>
                    <a:pt x="5440" y="4871"/>
                  </a:lnTo>
                  <a:lnTo>
                    <a:pt x="5386" y="4936"/>
                  </a:lnTo>
                  <a:lnTo>
                    <a:pt x="5396" y="5001"/>
                  </a:lnTo>
                  <a:lnTo>
                    <a:pt x="5358" y="5169"/>
                  </a:lnTo>
                  <a:lnTo>
                    <a:pt x="5341" y="5251"/>
                  </a:lnTo>
                  <a:lnTo>
                    <a:pt x="5266" y="5268"/>
                  </a:lnTo>
                  <a:lnTo>
                    <a:pt x="5191" y="5186"/>
                  </a:lnTo>
                  <a:lnTo>
                    <a:pt x="5239" y="5076"/>
                  </a:lnTo>
                  <a:lnTo>
                    <a:pt x="5256" y="5011"/>
                  </a:lnTo>
                  <a:lnTo>
                    <a:pt x="5201" y="4936"/>
                  </a:lnTo>
                  <a:lnTo>
                    <a:pt x="5109" y="4946"/>
                  </a:lnTo>
                  <a:lnTo>
                    <a:pt x="5081" y="5066"/>
                  </a:lnTo>
                  <a:lnTo>
                    <a:pt x="4952" y="5110"/>
                  </a:lnTo>
                  <a:lnTo>
                    <a:pt x="4870" y="5186"/>
                  </a:lnTo>
                  <a:lnTo>
                    <a:pt x="4890" y="5315"/>
                  </a:lnTo>
                  <a:lnTo>
                    <a:pt x="4870" y="5462"/>
                  </a:lnTo>
                  <a:lnTo>
                    <a:pt x="4832" y="5616"/>
                  </a:lnTo>
                  <a:lnTo>
                    <a:pt x="4647" y="5784"/>
                  </a:lnTo>
                  <a:lnTo>
                    <a:pt x="4565" y="5790"/>
                  </a:lnTo>
                  <a:lnTo>
                    <a:pt x="4511" y="5681"/>
                  </a:lnTo>
                  <a:lnTo>
                    <a:pt x="4401" y="5616"/>
                  </a:lnTo>
                  <a:lnTo>
                    <a:pt x="4347" y="5572"/>
                  </a:lnTo>
                  <a:lnTo>
                    <a:pt x="4244" y="5360"/>
                  </a:lnTo>
                  <a:lnTo>
                    <a:pt x="4151" y="5257"/>
                  </a:lnTo>
                  <a:lnTo>
                    <a:pt x="4076" y="5158"/>
                  </a:lnTo>
                  <a:lnTo>
                    <a:pt x="4042" y="5049"/>
                  </a:lnTo>
                  <a:lnTo>
                    <a:pt x="4021" y="4902"/>
                  </a:lnTo>
                  <a:lnTo>
                    <a:pt x="3939" y="4799"/>
                  </a:lnTo>
                  <a:lnTo>
                    <a:pt x="3912" y="4707"/>
                  </a:lnTo>
                  <a:lnTo>
                    <a:pt x="3977" y="4598"/>
                  </a:lnTo>
                  <a:lnTo>
                    <a:pt x="3977" y="4494"/>
                  </a:lnTo>
                  <a:lnTo>
                    <a:pt x="3891" y="4423"/>
                  </a:lnTo>
                  <a:lnTo>
                    <a:pt x="3755" y="4412"/>
                  </a:lnTo>
                  <a:lnTo>
                    <a:pt x="3652" y="4364"/>
                  </a:lnTo>
                  <a:lnTo>
                    <a:pt x="3598" y="4412"/>
                  </a:lnTo>
                  <a:lnTo>
                    <a:pt x="3505" y="4423"/>
                  </a:lnTo>
                  <a:lnTo>
                    <a:pt x="3423" y="4364"/>
                  </a:lnTo>
                  <a:lnTo>
                    <a:pt x="3348" y="4293"/>
                  </a:lnTo>
                  <a:lnTo>
                    <a:pt x="3249" y="4276"/>
                  </a:lnTo>
                  <a:lnTo>
                    <a:pt x="3146" y="4218"/>
                  </a:lnTo>
                  <a:lnTo>
                    <a:pt x="3047" y="4135"/>
                  </a:lnTo>
                  <a:lnTo>
                    <a:pt x="3017" y="3971"/>
                  </a:lnTo>
                  <a:lnTo>
                    <a:pt x="3010" y="3859"/>
                  </a:lnTo>
                  <a:lnTo>
                    <a:pt x="3092" y="3777"/>
                  </a:lnTo>
                  <a:lnTo>
                    <a:pt x="3082" y="3695"/>
                  </a:lnTo>
                  <a:lnTo>
                    <a:pt x="3064" y="3548"/>
                  </a:lnTo>
                  <a:lnTo>
                    <a:pt x="3075" y="3418"/>
                  </a:lnTo>
                  <a:lnTo>
                    <a:pt x="3047" y="3291"/>
                  </a:lnTo>
                  <a:lnTo>
                    <a:pt x="3146" y="3189"/>
                  </a:lnTo>
                  <a:lnTo>
                    <a:pt x="3201" y="3117"/>
                  </a:lnTo>
                  <a:lnTo>
                    <a:pt x="3287" y="3107"/>
                  </a:lnTo>
                  <a:lnTo>
                    <a:pt x="3276" y="3004"/>
                  </a:lnTo>
                  <a:lnTo>
                    <a:pt x="3331" y="2912"/>
                  </a:lnTo>
                  <a:lnTo>
                    <a:pt x="3413" y="2851"/>
                  </a:lnTo>
                  <a:lnTo>
                    <a:pt x="3516" y="2905"/>
                  </a:lnTo>
                  <a:lnTo>
                    <a:pt x="3645" y="2933"/>
                  </a:lnTo>
                  <a:lnTo>
                    <a:pt x="3782" y="2912"/>
                  </a:lnTo>
                  <a:lnTo>
                    <a:pt x="3902" y="2912"/>
                  </a:lnTo>
                  <a:lnTo>
                    <a:pt x="3956" y="2922"/>
                  </a:lnTo>
                  <a:lnTo>
                    <a:pt x="3984" y="3025"/>
                  </a:lnTo>
                  <a:lnTo>
                    <a:pt x="4096" y="3042"/>
                  </a:lnTo>
                  <a:lnTo>
                    <a:pt x="4206" y="3097"/>
                  </a:lnTo>
                  <a:lnTo>
                    <a:pt x="4272" y="3086"/>
                  </a:lnTo>
                  <a:lnTo>
                    <a:pt x="4326" y="3015"/>
                  </a:lnTo>
                  <a:lnTo>
                    <a:pt x="4354" y="2939"/>
                  </a:lnTo>
                  <a:lnTo>
                    <a:pt x="4456" y="2987"/>
                  </a:lnTo>
                  <a:lnTo>
                    <a:pt x="4576" y="3025"/>
                  </a:lnTo>
                  <a:lnTo>
                    <a:pt x="4723" y="3042"/>
                  </a:lnTo>
                  <a:lnTo>
                    <a:pt x="4815" y="3052"/>
                  </a:lnTo>
                  <a:lnTo>
                    <a:pt x="4917" y="3042"/>
                  </a:lnTo>
                  <a:lnTo>
                    <a:pt x="4989" y="2987"/>
                  </a:lnTo>
                  <a:lnTo>
                    <a:pt x="5027" y="2868"/>
                  </a:lnTo>
                  <a:lnTo>
                    <a:pt x="5071" y="2792"/>
                  </a:lnTo>
                  <a:lnTo>
                    <a:pt x="5027" y="2765"/>
                  </a:lnTo>
                  <a:lnTo>
                    <a:pt x="4979" y="2700"/>
                  </a:lnTo>
                  <a:lnTo>
                    <a:pt x="4907" y="2721"/>
                  </a:lnTo>
                  <a:lnTo>
                    <a:pt x="4788" y="2721"/>
                  </a:lnTo>
                  <a:lnTo>
                    <a:pt x="4706" y="2693"/>
                  </a:lnTo>
                  <a:lnTo>
                    <a:pt x="4695" y="2601"/>
                  </a:lnTo>
                  <a:lnTo>
                    <a:pt x="4647" y="2553"/>
                  </a:lnTo>
                  <a:lnTo>
                    <a:pt x="4613" y="2601"/>
                  </a:lnTo>
                  <a:lnTo>
                    <a:pt x="4641" y="2693"/>
                  </a:lnTo>
                  <a:lnTo>
                    <a:pt x="4593" y="2758"/>
                  </a:lnTo>
                  <a:lnTo>
                    <a:pt x="4501" y="2748"/>
                  </a:lnTo>
                  <a:lnTo>
                    <a:pt x="4446" y="2673"/>
                  </a:lnTo>
                  <a:lnTo>
                    <a:pt x="4429" y="2591"/>
                  </a:lnTo>
                  <a:lnTo>
                    <a:pt x="4429" y="2464"/>
                  </a:lnTo>
                  <a:lnTo>
                    <a:pt x="4364" y="2434"/>
                  </a:lnTo>
                  <a:lnTo>
                    <a:pt x="4337" y="2509"/>
                  </a:lnTo>
                  <a:lnTo>
                    <a:pt x="4347" y="2601"/>
                  </a:lnTo>
                  <a:lnTo>
                    <a:pt x="4391" y="2666"/>
                  </a:lnTo>
                  <a:lnTo>
                    <a:pt x="4446" y="2738"/>
                  </a:lnTo>
                  <a:lnTo>
                    <a:pt x="4391" y="2820"/>
                  </a:lnTo>
                  <a:lnTo>
                    <a:pt x="4326" y="2857"/>
                  </a:lnTo>
                  <a:lnTo>
                    <a:pt x="4234" y="2851"/>
                  </a:lnTo>
                  <a:lnTo>
                    <a:pt x="4234" y="2922"/>
                  </a:lnTo>
                  <a:lnTo>
                    <a:pt x="4168" y="2960"/>
                  </a:lnTo>
                  <a:lnTo>
                    <a:pt x="4086" y="2857"/>
                  </a:lnTo>
                  <a:lnTo>
                    <a:pt x="4096" y="2803"/>
                  </a:lnTo>
                  <a:lnTo>
                    <a:pt x="4195" y="2851"/>
                  </a:lnTo>
                  <a:lnTo>
                    <a:pt x="4261" y="2851"/>
                  </a:lnTo>
                  <a:lnTo>
                    <a:pt x="4347" y="2786"/>
                  </a:lnTo>
                  <a:lnTo>
                    <a:pt x="4326" y="2693"/>
                  </a:lnTo>
                  <a:lnTo>
                    <a:pt x="4244" y="2618"/>
                  </a:lnTo>
                  <a:lnTo>
                    <a:pt x="4168" y="2553"/>
                  </a:lnTo>
                  <a:lnTo>
                    <a:pt x="4086" y="2471"/>
                  </a:lnTo>
                  <a:lnTo>
                    <a:pt x="3994" y="2406"/>
                  </a:lnTo>
                  <a:lnTo>
                    <a:pt x="3994" y="2509"/>
                  </a:lnTo>
                  <a:lnTo>
                    <a:pt x="4059" y="2574"/>
                  </a:lnTo>
                  <a:lnTo>
                    <a:pt x="4042" y="2693"/>
                  </a:lnTo>
                  <a:lnTo>
                    <a:pt x="4042" y="2786"/>
                  </a:lnTo>
                  <a:lnTo>
                    <a:pt x="3939" y="2710"/>
                  </a:lnTo>
                  <a:lnTo>
                    <a:pt x="3922" y="2639"/>
                  </a:lnTo>
                  <a:lnTo>
                    <a:pt x="3977" y="2591"/>
                  </a:lnTo>
                  <a:lnTo>
                    <a:pt x="3956" y="2526"/>
                  </a:lnTo>
                  <a:lnTo>
                    <a:pt x="4004" y="2499"/>
                  </a:lnTo>
                  <a:lnTo>
                    <a:pt x="4004" y="2406"/>
                  </a:lnTo>
                  <a:lnTo>
                    <a:pt x="3922" y="2427"/>
                  </a:lnTo>
                  <a:lnTo>
                    <a:pt x="3864" y="2509"/>
                  </a:lnTo>
                  <a:lnTo>
                    <a:pt x="3782" y="2471"/>
                  </a:lnTo>
                  <a:lnTo>
                    <a:pt x="3652" y="2536"/>
                  </a:lnTo>
                  <a:lnTo>
                    <a:pt x="3625" y="2656"/>
                  </a:lnTo>
                  <a:lnTo>
                    <a:pt x="3533" y="2738"/>
                  </a:lnTo>
                  <a:lnTo>
                    <a:pt x="3423" y="2792"/>
                  </a:lnTo>
                  <a:lnTo>
                    <a:pt x="3321" y="2803"/>
                  </a:lnTo>
                  <a:lnTo>
                    <a:pt x="3201" y="2765"/>
                  </a:lnTo>
                  <a:lnTo>
                    <a:pt x="3157" y="2710"/>
                  </a:lnTo>
                  <a:lnTo>
                    <a:pt x="3194" y="2656"/>
                  </a:lnTo>
                  <a:lnTo>
                    <a:pt x="3157" y="2574"/>
                  </a:lnTo>
                  <a:lnTo>
                    <a:pt x="3228" y="2519"/>
                  </a:lnTo>
                  <a:lnTo>
                    <a:pt x="3239" y="2444"/>
                  </a:lnTo>
                  <a:lnTo>
                    <a:pt x="3239" y="2345"/>
                  </a:lnTo>
                  <a:lnTo>
                    <a:pt x="3331" y="2253"/>
                  </a:lnTo>
                  <a:lnTo>
                    <a:pt x="3461" y="2280"/>
                  </a:lnTo>
                  <a:lnTo>
                    <a:pt x="3618" y="2324"/>
                  </a:lnTo>
                  <a:lnTo>
                    <a:pt x="3680" y="2259"/>
                  </a:lnTo>
                  <a:lnTo>
                    <a:pt x="3680" y="2160"/>
                  </a:lnTo>
                  <a:lnTo>
                    <a:pt x="3608" y="2085"/>
                  </a:lnTo>
                  <a:lnTo>
                    <a:pt x="3488" y="2030"/>
                  </a:lnTo>
                  <a:lnTo>
                    <a:pt x="3543" y="1976"/>
                  </a:lnTo>
                  <a:lnTo>
                    <a:pt x="3662" y="1938"/>
                  </a:lnTo>
                  <a:lnTo>
                    <a:pt x="3690" y="1921"/>
                  </a:lnTo>
                  <a:lnTo>
                    <a:pt x="3652" y="1911"/>
                  </a:lnTo>
                  <a:lnTo>
                    <a:pt x="3560" y="1921"/>
                  </a:lnTo>
                  <a:lnTo>
                    <a:pt x="3461" y="1938"/>
                  </a:lnTo>
                  <a:lnTo>
                    <a:pt x="3413" y="1959"/>
                  </a:lnTo>
                  <a:lnTo>
                    <a:pt x="3451" y="1883"/>
                  </a:lnTo>
                  <a:lnTo>
                    <a:pt x="3461" y="1791"/>
                  </a:lnTo>
                  <a:lnTo>
                    <a:pt x="3505" y="1747"/>
                  </a:lnTo>
                  <a:lnTo>
                    <a:pt x="3526" y="1682"/>
                  </a:lnTo>
                  <a:lnTo>
                    <a:pt x="3478" y="1617"/>
                  </a:lnTo>
                  <a:lnTo>
                    <a:pt x="3413" y="1644"/>
                  </a:lnTo>
                  <a:lnTo>
                    <a:pt x="3423" y="1726"/>
                  </a:lnTo>
                  <a:lnTo>
                    <a:pt x="3413" y="1812"/>
                  </a:lnTo>
                  <a:lnTo>
                    <a:pt x="3369" y="1921"/>
                  </a:lnTo>
                  <a:lnTo>
                    <a:pt x="3276" y="1911"/>
                  </a:lnTo>
                  <a:lnTo>
                    <a:pt x="3249" y="1812"/>
                  </a:lnTo>
                  <a:lnTo>
                    <a:pt x="3184" y="1709"/>
                  </a:lnTo>
                  <a:lnTo>
                    <a:pt x="3287" y="1682"/>
                  </a:lnTo>
                  <a:lnTo>
                    <a:pt x="3341" y="1634"/>
                  </a:lnTo>
                  <a:lnTo>
                    <a:pt x="3379" y="1627"/>
                  </a:lnTo>
                  <a:lnTo>
                    <a:pt x="3379" y="1562"/>
                  </a:lnTo>
                  <a:lnTo>
                    <a:pt x="3358" y="1496"/>
                  </a:lnTo>
                  <a:lnTo>
                    <a:pt x="3440" y="1452"/>
                  </a:lnTo>
                  <a:lnTo>
                    <a:pt x="3526" y="1394"/>
                  </a:lnTo>
                  <a:lnTo>
                    <a:pt x="3580" y="1442"/>
                  </a:lnTo>
                  <a:lnTo>
                    <a:pt x="3608" y="1542"/>
                  </a:lnTo>
                  <a:lnTo>
                    <a:pt x="3645" y="1644"/>
                  </a:lnTo>
                  <a:lnTo>
                    <a:pt x="3700" y="1719"/>
                  </a:lnTo>
                  <a:lnTo>
                    <a:pt x="3727" y="1812"/>
                  </a:lnTo>
                  <a:lnTo>
                    <a:pt x="3690" y="1873"/>
                  </a:lnTo>
                  <a:lnTo>
                    <a:pt x="3680" y="1928"/>
                  </a:lnTo>
                  <a:lnTo>
                    <a:pt x="3755" y="1911"/>
                  </a:lnTo>
                  <a:lnTo>
                    <a:pt x="3847" y="1856"/>
                  </a:lnTo>
                  <a:lnTo>
                    <a:pt x="3891" y="1726"/>
                  </a:lnTo>
                  <a:lnTo>
                    <a:pt x="3984" y="1726"/>
                  </a:lnTo>
                  <a:lnTo>
                    <a:pt x="4021" y="1709"/>
                  </a:lnTo>
                  <a:lnTo>
                    <a:pt x="4014" y="1617"/>
                  </a:lnTo>
                  <a:lnTo>
                    <a:pt x="3977" y="1525"/>
                  </a:lnTo>
                  <a:lnTo>
                    <a:pt x="4059" y="1525"/>
                  </a:lnTo>
                  <a:lnTo>
                    <a:pt x="4151" y="1617"/>
                  </a:lnTo>
                  <a:lnTo>
                    <a:pt x="4234" y="1682"/>
                  </a:lnTo>
                  <a:lnTo>
                    <a:pt x="4309" y="1682"/>
                  </a:lnTo>
                  <a:lnTo>
                    <a:pt x="4419" y="1634"/>
                  </a:lnTo>
                  <a:lnTo>
                    <a:pt x="4483" y="1535"/>
                  </a:lnTo>
                  <a:lnTo>
                    <a:pt x="4528" y="1442"/>
                  </a:lnTo>
                  <a:lnTo>
                    <a:pt x="4695" y="1469"/>
                  </a:lnTo>
                  <a:lnTo>
                    <a:pt x="4559" y="1387"/>
                  </a:lnTo>
                  <a:lnTo>
                    <a:pt x="4446" y="1394"/>
                  </a:lnTo>
                  <a:lnTo>
                    <a:pt x="4429" y="1274"/>
                  </a:lnTo>
                  <a:lnTo>
                    <a:pt x="4429" y="1202"/>
                  </a:lnTo>
                  <a:lnTo>
                    <a:pt x="4538" y="1165"/>
                  </a:lnTo>
                  <a:lnTo>
                    <a:pt x="4565" y="1093"/>
                  </a:lnTo>
                  <a:lnTo>
                    <a:pt x="4483" y="1137"/>
                  </a:lnTo>
                  <a:lnTo>
                    <a:pt x="4391" y="1192"/>
                  </a:lnTo>
                  <a:lnTo>
                    <a:pt x="4282" y="1202"/>
                  </a:lnTo>
                  <a:lnTo>
                    <a:pt x="4337" y="1332"/>
                  </a:lnTo>
                  <a:lnTo>
                    <a:pt x="4326" y="1431"/>
                  </a:lnTo>
                  <a:lnTo>
                    <a:pt x="4326" y="1513"/>
                  </a:lnTo>
                  <a:lnTo>
                    <a:pt x="4244" y="1562"/>
                  </a:lnTo>
                  <a:lnTo>
                    <a:pt x="4161" y="1590"/>
                  </a:lnTo>
                  <a:lnTo>
                    <a:pt x="4096" y="1525"/>
                  </a:lnTo>
                  <a:lnTo>
                    <a:pt x="4103" y="1442"/>
                  </a:lnTo>
                  <a:lnTo>
                    <a:pt x="4113" y="1387"/>
                  </a:lnTo>
                  <a:lnTo>
                    <a:pt x="4021" y="1431"/>
                  </a:lnTo>
                  <a:lnTo>
                    <a:pt x="3929" y="1377"/>
                  </a:lnTo>
                  <a:lnTo>
                    <a:pt x="3891" y="1305"/>
                  </a:lnTo>
                  <a:lnTo>
                    <a:pt x="3912" y="1202"/>
                  </a:lnTo>
                  <a:lnTo>
                    <a:pt x="3902" y="1192"/>
                  </a:lnTo>
                  <a:lnTo>
                    <a:pt x="3912" y="1185"/>
                  </a:lnTo>
                  <a:lnTo>
                    <a:pt x="3922" y="1175"/>
                  </a:lnTo>
                  <a:lnTo>
                    <a:pt x="2836" y="1175"/>
                  </a:lnTo>
                  <a:lnTo>
                    <a:pt x="2777" y="1247"/>
                  </a:lnTo>
                  <a:lnTo>
                    <a:pt x="2685" y="1295"/>
                  </a:lnTo>
                  <a:lnTo>
                    <a:pt x="2593" y="1257"/>
                  </a:lnTo>
                  <a:lnTo>
                    <a:pt x="2549" y="1192"/>
                  </a:lnTo>
                  <a:lnTo>
                    <a:pt x="2549" y="1127"/>
                  </a:lnTo>
                  <a:lnTo>
                    <a:pt x="2566" y="1110"/>
                  </a:lnTo>
                  <a:lnTo>
                    <a:pt x="2347" y="1110"/>
                  </a:lnTo>
                  <a:lnTo>
                    <a:pt x="2272" y="1127"/>
                  </a:lnTo>
                  <a:lnTo>
                    <a:pt x="2200" y="1257"/>
                  </a:lnTo>
                  <a:lnTo>
                    <a:pt x="2173" y="1360"/>
                  </a:lnTo>
                  <a:lnTo>
                    <a:pt x="2135" y="1452"/>
                  </a:lnTo>
                  <a:lnTo>
                    <a:pt x="2022" y="1431"/>
                  </a:lnTo>
                  <a:lnTo>
                    <a:pt x="1940" y="1360"/>
                  </a:lnTo>
                  <a:lnTo>
                    <a:pt x="1930" y="1202"/>
                  </a:lnTo>
                  <a:lnTo>
                    <a:pt x="1903" y="1055"/>
                  </a:lnTo>
                  <a:lnTo>
                    <a:pt x="1831" y="963"/>
                  </a:lnTo>
                  <a:lnTo>
                    <a:pt x="1848" y="888"/>
                  </a:lnTo>
                  <a:lnTo>
                    <a:pt x="1793" y="768"/>
                  </a:lnTo>
                  <a:lnTo>
                    <a:pt x="1739" y="714"/>
                  </a:lnTo>
                  <a:lnTo>
                    <a:pt x="1664" y="779"/>
                  </a:lnTo>
                  <a:lnTo>
                    <a:pt x="1554" y="707"/>
                  </a:lnTo>
                  <a:lnTo>
                    <a:pt x="1506" y="762"/>
                  </a:lnTo>
                  <a:lnTo>
                    <a:pt x="1445" y="799"/>
                  </a:lnTo>
                  <a:lnTo>
                    <a:pt x="1325" y="844"/>
                  </a:lnTo>
                  <a:lnTo>
                    <a:pt x="1250" y="936"/>
                  </a:lnTo>
                  <a:lnTo>
                    <a:pt x="1387" y="953"/>
                  </a:lnTo>
                  <a:lnTo>
                    <a:pt x="1517" y="1001"/>
                  </a:lnTo>
                  <a:lnTo>
                    <a:pt x="1582" y="1093"/>
                  </a:lnTo>
                  <a:lnTo>
                    <a:pt x="1664" y="1185"/>
                  </a:lnTo>
                  <a:lnTo>
                    <a:pt x="1684" y="1339"/>
                  </a:lnTo>
                  <a:lnTo>
                    <a:pt x="1636" y="1469"/>
                  </a:lnTo>
                  <a:lnTo>
                    <a:pt x="1554" y="1525"/>
                  </a:lnTo>
                  <a:lnTo>
                    <a:pt x="1462" y="1431"/>
                  </a:lnTo>
                  <a:lnTo>
                    <a:pt x="1288" y="1425"/>
                  </a:lnTo>
                  <a:lnTo>
                    <a:pt x="1288" y="1349"/>
                  </a:lnTo>
                  <a:lnTo>
                    <a:pt x="1445" y="1305"/>
                  </a:lnTo>
                  <a:lnTo>
                    <a:pt x="1452" y="1230"/>
                  </a:lnTo>
                  <a:lnTo>
                    <a:pt x="1435" y="1192"/>
                  </a:lnTo>
                  <a:lnTo>
                    <a:pt x="1380" y="1274"/>
                  </a:lnTo>
                  <a:lnTo>
                    <a:pt x="1295" y="1219"/>
                  </a:lnTo>
                  <a:lnTo>
                    <a:pt x="1418" y="1137"/>
                  </a:lnTo>
                  <a:lnTo>
                    <a:pt x="1462" y="1202"/>
                  </a:lnTo>
                  <a:lnTo>
                    <a:pt x="1380" y="1127"/>
                  </a:lnTo>
                  <a:lnTo>
                    <a:pt x="1288" y="1127"/>
                  </a:lnTo>
                  <a:lnTo>
                    <a:pt x="1223" y="1185"/>
                  </a:lnTo>
                  <a:lnTo>
                    <a:pt x="1240" y="1274"/>
                  </a:lnTo>
                  <a:lnTo>
                    <a:pt x="1240" y="1387"/>
                  </a:lnTo>
                  <a:lnTo>
                    <a:pt x="1206" y="1479"/>
                  </a:lnTo>
                  <a:lnTo>
                    <a:pt x="1240" y="1579"/>
                  </a:lnTo>
                  <a:lnTo>
                    <a:pt x="1141" y="1513"/>
                  </a:lnTo>
                  <a:lnTo>
                    <a:pt x="1093" y="1552"/>
                  </a:lnTo>
                  <a:lnTo>
                    <a:pt x="1076" y="1496"/>
                  </a:lnTo>
                  <a:lnTo>
                    <a:pt x="1093" y="1394"/>
                  </a:lnTo>
                  <a:lnTo>
                    <a:pt x="1011" y="1442"/>
                  </a:lnTo>
                  <a:lnTo>
                    <a:pt x="973" y="1525"/>
                  </a:lnTo>
                  <a:lnTo>
                    <a:pt x="908" y="1590"/>
                  </a:lnTo>
                  <a:lnTo>
                    <a:pt x="908" y="1661"/>
                  </a:lnTo>
                  <a:lnTo>
                    <a:pt x="799" y="1661"/>
                  </a:lnTo>
                  <a:lnTo>
                    <a:pt x="761" y="1719"/>
                  </a:lnTo>
                  <a:lnTo>
                    <a:pt x="799" y="1829"/>
                  </a:lnTo>
                  <a:lnTo>
                    <a:pt x="919" y="1883"/>
                  </a:lnTo>
                  <a:lnTo>
                    <a:pt x="973" y="1938"/>
                  </a:lnTo>
                  <a:lnTo>
                    <a:pt x="963" y="2041"/>
                  </a:lnTo>
                  <a:lnTo>
                    <a:pt x="1028" y="2020"/>
                  </a:lnTo>
                  <a:lnTo>
                    <a:pt x="1048" y="1921"/>
                  </a:lnTo>
                  <a:lnTo>
                    <a:pt x="1175" y="1921"/>
                  </a:lnTo>
                  <a:lnTo>
                    <a:pt x="1250" y="1829"/>
                  </a:lnTo>
                  <a:lnTo>
                    <a:pt x="1260" y="1726"/>
                  </a:lnTo>
                  <a:lnTo>
                    <a:pt x="1250" y="1562"/>
                  </a:lnTo>
                  <a:lnTo>
                    <a:pt x="1288" y="1459"/>
                  </a:lnTo>
                  <a:lnTo>
                    <a:pt x="1353" y="1387"/>
                  </a:lnTo>
                  <a:lnTo>
                    <a:pt x="1452" y="1452"/>
                  </a:lnTo>
                  <a:lnTo>
                    <a:pt x="1571" y="1525"/>
                  </a:lnTo>
                  <a:lnTo>
                    <a:pt x="1629" y="1562"/>
                  </a:lnTo>
                  <a:lnTo>
                    <a:pt x="1691" y="1661"/>
                  </a:lnTo>
                  <a:lnTo>
                    <a:pt x="1776" y="1719"/>
                  </a:lnTo>
                  <a:lnTo>
                    <a:pt x="1804" y="1829"/>
                  </a:lnTo>
                  <a:lnTo>
                    <a:pt x="1821" y="1911"/>
                  </a:lnTo>
                  <a:lnTo>
                    <a:pt x="1903" y="1965"/>
                  </a:lnTo>
                  <a:lnTo>
                    <a:pt x="1831" y="2047"/>
                  </a:lnTo>
                  <a:lnTo>
                    <a:pt x="1718" y="2047"/>
                  </a:lnTo>
                  <a:lnTo>
                    <a:pt x="1609" y="2112"/>
                  </a:lnTo>
                  <a:lnTo>
                    <a:pt x="1517" y="2177"/>
                  </a:lnTo>
                  <a:lnTo>
                    <a:pt x="1387" y="2242"/>
                  </a:lnTo>
                  <a:lnTo>
                    <a:pt x="1288" y="2345"/>
                  </a:lnTo>
                  <a:lnTo>
                    <a:pt x="1185" y="2427"/>
                  </a:lnTo>
                  <a:lnTo>
                    <a:pt x="1175" y="2509"/>
                  </a:lnTo>
                  <a:lnTo>
                    <a:pt x="1175" y="2553"/>
                  </a:lnTo>
                  <a:lnTo>
                    <a:pt x="1093" y="2628"/>
                  </a:lnTo>
                  <a:lnTo>
                    <a:pt x="1103" y="2700"/>
                  </a:lnTo>
                  <a:lnTo>
                    <a:pt x="1021" y="2792"/>
                  </a:lnTo>
                  <a:lnTo>
                    <a:pt x="1021" y="2912"/>
                  </a:lnTo>
                  <a:lnTo>
                    <a:pt x="1086" y="3004"/>
                  </a:lnTo>
                  <a:lnTo>
                    <a:pt x="1048" y="3059"/>
                  </a:lnTo>
                  <a:lnTo>
                    <a:pt x="963" y="3025"/>
                  </a:lnTo>
                  <a:lnTo>
                    <a:pt x="936" y="2912"/>
                  </a:lnTo>
                  <a:lnTo>
                    <a:pt x="864" y="2851"/>
                  </a:lnTo>
                  <a:lnTo>
                    <a:pt x="789" y="2857"/>
                  </a:lnTo>
                  <a:lnTo>
                    <a:pt x="751" y="2939"/>
                  </a:lnTo>
                  <a:lnTo>
                    <a:pt x="669" y="2912"/>
                  </a:lnTo>
                  <a:lnTo>
                    <a:pt x="577" y="2912"/>
                  </a:lnTo>
                  <a:lnTo>
                    <a:pt x="478" y="2998"/>
                  </a:lnTo>
                  <a:lnTo>
                    <a:pt x="457" y="3059"/>
                  </a:lnTo>
                  <a:lnTo>
                    <a:pt x="430" y="3144"/>
                  </a:lnTo>
                  <a:lnTo>
                    <a:pt x="420" y="3281"/>
                  </a:lnTo>
                  <a:lnTo>
                    <a:pt x="478" y="3356"/>
                  </a:lnTo>
                  <a:lnTo>
                    <a:pt x="560" y="3298"/>
                  </a:lnTo>
                  <a:lnTo>
                    <a:pt x="662" y="3298"/>
                  </a:lnTo>
                  <a:lnTo>
                    <a:pt x="669" y="3411"/>
                  </a:lnTo>
                  <a:lnTo>
                    <a:pt x="604" y="3493"/>
                  </a:lnTo>
                  <a:lnTo>
                    <a:pt x="717" y="3503"/>
                  </a:lnTo>
                  <a:lnTo>
                    <a:pt x="761" y="3520"/>
                  </a:lnTo>
                  <a:lnTo>
                    <a:pt x="789" y="3623"/>
                  </a:lnTo>
                  <a:lnTo>
                    <a:pt x="881" y="3678"/>
                  </a:lnTo>
                  <a:lnTo>
                    <a:pt x="994" y="3749"/>
                  </a:lnTo>
                  <a:lnTo>
                    <a:pt x="1076" y="3695"/>
                  </a:lnTo>
                  <a:lnTo>
                    <a:pt x="1240" y="3749"/>
                  </a:lnTo>
                  <a:lnTo>
                    <a:pt x="1359" y="3770"/>
                  </a:lnTo>
                  <a:lnTo>
                    <a:pt x="1544" y="3859"/>
                  </a:lnTo>
                  <a:lnTo>
                    <a:pt x="1582" y="3934"/>
                  </a:lnTo>
                  <a:lnTo>
                    <a:pt x="1691" y="4026"/>
                  </a:lnTo>
                  <a:lnTo>
                    <a:pt x="1749" y="4163"/>
                  </a:lnTo>
                  <a:lnTo>
                    <a:pt x="1875" y="4218"/>
                  </a:lnTo>
                  <a:lnTo>
                    <a:pt x="1995" y="4238"/>
                  </a:lnTo>
                  <a:lnTo>
                    <a:pt x="2108" y="4337"/>
                  </a:lnTo>
                  <a:lnTo>
                    <a:pt x="2261" y="4337"/>
                  </a:lnTo>
                  <a:lnTo>
                    <a:pt x="2272" y="4429"/>
                  </a:lnTo>
                  <a:lnTo>
                    <a:pt x="2272" y="4522"/>
                  </a:lnTo>
                  <a:lnTo>
                    <a:pt x="2200" y="4615"/>
                  </a:lnTo>
                  <a:lnTo>
                    <a:pt x="2190" y="4745"/>
                  </a:lnTo>
                  <a:lnTo>
                    <a:pt x="2173" y="4854"/>
                  </a:lnTo>
                  <a:lnTo>
                    <a:pt x="2087" y="4963"/>
                  </a:lnTo>
                  <a:lnTo>
                    <a:pt x="1968" y="5018"/>
                  </a:lnTo>
                  <a:lnTo>
                    <a:pt x="1869" y="5049"/>
                  </a:lnTo>
                  <a:lnTo>
                    <a:pt x="1913" y="5148"/>
                  </a:lnTo>
                  <a:lnTo>
                    <a:pt x="1821" y="5251"/>
                  </a:lnTo>
                  <a:lnTo>
                    <a:pt x="1739" y="5343"/>
                  </a:lnTo>
                  <a:lnTo>
                    <a:pt x="1636" y="5397"/>
                  </a:lnTo>
                  <a:lnTo>
                    <a:pt x="1554" y="5534"/>
                  </a:lnTo>
                  <a:lnTo>
                    <a:pt x="1506" y="5626"/>
                  </a:lnTo>
                  <a:lnTo>
                    <a:pt x="1418" y="5674"/>
                  </a:lnTo>
                  <a:lnTo>
                    <a:pt x="1353" y="5756"/>
                  </a:lnTo>
                  <a:lnTo>
                    <a:pt x="1295" y="5838"/>
                  </a:lnTo>
                  <a:lnTo>
                    <a:pt x="1260" y="5920"/>
                  </a:lnTo>
                  <a:lnTo>
                    <a:pt x="1267" y="5996"/>
                  </a:lnTo>
                  <a:lnTo>
                    <a:pt x="1223" y="6060"/>
                  </a:lnTo>
                  <a:lnTo>
                    <a:pt x="1158" y="5948"/>
                  </a:lnTo>
                  <a:lnTo>
                    <a:pt x="1055" y="5855"/>
                  </a:lnTo>
                  <a:lnTo>
                    <a:pt x="1021" y="5736"/>
                  </a:lnTo>
                  <a:lnTo>
                    <a:pt x="1021" y="5626"/>
                  </a:lnTo>
                  <a:lnTo>
                    <a:pt x="1011" y="5490"/>
                  </a:lnTo>
                  <a:lnTo>
                    <a:pt x="1055" y="5315"/>
                  </a:lnTo>
                  <a:lnTo>
                    <a:pt x="1076" y="5148"/>
                  </a:lnTo>
                  <a:lnTo>
                    <a:pt x="1048" y="4984"/>
                  </a:lnTo>
                  <a:lnTo>
                    <a:pt x="1011" y="4854"/>
                  </a:lnTo>
                  <a:lnTo>
                    <a:pt x="908" y="4745"/>
                  </a:lnTo>
                  <a:lnTo>
                    <a:pt x="799" y="4653"/>
                  </a:lnTo>
                  <a:lnTo>
                    <a:pt x="717" y="4515"/>
                  </a:lnTo>
                  <a:lnTo>
                    <a:pt x="697" y="4364"/>
                  </a:lnTo>
                  <a:lnTo>
                    <a:pt x="751" y="4265"/>
                  </a:lnTo>
                  <a:lnTo>
                    <a:pt x="751" y="4173"/>
                  </a:lnTo>
                  <a:lnTo>
                    <a:pt x="799" y="4016"/>
                  </a:lnTo>
                  <a:lnTo>
                    <a:pt x="874" y="3907"/>
                  </a:lnTo>
                  <a:lnTo>
                    <a:pt x="963" y="3831"/>
                  </a:lnTo>
                  <a:lnTo>
                    <a:pt x="1001" y="3770"/>
                  </a:lnTo>
                  <a:lnTo>
                    <a:pt x="881" y="3722"/>
                  </a:lnTo>
                  <a:lnTo>
                    <a:pt x="809" y="3749"/>
                  </a:lnTo>
                  <a:lnTo>
                    <a:pt x="744" y="3712"/>
                  </a:lnTo>
                  <a:lnTo>
                    <a:pt x="642" y="3640"/>
                  </a:lnTo>
                  <a:lnTo>
                    <a:pt x="550" y="3575"/>
                  </a:lnTo>
                  <a:lnTo>
                    <a:pt x="505" y="3473"/>
                  </a:lnTo>
                  <a:lnTo>
                    <a:pt x="457" y="3445"/>
                  </a:lnTo>
                  <a:lnTo>
                    <a:pt x="413" y="3493"/>
                  </a:lnTo>
                  <a:lnTo>
                    <a:pt x="300" y="3428"/>
                  </a:lnTo>
                  <a:lnTo>
                    <a:pt x="246" y="3346"/>
                  </a:lnTo>
                  <a:lnTo>
                    <a:pt x="201" y="3281"/>
                  </a:lnTo>
                  <a:lnTo>
                    <a:pt x="201" y="3162"/>
                  </a:lnTo>
                  <a:lnTo>
                    <a:pt x="181" y="3107"/>
                  </a:lnTo>
                  <a:lnTo>
                    <a:pt x="99" y="3032"/>
                  </a:lnTo>
                  <a:lnTo>
                    <a:pt x="99" y="3097"/>
                  </a:lnTo>
                  <a:lnTo>
                    <a:pt x="146" y="3179"/>
                  </a:lnTo>
                  <a:lnTo>
                    <a:pt x="164" y="3254"/>
                  </a:lnTo>
                  <a:lnTo>
                    <a:pt x="82" y="3199"/>
                  </a:lnTo>
                  <a:lnTo>
                    <a:pt x="27" y="3134"/>
                  </a:lnTo>
                  <a:lnTo>
                    <a:pt x="6" y="3042"/>
                  </a:lnTo>
                  <a:lnTo>
                    <a:pt x="17" y="2905"/>
                  </a:lnTo>
                  <a:lnTo>
                    <a:pt x="0" y="2710"/>
                  </a:lnTo>
                  <a:lnTo>
                    <a:pt x="17" y="2464"/>
                  </a:lnTo>
                  <a:lnTo>
                    <a:pt x="82" y="2112"/>
                  </a:lnTo>
                  <a:lnTo>
                    <a:pt x="191" y="1754"/>
                  </a:lnTo>
                  <a:lnTo>
                    <a:pt x="375" y="1339"/>
                  </a:lnTo>
                  <a:lnTo>
                    <a:pt x="522" y="1045"/>
                  </a:lnTo>
                  <a:lnTo>
                    <a:pt x="744" y="714"/>
                  </a:lnTo>
                  <a:lnTo>
                    <a:pt x="919" y="522"/>
                  </a:lnTo>
                  <a:close/>
                </a:path>
              </a:pathLst>
            </a:custGeom>
            <a:solidFill>
              <a:srgbClr val="2144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08160" y="1476360"/>
              <a:ext cx="2999160" cy="2188080"/>
            </a:xfrm>
            <a:custGeom>
              <a:avLst/>
              <a:gdLst/>
              <a:ahLst/>
              <a:rect l="0" t="0" r="r" b="b"/>
              <a:pathLst>
                <a:path w="8331" h="6078">
                  <a:moveTo>
                    <a:pt x="847" y="553"/>
                  </a:moveTo>
                  <a:lnTo>
                    <a:pt x="950" y="543"/>
                  </a:lnTo>
                  <a:lnTo>
                    <a:pt x="1022" y="471"/>
                  </a:lnTo>
                  <a:lnTo>
                    <a:pt x="1107" y="423"/>
                  </a:lnTo>
                  <a:lnTo>
                    <a:pt x="1151" y="369"/>
                  </a:lnTo>
                  <a:lnTo>
                    <a:pt x="1254" y="304"/>
                  </a:lnTo>
                  <a:lnTo>
                    <a:pt x="1336" y="276"/>
                  </a:lnTo>
                  <a:lnTo>
                    <a:pt x="1421" y="249"/>
                  </a:lnTo>
                  <a:lnTo>
                    <a:pt x="1483" y="249"/>
                  </a:lnTo>
                  <a:lnTo>
                    <a:pt x="1531" y="218"/>
                  </a:lnTo>
                  <a:lnTo>
                    <a:pt x="1606" y="218"/>
                  </a:lnTo>
                  <a:lnTo>
                    <a:pt x="1633" y="174"/>
                  </a:lnTo>
                  <a:lnTo>
                    <a:pt x="1715" y="191"/>
                  </a:lnTo>
                  <a:lnTo>
                    <a:pt x="1797" y="146"/>
                  </a:lnTo>
                  <a:lnTo>
                    <a:pt x="1862" y="174"/>
                  </a:lnTo>
                  <a:lnTo>
                    <a:pt x="1900" y="211"/>
                  </a:lnTo>
                  <a:lnTo>
                    <a:pt x="1862" y="249"/>
                  </a:lnTo>
                  <a:lnTo>
                    <a:pt x="1797" y="218"/>
                  </a:lnTo>
                  <a:lnTo>
                    <a:pt x="1732" y="256"/>
                  </a:lnTo>
                  <a:lnTo>
                    <a:pt x="1698" y="314"/>
                  </a:lnTo>
                  <a:lnTo>
                    <a:pt x="1678" y="375"/>
                  </a:lnTo>
                  <a:lnTo>
                    <a:pt x="1613" y="386"/>
                  </a:lnTo>
                  <a:lnTo>
                    <a:pt x="1531" y="423"/>
                  </a:lnTo>
                  <a:lnTo>
                    <a:pt x="1521" y="516"/>
                  </a:lnTo>
                  <a:lnTo>
                    <a:pt x="1514" y="591"/>
                  </a:lnTo>
                  <a:lnTo>
                    <a:pt x="1483" y="645"/>
                  </a:lnTo>
                  <a:lnTo>
                    <a:pt x="1521" y="700"/>
                  </a:lnTo>
                  <a:lnTo>
                    <a:pt x="1558" y="553"/>
                  </a:lnTo>
                  <a:lnTo>
                    <a:pt x="1613" y="526"/>
                  </a:lnTo>
                  <a:lnTo>
                    <a:pt x="1678" y="451"/>
                  </a:lnTo>
                  <a:lnTo>
                    <a:pt x="1726" y="348"/>
                  </a:lnTo>
                  <a:lnTo>
                    <a:pt x="1835" y="331"/>
                  </a:lnTo>
                  <a:lnTo>
                    <a:pt x="1927" y="283"/>
                  </a:lnTo>
                  <a:lnTo>
                    <a:pt x="1982" y="201"/>
                  </a:lnTo>
                  <a:lnTo>
                    <a:pt x="2057" y="201"/>
                  </a:lnTo>
                  <a:lnTo>
                    <a:pt x="2233" y="191"/>
                  </a:lnTo>
                  <a:lnTo>
                    <a:pt x="2417" y="146"/>
                  </a:lnTo>
                  <a:lnTo>
                    <a:pt x="2475" y="146"/>
                  </a:lnTo>
                  <a:lnTo>
                    <a:pt x="2557" y="146"/>
                  </a:lnTo>
                  <a:lnTo>
                    <a:pt x="2639" y="146"/>
                  </a:lnTo>
                  <a:lnTo>
                    <a:pt x="2714" y="174"/>
                  </a:lnTo>
                  <a:lnTo>
                    <a:pt x="2807" y="249"/>
                  </a:lnTo>
                  <a:lnTo>
                    <a:pt x="2769" y="256"/>
                  </a:lnTo>
                  <a:lnTo>
                    <a:pt x="2667" y="293"/>
                  </a:lnTo>
                  <a:lnTo>
                    <a:pt x="2677" y="375"/>
                  </a:lnTo>
                  <a:lnTo>
                    <a:pt x="2759" y="386"/>
                  </a:lnTo>
                  <a:lnTo>
                    <a:pt x="2797" y="386"/>
                  </a:lnTo>
                  <a:lnTo>
                    <a:pt x="2779" y="451"/>
                  </a:lnTo>
                  <a:lnTo>
                    <a:pt x="2677" y="543"/>
                  </a:lnTo>
                  <a:lnTo>
                    <a:pt x="2622" y="553"/>
                  </a:lnTo>
                  <a:lnTo>
                    <a:pt x="2632" y="608"/>
                  </a:lnTo>
                  <a:lnTo>
                    <a:pt x="2650" y="645"/>
                  </a:lnTo>
                  <a:lnTo>
                    <a:pt x="2622" y="700"/>
                  </a:lnTo>
                  <a:lnTo>
                    <a:pt x="2667" y="775"/>
                  </a:lnTo>
                  <a:lnTo>
                    <a:pt x="2568" y="803"/>
                  </a:lnTo>
                  <a:lnTo>
                    <a:pt x="2475" y="830"/>
                  </a:lnTo>
                  <a:lnTo>
                    <a:pt x="2465" y="933"/>
                  </a:lnTo>
                  <a:lnTo>
                    <a:pt x="2417" y="1015"/>
                  </a:lnTo>
                  <a:lnTo>
                    <a:pt x="2352" y="1079"/>
                  </a:lnTo>
                  <a:lnTo>
                    <a:pt x="2270" y="1117"/>
                  </a:lnTo>
                  <a:lnTo>
                    <a:pt x="2465" y="1117"/>
                  </a:lnTo>
                  <a:lnTo>
                    <a:pt x="2568" y="1117"/>
                  </a:lnTo>
                  <a:lnTo>
                    <a:pt x="2632" y="1134"/>
                  </a:lnTo>
                  <a:lnTo>
                    <a:pt x="2714" y="1100"/>
                  </a:lnTo>
                  <a:lnTo>
                    <a:pt x="2759" y="1182"/>
                  </a:lnTo>
                  <a:lnTo>
                    <a:pt x="3839" y="1182"/>
                  </a:lnTo>
                  <a:lnTo>
                    <a:pt x="3877" y="1117"/>
                  </a:lnTo>
                  <a:lnTo>
                    <a:pt x="3996" y="1035"/>
                  </a:lnTo>
                  <a:lnTo>
                    <a:pt x="4044" y="922"/>
                  </a:lnTo>
                  <a:lnTo>
                    <a:pt x="4136" y="813"/>
                  </a:lnTo>
                  <a:lnTo>
                    <a:pt x="4191" y="721"/>
                  </a:lnTo>
                  <a:lnTo>
                    <a:pt x="4229" y="618"/>
                  </a:lnTo>
                  <a:lnTo>
                    <a:pt x="4311" y="591"/>
                  </a:lnTo>
                  <a:lnTo>
                    <a:pt x="4338" y="526"/>
                  </a:lnTo>
                  <a:lnTo>
                    <a:pt x="4403" y="553"/>
                  </a:lnTo>
                  <a:lnTo>
                    <a:pt x="4468" y="498"/>
                  </a:lnTo>
                  <a:lnTo>
                    <a:pt x="4523" y="543"/>
                  </a:lnTo>
                  <a:lnTo>
                    <a:pt x="4608" y="581"/>
                  </a:lnTo>
                  <a:lnTo>
                    <a:pt x="4680" y="598"/>
                  </a:lnTo>
                  <a:lnTo>
                    <a:pt x="4765" y="618"/>
                  </a:lnTo>
                  <a:lnTo>
                    <a:pt x="4820" y="591"/>
                  </a:lnTo>
                  <a:lnTo>
                    <a:pt x="4892" y="628"/>
                  </a:lnTo>
                  <a:lnTo>
                    <a:pt x="4950" y="700"/>
                  </a:lnTo>
                  <a:lnTo>
                    <a:pt x="5042" y="721"/>
                  </a:lnTo>
                  <a:lnTo>
                    <a:pt x="5059" y="803"/>
                  </a:lnTo>
                  <a:lnTo>
                    <a:pt x="5032" y="857"/>
                  </a:lnTo>
                  <a:lnTo>
                    <a:pt x="4902" y="830"/>
                  </a:lnTo>
                  <a:lnTo>
                    <a:pt x="4810" y="792"/>
                  </a:lnTo>
                  <a:lnTo>
                    <a:pt x="4800" y="857"/>
                  </a:lnTo>
                  <a:lnTo>
                    <a:pt x="4929" y="878"/>
                  </a:lnTo>
                  <a:lnTo>
                    <a:pt x="5032" y="950"/>
                  </a:lnTo>
                  <a:lnTo>
                    <a:pt x="5169" y="895"/>
                  </a:lnTo>
                  <a:lnTo>
                    <a:pt x="5206" y="786"/>
                  </a:lnTo>
                  <a:lnTo>
                    <a:pt x="5271" y="690"/>
                  </a:lnTo>
                  <a:lnTo>
                    <a:pt x="5357" y="710"/>
                  </a:lnTo>
                  <a:lnTo>
                    <a:pt x="5336" y="755"/>
                  </a:lnTo>
                  <a:lnTo>
                    <a:pt x="5292" y="803"/>
                  </a:lnTo>
                  <a:lnTo>
                    <a:pt x="5292" y="878"/>
                  </a:lnTo>
                  <a:lnTo>
                    <a:pt x="5374" y="792"/>
                  </a:lnTo>
                  <a:lnTo>
                    <a:pt x="5456" y="721"/>
                  </a:lnTo>
                  <a:lnTo>
                    <a:pt x="5596" y="700"/>
                  </a:lnTo>
                  <a:lnTo>
                    <a:pt x="5760" y="645"/>
                  </a:lnTo>
                  <a:lnTo>
                    <a:pt x="5890" y="591"/>
                  </a:lnTo>
                  <a:lnTo>
                    <a:pt x="5917" y="516"/>
                  </a:lnTo>
                  <a:lnTo>
                    <a:pt x="5808" y="526"/>
                  </a:lnTo>
                  <a:lnTo>
                    <a:pt x="5716" y="451"/>
                  </a:lnTo>
                  <a:lnTo>
                    <a:pt x="5651" y="348"/>
                  </a:lnTo>
                  <a:lnTo>
                    <a:pt x="5716" y="218"/>
                  </a:lnTo>
                  <a:lnTo>
                    <a:pt x="5818" y="136"/>
                  </a:lnTo>
                  <a:lnTo>
                    <a:pt x="5900" y="44"/>
                  </a:lnTo>
                  <a:lnTo>
                    <a:pt x="6030" y="44"/>
                  </a:lnTo>
                  <a:lnTo>
                    <a:pt x="6129" y="0"/>
                  </a:lnTo>
                  <a:lnTo>
                    <a:pt x="6122" y="61"/>
                  </a:lnTo>
                  <a:lnTo>
                    <a:pt x="6037" y="82"/>
                  </a:lnTo>
                  <a:lnTo>
                    <a:pt x="6010" y="109"/>
                  </a:lnTo>
                  <a:lnTo>
                    <a:pt x="5928" y="119"/>
                  </a:lnTo>
                  <a:lnTo>
                    <a:pt x="5873" y="191"/>
                  </a:lnTo>
                  <a:lnTo>
                    <a:pt x="5835" y="276"/>
                  </a:lnTo>
                  <a:lnTo>
                    <a:pt x="5808" y="348"/>
                  </a:lnTo>
                  <a:lnTo>
                    <a:pt x="5900" y="498"/>
                  </a:lnTo>
                  <a:lnTo>
                    <a:pt x="6047" y="553"/>
                  </a:lnTo>
                  <a:lnTo>
                    <a:pt x="6150" y="608"/>
                  </a:lnTo>
                  <a:lnTo>
                    <a:pt x="6204" y="628"/>
                  </a:lnTo>
                  <a:lnTo>
                    <a:pt x="6253" y="700"/>
                  </a:lnTo>
                  <a:lnTo>
                    <a:pt x="6298" y="690"/>
                  </a:lnTo>
                  <a:lnTo>
                    <a:pt x="6298" y="628"/>
                  </a:lnTo>
                  <a:lnTo>
                    <a:pt x="6270" y="553"/>
                  </a:lnTo>
                  <a:lnTo>
                    <a:pt x="6221" y="505"/>
                  </a:lnTo>
                  <a:lnTo>
                    <a:pt x="6215" y="451"/>
                  </a:lnTo>
                  <a:lnTo>
                    <a:pt x="6253" y="348"/>
                  </a:lnTo>
                  <a:lnTo>
                    <a:pt x="6352" y="348"/>
                  </a:lnTo>
                  <a:lnTo>
                    <a:pt x="6438" y="348"/>
                  </a:lnTo>
                  <a:lnTo>
                    <a:pt x="6472" y="386"/>
                  </a:lnTo>
                  <a:lnTo>
                    <a:pt x="6503" y="478"/>
                  </a:lnTo>
                  <a:lnTo>
                    <a:pt x="6537" y="553"/>
                  </a:lnTo>
                  <a:lnTo>
                    <a:pt x="6557" y="478"/>
                  </a:lnTo>
                  <a:lnTo>
                    <a:pt x="6629" y="423"/>
                  </a:lnTo>
                  <a:lnTo>
                    <a:pt x="6715" y="423"/>
                  </a:lnTo>
                  <a:lnTo>
                    <a:pt x="6780" y="423"/>
                  </a:lnTo>
                  <a:lnTo>
                    <a:pt x="6851" y="434"/>
                  </a:lnTo>
                  <a:lnTo>
                    <a:pt x="6851" y="348"/>
                  </a:lnTo>
                  <a:lnTo>
                    <a:pt x="6916" y="348"/>
                  </a:lnTo>
                  <a:lnTo>
                    <a:pt x="6954" y="413"/>
                  </a:lnTo>
                  <a:lnTo>
                    <a:pt x="7046" y="413"/>
                  </a:lnTo>
                  <a:lnTo>
                    <a:pt x="7128" y="375"/>
                  </a:lnTo>
                  <a:lnTo>
                    <a:pt x="7214" y="451"/>
                  </a:lnTo>
                  <a:lnTo>
                    <a:pt x="7313" y="543"/>
                  </a:lnTo>
                  <a:lnTo>
                    <a:pt x="7426" y="553"/>
                  </a:lnTo>
                  <a:lnTo>
                    <a:pt x="7562" y="618"/>
                  </a:lnTo>
                  <a:lnTo>
                    <a:pt x="7610" y="608"/>
                  </a:lnTo>
                  <a:lnTo>
                    <a:pt x="7720" y="792"/>
                  </a:lnTo>
                  <a:lnTo>
                    <a:pt x="7877" y="1079"/>
                  </a:lnTo>
                  <a:lnTo>
                    <a:pt x="7996" y="1257"/>
                  </a:lnTo>
                  <a:lnTo>
                    <a:pt x="8051" y="1421"/>
                  </a:lnTo>
                  <a:lnTo>
                    <a:pt x="7969" y="1459"/>
                  </a:lnTo>
                  <a:lnTo>
                    <a:pt x="7942" y="1535"/>
                  </a:lnTo>
                  <a:lnTo>
                    <a:pt x="7969" y="1672"/>
                  </a:lnTo>
                  <a:lnTo>
                    <a:pt x="8024" y="1802"/>
                  </a:lnTo>
                  <a:lnTo>
                    <a:pt x="8082" y="1802"/>
                  </a:lnTo>
                  <a:lnTo>
                    <a:pt x="8082" y="1699"/>
                  </a:lnTo>
                  <a:lnTo>
                    <a:pt x="8137" y="1672"/>
                  </a:lnTo>
                  <a:lnTo>
                    <a:pt x="8174" y="1764"/>
                  </a:lnTo>
                  <a:lnTo>
                    <a:pt x="8099" y="1802"/>
                  </a:lnTo>
                  <a:lnTo>
                    <a:pt x="8208" y="1894"/>
                  </a:lnTo>
                  <a:lnTo>
                    <a:pt x="8126" y="2007"/>
                  </a:lnTo>
                  <a:lnTo>
                    <a:pt x="8109" y="2061"/>
                  </a:lnTo>
                  <a:lnTo>
                    <a:pt x="8246" y="2099"/>
                  </a:lnTo>
                  <a:lnTo>
                    <a:pt x="8181" y="2171"/>
                  </a:lnTo>
                  <a:lnTo>
                    <a:pt x="8116" y="2201"/>
                  </a:lnTo>
                  <a:lnTo>
                    <a:pt x="8116" y="2328"/>
                  </a:lnTo>
                  <a:lnTo>
                    <a:pt x="8181" y="2441"/>
                  </a:lnTo>
                  <a:lnTo>
                    <a:pt x="8116" y="2468"/>
                  </a:lnTo>
                  <a:lnTo>
                    <a:pt x="7996" y="2430"/>
                  </a:lnTo>
                  <a:lnTo>
                    <a:pt x="8044" y="2376"/>
                  </a:lnTo>
                  <a:lnTo>
                    <a:pt x="8126" y="2376"/>
                  </a:lnTo>
                  <a:lnTo>
                    <a:pt x="8126" y="2229"/>
                  </a:lnTo>
                  <a:lnTo>
                    <a:pt x="8034" y="2273"/>
                  </a:lnTo>
                  <a:lnTo>
                    <a:pt x="8024" y="2171"/>
                  </a:lnTo>
                  <a:lnTo>
                    <a:pt x="8109" y="2099"/>
                  </a:lnTo>
                  <a:lnTo>
                    <a:pt x="8126" y="2014"/>
                  </a:lnTo>
                  <a:lnTo>
                    <a:pt x="8082" y="1914"/>
                  </a:lnTo>
                  <a:lnTo>
                    <a:pt x="8082" y="1795"/>
                  </a:lnTo>
                  <a:lnTo>
                    <a:pt x="8017" y="1839"/>
                  </a:lnTo>
                  <a:lnTo>
                    <a:pt x="7952" y="1931"/>
                  </a:lnTo>
                  <a:lnTo>
                    <a:pt x="7850" y="2014"/>
                  </a:lnTo>
                  <a:lnTo>
                    <a:pt x="7877" y="2126"/>
                  </a:lnTo>
                  <a:lnTo>
                    <a:pt x="7867" y="2229"/>
                  </a:lnTo>
                  <a:lnTo>
                    <a:pt x="7867" y="2294"/>
                  </a:lnTo>
                  <a:lnTo>
                    <a:pt x="7925" y="2376"/>
                  </a:lnTo>
                  <a:lnTo>
                    <a:pt x="7877" y="2424"/>
                  </a:lnTo>
                  <a:lnTo>
                    <a:pt x="7774" y="2311"/>
                  </a:lnTo>
                  <a:lnTo>
                    <a:pt x="7720" y="2201"/>
                  </a:lnTo>
                  <a:lnTo>
                    <a:pt x="7682" y="2116"/>
                  </a:lnTo>
                  <a:lnTo>
                    <a:pt x="7638" y="2078"/>
                  </a:lnTo>
                  <a:lnTo>
                    <a:pt x="7556" y="2126"/>
                  </a:lnTo>
                  <a:lnTo>
                    <a:pt x="7518" y="2208"/>
                  </a:lnTo>
                  <a:lnTo>
                    <a:pt x="7617" y="2311"/>
                  </a:lnTo>
                  <a:lnTo>
                    <a:pt x="7675" y="2424"/>
                  </a:lnTo>
                  <a:lnTo>
                    <a:pt x="7682" y="2550"/>
                  </a:lnTo>
                  <a:lnTo>
                    <a:pt x="7675" y="2680"/>
                  </a:lnTo>
                  <a:lnTo>
                    <a:pt x="7675" y="2782"/>
                  </a:lnTo>
                  <a:lnTo>
                    <a:pt x="7730" y="2707"/>
                  </a:lnTo>
                  <a:lnTo>
                    <a:pt x="7812" y="2718"/>
                  </a:lnTo>
                  <a:lnTo>
                    <a:pt x="7839" y="2800"/>
                  </a:lnTo>
                  <a:lnTo>
                    <a:pt x="7774" y="2885"/>
                  </a:lnTo>
                  <a:lnTo>
                    <a:pt x="7703" y="2875"/>
                  </a:lnTo>
                  <a:lnTo>
                    <a:pt x="7682" y="2950"/>
                  </a:lnTo>
                  <a:lnTo>
                    <a:pt x="7747" y="3022"/>
                  </a:lnTo>
                  <a:lnTo>
                    <a:pt x="7720" y="3117"/>
                  </a:lnTo>
                  <a:lnTo>
                    <a:pt x="7802" y="3189"/>
                  </a:lnTo>
                  <a:lnTo>
                    <a:pt x="7747" y="3254"/>
                  </a:lnTo>
                  <a:lnTo>
                    <a:pt x="7832" y="3336"/>
                  </a:lnTo>
                  <a:lnTo>
                    <a:pt x="7774" y="3422"/>
                  </a:lnTo>
                  <a:lnTo>
                    <a:pt x="7867" y="3367"/>
                  </a:lnTo>
                  <a:lnTo>
                    <a:pt x="7839" y="3449"/>
                  </a:lnTo>
                  <a:lnTo>
                    <a:pt x="8007" y="3422"/>
                  </a:lnTo>
                  <a:lnTo>
                    <a:pt x="7952" y="3524"/>
                  </a:lnTo>
                  <a:lnTo>
                    <a:pt x="7839" y="3449"/>
                  </a:lnTo>
                  <a:lnTo>
                    <a:pt x="7832" y="3558"/>
                  </a:lnTo>
                  <a:lnTo>
                    <a:pt x="7996" y="3551"/>
                  </a:lnTo>
                  <a:lnTo>
                    <a:pt x="7925" y="3671"/>
                  </a:lnTo>
                  <a:lnTo>
                    <a:pt x="7812" y="3541"/>
                  </a:lnTo>
                  <a:lnTo>
                    <a:pt x="7867" y="3715"/>
                  </a:lnTo>
                  <a:lnTo>
                    <a:pt x="8007" y="3839"/>
                  </a:lnTo>
                  <a:lnTo>
                    <a:pt x="7877" y="3839"/>
                  </a:lnTo>
                  <a:lnTo>
                    <a:pt x="7812" y="3558"/>
                  </a:lnTo>
                  <a:lnTo>
                    <a:pt x="7839" y="3384"/>
                  </a:lnTo>
                  <a:lnTo>
                    <a:pt x="7747" y="3384"/>
                  </a:lnTo>
                  <a:lnTo>
                    <a:pt x="7675" y="3281"/>
                  </a:lnTo>
                  <a:lnTo>
                    <a:pt x="7747" y="3244"/>
                  </a:lnTo>
                  <a:lnTo>
                    <a:pt x="7747" y="3134"/>
                  </a:lnTo>
                  <a:lnTo>
                    <a:pt x="7703" y="2923"/>
                  </a:lnTo>
                  <a:lnTo>
                    <a:pt x="7682" y="2772"/>
                  </a:lnTo>
                  <a:lnTo>
                    <a:pt x="7675" y="2663"/>
                  </a:lnTo>
                  <a:lnTo>
                    <a:pt x="7583" y="2782"/>
                  </a:lnTo>
                  <a:lnTo>
                    <a:pt x="7443" y="2837"/>
                  </a:lnTo>
                  <a:lnTo>
                    <a:pt x="7371" y="2929"/>
                  </a:lnTo>
                  <a:lnTo>
                    <a:pt x="7398" y="3032"/>
                  </a:lnTo>
                  <a:lnTo>
                    <a:pt x="7340" y="3117"/>
                  </a:lnTo>
                  <a:lnTo>
                    <a:pt x="7248" y="3087"/>
                  </a:lnTo>
                  <a:lnTo>
                    <a:pt x="7333" y="2977"/>
                  </a:lnTo>
                  <a:lnTo>
                    <a:pt x="7268" y="2940"/>
                  </a:lnTo>
                  <a:lnTo>
                    <a:pt x="7193" y="3005"/>
                  </a:lnTo>
                  <a:lnTo>
                    <a:pt x="7193" y="3107"/>
                  </a:lnTo>
                  <a:lnTo>
                    <a:pt x="7333" y="3244"/>
                  </a:lnTo>
                  <a:lnTo>
                    <a:pt x="7371" y="3346"/>
                  </a:lnTo>
                  <a:lnTo>
                    <a:pt x="7258" y="3493"/>
                  </a:lnTo>
                  <a:lnTo>
                    <a:pt x="7258" y="3808"/>
                  </a:lnTo>
                  <a:lnTo>
                    <a:pt x="7258" y="3948"/>
                  </a:lnTo>
                  <a:lnTo>
                    <a:pt x="7275" y="4030"/>
                  </a:lnTo>
                  <a:lnTo>
                    <a:pt x="7432" y="4023"/>
                  </a:lnTo>
                  <a:lnTo>
                    <a:pt x="7535" y="4040"/>
                  </a:lnTo>
                  <a:lnTo>
                    <a:pt x="7610" y="3921"/>
                  </a:lnTo>
                  <a:lnTo>
                    <a:pt x="7682" y="3921"/>
                  </a:lnTo>
                  <a:lnTo>
                    <a:pt x="7648" y="3996"/>
                  </a:lnTo>
                  <a:lnTo>
                    <a:pt x="7747" y="4078"/>
                  </a:lnTo>
                  <a:lnTo>
                    <a:pt x="7867" y="4095"/>
                  </a:lnTo>
                  <a:lnTo>
                    <a:pt x="7850" y="4023"/>
                  </a:lnTo>
                  <a:lnTo>
                    <a:pt x="8116" y="4023"/>
                  </a:lnTo>
                  <a:lnTo>
                    <a:pt x="8024" y="4050"/>
                  </a:lnTo>
                  <a:lnTo>
                    <a:pt x="8017" y="4122"/>
                  </a:lnTo>
                  <a:lnTo>
                    <a:pt x="8137" y="4160"/>
                  </a:lnTo>
                  <a:lnTo>
                    <a:pt x="8256" y="4197"/>
                  </a:lnTo>
                  <a:lnTo>
                    <a:pt x="8311" y="4061"/>
                  </a:lnTo>
                  <a:lnTo>
                    <a:pt x="8331" y="3996"/>
                  </a:lnTo>
                  <a:lnTo>
                    <a:pt x="8246" y="4003"/>
                  </a:lnTo>
                  <a:lnTo>
                    <a:pt x="8174" y="3958"/>
                  </a:lnTo>
                  <a:lnTo>
                    <a:pt x="8116" y="3938"/>
                  </a:lnTo>
                  <a:lnTo>
                    <a:pt x="8082" y="4040"/>
                  </a:lnTo>
                  <a:lnTo>
                    <a:pt x="8082" y="4030"/>
                  </a:lnTo>
                  <a:lnTo>
                    <a:pt x="7832" y="4030"/>
                  </a:lnTo>
                  <a:lnTo>
                    <a:pt x="7774" y="3893"/>
                  </a:lnTo>
                  <a:lnTo>
                    <a:pt x="7703" y="3931"/>
                  </a:lnTo>
                  <a:lnTo>
                    <a:pt x="7617" y="3921"/>
                  </a:lnTo>
                  <a:lnTo>
                    <a:pt x="7583" y="3774"/>
                  </a:lnTo>
                  <a:lnTo>
                    <a:pt x="7545" y="3688"/>
                  </a:lnTo>
                  <a:lnTo>
                    <a:pt x="7627" y="3644"/>
                  </a:lnTo>
                  <a:lnTo>
                    <a:pt x="7627" y="3558"/>
                  </a:lnTo>
                  <a:lnTo>
                    <a:pt x="7508" y="3616"/>
                  </a:lnTo>
                  <a:lnTo>
                    <a:pt x="7426" y="3688"/>
                  </a:lnTo>
                  <a:lnTo>
                    <a:pt x="7371" y="3791"/>
                  </a:lnTo>
                  <a:lnTo>
                    <a:pt x="7258" y="3791"/>
                  </a:lnTo>
                  <a:lnTo>
                    <a:pt x="7258" y="3531"/>
                  </a:lnTo>
                  <a:lnTo>
                    <a:pt x="7203" y="3589"/>
                  </a:lnTo>
                  <a:lnTo>
                    <a:pt x="7128" y="3466"/>
                  </a:lnTo>
                  <a:lnTo>
                    <a:pt x="7036" y="3357"/>
                  </a:lnTo>
                  <a:lnTo>
                    <a:pt x="6927" y="3384"/>
                  </a:lnTo>
                  <a:lnTo>
                    <a:pt x="6916" y="3493"/>
                  </a:lnTo>
                  <a:lnTo>
                    <a:pt x="6964" y="3633"/>
                  </a:lnTo>
                  <a:lnTo>
                    <a:pt x="6964" y="3753"/>
                  </a:lnTo>
                  <a:lnTo>
                    <a:pt x="7046" y="3866"/>
                  </a:lnTo>
                  <a:lnTo>
                    <a:pt x="7101" y="3931"/>
                  </a:lnTo>
                  <a:lnTo>
                    <a:pt x="7009" y="3931"/>
                  </a:lnTo>
                  <a:lnTo>
                    <a:pt x="6937" y="3866"/>
                  </a:lnTo>
                  <a:lnTo>
                    <a:pt x="6899" y="3938"/>
                  </a:lnTo>
                  <a:lnTo>
                    <a:pt x="7029" y="4095"/>
                  </a:lnTo>
                  <a:lnTo>
                    <a:pt x="7128" y="4180"/>
                  </a:lnTo>
                  <a:lnTo>
                    <a:pt x="7221" y="4170"/>
                  </a:lnTo>
                  <a:lnTo>
                    <a:pt x="7333" y="4197"/>
                  </a:lnTo>
                  <a:lnTo>
                    <a:pt x="7463" y="4197"/>
                  </a:lnTo>
                  <a:lnTo>
                    <a:pt x="7583" y="4180"/>
                  </a:lnTo>
                  <a:lnTo>
                    <a:pt x="7703" y="4245"/>
                  </a:lnTo>
                  <a:lnTo>
                    <a:pt x="7675" y="4262"/>
                  </a:lnTo>
                  <a:lnTo>
                    <a:pt x="7545" y="4225"/>
                  </a:lnTo>
                  <a:lnTo>
                    <a:pt x="7545" y="4437"/>
                  </a:lnTo>
                  <a:lnTo>
                    <a:pt x="7638" y="4437"/>
                  </a:lnTo>
                  <a:lnTo>
                    <a:pt x="7682" y="4430"/>
                  </a:lnTo>
                  <a:lnTo>
                    <a:pt x="7703" y="4355"/>
                  </a:lnTo>
                  <a:lnTo>
                    <a:pt x="7812" y="4365"/>
                  </a:lnTo>
                  <a:lnTo>
                    <a:pt x="7942" y="4327"/>
                  </a:lnTo>
                  <a:lnTo>
                    <a:pt x="7932" y="4409"/>
                  </a:lnTo>
                  <a:lnTo>
                    <a:pt x="7969" y="4474"/>
                  </a:lnTo>
                  <a:lnTo>
                    <a:pt x="8044" y="4532"/>
                  </a:lnTo>
                  <a:lnTo>
                    <a:pt x="8116" y="4474"/>
                  </a:lnTo>
                  <a:lnTo>
                    <a:pt x="8109" y="4375"/>
                  </a:lnTo>
                  <a:lnTo>
                    <a:pt x="8116" y="4290"/>
                  </a:lnTo>
                  <a:lnTo>
                    <a:pt x="8174" y="4375"/>
                  </a:lnTo>
                  <a:lnTo>
                    <a:pt x="8181" y="4502"/>
                  </a:lnTo>
                  <a:lnTo>
                    <a:pt x="8082" y="4725"/>
                  </a:lnTo>
                  <a:lnTo>
                    <a:pt x="7969" y="4947"/>
                  </a:lnTo>
                  <a:lnTo>
                    <a:pt x="7867" y="5169"/>
                  </a:lnTo>
                  <a:lnTo>
                    <a:pt x="7747" y="5391"/>
                  </a:lnTo>
                  <a:lnTo>
                    <a:pt x="7648" y="5336"/>
                  </a:lnTo>
                  <a:lnTo>
                    <a:pt x="7545" y="5374"/>
                  </a:lnTo>
                  <a:lnTo>
                    <a:pt x="7508" y="5456"/>
                  </a:lnTo>
                  <a:lnTo>
                    <a:pt x="7426" y="5511"/>
                  </a:lnTo>
                  <a:lnTo>
                    <a:pt x="7268" y="5542"/>
                  </a:lnTo>
                  <a:lnTo>
                    <a:pt x="7176" y="5521"/>
                  </a:lnTo>
                  <a:lnTo>
                    <a:pt x="7214" y="5384"/>
                  </a:lnTo>
                  <a:lnTo>
                    <a:pt x="7203" y="5282"/>
                  </a:lnTo>
                  <a:lnTo>
                    <a:pt x="7258" y="5207"/>
                  </a:lnTo>
                  <a:lnTo>
                    <a:pt x="7248" y="5131"/>
                  </a:lnTo>
                  <a:lnTo>
                    <a:pt x="7139" y="5077"/>
                  </a:lnTo>
                  <a:lnTo>
                    <a:pt x="7149" y="4947"/>
                  </a:lnTo>
                  <a:lnTo>
                    <a:pt x="7193" y="4810"/>
                  </a:lnTo>
                  <a:lnTo>
                    <a:pt x="7296" y="4708"/>
                  </a:lnTo>
                  <a:lnTo>
                    <a:pt x="7432" y="4708"/>
                  </a:lnTo>
                  <a:lnTo>
                    <a:pt x="7453" y="4626"/>
                  </a:lnTo>
                  <a:lnTo>
                    <a:pt x="7426" y="4502"/>
                  </a:lnTo>
                  <a:lnTo>
                    <a:pt x="7508" y="4447"/>
                  </a:lnTo>
                  <a:lnTo>
                    <a:pt x="7545" y="4437"/>
                  </a:lnTo>
                  <a:lnTo>
                    <a:pt x="7545" y="4245"/>
                  </a:lnTo>
                  <a:lnTo>
                    <a:pt x="7432" y="4252"/>
                  </a:lnTo>
                  <a:lnTo>
                    <a:pt x="7333" y="4300"/>
                  </a:lnTo>
                  <a:lnTo>
                    <a:pt x="7231" y="4245"/>
                  </a:lnTo>
                  <a:lnTo>
                    <a:pt x="7121" y="4245"/>
                  </a:lnTo>
                  <a:lnTo>
                    <a:pt x="6971" y="4180"/>
                  </a:lnTo>
                  <a:lnTo>
                    <a:pt x="6899" y="4095"/>
                  </a:lnTo>
                  <a:lnTo>
                    <a:pt x="6845" y="3996"/>
                  </a:lnTo>
                  <a:lnTo>
                    <a:pt x="6769" y="3921"/>
                  </a:lnTo>
                  <a:lnTo>
                    <a:pt x="6845" y="3893"/>
                  </a:lnTo>
                  <a:lnTo>
                    <a:pt x="6899" y="3931"/>
                  </a:lnTo>
                  <a:lnTo>
                    <a:pt x="6944" y="3856"/>
                  </a:lnTo>
                  <a:lnTo>
                    <a:pt x="6927" y="3746"/>
                  </a:lnTo>
                  <a:lnTo>
                    <a:pt x="6845" y="3726"/>
                  </a:lnTo>
                  <a:lnTo>
                    <a:pt x="6807" y="3596"/>
                  </a:lnTo>
                  <a:lnTo>
                    <a:pt x="6834" y="3466"/>
                  </a:lnTo>
                  <a:lnTo>
                    <a:pt x="6899" y="3367"/>
                  </a:lnTo>
                  <a:lnTo>
                    <a:pt x="6872" y="3244"/>
                  </a:lnTo>
                  <a:lnTo>
                    <a:pt x="6834" y="3227"/>
                  </a:lnTo>
                  <a:lnTo>
                    <a:pt x="6769" y="3292"/>
                  </a:lnTo>
                  <a:lnTo>
                    <a:pt x="6759" y="3367"/>
                  </a:lnTo>
                  <a:lnTo>
                    <a:pt x="6694" y="3244"/>
                  </a:lnTo>
                  <a:lnTo>
                    <a:pt x="6564" y="3145"/>
                  </a:lnTo>
                  <a:lnTo>
                    <a:pt x="6503" y="3162"/>
                  </a:lnTo>
                  <a:lnTo>
                    <a:pt x="6417" y="3281"/>
                  </a:lnTo>
                  <a:lnTo>
                    <a:pt x="6308" y="3357"/>
                  </a:lnTo>
                  <a:lnTo>
                    <a:pt x="6308" y="3439"/>
                  </a:lnTo>
                  <a:lnTo>
                    <a:pt x="6346" y="3531"/>
                  </a:lnTo>
                  <a:lnTo>
                    <a:pt x="6335" y="3623"/>
                  </a:lnTo>
                  <a:lnTo>
                    <a:pt x="6253" y="3616"/>
                  </a:lnTo>
                  <a:lnTo>
                    <a:pt x="6194" y="3493"/>
                  </a:lnTo>
                  <a:lnTo>
                    <a:pt x="6102" y="3367"/>
                  </a:lnTo>
                  <a:lnTo>
                    <a:pt x="6003" y="3281"/>
                  </a:lnTo>
                  <a:lnTo>
                    <a:pt x="5917" y="3145"/>
                  </a:lnTo>
                  <a:lnTo>
                    <a:pt x="5845" y="3107"/>
                  </a:lnTo>
                  <a:lnTo>
                    <a:pt x="5705" y="3107"/>
                  </a:lnTo>
                  <a:lnTo>
                    <a:pt x="5596" y="3107"/>
                  </a:lnTo>
                  <a:lnTo>
                    <a:pt x="5521" y="3162"/>
                  </a:lnTo>
                  <a:lnTo>
                    <a:pt x="5449" y="3059"/>
                  </a:lnTo>
                  <a:lnTo>
                    <a:pt x="5364" y="3015"/>
                  </a:lnTo>
                  <a:lnTo>
                    <a:pt x="5254" y="2923"/>
                  </a:lnTo>
                  <a:lnTo>
                    <a:pt x="5336" y="3059"/>
                  </a:lnTo>
                  <a:lnTo>
                    <a:pt x="5456" y="3117"/>
                  </a:lnTo>
                  <a:lnTo>
                    <a:pt x="5541" y="3244"/>
                  </a:lnTo>
                  <a:lnTo>
                    <a:pt x="5511" y="3357"/>
                  </a:lnTo>
                  <a:lnTo>
                    <a:pt x="5428" y="3422"/>
                  </a:lnTo>
                  <a:lnTo>
                    <a:pt x="5299" y="3439"/>
                  </a:lnTo>
                  <a:lnTo>
                    <a:pt x="5199" y="3493"/>
                  </a:lnTo>
                  <a:lnTo>
                    <a:pt x="5124" y="3596"/>
                  </a:lnTo>
                  <a:lnTo>
                    <a:pt x="5059" y="3644"/>
                  </a:lnTo>
                  <a:lnTo>
                    <a:pt x="5042" y="3524"/>
                  </a:lnTo>
                  <a:lnTo>
                    <a:pt x="4967" y="3357"/>
                  </a:lnTo>
                  <a:lnTo>
                    <a:pt x="4892" y="3264"/>
                  </a:lnTo>
                  <a:lnTo>
                    <a:pt x="4892" y="3162"/>
                  </a:lnTo>
                  <a:lnTo>
                    <a:pt x="4820" y="3179"/>
                  </a:lnTo>
                  <a:lnTo>
                    <a:pt x="4847" y="3336"/>
                  </a:lnTo>
                  <a:lnTo>
                    <a:pt x="4923" y="3466"/>
                  </a:lnTo>
                  <a:lnTo>
                    <a:pt x="4923" y="3589"/>
                  </a:lnTo>
                  <a:lnTo>
                    <a:pt x="5032" y="3633"/>
                  </a:lnTo>
                  <a:lnTo>
                    <a:pt x="5059" y="3715"/>
                  </a:lnTo>
                  <a:lnTo>
                    <a:pt x="5179" y="3688"/>
                  </a:lnTo>
                  <a:lnTo>
                    <a:pt x="5271" y="3671"/>
                  </a:lnTo>
                  <a:lnTo>
                    <a:pt x="5391" y="3616"/>
                  </a:lnTo>
                  <a:lnTo>
                    <a:pt x="5346" y="3763"/>
                  </a:lnTo>
                  <a:lnTo>
                    <a:pt x="5254" y="3948"/>
                  </a:lnTo>
                  <a:lnTo>
                    <a:pt x="5179" y="4061"/>
                  </a:lnTo>
                  <a:lnTo>
                    <a:pt x="5097" y="4170"/>
                  </a:lnTo>
                  <a:lnTo>
                    <a:pt x="5042" y="4262"/>
                  </a:lnTo>
                  <a:lnTo>
                    <a:pt x="5022" y="4474"/>
                  </a:lnTo>
                  <a:lnTo>
                    <a:pt x="5005" y="4632"/>
                  </a:lnTo>
                  <a:lnTo>
                    <a:pt x="5015" y="4773"/>
                  </a:lnTo>
                  <a:lnTo>
                    <a:pt x="5032" y="4913"/>
                  </a:lnTo>
                  <a:lnTo>
                    <a:pt x="5032" y="4947"/>
                  </a:lnTo>
                  <a:lnTo>
                    <a:pt x="5124" y="4940"/>
                  </a:lnTo>
                  <a:lnTo>
                    <a:pt x="5135" y="4810"/>
                  </a:lnTo>
                  <a:lnTo>
                    <a:pt x="5227" y="4708"/>
                  </a:lnTo>
                  <a:lnTo>
                    <a:pt x="5336" y="4632"/>
                  </a:lnTo>
                  <a:lnTo>
                    <a:pt x="5357" y="4762"/>
                  </a:lnTo>
                  <a:lnTo>
                    <a:pt x="5346" y="4882"/>
                  </a:lnTo>
                  <a:lnTo>
                    <a:pt x="5292" y="4947"/>
                  </a:lnTo>
                  <a:lnTo>
                    <a:pt x="5299" y="5012"/>
                  </a:lnTo>
                  <a:lnTo>
                    <a:pt x="5264" y="5179"/>
                  </a:lnTo>
                  <a:lnTo>
                    <a:pt x="5234" y="5261"/>
                  </a:lnTo>
                  <a:lnTo>
                    <a:pt x="5169" y="5282"/>
                  </a:lnTo>
                  <a:lnTo>
                    <a:pt x="5107" y="5207"/>
                  </a:lnTo>
                  <a:lnTo>
                    <a:pt x="5135" y="5087"/>
                  </a:lnTo>
                  <a:lnTo>
                    <a:pt x="5152" y="5032"/>
                  </a:lnTo>
                  <a:lnTo>
                    <a:pt x="5114" y="4947"/>
                  </a:lnTo>
                  <a:lnTo>
                    <a:pt x="5022" y="4957"/>
                  </a:lnTo>
                  <a:lnTo>
                    <a:pt x="4984" y="5077"/>
                  </a:lnTo>
                  <a:lnTo>
                    <a:pt x="4858" y="5131"/>
                  </a:lnTo>
                  <a:lnTo>
                    <a:pt x="4772" y="5207"/>
                  </a:lnTo>
                  <a:lnTo>
                    <a:pt x="4793" y="5336"/>
                  </a:lnTo>
                  <a:lnTo>
                    <a:pt x="4772" y="5477"/>
                  </a:lnTo>
                  <a:lnTo>
                    <a:pt x="4738" y="5634"/>
                  </a:lnTo>
                  <a:lnTo>
                    <a:pt x="4550" y="5808"/>
                  </a:lnTo>
                  <a:lnTo>
                    <a:pt x="4468" y="5825"/>
                  </a:lnTo>
                  <a:lnTo>
                    <a:pt x="4424" y="5699"/>
                  </a:lnTo>
                  <a:lnTo>
                    <a:pt x="4311" y="5634"/>
                  </a:lnTo>
                  <a:lnTo>
                    <a:pt x="4256" y="5586"/>
                  </a:lnTo>
                  <a:lnTo>
                    <a:pt x="4147" y="5374"/>
                  </a:lnTo>
                  <a:lnTo>
                    <a:pt x="4054" y="5272"/>
                  </a:lnTo>
                  <a:lnTo>
                    <a:pt x="3996" y="5169"/>
                  </a:lnTo>
                  <a:lnTo>
                    <a:pt x="3952" y="5060"/>
                  </a:lnTo>
                  <a:lnTo>
                    <a:pt x="3942" y="4913"/>
                  </a:lnTo>
                  <a:lnTo>
                    <a:pt x="3860" y="4810"/>
                  </a:lnTo>
                  <a:lnTo>
                    <a:pt x="3832" y="4725"/>
                  </a:lnTo>
                  <a:lnTo>
                    <a:pt x="3877" y="4605"/>
                  </a:lnTo>
                  <a:lnTo>
                    <a:pt x="3877" y="4502"/>
                  </a:lnTo>
                  <a:lnTo>
                    <a:pt x="3805" y="4437"/>
                  </a:lnTo>
                  <a:lnTo>
                    <a:pt x="3675" y="4430"/>
                  </a:lnTo>
                  <a:lnTo>
                    <a:pt x="3562" y="4375"/>
                  </a:lnTo>
                  <a:lnTo>
                    <a:pt x="3518" y="4430"/>
                  </a:lnTo>
                  <a:lnTo>
                    <a:pt x="3425" y="4437"/>
                  </a:lnTo>
                  <a:lnTo>
                    <a:pt x="3343" y="4375"/>
                  </a:lnTo>
                  <a:lnTo>
                    <a:pt x="3268" y="4300"/>
                  </a:lnTo>
                  <a:lnTo>
                    <a:pt x="3166" y="4290"/>
                  </a:lnTo>
                  <a:lnTo>
                    <a:pt x="3056" y="4245"/>
                  </a:lnTo>
                  <a:lnTo>
                    <a:pt x="2964" y="4160"/>
                  </a:lnTo>
                  <a:lnTo>
                    <a:pt x="2944" y="3996"/>
                  </a:lnTo>
                  <a:lnTo>
                    <a:pt x="2937" y="3866"/>
                  </a:lnTo>
                  <a:lnTo>
                    <a:pt x="3019" y="3791"/>
                  </a:lnTo>
                  <a:lnTo>
                    <a:pt x="3008" y="3709"/>
                  </a:lnTo>
                  <a:lnTo>
                    <a:pt x="2971" y="3558"/>
                  </a:lnTo>
                  <a:lnTo>
                    <a:pt x="3002" y="3432"/>
                  </a:lnTo>
                  <a:lnTo>
                    <a:pt x="2964" y="3292"/>
                  </a:lnTo>
                  <a:lnTo>
                    <a:pt x="3056" y="3189"/>
                  </a:lnTo>
                  <a:lnTo>
                    <a:pt x="3128" y="3124"/>
                  </a:lnTo>
                  <a:lnTo>
                    <a:pt x="3214" y="3117"/>
                  </a:lnTo>
                  <a:lnTo>
                    <a:pt x="3203" y="3015"/>
                  </a:lnTo>
                  <a:lnTo>
                    <a:pt x="3251" y="2923"/>
                  </a:lnTo>
                  <a:lnTo>
                    <a:pt x="3333" y="2858"/>
                  </a:lnTo>
                  <a:lnTo>
                    <a:pt x="3436" y="2912"/>
                  </a:lnTo>
                  <a:lnTo>
                    <a:pt x="3555" y="2940"/>
                  </a:lnTo>
                  <a:lnTo>
                    <a:pt x="3702" y="2923"/>
                  </a:lnTo>
                  <a:lnTo>
                    <a:pt x="3812" y="2923"/>
                  </a:lnTo>
                  <a:lnTo>
                    <a:pt x="3870" y="2929"/>
                  </a:lnTo>
                  <a:lnTo>
                    <a:pt x="3897" y="3032"/>
                  </a:lnTo>
                  <a:lnTo>
                    <a:pt x="4017" y="3052"/>
                  </a:lnTo>
                  <a:lnTo>
                    <a:pt x="4126" y="3107"/>
                  </a:lnTo>
                  <a:lnTo>
                    <a:pt x="4191" y="3087"/>
                  </a:lnTo>
                  <a:lnTo>
                    <a:pt x="4229" y="3022"/>
                  </a:lnTo>
                  <a:lnTo>
                    <a:pt x="4266" y="2950"/>
                  </a:lnTo>
                  <a:lnTo>
                    <a:pt x="4365" y="2977"/>
                  </a:lnTo>
                  <a:lnTo>
                    <a:pt x="4488" y="3032"/>
                  </a:lnTo>
                  <a:lnTo>
                    <a:pt x="4625" y="3052"/>
                  </a:lnTo>
                  <a:lnTo>
                    <a:pt x="4718" y="3059"/>
                  </a:lnTo>
                  <a:lnTo>
                    <a:pt x="4820" y="3052"/>
                  </a:lnTo>
                  <a:lnTo>
                    <a:pt x="4892" y="2977"/>
                  </a:lnTo>
                  <a:lnTo>
                    <a:pt x="4940" y="2875"/>
                  </a:lnTo>
                  <a:lnTo>
                    <a:pt x="4967" y="2800"/>
                  </a:lnTo>
                  <a:lnTo>
                    <a:pt x="4940" y="2782"/>
                  </a:lnTo>
                  <a:lnTo>
                    <a:pt x="4875" y="2707"/>
                  </a:lnTo>
                  <a:lnTo>
                    <a:pt x="4810" y="2728"/>
                  </a:lnTo>
                  <a:lnTo>
                    <a:pt x="4700" y="2728"/>
                  </a:lnTo>
                  <a:lnTo>
                    <a:pt x="4615" y="2700"/>
                  </a:lnTo>
                  <a:lnTo>
                    <a:pt x="4608" y="2608"/>
                  </a:lnTo>
                  <a:lnTo>
                    <a:pt x="4550" y="2581"/>
                  </a:lnTo>
                  <a:lnTo>
                    <a:pt x="4523" y="2608"/>
                  </a:lnTo>
                  <a:lnTo>
                    <a:pt x="4543" y="2700"/>
                  </a:lnTo>
                  <a:lnTo>
                    <a:pt x="4506" y="2772"/>
                  </a:lnTo>
                  <a:lnTo>
                    <a:pt x="4403" y="2755"/>
                  </a:lnTo>
                  <a:lnTo>
                    <a:pt x="4359" y="2680"/>
                  </a:lnTo>
                  <a:lnTo>
                    <a:pt x="4338" y="2598"/>
                  </a:lnTo>
                  <a:lnTo>
                    <a:pt x="4338" y="2468"/>
                  </a:lnTo>
                  <a:lnTo>
                    <a:pt x="4273" y="2441"/>
                  </a:lnTo>
                  <a:lnTo>
                    <a:pt x="4239" y="2516"/>
                  </a:lnTo>
                  <a:lnTo>
                    <a:pt x="4256" y="2608"/>
                  </a:lnTo>
                  <a:lnTo>
                    <a:pt x="4304" y="2680"/>
                  </a:lnTo>
                  <a:lnTo>
                    <a:pt x="4359" y="2745"/>
                  </a:lnTo>
                  <a:lnTo>
                    <a:pt x="4304" y="2830"/>
                  </a:lnTo>
                  <a:lnTo>
                    <a:pt x="4229" y="2875"/>
                  </a:lnTo>
                  <a:lnTo>
                    <a:pt x="4136" y="2858"/>
                  </a:lnTo>
                  <a:lnTo>
                    <a:pt x="4136" y="2929"/>
                  </a:lnTo>
                  <a:lnTo>
                    <a:pt x="4082" y="2977"/>
                  </a:lnTo>
                  <a:lnTo>
                    <a:pt x="4007" y="2875"/>
                  </a:lnTo>
                  <a:lnTo>
                    <a:pt x="4017" y="2810"/>
                  </a:lnTo>
                  <a:lnTo>
                    <a:pt x="4116" y="2858"/>
                  </a:lnTo>
                  <a:lnTo>
                    <a:pt x="4174" y="2858"/>
                  </a:lnTo>
                  <a:lnTo>
                    <a:pt x="4256" y="2782"/>
                  </a:lnTo>
                  <a:lnTo>
                    <a:pt x="4229" y="2700"/>
                  </a:lnTo>
                  <a:lnTo>
                    <a:pt x="4147" y="2625"/>
                  </a:lnTo>
                  <a:lnTo>
                    <a:pt x="4082" y="2581"/>
                  </a:lnTo>
                  <a:lnTo>
                    <a:pt x="4007" y="2478"/>
                  </a:lnTo>
                  <a:lnTo>
                    <a:pt x="3914" y="2413"/>
                  </a:lnTo>
                  <a:lnTo>
                    <a:pt x="3914" y="2516"/>
                  </a:lnTo>
                  <a:lnTo>
                    <a:pt x="3962" y="2581"/>
                  </a:lnTo>
                  <a:lnTo>
                    <a:pt x="3952" y="2700"/>
                  </a:lnTo>
                  <a:lnTo>
                    <a:pt x="3952" y="2782"/>
                  </a:lnTo>
                  <a:lnTo>
                    <a:pt x="3860" y="2718"/>
                  </a:lnTo>
                  <a:lnTo>
                    <a:pt x="3839" y="2642"/>
                  </a:lnTo>
                  <a:lnTo>
                    <a:pt x="3877" y="2598"/>
                  </a:lnTo>
                  <a:lnTo>
                    <a:pt x="3870" y="2533"/>
                  </a:lnTo>
                  <a:lnTo>
                    <a:pt x="3925" y="2506"/>
                  </a:lnTo>
                  <a:lnTo>
                    <a:pt x="3925" y="2413"/>
                  </a:lnTo>
                  <a:lnTo>
                    <a:pt x="3839" y="2430"/>
                  </a:lnTo>
                  <a:lnTo>
                    <a:pt x="3778" y="2516"/>
                  </a:lnTo>
                  <a:lnTo>
                    <a:pt x="3702" y="2478"/>
                  </a:lnTo>
                  <a:lnTo>
                    <a:pt x="3562" y="2543"/>
                  </a:lnTo>
                  <a:lnTo>
                    <a:pt x="3545" y="2663"/>
                  </a:lnTo>
                  <a:lnTo>
                    <a:pt x="3453" y="2745"/>
                  </a:lnTo>
                  <a:lnTo>
                    <a:pt x="3343" y="2800"/>
                  </a:lnTo>
                  <a:lnTo>
                    <a:pt x="3231" y="2810"/>
                  </a:lnTo>
                  <a:lnTo>
                    <a:pt x="3128" y="2782"/>
                  </a:lnTo>
                  <a:lnTo>
                    <a:pt x="3063" y="2718"/>
                  </a:lnTo>
                  <a:lnTo>
                    <a:pt x="3121" y="2663"/>
                  </a:lnTo>
                  <a:lnTo>
                    <a:pt x="3063" y="2581"/>
                  </a:lnTo>
                  <a:lnTo>
                    <a:pt x="3138" y="2523"/>
                  </a:lnTo>
                  <a:lnTo>
                    <a:pt x="3149" y="2451"/>
                  </a:lnTo>
                  <a:lnTo>
                    <a:pt x="3149" y="2348"/>
                  </a:lnTo>
                  <a:lnTo>
                    <a:pt x="3251" y="2256"/>
                  </a:lnTo>
                  <a:lnTo>
                    <a:pt x="3388" y="2294"/>
                  </a:lnTo>
                  <a:lnTo>
                    <a:pt x="3535" y="2328"/>
                  </a:lnTo>
                  <a:lnTo>
                    <a:pt x="3600" y="2273"/>
                  </a:lnTo>
                  <a:lnTo>
                    <a:pt x="3600" y="2171"/>
                  </a:lnTo>
                  <a:lnTo>
                    <a:pt x="3528" y="2099"/>
                  </a:lnTo>
                  <a:lnTo>
                    <a:pt x="3415" y="2034"/>
                  </a:lnTo>
                  <a:lnTo>
                    <a:pt x="3463" y="1996"/>
                  </a:lnTo>
                  <a:lnTo>
                    <a:pt x="3583" y="1942"/>
                  </a:lnTo>
                  <a:lnTo>
                    <a:pt x="3610" y="1921"/>
                  </a:lnTo>
                  <a:lnTo>
                    <a:pt x="3562" y="1914"/>
                  </a:lnTo>
                  <a:lnTo>
                    <a:pt x="3470" y="1921"/>
                  </a:lnTo>
                  <a:lnTo>
                    <a:pt x="3388" y="1942"/>
                  </a:lnTo>
                  <a:lnTo>
                    <a:pt x="3333" y="1969"/>
                  </a:lnTo>
                  <a:lnTo>
                    <a:pt x="3371" y="1894"/>
                  </a:lnTo>
                  <a:lnTo>
                    <a:pt x="3388" y="1802"/>
                  </a:lnTo>
                  <a:lnTo>
                    <a:pt x="3425" y="1747"/>
                  </a:lnTo>
                  <a:lnTo>
                    <a:pt x="3443" y="1692"/>
                  </a:lnTo>
                  <a:lnTo>
                    <a:pt x="3398" y="1617"/>
                  </a:lnTo>
                  <a:lnTo>
                    <a:pt x="3333" y="1665"/>
                  </a:lnTo>
                  <a:lnTo>
                    <a:pt x="3343" y="1730"/>
                  </a:lnTo>
                  <a:lnTo>
                    <a:pt x="3333" y="1812"/>
                  </a:lnTo>
                  <a:lnTo>
                    <a:pt x="3296" y="1921"/>
                  </a:lnTo>
                  <a:lnTo>
                    <a:pt x="3203" y="1914"/>
                  </a:lnTo>
                  <a:lnTo>
                    <a:pt x="3166" y="1812"/>
                  </a:lnTo>
                  <a:lnTo>
                    <a:pt x="3111" y="1709"/>
                  </a:lnTo>
                  <a:lnTo>
                    <a:pt x="3214" y="1692"/>
                  </a:lnTo>
                  <a:lnTo>
                    <a:pt x="3258" y="1638"/>
                  </a:lnTo>
                  <a:lnTo>
                    <a:pt x="3306" y="1627"/>
                  </a:lnTo>
                  <a:lnTo>
                    <a:pt x="3306" y="1562"/>
                  </a:lnTo>
                  <a:lnTo>
                    <a:pt x="3278" y="1507"/>
                  </a:lnTo>
                  <a:lnTo>
                    <a:pt x="3361" y="1459"/>
                  </a:lnTo>
                  <a:lnTo>
                    <a:pt x="3443" y="1414"/>
                  </a:lnTo>
                  <a:lnTo>
                    <a:pt x="3507" y="1442"/>
                  </a:lnTo>
                  <a:lnTo>
                    <a:pt x="3528" y="1542"/>
                  </a:lnTo>
                  <a:lnTo>
                    <a:pt x="3555" y="1665"/>
                  </a:lnTo>
                  <a:lnTo>
                    <a:pt x="3620" y="1720"/>
                  </a:lnTo>
                  <a:lnTo>
                    <a:pt x="3637" y="1812"/>
                  </a:lnTo>
                  <a:lnTo>
                    <a:pt x="3610" y="1887"/>
                  </a:lnTo>
                  <a:lnTo>
                    <a:pt x="3600" y="1931"/>
                  </a:lnTo>
                  <a:lnTo>
                    <a:pt x="3675" y="1914"/>
                  </a:lnTo>
                  <a:lnTo>
                    <a:pt x="3767" y="1867"/>
                  </a:lnTo>
                  <a:lnTo>
                    <a:pt x="3805" y="1730"/>
                  </a:lnTo>
                  <a:lnTo>
                    <a:pt x="3897" y="1730"/>
                  </a:lnTo>
                  <a:lnTo>
                    <a:pt x="3942" y="1709"/>
                  </a:lnTo>
                  <a:lnTo>
                    <a:pt x="3931" y="1617"/>
                  </a:lnTo>
                  <a:lnTo>
                    <a:pt x="3877" y="1525"/>
                  </a:lnTo>
                  <a:lnTo>
                    <a:pt x="3962" y="1525"/>
                  </a:lnTo>
                  <a:lnTo>
                    <a:pt x="4054" y="1617"/>
                  </a:lnTo>
                  <a:lnTo>
                    <a:pt x="4136" y="1692"/>
                  </a:lnTo>
                  <a:lnTo>
                    <a:pt x="4218" y="1692"/>
                  </a:lnTo>
                  <a:lnTo>
                    <a:pt x="4321" y="1638"/>
                  </a:lnTo>
                  <a:lnTo>
                    <a:pt x="4396" y="1535"/>
                  </a:lnTo>
                  <a:lnTo>
                    <a:pt x="4441" y="1442"/>
                  </a:lnTo>
                  <a:lnTo>
                    <a:pt x="4608" y="1476"/>
                  </a:lnTo>
                  <a:lnTo>
                    <a:pt x="4458" y="1394"/>
                  </a:lnTo>
                  <a:lnTo>
                    <a:pt x="4359" y="1414"/>
                  </a:lnTo>
                  <a:lnTo>
                    <a:pt x="4338" y="1285"/>
                  </a:lnTo>
                  <a:lnTo>
                    <a:pt x="4338" y="1209"/>
                  </a:lnTo>
                  <a:lnTo>
                    <a:pt x="4451" y="1162"/>
                  </a:lnTo>
                  <a:lnTo>
                    <a:pt x="4468" y="1100"/>
                  </a:lnTo>
                  <a:lnTo>
                    <a:pt x="4396" y="1134"/>
                  </a:lnTo>
                  <a:lnTo>
                    <a:pt x="4304" y="1199"/>
                  </a:lnTo>
                  <a:lnTo>
                    <a:pt x="4201" y="1209"/>
                  </a:lnTo>
                  <a:lnTo>
                    <a:pt x="4239" y="1329"/>
                  </a:lnTo>
                  <a:lnTo>
                    <a:pt x="4229" y="1431"/>
                  </a:lnTo>
                  <a:lnTo>
                    <a:pt x="4229" y="1514"/>
                  </a:lnTo>
                  <a:lnTo>
                    <a:pt x="4147" y="1562"/>
                  </a:lnTo>
                  <a:lnTo>
                    <a:pt x="4061" y="1600"/>
                  </a:lnTo>
                  <a:lnTo>
                    <a:pt x="4017" y="1525"/>
                  </a:lnTo>
                  <a:lnTo>
                    <a:pt x="4024" y="1442"/>
                  </a:lnTo>
                  <a:lnTo>
                    <a:pt x="4034" y="1394"/>
                  </a:lnTo>
                  <a:lnTo>
                    <a:pt x="3942" y="1431"/>
                  </a:lnTo>
                  <a:lnTo>
                    <a:pt x="3849" y="1384"/>
                  </a:lnTo>
                  <a:lnTo>
                    <a:pt x="3805" y="1312"/>
                  </a:lnTo>
                  <a:lnTo>
                    <a:pt x="3832" y="1209"/>
                  </a:lnTo>
                  <a:lnTo>
                    <a:pt x="3812" y="1199"/>
                  </a:lnTo>
                  <a:lnTo>
                    <a:pt x="3832" y="1192"/>
                  </a:lnTo>
                  <a:lnTo>
                    <a:pt x="3839" y="1182"/>
                  </a:lnTo>
                  <a:lnTo>
                    <a:pt x="2759" y="1182"/>
                  </a:lnTo>
                  <a:lnTo>
                    <a:pt x="2704" y="1257"/>
                  </a:lnTo>
                  <a:lnTo>
                    <a:pt x="2612" y="1302"/>
                  </a:lnTo>
                  <a:lnTo>
                    <a:pt x="2520" y="1264"/>
                  </a:lnTo>
                  <a:lnTo>
                    <a:pt x="2475" y="1199"/>
                  </a:lnTo>
                  <a:lnTo>
                    <a:pt x="2475" y="1127"/>
                  </a:lnTo>
                  <a:lnTo>
                    <a:pt x="2503" y="1117"/>
                  </a:lnTo>
                  <a:lnTo>
                    <a:pt x="2270" y="1117"/>
                  </a:lnTo>
                  <a:lnTo>
                    <a:pt x="2205" y="1127"/>
                  </a:lnTo>
                  <a:lnTo>
                    <a:pt x="2133" y="1264"/>
                  </a:lnTo>
                  <a:lnTo>
                    <a:pt x="2106" y="1356"/>
                  </a:lnTo>
                  <a:lnTo>
                    <a:pt x="2057" y="1459"/>
                  </a:lnTo>
                  <a:lnTo>
                    <a:pt x="1955" y="1431"/>
                  </a:lnTo>
                  <a:lnTo>
                    <a:pt x="1873" y="1356"/>
                  </a:lnTo>
                  <a:lnTo>
                    <a:pt x="1862" y="1209"/>
                  </a:lnTo>
                  <a:lnTo>
                    <a:pt x="1835" y="1052"/>
                  </a:lnTo>
                  <a:lnTo>
                    <a:pt x="1763" y="960"/>
                  </a:lnTo>
                  <a:lnTo>
                    <a:pt x="1791" y="895"/>
                  </a:lnTo>
                  <a:lnTo>
                    <a:pt x="1726" y="775"/>
                  </a:lnTo>
                  <a:lnTo>
                    <a:pt x="1671" y="721"/>
                  </a:lnTo>
                  <a:lnTo>
                    <a:pt x="1606" y="786"/>
                  </a:lnTo>
                  <a:lnTo>
                    <a:pt x="1503" y="710"/>
                  </a:lnTo>
                  <a:lnTo>
                    <a:pt x="1439" y="755"/>
                  </a:lnTo>
                  <a:lnTo>
                    <a:pt x="1374" y="803"/>
                  </a:lnTo>
                  <a:lnTo>
                    <a:pt x="1254" y="840"/>
                  </a:lnTo>
                  <a:lnTo>
                    <a:pt x="1189" y="933"/>
                  </a:lnTo>
                  <a:lnTo>
                    <a:pt x="1336" y="950"/>
                  </a:lnTo>
                  <a:lnTo>
                    <a:pt x="1449" y="1004"/>
                  </a:lnTo>
                  <a:lnTo>
                    <a:pt x="1521" y="1100"/>
                  </a:lnTo>
                  <a:lnTo>
                    <a:pt x="1606" y="1192"/>
                  </a:lnTo>
                  <a:lnTo>
                    <a:pt x="1613" y="1339"/>
                  </a:lnTo>
                  <a:lnTo>
                    <a:pt x="1568" y="1476"/>
                  </a:lnTo>
                  <a:lnTo>
                    <a:pt x="1503" y="1525"/>
                  </a:lnTo>
                  <a:lnTo>
                    <a:pt x="1401" y="1431"/>
                  </a:lnTo>
                  <a:lnTo>
                    <a:pt x="1227" y="1421"/>
                  </a:lnTo>
                  <a:lnTo>
                    <a:pt x="1227" y="1356"/>
                  </a:lnTo>
                  <a:lnTo>
                    <a:pt x="1374" y="1312"/>
                  </a:lnTo>
                  <a:lnTo>
                    <a:pt x="1391" y="1226"/>
                  </a:lnTo>
                  <a:lnTo>
                    <a:pt x="1363" y="1199"/>
                  </a:lnTo>
                  <a:lnTo>
                    <a:pt x="1319" y="1285"/>
                  </a:lnTo>
                  <a:lnTo>
                    <a:pt x="1237" y="1220"/>
                  </a:lnTo>
                  <a:lnTo>
                    <a:pt x="1346" y="1134"/>
                  </a:lnTo>
                  <a:lnTo>
                    <a:pt x="1401" y="1209"/>
                  </a:lnTo>
                  <a:lnTo>
                    <a:pt x="1319" y="1127"/>
                  </a:lnTo>
                  <a:lnTo>
                    <a:pt x="1227" y="1127"/>
                  </a:lnTo>
                  <a:lnTo>
                    <a:pt x="1151" y="1192"/>
                  </a:lnTo>
                  <a:lnTo>
                    <a:pt x="1172" y="1285"/>
                  </a:lnTo>
                  <a:lnTo>
                    <a:pt x="1172" y="1394"/>
                  </a:lnTo>
                  <a:lnTo>
                    <a:pt x="1145" y="1496"/>
                  </a:lnTo>
                  <a:lnTo>
                    <a:pt x="1172" y="1590"/>
                  </a:lnTo>
                  <a:lnTo>
                    <a:pt x="1069" y="1514"/>
                  </a:lnTo>
                  <a:lnTo>
                    <a:pt x="1032" y="1562"/>
                  </a:lnTo>
                  <a:lnTo>
                    <a:pt x="1004" y="1507"/>
                  </a:lnTo>
                  <a:lnTo>
                    <a:pt x="1032" y="1414"/>
                  </a:lnTo>
                  <a:lnTo>
                    <a:pt x="950" y="1442"/>
                  </a:lnTo>
                  <a:lnTo>
                    <a:pt x="922" y="1525"/>
                  </a:lnTo>
                  <a:lnTo>
                    <a:pt x="847" y="1600"/>
                  </a:lnTo>
                  <a:lnTo>
                    <a:pt x="847" y="1672"/>
                  </a:lnTo>
                  <a:lnTo>
                    <a:pt x="738" y="1672"/>
                  </a:lnTo>
                  <a:lnTo>
                    <a:pt x="700" y="1720"/>
                  </a:lnTo>
                  <a:lnTo>
                    <a:pt x="738" y="1829"/>
                  </a:lnTo>
                  <a:lnTo>
                    <a:pt x="857" y="1894"/>
                  </a:lnTo>
                  <a:lnTo>
                    <a:pt x="922" y="1942"/>
                  </a:lnTo>
                  <a:lnTo>
                    <a:pt x="895" y="2044"/>
                  </a:lnTo>
                  <a:lnTo>
                    <a:pt x="967" y="2024"/>
                  </a:lnTo>
                  <a:lnTo>
                    <a:pt x="987" y="1921"/>
                  </a:lnTo>
                  <a:lnTo>
                    <a:pt x="1114" y="1921"/>
                  </a:lnTo>
                  <a:lnTo>
                    <a:pt x="1189" y="1829"/>
                  </a:lnTo>
                  <a:lnTo>
                    <a:pt x="1199" y="1730"/>
                  </a:lnTo>
                  <a:lnTo>
                    <a:pt x="1189" y="1562"/>
                  </a:lnTo>
                  <a:lnTo>
                    <a:pt x="1227" y="1459"/>
                  </a:lnTo>
                  <a:lnTo>
                    <a:pt x="1292" y="1394"/>
                  </a:lnTo>
                  <a:lnTo>
                    <a:pt x="1391" y="1459"/>
                  </a:lnTo>
                  <a:lnTo>
                    <a:pt x="1514" y="1525"/>
                  </a:lnTo>
                  <a:lnTo>
                    <a:pt x="1558" y="1562"/>
                  </a:lnTo>
                  <a:lnTo>
                    <a:pt x="1623" y="1672"/>
                  </a:lnTo>
                  <a:lnTo>
                    <a:pt x="1705" y="1720"/>
                  </a:lnTo>
                  <a:lnTo>
                    <a:pt x="1732" y="1829"/>
                  </a:lnTo>
                  <a:lnTo>
                    <a:pt x="1753" y="1914"/>
                  </a:lnTo>
                  <a:lnTo>
                    <a:pt x="1835" y="1969"/>
                  </a:lnTo>
                  <a:lnTo>
                    <a:pt x="1763" y="2061"/>
                  </a:lnTo>
                  <a:lnTo>
                    <a:pt x="1650" y="2061"/>
                  </a:lnTo>
                  <a:lnTo>
                    <a:pt x="1541" y="2116"/>
                  </a:lnTo>
                  <a:lnTo>
                    <a:pt x="1449" y="2191"/>
                  </a:lnTo>
                  <a:lnTo>
                    <a:pt x="1336" y="2246"/>
                  </a:lnTo>
                  <a:lnTo>
                    <a:pt x="1227" y="2348"/>
                  </a:lnTo>
                  <a:lnTo>
                    <a:pt x="1124" y="2430"/>
                  </a:lnTo>
                  <a:lnTo>
                    <a:pt x="1114" y="2516"/>
                  </a:lnTo>
                  <a:lnTo>
                    <a:pt x="1114" y="2581"/>
                  </a:lnTo>
                  <a:lnTo>
                    <a:pt x="1032" y="2636"/>
                  </a:lnTo>
                  <a:lnTo>
                    <a:pt x="1042" y="2707"/>
                  </a:lnTo>
                  <a:lnTo>
                    <a:pt x="957" y="2800"/>
                  </a:lnTo>
                  <a:lnTo>
                    <a:pt x="957" y="2923"/>
                  </a:lnTo>
                  <a:lnTo>
                    <a:pt x="1022" y="3015"/>
                  </a:lnTo>
                  <a:lnTo>
                    <a:pt x="987" y="3087"/>
                  </a:lnTo>
                  <a:lnTo>
                    <a:pt x="895" y="3032"/>
                  </a:lnTo>
                  <a:lnTo>
                    <a:pt x="885" y="2923"/>
                  </a:lnTo>
                  <a:lnTo>
                    <a:pt x="803" y="2858"/>
                  </a:lnTo>
                  <a:lnTo>
                    <a:pt x="728" y="2875"/>
                  </a:lnTo>
                  <a:lnTo>
                    <a:pt x="700" y="2950"/>
                  </a:lnTo>
                  <a:lnTo>
                    <a:pt x="618" y="2923"/>
                  </a:lnTo>
                  <a:lnTo>
                    <a:pt x="526" y="2923"/>
                  </a:lnTo>
                  <a:lnTo>
                    <a:pt x="430" y="3005"/>
                  </a:lnTo>
                  <a:lnTo>
                    <a:pt x="396" y="3087"/>
                  </a:lnTo>
                  <a:lnTo>
                    <a:pt x="369" y="3162"/>
                  </a:lnTo>
                  <a:lnTo>
                    <a:pt x="358" y="3281"/>
                  </a:lnTo>
                  <a:lnTo>
                    <a:pt x="430" y="3367"/>
                  </a:lnTo>
                  <a:lnTo>
                    <a:pt x="516" y="3309"/>
                  </a:lnTo>
                  <a:lnTo>
                    <a:pt x="598" y="3309"/>
                  </a:lnTo>
                  <a:lnTo>
                    <a:pt x="618" y="3422"/>
                  </a:lnTo>
                  <a:lnTo>
                    <a:pt x="543" y="3493"/>
                  </a:lnTo>
                  <a:lnTo>
                    <a:pt x="652" y="3514"/>
                  </a:lnTo>
                  <a:lnTo>
                    <a:pt x="700" y="3531"/>
                  </a:lnTo>
                  <a:lnTo>
                    <a:pt x="728" y="3633"/>
                  </a:lnTo>
                  <a:lnTo>
                    <a:pt x="820" y="3688"/>
                  </a:lnTo>
                  <a:lnTo>
                    <a:pt x="929" y="3763"/>
                  </a:lnTo>
                  <a:lnTo>
                    <a:pt x="1004" y="3709"/>
                  </a:lnTo>
                  <a:lnTo>
                    <a:pt x="1172" y="3763"/>
                  </a:lnTo>
                  <a:lnTo>
                    <a:pt x="1298" y="3774"/>
                  </a:lnTo>
                  <a:lnTo>
                    <a:pt x="1483" y="3866"/>
                  </a:lnTo>
                  <a:lnTo>
                    <a:pt x="1521" y="3948"/>
                  </a:lnTo>
                  <a:lnTo>
                    <a:pt x="1623" y="4040"/>
                  </a:lnTo>
                  <a:lnTo>
                    <a:pt x="1678" y="4170"/>
                  </a:lnTo>
                  <a:lnTo>
                    <a:pt x="1808" y="4245"/>
                  </a:lnTo>
                  <a:lnTo>
                    <a:pt x="1927" y="4252"/>
                  </a:lnTo>
                  <a:lnTo>
                    <a:pt x="2040" y="4355"/>
                  </a:lnTo>
                  <a:lnTo>
                    <a:pt x="2198" y="4355"/>
                  </a:lnTo>
                  <a:lnTo>
                    <a:pt x="2205" y="4447"/>
                  </a:lnTo>
                  <a:lnTo>
                    <a:pt x="2205" y="4539"/>
                  </a:lnTo>
                  <a:lnTo>
                    <a:pt x="2133" y="4632"/>
                  </a:lnTo>
                  <a:lnTo>
                    <a:pt x="2123" y="4755"/>
                  </a:lnTo>
                  <a:lnTo>
                    <a:pt x="2106" y="4865"/>
                  </a:lnTo>
                  <a:lnTo>
                    <a:pt x="2020" y="4974"/>
                  </a:lnTo>
                  <a:lnTo>
                    <a:pt x="1900" y="5039"/>
                  </a:lnTo>
                  <a:lnTo>
                    <a:pt x="1797" y="5060"/>
                  </a:lnTo>
                  <a:lnTo>
                    <a:pt x="1845" y="5162"/>
                  </a:lnTo>
                  <a:lnTo>
                    <a:pt x="1753" y="5261"/>
                  </a:lnTo>
                  <a:lnTo>
                    <a:pt x="1671" y="5354"/>
                  </a:lnTo>
                  <a:lnTo>
                    <a:pt x="1568" y="5418"/>
                  </a:lnTo>
                  <a:lnTo>
                    <a:pt x="1503" y="5548"/>
                  </a:lnTo>
                  <a:lnTo>
                    <a:pt x="1439" y="5641"/>
                  </a:lnTo>
                  <a:lnTo>
                    <a:pt x="1346" y="5688"/>
                  </a:lnTo>
                  <a:lnTo>
                    <a:pt x="1292" y="5771"/>
                  </a:lnTo>
                  <a:lnTo>
                    <a:pt x="1237" y="5856"/>
                  </a:lnTo>
                  <a:lnTo>
                    <a:pt x="1199" y="5928"/>
                  </a:lnTo>
                  <a:lnTo>
                    <a:pt x="1199" y="6020"/>
                  </a:lnTo>
                  <a:lnTo>
                    <a:pt x="1151" y="6078"/>
                  </a:lnTo>
                  <a:lnTo>
                    <a:pt x="1097" y="5965"/>
                  </a:lnTo>
                  <a:lnTo>
                    <a:pt x="1004" y="5873"/>
                  </a:lnTo>
                  <a:lnTo>
                    <a:pt x="957" y="5753"/>
                  </a:lnTo>
                  <a:lnTo>
                    <a:pt x="957" y="5641"/>
                  </a:lnTo>
                  <a:lnTo>
                    <a:pt x="950" y="5511"/>
                  </a:lnTo>
                  <a:lnTo>
                    <a:pt x="1004" y="5336"/>
                  </a:lnTo>
                  <a:lnTo>
                    <a:pt x="1004" y="5162"/>
                  </a:lnTo>
                  <a:lnTo>
                    <a:pt x="987" y="4995"/>
                  </a:lnTo>
                  <a:lnTo>
                    <a:pt x="950" y="4865"/>
                  </a:lnTo>
                  <a:lnTo>
                    <a:pt x="847" y="4755"/>
                  </a:lnTo>
                  <a:lnTo>
                    <a:pt x="738" y="4660"/>
                  </a:lnTo>
                  <a:lnTo>
                    <a:pt x="652" y="4532"/>
                  </a:lnTo>
                  <a:lnTo>
                    <a:pt x="635" y="4375"/>
                  </a:lnTo>
                  <a:lnTo>
                    <a:pt x="700" y="4273"/>
                  </a:lnTo>
                  <a:lnTo>
                    <a:pt x="700" y="4180"/>
                  </a:lnTo>
                  <a:lnTo>
                    <a:pt x="738" y="4030"/>
                  </a:lnTo>
                  <a:lnTo>
                    <a:pt x="810" y="3921"/>
                  </a:lnTo>
                  <a:lnTo>
                    <a:pt x="895" y="3845"/>
                  </a:lnTo>
                  <a:lnTo>
                    <a:pt x="939" y="3774"/>
                  </a:lnTo>
                  <a:lnTo>
                    <a:pt x="820" y="3746"/>
                  </a:lnTo>
                  <a:lnTo>
                    <a:pt x="755" y="3763"/>
                  </a:lnTo>
                  <a:lnTo>
                    <a:pt x="690" y="3726"/>
                  </a:lnTo>
                  <a:lnTo>
                    <a:pt x="598" y="3661"/>
                  </a:lnTo>
                  <a:lnTo>
                    <a:pt x="488" y="3589"/>
                  </a:lnTo>
                  <a:lnTo>
                    <a:pt x="440" y="3493"/>
                  </a:lnTo>
                  <a:lnTo>
                    <a:pt x="396" y="3459"/>
                  </a:lnTo>
                  <a:lnTo>
                    <a:pt x="348" y="3493"/>
                  </a:lnTo>
                  <a:lnTo>
                    <a:pt x="256" y="3439"/>
                  </a:lnTo>
                  <a:lnTo>
                    <a:pt x="191" y="3357"/>
                  </a:lnTo>
                  <a:lnTo>
                    <a:pt x="146" y="3281"/>
                  </a:lnTo>
                  <a:lnTo>
                    <a:pt x="146" y="3179"/>
                  </a:lnTo>
                  <a:lnTo>
                    <a:pt x="126" y="3117"/>
                  </a:lnTo>
                  <a:lnTo>
                    <a:pt x="44" y="3042"/>
                  </a:lnTo>
                  <a:lnTo>
                    <a:pt x="44" y="3107"/>
                  </a:lnTo>
                  <a:lnTo>
                    <a:pt x="99" y="3189"/>
                  </a:lnTo>
                  <a:lnTo>
                    <a:pt x="99" y="3264"/>
                  </a:lnTo>
                  <a:lnTo>
                    <a:pt x="27" y="3210"/>
                  </a:lnTo>
                  <a:lnTo>
                    <a:pt x="0" y="3080"/>
                  </a:lnTo>
                  <a:lnTo>
                    <a:pt x="27" y="2977"/>
                  </a:lnTo>
                  <a:lnTo>
                    <a:pt x="27" y="2830"/>
                  </a:lnTo>
                  <a:lnTo>
                    <a:pt x="44" y="2581"/>
                  </a:lnTo>
                  <a:lnTo>
                    <a:pt x="71" y="2328"/>
                  </a:lnTo>
                  <a:lnTo>
                    <a:pt x="136" y="2061"/>
                  </a:lnTo>
                  <a:lnTo>
                    <a:pt x="229" y="1764"/>
                  </a:lnTo>
                  <a:lnTo>
                    <a:pt x="375" y="1394"/>
                  </a:lnTo>
                  <a:lnTo>
                    <a:pt x="505" y="1107"/>
                  </a:lnTo>
                  <a:lnTo>
                    <a:pt x="717" y="755"/>
                  </a:lnTo>
                  <a:lnTo>
                    <a:pt x="847" y="553"/>
                  </a:lnTo>
                  <a:close/>
                </a:path>
              </a:pathLst>
            </a:custGeom>
            <a:solidFill>
              <a:srgbClr val="7d9cd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08160" y="1476360"/>
              <a:ext cx="3007080" cy="2198880"/>
            </a:xfrm>
            <a:custGeom>
              <a:avLst/>
              <a:gdLst/>
              <a:ahLst/>
              <a:rect l="0" t="0" r="r" b="b"/>
              <a:pathLst>
                <a:path w="8353" h="6108">
                  <a:moveTo>
                    <a:pt x="902" y="533"/>
                  </a:moveTo>
                  <a:lnTo>
                    <a:pt x="1004" y="543"/>
                  </a:lnTo>
                  <a:lnTo>
                    <a:pt x="1059" y="468"/>
                  </a:lnTo>
                  <a:lnTo>
                    <a:pt x="1144" y="430"/>
                  </a:lnTo>
                  <a:lnTo>
                    <a:pt x="1209" y="365"/>
                  </a:lnTo>
                  <a:lnTo>
                    <a:pt x="1302" y="300"/>
                  </a:lnTo>
                  <a:lnTo>
                    <a:pt x="1373" y="273"/>
                  </a:lnTo>
                  <a:lnTo>
                    <a:pt x="1459" y="246"/>
                  </a:lnTo>
                  <a:lnTo>
                    <a:pt x="1530" y="246"/>
                  </a:lnTo>
                  <a:lnTo>
                    <a:pt x="1568" y="218"/>
                  </a:lnTo>
                  <a:lnTo>
                    <a:pt x="1643" y="218"/>
                  </a:lnTo>
                  <a:lnTo>
                    <a:pt x="1681" y="174"/>
                  </a:lnTo>
                  <a:lnTo>
                    <a:pt x="1763" y="191"/>
                  </a:lnTo>
                  <a:lnTo>
                    <a:pt x="1845" y="164"/>
                  </a:lnTo>
                  <a:lnTo>
                    <a:pt x="1920" y="174"/>
                  </a:lnTo>
                  <a:lnTo>
                    <a:pt x="1947" y="208"/>
                  </a:lnTo>
                  <a:lnTo>
                    <a:pt x="1920" y="246"/>
                  </a:lnTo>
                  <a:lnTo>
                    <a:pt x="1845" y="218"/>
                  </a:lnTo>
                  <a:lnTo>
                    <a:pt x="1780" y="266"/>
                  </a:lnTo>
                  <a:lnTo>
                    <a:pt x="1736" y="311"/>
                  </a:lnTo>
                  <a:lnTo>
                    <a:pt x="1725" y="375"/>
                  </a:lnTo>
                  <a:lnTo>
                    <a:pt x="1650" y="386"/>
                  </a:lnTo>
                  <a:lnTo>
                    <a:pt x="1568" y="430"/>
                  </a:lnTo>
                  <a:lnTo>
                    <a:pt x="1558" y="522"/>
                  </a:lnTo>
                  <a:lnTo>
                    <a:pt x="1551" y="587"/>
                  </a:lnTo>
                  <a:lnTo>
                    <a:pt x="1530" y="663"/>
                  </a:lnTo>
                  <a:lnTo>
                    <a:pt x="1558" y="707"/>
                  </a:lnTo>
                  <a:lnTo>
                    <a:pt x="1616" y="550"/>
                  </a:lnTo>
                  <a:lnTo>
                    <a:pt x="1650" y="533"/>
                  </a:lnTo>
                  <a:lnTo>
                    <a:pt x="1725" y="451"/>
                  </a:lnTo>
                  <a:lnTo>
                    <a:pt x="1773" y="358"/>
                  </a:lnTo>
                  <a:lnTo>
                    <a:pt x="1872" y="338"/>
                  </a:lnTo>
                  <a:lnTo>
                    <a:pt x="1964" y="283"/>
                  </a:lnTo>
                  <a:lnTo>
                    <a:pt x="2029" y="201"/>
                  </a:lnTo>
                  <a:lnTo>
                    <a:pt x="2115" y="201"/>
                  </a:lnTo>
                  <a:lnTo>
                    <a:pt x="2279" y="191"/>
                  </a:lnTo>
                  <a:lnTo>
                    <a:pt x="2457" y="164"/>
                  </a:lnTo>
                  <a:lnTo>
                    <a:pt x="2528" y="146"/>
                  </a:lnTo>
                  <a:lnTo>
                    <a:pt x="2604" y="146"/>
                  </a:lnTo>
                  <a:lnTo>
                    <a:pt x="2686" y="146"/>
                  </a:lnTo>
                  <a:lnTo>
                    <a:pt x="2761" y="174"/>
                  </a:lnTo>
                  <a:lnTo>
                    <a:pt x="2853" y="256"/>
                  </a:lnTo>
                  <a:lnTo>
                    <a:pt x="2805" y="266"/>
                  </a:lnTo>
                  <a:lnTo>
                    <a:pt x="2706" y="293"/>
                  </a:lnTo>
                  <a:lnTo>
                    <a:pt x="2713" y="375"/>
                  </a:lnTo>
                  <a:lnTo>
                    <a:pt x="2798" y="386"/>
                  </a:lnTo>
                  <a:lnTo>
                    <a:pt x="2843" y="386"/>
                  </a:lnTo>
                  <a:lnTo>
                    <a:pt x="2815" y="457"/>
                  </a:lnTo>
                  <a:lnTo>
                    <a:pt x="2713" y="543"/>
                  </a:lnTo>
                  <a:lnTo>
                    <a:pt x="2658" y="550"/>
                  </a:lnTo>
                  <a:lnTo>
                    <a:pt x="2679" y="615"/>
                  </a:lnTo>
                  <a:lnTo>
                    <a:pt x="2696" y="642"/>
                  </a:lnTo>
                  <a:lnTo>
                    <a:pt x="2658" y="707"/>
                  </a:lnTo>
                  <a:lnTo>
                    <a:pt x="2706" y="772"/>
                  </a:lnTo>
                  <a:lnTo>
                    <a:pt x="2614" y="810"/>
                  </a:lnTo>
                  <a:lnTo>
                    <a:pt x="2528" y="837"/>
                  </a:lnTo>
                  <a:lnTo>
                    <a:pt x="2511" y="936"/>
                  </a:lnTo>
                  <a:lnTo>
                    <a:pt x="2457" y="1021"/>
                  </a:lnTo>
                  <a:lnTo>
                    <a:pt x="2392" y="1086"/>
                  </a:lnTo>
                  <a:lnTo>
                    <a:pt x="2316" y="1121"/>
                  </a:lnTo>
                  <a:lnTo>
                    <a:pt x="2511" y="1121"/>
                  </a:lnTo>
                  <a:lnTo>
                    <a:pt x="2614" y="1121"/>
                  </a:lnTo>
                  <a:lnTo>
                    <a:pt x="2679" y="1141"/>
                  </a:lnTo>
                  <a:lnTo>
                    <a:pt x="2761" y="1103"/>
                  </a:lnTo>
                  <a:lnTo>
                    <a:pt x="2798" y="1185"/>
                  </a:lnTo>
                  <a:lnTo>
                    <a:pt x="3878" y="1185"/>
                  </a:lnTo>
                  <a:lnTo>
                    <a:pt x="3926" y="1121"/>
                  </a:lnTo>
                  <a:lnTo>
                    <a:pt x="4025" y="1038"/>
                  </a:lnTo>
                  <a:lnTo>
                    <a:pt x="4090" y="929"/>
                  </a:lnTo>
                  <a:lnTo>
                    <a:pt x="4183" y="827"/>
                  </a:lnTo>
                  <a:lnTo>
                    <a:pt x="4221" y="724"/>
                  </a:lnTo>
                  <a:lnTo>
                    <a:pt x="4269" y="625"/>
                  </a:lnTo>
                  <a:lnTo>
                    <a:pt x="4351" y="587"/>
                  </a:lnTo>
                  <a:lnTo>
                    <a:pt x="4368" y="533"/>
                  </a:lnTo>
                  <a:lnTo>
                    <a:pt x="4443" y="550"/>
                  </a:lnTo>
                  <a:lnTo>
                    <a:pt x="4518" y="495"/>
                  </a:lnTo>
                  <a:lnTo>
                    <a:pt x="4552" y="543"/>
                  </a:lnTo>
                  <a:lnTo>
                    <a:pt x="4638" y="577"/>
                  </a:lnTo>
                  <a:lnTo>
                    <a:pt x="4720" y="598"/>
                  </a:lnTo>
                  <a:lnTo>
                    <a:pt x="4802" y="625"/>
                  </a:lnTo>
                  <a:lnTo>
                    <a:pt x="4860" y="587"/>
                  </a:lnTo>
                  <a:lnTo>
                    <a:pt x="4932" y="632"/>
                  </a:lnTo>
                  <a:lnTo>
                    <a:pt x="4980" y="707"/>
                  </a:lnTo>
                  <a:lnTo>
                    <a:pt x="5072" y="724"/>
                  </a:lnTo>
                  <a:lnTo>
                    <a:pt x="5109" y="810"/>
                  </a:lnTo>
                  <a:lnTo>
                    <a:pt x="5062" y="854"/>
                  </a:lnTo>
                  <a:lnTo>
                    <a:pt x="4942" y="837"/>
                  </a:lnTo>
                  <a:lnTo>
                    <a:pt x="4850" y="799"/>
                  </a:lnTo>
                  <a:lnTo>
                    <a:pt x="4829" y="864"/>
                  </a:lnTo>
                  <a:lnTo>
                    <a:pt x="4959" y="874"/>
                  </a:lnTo>
                  <a:lnTo>
                    <a:pt x="5062" y="946"/>
                  </a:lnTo>
                  <a:lnTo>
                    <a:pt x="5209" y="909"/>
                  </a:lnTo>
                  <a:lnTo>
                    <a:pt x="5236" y="782"/>
                  </a:lnTo>
                  <a:lnTo>
                    <a:pt x="5311" y="690"/>
                  </a:lnTo>
                  <a:lnTo>
                    <a:pt x="5386" y="717"/>
                  </a:lnTo>
                  <a:lnTo>
                    <a:pt x="5366" y="762"/>
                  </a:lnTo>
                  <a:lnTo>
                    <a:pt x="5321" y="810"/>
                  </a:lnTo>
                  <a:lnTo>
                    <a:pt x="5321" y="874"/>
                  </a:lnTo>
                  <a:lnTo>
                    <a:pt x="5414" y="799"/>
                  </a:lnTo>
                  <a:lnTo>
                    <a:pt x="5485" y="724"/>
                  </a:lnTo>
                  <a:lnTo>
                    <a:pt x="5625" y="707"/>
                  </a:lnTo>
                  <a:lnTo>
                    <a:pt x="5793" y="642"/>
                  </a:lnTo>
                  <a:lnTo>
                    <a:pt x="5913" y="587"/>
                  </a:lnTo>
                  <a:lnTo>
                    <a:pt x="5950" y="522"/>
                  </a:lnTo>
                  <a:lnTo>
                    <a:pt x="5848" y="533"/>
                  </a:lnTo>
                  <a:lnTo>
                    <a:pt x="5745" y="457"/>
                  </a:lnTo>
                  <a:lnTo>
                    <a:pt x="5690" y="358"/>
                  </a:lnTo>
                  <a:lnTo>
                    <a:pt x="5745" y="218"/>
                  </a:lnTo>
                  <a:lnTo>
                    <a:pt x="5858" y="126"/>
                  </a:lnTo>
                  <a:lnTo>
                    <a:pt x="5940" y="54"/>
                  </a:lnTo>
                  <a:lnTo>
                    <a:pt x="6059" y="54"/>
                  </a:lnTo>
                  <a:lnTo>
                    <a:pt x="6162" y="0"/>
                  </a:lnTo>
                  <a:lnTo>
                    <a:pt x="6152" y="61"/>
                  </a:lnTo>
                  <a:lnTo>
                    <a:pt x="6070" y="82"/>
                  </a:lnTo>
                  <a:lnTo>
                    <a:pt x="6042" y="109"/>
                  </a:lnTo>
                  <a:lnTo>
                    <a:pt x="5957" y="119"/>
                  </a:lnTo>
                  <a:lnTo>
                    <a:pt x="5902" y="191"/>
                  </a:lnTo>
                  <a:lnTo>
                    <a:pt x="5865" y="273"/>
                  </a:lnTo>
                  <a:lnTo>
                    <a:pt x="5848" y="358"/>
                  </a:lnTo>
                  <a:lnTo>
                    <a:pt x="5940" y="495"/>
                  </a:lnTo>
                  <a:lnTo>
                    <a:pt x="6077" y="560"/>
                  </a:lnTo>
                  <a:lnTo>
                    <a:pt x="6189" y="615"/>
                  </a:lnTo>
                  <a:lnTo>
                    <a:pt x="6227" y="632"/>
                  </a:lnTo>
                  <a:lnTo>
                    <a:pt x="6282" y="707"/>
                  </a:lnTo>
                  <a:lnTo>
                    <a:pt x="6319" y="690"/>
                  </a:lnTo>
                  <a:lnTo>
                    <a:pt x="6319" y="632"/>
                  </a:lnTo>
                  <a:lnTo>
                    <a:pt x="6299" y="550"/>
                  </a:lnTo>
                  <a:lnTo>
                    <a:pt x="6265" y="505"/>
                  </a:lnTo>
                  <a:lnTo>
                    <a:pt x="6244" y="451"/>
                  </a:lnTo>
                  <a:lnTo>
                    <a:pt x="6282" y="348"/>
                  </a:lnTo>
                  <a:lnTo>
                    <a:pt x="6384" y="348"/>
                  </a:lnTo>
                  <a:lnTo>
                    <a:pt x="6466" y="348"/>
                  </a:lnTo>
                  <a:lnTo>
                    <a:pt x="6504" y="386"/>
                  </a:lnTo>
                  <a:lnTo>
                    <a:pt x="6521" y="478"/>
                  </a:lnTo>
                  <a:lnTo>
                    <a:pt x="6569" y="560"/>
                  </a:lnTo>
                  <a:lnTo>
                    <a:pt x="6586" y="478"/>
                  </a:lnTo>
                  <a:lnTo>
                    <a:pt x="6661" y="430"/>
                  </a:lnTo>
                  <a:lnTo>
                    <a:pt x="6733" y="430"/>
                  </a:lnTo>
                  <a:lnTo>
                    <a:pt x="6808" y="430"/>
                  </a:lnTo>
                  <a:lnTo>
                    <a:pt x="6883" y="440"/>
                  </a:lnTo>
                  <a:lnTo>
                    <a:pt x="6883" y="348"/>
                  </a:lnTo>
                  <a:lnTo>
                    <a:pt x="6938" y="358"/>
                  </a:lnTo>
                  <a:lnTo>
                    <a:pt x="6982" y="413"/>
                  </a:lnTo>
                  <a:lnTo>
                    <a:pt x="7074" y="413"/>
                  </a:lnTo>
                  <a:lnTo>
                    <a:pt x="7150" y="375"/>
                  </a:lnTo>
                  <a:lnTo>
                    <a:pt x="7232" y="451"/>
                  </a:lnTo>
                  <a:lnTo>
                    <a:pt x="7334" y="543"/>
                  </a:lnTo>
                  <a:lnTo>
                    <a:pt x="7447" y="560"/>
                  </a:lnTo>
                  <a:lnTo>
                    <a:pt x="7604" y="625"/>
                  </a:lnTo>
                  <a:lnTo>
                    <a:pt x="7631" y="615"/>
                  </a:lnTo>
                  <a:lnTo>
                    <a:pt x="7741" y="799"/>
                  </a:lnTo>
                  <a:lnTo>
                    <a:pt x="7908" y="1086"/>
                  </a:lnTo>
                  <a:lnTo>
                    <a:pt x="8018" y="1250"/>
                  </a:lnTo>
                  <a:lnTo>
                    <a:pt x="8072" y="1425"/>
                  </a:lnTo>
                  <a:lnTo>
                    <a:pt x="8001" y="1462"/>
                  </a:lnTo>
                  <a:lnTo>
                    <a:pt x="7963" y="1537"/>
                  </a:lnTo>
                  <a:lnTo>
                    <a:pt x="8001" y="1674"/>
                  </a:lnTo>
                  <a:lnTo>
                    <a:pt x="8045" y="1804"/>
                  </a:lnTo>
                  <a:lnTo>
                    <a:pt x="8103" y="1804"/>
                  </a:lnTo>
                  <a:lnTo>
                    <a:pt x="8110" y="1702"/>
                  </a:lnTo>
                  <a:lnTo>
                    <a:pt x="8158" y="1674"/>
                  </a:lnTo>
                  <a:lnTo>
                    <a:pt x="8185" y="1766"/>
                  </a:lnTo>
                  <a:lnTo>
                    <a:pt x="8120" y="1804"/>
                  </a:lnTo>
                  <a:lnTo>
                    <a:pt x="8229" y="1903"/>
                  </a:lnTo>
                  <a:lnTo>
                    <a:pt x="8147" y="2006"/>
                  </a:lnTo>
                  <a:lnTo>
                    <a:pt x="8130" y="2071"/>
                  </a:lnTo>
                  <a:lnTo>
                    <a:pt x="8267" y="2098"/>
                  </a:lnTo>
                  <a:lnTo>
                    <a:pt x="8212" y="2180"/>
                  </a:lnTo>
                  <a:lnTo>
                    <a:pt x="8137" y="2207"/>
                  </a:lnTo>
                  <a:lnTo>
                    <a:pt x="8137" y="2337"/>
                  </a:lnTo>
                  <a:lnTo>
                    <a:pt x="8212" y="2447"/>
                  </a:lnTo>
                  <a:lnTo>
                    <a:pt x="8137" y="2477"/>
                  </a:lnTo>
                  <a:lnTo>
                    <a:pt x="8018" y="2440"/>
                  </a:lnTo>
                  <a:lnTo>
                    <a:pt x="8065" y="2375"/>
                  </a:lnTo>
                  <a:lnTo>
                    <a:pt x="8147" y="2375"/>
                  </a:lnTo>
                  <a:lnTo>
                    <a:pt x="8147" y="2245"/>
                  </a:lnTo>
                  <a:lnTo>
                    <a:pt x="8055" y="2283"/>
                  </a:lnTo>
                  <a:lnTo>
                    <a:pt x="8045" y="2173"/>
                  </a:lnTo>
                  <a:lnTo>
                    <a:pt x="8130" y="2098"/>
                  </a:lnTo>
                  <a:lnTo>
                    <a:pt x="8147" y="2023"/>
                  </a:lnTo>
                  <a:lnTo>
                    <a:pt x="8110" y="1913"/>
                  </a:lnTo>
                  <a:lnTo>
                    <a:pt x="8103" y="1794"/>
                  </a:lnTo>
                  <a:lnTo>
                    <a:pt x="8038" y="1848"/>
                  </a:lnTo>
                  <a:lnTo>
                    <a:pt x="7973" y="1941"/>
                  </a:lnTo>
                  <a:lnTo>
                    <a:pt x="7871" y="2023"/>
                  </a:lnTo>
                  <a:lnTo>
                    <a:pt x="7908" y="2146"/>
                  </a:lnTo>
                  <a:lnTo>
                    <a:pt x="7898" y="2245"/>
                  </a:lnTo>
                  <a:lnTo>
                    <a:pt x="7898" y="2310"/>
                  </a:lnTo>
                  <a:lnTo>
                    <a:pt x="7946" y="2402"/>
                  </a:lnTo>
                  <a:lnTo>
                    <a:pt x="7908" y="2429"/>
                  </a:lnTo>
                  <a:lnTo>
                    <a:pt x="7806" y="2327"/>
                  </a:lnTo>
                  <a:lnTo>
                    <a:pt x="7741" y="2207"/>
                  </a:lnTo>
                  <a:lnTo>
                    <a:pt x="7713" y="2125"/>
                  </a:lnTo>
                  <a:lnTo>
                    <a:pt x="7659" y="2081"/>
                  </a:lnTo>
                  <a:lnTo>
                    <a:pt x="7584" y="2146"/>
                  </a:lnTo>
                  <a:lnTo>
                    <a:pt x="7539" y="2228"/>
                  </a:lnTo>
                  <a:lnTo>
                    <a:pt x="7638" y="2327"/>
                  </a:lnTo>
                  <a:lnTo>
                    <a:pt x="7696" y="2429"/>
                  </a:lnTo>
                  <a:lnTo>
                    <a:pt x="7713" y="2566"/>
                  </a:lnTo>
                  <a:lnTo>
                    <a:pt x="7703" y="2689"/>
                  </a:lnTo>
                  <a:lnTo>
                    <a:pt x="7703" y="2809"/>
                  </a:lnTo>
                  <a:lnTo>
                    <a:pt x="7751" y="2723"/>
                  </a:lnTo>
                  <a:lnTo>
                    <a:pt x="7833" y="2734"/>
                  </a:lnTo>
                  <a:lnTo>
                    <a:pt x="7860" y="2816"/>
                  </a:lnTo>
                  <a:lnTo>
                    <a:pt x="7795" y="2908"/>
                  </a:lnTo>
                  <a:lnTo>
                    <a:pt x="7724" y="2901"/>
                  </a:lnTo>
                  <a:lnTo>
                    <a:pt x="7713" y="2973"/>
                  </a:lnTo>
                  <a:lnTo>
                    <a:pt x="7768" y="3028"/>
                  </a:lnTo>
                  <a:lnTo>
                    <a:pt x="7741" y="3121"/>
                  </a:lnTo>
                  <a:lnTo>
                    <a:pt x="7823" y="3203"/>
                  </a:lnTo>
                  <a:lnTo>
                    <a:pt x="7768" y="3268"/>
                  </a:lnTo>
                  <a:lnTo>
                    <a:pt x="7854" y="3353"/>
                  </a:lnTo>
                  <a:lnTo>
                    <a:pt x="7795" y="3435"/>
                  </a:lnTo>
                  <a:lnTo>
                    <a:pt x="7888" y="3387"/>
                  </a:lnTo>
                  <a:lnTo>
                    <a:pt x="7860" y="3473"/>
                  </a:lnTo>
                  <a:lnTo>
                    <a:pt x="8028" y="3435"/>
                  </a:lnTo>
                  <a:lnTo>
                    <a:pt x="7973" y="3538"/>
                  </a:lnTo>
                  <a:lnTo>
                    <a:pt x="7860" y="3473"/>
                  </a:lnTo>
                  <a:lnTo>
                    <a:pt x="7854" y="3582"/>
                  </a:lnTo>
                  <a:lnTo>
                    <a:pt x="8018" y="3572"/>
                  </a:lnTo>
                  <a:lnTo>
                    <a:pt x="7946" y="3685"/>
                  </a:lnTo>
                  <a:lnTo>
                    <a:pt x="7833" y="3565"/>
                  </a:lnTo>
                  <a:lnTo>
                    <a:pt x="7898" y="3739"/>
                  </a:lnTo>
                  <a:lnTo>
                    <a:pt x="8028" y="3849"/>
                  </a:lnTo>
                  <a:lnTo>
                    <a:pt x="7908" y="3849"/>
                  </a:lnTo>
                  <a:lnTo>
                    <a:pt x="7833" y="3582"/>
                  </a:lnTo>
                  <a:lnTo>
                    <a:pt x="7860" y="3398"/>
                  </a:lnTo>
                  <a:lnTo>
                    <a:pt x="7768" y="3408"/>
                  </a:lnTo>
                  <a:lnTo>
                    <a:pt x="7703" y="3305"/>
                  </a:lnTo>
                  <a:lnTo>
                    <a:pt x="7768" y="3261"/>
                  </a:lnTo>
                  <a:lnTo>
                    <a:pt x="7768" y="3158"/>
                  </a:lnTo>
                  <a:lnTo>
                    <a:pt x="7724" y="2928"/>
                  </a:lnTo>
                  <a:lnTo>
                    <a:pt x="7713" y="2778"/>
                  </a:lnTo>
                  <a:lnTo>
                    <a:pt x="7696" y="2679"/>
                  </a:lnTo>
                  <a:lnTo>
                    <a:pt x="7611" y="2809"/>
                  </a:lnTo>
                  <a:lnTo>
                    <a:pt x="7464" y="2843"/>
                  </a:lnTo>
                  <a:lnTo>
                    <a:pt x="7389" y="2935"/>
                  </a:lnTo>
                  <a:lnTo>
                    <a:pt x="7416" y="3056"/>
                  </a:lnTo>
                  <a:lnTo>
                    <a:pt x="7361" y="3121"/>
                  </a:lnTo>
                  <a:lnTo>
                    <a:pt x="7279" y="3104"/>
                  </a:lnTo>
                  <a:lnTo>
                    <a:pt x="7355" y="3000"/>
                  </a:lnTo>
                  <a:lnTo>
                    <a:pt x="7297" y="2956"/>
                  </a:lnTo>
                  <a:lnTo>
                    <a:pt x="7215" y="3011"/>
                  </a:lnTo>
                  <a:lnTo>
                    <a:pt x="7215" y="3114"/>
                  </a:lnTo>
                  <a:lnTo>
                    <a:pt x="7355" y="3261"/>
                  </a:lnTo>
                  <a:lnTo>
                    <a:pt x="7389" y="3360"/>
                  </a:lnTo>
                  <a:lnTo>
                    <a:pt x="7290" y="3500"/>
                  </a:lnTo>
                  <a:lnTo>
                    <a:pt x="7290" y="3832"/>
                  </a:lnTo>
                  <a:lnTo>
                    <a:pt x="7290" y="3968"/>
                  </a:lnTo>
                  <a:lnTo>
                    <a:pt x="7307" y="4050"/>
                  </a:lnTo>
                  <a:lnTo>
                    <a:pt x="7454" y="4033"/>
                  </a:lnTo>
                  <a:lnTo>
                    <a:pt x="7556" y="4061"/>
                  </a:lnTo>
                  <a:lnTo>
                    <a:pt x="7631" y="3931"/>
                  </a:lnTo>
                  <a:lnTo>
                    <a:pt x="7713" y="3931"/>
                  </a:lnTo>
                  <a:lnTo>
                    <a:pt x="7686" y="4006"/>
                  </a:lnTo>
                  <a:lnTo>
                    <a:pt x="7768" y="4098"/>
                  </a:lnTo>
                  <a:lnTo>
                    <a:pt x="7888" y="4126"/>
                  </a:lnTo>
                  <a:lnTo>
                    <a:pt x="7871" y="4033"/>
                  </a:lnTo>
                  <a:lnTo>
                    <a:pt x="8137" y="4033"/>
                  </a:lnTo>
                  <a:lnTo>
                    <a:pt x="8045" y="4071"/>
                  </a:lnTo>
                  <a:lnTo>
                    <a:pt x="8038" y="4143"/>
                  </a:lnTo>
                  <a:lnTo>
                    <a:pt x="8158" y="4180"/>
                  </a:lnTo>
                  <a:lnTo>
                    <a:pt x="8277" y="4218"/>
                  </a:lnTo>
                  <a:lnTo>
                    <a:pt x="8332" y="4088"/>
                  </a:lnTo>
                  <a:lnTo>
                    <a:pt x="8353" y="4006"/>
                  </a:lnTo>
                  <a:lnTo>
                    <a:pt x="8267" y="4023"/>
                  </a:lnTo>
                  <a:lnTo>
                    <a:pt x="8185" y="3979"/>
                  </a:lnTo>
                  <a:lnTo>
                    <a:pt x="8137" y="3951"/>
                  </a:lnTo>
                  <a:lnTo>
                    <a:pt x="8110" y="4061"/>
                  </a:lnTo>
                  <a:lnTo>
                    <a:pt x="8110" y="4050"/>
                  </a:lnTo>
                  <a:lnTo>
                    <a:pt x="7854" y="4050"/>
                  </a:lnTo>
                  <a:lnTo>
                    <a:pt x="7795" y="3924"/>
                  </a:lnTo>
                  <a:lnTo>
                    <a:pt x="7724" y="3941"/>
                  </a:lnTo>
                  <a:lnTo>
                    <a:pt x="7638" y="3931"/>
                  </a:lnTo>
                  <a:lnTo>
                    <a:pt x="7611" y="3784"/>
                  </a:lnTo>
                  <a:lnTo>
                    <a:pt x="7567" y="3719"/>
                  </a:lnTo>
                  <a:lnTo>
                    <a:pt x="7649" y="3664"/>
                  </a:lnTo>
                  <a:lnTo>
                    <a:pt x="7649" y="3582"/>
                  </a:lnTo>
                  <a:lnTo>
                    <a:pt x="7529" y="3637"/>
                  </a:lnTo>
                  <a:lnTo>
                    <a:pt x="7447" y="3692"/>
                  </a:lnTo>
                  <a:lnTo>
                    <a:pt x="7389" y="3811"/>
                  </a:lnTo>
                  <a:lnTo>
                    <a:pt x="7290" y="3811"/>
                  </a:lnTo>
                  <a:lnTo>
                    <a:pt x="7290" y="3555"/>
                  </a:lnTo>
                  <a:lnTo>
                    <a:pt x="7225" y="3593"/>
                  </a:lnTo>
                  <a:lnTo>
                    <a:pt x="7150" y="3490"/>
                  </a:lnTo>
                  <a:lnTo>
                    <a:pt x="7068" y="3370"/>
                  </a:lnTo>
                  <a:lnTo>
                    <a:pt x="6948" y="3408"/>
                  </a:lnTo>
                  <a:lnTo>
                    <a:pt x="6938" y="3507"/>
                  </a:lnTo>
                  <a:lnTo>
                    <a:pt x="6992" y="3657"/>
                  </a:lnTo>
                  <a:lnTo>
                    <a:pt x="6992" y="3767"/>
                  </a:lnTo>
                  <a:lnTo>
                    <a:pt x="7074" y="3886"/>
                  </a:lnTo>
                  <a:lnTo>
                    <a:pt x="7122" y="3941"/>
                  </a:lnTo>
                  <a:lnTo>
                    <a:pt x="7030" y="3941"/>
                  </a:lnTo>
                  <a:lnTo>
                    <a:pt x="6965" y="3886"/>
                  </a:lnTo>
                  <a:lnTo>
                    <a:pt x="6917" y="3951"/>
                  </a:lnTo>
                  <a:lnTo>
                    <a:pt x="7047" y="4109"/>
                  </a:lnTo>
                  <a:lnTo>
                    <a:pt x="7150" y="4208"/>
                  </a:lnTo>
                  <a:lnTo>
                    <a:pt x="7242" y="4191"/>
                  </a:lnTo>
                  <a:lnTo>
                    <a:pt x="7355" y="4228"/>
                  </a:lnTo>
                  <a:lnTo>
                    <a:pt x="7491" y="4228"/>
                  </a:lnTo>
                  <a:lnTo>
                    <a:pt x="7611" y="4208"/>
                  </a:lnTo>
                  <a:lnTo>
                    <a:pt x="7724" y="4256"/>
                  </a:lnTo>
                  <a:lnTo>
                    <a:pt x="7696" y="4293"/>
                  </a:lnTo>
                  <a:lnTo>
                    <a:pt x="7567" y="4245"/>
                  </a:lnTo>
                  <a:lnTo>
                    <a:pt x="7567" y="4467"/>
                  </a:lnTo>
                  <a:lnTo>
                    <a:pt x="7659" y="4467"/>
                  </a:lnTo>
                  <a:lnTo>
                    <a:pt x="7713" y="4440"/>
                  </a:lnTo>
                  <a:lnTo>
                    <a:pt x="7724" y="4382"/>
                  </a:lnTo>
                  <a:lnTo>
                    <a:pt x="7833" y="4392"/>
                  </a:lnTo>
                  <a:lnTo>
                    <a:pt x="7963" y="4338"/>
                  </a:lnTo>
                  <a:lnTo>
                    <a:pt x="7953" y="4430"/>
                  </a:lnTo>
                  <a:lnTo>
                    <a:pt x="8001" y="4505"/>
                  </a:lnTo>
                  <a:lnTo>
                    <a:pt x="8065" y="4560"/>
                  </a:lnTo>
                  <a:lnTo>
                    <a:pt x="8137" y="4505"/>
                  </a:lnTo>
                  <a:lnTo>
                    <a:pt x="8130" y="4403"/>
                  </a:lnTo>
                  <a:lnTo>
                    <a:pt x="8137" y="4310"/>
                  </a:lnTo>
                  <a:lnTo>
                    <a:pt x="8185" y="4403"/>
                  </a:lnTo>
                  <a:lnTo>
                    <a:pt x="8212" y="4512"/>
                  </a:lnTo>
                  <a:lnTo>
                    <a:pt x="8110" y="4751"/>
                  </a:lnTo>
                  <a:lnTo>
                    <a:pt x="8001" y="4973"/>
                  </a:lnTo>
                  <a:lnTo>
                    <a:pt x="7898" y="5185"/>
                  </a:lnTo>
                  <a:lnTo>
                    <a:pt x="7768" y="5424"/>
                  </a:lnTo>
                  <a:lnTo>
                    <a:pt x="7686" y="5349"/>
                  </a:lnTo>
                  <a:lnTo>
                    <a:pt x="7567" y="5407"/>
                  </a:lnTo>
                  <a:lnTo>
                    <a:pt x="7529" y="5479"/>
                  </a:lnTo>
                  <a:lnTo>
                    <a:pt x="7447" y="5534"/>
                  </a:lnTo>
                  <a:lnTo>
                    <a:pt x="7297" y="5561"/>
                  </a:lnTo>
                  <a:lnTo>
                    <a:pt x="7204" y="5554"/>
                  </a:lnTo>
                  <a:lnTo>
                    <a:pt x="7232" y="5414"/>
                  </a:lnTo>
                  <a:lnTo>
                    <a:pt x="7225" y="5315"/>
                  </a:lnTo>
                  <a:lnTo>
                    <a:pt x="7290" y="5230"/>
                  </a:lnTo>
                  <a:lnTo>
                    <a:pt x="7279" y="5158"/>
                  </a:lnTo>
                  <a:lnTo>
                    <a:pt x="7167" y="5093"/>
                  </a:lnTo>
                  <a:lnTo>
                    <a:pt x="7187" y="4973"/>
                  </a:lnTo>
                  <a:lnTo>
                    <a:pt x="7215" y="4843"/>
                  </a:lnTo>
                  <a:lnTo>
                    <a:pt x="7317" y="4734"/>
                  </a:lnTo>
                  <a:lnTo>
                    <a:pt x="7454" y="4724"/>
                  </a:lnTo>
                  <a:lnTo>
                    <a:pt x="7481" y="4642"/>
                  </a:lnTo>
                  <a:lnTo>
                    <a:pt x="7447" y="4512"/>
                  </a:lnTo>
                  <a:lnTo>
                    <a:pt x="7529" y="4474"/>
                  </a:lnTo>
                  <a:lnTo>
                    <a:pt x="7567" y="4467"/>
                  </a:lnTo>
                  <a:lnTo>
                    <a:pt x="7567" y="4256"/>
                  </a:lnTo>
                  <a:lnTo>
                    <a:pt x="7454" y="4273"/>
                  </a:lnTo>
                  <a:lnTo>
                    <a:pt x="7355" y="4320"/>
                  </a:lnTo>
                  <a:lnTo>
                    <a:pt x="7252" y="4256"/>
                  </a:lnTo>
                  <a:lnTo>
                    <a:pt x="7139" y="4256"/>
                  </a:lnTo>
                  <a:lnTo>
                    <a:pt x="7003" y="4208"/>
                  </a:lnTo>
                  <a:lnTo>
                    <a:pt x="6917" y="4109"/>
                  </a:lnTo>
                  <a:lnTo>
                    <a:pt x="6873" y="4016"/>
                  </a:lnTo>
                  <a:lnTo>
                    <a:pt x="6798" y="3931"/>
                  </a:lnTo>
                  <a:lnTo>
                    <a:pt x="6873" y="3914"/>
                  </a:lnTo>
                  <a:lnTo>
                    <a:pt x="6917" y="3941"/>
                  </a:lnTo>
                  <a:lnTo>
                    <a:pt x="6975" y="3869"/>
                  </a:lnTo>
                  <a:lnTo>
                    <a:pt x="6948" y="3757"/>
                  </a:lnTo>
                  <a:lnTo>
                    <a:pt x="6873" y="3746"/>
                  </a:lnTo>
                  <a:lnTo>
                    <a:pt x="6825" y="3620"/>
                  </a:lnTo>
                  <a:lnTo>
                    <a:pt x="6863" y="3490"/>
                  </a:lnTo>
                  <a:lnTo>
                    <a:pt x="6917" y="3387"/>
                  </a:lnTo>
                  <a:lnTo>
                    <a:pt x="6900" y="3261"/>
                  </a:lnTo>
                  <a:lnTo>
                    <a:pt x="6863" y="3251"/>
                  </a:lnTo>
                  <a:lnTo>
                    <a:pt x="6798" y="3316"/>
                  </a:lnTo>
                  <a:lnTo>
                    <a:pt x="6791" y="3387"/>
                  </a:lnTo>
                  <a:lnTo>
                    <a:pt x="6716" y="3261"/>
                  </a:lnTo>
                  <a:lnTo>
                    <a:pt x="6606" y="3169"/>
                  </a:lnTo>
                  <a:lnTo>
                    <a:pt x="6521" y="3176"/>
                  </a:lnTo>
                  <a:lnTo>
                    <a:pt x="6449" y="3305"/>
                  </a:lnTo>
                  <a:lnTo>
                    <a:pt x="6336" y="3370"/>
                  </a:lnTo>
                  <a:lnTo>
                    <a:pt x="6336" y="3452"/>
                  </a:lnTo>
                  <a:lnTo>
                    <a:pt x="6374" y="3555"/>
                  </a:lnTo>
                  <a:lnTo>
                    <a:pt x="6364" y="3647"/>
                  </a:lnTo>
                  <a:lnTo>
                    <a:pt x="6282" y="3637"/>
                  </a:lnTo>
                  <a:lnTo>
                    <a:pt x="6217" y="3507"/>
                  </a:lnTo>
                  <a:lnTo>
                    <a:pt x="6124" y="3387"/>
                  </a:lnTo>
                  <a:lnTo>
                    <a:pt x="6022" y="3305"/>
                  </a:lnTo>
                  <a:lnTo>
                    <a:pt x="5950" y="3169"/>
                  </a:lnTo>
                  <a:lnTo>
                    <a:pt x="5875" y="3114"/>
                  </a:lnTo>
                  <a:lnTo>
                    <a:pt x="5735" y="3114"/>
                  </a:lnTo>
                  <a:lnTo>
                    <a:pt x="5625" y="3114"/>
                  </a:lnTo>
                  <a:lnTo>
                    <a:pt x="5550" y="3176"/>
                  </a:lnTo>
                  <a:lnTo>
                    <a:pt x="5479" y="3083"/>
                  </a:lnTo>
                  <a:lnTo>
                    <a:pt x="5393" y="3021"/>
                  </a:lnTo>
                  <a:lnTo>
                    <a:pt x="5284" y="2928"/>
                  </a:lnTo>
                  <a:lnTo>
                    <a:pt x="5366" y="3083"/>
                  </a:lnTo>
                  <a:lnTo>
                    <a:pt x="5485" y="3121"/>
                  </a:lnTo>
                  <a:lnTo>
                    <a:pt x="5571" y="3261"/>
                  </a:lnTo>
                  <a:lnTo>
                    <a:pt x="5543" y="3370"/>
                  </a:lnTo>
                  <a:lnTo>
                    <a:pt x="5458" y="3435"/>
                  </a:lnTo>
                  <a:lnTo>
                    <a:pt x="5328" y="3452"/>
                  </a:lnTo>
                  <a:lnTo>
                    <a:pt x="5229" y="3500"/>
                  </a:lnTo>
                  <a:lnTo>
                    <a:pt x="5154" y="3599"/>
                  </a:lnTo>
                  <a:lnTo>
                    <a:pt x="5109" y="3664"/>
                  </a:lnTo>
                  <a:lnTo>
                    <a:pt x="5072" y="3538"/>
                  </a:lnTo>
                  <a:lnTo>
                    <a:pt x="5017" y="3370"/>
                  </a:lnTo>
                  <a:lnTo>
                    <a:pt x="4932" y="3278"/>
                  </a:lnTo>
                  <a:lnTo>
                    <a:pt x="4932" y="3176"/>
                  </a:lnTo>
                  <a:lnTo>
                    <a:pt x="4860" y="3186"/>
                  </a:lnTo>
                  <a:lnTo>
                    <a:pt x="4877" y="3353"/>
                  </a:lnTo>
                  <a:lnTo>
                    <a:pt x="4952" y="3490"/>
                  </a:lnTo>
                  <a:lnTo>
                    <a:pt x="4952" y="3593"/>
                  </a:lnTo>
                  <a:lnTo>
                    <a:pt x="5062" y="3657"/>
                  </a:lnTo>
                  <a:lnTo>
                    <a:pt x="5109" y="3739"/>
                  </a:lnTo>
                  <a:lnTo>
                    <a:pt x="5219" y="3692"/>
                  </a:lnTo>
                  <a:lnTo>
                    <a:pt x="5311" y="3685"/>
                  </a:lnTo>
                  <a:lnTo>
                    <a:pt x="5431" y="3637"/>
                  </a:lnTo>
                  <a:lnTo>
                    <a:pt x="5376" y="3777"/>
                  </a:lnTo>
                  <a:lnTo>
                    <a:pt x="5284" y="3968"/>
                  </a:lnTo>
                  <a:lnTo>
                    <a:pt x="5219" y="4088"/>
                  </a:lnTo>
                  <a:lnTo>
                    <a:pt x="5127" y="4191"/>
                  </a:lnTo>
                  <a:lnTo>
                    <a:pt x="5072" y="4293"/>
                  </a:lnTo>
                  <a:lnTo>
                    <a:pt x="5051" y="4505"/>
                  </a:lnTo>
                  <a:lnTo>
                    <a:pt x="5034" y="4659"/>
                  </a:lnTo>
                  <a:lnTo>
                    <a:pt x="5045" y="4799"/>
                  </a:lnTo>
                  <a:lnTo>
                    <a:pt x="5062" y="4936"/>
                  </a:lnTo>
                  <a:lnTo>
                    <a:pt x="5062" y="4973"/>
                  </a:lnTo>
                  <a:lnTo>
                    <a:pt x="5154" y="4963"/>
                  </a:lnTo>
                  <a:lnTo>
                    <a:pt x="5164" y="4843"/>
                  </a:lnTo>
                  <a:lnTo>
                    <a:pt x="5267" y="4724"/>
                  </a:lnTo>
                  <a:lnTo>
                    <a:pt x="5366" y="4659"/>
                  </a:lnTo>
                  <a:lnTo>
                    <a:pt x="5386" y="4789"/>
                  </a:lnTo>
                  <a:lnTo>
                    <a:pt x="5376" y="4908"/>
                  </a:lnTo>
                  <a:lnTo>
                    <a:pt x="5321" y="4973"/>
                  </a:lnTo>
                  <a:lnTo>
                    <a:pt x="5328" y="5048"/>
                  </a:lnTo>
                  <a:lnTo>
                    <a:pt x="5294" y="5202"/>
                  </a:lnTo>
                  <a:lnTo>
                    <a:pt x="5273" y="5288"/>
                  </a:lnTo>
                  <a:lnTo>
                    <a:pt x="5209" y="5315"/>
                  </a:lnTo>
                  <a:lnTo>
                    <a:pt x="5137" y="5230"/>
                  </a:lnTo>
                  <a:lnTo>
                    <a:pt x="5164" y="5103"/>
                  </a:lnTo>
                  <a:lnTo>
                    <a:pt x="5191" y="5055"/>
                  </a:lnTo>
                  <a:lnTo>
                    <a:pt x="5144" y="4973"/>
                  </a:lnTo>
                  <a:lnTo>
                    <a:pt x="5051" y="4984"/>
                  </a:lnTo>
                  <a:lnTo>
                    <a:pt x="5024" y="5093"/>
                  </a:lnTo>
                  <a:lnTo>
                    <a:pt x="4894" y="5158"/>
                  </a:lnTo>
                  <a:lnTo>
                    <a:pt x="4812" y="5230"/>
                  </a:lnTo>
                  <a:lnTo>
                    <a:pt x="4822" y="5349"/>
                  </a:lnTo>
                  <a:lnTo>
                    <a:pt x="4812" y="5506"/>
                  </a:lnTo>
                  <a:lnTo>
                    <a:pt x="4775" y="5653"/>
                  </a:lnTo>
                  <a:lnTo>
                    <a:pt x="4600" y="5831"/>
                  </a:lnTo>
                  <a:lnTo>
                    <a:pt x="4518" y="5838"/>
                  </a:lnTo>
                  <a:lnTo>
                    <a:pt x="4453" y="5729"/>
                  </a:lnTo>
                  <a:lnTo>
                    <a:pt x="4351" y="5653"/>
                  </a:lnTo>
                  <a:lnTo>
                    <a:pt x="4296" y="5619"/>
                  </a:lnTo>
                  <a:lnTo>
                    <a:pt x="4194" y="5407"/>
                  </a:lnTo>
                  <a:lnTo>
                    <a:pt x="4100" y="5295"/>
                  </a:lnTo>
                  <a:lnTo>
                    <a:pt x="4025" y="5185"/>
                  </a:lnTo>
                  <a:lnTo>
                    <a:pt x="3988" y="5083"/>
                  </a:lnTo>
                  <a:lnTo>
                    <a:pt x="3981" y="4936"/>
                  </a:lnTo>
                  <a:lnTo>
                    <a:pt x="3895" y="4843"/>
                  </a:lnTo>
                  <a:lnTo>
                    <a:pt x="3868" y="4751"/>
                  </a:lnTo>
                  <a:lnTo>
                    <a:pt x="3926" y="4632"/>
                  </a:lnTo>
                  <a:lnTo>
                    <a:pt x="3926" y="4522"/>
                  </a:lnTo>
                  <a:lnTo>
                    <a:pt x="3841" y="4467"/>
                  </a:lnTo>
                  <a:lnTo>
                    <a:pt x="3711" y="4440"/>
                  </a:lnTo>
                  <a:lnTo>
                    <a:pt x="3612" y="4403"/>
                  </a:lnTo>
                  <a:lnTo>
                    <a:pt x="3554" y="4440"/>
                  </a:lnTo>
                  <a:lnTo>
                    <a:pt x="3461" y="4467"/>
                  </a:lnTo>
                  <a:lnTo>
                    <a:pt x="3379" y="4403"/>
                  </a:lnTo>
                  <a:lnTo>
                    <a:pt x="3304" y="4327"/>
                  </a:lnTo>
                  <a:lnTo>
                    <a:pt x="3205" y="4310"/>
                  </a:lnTo>
                  <a:lnTo>
                    <a:pt x="3102" y="4256"/>
                  </a:lnTo>
                  <a:lnTo>
                    <a:pt x="3010" y="4180"/>
                  </a:lnTo>
                  <a:lnTo>
                    <a:pt x="2983" y="4006"/>
                  </a:lnTo>
                  <a:lnTo>
                    <a:pt x="2973" y="3886"/>
                  </a:lnTo>
                  <a:lnTo>
                    <a:pt x="3055" y="3811"/>
                  </a:lnTo>
                  <a:lnTo>
                    <a:pt x="3048" y="3729"/>
                  </a:lnTo>
                  <a:lnTo>
                    <a:pt x="3020" y="3582"/>
                  </a:lnTo>
                  <a:lnTo>
                    <a:pt x="3027" y="3446"/>
                  </a:lnTo>
                  <a:lnTo>
                    <a:pt x="3010" y="3316"/>
                  </a:lnTo>
                  <a:lnTo>
                    <a:pt x="3102" y="3203"/>
                  </a:lnTo>
                  <a:lnTo>
                    <a:pt x="3178" y="3141"/>
                  </a:lnTo>
                  <a:lnTo>
                    <a:pt x="3260" y="3121"/>
                  </a:lnTo>
                  <a:lnTo>
                    <a:pt x="3232" y="3021"/>
                  </a:lnTo>
                  <a:lnTo>
                    <a:pt x="3287" y="2928"/>
                  </a:lnTo>
                  <a:lnTo>
                    <a:pt x="3369" y="2870"/>
                  </a:lnTo>
                  <a:lnTo>
                    <a:pt x="3472" y="2918"/>
                  </a:lnTo>
                  <a:lnTo>
                    <a:pt x="3601" y="2956"/>
                  </a:lnTo>
                  <a:lnTo>
                    <a:pt x="3731" y="2928"/>
                  </a:lnTo>
                  <a:lnTo>
                    <a:pt x="3851" y="2928"/>
                  </a:lnTo>
                  <a:lnTo>
                    <a:pt x="3906" y="2935"/>
                  </a:lnTo>
                  <a:lnTo>
                    <a:pt x="3933" y="3056"/>
                  </a:lnTo>
                  <a:lnTo>
                    <a:pt x="4046" y="3076"/>
                  </a:lnTo>
                  <a:lnTo>
                    <a:pt x="4155" y="3114"/>
                  </a:lnTo>
                  <a:lnTo>
                    <a:pt x="4221" y="3104"/>
                  </a:lnTo>
                  <a:lnTo>
                    <a:pt x="4269" y="3028"/>
                  </a:lnTo>
                  <a:lnTo>
                    <a:pt x="4303" y="2973"/>
                  </a:lnTo>
                  <a:lnTo>
                    <a:pt x="4405" y="3000"/>
                  </a:lnTo>
                  <a:lnTo>
                    <a:pt x="4525" y="3056"/>
                  </a:lnTo>
                  <a:lnTo>
                    <a:pt x="4655" y="3076"/>
                  </a:lnTo>
                  <a:lnTo>
                    <a:pt x="4747" y="3083"/>
                  </a:lnTo>
                  <a:lnTo>
                    <a:pt x="4860" y="3076"/>
                  </a:lnTo>
                  <a:lnTo>
                    <a:pt x="4932" y="3000"/>
                  </a:lnTo>
                  <a:lnTo>
                    <a:pt x="4969" y="2901"/>
                  </a:lnTo>
                  <a:lnTo>
                    <a:pt x="5017" y="2816"/>
                  </a:lnTo>
                  <a:lnTo>
                    <a:pt x="4969" y="2788"/>
                  </a:lnTo>
                  <a:lnTo>
                    <a:pt x="4915" y="2723"/>
                  </a:lnTo>
                  <a:lnTo>
                    <a:pt x="4850" y="2744"/>
                  </a:lnTo>
                  <a:lnTo>
                    <a:pt x="4730" y="2744"/>
                  </a:lnTo>
                  <a:lnTo>
                    <a:pt x="4645" y="2706"/>
                  </a:lnTo>
                  <a:lnTo>
                    <a:pt x="4638" y="2614"/>
                  </a:lnTo>
                  <a:lnTo>
                    <a:pt x="4600" y="2587"/>
                  </a:lnTo>
                  <a:lnTo>
                    <a:pt x="4552" y="2614"/>
                  </a:lnTo>
                  <a:lnTo>
                    <a:pt x="4573" y="2706"/>
                  </a:lnTo>
                  <a:lnTo>
                    <a:pt x="4535" y="2778"/>
                  </a:lnTo>
                  <a:lnTo>
                    <a:pt x="4443" y="2771"/>
                  </a:lnTo>
                  <a:lnTo>
                    <a:pt x="4395" y="2696"/>
                  </a:lnTo>
                  <a:lnTo>
                    <a:pt x="4368" y="2604"/>
                  </a:lnTo>
                  <a:lnTo>
                    <a:pt x="4368" y="2494"/>
                  </a:lnTo>
                  <a:lnTo>
                    <a:pt x="4313" y="2447"/>
                  </a:lnTo>
                  <a:lnTo>
                    <a:pt x="4286" y="2522"/>
                  </a:lnTo>
                  <a:lnTo>
                    <a:pt x="4296" y="2614"/>
                  </a:lnTo>
                  <a:lnTo>
                    <a:pt x="4330" y="2689"/>
                  </a:lnTo>
                  <a:lnTo>
                    <a:pt x="4395" y="2751"/>
                  </a:lnTo>
                  <a:lnTo>
                    <a:pt x="4330" y="2836"/>
                  </a:lnTo>
                  <a:lnTo>
                    <a:pt x="4269" y="2891"/>
                  </a:lnTo>
                  <a:lnTo>
                    <a:pt x="4183" y="2870"/>
                  </a:lnTo>
                  <a:lnTo>
                    <a:pt x="4183" y="2935"/>
                  </a:lnTo>
                  <a:lnTo>
                    <a:pt x="4117" y="2990"/>
                  </a:lnTo>
                  <a:lnTo>
                    <a:pt x="4035" y="2891"/>
                  </a:lnTo>
                  <a:lnTo>
                    <a:pt x="4046" y="2826"/>
                  </a:lnTo>
                  <a:lnTo>
                    <a:pt x="4145" y="2870"/>
                  </a:lnTo>
                  <a:lnTo>
                    <a:pt x="4211" y="2870"/>
                  </a:lnTo>
                  <a:lnTo>
                    <a:pt x="4296" y="2809"/>
                  </a:lnTo>
                  <a:lnTo>
                    <a:pt x="4269" y="2706"/>
                  </a:lnTo>
                  <a:lnTo>
                    <a:pt x="4194" y="2641"/>
                  </a:lnTo>
                  <a:lnTo>
                    <a:pt x="4117" y="2587"/>
                  </a:lnTo>
                  <a:lnTo>
                    <a:pt x="4035" y="2505"/>
                  </a:lnTo>
                  <a:lnTo>
                    <a:pt x="3943" y="2419"/>
                  </a:lnTo>
                  <a:lnTo>
                    <a:pt x="3943" y="2522"/>
                  </a:lnTo>
                  <a:lnTo>
                    <a:pt x="4008" y="2597"/>
                  </a:lnTo>
                  <a:lnTo>
                    <a:pt x="3988" y="2706"/>
                  </a:lnTo>
                  <a:lnTo>
                    <a:pt x="3988" y="2809"/>
                  </a:lnTo>
                  <a:lnTo>
                    <a:pt x="3895" y="2734"/>
                  </a:lnTo>
                  <a:lnTo>
                    <a:pt x="3878" y="2658"/>
                  </a:lnTo>
                  <a:lnTo>
                    <a:pt x="3926" y="2604"/>
                  </a:lnTo>
                  <a:lnTo>
                    <a:pt x="3906" y="2539"/>
                  </a:lnTo>
                  <a:lnTo>
                    <a:pt x="3953" y="2512"/>
                  </a:lnTo>
                  <a:lnTo>
                    <a:pt x="3953" y="2419"/>
                  </a:lnTo>
                  <a:lnTo>
                    <a:pt x="3878" y="2440"/>
                  </a:lnTo>
                  <a:lnTo>
                    <a:pt x="3813" y="2522"/>
                  </a:lnTo>
                  <a:lnTo>
                    <a:pt x="3731" y="2505"/>
                  </a:lnTo>
                  <a:lnTo>
                    <a:pt x="3612" y="2559"/>
                  </a:lnTo>
                  <a:lnTo>
                    <a:pt x="3591" y="2679"/>
                  </a:lnTo>
                  <a:lnTo>
                    <a:pt x="3489" y="2751"/>
                  </a:lnTo>
                  <a:lnTo>
                    <a:pt x="3379" y="2816"/>
                  </a:lnTo>
                  <a:lnTo>
                    <a:pt x="3277" y="2826"/>
                  </a:lnTo>
                  <a:lnTo>
                    <a:pt x="3178" y="2788"/>
                  </a:lnTo>
                  <a:lnTo>
                    <a:pt x="3113" y="2734"/>
                  </a:lnTo>
                  <a:lnTo>
                    <a:pt x="3157" y="2679"/>
                  </a:lnTo>
                  <a:lnTo>
                    <a:pt x="3113" y="2597"/>
                  </a:lnTo>
                  <a:lnTo>
                    <a:pt x="3184" y="2532"/>
                  </a:lnTo>
                  <a:lnTo>
                    <a:pt x="3195" y="2457"/>
                  </a:lnTo>
                  <a:lnTo>
                    <a:pt x="3195" y="2358"/>
                  </a:lnTo>
                  <a:lnTo>
                    <a:pt x="3287" y="2265"/>
                  </a:lnTo>
                  <a:lnTo>
                    <a:pt x="3427" y="2310"/>
                  </a:lnTo>
                  <a:lnTo>
                    <a:pt x="3574" y="2337"/>
                  </a:lnTo>
                  <a:lnTo>
                    <a:pt x="3629" y="2272"/>
                  </a:lnTo>
                  <a:lnTo>
                    <a:pt x="3629" y="2173"/>
                  </a:lnTo>
                  <a:lnTo>
                    <a:pt x="3564" y="2098"/>
                  </a:lnTo>
                  <a:lnTo>
                    <a:pt x="3444" y="2043"/>
                  </a:lnTo>
                  <a:lnTo>
                    <a:pt x="3509" y="1995"/>
                  </a:lnTo>
                  <a:lnTo>
                    <a:pt x="3618" y="1951"/>
                  </a:lnTo>
                  <a:lnTo>
                    <a:pt x="3639" y="1934"/>
                  </a:lnTo>
                  <a:lnTo>
                    <a:pt x="3612" y="1913"/>
                  </a:lnTo>
                  <a:lnTo>
                    <a:pt x="3519" y="1934"/>
                  </a:lnTo>
                  <a:lnTo>
                    <a:pt x="3427" y="1951"/>
                  </a:lnTo>
                  <a:lnTo>
                    <a:pt x="3369" y="1968"/>
                  </a:lnTo>
                  <a:lnTo>
                    <a:pt x="3407" y="1903"/>
                  </a:lnTo>
                  <a:lnTo>
                    <a:pt x="3427" y="1804"/>
                  </a:lnTo>
                  <a:lnTo>
                    <a:pt x="3461" y="1756"/>
                  </a:lnTo>
                  <a:lnTo>
                    <a:pt x="3482" y="1691"/>
                  </a:lnTo>
                  <a:lnTo>
                    <a:pt x="3434" y="1619"/>
                  </a:lnTo>
                  <a:lnTo>
                    <a:pt x="3369" y="1664"/>
                  </a:lnTo>
                  <a:lnTo>
                    <a:pt x="3379" y="1749"/>
                  </a:lnTo>
                  <a:lnTo>
                    <a:pt x="3369" y="1821"/>
                  </a:lnTo>
                  <a:lnTo>
                    <a:pt x="3325" y="1934"/>
                  </a:lnTo>
                  <a:lnTo>
                    <a:pt x="3232" y="1913"/>
                  </a:lnTo>
                  <a:lnTo>
                    <a:pt x="3205" y="1821"/>
                  </a:lnTo>
                  <a:lnTo>
                    <a:pt x="3147" y="1712"/>
                  </a:lnTo>
                  <a:lnTo>
                    <a:pt x="3260" y="1691"/>
                  </a:lnTo>
                  <a:lnTo>
                    <a:pt x="3297" y="1657"/>
                  </a:lnTo>
                  <a:lnTo>
                    <a:pt x="3342" y="1630"/>
                  </a:lnTo>
                  <a:lnTo>
                    <a:pt x="3342" y="1582"/>
                  </a:lnTo>
                  <a:lnTo>
                    <a:pt x="3314" y="1510"/>
                  </a:lnTo>
                  <a:lnTo>
                    <a:pt x="3396" y="1462"/>
                  </a:lnTo>
                  <a:lnTo>
                    <a:pt x="3482" y="1418"/>
                  </a:lnTo>
                  <a:lnTo>
                    <a:pt x="3536" y="1452"/>
                  </a:lnTo>
                  <a:lnTo>
                    <a:pt x="3564" y="1555"/>
                  </a:lnTo>
                  <a:lnTo>
                    <a:pt x="3601" y="1664"/>
                  </a:lnTo>
                  <a:lnTo>
                    <a:pt x="3656" y="1722"/>
                  </a:lnTo>
                  <a:lnTo>
                    <a:pt x="3683" y="1821"/>
                  </a:lnTo>
                  <a:lnTo>
                    <a:pt x="3639" y="1886"/>
                  </a:lnTo>
                  <a:lnTo>
                    <a:pt x="3629" y="1941"/>
                  </a:lnTo>
                  <a:lnTo>
                    <a:pt x="3711" y="1913"/>
                  </a:lnTo>
                  <a:lnTo>
                    <a:pt x="3803" y="1869"/>
                  </a:lnTo>
                  <a:lnTo>
                    <a:pt x="3841" y="1749"/>
                  </a:lnTo>
                  <a:lnTo>
                    <a:pt x="3933" y="1749"/>
                  </a:lnTo>
                  <a:lnTo>
                    <a:pt x="3981" y="1712"/>
                  </a:lnTo>
                  <a:lnTo>
                    <a:pt x="3970" y="1619"/>
                  </a:lnTo>
                  <a:lnTo>
                    <a:pt x="3926" y="1527"/>
                  </a:lnTo>
                  <a:lnTo>
                    <a:pt x="4008" y="1527"/>
                  </a:lnTo>
                  <a:lnTo>
                    <a:pt x="4100" y="1619"/>
                  </a:lnTo>
                  <a:lnTo>
                    <a:pt x="4183" y="1691"/>
                  </a:lnTo>
                  <a:lnTo>
                    <a:pt x="4248" y="1691"/>
                  </a:lnTo>
                  <a:lnTo>
                    <a:pt x="4361" y="1657"/>
                  </a:lnTo>
                  <a:lnTo>
                    <a:pt x="4433" y="1537"/>
                  </a:lnTo>
                  <a:lnTo>
                    <a:pt x="4470" y="1452"/>
                  </a:lnTo>
                  <a:lnTo>
                    <a:pt x="4638" y="1490"/>
                  </a:lnTo>
                  <a:lnTo>
                    <a:pt x="4498" y="1408"/>
                  </a:lnTo>
                  <a:lnTo>
                    <a:pt x="4395" y="1418"/>
                  </a:lnTo>
                  <a:lnTo>
                    <a:pt x="4368" y="1288"/>
                  </a:lnTo>
                  <a:lnTo>
                    <a:pt x="4368" y="1213"/>
                  </a:lnTo>
                  <a:lnTo>
                    <a:pt x="4487" y="1179"/>
                  </a:lnTo>
                  <a:lnTo>
                    <a:pt x="4518" y="1103"/>
                  </a:lnTo>
                  <a:lnTo>
                    <a:pt x="4433" y="1141"/>
                  </a:lnTo>
                  <a:lnTo>
                    <a:pt x="4330" y="1206"/>
                  </a:lnTo>
                  <a:lnTo>
                    <a:pt x="4231" y="1213"/>
                  </a:lnTo>
                  <a:lnTo>
                    <a:pt x="4286" y="1332"/>
                  </a:lnTo>
                  <a:lnTo>
                    <a:pt x="4269" y="1435"/>
                  </a:lnTo>
                  <a:lnTo>
                    <a:pt x="4269" y="1517"/>
                  </a:lnTo>
                  <a:lnTo>
                    <a:pt x="4194" y="1582"/>
                  </a:lnTo>
                  <a:lnTo>
                    <a:pt x="4111" y="1599"/>
                  </a:lnTo>
                  <a:lnTo>
                    <a:pt x="4046" y="1527"/>
                  </a:lnTo>
                  <a:lnTo>
                    <a:pt x="4052" y="1452"/>
                  </a:lnTo>
                  <a:lnTo>
                    <a:pt x="4073" y="1408"/>
                  </a:lnTo>
                  <a:lnTo>
                    <a:pt x="3981" y="1435"/>
                  </a:lnTo>
                  <a:lnTo>
                    <a:pt x="3888" y="1387"/>
                  </a:lnTo>
                  <a:lnTo>
                    <a:pt x="3841" y="1326"/>
                  </a:lnTo>
                  <a:lnTo>
                    <a:pt x="3868" y="1213"/>
                  </a:lnTo>
                  <a:lnTo>
                    <a:pt x="3851" y="1206"/>
                  </a:lnTo>
                  <a:lnTo>
                    <a:pt x="3868" y="1196"/>
                  </a:lnTo>
                  <a:lnTo>
                    <a:pt x="3878" y="1185"/>
                  </a:lnTo>
                  <a:lnTo>
                    <a:pt x="2798" y="1185"/>
                  </a:lnTo>
                  <a:lnTo>
                    <a:pt x="2740" y="1250"/>
                  </a:lnTo>
                  <a:lnTo>
                    <a:pt x="2648" y="1305"/>
                  </a:lnTo>
                  <a:lnTo>
                    <a:pt x="2556" y="1267"/>
                  </a:lnTo>
                  <a:lnTo>
                    <a:pt x="2528" y="1206"/>
                  </a:lnTo>
                  <a:lnTo>
                    <a:pt x="2528" y="1131"/>
                  </a:lnTo>
                  <a:lnTo>
                    <a:pt x="2539" y="1121"/>
                  </a:lnTo>
                  <a:lnTo>
                    <a:pt x="2316" y="1121"/>
                  </a:lnTo>
                  <a:lnTo>
                    <a:pt x="2241" y="1131"/>
                  </a:lnTo>
                  <a:lnTo>
                    <a:pt x="2180" y="1267"/>
                  </a:lnTo>
                  <a:lnTo>
                    <a:pt x="2142" y="1370"/>
                  </a:lnTo>
                  <a:lnTo>
                    <a:pt x="2115" y="1462"/>
                  </a:lnTo>
                  <a:lnTo>
                    <a:pt x="2002" y="1435"/>
                  </a:lnTo>
                  <a:lnTo>
                    <a:pt x="1930" y="1370"/>
                  </a:lnTo>
                  <a:lnTo>
                    <a:pt x="1920" y="1213"/>
                  </a:lnTo>
                  <a:lnTo>
                    <a:pt x="1872" y="1056"/>
                  </a:lnTo>
                  <a:lnTo>
                    <a:pt x="1807" y="967"/>
                  </a:lnTo>
                  <a:lnTo>
                    <a:pt x="1838" y="909"/>
                  </a:lnTo>
                  <a:lnTo>
                    <a:pt x="1773" y="772"/>
                  </a:lnTo>
                  <a:lnTo>
                    <a:pt x="1715" y="724"/>
                  </a:lnTo>
                  <a:lnTo>
                    <a:pt x="1643" y="782"/>
                  </a:lnTo>
                  <a:lnTo>
                    <a:pt x="1541" y="717"/>
                  </a:lnTo>
                  <a:lnTo>
                    <a:pt x="1476" y="762"/>
                  </a:lnTo>
                  <a:lnTo>
                    <a:pt x="1431" y="810"/>
                  </a:lnTo>
                  <a:lnTo>
                    <a:pt x="1302" y="844"/>
                  </a:lnTo>
                  <a:lnTo>
                    <a:pt x="1226" y="936"/>
                  </a:lnTo>
                  <a:lnTo>
                    <a:pt x="1373" y="956"/>
                  </a:lnTo>
                  <a:lnTo>
                    <a:pt x="1503" y="1011"/>
                  </a:lnTo>
                  <a:lnTo>
                    <a:pt x="1558" y="1103"/>
                  </a:lnTo>
                  <a:lnTo>
                    <a:pt x="1643" y="1196"/>
                  </a:lnTo>
                  <a:lnTo>
                    <a:pt x="1650" y="1343"/>
                  </a:lnTo>
                  <a:lnTo>
                    <a:pt x="1623" y="1490"/>
                  </a:lnTo>
                  <a:lnTo>
                    <a:pt x="1541" y="1527"/>
                  </a:lnTo>
                  <a:lnTo>
                    <a:pt x="1448" y="1435"/>
                  </a:lnTo>
                  <a:lnTo>
                    <a:pt x="1274" y="1425"/>
                  </a:lnTo>
                  <a:lnTo>
                    <a:pt x="1274" y="1360"/>
                  </a:lnTo>
                  <a:lnTo>
                    <a:pt x="1431" y="1326"/>
                  </a:lnTo>
                  <a:lnTo>
                    <a:pt x="1438" y="1240"/>
                  </a:lnTo>
                  <a:lnTo>
                    <a:pt x="1421" y="1206"/>
                  </a:lnTo>
                  <a:lnTo>
                    <a:pt x="1366" y="1288"/>
                  </a:lnTo>
                  <a:lnTo>
                    <a:pt x="1291" y="1223"/>
                  </a:lnTo>
                  <a:lnTo>
                    <a:pt x="1394" y="1141"/>
                  </a:lnTo>
                  <a:lnTo>
                    <a:pt x="1448" y="1213"/>
                  </a:lnTo>
                  <a:lnTo>
                    <a:pt x="1366" y="1131"/>
                  </a:lnTo>
                  <a:lnTo>
                    <a:pt x="1274" y="1131"/>
                  </a:lnTo>
                  <a:lnTo>
                    <a:pt x="1209" y="1196"/>
                  </a:lnTo>
                  <a:lnTo>
                    <a:pt x="1216" y="1288"/>
                  </a:lnTo>
                  <a:lnTo>
                    <a:pt x="1216" y="1408"/>
                  </a:lnTo>
                  <a:lnTo>
                    <a:pt x="1199" y="1500"/>
                  </a:lnTo>
                  <a:lnTo>
                    <a:pt x="1216" y="1592"/>
                  </a:lnTo>
                  <a:lnTo>
                    <a:pt x="1124" y="1517"/>
                  </a:lnTo>
                  <a:lnTo>
                    <a:pt x="1090" y="1572"/>
                  </a:lnTo>
                  <a:lnTo>
                    <a:pt x="1052" y="1510"/>
                  </a:lnTo>
                  <a:lnTo>
                    <a:pt x="1090" y="1418"/>
                  </a:lnTo>
                  <a:lnTo>
                    <a:pt x="1004" y="1452"/>
                  </a:lnTo>
                  <a:lnTo>
                    <a:pt x="960" y="1527"/>
                  </a:lnTo>
                  <a:lnTo>
                    <a:pt x="895" y="1599"/>
                  </a:lnTo>
                  <a:lnTo>
                    <a:pt x="895" y="1674"/>
                  </a:lnTo>
                  <a:lnTo>
                    <a:pt x="792" y="1674"/>
                  </a:lnTo>
                  <a:lnTo>
                    <a:pt x="755" y="1722"/>
                  </a:lnTo>
                  <a:lnTo>
                    <a:pt x="792" y="1842"/>
                  </a:lnTo>
                  <a:lnTo>
                    <a:pt x="902" y="1903"/>
                  </a:lnTo>
                  <a:lnTo>
                    <a:pt x="960" y="1951"/>
                  </a:lnTo>
                  <a:lnTo>
                    <a:pt x="950" y="2060"/>
                  </a:lnTo>
                  <a:lnTo>
                    <a:pt x="1025" y="2033"/>
                  </a:lnTo>
                  <a:lnTo>
                    <a:pt x="1032" y="1934"/>
                  </a:lnTo>
                  <a:lnTo>
                    <a:pt x="1151" y="1934"/>
                  </a:lnTo>
                  <a:lnTo>
                    <a:pt x="1226" y="1842"/>
                  </a:lnTo>
                  <a:lnTo>
                    <a:pt x="1237" y="1749"/>
                  </a:lnTo>
                  <a:lnTo>
                    <a:pt x="1226" y="1582"/>
                  </a:lnTo>
                  <a:lnTo>
                    <a:pt x="1274" y="1473"/>
                  </a:lnTo>
                  <a:lnTo>
                    <a:pt x="1339" y="1408"/>
                  </a:lnTo>
                  <a:lnTo>
                    <a:pt x="1438" y="1462"/>
                  </a:lnTo>
                  <a:lnTo>
                    <a:pt x="1551" y="1527"/>
                  </a:lnTo>
                  <a:lnTo>
                    <a:pt x="1616" y="1582"/>
                  </a:lnTo>
                  <a:lnTo>
                    <a:pt x="1671" y="1674"/>
                  </a:lnTo>
                  <a:lnTo>
                    <a:pt x="1753" y="1722"/>
                  </a:lnTo>
                  <a:lnTo>
                    <a:pt x="1780" y="1842"/>
                  </a:lnTo>
                  <a:lnTo>
                    <a:pt x="1790" y="1913"/>
                  </a:lnTo>
                  <a:lnTo>
                    <a:pt x="1872" y="1989"/>
                  </a:lnTo>
                  <a:lnTo>
                    <a:pt x="1807" y="2071"/>
                  </a:lnTo>
                  <a:lnTo>
                    <a:pt x="1708" y="2071"/>
                  </a:lnTo>
                  <a:lnTo>
                    <a:pt x="1589" y="2125"/>
                  </a:lnTo>
                  <a:lnTo>
                    <a:pt x="1503" y="2190"/>
                  </a:lnTo>
                  <a:lnTo>
                    <a:pt x="1373" y="2255"/>
                  </a:lnTo>
                  <a:lnTo>
                    <a:pt x="1274" y="2358"/>
                  </a:lnTo>
                  <a:lnTo>
                    <a:pt x="1172" y="2440"/>
                  </a:lnTo>
                  <a:lnTo>
                    <a:pt x="1151" y="2522"/>
                  </a:lnTo>
                  <a:lnTo>
                    <a:pt x="1151" y="2587"/>
                  </a:lnTo>
                  <a:lnTo>
                    <a:pt x="1090" y="2652"/>
                  </a:lnTo>
                  <a:lnTo>
                    <a:pt x="1096" y="2723"/>
                  </a:lnTo>
                  <a:lnTo>
                    <a:pt x="1014" y="2816"/>
                  </a:lnTo>
                  <a:lnTo>
                    <a:pt x="1014" y="2928"/>
                  </a:lnTo>
                  <a:lnTo>
                    <a:pt x="1059" y="3021"/>
                  </a:lnTo>
                  <a:lnTo>
                    <a:pt x="1032" y="3094"/>
                  </a:lnTo>
                  <a:lnTo>
                    <a:pt x="950" y="3056"/>
                  </a:lnTo>
                  <a:lnTo>
                    <a:pt x="932" y="2928"/>
                  </a:lnTo>
                  <a:lnTo>
                    <a:pt x="847" y="2870"/>
                  </a:lnTo>
                  <a:lnTo>
                    <a:pt x="782" y="2891"/>
                  </a:lnTo>
                  <a:lnTo>
                    <a:pt x="738" y="2973"/>
                  </a:lnTo>
                  <a:lnTo>
                    <a:pt x="652" y="2928"/>
                  </a:lnTo>
                  <a:lnTo>
                    <a:pt x="570" y="2928"/>
                  </a:lnTo>
                  <a:lnTo>
                    <a:pt x="478" y="3011"/>
                  </a:lnTo>
                  <a:lnTo>
                    <a:pt x="451" y="3094"/>
                  </a:lnTo>
                  <a:lnTo>
                    <a:pt x="423" y="3176"/>
                  </a:lnTo>
                  <a:lnTo>
                    <a:pt x="403" y="3305"/>
                  </a:lnTo>
                  <a:lnTo>
                    <a:pt x="478" y="3387"/>
                  </a:lnTo>
                  <a:lnTo>
                    <a:pt x="553" y="3326"/>
                  </a:lnTo>
                  <a:lnTo>
                    <a:pt x="645" y="3326"/>
                  </a:lnTo>
                  <a:lnTo>
                    <a:pt x="652" y="3435"/>
                  </a:lnTo>
                  <a:lnTo>
                    <a:pt x="598" y="3507"/>
                  </a:lnTo>
                  <a:lnTo>
                    <a:pt x="710" y="3528"/>
                  </a:lnTo>
                  <a:lnTo>
                    <a:pt x="755" y="3555"/>
                  </a:lnTo>
                  <a:lnTo>
                    <a:pt x="782" y="3657"/>
                  </a:lnTo>
                  <a:lnTo>
                    <a:pt x="874" y="3692"/>
                  </a:lnTo>
                  <a:lnTo>
                    <a:pt x="977" y="3777"/>
                  </a:lnTo>
                  <a:lnTo>
                    <a:pt x="1052" y="3729"/>
                  </a:lnTo>
                  <a:lnTo>
                    <a:pt x="1216" y="3777"/>
                  </a:lnTo>
                  <a:lnTo>
                    <a:pt x="1346" y="3784"/>
                  </a:lnTo>
                  <a:lnTo>
                    <a:pt x="1530" y="3886"/>
                  </a:lnTo>
                  <a:lnTo>
                    <a:pt x="1558" y="3968"/>
                  </a:lnTo>
                  <a:lnTo>
                    <a:pt x="1671" y="4061"/>
                  </a:lnTo>
                  <a:lnTo>
                    <a:pt x="1725" y="4191"/>
                  </a:lnTo>
                  <a:lnTo>
                    <a:pt x="1855" y="4256"/>
                  </a:lnTo>
                  <a:lnTo>
                    <a:pt x="1964" y="4273"/>
                  </a:lnTo>
                  <a:lnTo>
                    <a:pt x="2088" y="4382"/>
                  </a:lnTo>
                  <a:lnTo>
                    <a:pt x="2234" y="4382"/>
                  </a:lnTo>
                  <a:lnTo>
                    <a:pt x="2241" y="4474"/>
                  </a:lnTo>
                  <a:lnTo>
                    <a:pt x="2241" y="4567"/>
                  </a:lnTo>
                  <a:lnTo>
                    <a:pt x="2180" y="4659"/>
                  </a:lnTo>
                  <a:lnTo>
                    <a:pt x="2159" y="4772"/>
                  </a:lnTo>
                  <a:lnTo>
                    <a:pt x="2142" y="4891"/>
                  </a:lnTo>
                  <a:lnTo>
                    <a:pt x="2057" y="5001"/>
                  </a:lnTo>
                  <a:lnTo>
                    <a:pt x="1947" y="5066"/>
                  </a:lnTo>
                  <a:lnTo>
                    <a:pt x="1845" y="5083"/>
                  </a:lnTo>
                  <a:lnTo>
                    <a:pt x="1882" y="5175"/>
                  </a:lnTo>
                  <a:lnTo>
                    <a:pt x="1790" y="5288"/>
                  </a:lnTo>
                  <a:lnTo>
                    <a:pt x="1715" y="5380"/>
                  </a:lnTo>
                  <a:lnTo>
                    <a:pt x="1623" y="5435"/>
                  </a:lnTo>
                  <a:lnTo>
                    <a:pt x="1541" y="5571"/>
                  </a:lnTo>
                  <a:lnTo>
                    <a:pt x="1476" y="5664"/>
                  </a:lnTo>
                  <a:lnTo>
                    <a:pt x="1394" y="5718"/>
                  </a:lnTo>
                  <a:lnTo>
                    <a:pt x="1339" y="5804"/>
                  </a:lnTo>
                  <a:lnTo>
                    <a:pt x="1291" y="5886"/>
                  </a:lnTo>
                  <a:lnTo>
                    <a:pt x="1237" y="5968"/>
                  </a:lnTo>
                  <a:lnTo>
                    <a:pt x="1254" y="6043"/>
                  </a:lnTo>
                  <a:lnTo>
                    <a:pt x="1209" y="6108"/>
                  </a:lnTo>
                  <a:lnTo>
                    <a:pt x="1134" y="5995"/>
                  </a:lnTo>
                  <a:lnTo>
                    <a:pt x="1042" y="5903"/>
                  </a:lnTo>
                  <a:lnTo>
                    <a:pt x="1014" y="5783"/>
                  </a:lnTo>
                  <a:lnTo>
                    <a:pt x="1014" y="5664"/>
                  </a:lnTo>
                  <a:lnTo>
                    <a:pt x="1004" y="5534"/>
                  </a:lnTo>
                  <a:lnTo>
                    <a:pt x="1042" y="5349"/>
                  </a:lnTo>
                  <a:lnTo>
                    <a:pt x="1052" y="5175"/>
                  </a:lnTo>
                  <a:lnTo>
                    <a:pt x="1032" y="5011"/>
                  </a:lnTo>
                  <a:lnTo>
                    <a:pt x="1004" y="4891"/>
                  </a:lnTo>
                  <a:lnTo>
                    <a:pt x="895" y="4772"/>
                  </a:lnTo>
                  <a:lnTo>
                    <a:pt x="792" y="4679"/>
                  </a:lnTo>
                  <a:lnTo>
                    <a:pt x="710" y="4560"/>
                  </a:lnTo>
                  <a:lnTo>
                    <a:pt x="690" y="4403"/>
                  </a:lnTo>
                  <a:lnTo>
                    <a:pt x="738" y="4300"/>
                  </a:lnTo>
                  <a:lnTo>
                    <a:pt x="738" y="4208"/>
                  </a:lnTo>
                  <a:lnTo>
                    <a:pt x="792" y="4050"/>
                  </a:lnTo>
                  <a:lnTo>
                    <a:pt x="857" y="3931"/>
                  </a:lnTo>
                  <a:lnTo>
                    <a:pt x="950" y="3859"/>
                  </a:lnTo>
                  <a:lnTo>
                    <a:pt x="987" y="3784"/>
                  </a:lnTo>
                  <a:lnTo>
                    <a:pt x="874" y="3757"/>
                  </a:lnTo>
                  <a:lnTo>
                    <a:pt x="803" y="3777"/>
                  </a:lnTo>
                  <a:lnTo>
                    <a:pt x="727" y="3746"/>
                  </a:lnTo>
                  <a:lnTo>
                    <a:pt x="635" y="3675"/>
                  </a:lnTo>
                  <a:lnTo>
                    <a:pt x="543" y="3593"/>
                  </a:lnTo>
                  <a:lnTo>
                    <a:pt x="488" y="3500"/>
                  </a:lnTo>
                  <a:lnTo>
                    <a:pt x="451" y="3480"/>
                  </a:lnTo>
                  <a:lnTo>
                    <a:pt x="396" y="3507"/>
                  </a:lnTo>
                  <a:lnTo>
                    <a:pt x="304" y="3452"/>
                  </a:lnTo>
                  <a:lnTo>
                    <a:pt x="228" y="3370"/>
                  </a:lnTo>
                  <a:lnTo>
                    <a:pt x="201" y="3305"/>
                  </a:lnTo>
                  <a:lnTo>
                    <a:pt x="201" y="3186"/>
                  </a:lnTo>
                  <a:lnTo>
                    <a:pt x="184" y="3121"/>
                  </a:lnTo>
                  <a:lnTo>
                    <a:pt x="99" y="3066"/>
                  </a:lnTo>
                  <a:lnTo>
                    <a:pt x="99" y="3114"/>
                  </a:lnTo>
                  <a:lnTo>
                    <a:pt x="136" y="3196"/>
                  </a:lnTo>
                  <a:lnTo>
                    <a:pt x="153" y="3278"/>
                  </a:lnTo>
                  <a:lnTo>
                    <a:pt x="71" y="3223"/>
                  </a:lnTo>
                  <a:lnTo>
                    <a:pt x="27" y="3169"/>
                  </a:lnTo>
                  <a:lnTo>
                    <a:pt x="6" y="3076"/>
                  </a:lnTo>
                  <a:lnTo>
                    <a:pt x="17" y="2918"/>
                  </a:lnTo>
                  <a:lnTo>
                    <a:pt x="0" y="2734"/>
                  </a:lnTo>
                  <a:lnTo>
                    <a:pt x="17" y="2494"/>
                  </a:lnTo>
                  <a:lnTo>
                    <a:pt x="71" y="2125"/>
                  </a:lnTo>
                  <a:lnTo>
                    <a:pt x="191" y="1766"/>
                  </a:lnTo>
                  <a:lnTo>
                    <a:pt x="375" y="1343"/>
                  </a:lnTo>
                  <a:lnTo>
                    <a:pt x="516" y="1049"/>
                  </a:lnTo>
                  <a:lnTo>
                    <a:pt x="727" y="724"/>
                  </a:lnTo>
                  <a:lnTo>
                    <a:pt x="902" y="533"/>
                  </a:lnTo>
                  <a:close/>
                </a:path>
              </a:pathLst>
            </a:custGeom>
            <a:solidFill>
              <a:srgbClr val="315fa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765440" y="4718160"/>
            <a:ext cx="5651640" cy="714600"/>
            <a:chOff x="1765440" y="4718160"/>
            <a:chExt cx="5651640" cy="714600"/>
          </a:xfrm>
        </p:grpSpPr>
        <p:grpSp>
          <p:nvGrpSpPr>
            <p:cNvPr id="362" name=""/>
            <p:cNvGrpSpPr/>
            <p:nvPr/>
          </p:nvGrpSpPr>
          <p:grpSpPr>
            <a:xfrm>
              <a:off x="7284960" y="4724280"/>
              <a:ext cx="132120" cy="132120"/>
              <a:chOff x="7284960" y="4724280"/>
              <a:chExt cx="132120" cy="132120"/>
            </a:xfrm>
          </p:grpSpPr>
          <p:sp>
            <p:nvSpPr>
              <p:cNvPr id="363" name=""/>
              <p:cNvSpPr/>
              <p:nvPr/>
            </p:nvSpPr>
            <p:spPr>
              <a:xfrm>
                <a:off x="7284960" y="472428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179" y="36"/>
                    </a:moveTo>
                    <a:lnTo>
                      <a:pt x="210" y="36"/>
                    </a:lnTo>
                    <a:lnTo>
                      <a:pt x="240" y="43"/>
                    </a:lnTo>
                    <a:lnTo>
                      <a:pt x="262" y="58"/>
                    </a:lnTo>
                    <a:lnTo>
                      <a:pt x="284" y="80"/>
                    </a:lnTo>
                    <a:lnTo>
                      <a:pt x="307" y="102"/>
                    </a:lnTo>
                    <a:lnTo>
                      <a:pt x="322" y="124"/>
                    </a:lnTo>
                    <a:lnTo>
                      <a:pt x="329" y="153"/>
                    </a:lnTo>
                    <a:lnTo>
                      <a:pt x="329" y="183"/>
                    </a:lnTo>
                    <a:lnTo>
                      <a:pt x="329" y="205"/>
                    </a:lnTo>
                    <a:lnTo>
                      <a:pt x="322" y="235"/>
                    </a:lnTo>
                    <a:lnTo>
                      <a:pt x="307" y="264"/>
                    </a:lnTo>
                    <a:lnTo>
                      <a:pt x="284" y="279"/>
                    </a:lnTo>
                    <a:lnTo>
                      <a:pt x="262" y="301"/>
                    </a:lnTo>
                    <a:lnTo>
                      <a:pt x="240" y="315"/>
                    </a:lnTo>
                    <a:lnTo>
                      <a:pt x="210" y="323"/>
                    </a:lnTo>
                    <a:lnTo>
                      <a:pt x="179" y="323"/>
                    </a:lnTo>
                    <a:lnTo>
                      <a:pt x="156" y="323"/>
                    </a:lnTo>
                    <a:lnTo>
                      <a:pt x="126" y="315"/>
                    </a:lnTo>
                    <a:lnTo>
                      <a:pt x="97" y="301"/>
                    </a:lnTo>
                    <a:lnTo>
                      <a:pt x="82" y="279"/>
                    </a:lnTo>
                    <a:lnTo>
                      <a:pt x="59" y="264"/>
                    </a:lnTo>
                    <a:lnTo>
                      <a:pt x="44" y="235"/>
                    </a:lnTo>
                    <a:lnTo>
                      <a:pt x="37" y="205"/>
                    </a:lnTo>
                    <a:lnTo>
                      <a:pt x="37" y="183"/>
                    </a:lnTo>
                    <a:lnTo>
                      <a:pt x="37" y="153"/>
                    </a:lnTo>
                    <a:lnTo>
                      <a:pt x="44" y="124"/>
                    </a:lnTo>
                    <a:lnTo>
                      <a:pt x="59" y="102"/>
                    </a:lnTo>
                    <a:lnTo>
                      <a:pt x="82" y="80"/>
                    </a:lnTo>
                    <a:lnTo>
                      <a:pt x="97" y="58"/>
                    </a:lnTo>
                    <a:lnTo>
                      <a:pt x="126" y="43"/>
                    </a:lnTo>
                    <a:lnTo>
                      <a:pt x="156" y="36"/>
                    </a:lnTo>
                    <a:lnTo>
                      <a:pt x="179" y="36"/>
                    </a:lnTo>
                    <a:lnTo>
                      <a:pt x="179" y="0"/>
                    </a:lnTo>
                    <a:lnTo>
                      <a:pt x="141" y="0"/>
                    </a:lnTo>
                    <a:lnTo>
                      <a:pt x="112" y="14"/>
                    </a:lnTo>
                    <a:lnTo>
                      <a:pt x="82" y="29"/>
                    </a:lnTo>
                    <a:lnTo>
                      <a:pt x="52" y="51"/>
                    </a:lnTo>
                    <a:lnTo>
                      <a:pt x="29" y="80"/>
                    </a:lnTo>
                    <a:lnTo>
                      <a:pt x="7" y="109"/>
                    </a:lnTo>
                    <a:lnTo>
                      <a:pt x="0" y="146"/>
                    </a:lnTo>
                    <a:lnTo>
                      <a:pt x="0" y="183"/>
                    </a:lnTo>
                    <a:lnTo>
                      <a:pt x="0" y="220"/>
                    </a:lnTo>
                    <a:lnTo>
                      <a:pt x="7" y="249"/>
                    </a:lnTo>
                    <a:lnTo>
                      <a:pt x="29" y="286"/>
                    </a:lnTo>
                    <a:lnTo>
                      <a:pt x="52" y="308"/>
                    </a:lnTo>
                    <a:lnTo>
                      <a:pt x="82" y="330"/>
                    </a:lnTo>
                    <a:lnTo>
                      <a:pt x="112" y="352"/>
                    </a:lnTo>
                    <a:lnTo>
                      <a:pt x="141" y="359"/>
                    </a:lnTo>
                    <a:lnTo>
                      <a:pt x="179" y="367"/>
                    </a:lnTo>
                    <a:lnTo>
                      <a:pt x="225" y="359"/>
                    </a:lnTo>
                    <a:lnTo>
                      <a:pt x="254" y="352"/>
                    </a:lnTo>
                    <a:lnTo>
                      <a:pt x="284" y="330"/>
                    </a:lnTo>
                    <a:lnTo>
                      <a:pt x="314" y="308"/>
                    </a:lnTo>
                    <a:lnTo>
                      <a:pt x="337" y="286"/>
                    </a:lnTo>
                    <a:lnTo>
                      <a:pt x="359" y="249"/>
                    </a:lnTo>
                    <a:lnTo>
                      <a:pt x="367" y="220"/>
                    </a:lnTo>
                    <a:lnTo>
                      <a:pt x="367" y="183"/>
                    </a:lnTo>
                    <a:lnTo>
                      <a:pt x="367" y="146"/>
                    </a:lnTo>
                    <a:lnTo>
                      <a:pt x="359" y="109"/>
                    </a:lnTo>
                    <a:lnTo>
                      <a:pt x="337" y="80"/>
                    </a:lnTo>
                    <a:lnTo>
                      <a:pt x="314" y="51"/>
                    </a:lnTo>
                    <a:lnTo>
                      <a:pt x="284" y="29"/>
                    </a:lnTo>
                    <a:lnTo>
                      <a:pt x="254" y="14"/>
                    </a:lnTo>
                    <a:lnTo>
                      <a:pt x="225" y="0"/>
                    </a:lnTo>
                    <a:lnTo>
                      <a:pt x="179" y="0"/>
                    </a:lnTo>
                    <a:lnTo>
                      <a:pt x="179" y="36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26360" y="4751280"/>
                <a:ext cx="54360" cy="71640"/>
              </a:xfrm>
              <a:custGeom>
                <a:avLst/>
                <a:gdLst/>
                <a:ahLst/>
                <a:rect l="0" t="0" r="r" b="b"/>
                <a:pathLst>
                  <a:path w="151" h="199">
                    <a:moveTo>
                      <a:pt x="0" y="0"/>
                    </a:moveTo>
                    <a:lnTo>
                      <a:pt x="50" y="0"/>
                    </a:lnTo>
                    <a:lnTo>
                      <a:pt x="72" y="0"/>
                    </a:lnTo>
                    <a:lnTo>
                      <a:pt x="86" y="0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23" y="14"/>
                    </a:lnTo>
                    <a:lnTo>
                      <a:pt x="137" y="28"/>
                    </a:lnTo>
                    <a:lnTo>
                      <a:pt x="144" y="49"/>
                    </a:lnTo>
                    <a:lnTo>
                      <a:pt x="144" y="56"/>
                    </a:lnTo>
                    <a:lnTo>
                      <a:pt x="144" y="63"/>
                    </a:lnTo>
                    <a:lnTo>
                      <a:pt x="144" y="77"/>
                    </a:lnTo>
                    <a:lnTo>
                      <a:pt x="137" y="92"/>
                    </a:lnTo>
                    <a:lnTo>
                      <a:pt x="116" y="107"/>
                    </a:lnTo>
                    <a:lnTo>
                      <a:pt x="116" y="114"/>
                    </a:lnTo>
                    <a:lnTo>
                      <a:pt x="108" y="114"/>
                    </a:lnTo>
                    <a:lnTo>
                      <a:pt x="151" y="199"/>
                    </a:lnTo>
                    <a:lnTo>
                      <a:pt x="108" y="199"/>
                    </a:lnTo>
                    <a:lnTo>
                      <a:pt x="65" y="121"/>
                    </a:lnTo>
                    <a:lnTo>
                      <a:pt x="35" y="121"/>
                    </a:lnTo>
                    <a:lnTo>
                      <a:pt x="35" y="199"/>
                    </a:lnTo>
                    <a:lnTo>
                      <a:pt x="0" y="199"/>
                    </a:lnTo>
                    <a:lnTo>
                      <a:pt x="0" y="0"/>
                    </a:lnTo>
                    <a:lnTo>
                      <a:pt x="35" y="28"/>
                    </a:lnTo>
                    <a:lnTo>
                      <a:pt x="35" y="85"/>
                    </a:lnTo>
                    <a:lnTo>
                      <a:pt x="65" y="85"/>
                    </a:lnTo>
                    <a:lnTo>
                      <a:pt x="86" y="85"/>
                    </a:lnTo>
                    <a:lnTo>
                      <a:pt x="100" y="77"/>
                    </a:lnTo>
                    <a:lnTo>
                      <a:pt x="100" y="70"/>
                    </a:lnTo>
                    <a:lnTo>
                      <a:pt x="100" y="56"/>
                    </a:lnTo>
                    <a:lnTo>
                      <a:pt x="100" y="42"/>
                    </a:lnTo>
                    <a:lnTo>
                      <a:pt x="86" y="35"/>
                    </a:lnTo>
                    <a:lnTo>
                      <a:pt x="72" y="28"/>
                    </a:lnTo>
                    <a:lnTo>
                      <a:pt x="50" y="28"/>
                    </a:lnTo>
                    <a:lnTo>
                      <a:pt x="35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3795840" y="4718160"/>
              <a:ext cx="1024200" cy="714600"/>
            </a:xfrm>
            <a:custGeom>
              <a:avLst/>
              <a:gdLst/>
              <a:ahLst/>
              <a:rect l="0" t="0" r="r" b="b"/>
              <a:pathLst>
                <a:path w="2845" h="1985">
                  <a:moveTo>
                    <a:pt x="943" y="1294"/>
                  </a:moveTo>
                  <a:lnTo>
                    <a:pt x="1954" y="1294"/>
                  </a:lnTo>
                  <a:lnTo>
                    <a:pt x="1418" y="438"/>
                  </a:lnTo>
                  <a:lnTo>
                    <a:pt x="445" y="1985"/>
                  </a:lnTo>
                  <a:lnTo>
                    <a:pt x="0" y="1985"/>
                  </a:lnTo>
                  <a:lnTo>
                    <a:pt x="1188" y="126"/>
                  </a:lnTo>
                  <a:lnTo>
                    <a:pt x="1232" y="74"/>
                  </a:lnTo>
                  <a:lnTo>
                    <a:pt x="1284" y="37"/>
                  </a:lnTo>
                  <a:lnTo>
                    <a:pt x="1351" y="7"/>
                  </a:lnTo>
                  <a:lnTo>
                    <a:pt x="1418" y="0"/>
                  </a:lnTo>
                  <a:lnTo>
                    <a:pt x="1486" y="7"/>
                  </a:lnTo>
                  <a:lnTo>
                    <a:pt x="1553" y="37"/>
                  </a:lnTo>
                  <a:lnTo>
                    <a:pt x="1605" y="74"/>
                  </a:lnTo>
                  <a:lnTo>
                    <a:pt x="1649" y="118"/>
                  </a:lnTo>
                  <a:lnTo>
                    <a:pt x="1657" y="126"/>
                  </a:lnTo>
                  <a:lnTo>
                    <a:pt x="1664" y="141"/>
                  </a:lnTo>
                  <a:lnTo>
                    <a:pt x="1679" y="163"/>
                  </a:lnTo>
                  <a:lnTo>
                    <a:pt x="1701" y="200"/>
                  </a:lnTo>
                  <a:lnTo>
                    <a:pt x="1731" y="245"/>
                  </a:lnTo>
                  <a:lnTo>
                    <a:pt x="1761" y="289"/>
                  </a:lnTo>
                  <a:lnTo>
                    <a:pt x="1798" y="349"/>
                  </a:lnTo>
                  <a:lnTo>
                    <a:pt x="1835" y="408"/>
                  </a:lnTo>
                  <a:lnTo>
                    <a:pt x="1924" y="549"/>
                  </a:lnTo>
                  <a:lnTo>
                    <a:pt x="2028" y="713"/>
                  </a:lnTo>
                  <a:lnTo>
                    <a:pt x="2132" y="876"/>
                  </a:lnTo>
                  <a:lnTo>
                    <a:pt x="2243" y="1056"/>
                  </a:lnTo>
                  <a:lnTo>
                    <a:pt x="2355" y="1227"/>
                  </a:lnTo>
                  <a:lnTo>
                    <a:pt x="2466" y="1398"/>
                  </a:lnTo>
                  <a:lnTo>
                    <a:pt x="2563" y="1554"/>
                  </a:lnTo>
                  <a:lnTo>
                    <a:pt x="2659" y="1695"/>
                  </a:lnTo>
                  <a:lnTo>
                    <a:pt x="2696" y="1754"/>
                  </a:lnTo>
                  <a:lnTo>
                    <a:pt x="2733" y="1814"/>
                  </a:lnTo>
                  <a:lnTo>
                    <a:pt x="2763" y="1866"/>
                  </a:lnTo>
                  <a:lnTo>
                    <a:pt x="2793" y="1903"/>
                  </a:lnTo>
                  <a:lnTo>
                    <a:pt x="2815" y="1940"/>
                  </a:lnTo>
                  <a:lnTo>
                    <a:pt x="2830" y="1963"/>
                  </a:lnTo>
                  <a:lnTo>
                    <a:pt x="2837" y="1985"/>
                  </a:lnTo>
                  <a:lnTo>
                    <a:pt x="2845" y="1985"/>
                  </a:lnTo>
                  <a:lnTo>
                    <a:pt x="2399" y="1985"/>
                  </a:lnTo>
                  <a:lnTo>
                    <a:pt x="2191" y="1643"/>
                  </a:lnTo>
                  <a:lnTo>
                    <a:pt x="1165" y="1643"/>
                  </a:lnTo>
                  <a:lnTo>
                    <a:pt x="943" y="1294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65680" y="4727520"/>
              <a:ext cx="768600" cy="705240"/>
            </a:xfrm>
            <a:custGeom>
              <a:avLst/>
              <a:gdLst/>
              <a:ahLst/>
              <a:rect l="0" t="0" r="r" b="b"/>
              <a:pathLst>
                <a:path w="2135" h="1959">
                  <a:moveTo>
                    <a:pt x="371" y="1618"/>
                  </a:moveTo>
                  <a:lnTo>
                    <a:pt x="371" y="0"/>
                  </a:lnTo>
                  <a:lnTo>
                    <a:pt x="0" y="0"/>
                  </a:lnTo>
                  <a:lnTo>
                    <a:pt x="0" y="1774"/>
                  </a:lnTo>
                  <a:lnTo>
                    <a:pt x="0" y="1811"/>
                  </a:lnTo>
                  <a:lnTo>
                    <a:pt x="7" y="1841"/>
                  </a:lnTo>
                  <a:lnTo>
                    <a:pt x="29" y="1878"/>
                  </a:lnTo>
                  <a:lnTo>
                    <a:pt x="52" y="1908"/>
                  </a:lnTo>
                  <a:lnTo>
                    <a:pt x="81" y="1930"/>
                  </a:lnTo>
                  <a:lnTo>
                    <a:pt x="111" y="1945"/>
                  </a:lnTo>
                  <a:lnTo>
                    <a:pt x="148" y="1959"/>
                  </a:lnTo>
                  <a:lnTo>
                    <a:pt x="193" y="1959"/>
                  </a:lnTo>
                  <a:lnTo>
                    <a:pt x="1912" y="1959"/>
                  </a:lnTo>
                  <a:lnTo>
                    <a:pt x="2135" y="1618"/>
                  </a:lnTo>
                  <a:lnTo>
                    <a:pt x="371" y="1618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57400" y="4727520"/>
              <a:ext cx="832320" cy="705240"/>
            </a:xfrm>
            <a:custGeom>
              <a:avLst/>
              <a:gdLst/>
              <a:ahLst/>
              <a:rect l="0" t="0" r="r" b="b"/>
              <a:pathLst>
                <a:path w="2312" h="1959">
                  <a:moveTo>
                    <a:pt x="1652" y="1328"/>
                  </a:moveTo>
                  <a:lnTo>
                    <a:pt x="1719" y="1321"/>
                  </a:lnTo>
                  <a:lnTo>
                    <a:pt x="1786" y="1313"/>
                  </a:lnTo>
                  <a:lnTo>
                    <a:pt x="1846" y="1298"/>
                  </a:lnTo>
                  <a:lnTo>
                    <a:pt x="1905" y="1276"/>
                  </a:lnTo>
                  <a:lnTo>
                    <a:pt x="1964" y="1246"/>
                  </a:lnTo>
                  <a:lnTo>
                    <a:pt x="2023" y="1209"/>
                  </a:lnTo>
                  <a:lnTo>
                    <a:pt x="2075" y="1172"/>
                  </a:lnTo>
                  <a:lnTo>
                    <a:pt x="2120" y="1128"/>
                  </a:lnTo>
                  <a:lnTo>
                    <a:pt x="2164" y="1083"/>
                  </a:lnTo>
                  <a:lnTo>
                    <a:pt x="2201" y="1031"/>
                  </a:lnTo>
                  <a:lnTo>
                    <a:pt x="2231" y="979"/>
                  </a:lnTo>
                  <a:lnTo>
                    <a:pt x="2260" y="920"/>
                  </a:lnTo>
                  <a:lnTo>
                    <a:pt x="2283" y="861"/>
                  </a:lnTo>
                  <a:lnTo>
                    <a:pt x="2297" y="794"/>
                  </a:lnTo>
                  <a:lnTo>
                    <a:pt x="2312" y="727"/>
                  </a:lnTo>
                  <a:lnTo>
                    <a:pt x="2312" y="661"/>
                  </a:lnTo>
                  <a:lnTo>
                    <a:pt x="2312" y="594"/>
                  </a:lnTo>
                  <a:lnTo>
                    <a:pt x="2297" y="527"/>
                  </a:lnTo>
                  <a:lnTo>
                    <a:pt x="2283" y="467"/>
                  </a:lnTo>
                  <a:lnTo>
                    <a:pt x="2260" y="407"/>
                  </a:lnTo>
                  <a:lnTo>
                    <a:pt x="2231" y="348"/>
                  </a:lnTo>
                  <a:lnTo>
                    <a:pt x="2201" y="289"/>
                  </a:lnTo>
                  <a:lnTo>
                    <a:pt x="2164" y="237"/>
                  </a:lnTo>
                  <a:lnTo>
                    <a:pt x="2120" y="192"/>
                  </a:lnTo>
                  <a:lnTo>
                    <a:pt x="2075" y="148"/>
                  </a:lnTo>
                  <a:lnTo>
                    <a:pt x="2023" y="111"/>
                  </a:lnTo>
                  <a:lnTo>
                    <a:pt x="1964" y="81"/>
                  </a:lnTo>
                  <a:lnTo>
                    <a:pt x="1905" y="51"/>
                  </a:lnTo>
                  <a:lnTo>
                    <a:pt x="1846" y="29"/>
                  </a:lnTo>
                  <a:lnTo>
                    <a:pt x="1786" y="14"/>
                  </a:lnTo>
                  <a:lnTo>
                    <a:pt x="1719" y="0"/>
                  </a:lnTo>
                  <a:lnTo>
                    <a:pt x="1652" y="0"/>
                  </a:lnTo>
                  <a:lnTo>
                    <a:pt x="0" y="0"/>
                  </a:lnTo>
                  <a:lnTo>
                    <a:pt x="0" y="1959"/>
                  </a:lnTo>
                  <a:lnTo>
                    <a:pt x="377" y="1959"/>
                  </a:lnTo>
                  <a:lnTo>
                    <a:pt x="377" y="348"/>
                  </a:lnTo>
                  <a:lnTo>
                    <a:pt x="1622" y="348"/>
                  </a:lnTo>
                  <a:lnTo>
                    <a:pt x="1689" y="348"/>
                  </a:lnTo>
                  <a:lnTo>
                    <a:pt x="1749" y="370"/>
                  </a:lnTo>
                  <a:lnTo>
                    <a:pt x="1801" y="400"/>
                  </a:lnTo>
                  <a:lnTo>
                    <a:pt x="1853" y="437"/>
                  </a:lnTo>
                  <a:lnTo>
                    <a:pt x="1890" y="482"/>
                  </a:lnTo>
                  <a:lnTo>
                    <a:pt x="1920" y="542"/>
                  </a:lnTo>
                  <a:lnTo>
                    <a:pt x="1934" y="601"/>
                  </a:lnTo>
                  <a:lnTo>
                    <a:pt x="1942" y="661"/>
                  </a:lnTo>
                  <a:lnTo>
                    <a:pt x="1934" y="727"/>
                  </a:lnTo>
                  <a:lnTo>
                    <a:pt x="1920" y="787"/>
                  </a:lnTo>
                  <a:lnTo>
                    <a:pt x="1890" y="839"/>
                  </a:lnTo>
                  <a:lnTo>
                    <a:pt x="1853" y="890"/>
                  </a:lnTo>
                  <a:lnTo>
                    <a:pt x="1801" y="928"/>
                  </a:lnTo>
                  <a:lnTo>
                    <a:pt x="1749" y="957"/>
                  </a:lnTo>
                  <a:lnTo>
                    <a:pt x="1689" y="972"/>
                  </a:lnTo>
                  <a:lnTo>
                    <a:pt x="1622" y="979"/>
                  </a:lnTo>
                  <a:lnTo>
                    <a:pt x="562" y="979"/>
                  </a:lnTo>
                  <a:lnTo>
                    <a:pt x="1689" y="1959"/>
                  </a:lnTo>
                  <a:lnTo>
                    <a:pt x="2238" y="1959"/>
                  </a:lnTo>
                  <a:lnTo>
                    <a:pt x="1474" y="1328"/>
                  </a:lnTo>
                  <a:lnTo>
                    <a:pt x="1652" y="1328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765440" y="4727520"/>
              <a:ext cx="1117800" cy="705240"/>
              <a:chOff x="1765440" y="4727520"/>
              <a:chExt cx="1117800" cy="705240"/>
            </a:xfrm>
          </p:grpSpPr>
          <p:sp>
            <p:nvSpPr>
              <p:cNvPr id="369" name=""/>
              <p:cNvSpPr/>
              <p:nvPr/>
            </p:nvSpPr>
            <p:spPr>
              <a:xfrm>
                <a:off x="2293920" y="4727520"/>
                <a:ext cx="589320" cy="705240"/>
              </a:xfrm>
              <a:custGeom>
                <a:avLst/>
                <a:gdLst/>
                <a:ahLst/>
                <a:rect l="0" t="0" r="r" b="b"/>
                <a:pathLst>
                  <a:path w="1637" h="1959">
                    <a:moveTo>
                      <a:pt x="0" y="1618"/>
                    </a:moveTo>
                    <a:lnTo>
                      <a:pt x="636" y="1618"/>
                    </a:lnTo>
                    <a:lnTo>
                      <a:pt x="703" y="1611"/>
                    </a:lnTo>
                    <a:lnTo>
                      <a:pt x="762" y="1603"/>
                    </a:lnTo>
                    <a:lnTo>
                      <a:pt x="822" y="1589"/>
                    </a:lnTo>
                    <a:lnTo>
                      <a:pt x="881" y="1566"/>
                    </a:lnTo>
                    <a:lnTo>
                      <a:pt x="992" y="1507"/>
                    </a:lnTo>
                    <a:lnTo>
                      <a:pt x="1081" y="1432"/>
                    </a:lnTo>
                    <a:lnTo>
                      <a:pt x="1163" y="1335"/>
                    </a:lnTo>
                    <a:lnTo>
                      <a:pt x="1222" y="1224"/>
                    </a:lnTo>
                    <a:lnTo>
                      <a:pt x="1237" y="1172"/>
                    </a:lnTo>
                    <a:lnTo>
                      <a:pt x="1259" y="1106"/>
                    </a:lnTo>
                    <a:lnTo>
                      <a:pt x="1266" y="1046"/>
                    </a:lnTo>
                    <a:lnTo>
                      <a:pt x="1266" y="979"/>
                    </a:lnTo>
                    <a:lnTo>
                      <a:pt x="1266" y="913"/>
                    </a:lnTo>
                    <a:lnTo>
                      <a:pt x="1259" y="853"/>
                    </a:lnTo>
                    <a:lnTo>
                      <a:pt x="1237" y="794"/>
                    </a:lnTo>
                    <a:lnTo>
                      <a:pt x="1222" y="735"/>
                    </a:lnTo>
                    <a:lnTo>
                      <a:pt x="1163" y="623"/>
                    </a:lnTo>
                    <a:lnTo>
                      <a:pt x="1081" y="534"/>
                    </a:lnTo>
                    <a:lnTo>
                      <a:pt x="992" y="452"/>
                    </a:lnTo>
                    <a:lnTo>
                      <a:pt x="881" y="393"/>
                    </a:lnTo>
                    <a:lnTo>
                      <a:pt x="822" y="370"/>
                    </a:lnTo>
                    <a:lnTo>
                      <a:pt x="762" y="355"/>
                    </a:lnTo>
                    <a:lnTo>
                      <a:pt x="703" y="348"/>
                    </a:lnTo>
                    <a:lnTo>
                      <a:pt x="636" y="348"/>
                    </a:lnTo>
                    <a:lnTo>
                      <a:pt x="0" y="348"/>
                    </a:lnTo>
                    <a:lnTo>
                      <a:pt x="0" y="0"/>
                    </a:lnTo>
                    <a:lnTo>
                      <a:pt x="658" y="0"/>
                    </a:lnTo>
                    <a:lnTo>
                      <a:pt x="762" y="7"/>
                    </a:lnTo>
                    <a:lnTo>
                      <a:pt x="859" y="22"/>
                    </a:lnTo>
                    <a:lnTo>
                      <a:pt x="948" y="44"/>
                    </a:lnTo>
                    <a:lnTo>
                      <a:pt x="1044" y="74"/>
                    </a:lnTo>
                    <a:lnTo>
                      <a:pt x="1126" y="118"/>
                    </a:lnTo>
                    <a:lnTo>
                      <a:pt x="1207" y="170"/>
                    </a:lnTo>
                    <a:lnTo>
                      <a:pt x="1281" y="222"/>
                    </a:lnTo>
                    <a:lnTo>
                      <a:pt x="1355" y="289"/>
                    </a:lnTo>
                    <a:lnTo>
                      <a:pt x="1414" y="355"/>
                    </a:lnTo>
                    <a:lnTo>
                      <a:pt x="1474" y="430"/>
                    </a:lnTo>
                    <a:lnTo>
                      <a:pt x="1518" y="512"/>
                    </a:lnTo>
                    <a:lnTo>
                      <a:pt x="1562" y="601"/>
                    </a:lnTo>
                    <a:lnTo>
                      <a:pt x="1592" y="690"/>
                    </a:lnTo>
                    <a:lnTo>
                      <a:pt x="1622" y="779"/>
                    </a:lnTo>
                    <a:lnTo>
                      <a:pt x="1637" y="883"/>
                    </a:lnTo>
                    <a:lnTo>
                      <a:pt x="1637" y="979"/>
                    </a:lnTo>
                    <a:lnTo>
                      <a:pt x="1637" y="1083"/>
                    </a:lnTo>
                    <a:lnTo>
                      <a:pt x="1622" y="1180"/>
                    </a:lnTo>
                    <a:lnTo>
                      <a:pt x="1592" y="1269"/>
                    </a:lnTo>
                    <a:lnTo>
                      <a:pt x="1562" y="1365"/>
                    </a:lnTo>
                    <a:lnTo>
                      <a:pt x="1518" y="1447"/>
                    </a:lnTo>
                    <a:lnTo>
                      <a:pt x="1474" y="1529"/>
                    </a:lnTo>
                    <a:lnTo>
                      <a:pt x="1414" y="1603"/>
                    </a:lnTo>
                    <a:lnTo>
                      <a:pt x="1355" y="1678"/>
                    </a:lnTo>
                    <a:lnTo>
                      <a:pt x="1281" y="1737"/>
                    </a:lnTo>
                    <a:lnTo>
                      <a:pt x="1207" y="1796"/>
                    </a:lnTo>
                    <a:lnTo>
                      <a:pt x="1126" y="1841"/>
                    </a:lnTo>
                    <a:lnTo>
                      <a:pt x="1044" y="1885"/>
                    </a:lnTo>
                    <a:lnTo>
                      <a:pt x="948" y="1915"/>
                    </a:lnTo>
                    <a:lnTo>
                      <a:pt x="859" y="1945"/>
                    </a:lnTo>
                    <a:lnTo>
                      <a:pt x="762" y="1959"/>
                    </a:lnTo>
                    <a:lnTo>
                      <a:pt x="658" y="1959"/>
                    </a:lnTo>
                    <a:lnTo>
                      <a:pt x="0" y="1959"/>
                    </a:lnTo>
                    <a:lnTo>
                      <a:pt x="0" y="1618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65440" y="4727520"/>
                <a:ext cx="592560" cy="705240"/>
              </a:xfrm>
              <a:custGeom>
                <a:avLst/>
                <a:gdLst/>
                <a:ahLst/>
                <a:rect l="0" t="0" r="r" b="b"/>
                <a:pathLst>
                  <a:path w="1646" h="1959">
                    <a:moveTo>
                      <a:pt x="1646" y="1959"/>
                    </a:moveTo>
                    <a:lnTo>
                      <a:pt x="990" y="1959"/>
                    </a:lnTo>
                    <a:lnTo>
                      <a:pt x="886" y="1959"/>
                    </a:lnTo>
                    <a:lnTo>
                      <a:pt x="789" y="1945"/>
                    </a:lnTo>
                    <a:lnTo>
                      <a:pt x="693" y="1915"/>
                    </a:lnTo>
                    <a:lnTo>
                      <a:pt x="603" y="1885"/>
                    </a:lnTo>
                    <a:lnTo>
                      <a:pt x="521" y="1841"/>
                    </a:lnTo>
                    <a:lnTo>
                      <a:pt x="440" y="1796"/>
                    </a:lnTo>
                    <a:lnTo>
                      <a:pt x="364" y="1737"/>
                    </a:lnTo>
                    <a:lnTo>
                      <a:pt x="290" y="1678"/>
                    </a:lnTo>
                    <a:lnTo>
                      <a:pt x="230" y="1603"/>
                    </a:lnTo>
                    <a:lnTo>
                      <a:pt x="171" y="1529"/>
                    </a:lnTo>
                    <a:lnTo>
                      <a:pt x="119" y="1447"/>
                    </a:lnTo>
                    <a:lnTo>
                      <a:pt x="81" y="1365"/>
                    </a:lnTo>
                    <a:lnTo>
                      <a:pt x="44" y="1269"/>
                    </a:lnTo>
                    <a:lnTo>
                      <a:pt x="22" y="1180"/>
                    </a:lnTo>
                    <a:lnTo>
                      <a:pt x="7" y="1083"/>
                    </a:lnTo>
                    <a:lnTo>
                      <a:pt x="0" y="979"/>
                    </a:lnTo>
                    <a:lnTo>
                      <a:pt x="7" y="883"/>
                    </a:lnTo>
                    <a:lnTo>
                      <a:pt x="22" y="779"/>
                    </a:lnTo>
                    <a:lnTo>
                      <a:pt x="44" y="690"/>
                    </a:lnTo>
                    <a:lnTo>
                      <a:pt x="81" y="601"/>
                    </a:lnTo>
                    <a:lnTo>
                      <a:pt x="119" y="512"/>
                    </a:lnTo>
                    <a:lnTo>
                      <a:pt x="171" y="430"/>
                    </a:lnTo>
                    <a:lnTo>
                      <a:pt x="230" y="355"/>
                    </a:lnTo>
                    <a:lnTo>
                      <a:pt x="290" y="289"/>
                    </a:lnTo>
                    <a:lnTo>
                      <a:pt x="364" y="222"/>
                    </a:lnTo>
                    <a:lnTo>
                      <a:pt x="440" y="170"/>
                    </a:lnTo>
                    <a:lnTo>
                      <a:pt x="521" y="118"/>
                    </a:lnTo>
                    <a:lnTo>
                      <a:pt x="603" y="74"/>
                    </a:lnTo>
                    <a:lnTo>
                      <a:pt x="693" y="44"/>
                    </a:lnTo>
                    <a:lnTo>
                      <a:pt x="789" y="22"/>
                    </a:lnTo>
                    <a:lnTo>
                      <a:pt x="886" y="7"/>
                    </a:lnTo>
                    <a:lnTo>
                      <a:pt x="990" y="0"/>
                    </a:lnTo>
                    <a:lnTo>
                      <a:pt x="1646" y="0"/>
                    </a:lnTo>
                    <a:lnTo>
                      <a:pt x="1646" y="348"/>
                    </a:lnTo>
                    <a:lnTo>
                      <a:pt x="1013" y="348"/>
                    </a:lnTo>
                    <a:lnTo>
                      <a:pt x="946" y="348"/>
                    </a:lnTo>
                    <a:lnTo>
                      <a:pt x="886" y="355"/>
                    </a:lnTo>
                    <a:lnTo>
                      <a:pt x="827" y="370"/>
                    </a:lnTo>
                    <a:lnTo>
                      <a:pt x="767" y="393"/>
                    </a:lnTo>
                    <a:lnTo>
                      <a:pt x="655" y="452"/>
                    </a:lnTo>
                    <a:lnTo>
                      <a:pt x="566" y="534"/>
                    </a:lnTo>
                    <a:lnTo>
                      <a:pt x="484" y="623"/>
                    </a:lnTo>
                    <a:lnTo>
                      <a:pt x="425" y="735"/>
                    </a:lnTo>
                    <a:lnTo>
                      <a:pt x="401" y="794"/>
                    </a:lnTo>
                    <a:lnTo>
                      <a:pt x="387" y="853"/>
                    </a:lnTo>
                    <a:lnTo>
                      <a:pt x="379" y="913"/>
                    </a:lnTo>
                    <a:lnTo>
                      <a:pt x="379" y="979"/>
                    </a:lnTo>
                    <a:lnTo>
                      <a:pt x="379" y="1046"/>
                    </a:lnTo>
                    <a:lnTo>
                      <a:pt x="387" y="1106"/>
                    </a:lnTo>
                    <a:lnTo>
                      <a:pt x="401" y="1172"/>
                    </a:lnTo>
                    <a:lnTo>
                      <a:pt x="425" y="1224"/>
                    </a:lnTo>
                    <a:lnTo>
                      <a:pt x="484" y="1335"/>
                    </a:lnTo>
                    <a:lnTo>
                      <a:pt x="566" y="1432"/>
                    </a:lnTo>
                    <a:lnTo>
                      <a:pt x="655" y="1507"/>
                    </a:lnTo>
                    <a:lnTo>
                      <a:pt x="767" y="1566"/>
                    </a:lnTo>
                    <a:lnTo>
                      <a:pt x="827" y="1589"/>
                    </a:lnTo>
                    <a:lnTo>
                      <a:pt x="886" y="1603"/>
                    </a:lnTo>
                    <a:lnTo>
                      <a:pt x="946" y="1611"/>
                    </a:lnTo>
                    <a:lnTo>
                      <a:pt x="1013" y="1618"/>
                    </a:lnTo>
                    <a:lnTo>
                      <a:pt x="1646" y="1618"/>
                    </a:lnTo>
                    <a:lnTo>
                      <a:pt x="1646" y="1959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4753080" y="4727520"/>
              <a:ext cx="849600" cy="705240"/>
            </a:xfrm>
            <a:custGeom>
              <a:avLst/>
              <a:gdLst/>
              <a:ahLst/>
              <a:rect l="0" t="0" r="r" b="b"/>
              <a:pathLst>
                <a:path w="2360" h="1959">
                  <a:moveTo>
                    <a:pt x="979" y="1959"/>
                  </a:moveTo>
                  <a:lnTo>
                    <a:pt x="875" y="1959"/>
                  </a:lnTo>
                  <a:lnTo>
                    <a:pt x="778" y="1945"/>
                  </a:lnTo>
                  <a:lnTo>
                    <a:pt x="682" y="1915"/>
                  </a:lnTo>
                  <a:lnTo>
                    <a:pt x="593" y="1885"/>
                  </a:lnTo>
                  <a:lnTo>
                    <a:pt x="511" y="1841"/>
                  </a:lnTo>
                  <a:lnTo>
                    <a:pt x="430" y="1796"/>
                  </a:lnTo>
                  <a:lnTo>
                    <a:pt x="356" y="1737"/>
                  </a:lnTo>
                  <a:lnTo>
                    <a:pt x="281" y="1678"/>
                  </a:lnTo>
                  <a:lnTo>
                    <a:pt x="222" y="1603"/>
                  </a:lnTo>
                  <a:lnTo>
                    <a:pt x="163" y="1529"/>
                  </a:lnTo>
                  <a:lnTo>
                    <a:pt x="118" y="1447"/>
                  </a:lnTo>
                  <a:lnTo>
                    <a:pt x="74" y="1365"/>
                  </a:lnTo>
                  <a:lnTo>
                    <a:pt x="44" y="1269"/>
                  </a:lnTo>
                  <a:lnTo>
                    <a:pt x="14" y="1180"/>
                  </a:lnTo>
                  <a:lnTo>
                    <a:pt x="0" y="1083"/>
                  </a:lnTo>
                  <a:lnTo>
                    <a:pt x="0" y="979"/>
                  </a:lnTo>
                  <a:lnTo>
                    <a:pt x="0" y="883"/>
                  </a:lnTo>
                  <a:lnTo>
                    <a:pt x="14" y="779"/>
                  </a:lnTo>
                  <a:lnTo>
                    <a:pt x="44" y="690"/>
                  </a:lnTo>
                  <a:lnTo>
                    <a:pt x="74" y="601"/>
                  </a:lnTo>
                  <a:lnTo>
                    <a:pt x="118" y="512"/>
                  </a:lnTo>
                  <a:lnTo>
                    <a:pt x="163" y="430"/>
                  </a:lnTo>
                  <a:lnTo>
                    <a:pt x="222" y="355"/>
                  </a:lnTo>
                  <a:lnTo>
                    <a:pt x="281" y="289"/>
                  </a:lnTo>
                  <a:lnTo>
                    <a:pt x="356" y="222"/>
                  </a:lnTo>
                  <a:lnTo>
                    <a:pt x="430" y="170"/>
                  </a:lnTo>
                  <a:lnTo>
                    <a:pt x="511" y="118"/>
                  </a:lnTo>
                  <a:lnTo>
                    <a:pt x="593" y="74"/>
                  </a:lnTo>
                  <a:lnTo>
                    <a:pt x="682" y="44"/>
                  </a:lnTo>
                  <a:lnTo>
                    <a:pt x="778" y="22"/>
                  </a:lnTo>
                  <a:lnTo>
                    <a:pt x="875" y="7"/>
                  </a:lnTo>
                  <a:lnTo>
                    <a:pt x="979" y="0"/>
                  </a:lnTo>
                  <a:lnTo>
                    <a:pt x="2330" y="0"/>
                  </a:lnTo>
                  <a:lnTo>
                    <a:pt x="2107" y="348"/>
                  </a:lnTo>
                  <a:lnTo>
                    <a:pt x="1001" y="348"/>
                  </a:lnTo>
                  <a:lnTo>
                    <a:pt x="934" y="348"/>
                  </a:lnTo>
                  <a:lnTo>
                    <a:pt x="875" y="355"/>
                  </a:lnTo>
                  <a:lnTo>
                    <a:pt x="816" y="370"/>
                  </a:lnTo>
                  <a:lnTo>
                    <a:pt x="756" y="393"/>
                  </a:lnTo>
                  <a:lnTo>
                    <a:pt x="645" y="452"/>
                  </a:lnTo>
                  <a:lnTo>
                    <a:pt x="556" y="534"/>
                  </a:lnTo>
                  <a:lnTo>
                    <a:pt x="474" y="623"/>
                  </a:lnTo>
                  <a:lnTo>
                    <a:pt x="415" y="735"/>
                  </a:lnTo>
                  <a:lnTo>
                    <a:pt x="393" y="794"/>
                  </a:lnTo>
                  <a:lnTo>
                    <a:pt x="378" y="853"/>
                  </a:lnTo>
                  <a:lnTo>
                    <a:pt x="370" y="913"/>
                  </a:lnTo>
                  <a:lnTo>
                    <a:pt x="370" y="979"/>
                  </a:lnTo>
                  <a:lnTo>
                    <a:pt x="370" y="1046"/>
                  </a:lnTo>
                  <a:lnTo>
                    <a:pt x="378" y="1106"/>
                  </a:lnTo>
                  <a:lnTo>
                    <a:pt x="393" y="1172"/>
                  </a:lnTo>
                  <a:lnTo>
                    <a:pt x="415" y="1224"/>
                  </a:lnTo>
                  <a:lnTo>
                    <a:pt x="474" y="1335"/>
                  </a:lnTo>
                  <a:lnTo>
                    <a:pt x="556" y="1432"/>
                  </a:lnTo>
                  <a:lnTo>
                    <a:pt x="645" y="1507"/>
                  </a:lnTo>
                  <a:lnTo>
                    <a:pt x="756" y="1566"/>
                  </a:lnTo>
                  <a:lnTo>
                    <a:pt x="816" y="1589"/>
                  </a:lnTo>
                  <a:lnTo>
                    <a:pt x="875" y="1603"/>
                  </a:lnTo>
                  <a:lnTo>
                    <a:pt x="934" y="1611"/>
                  </a:lnTo>
                  <a:lnTo>
                    <a:pt x="1001" y="1618"/>
                  </a:lnTo>
                  <a:lnTo>
                    <a:pt x="2360" y="1618"/>
                  </a:lnTo>
                  <a:lnTo>
                    <a:pt x="2145" y="1959"/>
                  </a:lnTo>
                  <a:lnTo>
                    <a:pt x="979" y="1959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405480" y="4727520"/>
              <a:ext cx="856080" cy="705240"/>
            </a:xfrm>
            <a:custGeom>
              <a:avLst/>
              <a:gdLst/>
              <a:ahLst/>
              <a:rect l="0" t="0" r="r" b="b"/>
              <a:pathLst>
                <a:path w="2378" h="1959">
                  <a:moveTo>
                    <a:pt x="1006" y="1618"/>
                  </a:moveTo>
                  <a:lnTo>
                    <a:pt x="902" y="1603"/>
                  </a:lnTo>
                  <a:lnTo>
                    <a:pt x="798" y="1581"/>
                  </a:lnTo>
                  <a:lnTo>
                    <a:pt x="708" y="1537"/>
                  </a:lnTo>
                  <a:lnTo>
                    <a:pt x="619" y="1485"/>
                  </a:lnTo>
                  <a:lnTo>
                    <a:pt x="543" y="1417"/>
                  </a:lnTo>
                  <a:lnTo>
                    <a:pt x="484" y="1335"/>
                  </a:lnTo>
                  <a:lnTo>
                    <a:pt x="432" y="1246"/>
                  </a:lnTo>
                  <a:lnTo>
                    <a:pt x="394" y="1150"/>
                  </a:lnTo>
                  <a:lnTo>
                    <a:pt x="2013" y="1150"/>
                  </a:lnTo>
                  <a:lnTo>
                    <a:pt x="2237" y="809"/>
                  </a:lnTo>
                  <a:lnTo>
                    <a:pt x="394" y="809"/>
                  </a:lnTo>
                  <a:lnTo>
                    <a:pt x="432" y="712"/>
                  </a:lnTo>
                  <a:lnTo>
                    <a:pt x="484" y="623"/>
                  </a:lnTo>
                  <a:lnTo>
                    <a:pt x="543" y="542"/>
                  </a:lnTo>
                  <a:lnTo>
                    <a:pt x="619" y="474"/>
                  </a:lnTo>
                  <a:lnTo>
                    <a:pt x="708" y="422"/>
                  </a:lnTo>
                  <a:lnTo>
                    <a:pt x="798" y="378"/>
                  </a:lnTo>
                  <a:lnTo>
                    <a:pt x="902" y="355"/>
                  </a:lnTo>
                  <a:lnTo>
                    <a:pt x="1006" y="348"/>
                  </a:lnTo>
                  <a:lnTo>
                    <a:pt x="2125" y="348"/>
                  </a:lnTo>
                  <a:lnTo>
                    <a:pt x="2341" y="0"/>
                  </a:lnTo>
                  <a:lnTo>
                    <a:pt x="984" y="0"/>
                  </a:lnTo>
                  <a:lnTo>
                    <a:pt x="880" y="7"/>
                  </a:lnTo>
                  <a:lnTo>
                    <a:pt x="783" y="22"/>
                  </a:lnTo>
                  <a:lnTo>
                    <a:pt x="693" y="44"/>
                  </a:lnTo>
                  <a:lnTo>
                    <a:pt x="597" y="74"/>
                  </a:lnTo>
                  <a:lnTo>
                    <a:pt x="514" y="118"/>
                  </a:lnTo>
                  <a:lnTo>
                    <a:pt x="432" y="170"/>
                  </a:lnTo>
                  <a:lnTo>
                    <a:pt x="357" y="222"/>
                  </a:lnTo>
                  <a:lnTo>
                    <a:pt x="283" y="289"/>
                  </a:lnTo>
                  <a:lnTo>
                    <a:pt x="223" y="355"/>
                  </a:lnTo>
                  <a:lnTo>
                    <a:pt x="163" y="430"/>
                  </a:lnTo>
                  <a:lnTo>
                    <a:pt x="119" y="512"/>
                  </a:lnTo>
                  <a:lnTo>
                    <a:pt x="74" y="601"/>
                  </a:lnTo>
                  <a:lnTo>
                    <a:pt x="44" y="690"/>
                  </a:lnTo>
                  <a:lnTo>
                    <a:pt x="14" y="779"/>
                  </a:lnTo>
                  <a:lnTo>
                    <a:pt x="0" y="883"/>
                  </a:lnTo>
                  <a:lnTo>
                    <a:pt x="0" y="979"/>
                  </a:lnTo>
                  <a:lnTo>
                    <a:pt x="0" y="1083"/>
                  </a:lnTo>
                  <a:lnTo>
                    <a:pt x="14" y="1180"/>
                  </a:lnTo>
                  <a:lnTo>
                    <a:pt x="44" y="1269"/>
                  </a:lnTo>
                  <a:lnTo>
                    <a:pt x="74" y="1365"/>
                  </a:lnTo>
                  <a:lnTo>
                    <a:pt x="119" y="1447"/>
                  </a:lnTo>
                  <a:lnTo>
                    <a:pt x="163" y="1529"/>
                  </a:lnTo>
                  <a:lnTo>
                    <a:pt x="223" y="1603"/>
                  </a:lnTo>
                  <a:lnTo>
                    <a:pt x="283" y="1678"/>
                  </a:lnTo>
                  <a:lnTo>
                    <a:pt x="357" y="1737"/>
                  </a:lnTo>
                  <a:lnTo>
                    <a:pt x="432" y="1796"/>
                  </a:lnTo>
                  <a:lnTo>
                    <a:pt x="514" y="1841"/>
                  </a:lnTo>
                  <a:lnTo>
                    <a:pt x="597" y="1885"/>
                  </a:lnTo>
                  <a:lnTo>
                    <a:pt x="693" y="1915"/>
                  </a:lnTo>
                  <a:lnTo>
                    <a:pt x="783" y="1945"/>
                  </a:lnTo>
                  <a:lnTo>
                    <a:pt x="880" y="1959"/>
                  </a:lnTo>
                  <a:lnTo>
                    <a:pt x="984" y="1959"/>
                  </a:lnTo>
                  <a:lnTo>
                    <a:pt x="2155" y="1959"/>
                  </a:lnTo>
                  <a:lnTo>
                    <a:pt x="2378" y="1618"/>
                  </a:lnTo>
                  <a:lnTo>
                    <a:pt x="1006" y="1618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851040" y="4861080"/>
            <a:ext cx="746892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594240" y="909720"/>
            <a:ext cx="1929960" cy="1917720"/>
            <a:chOff x="3594240" y="909720"/>
            <a:chExt cx="1929960" cy="1917720"/>
          </a:xfrm>
        </p:grpSpPr>
        <p:sp>
          <p:nvSpPr>
            <p:cNvPr id="275" name=""/>
            <p:cNvSpPr/>
            <p:nvPr/>
          </p:nvSpPr>
          <p:spPr>
            <a:xfrm>
              <a:off x="3597120" y="909720"/>
              <a:ext cx="1927080" cy="1917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66a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13320" y="1182600"/>
              <a:ext cx="1899000" cy="1362600"/>
            </a:xfrm>
            <a:custGeom>
              <a:avLst/>
              <a:gdLst/>
              <a:ahLst/>
              <a:rect l="0" t="0" r="r" b="b"/>
              <a:pathLst>
                <a:path w="5275" h="3785">
                  <a:moveTo>
                    <a:pt x="574" y="327"/>
                  </a:moveTo>
                  <a:lnTo>
                    <a:pt x="631" y="338"/>
                  </a:lnTo>
                  <a:lnTo>
                    <a:pt x="677" y="292"/>
                  </a:lnTo>
                  <a:lnTo>
                    <a:pt x="729" y="264"/>
                  </a:lnTo>
                  <a:lnTo>
                    <a:pt x="764" y="229"/>
                  </a:lnTo>
                  <a:lnTo>
                    <a:pt x="827" y="189"/>
                  </a:lnTo>
                  <a:lnTo>
                    <a:pt x="867" y="172"/>
                  </a:lnTo>
                  <a:lnTo>
                    <a:pt x="919" y="143"/>
                  </a:lnTo>
                  <a:lnTo>
                    <a:pt x="965" y="143"/>
                  </a:lnTo>
                  <a:lnTo>
                    <a:pt x="999" y="137"/>
                  </a:lnTo>
                  <a:lnTo>
                    <a:pt x="1039" y="137"/>
                  </a:lnTo>
                  <a:lnTo>
                    <a:pt x="1062" y="109"/>
                  </a:lnTo>
                  <a:lnTo>
                    <a:pt x="1114" y="120"/>
                  </a:lnTo>
                  <a:lnTo>
                    <a:pt x="1166" y="97"/>
                  </a:lnTo>
                  <a:lnTo>
                    <a:pt x="1206" y="109"/>
                  </a:lnTo>
                  <a:lnTo>
                    <a:pt x="1229" y="132"/>
                  </a:lnTo>
                  <a:lnTo>
                    <a:pt x="1206" y="143"/>
                  </a:lnTo>
                  <a:lnTo>
                    <a:pt x="1166" y="137"/>
                  </a:lnTo>
                  <a:lnTo>
                    <a:pt x="1126" y="166"/>
                  </a:lnTo>
                  <a:lnTo>
                    <a:pt x="1097" y="195"/>
                  </a:lnTo>
                  <a:lnTo>
                    <a:pt x="1091" y="235"/>
                  </a:lnTo>
                  <a:lnTo>
                    <a:pt x="1051" y="241"/>
                  </a:lnTo>
                  <a:lnTo>
                    <a:pt x="999" y="264"/>
                  </a:lnTo>
                  <a:lnTo>
                    <a:pt x="988" y="321"/>
                  </a:lnTo>
                  <a:lnTo>
                    <a:pt x="982" y="367"/>
                  </a:lnTo>
                  <a:lnTo>
                    <a:pt x="965" y="407"/>
                  </a:lnTo>
                  <a:lnTo>
                    <a:pt x="988" y="436"/>
                  </a:lnTo>
                  <a:lnTo>
                    <a:pt x="1016" y="344"/>
                  </a:lnTo>
                  <a:lnTo>
                    <a:pt x="1051" y="327"/>
                  </a:lnTo>
                  <a:lnTo>
                    <a:pt x="1091" y="281"/>
                  </a:lnTo>
                  <a:lnTo>
                    <a:pt x="1120" y="223"/>
                  </a:lnTo>
                  <a:lnTo>
                    <a:pt x="1189" y="200"/>
                  </a:lnTo>
                  <a:lnTo>
                    <a:pt x="1246" y="177"/>
                  </a:lnTo>
                  <a:lnTo>
                    <a:pt x="1281" y="126"/>
                  </a:lnTo>
                  <a:lnTo>
                    <a:pt x="1332" y="126"/>
                  </a:lnTo>
                  <a:lnTo>
                    <a:pt x="1436" y="120"/>
                  </a:lnTo>
                  <a:lnTo>
                    <a:pt x="1551" y="97"/>
                  </a:lnTo>
                  <a:lnTo>
                    <a:pt x="1591" y="91"/>
                  </a:lnTo>
                  <a:lnTo>
                    <a:pt x="1643" y="91"/>
                  </a:lnTo>
                  <a:lnTo>
                    <a:pt x="1694" y="91"/>
                  </a:lnTo>
                  <a:lnTo>
                    <a:pt x="1740" y="109"/>
                  </a:lnTo>
                  <a:lnTo>
                    <a:pt x="1798" y="160"/>
                  </a:lnTo>
                  <a:lnTo>
                    <a:pt x="1775" y="166"/>
                  </a:lnTo>
                  <a:lnTo>
                    <a:pt x="1712" y="183"/>
                  </a:lnTo>
                  <a:lnTo>
                    <a:pt x="1717" y="235"/>
                  </a:lnTo>
                  <a:lnTo>
                    <a:pt x="1769" y="241"/>
                  </a:lnTo>
                  <a:lnTo>
                    <a:pt x="1792" y="241"/>
                  </a:lnTo>
                  <a:lnTo>
                    <a:pt x="1786" y="287"/>
                  </a:lnTo>
                  <a:lnTo>
                    <a:pt x="1717" y="338"/>
                  </a:lnTo>
                  <a:lnTo>
                    <a:pt x="1683" y="344"/>
                  </a:lnTo>
                  <a:lnTo>
                    <a:pt x="1689" y="378"/>
                  </a:lnTo>
                  <a:lnTo>
                    <a:pt x="1706" y="401"/>
                  </a:lnTo>
                  <a:lnTo>
                    <a:pt x="1683" y="436"/>
                  </a:lnTo>
                  <a:lnTo>
                    <a:pt x="1712" y="482"/>
                  </a:lnTo>
                  <a:lnTo>
                    <a:pt x="1654" y="499"/>
                  </a:lnTo>
                  <a:lnTo>
                    <a:pt x="1591" y="522"/>
                  </a:lnTo>
                  <a:lnTo>
                    <a:pt x="1585" y="585"/>
                  </a:lnTo>
                  <a:lnTo>
                    <a:pt x="1551" y="631"/>
                  </a:lnTo>
                  <a:lnTo>
                    <a:pt x="1516" y="665"/>
                  </a:lnTo>
                  <a:lnTo>
                    <a:pt x="1465" y="694"/>
                  </a:lnTo>
                  <a:lnTo>
                    <a:pt x="1585" y="694"/>
                  </a:lnTo>
                  <a:lnTo>
                    <a:pt x="1654" y="694"/>
                  </a:lnTo>
                  <a:lnTo>
                    <a:pt x="1689" y="711"/>
                  </a:lnTo>
                  <a:lnTo>
                    <a:pt x="1740" y="683"/>
                  </a:lnTo>
                  <a:lnTo>
                    <a:pt x="1769" y="734"/>
                  </a:lnTo>
                  <a:lnTo>
                    <a:pt x="2447" y="734"/>
                  </a:lnTo>
                  <a:lnTo>
                    <a:pt x="2481" y="694"/>
                  </a:lnTo>
                  <a:lnTo>
                    <a:pt x="2545" y="648"/>
                  </a:lnTo>
                  <a:lnTo>
                    <a:pt x="2585" y="574"/>
                  </a:lnTo>
                  <a:lnTo>
                    <a:pt x="2643" y="505"/>
                  </a:lnTo>
                  <a:lnTo>
                    <a:pt x="2666" y="447"/>
                  </a:lnTo>
                  <a:lnTo>
                    <a:pt x="2701" y="384"/>
                  </a:lnTo>
                  <a:lnTo>
                    <a:pt x="2747" y="367"/>
                  </a:lnTo>
                  <a:lnTo>
                    <a:pt x="2764" y="327"/>
                  </a:lnTo>
                  <a:lnTo>
                    <a:pt x="2810" y="344"/>
                  </a:lnTo>
                  <a:lnTo>
                    <a:pt x="2850" y="304"/>
                  </a:lnTo>
                  <a:lnTo>
                    <a:pt x="2879" y="338"/>
                  </a:lnTo>
                  <a:lnTo>
                    <a:pt x="2931" y="355"/>
                  </a:lnTo>
                  <a:lnTo>
                    <a:pt x="2982" y="373"/>
                  </a:lnTo>
                  <a:lnTo>
                    <a:pt x="3034" y="384"/>
                  </a:lnTo>
                  <a:lnTo>
                    <a:pt x="3068" y="367"/>
                  </a:lnTo>
                  <a:lnTo>
                    <a:pt x="3114" y="396"/>
                  </a:lnTo>
                  <a:lnTo>
                    <a:pt x="3155" y="436"/>
                  </a:lnTo>
                  <a:lnTo>
                    <a:pt x="3212" y="447"/>
                  </a:lnTo>
                  <a:lnTo>
                    <a:pt x="3224" y="499"/>
                  </a:lnTo>
                  <a:lnTo>
                    <a:pt x="3195" y="533"/>
                  </a:lnTo>
                  <a:lnTo>
                    <a:pt x="3120" y="522"/>
                  </a:lnTo>
                  <a:lnTo>
                    <a:pt x="3063" y="493"/>
                  </a:lnTo>
                  <a:lnTo>
                    <a:pt x="3057" y="539"/>
                  </a:lnTo>
                  <a:lnTo>
                    <a:pt x="3132" y="545"/>
                  </a:lnTo>
                  <a:lnTo>
                    <a:pt x="3195" y="591"/>
                  </a:lnTo>
                  <a:lnTo>
                    <a:pt x="3287" y="556"/>
                  </a:lnTo>
                  <a:lnTo>
                    <a:pt x="3310" y="488"/>
                  </a:lnTo>
                  <a:lnTo>
                    <a:pt x="3350" y="430"/>
                  </a:lnTo>
                  <a:lnTo>
                    <a:pt x="3402" y="442"/>
                  </a:lnTo>
                  <a:lnTo>
                    <a:pt x="3390" y="476"/>
                  </a:lnTo>
                  <a:lnTo>
                    <a:pt x="3361" y="499"/>
                  </a:lnTo>
                  <a:lnTo>
                    <a:pt x="3361" y="545"/>
                  </a:lnTo>
                  <a:lnTo>
                    <a:pt x="3419" y="493"/>
                  </a:lnTo>
                  <a:lnTo>
                    <a:pt x="3471" y="447"/>
                  </a:lnTo>
                  <a:lnTo>
                    <a:pt x="3551" y="436"/>
                  </a:lnTo>
                  <a:lnTo>
                    <a:pt x="3660" y="401"/>
                  </a:lnTo>
                  <a:lnTo>
                    <a:pt x="3741" y="367"/>
                  </a:lnTo>
                  <a:lnTo>
                    <a:pt x="3752" y="321"/>
                  </a:lnTo>
                  <a:lnTo>
                    <a:pt x="3689" y="327"/>
                  </a:lnTo>
                  <a:lnTo>
                    <a:pt x="3631" y="287"/>
                  </a:lnTo>
                  <a:lnTo>
                    <a:pt x="3591" y="223"/>
                  </a:lnTo>
                  <a:lnTo>
                    <a:pt x="3631" y="137"/>
                  </a:lnTo>
                  <a:lnTo>
                    <a:pt x="3695" y="80"/>
                  </a:lnTo>
                  <a:lnTo>
                    <a:pt x="3746" y="34"/>
                  </a:lnTo>
                  <a:lnTo>
                    <a:pt x="3833" y="34"/>
                  </a:lnTo>
                  <a:lnTo>
                    <a:pt x="3896" y="0"/>
                  </a:lnTo>
                  <a:lnTo>
                    <a:pt x="3890" y="40"/>
                  </a:lnTo>
                  <a:lnTo>
                    <a:pt x="3838" y="45"/>
                  </a:lnTo>
                  <a:lnTo>
                    <a:pt x="3810" y="68"/>
                  </a:lnTo>
                  <a:lnTo>
                    <a:pt x="3758" y="74"/>
                  </a:lnTo>
                  <a:lnTo>
                    <a:pt x="3735" y="120"/>
                  </a:lnTo>
                  <a:lnTo>
                    <a:pt x="3700" y="172"/>
                  </a:lnTo>
                  <a:lnTo>
                    <a:pt x="3689" y="223"/>
                  </a:lnTo>
                  <a:lnTo>
                    <a:pt x="3746" y="304"/>
                  </a:lnTo>
                  <a:lnTo>
                    <a:pt x="3844" y="350"/>
                  </a:lnTo>
                  <a:lnTo>
                    <a:pt x="3907" y="378"/>
                  </a:lnTo>
                  <a:lnTo>
                    <a:pt x="3936" y="396"/>
                  </a:lnTo>
                  <a:lnTo>
                    <a:pt x="3965" y="436"/>
                  </a:lnTo>
                  <a:lnTo>
                    <a:pt x="3993" y="430"/>
                  </a:lnTo>
                  <a:lnTo>
                    <a:pt x="3993" y="396"/>
                  </a:lnTo>
                  <a:lnTo>
                    <a:pt x="3982" y="344"/>
                  </a:lnTo>
                  <a:lnTo>
                    <a:pt x="3953" y="315"/>
                  </a:lnTo>
                  <a:lnTo>
                    <a:pt x="3947" y="281"/>
                  </a:lnTo>
                  <a:lnTo>
                    <a:pt x="3965" y="218"/>
                  </a:lnTo>
                  <a:lnTo>
                    <a:pt x="4034" y="218"/>
                  </a:lnTo>
                  <a:lnTo>
                    <a:pt x="4085" y="218"/>
                  </a:lnTo>
                  <a:lnTo>
                    <a:pt x="4114" y="241"/>
                  </a:lnTo>
                  <a:lnTo>
                    <a:pt x="4120" y="298"/>
                  </a:lnTo>
                  <a:lnTo>
                    <a:pt x="4148" y="350"/>
                  </a:lnTo>
                  <a:lnTo>
                    <a:pt x="4160" y="298"/>
                  </a:lnTo>
                  <a:lnTo>
                    <a:pt x="4206" y="264"/>
                  </a:lnTo>
                  <a:lnTo>
                    <a:pt x="4258" y="264"/>
                  </a:lnTo>
                  <a:lnTo>
                    <a:pt x="4304" y="264"/>
                  </a:lnTo>
                  <a:lnTo>
                    <a:pt x="4350" y="269"/>
                  </a:lnTo>
                  <a:lnTo>
                    <a:pt x="4350" y="218"/>
                  </a:lnTo>
                  <a:lnTo>
                    <a:pt x="4378" y="223"/>
                  </a:lnTo>
                  <a:lnTo>
                    <a:pt x="4413" y="252"/>
                  </a:lnTo>
                  <a:lnTo>
                    <a:pt x="4470" y="252"/>
                  </a:lnTo>
                  <a:lnTo>
                    <a:pt x="4522" y="235"/>
                  </a:lnTo>
                  <a:lnTo>
                    <a:pt x="4574" y="281"/>
                  </a:lnTo>
                  <a:lnTo>
                    <a:pt x="4637" y="338"/>
                  </a:lnTo>
                  <a:lnTo>
                    <a:pt x="4706" y="350"/>
                  </a:lnTo>
                  <a:lnTo>
                    <a:pt x="4798" y="384"/>
                  </a:lnTo>
                  <a:lnTo>
                    <a:pt x="4821" y="378"/>
                  </a:lnTo>
                  <a:lnTo>
                    <a:pt x="4890" y="493"/>
                  </a:lnTo>
                  <a:lnTo>
                    <a:pt x="4993" y="665"/>
                  </a:lnTo>
                  <a:lnTo>
                    <a:pt x="5056" y="780"/>
                  </a:lnTo>
                  <a:lnTo>
                    <a:pt x="5102" y="889"/>
                  </a:lnTo>
                  <a:lnTo>
                    <a:pt x="5050" y="907"/>
                  </a:lnTo>
                  <a:lnTo>
                    <a:pt x="5033" y="959"/>
                  </a:lnTo>
                  <a:lnTo>
                    <a:pt x="5050" y="1040"/>
                  </a:lnTo>
                  <a:lnTo>
                    <a:pt x="5085" y="1120"/>
                  </a:lnTo>
                  <a:lnTo>
                    <a:pt x="5108" y="1120"/>
                  </a:lnTo>
                  <a:lnTo>
                    <a:pt x="5119" y="1057"/>
                  </a:lnTo>
                  <a:lnTo>
                    <a:pt x="5154" y="1040"/>
                  </a:lnTo>
                  <a:lnTo>
                    <a:pt x="5171" y="1097"/>
                  </a:lnTo>
                  <a:lnTo>
                    <a:pt x="5125" y="1120"/>
                  </a:lnTo>
                  <a:lnTo>
                    <a:pt x="5200" y="1177"/>
                  </a:lnTo>
                  <a:lnTo>
                    <a:pt x="5148" y="1246"/>
                  </a:lnTo>
                  <a:lnTo>
                    <a:pt x="5137" y="1281"/>
                  </a:lnTo>
                  <a:lnTo>
                    <a:pt x="5223" y="1304"/>
                  </a:lnTo>
                  <a:lnTo>
                    <a:pt x="5183" y="1355"/>
                  </a:lnTo>
                  <a:lnTo>
                    <a:pt x="5142" y="1367"/>
                  </a:lnTo>
                  <a:lnTo>
                    <a:pt x="5142" y="1453"/>
                  </a:lnTo>
                  <a:lnTo>
                    <a:pt x="5183" y="1522"/>
                  </a:lnTo>
                  <a:lnTo>
                    <a:pt x="5142" y="1533"/>
                  </a:lnTo>
                  <a:lnTo>
                    <a:pt x="5056" y="1516"/>
                  </a:lnTo>
                  <a:lnTo>
                    <a:pt x="5096" y="1476"/>
                  </a:lnTo>
                  <a:lnTo>
                    <a:pt x="5148" y="1476"/>
                  </a:lnTo>
                  <a:lnTo>
                    <a:pt x="5148" y="1390"/>
                  </a:lnTo>
                  <a:lnTo>
                    <a:pt x="5091" y="1419"/>
                  </a:lnTo>
                  <a:lnTo>
                    <a:pt x="5085" y="1350"/>
                  </a:lnTo>
                  <a:lnTo>
                    <a:pt x="5137" y="1304"/>
                  </a:lnTo>
                  <a:lnTo>
                    <a:pt x="5148" y="1258"/>
                  </a:lnTo>
                  <a:lnTo>
                    <a:pt x="5119" y="1195"/>
                  </a:lnTo>
                  <a:lnTo>
                    <a:pt x="5108" y="1114"/>
                  </a:lnTo>
                  <a:lnTo>
                    <a:pt x="5079" y="1149"/>
                  </a:lnTo>
                  <a:lnTo>
                    <a:pt x="5039" y="1206"/>
                  </a:lnTo>
                  <a:lnTo>
                    <a:pt x="4976" y="1258"/>
                  </a:lnTo>
                  <a:lnTo>
                    <a:pt x="4993" y="1327"/>
                  </a:lnTo>
                  <a:lnTo>
                    <a:pt x="4987" y="1390"/>
                  </a:lnTo>
                  <a:lnTo>
                    <a:pt x="4987" y="1424"/>
                  </a:lnTo>
                  <a:lnTo>
                    <a:pt x="5016" y="1482"/>
                  </a:lnTo>
                  <a:lnTo>
                    <a:pt x="4993" y="1510"/>
                  </a:lnTo>
                  <a:lnTo>
                    <a:pt x="4930" y="1442"/>
                  </a:lnTo>
                  <a:lnTo>
                    <a:pt x="4890" y="1367"/>
                  </a:lnTo>
                  <a:lnTo>
                    <a:pt x="4872" y="1321"/>
                  </a:lnTo>
                  <a:lnTo>
                    <a:pt x="4838" y="1287"/>
                  </a:lnTo>
                  <a:lnTo>
                    <a:pt x="4792" y="1327"/>
                  </a:lnTo>
                  <a:lnTo>
                    <a:pt x="4763" y="1378"/>
                  </a:lnTo>
                  <a:lnTo>
                    <a:pt x="4826" y="1442"/>
                  </a:lnTo>
                  <a:lnTo>
                    <a:pt x="4861" y="1510"/>
                  </a:lnTo>
                  <a:lnTo>
                    <a:pt x="4872" y="1591"/>
                  </a:lnTo>
                  <a:lnTo>
                    <a:pt x="4867" y="1665"/>
                  </a:lnTo>
                  <a:lnTo>
                    <a:pt x="4867" y="1740"/>
                  </a:lnTo>
                  <a:lnTo>
                    <a:pt x="4895" y="1688"/>
                  </a:lnTo>
                  <a:lnTo>
                    <a:pt x="4947" y="1694"/>
                  </a:lnTo>
                  <a:lnTo>
                    <a:pt x="4970" y="1746"/>
                  </a:lnTo>
                  <a:lnTo>
                    <a:pt x="4924" y="1803"/>
                  </a:lnTo>
                  <a:lnTo>
                    <a:pt x="4878" y="1792"/>
                  </a:lnTo>
                  <a:lnTo>
                    <a:pt x="4872" y="1838"/>
                  </a:lnTo>
                  <a:lnTo>
                    <a:pt x="4913" y="1884"/>
                  </a:lnTo>
                  <a:lnTo>
                    <a:pt x="4890" y="1941"/>
                  </a:lnTo>
                  <a:lnTo>
                    <a:pt x="4941" y="1993"/>
                  </a:lnTo>
                  <a:lnTo>
                    <a:pt x="4913" y="2027"/>
                  </a:lnTo>
                  <a:lnTo>
                    <a:pt x="4953" y="2079"/>
                  </a:lnTo>
                  <a:lnTo>
                    <a:pt x="4924" y="2131"/>
                  </a:lnTo>
                  <a:lnTo>
                    <a:pt x="4982" y="2096"/>
                  </a:lnTo>
                  <a:lnTo>
                    <a:pt x="4970" y="2148"/>
                  </a:lnTo>
                  <a:lnTo>
                    <a:pt x="5068" y="2131"/>
                  </a:lnTo>
                  <a:lnTo>
                    <a:pt x="5039" y="2194"/>
                  </a:lnTo>
                  <a:lnTo>
                    <a:pt x="4970" y="2148"/>
                  </a:lnTo>
                  <a:lnTo>
                    <a:pt x="4953" y="2217"/>
                  </a:lnTo>
                  <a:lnTo>
                    <a:pt x="5056" y="2211"/>
                  </a:lnTo>
                  <a:lnTo>
                    <a:pt x="5016" y="2291"/>
                  </a:lnTo>
                  <a:lnTo>
                    <a:pt x="4947" y="2205"/>
                  </a:lnTo>
                  <a:lnTo>
                    <a:pt x="4987" y="2314"/>
                  </a:lnTo>
                  <a:lnTo>
                    <a:pt x="5068" y="2389"/>
                  </a:lnTo>
                  <a:lnTo>
                    <a:pt x="4993" y="2389"/>
                  </a:lnTo>
                  <a:lnTo>
                    <a:pt x="4947" y="2217"/>
                  </a:lnTo>
                  <a:lnTo>
                    <a:pt x="4970" y="2108"/>
                  </a:lnTo>
                  <a:lnTo>
                    <a:pt x="4913" y="2113"/>
                  </a:lnTo>
                  <a:lnTo>
                    <a:pt x="4867" y="2050"/>
                  </a:lnTo>
                  <a:lnTo>
                    <a:pt x="4913" y="2016"/>
                  </a:lnTo>
                  <a:lnTo>
                    <a:pt x="4913" y="1953"/>
                  </a:lnTo>
                  <a:lnTo>
                    <a:pt x="4878" y="1821"/>
                  </a:lnTo>
                  <a:lnTo>
                    <a:pt x="4872" y="1723"/>
                  </a:lnTo>
                  <a:lnTo>
                    <a:pt x="4861" y="1660"/>
                  </a:lnTo>
                  <a:lnTo>
                    <a:pt x="4809" y="1740"/>
                  </a:lnTo>
                  <a:lnTo>
                    <a:pt x="4717" y="1769"/>
                  </a:lnTo>
                  <a:lnTo>
                    <a:pt x="4666" y="1826"/>
                  </a:lnTo>
                  <a:lnTo>
                    <a:pt x="4689" y="1889"/>
                  </a:lnTo>
                  <a:lnTo>
                    <a:pt x="4654" y="1941"/>
                  </a:lnTo>
                  <a:lnTo>
                    <a:pt x="4591" y="1930"/>
                  </a:lnTo>
                  <a:lnTo>
                    <a:pt x="4643" y="1866"/>
                  </a:lnTo>
                  <a:lnTo>
                    <a:pt x="4608" y="1832"/>
                  </a:lnTo>
                  <a:lnTo>
                    <a:pt x="4556" y="1872"/>
                  </a:lnTo>
                  <a:lnTo>
                    <a:pt x="4556" y="1935"/>
                  </a:lnTo>
                  <a:lnTo>
                    <a:pt x="4643" y="2016"/>
                  </a:lnTo>
                  <a:lnTo>
                    <a:pt x="4666" y="2085"/>
                  </a:lnTo>
                  <a:lnTo>
                    <a:pt x="4602" y="2171"/>
                  </a:lnTo>
                  <a:lnTo>
                    <a:pt x="4602" y="2372"/>
                  </a:lnTo>
                  <a:lnTo>
                    <a:pt x="4602" y="2458"/>
                  </a:lnTo>
                  <a:lnTo>
                    <a:pt x="4614" y="2509"/>
                  </a:lnTo>
                  <a:lnTo>
                    <a:pt x="4712" y="2504"/>
                  </a:lnTo>
                  <a:lnTo>
                    <a:pt x="4775" y="2515"/>
                  </a:lnTo>
                  <a:lnTo>
                    <a:pt x="4821" y="2441"/>
                  </a:lnTo>
                  <a:lnTo>
                    <a:pt x="4872" y="2441"/>
                  </a:lnTo>
                  <a:lnTo>
                    <a:pt x="4849" y="2481"/>
                  </a:lnTo>
                  <a:lnTo>
                    <a:pt x="4913" y="2544"/>
                  </a:lnTo>
                  <a:lnTo>
                    <a:pt x="4982" y="2555"/>
                  </a:lnTo>
                  <a:lnTo>
                    <a:pt x="4976" y="2504"/>
                  </a:lnTo>
                  <a:lnTo>
                    <a:pt x="5142" y="2504"/>
                  </a:lnTo>
                  <a:lnTo>
                    <a:pt x="5085" y="2521"/>
                  </a:lnTo>
                  <a:lnTo>
                    <a:pt x="5079" y="2567"/>
                  </a:lnTo>
                  <a:lnTo>
                    <a:pt x="5154" y="2584"/>
                  </a:lnTo>
                  <a:lnTo>
                    <a:pt x="5229" y="2613"/>
                  </a:lnTo>
                  <a:lnTo>
                    <a:pt x="5263" y="2532"/>
                  </a:lnTo>
                  <a:lnTo>
                    <a:pt x="5275" y="2481"/>
                  </a:lnTo>
                  <a:lnTo>
                    <a:pt x="5223" y="2498"/>
                  </a:lnTo>
                  <a:lnTo>
                    <a:pt x="5171" y="2464"/>
                  </a:lnTo>
                  <a:lnTo>
                    <a:pt x="5142" y="2452"/>
                  </a:lnTo>
                  <a:lnTo>
                    <a:pt x="5119" y="2515"/>
                  </a:lnTo>
                  <a:lnTo>
                    <a:pt x="5119" y="2509"/>
                  </a:lnTo>
                  <a:lnTo>
                    <a:pt x="4953" y="2509"/>
                  </a:lnTo>
                  <a:lnTo>
                    <a:pt x="4924" y="2429"/>
                  </a:lnTo>
                  <a:lnTo>
                    <a:pt x="4878" y="2446"/>
                  </a:lnTo>
                  <a:lnTo>
                    <a:pt x="4826" y="2441"/>
                  </a:lnTo>
                  <a:lnTo>
                    <a:pt x="4809" y="2354"/>
                  </a:lnTo>
                  <a:lnTo>
                    <a:pt x="4780" y="2303"/>
                  </a:lnTo>
                  <a:lnTo>
                    <a:pt x="4832" y="2268"/>
                  </a:lnTo>
                  <a:lnTo>
                    <a:pt x="4832" y="2217"/>
                  </a:lnTo>
                  <a:lnTo>
                    <a:pt x="4757" y="2251"/>
                  </a:lnTo>
                  <a:lnTo>
                    <a:pt x="4706" y="2297"/>
                  </a:lnTo>
                  <a:lnTo>
                    <a:pt x="4666" y="2360"/>
                  </a:lnTo>
                  <a:lnTo>
                    <a:pt x="4602" y="2360"/>
                  </a:lnTo>
                  <a:lnTo>
                    <a:pt x="4602" y="2199"/>
                  </a:lnTo>
                  <a:lnTo>
                    <a:pt x="4568" y="2234"/>
                  </a:lnTo>
                  <a:lnTo>
                    <a:pt x="4522" y="2159"/>
                  </a:lnTo>
                  <a:lnTo>
                    <a:pt x="4464" y="2090"/>
                  </a:lnTo>
                  <a:lnTo>
                    <a:pt x="4384" y="2113"/>
                  </a:lnTo>
                  <a:lnTo>
                    <a:pt x="4378" y="2182"/>
                  </a:lnTo>
                  <a:lnTo>
                    <a:pt x="4419" y="2263"/>
                  </a:lnTo>
                  <a:lnTo>
                    <a:pt x="4419" y="2337"/>
                  </a:lnTo>
                  <a:lnTo>
                    <a:pt x="4470" y="2412"/>
                  </a:lnTo>
                  <a:lnTo>
                    <a:pt x="4499" y="2446"/>
                  </a:lnTo>
                  <a:lnTo>
                    <a:pt x="4436" y="2446"/>
                  </a:lnTo>
                  <a:lnTo>
                    <a:pt x="4401" y="2412"/>
                  </a:lnTo>
                  <a:lnTo>
                    <a:pt x="4373" y="2452"/>
                  </a:lnTo>
                  <a:lnTo>
                    <a:pt x="4459" y="2550"/>
                  </a:lnTo>
                  <a:lnTo>
                    <a:pt x="4522" y="2607"/>
                  </a:lnTo>
                  <a:lnTo>
                    <a:pt x="4579" y="2601"/>
                  </a:lnTo>
                  <a:lnTo>
                    <a:pt x="4643" y="2619"/>
                  </a:lnTo>
                  <a:lnTo>
                    <a:pt x="4729" y="2619"/>
                  </a:lnTo>
                  <a:lnTo>
                    <a:pt x="4809" y="2607"/>
                  </a:lnTo>
                  <a:lnTo>
                    <a:pt x="4878" y="2636"/>
                  </a:lnTo>
                  <a:lnTo>
                    <a:pt x="4861" y="2659"/>
                  </a:lnTo>
                  <a:lnTo>
                    <a:pt x="4780" y="2630"/>
                  </a:lnTo>
                  <a:lnTo>
                    <a:pt x="4780" y="2762"/>
                  </a:lnTo>
                  <a:lnTo>
                    <a:pt x="4838" y="2762"/>
                  </a:lnTo>
                  <a:lnTo>
                    <a:pt x="4872" y="2756"/>
                  </a:lnTo>
                  <a:lnTo>
                    <a:pt x="4878" y="2710"/>
                  </a:lnTo>
                  <a:lnTo>
                    <a:pt x="4947" y="2722"/>
                  </a:lnTo>
                  <a:lnTo>
                    <a:pt x="5033" y="2687"/>
                  </a:lnTo>
                  <a:lnTo>
                    <a:pt x="5027" y="2751"/>
                  </a:lnTo>
                  <a:lnTo>
                    <a:pt x="5050" y="2791"/>
                  </a:lnTo>
                  <a:lnTo>
                    <a:pt x="5096" y="2819"/>
                  </a:lnTo>
                  <a:lnTo>
                    <a:pt x="5142" y="2791"/>
                  </a:lnTo>
                  <a:lnTo>
                    <a:pt x="5137" y="2728"/>
                  </a:lnTo>
                  <a:lnTo>
                    <a:pt x="5142" y="2670"/>
                  </a:lnTo>
                  <a:lnTo>
                    <a:pt x="5171" y="2728"/>
                  </a:lnTo>
                  <a:lnTo>
                    <a:pt x="5183" y="2802"/>
                  </a:lnTo>
                  <a:lnTo>
                    <a:pt x="5119" y="2941"/>
                  </a:lnTo>
                  <a:lnTo>
                    <a:pt x="5050" y="3085"/>
                  </a:lnTo>
                  <a:lnTo>
                    <a:pt x="4987" y="3222"/>
                  </a:lnTo>
                  <a:lnTo>
                    <a:pt x="4913" y="3360"/>
                  </a:lnTo>
                  <a:lnTo>
                    <a:pt x="4849" y="3320"/>
                  </a:lnTo>
                  <a:lnTo>
                    <a:pt x="4780" y="3349"/>
                  </a:lnTo>
                  <a:lnTo>
                    <a:pt x="4757" y="3400"/>
                  </a:lnTo>
                  <a:lnTo>
                    <a:pt x="4706" y="3429"/>
                  </a:lnTo>
                  <a:lnTo>
                    <a:pt x="4608" y="3452"/>
                  </a:lnTo>
                  <a:lnTo>
                    <a:pt x="4551" y="3441"/>
                  </a:lnTo>
                  <a:lnTo>
                    <a:pt x="4574" y="3354"/>
                  </a:lnTo>
                  <a:lnTo>
                    <a:pt x="4568" y="3291"/>
                  </a:lnTo>
                  <a:lnTo>
                    <a:pt x="4602" y="3240"/>
                  </a:lnTo>
                  <a:lnTo>
                    <a:pt x="4591" y="3194"/>
                  </a:lnTo>
                  <a:lnTo>
                    <a:pt x="4528" y="3165"/>
                  </a:lnTo>
                  <a:lnTo>
                    <a:pt x="4533" y="3085"/>
                  </a:lnTo>
                  <a:lnTo>
                    <a:pt x="4556" y="2998"/>
                  </a:lnTo>
                  <a:lnTo>
                    <a:pt x="4625" y="2935"/>
                  </a:lnTo>
                  <a:lnTo>
                    <a:pt x="4712" y="2930"/>
                  </a:lnTo>
                  <a:lnTo>
                    <a:pt x="4723" y="2878"/>
                  </a:lnTo>
                  <a:lnTo>
                    <a:pt x="4706" y="2802"/>
                  </a:lnTo>
                  <a:lnTo>
                    <a:pt x="4757" y="2768"/>
                  </a:lnTo>
                  <a:lnTo>
                    <a:pt x="4780" y="2762"/>
                  </a:lnTo>
                  <a:lnTo>
                    <a:pt x="4780" y="2636"/>
                  </a:lnTo>
                  <a:lnTo>
                    <a:pt x="4712" y="2647"/>
                  </a:lnTo>
                  <a:lnTo>
                    <a:pt x="4643" y="2676"/>
                  </a:lnTo>
                  <a:lnTo>
                    <a:pt x="4585" y="2636"/>
                  </a:lnTo>
                  <a:lnTo>
                    <a:pt x="4516" y="2636"/>
                  </a:lnTo>
                  <a:lnTo>
                    <a:pt x="4424" y="2607"/>
                  </a:lnTo>
                  <a:lnTo>
                    <a:pt x="4373" y="2550"/>
                  </a:lnTo>
                  <a:lnTo>
                    <a:pt x="4344" y="2492"/>
                  </a:lnTo>
                  <a:lnTo>
                    <a:pt x="4298" y="2441"/>
                  </a:lnTo>
                  <a:lnTo>
                    <a:pt x="4344" y="2423"/>
                  </a:lnTo>
                  <a:lnTo>
                    <a:pt x="4373" y="2446"/>
                  </a:lnTo>
                  <a:lnTo>
                    <a:pt x="4407" y="2400"/>
                  </a:lnTo>
                  <a:lnTo>
                    <a:pt x="4384" y="2326"/>
                  </a:lnTo>
                  <a:lnTo>
                    <a:pt x="4344" y="2320"/>
                  </a:lnTo>
                  <a:lnTo>
                    <a:pt x="4315" y="2245"/>
                  </a:lnTo>
                  <a:lnTo>
                    <a:pt x="4327" y="2159"/>
                  </a:lnTo>
                  <a:lnTo>
                    <a:pt x="4373" y="2096"/>
                  </a:lnTo>
                  <a:lnTo>
                    <a:pt x="4361" y="2016"/>
                  </a:lnTo>
                  <a:lnTo>
                    <a:pt x="4327" y="2010"/>
                  </a:lnTo>
                  <a:lnTo>
                    <a:pt x="4298" y="2056"/>
                  </a:lnTo>
                  <a:lnTo>
                    <a:pt x="4292" y="2096"/>
                  </a:lnTo>
                  <a:lnTo>
                    <a:pt x="4246" y="2016"/>
                  </a:lnTo>
                  <a:lnTo>
                    <a:pt x="4171" y="1958"/>
                  </a:lnTo>
                  <a:lnTo>
                    <a:pt x="4120" y="1964"/>
                  </a:lnTo>
                  <a:lnTo>
                    <a:pt x="4068" y="2050"/>
                  </a:lnTo>
                  <a:lnTo>
                    <a:pt x="4005" y="2090"/>
                  </a:lnTo>
                  <a:lnTo>
                    <a:pt x="4005" y="2142"/>
                  </a:lnTo>
                  <a:lnTo>
                    <a:pt x="4022" y="2199"/>
                  </a:lnTo>
                  <a:lnTo>
                    <a:pt x="4016" y="2257"/>
                  </a:lnTo>
                  <a:lnTo>
                    <a:pt x="3965" y="2251"/>
                  </a:lnTo>
                  <a:lnTo>
                    <a:pt x="3930" y="2182"/>
                  </a:lnTo>
                  <a:lnTo>
                    <a:pt x="3867" y="2096"/>
                  </a:lnTo>
                  <a:lnTo>
                    <a:pt x="3804" y="2050"/>
                  </a:lnTo>
                  <a:lnTo>
                    <a:pt x="3752" y="1958"/>
                  </a:lnTo>
                  <a:lnTo>
                    <a:pt x="3706" y="1935"/>
                  </a:lnTo>
                  <a:lnTo>
                    <a:pt x="3626" y="1935"/>
                  </a:lnTo>
                  <a:lnTo>
                    <a:pt x="3551" y="1935"/>
                  </a:lnTo>
                  <a:lnTo>
                    <a:pt x="3505" y="1964"/>
                  </a:lnTo>
                  <a:lnTo>
                    <a:pt x="3465" y="1907"/>
                  </a:lnTo>
                  <a:lnTo>
                    <a:pt x="3413" y="1878"/>
                  </a:lnTo>
                  <a:lnTo>
                    <a:pt x="3338" y="1821"/>
                  </a:lnTo>
                  <a:lnTo>
                    <a:pt x="3390" y="1907"/>
                  </a:lnTo>
                  <a:lnTo>
                    <a:pt x="3471" y="1941"/>
                  </a:lnTo>
                  <a:lnTo>
                    <a:pt x="3522" y="2016"/>
                  </a:lnTo>
                  <a:lnTo>
                    <a:pt x="3499" y="2090"/>
                  </a:lnTo>
                  <a:lnTo>
                    <a:pt x="3448" y="2131"/>
                  </a:lnTo>
                  <a:lnTo>
                    <a:pt x="3367" y="2142"/>
                  </a:lnTo>
                  <a:lnTo>
                    <a:pt x="3298" y="2171"/>
                  </a:lnTo>
                  <a:lnTo>
                    <a:pt x="3258" y="2240"/>
                  </a:lnTo>
                  <a:lnTo>
                    <a:pt x="3224" y="2268"/>
                  </a:lnTo>
                  <a:lnTo>
                    <a:pt x="3212" y="2194"/>
                  </a:lnTo>
                  <a:lnTo>
                    <a:pt x="3166" y="2090"/>
                  </a:lnTo>
                  <a:lnTo>
                    <a:pt x="3114" y="2033"/>
                  </a:lnTo>
                  <a:lnTo>
                    <a:pt x="3114" y="1964"/>
                  </a:lnTo>
                  <a:lnTo>
                    <a:pt x="3068" y="1976"/>
                  </a:lnTo>
                  <a:lnTo>
                    <a:pt x="3080" y="2079"/>
                  </a:lnTo>
                  <a:lnTo>
                    <a:pt x="3126" y="2159"/>
                  </a:lnTo>
                  <a:lnTo>
                    <a:pt x="3126" y="2234"/>
                  </a:lnTo>
                  <a:lnTo>
                    <a:pt x="3195" y="2263"/>
                  </a:lnTo>
                  <a:lnTo>
                    <a:pt x="3224" y="2314"/>
                  </a:lnTo>
                  <a:lnTo>
                    <a:pt x="3292" y="2297"/>
                  </a:lnTo>
                  <a:lnTo>
                    <a:pt x="3350" y="2291"/>
                  </a:lnTo>
                  <a:lnTo>
                    <a:pt x="3425" y="2251"/>
                  </a:lnTo>
                  <a:lnTo>
                    <a:pt x="3396" y="2343"/>
                  </a:lnTo>
                  <a:lnTo>
                    <a:pt x="3338" y="2458"/>
                  </a:lnTo>
                  <a:lnTo>
                    <a:pt x="3292" y="2532"/>
                  </a:lnTo>
                  <a:lnTo>
                    <a:pt x="3235" y="2601"/>
                  </a:lnTo>
                  <a:lnTo>
                    <a:pt x="3212" y="2659"/>
                  </a:lnTo>
                  <a:lnTo>
                    <a:pt x="3189" y="2791"/>
                  </a:lnTo>
                  <a:lnTo>
                    <a:pt x="3178" y="2884"/>
                  </a:lnTo>
                  <a:lnTo>
                    <a:pt x="3183" y="2976"/>
                  </a:lnTo>
                  <a:lnTo>
                    <a:pt x="3195" y="3062"/>
                  </a:lnTo>
                  <a:lnTo>
                    <a:pt x="3195" y="3085"/>
                  </a:lnTo>
                  <a:lnTo>
                    <a:pt x="3258" y="3073"/>
                  </a:lnTo>
                  <a:lnTo>
                    <a:pt x="3269" y="2998"/>
                  </a:lnTo>
                  <a:lnTo>
                    <a:pt x="3327" y="2930"/>
                  </a:lnTo>
                  <a:lnTo>
                    <a:pt x="3390" y="2884"/>
                  </a:lnTo>
                  <a:lnTo>
                    <a:pt x="3402" y="2970"/>
                  </a:lnTo>
                  <a:lnTo>
                    <a:pt x="3396" y="3044"/>
                  </a:lnTo>
                  <a:lnTo>
                    <a:pt x="3361" y="3085"/>
                  </a:lnTo>
                  <a:lnTo>
                    <a:pt x="3367" y="3125"/>
                  </a:lnTo>
                  <a:lnTo>
                    <a:pt x="3344" y="3228"/>
                  </a:lnTo>
                  <a:lnTo>
                    <a:pt x="3333" y="3280"/>
                  </a:lnTo>
                  <a:lnTo>
                    <a:pt x="3287" y="3291"/>
                  </a:lnTo>
                  <a:lnTo>
                    <a:pt x="3241" y="3240"/>
                  </a:lnTo>
                  <a:lnTo>
                    <a:pt x="3269" y="3171"/>
                  </a:lnTo>
                  <a:lnTo>
                    <a:pt x="3281" y="3131"/>
                  </a:lnTo>
                  <a:lnTo>
                    <a:pt x="3246" y="3085"/>
                  </a:lnTo>
                  <a:lnTo>
                    <a:pt x="3189" y="3090"/>
                  </a:lnTo>
                  <a:lnTo>
                    <a:pt x="3172" y="3165"/>
                  </a:lnTo>
                  <a:lnTo>
                    <a:pt x="3091" y="3194"/>
                  </a:lnTo>
                  <a:lnTo>
                    <a:pt x="3040" y="3240"/>
                  </a:lnTo>
                  <a:lnTo>
                    <a:pt x="3051" y="3320"/>
                  </a:lnTo>
                  <a:lnTo>
                    <a:pt x="3040" y="3412"/>
                  </a:lnTo>
                  <a:lnTo>
                    <a:pt x="3017" y="3509"/>
                  </a:lnTo>
                  <a:lnTo>
                    <a:pt x="2902" y="3613"/>
                  </a:lnTo>
                  <a:lnTo>
                    <a:pt x="2850" y="3619"/>
                  </a:lnTo>
                  <a:lnTo>
                    <a:pt x="2816" y="3550"/>
                  </a:lnTo>
                  <a:lnTo>
                    <a:pt x="2747" y="3509"/>
                  </a:lnTo>
                  <a:lnTo>
                    <a:pt x="2712" y="3481"/>
                  </a:lnTo>
                  <a:lnTo>
                    <a:pt x="2649" y="3349"/>
                  </a:lnTo>
                  <a:lnTo>
                    <a:pt x="2591" y="3286"/>
                  </a:lnTo>
                  <a:lnTo>
                    <a:pt x="2545" y="3222"/>
                  </a:lnTo>
                  <a:lnTo>
                    <a:pt x="2522" y="3153"/>
                  </a:lnTo>
                  <a:lnTo>
                    <a:pt x="2510" y="3062"/>
                  </a:lnTo>
                  <a:lnTo>
                    <a:pt x="2458" y="2998"/>
                  </a:lnTo>
                  <a:lnTo>
                    <a:pt x="2441" y="2941"/>
                  </a:lnTo>
                  <a:lnTo>
                    <a:pt x="2481" y="2872"/>
                  </a:lnTo>
                  <a:lnTo>
                    <a:pt x="2481" y="2808"/>
                  </a:lnTo>
                  <a:lnTo>
                    <a:pt x="2430" y="2762"/>
                  </a:lnTo>
                  <a:lnTo>
                    <a:pt x="2344" y="2756"/>
                  </a:lnTo>
                  <a:lnTo>
                    <a:pt x="2280" y="2728"/>
                  </a:lnTo>
                  <a:lnTo>
                    <a:pt x="2246" y="2756"/>
                  </a:lnTo>
                  <a:lnTo>
                    <a:pt x="2188" y="2762"/>
                  </a:lnTo>
                  <a:lnTo>
                    <a:pt x="2137" y="2728"/>
                  </a:lnTo>
                  <a:lnTo>
                    <a:pt x="2091" y="2682"/>
                  </a:lnTo>
                  <a:lnTo>
                    <a:pt x="2028" y="2670"/>
                  </a:lnTo>
                  <a:lnTo>
                    <a:pt x="1964" y="2636"/>
                  </a:lnTo>
                  <a:lnTo>
                    <a:pt x="1901" y="2584"/>
                  </a:lnTo>
                  <a:lnTo>
                    <a:pt x="1884" y="2481"/>
                  </a:lnTo>
                  <a:lnTo>
                    <a:pt x="1878" y="2412"/>
                  </a:lnTo>
                  <a:lnTo>
                    <a:pt x="1930" y="2360"/>
                  </a:lnTo>
                  <a:lnTo>
                    <a:pt x="1924" y="2309"/>
                  </a:lnTo>
                  <a:lnTo>
                    <a:pt x="1913" y="2217"/>
                  </a:lnTo>
                  <a:lnTo>
                    <a:pt x="1918" y="2136"/>
                  </a:lnTo>
                  <a:lnTo>
                    <a:pt x="1901" y="2056"/>
                  </a:lnTo>
                  <a:lnTo>
                    <a:pt x="1964" y="1993"/>
                  </a:lnTo>
                  <a:lnTo>
                    <a:pt x="1999" y="1947"/>
                  </a:lnTo>
                  <a:lnTo>
                    <a:pt x="2051" y="1941"/>
                  </a:lnTo>
                  <a:lnTo>
                    <a:pt x="2045" y="1878"/>
                  </a:lnTo>
                  <a:lnTo>
                    <a:pt x="2079" y="1821"/>
                  </a:lnTo>
                  <a:lnTo>
                    <a:pt x="2131" y="1780"/>
                  </a:lnTo>
                  <a:lnTo>
                    <a:pt x="2194" y="1815"/>
                  </a:lnTo>
                  <a:lnTo>
                    <a:pt x="2275" y="1832"/>
                  </a:lnTo>
                  <a:lnTo>
                    <a:pt x="2361" y="1821"/>
                  </a:lnTo>
                  <a:lnTo>
                    <a:pt x="2435" y="1821"/>
                  </a:lnTo>
                  <a:lnTo>
                    <a:pt x="2470" y="1826"/>
                  </a:lnTo>
                  <a:lnTo>
                    <a:pt x="2487" y="1889"/>
                  </a:lnTo>
                  <a:lnTo>
                    <a:pt x="2556" y="1901"/>
                  </a:lnTo>
                  <a:lnTo>
                    <a:pt x="2625" y="1935"/>
                  </a:lnTo>
                  <a:lnTo>
                    <a:pt x="2666" y="1930"/>
                  </a:lnTo>
                  <a:lnTo>
                    <a:pt x="2701" y="1884"/>
                  </a:lnTo>
                  <a:lnTo>
                    <a:pt x="2718" y="1838"/>
                  </a:lnTo>
                  <a:lnTo>
                    <a:pt x="2781" y="1866"/>
                  </a:lnTo>
                  <a:lnTo>
                    <a:pt x="2856" y="1889"/>
                  </a:lnTo>
                  <a:lnTo>
                    <a:pt x="2948" y="1901"/>
                  </a:lnTo>
                  <a:lnTo>
                    <a:pt x="3005" y="1907"/>
                  </a:lnTo>
                  <a:lnTo>
                    <a:pt x="3068" y="1901"/>
                  </a:lnTo>
                  <a:lnTo>
                    <a:pt x="3114" y="1866"/>
                  </a:lnTo>
                  <a:lnTo>
                    <a:pt x="3137" y="1792"/>
                  </a:lnTo>
                  <a:lnTo>
                    <a:pt x="3166" y="1746"/>
                  </a:lnTo>
                  <a:lnTo>
                    <a:pt x="3137" y="1729"/>
                  </a:lnTo>
                  <a:lnTo>
                    <a:pt x="3109" y="1688"/>
                  </a:lnTo>
                  <a:lnTo>
                    <a:pt x="3063" y="1700"/>
                  </a:lnTo>
                  <a:lnTo>
                    <a:pt x="2988" y="1700"/>
                  </a:lnTo>
                  <a:lnTo>
                    <a:pt x="2936" y="1683"/>
                  </a:lnTo>
                  <a:lnTo>
                    <a:pt x="2931" y="1625"/>
                  </a:lnTo>
                  <a:lnTo>
                    <a:pt x="2902" y="1597"/>
                  </a:lnTo>
                  <a:lnTo>
                    <a:pt x="2879" y="1625"/>
                  </a:lnTo>
                  <a:lnTo>
                    <a:pt x="2896" y="1683"/>
                  </a:lnTo>
                  <a:lnTo>
                    <a:pt x="2867" y="1723"/>
                  </a:lnTo>
                  <a:lnTo>
                    <a:pt x="2810" y="1717"/>
                  </a:lnTo>
                  <a:lnTo>
                    <a:pt x="2775" y="1671"/>
                  </a:lnTo>
                  <a:lnTo>
                    <a:pt x="2764" y="1620"/>
                  </a:lnTo>
                  <a:lnTo>
                    <a:pt x="2764" y="1539"/>
                  </a:lnTo>
                  <a:lnTo>
                    <a:pt x="2724" y="1522"/>
                  </a:lnTo>
                  <a:lnTo>
                    <a:pt x="2706" y="1568"/>
                  </a:lnTo>
                  <a:lnTo>
                    <a:pt x="2712" y="1625"/>
                  </a:lnTo>
                  <a:lnTo>
                    <a:pt x="2741" y="1665"/>
                  </a:lnTo>
                  <a:lnTo>
                    <a:pt x="2775" y="1711"/>
                  </a:lnTo>
                  <a:lnTo>
                    <a:pt x="2741" y="1763"/>
                  </a:lnTo>
                  <a:lnTo>
                    <a:pt x="2701" y="1786"/>
                  </a:lnTo>
                  <a:lnTo>
                    <a:pt x="2643" y="1780"/>
                  </a:lnTo>
                  <a:lnTo>
                    <a:pt x="2643" y="1826"/>
                  </a:lnTo>
                  <a:lnTo>
                    <a:pt x="2602" y="1849"/>
                  </a:lnTo>
                  <a:lnTo>
                    <a:pt x="2550" y="1786"/>
                  </a:lnTo>
                  <a:lnTo>
                    <a:pt x="2556" y="1752"/>
                  </a:lnTo>
                  <a:lnTo>
                    <a:pt x="2619" y="1780"/>
                  </a:lnTo>
                  <a:lnTo>
                    <a:pt x="2660" y="1780"/>
                  </a:lnTo>
                  <a:lnTo>
                    <a:pt x="2712" y="1740"/>
                  </a:lnTo>
                  <a:lnTo>
                    <a:pt x="2701" y="1683"/>
                  </a:lnTo>
                  <a:lnTo>
                    <a:pt x="2649" y="1637"/>
                  </a:lnTo>
                  <a:lnTo>
                    <a:pt x="2602" y="1597"/>
                  </a:lnTo>
                  <a:lnTo>
                    <a:pt x="2550" y="1545"/>
                  </a:lnTo>
                  <a:lnTo>
                    <a:pt x="2493" y="1505"/>
                  </a:lnTo>
                  <a:lnTo>
                    <a:pt x="2493" y="1568"/>
                  </a:lnTo>
                  <a:lnTo>
                    <a:pt x="2533" y="1608"/>
                  </a:lnTo>
                  <a:lnTo>
                    <a:pt x="2522" y="1683"/>
                  </a:lnTo>
                  <a:lnTo>
                    <a:pt x="2522" y="1740"/>
                  </a:lnTo>
                  <a:lnTo>
                    <a:pt x="2458" y="1694"/>
                  </a:lnTo>
                  <a:lnTo>
                    <a:pt x="2447" y="1648"/>
                  </a:lnTo>
                  <a:lnTo>
                    <a:pt x="2481" y="1620"/>
                  </a:lnTo>
                  <a:lnTo>
                    <a:pt x="2470" y="1579"/>
                  </a:lnTo>
                  <a:lnTo>
                    <a:pt x="2499" y="1562"/>
                  </a:lnTo>
                  <a:lnTo>
                    <a:pt x="2499" y="1505"/>
                  </a:lnTo>
                  <a:lnTo>
                    <a:pt x="2447" y="1516"/>
                  </a:lnTo>
                  <a:lnTo>
                    <a:pt x="2412" y="1568"/>
                  </a:lnTo>
                  <a:lnTo>
                    <a:pt x="2361" y="1545"/>
                  </a:lnTo>
                  <a:lnTo>
                    <a:pt x="2280" y="1585"/>
                  </a:lnTo>
                  <a:lnTo>
                    <a:pt x="2263" y="1660"/>
                  </a:lnTo>
                  <a:lnTo>
                    <a:pt x="2206" y="1711"/>
                  </a:lnTo>
                  <a:lnTo>
                    <a:pt x="2137" y="1746"/>
                  </a:lnTo>
                  <a:lnTo>
                    <a:pt x="2073" y="1752"/>
                  </a:lnTo>
                  <a:lnTo>
                    <a:pt x="1999" y="1729"/>
                  </a:lnTo>
                  <a:lnTo>
                    <a:pt x="1970" y="1694"/>
                  </a:lnTo>
                  <a:lnTo>
                    <a:pt x="1993" y="1660"/>
                  </a:lnTo>
                  <a:lnTo>
                    <a:pt x="1970" y="1608"/>
                  </a:lnTo>
                  <a:lnTo>
                    <a:pt x="2016" y="1574"/>
                  </a:lnTo>
                  <a:lnTo>
                    <a:pt x="2022" y="1528"/>
                  </a:lnTo>
                  <a:lnTo>
                    <a:pt x="2022" y="1465"/>
                  </a:lnTo>
                  <a:lnTo>
                    <a:pt x="2079" y="1407"/>
                  </a:lnTo>
                  <a:lnTo>
                    <a:pt x="2160" y="1424"/>
                  </a:lnTo>
                  <a:lnTo>
                    <a:pt x="2257" y="1453"/>
                  </a:lnTo>
                  <a:lnTo>
                    <a:pt x="2298" y="1413"/>
                  </a:lnTo>
                  <a:lnTo>
                    <a:pt x="2298" y="1350"/>
                  </a:lnTo>
                  <a:lnTo>
                    <a:pt x="2252" y="1304"/>
                  </a:lnTo>
                  <a:lnTo>
                    <a:pt x="2177" y="1269"/>
                  </a:lnTo>
                  <a:lnTo>
                    <a:pt x="2211" y="1235"/>
                  </a:lnTo>
                  <a:lnTo>
                    <a:pt x="2286" y="1212"/>
                  </a:lnTo>
                  <a:lnTo>
                    <a:pt x="2303" y="1200"/>
                  </a:lnTo>
                  <a:lnTo>
                    <a:pt x="2280" y="1195"/>
                  </a:lnTo>
                  <a:lnTo>
                    <a:pt x="2223" y="1200"/>
                  </a:lnTo>
                  <a:lnTo>
                    <a:pt x="2160" y="1212"/>
                  </a:lnTo>
                  <a:lnTo>
                    <a:pt x="2131" y="1223"/>
                  </a:lnTo>
                  <a:lnTo>
                    <a:pt x="2154" y="1177"/>
                  </a:lnTo>
                  <a:lnTo>
                    <a:pt x="2160" y="1120"/>
                  </a:lnTo>
                  <a:lnTo>
                    <a:pt x="2188" y="1091"/>
                  </a:lnTo>
                  <a:lnTo>
                    <a:pt x="2200" y="1051"/>
                  </a:lnTo>
                  <a:lnTo>
                    <a:pt x="2171" y="1011"/>
                  </a:lnTo>
                  <a:lnTo>
                    <a:pt x="2131" y="1028"/>
                  </a:lnTo>
                  <a:lnTo>
                    <a:pt x="2137" y="1080"/>
                  </a:lnTo>
                  <a:lnTo>
                    <a:pt x="2131" y="1132"/>
                  </a:lnTo>
                  <a:lnTo>
                    <a:pt x="2102" y="1200"/>
                  </a:lnTo>
                  <a:lnTo>
                    <a:pt x="2045" y="1195"/>
                  </a:lnTo>
                  <a:lnTo>
                    <a:pt x="2028" y="1132"/>
                  </a:lnTo>
                  <a:lnTo>
                    <a:pt x="1987" y="1068"/>
                  </a:lnTo>
                  <a:lnTo>
                    <a:pt x="2051" y="1051"/>
                  </a:lnTo>
                  <a:lnTo>
                    <a:pt x="2085" y="1022"/>
                  </a:lnTo>
                  <a:lnTo>
                    <a:pt x="2108" y="1017"/>
                  </a:lnTo>
                  <a:lnTo>
                    <a:pt x="2108" y="977"/>
                  </a:lnTo>
                  <a:lnTo>
                    <a:pt x="2096" y="935"/>
                  </a:lnTo>
                  <a:lnTo>
                    <a:pt x="2148" y="907"/>
                  </a:lnTo>
                  <a:lnTo>
                    <a:pt x="2200" y="872"/>
                  </a:lnTo>
                  <a:lnTo>
                    <a:pt x="2234" y="901"/>
                  </a:lnTo>
                  <a:lnTo>
                    <a:pt x="2252" y="965"/>
                  </a:lnTo>
                  <a:lnTo>
                    <a:pt x="2275" y="1028"/>
                  </a:lnTo>
                  <a:lnTo>
                    <a:pt x="2309" y="1074"/>
                  </a:lnTo>
                  <a:lnTo>
                    <a:pt x="2326" y="1132"/>
                  </a:lnTo>
                  <a:lnTo>
                    <a:pt x="2303" y="1172"/>
                  </a:lnTo>
                  <a:lnTo>
                    <a:pt x="2298" y="1206"/>
                  </a:lnTo>
                  <a:lnTo>
                    <a:pt x="2344" y="1195"/>
                  </a:lnTo>
                  <a:lnTo>
                    <a:pt x="2401" y="1160"/>
                  </a:lnTo>
                  <a:lnTo>
                    <a:pt x="2430" y="1080"/>
                  </a:lnTo>
                  <a:lnTo>
                    <a:pt x="2487" y="1080"/>
                  </a:lnTo>
                  <a:lnTo>
                    <a:pt x="2510" y="1068"/>
                  </a:lnTo>
                  <a:lnTo>
                    <a:pt x="2504" y="1011"/>
                  </a:lnTo>
                  <a:lnTo>
                    <a:pt x="2481" y="954"/>
                  </a:lnTo>
                  <a:lnTo>
                    <a:pt x="2533" y="954"/>
                  </a:lnTo>
                  <a:lnTo>
                    <a:pt x="2591" y="1011"/>
                  </a:lnTo>
                  <a:lnTo>
                    <a:pt x="2643" y="1051"/>
                  </a:lnTo>
                  <a:lnTo>
                    <a:pt x="2689" y="1051"/>
                  </a:lnTo>
                  <a:lnTo>
                    <a:pt x="2758" y="1022"/>
                  </a:lnTo>
                  <a:lnTo>
                    <a:pt x="2798" y="959"/>
                  </a:lnTo>
                  <a:lnTo>
                    <a:pt x="2827" y="901"/>
                  </a:lnTo>
                  <a:lnTo>
                    <a:pt x="2931" y="918"/>
                  </a:lnTo>
                  <a:lnTo>
                    <a:pt x="2844" y="866"/>
                  </a:lnTo>
                  <a:lnTo>
                    <a:pt x="2775" y="872"/>
                  </a:lnTo>
                  <a:lnTo>
                    <a:pt x="2764" y="798"/>
                  </a:lnTo>
                  <a:lnTo>
                    <a:pt x="2764" y="752"/>
                  </a:lnTo>
                  <a:lnTo>
                    <a:pt x="2833" y="729"/>
                  </a:lnTo>
                  <a:lnTo>
                    <a:pt x="2850" y="683"/>
                  </a:lnTo>
                  <a:lnTo>
                    <a:pt x="2798" y="711"/>
                  </a:lnTo>
                  <a:lnTo>
                    <a:pt x="2741" y="746"/>
                  </a:lnTo>
                  <a:lnTo>
                    <a:pt x="2672" y="752"/>
                  </a:lnTo>
                  <a:lnTo>
                    <a:pt x="2706" y="832"/>
                  </a:lnTo>
                  <a:lnTo>
                    <a:pt x="2701" y="895"/>
                  </a:lnTo>
                  <a:lnTo>
                    <a:pt x="2701" y="948"/>
                  </a:lnTo>
                  <a:lnTo>
                    <a:pt x="2649" y="977"/>
                  </a:lnTo>
                  <a:lnTo>
                    <a:pt x="2596" y="994"/>
                  </a:lnTo>
                  <a:lnTo>
                    <a:pt x="2556" y="954"/>
                  </a:lnTo>
                  <a:lnTo>
                    <a:pt x="2562" y="901"/>
                  </a:lnTo>
                  <a:lnTo>
                    <a:pt x="2568" y="866"/>
                  </a:lnTo>
                  <a:lnTo>
                    <a:pt x="2510" y="895"/>
                  </a:lnTo>
                  <a:lnTo>
                    <a:pt x="2453" y="861"/>
                  </a:lnTo>
                  <a:lnTo>
                    <a:pt x="2430" y="815"/>
                  </a:lnTo>
                  <a:lnTo>
                    <a:pt x="2441" y="752"/>
                  </a:lnTo>
                  <a:lnTo>
                    <a:pt x="2435" y="746"/>
                  </a:lnTo>
                  <a:lnTo>
                    <a:pt x="2441" y="740"/>
                  </a:lnTo>
                  <a:lnTo>
                    <a:pt x="2447" y="734"/>
                  </a:lnTo>
                  <a:lnTo>
                    <a:pt x="1769" y="734"/>
                  </a:lnTo>
                  <a:lnTo>
                    <a:pt x="1735" y="780"/>
                  </a:lnTo>
                  <a:lnTo>
                    <a:pt x="1677" y="809"/>
                  </a:lnTo>
                  <a:lnTo>
                    <a:pt x="1620" y="786"/>
                  </a:lnTo>
                  <a:lnTo>
                    <a:pt x="1591" y="746"/>
                  </a:lnTo>
                  <a:lnTo>
                    <a:pt x="1591" y="706"/>
                  </a:lnTo>
                  <a:lnTo>
                    <a:pt x="1602" y="694"/>
                  </a:lnTo>
                  <a:lnTo>
                    <a:pt x="1465" y="694"/>
                  </a:lnTo>
                  <a:lnTo>
                    <a:pt x="1419" y="706"/>
                  </a:lnTo>
                  <a:lnTo>
                    <a:pt x="1373" y="786"/>
                  </a:lnTo>
                  <a:lnTo>
                    <a:pt x="1355" y="849"/>
                  </a:lnTo>
                  <a:lnTo>
                    <a:pt x="1332" y="907"/>
                  </a:lnTo>
                  <a:lnTo>
                    <a:pt x="1263" y="895"/>
                  </a:lnTo>
                  <a:lnTo>
                    <a:pt x="1212" y="849"/>
                  </a:lnTo>
                  <a:lnTo>
                    <a:pt x="1206" y="752"/>
                  </a:lnTo>
                  <a:lnTo>
                    <a:pt x="1189" y="660"/>
                  </a:lnTo>
                  <a:lnTo>
                    <a:pt x="1143" y="602"/>
                  </a:lnTo>
                  <a:lnTo>
                    <a:pt x="1154" y="556"/>
                  </a:lnTo>
                  <a:lnTo>
                    <a:pt x="1120" y="482"/>
                  </a:lnTo>
                  <a:lnTo>
                    <a:pt x="1085" y="447"/>
                  </a:lnTo>
                  <a:lnTo>
                    <a:pt x="1039" y="488"/>
                  </a:lnTo>
                  <a:lnTo>
                    <a:pt x="970" y="442"/>
                  </a:lnTo>
                  <a:lnTo>
                    <a:pt x="942" y="476"/>
                  </a:lnTo>
                  <a:lnTo>
                    <a:pt x="901" y="499"/>
                  </a:lnTo>
                  <a:lnTo>
                    <a:pt x="827" y="528"/>
                  </a:lnTo>
                  <a:lnTo>
                    <a:pt x="781" y="585"/>
                  </a:lnTo>
                  <a:lnTo>
                    <a:pt x="867" y="597"/>
                  </a:lnTo>
                  <a:lnTo>
                    <a:pt x="947" y="625"/>
                  </a:lnTo>
                  <a:lnTo>
                    <a:pt x="988" y="683"/>
                  </a:lnTo>
                  <a:lnTo>
                    <a:pt x="1039" y="740"/>
                  </a:lnTo>
                  <a:lnTo>
                    <a:pt x="1051" y="838"/>
                  </a:lnTo>
                  <a:lnTo>
                    <a:pt x="1022" y="918"/>
                  </a:lnTo>
                  <a:lnTo>
                    <a:pt x="970" y="954"/>
                  </a:lnTo>
                  <a:lnTo>
                    <a:pt x="913" y="895"/>
                  </a:lnTo>
                  <a:lnTo>
                    <a:pt x="804" y="889"/>
                  </a:lnTo>
                  <a:lnTo>
                    <a:pt x="804" y="843"/>
                  </a:lnTo>
                  <a:lnTo>
                    <a:pt x="901" y="815"/>
                  </a:lnTo>
                  <a:lnTo>
                    <a:pt x="907" y="769"/>
                  </a:lnTo>
                  <a:lnTo>
                    <a:pt x="896" y="746"/>
                  </a:lnTo>
                  <a:lnTo>
                    <a:pt x="861" y="798"/>
                  </a:lnTo>
                  <a:lnTo>
                    <a:pt x="810" y="763"/>
                  </a:lnTo>
                  <a:lnTo>
                    <a:pt x="884" y="711"/>
                  </a:lnTo>
                  <a:lnTo>
                    <a:pt x="913" y="752"/>
                  </a:lnTo>
                  <a:lnTo>
                    <a:pt x="861" y="706"/>
                  </a:lnTo>
                  <a:lnTo>
                    <a:pt x="804" y="706"/>
                  </a:lnTo>
                  <a:lnTo>
                    <a:pt x="764" y="740"/>
                  </a:lnTo>
                  <a:lnTo>
                    <a:pt x="775" y="798"/>
                  </a:lnTo>
                  <a:lnTo>
                    <a:pt x="775" y="866"/>
                  </a:lnTo>
                  <a:lnTo>
                    <a:pt x="752" y="924"/>
                  </a:lnTo>
                  <a:lnTo>
                    <a:pt x="775" y="988"/>
                  </a:lnTo>
                  <a:lnTo>
                    <a:pt x="712" y="948"/>
                  </a:lnTo>
                  <a:lnTo>
                    <a:pt x="683" y="971"/>
                  </a:lnTo>
                  <a:lnTo>
                    <a:pt x="672" y="935"/>
                  </a:lnTo>
                  <a:lnTo>
                    <a:pt x="683" y="872"/>
                  </a:lnTo>
                  <a:lnTo>
                    <a:pt x="631" y="901"/>
                  </a:lnTo>
                  <a:lnTo>
                    <a:pt x="608" y="954"/>
                  </a:lnTo>
                  <a:lnTo>
                    <a:pt x="568" y="994"/>
                  </a:lnTo>
                  <a:lnTo>
                    <a:pt x="568" y="1040"/>
                  </a:lnTo>
                  <a:lnTo>
                    <a:pt x="499" y="1040"/>
                  </a:lnTo>
                  <a:lnTo>
                    <a:pt x="476" y="1074"/>
                  </a:lnTo>
                  <a:lnTo>
                    <a:pt x="499" y="1143"/>
                  </a:lnTo>
                  <a:lnTo>
                    <a:pt x="574" y="1177"/>
                  </a:lnTo>
                  <a:lnTo>
                    <a:pt x="608" y="1212"/>
                  </a:lnTo>
                  <a:lnTo>
                    <a:pt x="603" y="1275"/>
                  </a:lnTo>
                  <a:lnTo>
                    <a:pt x="643" y="1264"/>
                  </a:lnTo>
                  <a:lnTo>
                    <a:pt x="654" y="1200"/>
                  </a:lnTo>
                  <a:lnTo>
                    <a:pt x="735" y="1200"/>
                  </a:lnTo>
                  <a:lnTo>
                    <a:pt x="781" y="1143"/>
                  </a:lnTo>
                  <a:lnTo>
                    <a:pt x="787" y="1080"/>
                  </a:lnTo>
                  <a:lnTo>
                    <a:pt x="781" y="977"/>
                  </a:lnTo>
                  <a:lnTo>
                    <a:pt x="804" y="912"/>
                  </a:lnTo>
                  <a:lnTo>
                    <a:pt x="844" y="866"/>
                  </a:lnTo>
                  <a:lnTo>
                    <a:pt x="907" y="907"/>
                  </a:lnTo>
                  <a:lnTo>
                    <a:pt x="982" y="954"/>
                  </a:lnTo>
                  <a:lnTo>
                    <a:pt x="1016" y="977"/>
                  </a:lnTo>
                  <a:lnTo>
                    <a:pt x="1057" y="1040"/>
                  </a:lnTo>
                  <a:lnTo>
                    <a:pt x="1108" y="1074"/>
                  </a:lnTo>
                  <a:lnTo>
                    <a:pt x="1126" y="1143"/>
                  </a:lnTo>
                  <a:lnTo>
                    <a:pt x="1137" y="1195"/>
                  </a:lnTo>
                  <a:lnTo>
                    <a:pt x="1189" y="1229"/>
                  </a:lnTo>
                  <a:lnTo>
                    <a:pt x="1143" y="1281"/>
                  </a:lnTo>
                  <a:lnTo>
                    <a:pt x="1074" y="1281"/>
                  </a:lnTo>
                  <a:lnTo>
                    <a:pt x="1005" y="1321"/>
                  </a:lnTo>
                  <a:lnTo>
                    <a:pt x="947" y="1361"/>
                  </a:lnTo>
                  <a:lnTo>
                    <a:pt x="867" y="1401"/>
                  </a:lnTo>
                  <a:lnTo>
                    <a:pt x="804" y="1465"/>
                  </a:lnTo>
                  <a:lnTo>
                    <a:pt x="741" y="1516"/>
                  </a:lnTo>
                  <a:lnTo>
                    <a:pt x="735" y="1568"/>
                  </a:lnTo>
                  <a:lnTo>
                    <a:pt x="735" y="1597"/>
                  </a:lnTo>
                  <a:lnTo>
                    <a:pt x="683" y="1643"/>
                  </a:lnTo>
                  <a:lnTo>
                    <a:pt x="689" y="1688"/>
                  </a:lnTo>
                  <a:lnTo>
                    <a:pt x="637" y="1746"/>
                  </a:lnTo>
                  <a:lnTo>
                    <a:pt x="637" y="1821"/>
                  </a:lnTo>
                  <a:lnTo>
                    <a:pt x="677" y="1878"/>
                  </a:lnTo>
                  <a:lnTo>
                    <a:pt x="654" y="1912"/>
                  </a:lnTo>
                  <a:lnTo>
                    <a:pt x="603" y="1889"/>
                  </a:lnTo>
                  <a:lnTo>
                    <a:pt x="586" y="1821"/>
                  </a:lnTo>
                  <a:lnTo>
                    <a:pt x="540" y="1780"/>
                  </a:lnTo>
                  <a:lnTo>
                    <a:pt x="494" y="1786"/>
                  </a:lnTo>
                  <a:lnTo>
                    <a:pt x="471" y="1838"/>
                  </a:lnTo>
                  <a:lnTo>
                    <a:pt x="419" y="1821"/>
                  </a:lnTo>
                  <a:lnTo>
                    <a:pt x="361" y="1821"/>
                  </a:lnTo>
                  <a:lnTo>
                    <a:pt x="298" y="1872"/>
                  </a:lnTo>
                  <a:lnTo>
                    <a:pt x="287" y="1912"/>
                  </a:lnTo>
                  <a:lnTo>
                    <a:pt x="270" y="1964"/>
                  </a:lnTo>
                  <a:lnTo>
                    <a:pt x="264" y="2050"/>
                  </a:lnTo>
                  <a:lnTo>
                    <a:pt x="298" y="2096"/>
                  </a:lnTo>
                  <a:lnTo>
                    <a:pt x="350" y="2062"/>
                  </a:lnTo>
                  <a:lnTo>
                    <a:pt x="413" y="2062"/>
                  </a:lnTo>
                  <a:lnTo>
                    <a:pt x="419" y="2131"/>
                  </a:lnTo>
                  <a:lnTo>
                    <a:pt x="379" y="2182"/>
                  </a:lnTo>
                  <a:lnTo>
                    <a:pt x="448" y="2188"/>
                  </a:lnTo>
                  <a:lnTo>
                    <a:pt x="476" y="2199"/>
                  </a:lnTo>
                  <a:lnTo>
                    <a:pt x="494" y="2263"/>
                  </a:lnTo>
                  <a:lnTo>
                    <a:pt x="551" y="2297"/>
                  </a:lnTo>
                  <a:lnTo>
                    <a:pt x="620" y="2343"/>
                  </a:lnTo>
                  <a:lnTo>
                    <a:pt x="672" y="2309"/>
                  </a:lnTo>
                  <a:lnTo>
                    <a:pt x="775" y="2343"/>
                  </a:lnTo>
                  <a:lnTo>
                    <a:pt x="850" y="2354"/>
                  </a:lnTo>
                  <a:lnTo>
                    <a:pt x="965" y="2412"/>
                  </a:lnTo>
                  <a:lnTo>
                    <a:pt x="988" y="2458"/>
                  </a:lnTo>
                  <a:lnTo>
                    <a:pt x="1057" y="2515"/>
                  </a:lnTo>
                  <a:lnTo>
                    <a:pt x="1091" y="2601"/>
                  </a:lnTo>
                  <a:lnTo>
                    <a:pt x="1172" y="2636"/>
                  </a:lnTo>
                  <a:lnTo>
                    <a:pt x="1246" y="2647"/>
                  </a:lnTo>
                  <a:lnTo>
                    <a:pt x="1315" y="2710"/>
                  </a:lnTo>
                  <a:lnTo>
                    <a:pt x="1413" y="2710"/>
                  </a:lnTo>
                  <a:lnTo>
                    <a:pt x="1419" y="2768"/>
                  </a:lnTo>
                  <a:lnTo>
                    <a:pt x="1419" y="2825"/>
                  </a:lnTo>
                  <a:lnTo>
                    <a:pt x="1373" y="2884"/>
                  </a:lnTo>
                  <a:lnTo>
                    <a:pt x="1367" y="2964"/>
                  </a:lnTo>
                  <a:lnTo>
                    <a:pt x="1355" y="3033"/>
                  </a:lnTo>
                  <a:lnTo>
                    <a:pt x="1304" y="3102"/>
                  </a:lnTo>
                  <a:lnTo>
                    <a:pt x="1229" y="3136"/>
                  </a:lnTo>
                  <a:lnTo>
                    <a:pt x="1166" y="3153"/>
                  </a:lnTo>
                  <a:lnTo>
                    <a:pt x="1194" y="3217"/>
                  </a:lnTo>
                  <a:lnTo>
                    <a:pt x="1137" y="3280"/>
                  </a:lnTo>
                  <a:lnTo>
                    <a:pt x="1085" y="3337"/>
                  </a:lnTo>
                  <a:lnTo>
                    <a:pt x="1022" y="3372"/>
                  </a:lnTo>
                  <a:lnTo>
                    <a:pt x="970" y="3458"/>
                  </a:lnTo>
                  <a:lnTo>
                    <a:pt x="942" y="3515"/>
                  </a:lnTo>
                  <a:lnTo>
                    <a:pt x="884" y="3544"/>
                  </a:lnTo>
                  <a:lnTo>
                    <a:pt x="844" y="3596"/>
                  </a:lnTo>
                  <a:lnTo>
                    <a:pt x="810" y="3647"/>
                  </a:lnTo>
                  <a:lnTo>
                    <a:pt x="787" y="3699"/>
                  </a:lnTo>
                  <a:lnTo>
                    <a:pt x="792" y="3745"/>
                  </a:lnTo>
                  <a:lnTo>
                    <a:pt x="764" y="3785"/>
                  </a:lnTo>
                  <a:lnTo>
                    <a:pt x="723" y="3716"/>
                  </a:lnTo>
                  <a:lnTo>
                    <a:pt x="660" y="3659"/>
                  </a:lnTo>
                  <a:lnTo>
                    <a:pt x="637" y="3584"/>
                  </a:lnTo>
                  <a:lnTo>
                    <a:pt x="637" y="3515"/>
                  </a:lnTo>
                  <a:lnTo>
                    <a:pt x="631" y="3429"/>
                  </a:lnTo>
                  <a:lnTo>
                    <a:pt x="660" y="3320"/>
                  </a:lnTo>
                  <a:lnTo>
                    <a:pt x="672" y="3217"/>
                  </a:lnTo>
                  <a:lnTo>
                    <a:pt x="654" y="3113"/>
                  </a:lnTo>
                  <a:lnTo>
                    <a:pt x="631" y="3033"/>
                  </a:lnTo>
                  <a:lnTo>
                    <a:pt x="568" y="2964"/>
                  </a:lnTo>
                  <a:lnTo>
                    <a:pt x="499" y="2907"/>
                  </a:lnTo>
                  <a:lnTo>
                    <a:pt x="448" y="2819"/>
                  </a:lnTo>
                  <a:lnTo>
                    <a:pt x="436" y="2728"/>
                  </a:lnTo>
                  <a:lnTo>
                    <a:pt x="471" y="2664"/>
                  </a:lnTo>
                  <a:lnTo>
                    <a:pt x="471" y="2607"/>
                  </a:lnTo>
                  <a:lnTo>
                    <a:pt x="499" y="2509"/>
                  </a:lnTo>
                  <a:lnTo>
                    <a:pt x="545" y="2441"/>
                  </a:lnTo>
                  <a:lnTo>
                    <a:pt x="603" y="2395"/>
                  </a:lnTo>
                  <a:lnTo>
                    <a:pt x="626" y="2354"/>
                  </a:lnTo>
                  <a:lnTo>
                    <a:pt x="551" y="2326"/>
                  </a:lnTo>
                  <a:lnTo>
                    <a:pt x="505" y="2343"/>
                  </a:lnTo>
                  <a:lnTo>
                    <a:pt x="465" y="2320"/>
                  </a:lnTo>
                  <a:lnTo>
                    <a:pt x="402" y="2274"/>
                  </a:lnTo>
                  <a:lnTo>
                    <a:pt x="344" y="2234"/>
                  </a:lnTo>
                  <a:lnTo>
                    <a:pt x="315" y="2171"/>
                  </a:lnTo>
                  <a:lnTo>
                    <a:pt x="287" y="2154"/>
                  </a:lnTo>
                  <a:lnTo>
                    <a:pt x="258" y="2182"/>
                  </a:lnTo>
                  <a:lnTo>
                    <a:pt x="189" y="2142"/>
                  </a:lnTo>
                  <a:lnTo>
                    <a:pt x="155" y="2090"/>
                  </a:lnTo>
                  <a:lnTo>
                    <a:pt x="126" y="2050"/>
                  </a:lnTo>
                  <a:lnTo>
                    <a:pt x="126" y="1976"/>
                  </a:lnTo>
                  <a:lnTo>
                    <a:pt x="114" y="1941"/>
                  </a:lnTo>
                  <a:lnTo>
                    <a:pt x="63" y="1895"/>
                  </a:lnTo>
                  <a:lnTo>
                    <a:pt x="63" y="1935"/>
                  </a:lnTo>
                  <a:lnTo>
                    <a:pt x="91" y="1987"/>
                  </a:lnTo>
                  <a:lnTo>
                    <a:pt x="103" y="2033"/>
                  </a:lnTo>
                  <a:lnTo>
                    <a:pt x="51" y="1998"/>
                  </a:lnTo>
                  <a:lnTo>
                    <a:pt x="17" y="1958"/>
                  </a:lnTo>
                  <a:lnTo>
                    <a:pt x="5" y="1901"/>
                  </a:lnTo>
                  <a:lnTo>
                    <a:pt x="11" y="1815"/>
                  </a:lnTo>
                  <a:lnTo>
                    <a:pt x="0" y="1694"/>
                  </a:lnTo>
                  <a:lnTo>
                    <a:pt x="11" y="1539"/>
                  </a:lnTo>
                  <a:lnTo>
                    <a:pt x="51" y="1321"/>
                  </a:lnTo>
                  <a:lnTo>
                    <a:pt x="120" y="1097"/>
                  </a:lnTo>
                  <a:lnTo>
                    <a:pt x="235" y="838"/>
                  </a:lnTo>
                  <a:lnTo>
                    <a:pt x="327" y="654"/>
                  </a:lnTo>
                  <a:lnTo>
                    <a:pt x="465" y="447"/>
                  </a:lnTo>
                  <a:lnTo>
                    <a:pt x="574" y="327"/>
                  </a:lnTo>
                  <a:close/>
                </a:path>
              </a:pathLst>
            </a:custGeom>
            <a:solidFill>
              <a:srgbClr val="2144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94240" y="1170000"/>
              <a:ext cx="1865520" cy="1357560"/>
            </a:xfrm>
            <a:custGeom>
              <a:avLst/>
              <a:gdLst/>
              <a:ahLst/>
              <a:rect l="0" t="0" r="r" b="b"/>
              <a:pathLst>
                <a:path w="5182" h="3771">
                  <a:moveTo>
                    <a:pt x="528" y="344"/>
                  </a:moveTo>
                  <a:lnTo>
                    <a:pt x="591" y="338"/>
                  </a:lnTo>
                  <a:lnTo>
                    <a:pt x="637" y="292"/>
                  </a:lnTo>
                  <a:lnTo>
                    <a:pt x="689" y="263"/>
                  </a:lnTo>
                  <a:lnTo>
                    <a:pt x="718" y="229"/>
                  </a:lnTo>
                  <a:lnTo>
                    <a:pt x="781" y="189"/>
                  </a:lnTo>
                  <a:lnTo>
                    <a:pt x="832" y="172"/>
                  </a:lnTo>
                  <a:lnTo>
                    <a:pt x="884" y="154"/>
                  </a:lnTo>
                  <a:lnTo>
                    <a:pt x="924" y="154"/>
                  </a:lnTo>
                  <a:lnTo>
                    <a:pt x="953" y="137"/>
                  </a:lnTo>
                  <a:lnTo>
                    <a:pt x="999" y="137"/>
                  </a:lnTo>
                  <a:lnTo>
                    <a:pt x="1016" y="109"/>
                  </a:lnTo>
                  <a:lnTo>
                    <a:pt x="1068" y="120"/>
                  </a:lnTo>
                  <a:lnTo>
                    <a:pt x="1120" y="91"/>
                  </a:lnTo>
                  <a:lnTo>
                    <a:pt x="1160" y="109"/>
                  </a:lnTo>
                  <a:lnTo>
                    <a:pt x="1183" y="131"/>
                  </a:lnTo>
                  <a:lnTo>
                    <a:pt x="1160" y="154"/>
                  </a:lnTo>
                  <a:lnTo>
                    <a:pt x="1120" y="137"/>
                  </a:lnTo>
                  <a:lnTo>
                    <a:pt x="1079" y="160"/>
                  </a:lnTo>
                  <a:lnTo>
                    <a:pt x="1056" y="195"/>
                  </a:lnTo>
                  <a:lnTo>
                    <a:pt x="1045" y="235"/>
                  </a:lnTo>
                  <a:lnTo>
                    <a:pt x="1005" y="241"/>
                  </a:lnTo>
                  <a:lnTo>
                    <a:pt x="953" y="263"/>
                  </a:lnTo>
                  <a:lnTo>
                    <a:pt x="947" y="321"/>
                  </a:lnTo>
                  <a:lnTo>
                    <a:pt x="942" y="367"/>
                  </a:lnTo>
                  <a:lnTo>
                    <a:pt x="924" y="401"/>
                  </a:lnTo>
                  <a:lnTo>
                    <a:pt x="947" y="436"/>
                  </a:lnTo>
                  <a:lnTo>
                    <a:pt x="970" y="344"/>
                  </a:lnTo>
                  <a:lnTo>
                    <a:pt x="1005" y="327"/>
                  </a:lnTo>
                  <a:lnTo>
                    <a:pt x="1045" y="281"/>
                  </a:lnTo>
                  <a:lnTo>
                    <a:pt x="1074" y="218"/>
                  </a:lnTo>
                  <a:lnTo>
                    <a:pt x="1143" y="206"/>
                  </a:lnTo>
                  <a:lnTo>
                    <a:pt x="1200" y="177"/>
                  </a:lnTo>
                  <a:lnTo>
                    <a:pt x="1235" y="126"/>
                  </a:lnTo>
                  <a:lnTo>
                    <a:pt x="1280" y="126"/>
                  </a:lnTo>
                  <a:lnTo>
                    <a:pt x="1390" y="120"/>
                  </a:lnTo>
                  <a:lnTo>
                    <a:pt x="1505" y="91"/>
                  </a:lnTo>
                  <a:lnTo>
                    <a:pt x="1539" y="91"/>
                  </a:lnTo>
                  <a:lnTo>
                    <a:pt x="1591" y="91"/>
                  </a:lnTo>
                  <a:lnTo>
                    <a:pt x="1642" y="91"/>
                  </a:lnTo>
                  <a:lnTo>
                    <a:pt x="1688" y="109"/>
                  </a:lnTo>
                  <a:lnTo>
                    <a:pt x="1746" y="154"/>
                  </a:lnTo>
                  <a:lnTo>
                    <a:pt x="1723" y="160"/>
                  </a:lnTo>
                  <a:lnTo>
                    <a:pt x="1660" y="183"/>
                  </a:lnTo>
                  <a:lnTo>
                    <a:pt x="1665" y="235"/>
                  </a:lnTo>
                  <a:lnTo>
                    <a:pt x="1717" y="241"/>
                  </a:lnTo>
                  <a:lnTo>
                    <a:pt x="1740" y="241"/>
                  </a:lnTo>
                  <a:lnTo>
                    <a:pt x="1729" y="281"/>
                  </a:lnTo>
                  <a:lnTo>
                    <a:pt x="1665" y="338"/>
                  </a:lnTo>
                  <a:lnTo>
                    <a:pt x="1631" y="344"/>
                  </a:lnTo>
                  <a:lnTo>
                    <a:pt x="1637" y="378"/>
                  </a:lnTo>
                  <a:lnTo>
                    <a:pt x="1648" y="401"/>
                  </a:lnTo>
                  <a:lnTo>
                    <a:pt x="1631" y="436"/>
                  </a:lnTo>
                  <a:lnTo>
                    <a:pt x="1660" y="482"/>
                  </a:lnTo>
                  <a:lnTo>
                    <a:pt x="1596" y="499"/>
                  </a:lnTo>
                  <a:lnTo>
                    <a:pt x="1539" y="516"/>
                  </a:lnTo>
                  <a:lnTo>
                    <a:pt x="1533" y="579"/>
                  </a:lnTo>
                  <a:lnTo>
                    <a:pt x="1505" y="631"/>
                  </a:lnTo>
                  <a:lnTo>
                    <a:pt x="1464" y="671"/>
                  </a:lnTo>
                  <a:lnTo>
                    <a:pt x="1413" y="694"/>
                  </a:lnTo>
                  <a:lnTo>
                    <a:pt x="1533" y="694"/>
                  </a:lnTo>
                  <a:lnTo>
                    <a:pt x="1596" y="694"/>
                  </a:lnTo>
                  <a:lnTo>
                    <a:pt x="1637" y="705"/>
                  </a:lnTo>
                  <a:lnTo>
                    <a:pt x="1688" y="682"/>
                  </a:lnTo>
                  <a:lnTo>
                    <a:pt x="1717" y="734"/>
                  </a:lnTo>
                  <a:lnTo>
                    <a:pt x="2389" y="734"/>
                  </a:lnTo>
                  <a:lnTo>
                    <a:pt x="2412" y="694"/>
                  </a:lnTo>
                  <a:lnTo>
                    <a:pt x="2487" y="642"/>
                  </a:lnTo>
                  <a:lnTo>
                    <a:pt x="2516" y="573"/>
                  </a:lnTo>
                  <a:lnTo>
                    <a:pt x="2573" y="505"/>
                  </a:lnTo>
                  <a:lnTo>
                    <a:pt x="2608" y="447"/>
                  </a:lnTo>
                  <a:lnTo>
                    <a:pt x="2631" y="384"/>
                  </a:lnTo>
                  <a:lnTo>
                    <a:pt x="2683" y="367"/>
                  </a:lnTo>
                  <a:lnTo>
                    <a:pt x="2700" y="327"/>
                  </a:lnTo>
                  <a:lnTo>
                    <a:pt x="2741" y="344"/>
                  </a:lnTo>
                  <a:lnTo>
                    <a:pt x="2781" y="309"/>
                  </a:lnTo>
                  <a:lnTo>
                    <a:pt x="2815" y="338"/>
                  </a:lnTo>
                  <a:lnTo>
                    <a:pt x="2867" y="361"/>
                  </a:lnTo>
                  <a:lnTo>
                    <a:pt x="2913" y="373"/>
                  </a:lnTo>
                  <a:lnTo>
                    <a:pt x="2965" y="384"/>
                  </a:lnTo>
                  <a:lnTo>
                    <a:pt x="2999" y="367"/>
                  </a:lnTo>
                  <a:lnTo>
                    <a:pt x="3045" y="390"/>
                  </a:lnTo>
                  <a:lnTo>
                    <a:pt x="3079" y="436"/>
                  </a:lnTo>
                  <a:lnTo>
                    <a:pt x="3137" y="447"/>
                  </a:lnTo>
                  <a:lnTo>
                    <a:pt x="3148" y="499"/>
                  </a:lnTo>
                  <a:lnTo>
                    <a:pt x="3131" y="533"/>
                  </a:lnTo>
                  <a:lnTo>
                    <a:pt x="3051" y="516"/>
                  </a:lnTo>
                  <a:lnTo>
                    <a:pt x="2993" y="493"/>
                  </a:lnTo>
                  <a:lnTo>
                    <a:pt x="2988" y="533"/>
                  </a:lnTo>
                  <a:lnTo>
                    <a:pt x="3068" y="545"/>
                  </a:lnTo>
                  <a:lnTo>
                    <a:pt x="3131" y="591"/>
                  </a:lnTo>
                  <a:lnTo>
                    <a:pt x="3217" y="556"/>
                  </a:lnTo>
                  <a:lnTo>
                    <a:pt x="3240" y="487"/>
                  </a:lnTo>
                  <a:lnTo>
                    <a:pt x="3281" y="430"/>
                  </a:lnTo>
                  <a:lnTo>
                    <a:pt x="3332" y="441"/>
                  </a:lnTo>
                  <a:lnTo>
                    <a:pt x="3321" y="470"/>
                  </a:lnTo>
                  <a:lnTo>
                    <a:pt x="3292" y="499"/>
                  </a:lnTo>
                  <a:lnTo>
                    <a:pt x="3292" y="545"/>
                  </a:lnTo>
                  <a:lnTo>
                    <a:pt x="3344" y="493"/>
                  </a:lnTo>
                  <a:lnTo>
                    <a:pt x="3395" y="447"/>
                  </a:lnTo>
                  <a:lnTo>
                    <a:pt x="3482" y="436"/>
                  </a:lnTo>
                  <a:lnTo>
                    <a:pt x="3585" y="401"/>
                  </a:lnTo>
                  <a:lnTo>
                    <a:pt x="3665" y="367"/>
                  </a:lnTo>
                  <a:lnTo>
                    <a:pt x="3683" y="321"/>
                  </a:lnTo>
                  <a:lnTo>
                    <a:pt x="3614" y="327"/>
                  </a:lnTo>
                  <a:lnTo>
                    <a:pt x="3556" y="281"/>
                  </a:lnTo>
                  <a:lnTo>
                    <a:pt x="3516" y="218"/>
                  </a:lnTo>
                  <a:lnTo>
                    <a:pt x="3556" y="137"/>
                  </a:lnTo>
                  <a:lnTo>
                    <a:pt x="3619" y="86"/>
                  </a:lnTo>
                  <a:lnTo>
                    <a:pt x="3671" y="28"/>
                  </a:lnTo>
                  <a:lnTo>
                    <a:pt x="3752" y="28"/>
                  </a:lnTo>
                  <a:lnTo>
                    <a:pt x="3815" y="0"/>
                  </a:lnTo>
                  <a:lnTo>
                    <a:pt x="3809" y="40"/>
                  </a:lnTo>
                  <a:lnTo>
                    <a:pt x="3757" y="51"/>
                  </a:lnTo>
                  <a:lnTo>
                    <a:pt x="3740" y="68"/>
                  </a:lnTo>
                  <a:lnTo>
                    <a:pt x="3688" y="74"/>
                  </a:lnTo>
                  <a:lnTo>
                    <a:pt x="3654" y="120"/>
                  </a:lnTo>
                  <a:lnTo>
                    <a:pt x="3631" y="172"/>
                  </a:lnTo>
                  <a:lnTo>
                    <a:pt x="3614" y="218"/>
                  </a:lnTo>
                  <a:lnTo>
                    <a:pt x="3671" y="309"/>
                  </a:lnTo>
                  <a:lnTo>
                    <a:pt x="3763" y="344"/>
                  </a:lnTo>
                  <a:lnTo>
                    <a:pt x="3826" y="378"/>
                  </a:lnTo>
                  <a:lnTo>
                    <a:pt x="3861" y="390"/>
                  </a:lnTo>
                  <a:lnTo>
                    <a:pt x="3889" y="436"/>
                  </a:lnTo>
                  <a:lnTo>
                    <a:pt x="3918" y="430"/>
                  </a:lnTo>
                  <a:lnTo>
                    <a:pt x="3918" y="390"/>
                  </a:lnTo>
                  <a:lnTo>
                    <a:pt x="3901" y="344"/>
                  </a:lnTo>
                  <a:lnTo>
                    <a:pt x="3872" y="315"/>
                  </a:lnTo>
                  <a:lnTo>
                    <a:pt x="3866" y="281"/>
                  </a:lnTo>
                  <a:lnTo>
                    <a:pt x="3889" y="218"/>
                  </a:lnTo>
                  <a:lnTo>
                    <a:pt x="3953" y="218"/>
                  </a:lnTo>
                  <a:lnTo>
                    <a:pt x="4004" y="218"/>
                  </a:lnTo>
                  <a:lnTo>
                    <a:pt x="4027" y="241"/>
                  </a:lnTo>
                  <a:lnTo>
                    <a:pt x="4045" y="298"/>
                  </a:lnTo>
                  <a:lnTo>
                    <a:pt x="4068" y="344"/>
                  </a:lnTo>
                  <a:lnTo>
                    <a:pt x="4079" y="298"/>
                  </a:lnTo>
                  <a:lnTo>
                    <a:pt x="4125" y="263"/>
                  </a:lnTo>
                  <a:lnTo>
                    <a:pt x="4177" y="263"/>
                  </a:lnTo>
                  <a:lnTo>
                    <a:pt x="4217" y="263"/>
                  </a:lnTo>
                  <a:lnTo>
                    <a:pt x="4263" y="269"/>
                  </a:lnTo>
                  <a:lnTo>
                    <a:pt x="4263" y="218"/>
                  </a:lnTo>
                  <a:lnTo>
                    <a:pt x="4303" y="218"/>
                  </a:lnTo>
                  <a:lnTo>
                    <a:pt x="4326" y="258"/>
                  </a:lnTo>
                  <a:lnTo>
                    <a:pt x="4383" y="258"/>
                  </a:lnTo>
                  <a:lnTo>
                    <a:pt x="4435" y="235"/>
                  </a:lnTo>
                  <a:lnTo>
                    <a:pt x="4487" y="281"/>
                  </a:lnTo>
                  <a:lnTo>
                    <a:pt x="4550" y="338"/>
                  </a:lnTo>
                  <a:lnTo>
                    <a:pt x="4619" y="344"/>
                  </a:lnTo>
                  <a:lnTo>
                    <a:pt x="4705" y="384"/>
                  </a:lnTo>
                  <a:lnTo>
                    <a:pt x="4734" y="378"/>
                  </a:lnTo>
                  <a:lnTo>
                    <a:pt x="4803" y="493"/>
                  </a:lnTo>
                  <a:lnTo>
                    <a:pt x="4900" y="671"/>
                  </a:lnTo>
                  <a:lnTo>
                    <a:pt x="4975" y="780"/>
                  </a:lnTo>
                  <a:lnTo>
                    <a:pt x="5010" y="883"/>
                  </a:lnTo>
                  <a:lnTo>
                    <a:pt x="4958" y="906"/>
                  </a:lnTo>
                  <a:lnTo>
                    <a:pt x="4941" y="952"/>
                  </a:lnTo>
                  <a:lnTo>
                    <a:pt x="4958" y="1038"/>
                  </a:lnTo>
                  <a:lnTo>
                    <a:pt x="4992" y="1119"/>
                  </a:lnTo>
                  <a:lnTo>
                    <a:pt x="5027" y="1119"/>
                  </a:lnTo>
                  <a:lnTo>
                    <a:pt x="5027" y="1055"/>
                  </a:lnTo>
                  <a:lnTo>
                    <a:pt x="5061" y="1038"/>
                  </a:lnTo>
                  <a:lnTo>
                    <a:pt x="5084" y="1096"/>
                  </a:lnTo>
                  <a:lnTo>
                    <a:pt x="5038" y="1119"/>
                  </a:lnTo>
                  <a:lnTo>
                    <a:pt x="5107" y="1176"/>
                  </a:lnTo>
                  <a:lnTo>
                    <a:pt x="5056" y="1245"/>
                  </a:lnTo>
                  <a:lnTo>
                    <a:pt x="5044" y="1279"/>
                  </a:lnTo>
                  <a:lnTo>
                    <a:pt x="5130" y="1302"/>
                  </a:lnTo>
                  <a:lnTo>
                    <a:pt x="5090" y="1348"/>
                  </a:lnTo>
                  <a:lnTo>
                    <a:pt x="5050" y="1365"/>
                  </a:lnTo>
                  <a:lnTo>
                    <a:pt x="5050" y="1446"/>
                  </a:lnTo>
                  <a:lnTo>
                    <a:pt x="5090" y="1515"/>
                  </a:lnTo>
                  <a:lnTo>
                    <a:pt x="5050" y="1532"/>
                  </a:lnTo>
                  <a:lnTo>
                    <a:pt x="4975" y="1509"/>
                  </a:lnTo>
                  <a:lnTo>
                    <a:pt x="5004" y="1474"/>
                  </a:lnTo>
                  <a:lnTo>
                    <a:pt x="5056" y="1474"/>
                  </a:lnTo>
                  <a:lnTo>
                    <a:pt x="5056" y="1383"/>
                  </a:lnTo>
                  <a:lnTo>
                    <a:pt x="4998" y="1411"/>
                  </a:lnTo>
                  <a:lnTo>
                    <a:pt x="4992" y="1348"/>
                  </a:lnTo>
                  <a:lnTo>
                    <a:pt x="5044" y="1302"/>
                  </a:lnTo>
                  <a:lnTo>
                    <a:pt x="5056" y="1251"/>
                  </a:lnTo>
                  <a:lnTo>
                    <a:pt x="5027" y="1187"/>
                  </a:lnTo>
                  <a:lnTo>
                    <a:pt x="5027" y="1113"/>
                  </a:lnTo>
                  <a:lnTo>
                    <a:pt x="4987" y="1141"/>
                  </a:lnTo>
                  <a:lnTo>
                    <a:pt x="4946" y="1199"/>
                  </a:lnTo>
                  <a:lnTo>
                    <a:pt x="4883" y="1251"/>
                  </a:lnTo>
                  <a:lnTo>
                    <a:pt x="4900" y="1319"/>
                  </a:lnTo>
                  <a:lnTo>
                    <a:pt x="4895" y="1383"/>
                  </a:lnTo>
                  <a:lnTo>
                    <a:pt x="4895" y="1423"/>
                  </a:lnTo>
                  <a:lnTo>
                    <a:pt x="4929" y="1474"/>
                  </a:lnTo>
                  <a:lnTo>
                    <a:pt x="4900" y="1503"/>
                  </a:lnTo>
                  <a:lnTo>
                    <a:pt x="4837" y="1434"/>
                  </a:lnTo>
                  <a:lnTo>
                    <a:pt x="4803" y="1365"/>
                  </a:lnTo>
                  <a:lnTo>
                    <a:pt x="4780" y="1314"/>
                  </a:lnTo>
                  <a:lnTo>
                    <a:pt x="4751" y="1291"/>
                  </a:lnTo>
                  <a:lnTo>
                    <a:pt x="4699" y="1319"/>
                  </a:lnTo>
                  <a:lnTo>
                    <a:pt x="4676" y="1371"/>
                  </a:lnTo>
                  <a:lnTo>
                    <a:pt x="4740" y="1434"/>
                  </a:lnTo>
                  <a:lnTo>
                    <a:pt x="4774" y="1503"/>
                  </a:lnTo>
                  <a:lnTo>
                    <a:pt x="4780" y="1583"/>
                  </a:lnTo>
                  <a:lnTo>
                    <a:pt x="4774" y="1664"/>
                  </a:lnTo>
                  <a:lnTo>
                    <a:pt x="4774" y="1727"/>
                  </a:lnTo>
                  <a:lnTo>
                    <a:pt x="4809" y="1681"/>
                  </a:lnTo>
                  <a:lnTo>
                    <a:pt x="4860" y="1687"/>
                  </a:lnTo>
                  <a:lnTo>
                    <a:pt x="4877" y="1738"/>
                  </a:lnTo>
                  <a:lnTo>
                    <a:pt x="4837" y="1790"/>
                  </a:lnTo>
                  <a:lnTo>
                    <a:pt x="4791" y="1784"/>
                  </a:lnTo>
                  <a:lnTo>
                    <a:pt x="4780" y="1830"/>
                  </a:lnTo>
                  <a:lnTo>
                    <a:pt x="4820" y="1876"/>
                  </a:lnTo>
                  <a:lnTo>
                    <a:pt x="4803" y="1934"/>
                  </a:lnTo>
                  <a:lnTo>
                    <a:pt x="4854" y="1980"/>
                  </a:lnTo>
                  <a:lnTo>
                    <a:pt x="4820" y="2021"/>
                  </a:lnTo>
                  <a:lnTo>
                    <a:pt x="4872" y="2072"/>
                  </a:lnTo>
                  <a:lnTo>
                    <a:pt x="4837" y="2124"/>
                  </a:lnTo>
                  <a:lnTo>
                    <a:pt x="4895" y="2089"/>
                  </a:lnTo>
                  <a:lnTo>
                    <a:pt x="4877" y="2141"/>
                  </a:lnTo>
                  <a:lnTo>
                    <a:pt x="4981" y="2124"/>
                  </a:lnTo>
                  <a:lnTo>
                    <a:pt x="4946" y="2187"/>
                  </a:lnTo>
                  <a:lnTo>
                    <a:pt x="4877" y="2141"/>
                  </a:lnTo>
                  <a:lnTo>
                    <a:pt x="4872" y="2210"/>
                  </a:lnTo>
                  <a:lnTo>
                    <a:pt x="4975" y="2204"/>
                  </a:lnTo>
                  <a:lnTo>
                    <a:pt x="4929" y="2279"/>
                  </a:lnTo>
                  <a:lnTo>
                    <a:pt x="4860" y="2198"/>
                  </a:lnTo>
                  <a:lnTo>
                    <a:pt x="4895" y="2307"/>
                  </a:lnTo>
                  <a:lnTo>
                    <a:pt x="4981" y="2382"/>
                  </a:lnTo>
                  <a:lnTo>
                    <a:pt x="4900" y="2382"/>
                  </a:lnTo>
                  <a:lnTo>
                    <a:pt x="4860" y="2210"/>
                  </a:lnTo>
                  <a:lnTo>
                    <a:pt x="4877" y="2101"/>
                  </a:lnTo>
                  <a:lnTo>
                    <a:pt x="4820" y="2101"/>
                  </a:lnTo>
                  <a:lnTo>
                    <a:pt x="4774" y="2038"/>
                  </a:lnTo>
                  <a:lnTo>
                    <a:pt x="4820" y="2015"/>
                  </a:lnTo>
                  <a:lnTo>
                    <a:pt x="4820" y="1946"/>
                  </a:lnTo>
                  <a:lnTo>
                    <a:pt x="4791" y="1813"/>
                  </a:lnTo>
                  <a:lnTo>
                    <a:pt x="4780" y="1721"/>
                  </a:lnTo>
                  <a:lnTo>
                    <a:pt x="4774" y="1652"/>
                  </a:lnTo>
                  <a:lnTo>
                    <a:pt x="4717" y="1727"/>
                  </a:lnTo>
                  <a:lnTo>
                    <a:pt x="4630" y="1761"/>
                  </a:lnTo>
                  <a:lnTo>
                    <a:pt x="4585" y="1819"/>
                  </a:lnTo>
                  <a:lnTo>
                    <a:pt x="4602" y="1882"/>
                  </a:lnTo>
                  <a:lnTo>
                    <a:pt x="4567" y="1934"/>
                  </a:lnTo>
                  <a:lnTo>
                    <a:pt x="4510" y="1917"/>
                  </a:lnTo>
                  <a:lnTo>
                    <a:pt x="4562" y="1847"/>
                  </a:lnTo>
                  <a:lnTo>
                    <a:pt x="4521" y="1824"/>
                  </a:lnTo>
                  <a:lnTo>
                    <a:pt x="4475" y="1865"/>
                  </a:lnTo>
                  <a:lnTo>
                    <a:pt x="4475" y="1929"/>
                  </a:lnTo>
                  <a:lnTo>
                    <a:pt x="4562" y="2015"/>
                  </a:lnTo>
                  <a:lnTo>
                    <a:pt x="4585" y="2078"/>
                  </a:lnTo>
                  <a:lnTo>
                    <a:pt x="4516" y="2170"/>
                  </a:lnTo>
                  <a:lnTo>
                    <a:pt x="4516" y="2365"/>
                  </a:lnTo>
                  <a:lnTo>
                    <a:pt x="4516" y="2451"/>
                  </a:lnTo>
                  <a:lnTo>
                    <a:pt x="4527" y="2503"/>
                  </a:lnTo>
                  <a:lnTo>
                    <a:pt x="4625" y="2497"/>
                  </a:lnTo>
                  <a:lnTo>
                    <a:pt x="4688" y="2508"/>
                  </a:lnTo>
                  <a:lnTo>
                    <a:pt x="4734" y="2434"/>
                  </a:lnTo>
                  <a:lnTo>
                    <a:pt x="4780" y="2434"/>
                  </a:lnTo>
                  <a:lnTo>
                    <a:pt x="4757" y="2480"/>
                  </a:lnTo>
                  <a:lnTo>
                    <a:pt x="4820" y="2531"/>
                  </a:lnTo>
                  <a:lnTo>
                    <a:pt x="4895" y="2543"/>
                  </a:lnTo>
                  <a:lnTo>
                    <a:pt x="4883" y="2497"/>
                  </a:lnTo>
                  <a:lnTo>
                    <a:pt x="5050" y="2497"/>
                  </a:lnTo>
                  <a:lnTo>
                    <a:pt x="4992" y="2514"/>
                  </a:lnTo>
                  <a:lnTo>
                    <a:pt x="4987" y="2560"/>
                  </a:lnTo>
                  <a:lnTo>
                    <a:pt x="5061" y="2583"/>
                  </a:lnTo>
                  <a:lnTo>
                    <a:pt x="5136" y="2606"/>
                  </a:lnTo>
                  <a:lnTo>
                    <a:pt x="5170" y="2520"/>
                  </a:lnTo>
                  <a:lnTo>
                    <a:pt x="5182" y="2480"/>
                  </a:lnTo>
                  <a:lnTo>
                    <a:pt x="5130" y="2485"/>
                  </a:lnTo>
                  <a:lnTo>
                    <a:pt x="5084" y="2457"/>
                  </a:lnTo>
                  <a:lnTo>
                    <a:pt x="5050" y="2445"/>
                  </a:lnTo>
                  <a:lnTo>
                    <a:pt x="5027" y="2508"/>
                  </a:lnTo>
                  <a:lnTo>
                    <a:pt x="5027" y="2503"/>
                  </a:lnTo>
                  <a:lnTo>
                    <a:pt x="4872" y="2503"/>
                  </a:lnTo>
                  <a:lnTo>
                    <a:pt x="4837" y="2416"/>
                  </a:lnTo>
                  <a:lnTo>
                    <a:pt x="4791" y="2439"/>
                  </a:lnTo>
                  <a:lnTo>
                    <a:pt x="4740" y="2434"/>
                  </a:lnTo>
                  <a:lnTo>
                    <a:pt x="4717" y="2342"/>
                  </a:lnTo>
                  <a:lnTo>
                    <a:pt x="4694" y="2290"/>
                  </a:lnTo>
                  <a:lnTo>
                    <a:pt x="4745" y="2262"/>
                  </a:lnTo>
                  <a:lnTo>
                    <a:pt x="4745" y="2210"/>
                  </a:lnTo>
                  <a:lnTo>
                    <a:pt x="4671" y="2244"/>
                  </a:lnTo>
                  <a:lnTo>
                    <a:pt x="4619" y="2290"/>
                  </a:lnTo>
                  <a:lnTo>
                    <a:pt x="4585" y="2353"/>
                  </a:lnTo>
                  <a:lnTo>
                    <a:pt x="4516" y="2353"/>
                  </a:lnTo>
                  <a:lnTo>
                    <a:pt x="4516" y="2193"/>
                  </a:lnTo>
                  <a:lnTo>
                    <a:pt x="4481" y="2227"/>
                  </a:lnTo>
                  <a:lnTo>
                    <a:pt x="4435" y="2153"/>
                  </a:lnTo>
                  <a:lnTo>
                    <a:pt x="4378" y="2084"/>
                  </a:lnTo>
                  <a:lnTo>
                    <a:pt x="4309" y="2101"/>
                  </a:lnTo>
                  <a:lnTo>
                    <a:pt x="4303" y="2170"/>
                  </a:lnTo>
                  <a:lnTo>
                    <a:pt x="4332" y="2256"/>
                  </a:lnTo>
                  <a:lnTo>
                    <a:pt x="4332" y="2330"/>
                  </a:lnTo>
                  <a:lnTo>
                    <a:pt x="4383" y="2399"/>
                  </a:lnTo>
                  <a:lnTo>
                    <a:pt x="4418" y="2439"/>
                  </a:lnTo>
                  <a:lnTo>
                    <a:pt x="4360" y="2439"/>
                  </a:lnTo>
                  <a:lnTo>
                    <a:pt x="4315" y="2399"/>
                  </a:lnTo>
                  <a:lnTo>
                    <a:pt x="4292" y="2445"/>
                  </a:lnTo>
                  <a:lnTo>
                    <a:pt x="4372" y="2543"/>
                  </a:lnTo>
                  <a:lnTo>
                    <a:pt x="4435" y="2594"/>
                  </a:lnTo>
                  <a:lnTo>
                    <a:pt x="4493" y="2589"/>
                  </a:lnTo>
                  <a:lnTo>
                    <a:pt x="4562" y="2606"/>
                  </a:lnTo>
                  <a:lnTo>
                    <a:pt x="4642" y="2606"/>
                  </a:lnTo>
                  <a:lnTo>
                    <a:pt x="4717" y="2594"/>
                  </a:lnTo>
                  <a:lnTo>
                    <a:pt x="4791" y="2635"/>
                  </a:lnTo>
                  <a:lnTo>
                    <a:pt x="4774" y="2646"/>
                  </a:lnTo>
                  <a:lnTo>
                    <a:pt x="4694" y="2623"/>
                  </a:lnTo>
                  <a:lnTo>
                    <a:pt x="4694" y="2755"/>
                  </a:lnTo>
                  <a:lnTo>
                    <a:pt x="4751" y="2755"/>
                  </a:lnTo>
                  <a:lnTo>
                    <a:pt x="4780" y="2749"/>
                  </a:lnTo>
                  <a:lnTo>
                    <a:pt x="4791" y="2703"/>
                  </a:lnTo>
                  <a:lnTo>
                    <a:pt x="4860" y="2709"/>
                  </a:lnTo>
                  <a:lnTo>
                    <a:pt x="4941" y="2686"/>
                  </a:lnTo>
                  <a:lnTo>
                    <a:pt x="4935" y="2738"/>
                  </a:lnTo>
                  <a:lnTo>
                    <a:pt x="4958" y="2778"/>
                  </a:lnTo>
                  <a:lnTo>
                    <a:pt x="5004" y="2812"/>
                  </a:lnTo>
                  <a:lnTo>
                    <a:pt x="5050" y="2778"/>
                  </a:lnTo>
                  <a:lnTo>
                    <a:pt x="5044" y="2715"/>
                  </a:lnTo>
                  <a:lnTo>
                    <a:pt x="5050" y="2663"/>
                  </a:lnTo>
                  <a:lnTo>
                    <a:pt x="5084" y="2715"/>
                  </a:lnTo>
                  <a:lnTo>
                    <a:pt x="5090" y="2795"/>
                  </a:lnTo>
                  <a:lnTo>
                    <a:pt x="5027" y="2933"/>
                  </a:lnTo>
                  <a:lnTo>
                    <a:pt x="4958" y="3071"/>
                  </a:lnTo>
                  <a:lnTo>
                    <a:pt x="4895" y="3208"/>
                  </a:lnTo>
                  <a:lnTo>
                    <a:pt x="4820" y="3346"/>
                  </a:lnTo>
                  <a:lnTo>
                    <a:pt x="4757" y="3312"/>
                  </a:lnTo>
                  <a:lnTo>
                    <a:pt x="4694" y="3335"/>
                  </a:lnTo>
                  <a:lnTo>
                    <a:pt x="4671" y="3386"/>
                  </a:lnTo>
                  <a:lnTo>
                    <a:pt x="4619" y="3421"/>
                  </a:lnTo>
                  <a:lnTo>
                    <a:pt x="4521" y="3438"/>
                  </a:lnTo>
                  <a:lnTo>
                    <a:pt x="4464" y="3426"/>
                  </a:lnTo>
                  <a:lnTo>
                    <a:pt x="4487" y="3340"/>
                  </a:lnTo>
                  <a:lnTo>
                    <a:pt x="4481" y="3277"/>
                  </a:lnTo>
                  <a:lnTo>
                    <a:pt x="4516" y="3231"/>
                  </a:lnTo>
                  <a:lnTo>
                    <a:pt x="4510" y="3185"/>
                  </a:lnTo>
                  <a:lnTo>
                    <a:pt x="4441" y="3151"/>
                  </a:lnTo>
                  <a:lnTo>
                    <a:pt x="4447" y="3071"/>
                  </a:lnTo>
                  <a:lnTo>
                    <a:pt x="4475" y="2985"/>
                  </a:lnTo>
                  <a:lnTo>
                    <a:pt x="4539" y="2921"/>
                  </a:lnTo>
                  <a:lnTo>
                    <a:pt x="4625" y="2921"/>
                  </a:lnTo>
                  <a:lnTo>
                    <a:pt x="4636" y="2870"/>
                  </a:lnTo>
                  <a:lnTo>
                    <a:pt x="4619" y="2795"/>
                  </a:lnTo>
                  <a:lnTo>
                    <a:pt x="4671" y="2761"/>
                  </a:lnTo>
                  <a:lnTo>
                    <a:pt x="4694" y="2755"/>
                  </a:lnTo>
                  <a:lnTo>
                    <a:pt x="4694" y="2635"/>
                  </a:lnTo>
                  <a:lnTo>
                    <a:pt x="4625" y="2640"/>
                  </a:lnTo>
                  <a:lnTo>
                    <a:pt x="4562" y="2669"/>
                  </a:lnTo>
                  <a:lnTo>
                    <a:pt x="4498" y="2635"/>
                  </a:lnTo>
                  <a:lnTo>
                    <a:pt x="4429" y="2635"/>
                  </a:lnTo>
                  <a:lnTo>
                    <a:pt x="4338" y="2594"/>
                  </a:lnTo>
                  <a:lnTo>
                    <a:pt x="4292" y="2543"/>
                  </a:lnTo>
                  <a:lnTo>
                    <a:pt x="4257" y="2480"/>
                  </a:lnTo>
                  <a:lnTo>
                    <a:pt x="4211" y="2434"/>
                  </a:lnTo>
                  <a:lnTo>
                    <a:pt x="4257" y="2416"/>
                  </a:lnTo>
                  <a:lnTo>
                    <a:pt x="4292" y="2439"/>
                  </a:lnTo>
                  <a:lnTo>
                    <a:pt x="4320" y="2394"/>
                  </a:lnTo>
                  <a:lnTo>
                    <a:pt x="4309" y="2325"/>
                  </a:lnTo>
                  <a:lnTo>
                    <a:pt x="4257" y="2313"/>
                  </a:lnTo>
                  <a:lnTo>
                    <a:pt x="4234" y="2233"/>
                  </a:lnTo>
                  <a:lnTo>
                    <a:pt x="4251" y="2153"/>
                  </a:lnTo>
                  <a:lnTo>
                    <a:pt x="4292" y="2089"/>
                  </a:lnTo>
                  <a:lnTo>
                    <a:pt x="4274" y="2015"/>
                  </a:lnTo>
                  <a:lnTo>
                    <a:pt x="4251" y="2003"/>
                  </a:lnTo>
                  <a:lnTo>
                    <a:pt x="4211" y="2043"/>
                  </a:lnTo>
                  <a:lnTo>
                    <a:pt x="4205" y="2089"/>
                  </a:lnTo>
                  <a:lnTo>
                    <a:pt x="4165" y="2015"/>
                  </a:lnTo>
                  <a:lnTo>
                    <a:pt x="4085" y="1952"/>
                  </a:lnTo>
                  <a:lnTo>
                    <a:pt x="4045" y="1963"/>
                  </a:lnTo>
                  <a:lnTo>
                    <a:pt x="3993" y="2038"/>
                  </a:lnTo>
                  <a:lnTo>
                    <a:pt x="3924" y="2084"/>
                  </a:lnTo>
                  <a:lnTo>
                    <a:pt x="3924" y="2135"/>
                  </a:lnTo>
                  <a:lnTo>
                    <a:pt x="3947" y="2193"/>
                  </a:lnTo>
                  <a:lnTo>
                    <a:pt x="3941" y="2250"/>
                  </a:lnTo>
                  <a:lnTo>
                    <a:pt x="3889" y="2244"/>
                  </a:lnTo>
                  <a:lnTo>
                    <a:pt x="3855" y="2170"/>
                  </a:lnTo>
                  <a:lnTo>
                    <a:pt x="3798" y="2089"/>
                  </a:lnTo>
                  <a:lnTo>
                    <a:pt x="3734" y="2038"/>
                  </a:lnTo>
                  <a:lnTo>
                    <a:pt x="3683" y="1952"/>
                  </a:lnTo>
                  <a:lnTo>
                    <a:pt x="3637" y="1929"/>
                  </a:lnTo>
                  <a:lnTo>
                    <a:pt x="3551" y="1929"/>
                  </a:lnTo>
                  <a:lnTo>
                    <a:pt x="3482" y="1929"/>
                  </a:lnTo>
                  <a:lnTo>
                    <a:pt x="3436" y="1963"/>
                  </a:lnTo>
                  <a:lnTo>
                    <a:pt x="3390" y="1900"/>
                  </a:lnTo>
                  <a:lnTo>
                    <a:pt x="3338" y="1870"/>
                  </a:lnTo>
                  <a:lnTo>
                    <a:pt x="3269" y="1813"/>
                  </a:lnTo>
                  <a:lnTo>
                    <a:pt x="3321" y="1900"/>
                  </a:lnTo>
                  <a:lnTo>
                    <a:pt x="3395" y="1934"/>
                  </a:lnTo>
                  <a:lnTo>
                    <a:pt x="3447" y="2015"/>
                  </a:lnTo>
                  <a:lnTo>
                    <a:pt x="3430" y="2084"/>
                  </a:lnTo>
                  <a:lnTo>
                    <a:pt x="3378" y="2124"/>
                  </a:lnTo>
                  <a:lnTo>
                    <a:pt x="3298" y="2135"/>
                  </a:lnTo>
                  <a:lnTo>
                    <a:pt x="3235" y="2170"/>
                  </a:lnTo>
                  <a:lnTo>
                    <a:pt x="3189" y="2233"/>
                  </a:lnTo>
                  <a:lnTo>
                    <a:pt x="3148" y="2262"/>
                  </a:lnTo>
                  <a:lnTo>
                    <a:pt x="3137" y="2187"/>
                  </a:lnTo>
                  <a:lnTo>
                    <a:pt x="3091" y="2084"/>
                  </a:lnTo>
                  <a:lnTo>
                    <a:pt x="3045" y="2026"/>
                  </a:lnTo>
                  <a:lnTo>
                    <a:pt x="3045" y="1963"/>
                  </a:lnTo>
                  <a:lnTo>
                    <a:pt x="2999" y="1975"/>
                  </a:lnTo>
                  <a:lnTo>
                    <a:pt x="3016" y="2072"/>
                  </a:lnTo>
                  <a:lnTo>
                    <a:pt x="3062" y="2153"/>
                  </a:lnTo>
                  <a:lnTo>
                    <a:pt x="3062" y="2227"/>
                  </a:lnTo>
                  <a:lnTo>
                    <a:pt x="3131" y="2256"/>
                  </a:lnTo>
                  <a:lnTo>
                    <a:pt x="3148" y="2307"/>
                  </a:lnTo>
                  <a:lnTo>
                    <a:pt x="3223" y="2290"/>
                  </a:lnTo>
                  <a:lnTo>
                    <a:pt x="3281" y="2279"/>
                  </a:lnTo>
                  <a:lnTo>
                    <a:pt x="3355" y="2244"/>
                  </a:lnTo>
                  <a:lnTo>
                    <a:pt x="3326" y="2336"/>
                  </a:lnTo>
                  <a:lnTo>
                    <a:pt x="3269" y="2451"/>
                  </a:lnTo>
                  <a:lnTo>
                    <a:pt x="3223" y="2520"/>
                  </a:lnTo>
                  <a:lnTo>
                    <a:pt x="3171" y="2589"/>
                  </a:lnTo>
                  <a:lnTo>
                    <a:pt x="3137" y="2646"/>
                  </a:lnTo>
                  <a:lnTo>
                    <a:pt x="3125" y="2778"/>
                  </a:lnTo>
                  <a:lnTo>
                    <a:pt x="3114" y="2876"/>
                  </a:lnTo>
                  <a:lnTo>
                    <a:pt x="3120" y="2962"/>
                  </a:lnTo>
                  <a:lnTo>
                    <a:pt x="3131" y="3048"/>
                  </a:lnTo>
                  <a:lnTo>
                    <a:pt x="3131" y="3071"/>
                  </a:lnTo>
                  <a:lnTo>
                    <a:pt x="3189" y="3065"/>
                  </a:lnTo>
                  <a:lnTo>
                    <a:pt x="3194" y="2985"/>
                  </a:lnTo>
                  <a:lnTo>
                    <a:pt x="3252" y="2921"/>
                  </a:lnTo>
                  <a:lnTo>
                    <a:pt x="3321" y="2876"/>
                  </a:lnTo>
                  <a:lnTo>
                    <a:pt x="3332" y="2956"/>
                  </a:lnTo>
                  <a:lnTo>
                    <a:pt x="3326" y="3031"/>
                  </a:lnTo>
                  <a:lnTo>
                    <a:pt x="3292" y="3071"/>
                  </a:lnTo>
                  <a:lnTo>
                    <a:pt x="3298" y="3111"/>
                  </a:lnTo>
                  <a:lnTo>
                    <a:pt x="3275" y="3214"/>
                  </a:lnTo>
                  <a:lnTo>
                    <a:pt x="3258" y="3266"/>
                  </a:lnTo>
                  <a:lnTo>
                    <a:pt x="3217" y="3277"/>
                  </a:lnTo>
                  <a:lnTo>
                    <a:pt x="3177" y="3231"/>
                  </a:lnTo>
                  <a:lnTo>
                    <a:pt x="3194" y="3157"/>
                  </a:lnTo>
                  <a:lnTo>
                    <a:pt x="3206" y="3122"/>
                  </a:lnTo>
                  <a:lnTo>
                    <a:pt x="3183" y="3071"/>
                  </a:lnTo>
                  <a:lnTo>
                    <a:pt x="3125" y="3076"/>
                  </a:lnTo>
                  <a:lnTo>
                    <a:pt x="3102" y="3151"/>
                  </a:lnTo>
                  <a:lnTo>
                    <a:pt x="3022" y="3185"/>
                  </a:lnTo>
                  <a:lnTo>
                    <a:pt x="2970" y="3231"/>
                  </a:lnTo>
                  <a:lnTo>
                    <a:pt x="2982" y="3312"/>
                  </a:lnTo>
                  <a:lnTo>
                    <a:pt x="2970" y="3398"/>
                  </a:lnTo>
                  <a:lnTo>
                    <a:pt x="2947" y="3495"/>
                  </a:lnTo>
                  <a:lnTo>
                    <a:pt x="2832" y="3604"/>
                  </a:lnTo>
                  <a:lnTo>
                    <a:pt x="2781" y="3616"/>
                  </a:lnTo>
                  <a:lnTo>
                    <a:pt x="2752" y="3536"/>
                  </a:lnTo>
                  <a:lnTo>
                    <a:pt x="2683" y="3495"/>
                  </a:lnTo>
                  <a:lnTo>
                    <a:pt x="2649" y="3467"/>
                  </a:lnTo>
                  <a:lnTo>
                    <a:pt x="2579" y="3335"/>
                  </a:lnTo>
                  <a:lnTo>
                    <a:pt x="2521" y="3272"/>
                  </a:lnTo>
                  <a:lnTo>
                    <a:pt x="2487" y="3208"/>
                  </a:lnTo>
                  <a:lnTo>
                    <a:pt x="2458" y="3140"/>
                  </a:lnTo>
                  <a:lnTo>
                    <a:pt x="2452" y="3048"/>
                  </a:lnTo>
                  <a:lnTo>
                    <a:pt x="2401" y="2985"/>
                  </a:lnTo>
                  <a:lnTo>
                    <a:pt x="2383" y="2933"/>
                  </a:lnTo>
                  <a:lnTo>
                    <a:pt x="2412" y="2858"/>
                  </a:lnTo>
                  <a:lnTo>
                    <a:pt x="2412" y="2795"/>
                  </a:lnTo>
                  <a:lnTo>
                    <a:pt x="2366" y="2755"/>
                  </a:lnTo>
                  <a:lnTo>
                    <a:pt x="2286" y="2749"/>
                  </a:lnTo>
                  <a:lnTo>
                    <a:pt x="2217" y="2715"/>
                  </a:lnTo>
                  <a:lnTo>
                    <a:pt x="2188" y="2749"/>
                  </a:lnTo>
                  <a:lnTo>
                    <a:pt x="2131" y="2755"/>
                  </a:lnTo>
                  <a:lnTo>
                    <a:pt x="2079" y="2715"/>
                  </a:lnTo>
                  <a:lnTo>
                    <a:pt x="2033" y="2669"/>
                  </a:lnTo>
                  <a:lnTo>
                    <a:pt x="1970" y="2663"/>
                  </a:lnTo>
                  <a:lnTo>
                    <a:pt x="1901" y="2635"/>
                  </a:lnTo>
                  <a:lnTo>
                    <a:pt x="1843" y="2583"/>
                  </a:lnTo>
                  <a:lnTo>
                    <a:pt x="1832" y="2480"/>
                  </a:lnTo>
                  <a:lnTo>
                    <a:pt x="1826" y="2399"/>
                  </a:lnTo>
                  <a:lnTo>
                    <a:pt x="1878" y="2353"/>
                  </a:lnTo>
                  <a:lnTo>
                    <a:pt x="1872" y="2302"/>
                  </a:lnTo>
                  <a:lnTo>
                    <a:pt x="1849" y="2210"/>
                  </a:lnTo>
                  <a:lnTo>
                    <a:pt x="1866" y="2130"/>
                  </a:lnTo>
                  <a:lnTo>
                    <a:pt x="1843" y="2043"/>
                  </a:lnTo>
                  <a:lnTo>
                    <a:pt x="1901" y="1980"/>
                  </a:lnTo>
                  <a:lnTo>
                    <a:pt x="1947" y="1940"/>
                  </a:lnTo>
                  <a:lnTo>
                    <a:pt x="1999" y="1934"/>
                  </a:lnTo>
                  <a:lnTo>
                    <a:pt x="1993" y="1870"/>
                  </a:lnTo>
                  <a:lnTo>
                    <a:pt x="2022" y="1813"/>
                  </a:lnTo>
                  <a:lnTo>
                    <a:pt x="2073" y="1773"/>
                  </a:lnTo>
                  <a:lnTo>
                    <a:pt x="2136" y="1807"/>
                  </a:lnTo>
                  <a:lnTo>
                    <a:pt x="2211" y="1824"/>
                  </a:lnTo>
                  <a:lnTo>
                    <a:pt x="2303" y="1813"/>
                  </a:lnTo>
                  <a:lnTo>
                    <a:pt x="2372" y="1813"/>
                  </a:lnTo>
                  <a:lnTo>
                    <a:pt x="2406" y="1819"/>
                  </a:lnTo>
                  <a:lnTo>
                    <a:pt x="2424" y="1882"/>
                  </a:lnTo>
                  <a:lnTo>
                    <a:pt x="2498" y="1894"/>
                  </a:lnTo>
                  <a:lnTo>
                    <a:pt x="2567" y="1929"/>
                  </a:lnTo>
                  <a:lnTo>
                    <a:pt x="2608" y="1917"/>
                  </a:lnTo>
                  <a:lnTo>
                    <a:pt x="2631" y="1876"/>
                  </a:lnTo>
                  <a:lnTo>
                    <a:pt x="2654" y="1830"/>
                  </a:lnTo>
                  <a:lnTo>
                    <a:pt x="2718" y="1847"/>
                  </a:lnTo>
                  <a:lnTo>
                    <a:pt x="2792" y="1882"/>
                  </a:lnTo>
                  <a:lnTo>
                    <a:pt x="2878" y="1894"/>
                  </a:lnTo>
                  <a:lnTo>
                    <a:pt x="2936" y="1900"/>
                  </a:lnTo>
                  <a:lnTo>
                    <a:pt x="2999" y="1894"/>
                  </a:lnTo>
                  <a:lnTo>
                    <a:pt x="3045" y="1847"/>
                  </a:lnTo>
                  <a:lnTo>
                    <a:pt x="3074" y="1784"/>
                  </a:lnTo>
                  <a:lnTo>
                    <a:pt x="3091" y="1738"/>
                  </a:lnTo>
                  <a:lnTo>
                    <a:pt x="3074" y="1727"/>
                  </a:lnTo>
                  <a:lnTo>
                    <a:pt x="3034" y="1681"/>
                  </a:lnTo>
                  <a:lnTo>
                    <a:pt x="2993" y="1692"/>
                  </a:lnTo>
                  <a:lnTo>
                    <a:pt x="2924" y="1692"/>
                  </a:lnTo>
                  <a:lnTo>
                    <a:pt x="2873" y="1675"/>
                  </a:lnTo>
                  <a:lnTo>
                    <a:pt x="2867" y="1618"/>
                  </a:lnTo>
                  <a:lnTo>
                    <a:pt x="2832" y="1601"/>
                  </a:lnTo>
                  <a:lnTo>
                    <a:pt x="2815" y="1618"/>
                  </a:lnTo>
                  <a:lnTo>
                    <a:pt x="2827" y="1675"/>
                  </a:lnTo>
                  <a:lnTo>
                    <a:pt x="2804" y="1721"/>
                  </a:lnTo>
                  <a:lnTo>
                    <a:pt x="2741" y="1710"/>
                  </a:lnTo>
                  <a:lnTo>
                    <a:pt x="2712" y="1664"/>
                  </a:lnTo>
                  <a:lnTo>
                    <a:pt x="2700" y="1612"/>
                  </a:lnTo>
                  <a:lnTo>
                    <a:pt x="2700" y="1532"/>
                  </a:lnTo>
                  <a:lnTo>
                    <a:pt x="2660" y="1515"/>
                  </a:lnTo>
                  <a:lnTo>
                    <a:pt x="2637" y="1560"/>
                  </a:lnTo>
                  <a:lnTo>
                    <a:pt x="2649" y="1618"/>
                  </a:lnTo>
                  <a:lnTo>
                    <a:pt x="2677" y="1664"/>
                  </a:lnTo>
                  <a:lnTo>
                    <a:pt x="2712" y="1704"/>
                  </a:lnTo>
                  <a:lnTo>
                    <a:pt x="2677" y="1756"/>
                  </a:lnTo>
                  <a:lnTo>
                    <a:pt x="2631" y="1784"/>
                  </a:lnTo>
                  <a:lnTo>
                    <a:pt x="2573" y="1773"/>
                  </a:lnTo>
                  <a:lnTo>
                    <a:pt x="2573" y="1819"/>
                  </a:lnTo>
                  <a:lnTo>
                    <a:pt x="2539" y="1847"/>
                  </a:lnTo>
                  <a:lnTo>
                    <a:pt x="2493" y="1784"/>
                  </a:lnTo>
                  <a:lnTo>
                    <a:pt x="2498" y="1744"/>
                  </a:lnTo>
                  <a:lnTo>
                    <a:pt x="2561" y="1773"/>
                  </a:lnTo>
                  <a:lnTo>
                    <a:pt x="2597" y="1773"/>
                  </a:lnTo>
                  <a:lnTo>
                    <a:pt x="2649" y="1727"/>
                  </a:lnTo>
                  <a:lnTo>
                    <a:pt x="2631" y="1675"/>
                  </a:lnTo>
                  <a:lnTo>
                    <a:pt x="2579" y="1629"/>
                  </a:lnTo>
                  <a:lnTo>
                    <a:pt x="2539" y="1601"/>
                  </a:lnTo>
                  <a:lnTo>
                    <a:pt x="2493" y="1537"/>
                  </a:lnTo>
                  <a:lnTo>
                    <a:pt x="2435" y="1497"/>
                  </a:lnTo>
                  <a:lnTo>
                    <a:pt x="2435" y="1560"/>
                  </a:lnTo>
                  <a:lnTo>
                    <a:pt x="2464" y="1601"/>
                  </a:lnTo>
                  <a:lnTo>
                    <a:pt x="2458" y="1675"/>
                  </a:lnTo>
                  <a:lnTo>
                    <a:pt x="2458" y="1727"/>
                  </a:lnTo>
                  <a:lnTo>
                    <a:pt x="2401" y="1687"/>
                  </a:lnTo>
                  <a:lnTo>
                    <a:pt x="2389" y="1641"/>
                  </a:lnTo>
                  <a:lnTo>
                    <a:pt x="2412" y="1612"/>
                  </a:lnTo>
                  <a:lnTo>
                    <a:pt x="2406" y="1572"/>
                  </a:lnTo>
                  <a:lnTo>
                    <a:pt x="2441" y="1555"/>
                  </a:lnTo>
                  <a:lnTo>
                    <a:pt x="2441" y="1497"/>
                  </a:lnTo>
                  <a:lnTo>
                    <a:pt x="2389" y="1509"/>
                  </a:lnTo>
                  <a:lnTo>
                    <a:pt x="2349" y="1560"/>
                  </a:lnTo>
                  <a:lnTo>
                    <a:pt x="2303" y="1537"/>
                  </a:lnTo>
                  <a:lnTo>
                    <a:pt x="2217" y="1578"/>
                  </a:lnTo>
                  <a:lnTo>
                    <a:pt x="2205" y="1652"/>
                  </a:lnTo>
                  <a:lnTo>
                    <a:pt x="2148" y="1704"/>
                  </a:lnTo>
                  <a:lnTo>
                    <a:pt x="2079" y="1738"/>
                  </a:lnTo>
                  <a:lnTo>
                    <a:pt x="2010" y="1744"/>
                  </a:lnTo>
                  <a:lnTo>
                    <a:pt x="1947" y="1727"/>
                  </a:lnTo>
                  <a:lnTo>
                    <a:pt x="1907" y="1687"/>
                  </a:lnTo>
                  <a:lnTo>
                    <a:pt x="1941" y="1652"/>
                  </a:lnTo>
                  <a:lnTo>
                    <a:pt x="1907" y="1601"/>
                  </a:lnTo>
                  <a:lnTo>
                    <a:pt x="1953" y="1566"/>
                  </a:lnTo>
                  <a:lnTo>
                    <a:pt x="1958" y="1520"/>
                  </a:lnTo>
                  <a:lnTo>
                    <a:pt x="1958" y="1457"/>
                  </a:lnTo>
                  <a:lnTo>
                    <a:pt x="2022" y="1400"/>
                  </a:lnTo>
                  <a:lnTo>
                    <a:pt x="2108" y="1423"/>
                  </a:lnTo>
                  <a:lnTo>
                    <a:pt x="2200" y="1446"/>
                  </a:lnTo>
                  <a:lnTo>
                    <a:pt x="2240" y="1411"/>
                  </a:lnTo>
                  <a:lnTo>
                    <a:pt x="2240" y="1348"/>
                  </a:lnTo>
                  <a:lnTo>
                    <a:pt x="2194" y="1302"/>
                  </a:lnTo>
                  <a:lnTo>
                    <a:pt x="2125" y="1262"/>
                  </a:lnTo>
                  <a:lnTo>
                    <a:pt x="2154" y="1239"/>
                  </a:lnTo>
                  <a:lnTo>
                    <a:pt x="2228" y="1205"/>
                  </a:lnTo>
                  <a:lnTo>
                    <a:pt x="2246" y="1193"/>
                  </a:lnTo>
                  <a:lnTo>
                    <a:pt x="2217" y="1187"/>
                  </a:lnTo>
                  <a:lnTo>
                    <a:pt x="2159" y="1193"/>
                  </a:lnTo>
                  <a:lnTo>
                    <a:pt x="2108" y="1205"/>
                  </a:lnTo>
                  <a:lnTo>
                    <a:pt x="2073" y="1222"/>
                  </a:lnTo>
                  <a:lnTo>
                    <a:pt x="2096" y="1176"/>
                  </a:lnTo>
                  <a:lnTo>
                    <a:pt x="2108" y="1119"/>
                  </a:lnTo>
                  <a:lnTo>
                    <a:pt x="2131" y="1084"/>
                  </a:lnTo>
                  <a:lnTo>
                    <a:pt x="2142" y="1050"/>
                  </a:lnTo>
                  <a:lnTo>
                    <a:pt x="2113" y="1004"/>
                  </a:lnTo>
                  <a:lnTo>
                    <a:pt x="2073" y="1032"/>
                  </a:lnTo>
                  <a:lnTo>
                    <a:pt x="2079" y="1073"/>
                  </a:lnTo>
                  <a:lnTo>
                    <a:pt x="2073" y="1124"/>
                  </a:lnTo>
                  <a:lnTo>
                    <a:pt x="2050" y="1193"/>
                  </a:lnTo>
                  <a:lnTo>
                    <a:pt x="1993" y="1187"/>
                  </a:lnTo>
                  <a:lnTo>
                    <a:pt x="1970" y="1124"/>
                  </a:lnTo>
                  <a:lnTo>
                    <a:pt x="1935" y="1061"/>
                  </a:lnTo>
                  <a:lnTo>
                    <a:pt x="1999" y="1050"/>
                  </a:lnTo>
                  <a:lnTo>
                    <a:pt x="2027" y="1015"/>
                  </a:lnTo>
                  <a:lnTo>
                    <a:pt x="2056" y="1010"/>
                  </a:lnTo>
                  <a:lnTo>
                    <a:pt x="2056" y="969"/>
                  </a:lnTo>
                  <a:lnTo>
                    <a:pt x="2039" y="935"/>
                  </a:lnTo>
                  <a:lnTo>
                    <a:pt x="2090" y="906"/>
                  </a:lnTo>
                  <a:lnTo>
                    <a:pt x="2142" y="878"/>
                  </a:lnTo>
                  <a:lnTo>
                    <a:pt x="2182" y="895"/>
                  </a:lnTo>
                  <a:lnTo>
                    <a:pt x="2194" y="958"/>
                  </a:lnTo>
                  <a:lnTo>
                    <a:pt x="2211" y="1032"/>
                  </a:lnTo>
                  <a:lnTo>
                    <a:pt x="2251" y="1067"/>
                  </a:lnTo>
                  <a:lnTo>
                    <a:pt x="2263" y="1124"/>
                  </a:lnTo>
                  <a:lnTo>
                    <a:pt x="2246" y="1170"/>
                  </a:lnTo>
                  <a:lnTo>
                    <a:pt x="2240" y="1199"/>
                  </a:lnTo>
                  <a:lnTo>
                    <a:pt x="2286" y="1187"/>
                  </a:lnTo>
                  <a:lnTo>
                    <a:pt x="2343" y="1159"/>
                  </a:lnTo>
                  <a:lnTo>
                    <a:pt x="2366" y="1073"/>
                  </a:lnTo>
                  <a:lnTo>
                    <a:pt x="2424" y="1073"/>
                  </a:lnTo>
                  <a:lnTo>
                    <a:pt x="2452" y="1061"/>
                  </a:lnTo>
                  <a:lnTo>
                    <a:pt x="2447" y="1004"/>
                  </a:lnTo>
                  <a:lnTo>
                    <a:pt x="2412" y="946"/>
                  </a:lnTo>
                  <a:lnTo>
                    <a:pt x="2464" y="946"/>
                  </a:lnTo>
                  <a:lnTo>
                    <a:pt x="2521" y="1004"/>
                  </a:lnTo>
                  <a:lnTo>
                    <a:pt x="2573" y="1050"/>
                  </a:lnTo>
                  <a:lnTo>
                    <a:pt x="2626" y="1050"/>
                  </a:lnTo>
                  <a:lnTo>
                    <a:pt x="2689" y="1015"/>
                  </a:lnTo>
                  <a:lnTo>
                    <a:pt x="2735" y="952"/>
                  </a:lnTo>
                  <a:lnTo>
                    <a:pt x="2764" y="895"/>
                  </a:lnTo>
                  <a:lnTo>
                    <a:pt x="2867" y="918"/>
                  </a:lnTo>
                  <a:lnTo>
                    <a:pt x="2775" y="866"/>
                  </a:lnTo>
                  <a:lnTo>
                    <a:pt x="2712" y="878"/>
                  </a:lnTo>
                  <a:lnTo>
                    <a:pt x="2700" y="797"/>
                  </a:lnTo>
                  <a:lnTo>
                    <a:pt x="2700" y="751"/>
                  </a:lnTo>
                  <a:lnTo>
                    <a:pt x="2769" y="723"/>
                  </a:lnTo>
                  <a:lnTo>
                    <a:pt x="2781" y="682"/>
                  </a:lnTo>
                  <a:lnTo>
                    <a:pt x="2735" y="705"/>
                  </a:lnTo>
                  <a:lnTo>
                    <a:pt x="2677" y="746"/>
                  </a:lnTo>
                  <a:lnTo>
                    <a:pt x="2614" y="751"/>
                  </a:lnTo>
                  <a:lnTo>
                    <a:pt x="2637" y="826"/>
                  </a:lnTo>
                  <a:lnTo>
                    <a:pt x="2631" y="889"/>
                  </a:lnTo>
                  <a:lnTo>
                    <a:pt x="2631" y="941"/>
                  </a:lnTo>
                  <a:lnTo>
                    <a:pt x="2579" y="969"/>
                  </a:lnTo>
                  <a:lnTo>
                    <a:pt x="2527" y="992"/>
                  </a:lnTo>
                  <a:lnTo>
                    <a:pt x="2498" y="946"/>
                  </a:lnTo>
                  <a:lnTo>
                    <a:pt x="2504" y="895"/>
                  </a:lnTo>
                  <a:lnTo>
                    <a:pt x="2510" y="866"/>
                  </a:lnTo>
                  <a:lnTo>
                    <a:pt x="2452" y="889"/>
                  </a:lnTo>
                  <a:lnTo>
                    <a:pt x="2395" y="860"/>
                  </a:lnTo>
                  <a:lnTo>
                    <a:pt x="2366" y="814"/>
                  </a:lnTo>
                  <a:lnTo>
                    <a:pt x="2383" y="751"/>
                  </a:lnTo>
                  <a:lnTo>
                    <a:pt x="2372" y="746"/>
                  </a:lnTo>
                  <a:lnTo>
                    <a:pt x="2383" y="740"/>
                  </a:lnTo>
                  <a:lnTo>
                    <a:pt x="2389" y="734"/>
                  </a:lnTo>
                  <a:lnTo>
                    <a:pt x="1717" y="734"/>
                  </a:lnTo>
                  <a:lnTo>
                    <a:pt x="1683" y="780"/>
                  </a:lnTo>
                  <a:lnTo>
                    <a:pt x="1625" y="809"/>
                  </a:lnTo>
                  <a:lnTo>
                    <a:pt x="1568" y="786"/>
                  </a:lnTo>
                  <a:lnTo>
                    <a:pt x="1539" y="746"/>
                  </a:lnTo>
                  <a:lnTo>
                    <a:pt x="1539" y="700"/>
                  </a:lnTo>
                  <a:lnTo>
                    <a:pt x="1556" y="694"/>
                  </a:lnTo>
                  <a:lnTo>
                    <a:pt x="1413" y="694"/>
                  </a:lnTo>
                  <a:lnTo>
                    <a:pt x="1372" y="700"/>
                  </a:lnTo>
                  <a:lnTo>
                    <a:pt x="1326" y="786"/>
                  </a:lnTo>
                  <a:lnTo>
                    <a:pt x="1309" y="843"/>
                  </a:lnTo>
                  <a:lnTo>
                    <a:pt x="1280" y="906"/>
                  </a:lnTo>
                  <a:lnTo>
                    <a:pt x="1217" y="889"/>
                  </a:lnTo>
                  <a:lnTo>
                    <a:pt x="1166" y="843"/>
                  </a:lnTo>
                  <a:lnTo>
                    <a:pt x="1160" y="751"/>
                  </a:lnTo>
                  <a:lnTo>
                    <a:pt x="1143" y="654"/>
                  </a:lnTo>
                  <a:lnTo>
                    <a:pt x="1097" y="596"/>
                  </a:lnTo>
                  <a:lnTo>
                    <a:pt x="1114" y="556"/>
                  </a:lnTo>
                  <a:lnTo>
                    <a:pt x="1074" y="482"/>
                  </a:lnTo>
                  <a:lnTo>
                    <a:pt x="1039" y="447"/>
                  </a:lnTo>
                  <a:lnTo>
                    <a:pt x="999" y="487"/>
                  </a:lnTo>
                  <a:lnTo>
                    <a:pt x="936" y="441"/>
                  </a:lnTo>
                  <a:lnTo>
                    <a:pt x="896" y="470"/>
                  </a:lnTo>
                  <a:lnTo>
                    <a:pt x="855" y="499"/>
                  </a:lnTo>
                  <a:lnTo>
                    <a:pt x="781" y="522"/>
                  </a:lnTo>
                  <a:lnTo>
                    <a:pt x="741" y="579"/>
                  </a:lnTo>
                  <a:lnTo>
                    <a:pt x="832" y="591"/>
                  </a:lnTo>
                  <a:lnTo>
                    <a:pt x="901" y="625"/>
                  </a:lnTo>
                  <a:lnTo>
                    <a:pt x="947" y="682"/>
                  </a:lnTo>
                  <a:lnTo>
                    <a:pt x="999" y="740"/>
                  </a:lnTo>
                  <a:lnTo>
                    <a:pt x="1005" y="832"/>
                  </a:lnTo>
                  <a:lnTo>
                    <a:pt x="976" y="918"/>
                  </a:lnTo>
                  <a:lnTo>
                    <a:pt x="936" y="946"/>
                  </a:lnTo>
                  <a:lnTo>
                    <a:pt x="873" y="889"/>
                  </a:lnTo>
                  <a:lnTo>
                    <a:pt x="764" y="883"/>
                  </a:lnTo>
                  <a:lnTo>
                    <a:pt x="764" y="843"/>
                  </a:lnTo>
                  <a:lnTo>
                    <a:pt x="855" y="814"/>
                  </a:lnTo>
                  <a:lnTo>
                    <a:pt x="867" y="763"/>
                  </a:lnTo>
                  <a:lnTo>
                    <a:pt x="850" y="746"/>
                  </a:lnTo>
                  <a:lnTo>
                    <a:pt x="821" y="797"/>
                  </a:lnTo>
                  <a:lnTo>
                    <a:pt x="769" y="757"/>
                  </a:lnTo>
                  <a:lnTo>
                    <a:pt x="838" y="705"/>
                  </a:lnTo>
                  <a:lnTo>
                    <a:pt x="873" y="751"/>
                  </a:lnTo>
                  <a:lnTo>
                    <a:pt x="821" y="700"/>
                  </a:lnTo>
                  <a:lnTo>
                    <a:pt x="764" y="700"/>
                  </a:lnTo>
                  <a:lnTo>
                    <a:pt x="718" y="740"/>
                  </a:lnTo>
                  <a:lnTo>
                    <a:pt x="729" y="797"/>
                  </a:lnTo>
                  <a:lnTo>
                    <a:pt x="729" y="866"/>
                  </a:lnTo>
                  <a:lnTo>
                    <a:pt x="712" y="929"/>
                  </a:lnTo>
                  <a:lnTo>
                    <a:pt x="729" y="987"/>
                  </a:lnTo>
                  <a:lnTo>
                    <a:pt x="666" y="941"/>
                  </a:lnTo>
                  <a:lnTo>
                    <a:pt x="643" y="969"/>
                  </a:lnTo>
                  <a:lnTo>
                    <a:pt x="626" y="935"/>
                  </a:lnTo>
                  <a:lnTo>
                    <a:pt x="643" y="878"/>
                  </a:lnTo>
                  <a:lnTo>
                    <a:pt x="591" y="895"/>
                  </a:lnTo>
                  <a:lnTo>
                    <a:pt x="574" y="946"/>
                  </a:lnTo>
                  <a:lnTo>
                    <a:pt x="528" y="992"/>
                  </a:lnTo>
                  <a:lnTo>
                    <a:pt x="528" y="1038"/>
                  </a:lnTo>
                  <a:lnTo>
                    <a:pt x="459" y="1038"/>
                  </a:lnTo>
                  <a:lnTo>
                    <a:pt x="436" y="1067"/>
                  </a:lnTo>
                  <a:lnTo>
                    <a:pt x="459" y="1136"/>
                  </a:lnTo>
                  <a:lnTo>
                    <a:pt x="534" y="1176"/>
                  </a:lnTo>
                  <a:lnTo>
                    <a:pt x="574" y="1205"/>
                  </a:lnTo>
                  <a:lnTo>
                    <a:pt x="557" y="1268"/>
                  </a:lnTo>
                  <a:lnTo>
                    <a:pt x="603" y="1256"/>
                  </a:lnTo>
                  <a:lnTo>
                    <a:pt x="614" y="1193"/>
                  </a:lnTo>
                  <a:lnTo>
                    <a:pt x="695" y="1193"/>
                  </a:lnTo>
                  <a:lnTo>
                    <a:pt x="741" y="1136"/>
                  </a:lnTo>
                  <a:lnTo>
                    <a:pt x="746" y="1073"/>
                  </a:lnTo>
                  <a:lnTo>
                    <a:pt x="741" y="969"/>
                  </a:lnTo>
                  <a:lnTo>
                    <a:pt x="764" y="906"/>
                  </a:lnTo>
                  <a:lnTo>
                    <a:pt x="804" y="866"/>
                  </a:lnTo>
                  <a:lnTo>
                    <a:pt x="867" y="906"/>
                  </a:lnTo>
                  <a:lnTo>
                    <a:pt x="942" y="946"/>
                  </a:lnTo>
                  <a:lnTo>
                    <a:pt x="970" y="969"/>
                  </a:lnTo>
                  <a:lnTo>
                    <a:pt x="1011" y="1038"/>
                  </a:lnTo>
                  <a:lnTo>
                    <a:pt x="1062" y="1067"/>
                  </a:lnTo>
                  <a:lnTo>
                    <a:pt x="1079" y="1136"/>
                  </a:lnTo>
                  <a:lnTo>
                    <a:pt x="1091" y="1187"/>
                  </a:lnTo>
                  <a:lnTo>
                    <a:pt x="1143" y="1222"/>
                  </a:lnTo>
                  <a:lnTo>
                    <a:pt x="1097" y="1279"/>
                  </a:lnTo>
                  <a:lnTo>
                    <a:pt x="1028" y="1279"/>
                  </a:lnTo>
                  <a:lnTo>
                    <a:pt x="959" y="1314"/>
                  </a:lnTo>
                  <a:lnTo>
                    <a:pt x="901" y="1360"/>
                  </a:lnTo>
                  <a:lnTo>
                    <a:pt x="832" y="1394"/>
                  </a:lnTo>
                  <a:lnTo>
                    <a:pt x="764" y="1457"/>
                  </a:lnTo>
                  <a:lnTo>
                    <a:pt x="700" y="1509"/>
                  </a:lnTo>
                  <a:lnTo>
                    <a:pt x="695" y="1560"/>
                  </a:lnTo>
                  <a:lnTo>
                    <a:pt x="695" y="1601"/>
                  </a:lnTo>
                  <a:lnTo>
                    <a:pt x="643" y="1635"/>
                  </a:lnTo>
                  <a:lnTo>
                    <a:pt x="649" y="1681"/>
                  </a:lnTo>
                  <a:lnTo>
                    <a:pt x="597" y="1738"/>
                  </a:lnTo>
                  <a:lnTo>
                    <a:pt x="597" y="1813"/>
                  </a:lnTo>
                  <a:lnTo>
                    <a:pt x="637" y="1870"/>
                  </a:lnTo>
                  <a:lnTo>
                    <a:pt x="614" y="1917"/>
                  </a:lnTo>
                  <a:lnTo>
                    <a:pt x="557" y="1882"/>
                  </a:lnTo>
                  <a:lnTo>
                    <a:pt x="551" y="1813"/>
                  </a:lnTo>
                  <a:lnTo>
                    <a:pt x="499" y="1773"/>
                  </a:lnTo>
                  <a:lnTo>
                    <a:pt x="453" y="1784"/>
                  </a:lnTo>
                  <a:lnTo>
                    <a:pt x="436" y="1830"/>
                  </a:lnTo>
                  <a:lnTo>
                    <a:pt x="384" y="1813"/>
                  </a:lnTo>
                  <a:lnTo>
                    <a:pt x="327" y="1813"/>
                  </a:lnTo>
                  <a:lnTo>
                    <a:pt x="269" y="1865"/>
                  </a:lnTo>
                  <a:lnTo>
                    <a:pt x="247" y="1917"/>
                  </a:lnTo>
                  <a:lnTo>
                    <a:pt x="229" y="1963"/>
                  </a:lnTo>
                  <a:lnTo>
                    <a:pt x="224" y="2038"/>
                  </a:lnTo>
                  <a:lnTo>
                    <a:pt x="269" y="2089"/>
                  </a:lnTo>
                  <a:lnTo>
                    <a:pt x="321" y="2055"/>
                  </a:lnTo>
                  <a:lnTo>
                    <a:pt x="373" y="2055"/>
                  </a:lnTo>
                  <a:lnTo>
                    <a:pt x="384" y="2124"/>
                  </a:lnTo>
                  <a:lnTo>
                    <a:pt x="338" y="2170"/>
                  </a:lnTo>
                  <a:lnTo>
                    <a:pt x="407" y="2181"/>
                  </a:lnTo>
                  <a:lnTo>
                    <a:pt x="436" y="2193"/>
                  </a:lnTo>
                  <a:lnTo>
                    <a:pt x="453" y="2256"/>
                  </a:lnTo>
                  <a:lnTo>
                    <a:pt x="511" y="2290"/>
                  </a:lnTo>
                  <a:lnTo>
                    <a:pt x="580" y="2336"/>
                  </a:lnTo>
                  <a:lnTo>
                    <a:pt x="626" y="2302"/>
                  </a:lnTo>
                  <a:lnTo>
                    <a:pt x="729" y="2336"/>
                  </a:lnTo>
                  <a:lnTo>
                    <a:pt x="809" y="2342"/>
                  </a:lnTo>
                  <a:lnTo>
                    <a:pt x="924" y="2399"/>
                  </a:lnTo>
                  <a:lnTo>
                    <a:pt x="947" y="2451"/>
                  </a:lnTo>
                  <a:lnTo>
                    <a:pt x="1011" y="2508"/>
                  </a:lnTo>
                  <a:lnTo>
                    <a:pt x="1045" y="2589"/>
                  </a:lnTo>
                  <a:lnTo>
                    <a:pt x="1125" y="2635"/>
                  </a:lnTo>
                  <a:lnTo>
                    <a:pt x="1200" y="2640"/>
                  </a:lnTo>
                  <a:lnTo>
                    <a:pt x="1269" y="2703"/>
                  </a:lnTo>
                  <a:lnTo>
                    <a:pt x="1367" y="2703"/>
                  </a:lnTo>
                  <a:lnTo>
                    <a:pt x="1372" y="2761"/>
                  </a:lnTo>
                  <a:lnTo>
                    <a:pt x="1372" y="2818"/>
                  </a:lnTo>
                  <a:lnTo>
                    <a:pt x="1326" y="2876"/>
                  </a:lnTo>
                  <a:lnTo>
                    <a:pt x="1321" y="2950"/>
                  </a:lnTo>
                  <a:lnTo>
                    <a:pt x="1309" y="3019"/>
                  </a:lnTo>
                  <a:lnTo>
                    <a:pt x="1258" y="3088"/>
                  </a:lnTo>
                  <a:lnTo>
                    <a:pt x="1183" y="3128"/>
                  </a:lnTo>
                  <a:lnTo>
                    <a:pt x="1120" y="3140"/>
                  </a:lnTo>
                  <a:lnTo>
                    <a:pt x="1148" y="3203"/>
                  </a:lnTo>
                  <a:lnTo>
                    <a:pt x="1091" y="3266"/>
                  </a:lnTo>
                  <a:lnTo>
                    <a:pt x="1039" y="3323"/>
                  </a:lnTo>
                  <a:lnTo>
                    <a:pt x="976" y="3363"/>
                  </a:lnTo>
                  <a:lnTo>
                    <a:pt x="936" y="3444"/>
                  </a:lnTo>
                  <a:lnTo>
                    <a:pt x="896" y="3501"/>
                  </a:lnTo>
                  <a:lnTo>
                    <a:pt x="838" y="3530"/>
                  </a:lnTo>
                  <a:lnTo>
                    <a:pt x="804" y="3581"/>
                  </a:lnTo>
                  <a:lnTo>
                    <a:pt x="769" y="3633"/>
                  </a:lnTo>
                  <a:lnTo>
                    <a:pt x="746" y="3679"/>
                  </a:lnTo>
                  <a:lnTo>
                    <a:pt x="746" y="3736"/>
                  </a:lnTo>
                  <a:lnTo>
                    <a:pt x="718" y="3771"/>
                  </a:lnTo>
                  <a:lnTo>
                    <a:pt x="683" y="3702"/>
                  </a:lnTo>
                  <a:lnTo>
                    <a:pt x="626" y="3645"/>
                  </a:lnTo>
                  <a:lnTo>
                    <a:pt x="597" y="3570"/>
                  </a:lnTo>
                  <a:lnTo>
                    <a:pt x="597" y="3501"/>
                  </a:lnTo>
                  <a:lnTo>
                    <a:pt x="591" y="3421"/>
                  </a:lnTo>
                  <a:lnTo>
                    <a:pt x="626" y="3312"/>
                  </a:lnTo>
                  <a:lnTo>
                    <a:pt x="626" y="3203"/>
                  </a:lnTo>
                  <a:lnTo>
                    <a:pt x="614" y="3099"/>
                  </a:lnTo>
                  <a:lnTo>
                    <a:pt x="591" y="3019"/>
                  </a:lnTo>
                  <a:lnTo>
                    <a:pt x="528" y="2950"/>
                  </a:lnTo>
                  <a:lnTo>
                    <a:pt x="459" y="2893"/>
                  </a:lnTo>
                  <a:lnTo>
                    <a:pt x="407" y="2812"/>
                  </a:lnTo>
                  <a:lnTo>
                    <a:pt x="396" y="2715"/>
                  </a:lnTo>
                  <a:lnTo>
                    <a:pt x="436" y="2652"/>
                  </a:lnTo>
                  <a:lnTo>
                    <a:pt x="436" y="2594"/>
                  </a:lnTo>
                  <a:lnTo>
                    <a:pt x="459" y="2503"/>
                  </a:lnTo>
                  <a:lnTo>
                    <a:pt x="505" y="2434"/>
                  </a:lnTo>
                  <a:lnTo>
                    <a:pt x="557" y="2388"/>
                  </a:lnTo>
                  <a:lnTo>
                    <a:pt x="585" y="2342"/>
                  </a:lnTo>
                  <a:lnTo>
                    <a:pt x="511" y="2325"/>
                  </a:lnTo>
                  <a:lnTo>
                    <a:pt x="471" y="2336"/>
                  </a:lnTo>
                  <a:lnTo>
                    <a:pt x="430" y="2313"/>
                  </a:lnTo>
                  <a:lnTo>
                    <a:pt x="373" y="2273"/>
                  </a:lnTo>
                  <a:lnTo>
                    <a:pt x="304" y="2227"/>
                  </a:lnTo>
                  <a:lnTo>
                    <a:pt x="275" y="2170"/>
                  </a:lnTo>
                  <a:lnTo>
                    <a:pt x="247" y="2147"/>
                  </a:lnTo>
                  <a:lnTo>
                    <a:pt x="218" y="2170"/>
                  </a:lnTo>
                  <a:lnTo>
                    <a:pt x="160" y="2135"/>
                  </a:lnTo>
                  <a:lnTo>
                    <a:pt x="120" y="2084"/>
                  </a:lnTo>
                  <a:lnTo>
                    <a:pt x="91" y="2038"/>
                  </a:lnTo>
                  <a:lnTo>
                    <a:pt x="91" y="1975"/>
                  </a:lnTo>
                  <a:lnTo>
                    <a:pt x="80" y="1934"/>
                  </a:lnTo>
                  <a:lnTo>
                    <a:pt x="28" y="1889"/>
                  </a:lnTo>
                  <a:lnTo>
                    <a:pt x="28" y="1929"/>
                  </a:lnTo>
                  <a:lnTo>
                    <a:pt x="63" y="1980"/>
                  </a:lnTo>
                  <a:lnTo>
                    <a:pt x="63" y="2026"/>
                  </a:lnTo>
                  <a:lnTo>
                    <a:pt x="17" y="1992"/>
                  </a:lnTo>
                  <a:lnTo>
                    <a:pt x="0" y="1911"/>
                  </a:lnTo>
                  <a:lnTo>
                    <a:pt x="17" y="1847"/>
                  </a:lnTo>
                  <a:lnTo>
                    <a:pt x="17" y="1756"/>
                  </a:lnTo>
                  <a:lnTo>
                    <a:pt x="28" y="1601"/>
                  </a:lnTo>
                  <a:lnTo>
                    <a:pt x="45" y="1446"/>
                  </a:lnTo>
                  <a:lnTo>
                    <a:pt x="86" y="1279"/>
                  </a:lnTo>
                  <a:lnTo>
                    <a:pt x="143" y="1096"/>
                  </a:lnTo>
                  <a:lnTo>
                    <a:pt x="235" y="866"/>
                  </a:lnTo>
                  <a:lnTo>
                    <a:pt x="315" y="688"/>
                  </a:lnTo>
                  <a:lnTo>
                    <a:pt x="448" y="470"/>
                  </a:lnTo>
                  <a:lnTo>
                    <a:pt x="528" y="344"/>
                  </a:lnTo>
                  <a:close/>
                </a:path>
              </a:pathLst>
            </a:custGeom>
            <a:solidFill>
              <a:srgbClr val="7d9cd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94240" y="1170000"/>
              <a:ext cx="1868760" cy="1371960"/>
            </a:xfrm>
            <a:custGeom>
              <a:avLst/>
              <a:gdLst/>
              <a:ahLst/>
              <a:rect l="0" t="0" r="r" b="b"/>
              <a:pathLst>
                <a:path w="5191" h="3811">
                  <a:moveTo>
                    <a:pt x="562" y="333"/>
                  </a:moveTo>
                  <a:lnTo>
                    <a:pt x="625" y="339"/>
                  </a:lnTo>
                  <a:lnTo>
                    <a:pt x="660" y="293"/>
                  </a:lnTo>
                  <a:lnTo>
                    <a:pt x="711" y="270"/>
                  </a:lnTo>
                  <a:lnTo>
                    <a:pt x="752" y="229"/>
                  </a:lnTo>
                  <a:lnTo>
                    <a:pt x="809" y="189"/>
                  </a:lnTo>
                  <a:lnTo>
                    <a:pt x="855" y="172"/>
                  </a:lnTo>
                  <a:lnTo>
                    <a:pt x="907" y="155"/>
                  </a:lnTo>
                  <a:lnTo>
                    <a:pt x="953" y="155"/>
                  </a:lnTo>
                  <a:lnTo>
                    <a:pt x="976" y="137"/>
                  </a:lnTo>
                  <a:lnTo>
                    <a:pt x="1021" y="137"/>
                  </a:lnTo>
                  <a:lnTo>
                    <a:pt x="1044" y="109"/>
                  </a:lnTo>
                  <a:lnTo>
                    <a:pt x="1096" y="120"/>
                  </a:lnTo>
                  <a:lnTo>
                    <a:pt x="1148" y="103"/>
                  </a:lnTo>
                  <a:lnTo>
                    <a:pt x="1194" y="109"/>
                  </a:lnTo>
                  <a:lnTo>
                    <a:pt x="1211" y="132"/>
                  </a:lnTo>
                  <a:lnTo>
                    <a:pt x="1194" y="155"/>
                  </a:lnTo>
                  <a:lnTo>
                    <a:pt x="1148" y="137"/>
                  </a:lnTo>
                  <a:lnTo>
                    <a:pt x="1108" y="166"/>
                  </a:lnTo>
                  <a:lnTo>
                    <a:pt x="1079" y="195"/>
                  </a:lnTo>
                  <a:lnTo>
                    <a:pt x="1073" y="235"/>
                  </a:lnTo>
                  <a:lnTo>
                    <a:pt x="1027" y="241"/>
                  </a:lnTo>
                  <a:lnTo>
                    <a:pt x="976" y="270"/>
                  </a:lnTo>
                  <a:lnTo>
                    <a:pt x="970" y="327"/>
                  </a:lnTo>
                  <a:lnTo>
                    <a:pt x="964" y="367"/>
                  </a:lnTo>
                  <a:lnTo>
                    <a:pt x="953" y="413"/>
                  </a:lnTo>
                  <a:lnTo>
                    <a:pt x="970" y="442"/>
                  </a:lnTo>
                  <a:lnTo>
                    <a:pt x="1004" y="344"/>
                  </a:lnTo>
                  <a:lnTo>
                    <a:pt x="1027" y="333"/>
                  </a:lnTo>
                  <a:lnTo>
                    <a:pt x="1073" y="281"/>
                  </a:lnTo>
                  <a:lnTo>
                    <a:pt x="1102" y="224"/>
                  </a:lnTo>
                  <a:lnTo>
                    <a:pt x="1165" y="212"/>
                  </a:lnTo>
                  <a:lnTo>
                    <a:pt x="1222" y="178"/>
                  </a:lnTo>
                  <a:lnTo>
                    <a:pt x="1263" y="126"/>
                  </a:lnTo>
                  <a:lnTo>
                    <a:pt x="1314" y="126"/>
                  </a:lnTo>
                  <a:lnTo>
                    <a:pt x="1418" y="120"/>
                  </a:lnTo>
                  <a:lnTo>
                    <a:pt x="1527" y="103"/>
                  </a:lnTo>
                  <a:lnTo>
                    <a:pt x="1573" y="91"/>
                  </a:lnTo>
                  <a:lnTo>
                    <a:pt x="1619" y="91"/>
                  </a:lnTo>
                  <a:lnTo>
                    <a:pt x="1670" y="91"/>
                  </a:lnTo>
                  <a:lnTo>
                    <a:pt x="1716" y="109"/>
                  </a:lnTo>
                  <a:lnTo>
                    <a:pt x="1774" y="160"/>
                  </a:lnTo>
                  <a:lnTo>
                    <a:pt x="1745" y="166"/>
                  </a:lnTo>
                  <a:lnTo>
                    <a:pt x="1682" y="183"/>
                  </a:lnTo>
                  <a:lnTo>
                    <a:pt x="1687" y="235"/>
                  </a:lnTo>
                  <a:lnTo>
                    <a:pt x="1739" y="241"/>
                  </a:lnTo>
                  <a:lnTo>
                    <a:pt x="1768" y="241"/>
                  </a:lnTo>
                  <a:lnTo>
                    <a:pt x="1751" y="287"/>
                  </a:lnTo>
                  <a:lnTo>
                    <a:pt x="1687" y="339"/>
                  </a:lnTo>
                  <a:lnTo>
                    <a:pt x="1653" y="344"/>
                  </a:lnTo>
                  <a:lnTo>
                    <a:pt x="1665" y="385"/>
                  </a:lnTo>
                  <a:lnTo>
                    <a:pt x="1676" y="402"/>
                  </a:lnTo>
                  <a:lnTo>
                    <a:pt x="1653" y="442"/>
                  </a:lnTo>
                  <a:lnTo>
                    <a:pt x="1682" y="482"/>
                  </a:lnTo>
                  <a:lnTo>
                    <a:pt x="1624" y="505"/>
                  </a:lnTo>
                  <a:lnTo>
                    <a:pt x="1573" y="522"/>
                  </a:lnTo>
                  <a:lnTo>
                    <a:pt x="1561" y="586"/>
                  </a:lnTo>
                  <a:lnTo>
                    <a:pt x="1527" y="637"/>
                  </a:lnTo>
                  <a:lnTo>
                    <a:pt x="1487" y="678"/>
                  </a:lnTo>
                  <a:lnTo>
                    <a:pt x="1441" y="701"/>
                  </a:lnTo>
                  <a:lnTo>
                    <a:pt x="1561" y="701"/>
                  </a:lnTo>
                  <a:lnTo>
                    <a:pt x="1624" y="701"/>
                  </a:lnTo>
                  <a:lnTo>
                    <a:pt x="1665" y="712"/>
                  </a:lnTo>
                  <a:lnTo>
                    <a:pt x="1716" y="689"/>
                  </a:lnTo>
                  <a:lnTo>
                    <a:pt x="1739" y="741"/>
                  </a:lnTo>
                  <a:lnTo>
                    <a:pt x="2411" y="741"/>
                  </a:lnTo>
                  <a:lnTo>
                    <a:pt x="2440" y="701"/>
                  </a:lnTo>
                  <a:lnTo>
                    <a:pt x="2503" y="649"/>
                  </a:lnTo>
                  <a:lnTo>
                    <a:pt x="2543" y="580"/>
                  </a:lnTo>
                  <a:lnTo>
                    <a:pt x="2601" y="517"/>
                  </a:lnTo>
                  <a:lnTo>
                    <a:pt x="2624" y="453"/>
                  </a:lnTo>
                  <a:lnTo>
                    <a:pt x="2653" y="390"/>
                  </a:lnTo>
                  <a:lnTo>
                    <a:pt x="2705" y="367"/>
                  </a:lnTo>
                  <a:lnTo>
                    <a:pt x="2716" y="333"/>
                  </a:lnTo>
                  <a:lnTo>
                    <a:pt x="2762" y="344"/>
                  </a:lnTo>
                  <a:lnTo>
                    <a:pt x="2808" y="310"/>
                  </a:lnTo>
                  <a:lnTo>
                    <a:pt x="2831" y="339"/>
                  </a:lnTo>
                  <a:lnTo>
                    <a:pt x="2883" y="362"/>
                  </a:lnTo>
                  <a:lnTo>
                    <a:pt x="2934" y="373"/>
                  </a:lnTo>
                  <a:lnTo>
                    <a:pt x="2986" y="390"/>
                  </a:lnTo>
                  <a:lnTo>
                    <a:pt x="3020" y="367"/>
                  </a:lnTo>
                  <a:lnTo>
                    <a:pt x="3066" y="396"/>
                  </a:lnTo>
                  <a:lnTo>
                    <a:pt x="3095" y="442"/>
                  </a:lnTo>
                  <a:lnTo>
                    <a:pt x="3153" y="453"/>
                  </a:lnTo>
                  <a:lnTo>
                    <a:pt x="3176" y="505"/>
                  </a:lnTo>
                  <a:lnTo>
                    <a:pt x="3147" y="534"/>
                  </a:lnTo>
                  <a:lnTo>
                    <a:pt x="3072" y="522"/>
                  </a:lnTo>
                  <a:lnTo>
                    <a:pt x="3015" y="499"/>
                  </a:lnTo>
                  <a:lnTo>
                    <a:pt x="3003" y="540"/>
                  </a:lnTo>
                  <a:lnTo>
                    <a:pt x="3084" y="545"/>
                  </a:lnTo>
                  <a:lnTo>
                    <a:pt x="3147" y="591"/>
                  </a:lnTo>
                  <a:lnTo>
                    <a:pt x="3239" y="568"/>
                  </a:lnTo>
                  <a:lnTo>
                    <a:pt x="3256" y="488"/>
                  </a:lnTo>
                  <a:lnTo>
                    <a:pt x="3302" y="430"/>
                  </a:lnTo>
                  <a:lnTo>
                    <a:pt x="3348" y="448"/>
                  </a:lnTo>
                  <a:lnTo>
                    <a:pt x="3336" y="476"/>
                  </a:lnTo>
                  <a:lnTo>
                    <a:pt x="3308" y="505"/>
                  </a:lnTo>
                  <a:lnTo>
                    <a:pt x="3308" y="545"/>
                  </a:lnTo>
                  <a:lnTo>
                    <a:pt x="3365" y="499"/>
                  </a:lnTo>
                  <a:lnTo>
                    <a:pt x="3411" y="453"/>
                  </a:lnTo>
                  <a:lnTo>
                    <a:pt x="3497" y="442"/>
                  </a:lnTo>
                  <a:lnTo>
                    <a:pt x="3600" y="402"/>
                  </a:lnTo>
                  <a:lnTo>
                    <a:pt x="3675" y="367"/>
                  </a:lnTo>
                  <a:lnTo>
                    <a:pt x="3698" y="327"/>
                  </a:lnTo>
                  <a:lnTo>
                    <a:pt x="3635" y="333"/>
                  </a:lnTo>
                  <a:lnTo>
                    <a:pt x="3572" y="287"/>
                  </a:lnTo>
                  <a:lnTo>
                    <a:pt x="3537" y="224"/>
                  </a:lnTo>
                  <a:lnTo>
                    <a:pt x="3572" y="137"/>
                  </a:lnTo>
                  <a:lnTo>
                    <a:pt x="3641" y="80"/>
                  </a:lnTo>
                  <a:lnTo>
                    <a:pt x="3692" y="34"/>
                  </a:lnTo>
                  <a:lnTo>
                    <a:pt x="3767" y="34"/>
                  </a:lnTo>
                  <a:lnTo>
                    <a:pt x="3830" y="0"/>
                  </a:lnTo>
                  <a:lnTo>
                    <a:pt x="3824" y="40"/>
                  </a:lnTo>
                  <a:lnTo>
                    <a:pt x="3773" y="51"/>
                  </a:lnTo>
                  <a:lnTo>
                    <a:pt x="3755" y="68"/>
                  </a:lnTo>
                  <a:lnTo>
                    <a:pt x="3704" y="74"/>
                  </a:lnTo>
                  <a:lnTo>
                    <a:pt x="3669" y="120"/>
                  </a:lnTo>
                  <a:lnTo>
                    <a:pt x="3646" y="172"/>
                  </a:lnTo>
                  <a:lnTo>
                    <a:pt x="3635" y="224"/>
                  </a:lnTo>
                  <a:lnTo>
                    <a:pt x="3692" y="310"/>
                  </a:lnTo>
                  <a:lnTo>
                    <a:pt x="3778" y="350"/>
                  </a:lnTo>
                  <a:lnTo>
                    <a:pt x="3847" y="385"/>
                  </a:lnTo>
                  <a:lnTo>
                    <a:pt x="3870" y="396"/>
                  </a:lnTo>
                  <a:lnTo>
                    <a:pt x="3905" y="442"/>
                  </a:lnTo>
                  <a:lnTo>
                    <a:pt x="3928" y="430"/>
                  </a:lnTo>
                  <a:lnTo>
                    <a:pt x="3928" y="396"/>
                  </a:lnTo>
                  <a:lnTo>
                    <a:pt x="3916" y="344"/>
                  </a:lnTo>
                  <a:lnTo>
                    <a:pt x="3893" y="316"/>
                  </a:lnTo>
                  <a:lnTo>
                    <a:pt x="3882" y="281"/>
                  </a:lnTo>
                  <a:lnTo>
                    <a:pt x="3905" y="218"/>
                  </a:lnTo>
                  <a:lnTo>
                    <a:pt x="3968" y="218"/>
                  </a:lnTo>
                  <a:lnTo>
                    <a:pt x="4019" y="218"/>
                  </a:lnTo>
                  <a:lnTo>
                    <a:pt x="4042" y="241"/>
                  </a:lnTo>
                  <a:lnTo>
                    <a:pt x="4054" y="298"/>
                  </a:lnTo>
                  <a:lnTo>
                    <a:pt x="4083" y="350"/>
                  </a:lnTo>
                  <a:lnTo>
                    <a:pt x="4094" y="298"/>
                  </a:lnTo>
                  <a:lnTo>
                    <a:pt x="4140" y="270"/>
                  </a:lnTo>
                  <a:lnTo>
                    <a:pt x="4186" y="270"/>
                  </a:lnTo>
                  <a:lnTo>
                    <a:pt x="4232" y="270"/>
                  </a:lnTo>
                  <a:lnTo>
                    <a:pt x="4278" y="275"/>
                  </a:lnTo>
                  <a:lnTo>
                    <a:pt x="4278" y="218"/>
                  </a:lnTo>
                  <a:lnTo>
                    <a:pt x="4312" y="224"/>
                  </a:lnTo>
                  <a:lnTo>
                    <a:pt x="4341" y="258"/>
                  </a:lnTo>
                  <a:lnTo>
                    <a:pt x="4398" y="258"/>
                  </a:lnTo>
                  <a:lnTo>
                    <a:pt x="4444" y="235"/>
                  </a:lnTo>
                  <a:lnTo>
                    <a:pt x="4496" y="281"/>
                  </a:lnTo>
                  <a:lnTo>
                    <a:pt x="4559" y="339"/>
                  </a:lnTo>
                  <a:lnTo>
                    <a:pt x="4628" y="350"/>
                  </a:lnTo>
                  <a:lnTo>
                    <a:pt x="4726" y="390"/>
                  </a:lnTo>
                  <a:lnTo>
                    <a:pt x="4743" y="385"/>
                  </a:lnTo>
                  <a:lnTo>
                    <a:pt x="4812" y="499"/>
                  </a:lnTo>
                  <a:lnTo>
                    <a:pt x="4915" y="678"/>
                  </a:lnTo>
                  <a:lnTo>
                    <a:pt x="4984" y="781"/>
                  </a:lnTo>
                  <a:lnTo>
                    <a:pt x="5019" y="890"/>
                  </a:lnTo>
                  <a:lnTo>
                    <a:pt x="4973" y="913"/>
                  </a:lnTo>
                  <a:lnTo>
                    <a:pt x="4950" y="959"/>
                  </a:lnTo>
                  <a:lnTo>
                    <a:pt x="4973" y="1045"/>
                  </a:lnTo>
                  <a:lnTo>
                    <a:pt x="5001" y="1126"/>
                  </a:lnTo>
                  <a:lnTo>
                    <a:pt x="5036" y="1126"/>
                  </a:lnTo>
                  <a:lnTo>
                    <a:pt x="5041" y="1063"/>
                  </a:lnTo>
                  <a:lnTo>
                    <a:pt x="5070" y="1045"/>
                  </a:lnTo>
                  <a:lnTo>
                    <a:pt x="5087" y="1103"/>
                  </a:lnTo>
                  <a:lnTo>
                    <a:pt x="5047" y="1126"/>
                  </a:lnTo>
                  <a:lnTo>
                    <a:pt x="5116" y="1189"/>
                  </a:lnTo>
                  <a:lnTo>
                    <a:pt x="5064" y="1252"/>
                  </a:lnTo>
                  <a:lnTo>
                    <a:pt x="5053" y="1292"/>
                  </a:lnTo>
                  <a:lnTo>
                    <a:pt x="5139" y="1310"/>
                  </a:lnTo>
                  <a:lnTo>
                    <a:pt x="5105" y="1361"/>
                  </a:lnTo>
                  <a:lnTo>
                    <a:pt x="5059" y="1379"/>
                  </a:lnTo>
                  <a:lnTo>
                    <a:pt x="5059" y="1459"/>
                  </a:lnTo>
                  <a:lnTo>
                    <a:pt x="5105" y="1528"/>
                  </a:lnTo>
                  <a:lnTo>
                    <a:pt x="5059" y="1545"/>
                  </a:lnTo>
                  <a:lnTo>
                    <a:pt x="4984" y="1522"/>
                  </a:lnTo>
                  <a:lnTo>
                    <a:pt x="5013" y="1482"/>
                  </a:lnTo>
                  <a:lnTo>
                    <a:pt x="5064" y="1482"/>
                  </a:lnTo>
                  <a:lnTo>
                    <a:pt x="5064" y="1402"/>
                  </a:lnTo>
                  <a:lnTo>
                    <a:pt x="5007" y="1425"/>
                  </a:lnTo>
                  <a:lnTo>
                    <a:pt x="5001" y="1356"/>
                  </a:lnTo>
                  <a:lnTo>
                    <a:pt x="5053" y="1310"/>
                  </a:lnTo>
                  <a:lnTo>
                    <a:pt x="5064" y="1264"/>
                  </a:lnTo>
                  <a:lnTo>
                    <a:pt x="5041" y="1195"/>
                  </a:lnTo>
                  <a:lnTo>
                    <a:pt x="5036" y="1120"/>
                  </a:lnTo>
                  <a:lnTo>
                    <a:pt x="4996" y="1155"/>
                  </a:lnTo>
                  <a:lnTo>
                    <a:pt x="4955" y="1212"/>
                  </a:lnTo>
                  <a:lnTo>
                    <a:pt x="4892" y="1264"/>
                  </a:lnTo>
                  <a:lnTo>
                    <a:pt x="4915" y="1338"/>
                  </a:lnTo>
                  <a:lnTo>
                    <a:pt x="4909" y="1402"/>
                  </a:lnTo>
                  <a:lnTo>
                    <a:pt x="4909" y="1442"/>
                  </a:lnTo>
                  <a:lnTo>
                    <a:pt x="4938" y="1499"/>
                  </a:lnTo>
                  <a:lnTo>
                    <a:pt x="4915" y="1517"/>
                  </a:lnTo>
                  <a:lnTo>
                    <a:pt x="4852" y="1453"/>
                  </a:lnTo>
                  <a:lnTo>
                    <a:pt x="4812" y="1379"/>
                  </a:lnTo>
                  <a:lnTo>
                    <a:pt x="4795" y="1327"/>
                  </a:lnTo>
                  <a:lnTo>
                    <a:pt x="4760" y="1298"/>
                  </a:lnTo>
                  <a:lnTo>
                    <a:pt x="4714" y="1338"/>
                  </a:lnTo>
                  <a:lnTo>
                    <a:pt x="4685" y="1390"/>
                  </a:lnTo>
                  <a:lnTo>
                    <a:pt x="4749" y="1453"/>
                  </a:lnTo>
                  <a:lnTo>
                    <a:pt x="4783" y="1517"/>
                  </a:lnTo>
                  <a:lnTo>
                    <a:pt x="4795" y="1603"/>
                  </a:lnTo>
                  <a:lnTo>
                    <a:pt x="4789" y="1678"/>
                  </a:lnTo>
                  <a:lnTo>
                    <a:pt x="4789" y="1752"/>
                  </a:lnTo>
                  <a:lnTo>
                    <a:pt x="4818" y="1700"/>
                  </a:lnTo>
                  <a:lnTo>
                    <a:pt x="4869" y="1706"/>
                  </a:lnTo>
                  <a:lnTo>
                    <a:pt x="4886" y="1758"/>
                  </a:lnTo>
                  <a:lnTo>
                    <a:pt x="4846" y="1815"/>
                  </a:lnTo>
                  <a:lnTo>
                    <a:pt x="4800" y="1810"/>
                  </a:lnTo>
                  <a:lnTo>
                    <a:pt x="4795" y="1856"/>
                  </a:lnTo>
                  <a:lnTo>
                    <a:pt x="4829" y="1890"/>
                  </a:lnTo>
                  <a:lnTo>
                    <a:pt x="4812" y="1949"/>
                  </a:lnTo>
                  <a:lnTo>
                    <a:pt x="4863" y="2000"/>
                  </a:lnTo>
                  <a:lnTo>
                    <a:pt x="4829" y="2041"/>
                  </a:lnTo>
                  <a:lnTo>
                    <a:pt x="4881" y="2092"/>
                  </a:lnTo>
                  <a:lnTo>
                    <a:pt x="4846" y="2144"/>
                  </a:lnTo>
                  <a:lnTo>
                    <a:pt x="4904" y="2115"/>
                  </a:lnTo>
                  <a:lnTo>
                    <a:pt x="4886" y="2167"/>
                  </a:lnTo>
                  <a:lnTo>
                    <a:pt x="4990" y="2144"/>
                  </a:lnTo>
                  <a:lnTo>
                    <a:pt x="4955" y="2207"/>
                  </a:lnTo>
                  <a:lnTo>
                    <a:pt x="4886" y="2167"/>
                  </a:lnTo>
                  <a:lnTo>
                    <a:pt x="4881" y="2236"/>
                  </a:lnTo>
                  <a:lnTo>
                    <a:pt x="4984" y="2230"/>
                  </a:lnTo>
                  <a:lnTo>
                    <a:pt x="4938" y="2299"/>
                  </a:lnTo>
                  <a:lnTo>
                    <a:pt x="4869" y="2224"/>
                  </a:lnTo>
                  <a:lnTo>
                    <a:pt x="4909" y="2334"/>
                  </a:lnTo>
                  <a:lnTo>
                    <a:pt x="4990" y="2403"/>
                  </a:lnTo>
                  <a:lnTo>
                    <a:pt x="4915" y="2403"/>
                  </a:lnTo>
                  <a:lnTo>
                    <a:pt x="4869" y="2236"/>
                  </a:lnTo>
                  <a:lnTo>
                    <a:pt x="4886" y="2121"/>
                  </a:lnTo>
                  <a:lnTo>
                    <a:pt x="4829" y="2127"/>
                  </a:lnTo>
                  <a:lnTo>
                    <a:pt x="4789" y="2064"/>
                  </a:lnTo>
                  <a:lnTo>
                    <a:pt x="4829" y="2035"/>
                  </a:lnTo>
                  <a:lnTo>
                    <a:pt x="4829" y="1972"/>
                  </a:lnTo>
                  <a:lnTo>
                    <a:pt x="4800" y="1827"/>
                  </a:lnTo>
                  <a:lnTo>
                    <a:pt x="4795" y="1735"/>
                  </a:lnTo>
                  <a:lnTo>
                    <a:pt x="4783" y="1672"/>
                  </a:lnTo>
                  <a:lnTo>
                    <a:pt x="4731" y="1752"/>
                  </a:lnTo>
                  <a:lnTo>
                    <a:pt x="4640" y="1775"/>
                  </a:lnTo>
                  <a:lnTo>
                    <a:pt x="4594" y="1833"/>
                  </a:lnTo>
                  <a:lnTo>
                    <a:pt x="4611" y="1908"/>
                  </a:lnTo>
                  <a:lnTo>
                    <a:pt x="4576" y="1949"/>
                  </a:lnTo>
                  <a:lnTo>
                    <a:pt x="4525" y="1937"/>
                  </a:lnTo>
                  <a:lnTo>
                    <a:pt x="4571" y="1873"/>
                  </a:lnTo>
                  <a:lnTo>
                    <a:pt x="4536" y="1844"/>
                  </a:lnTo>
                  <a:lnTo>
                    <a:pt x="4485" y="1879"/>
                  </a:lnTo>
                  <a:lnTo>
                    <a:pt x="4485" y="1943"/>
                  </a:lnTo>
                  <a:lnTo>
                    <a:pt x="4571" y="2035"/>
                  </a:lnTo>
                  <a:lnTo>
                    <a:pt x="4594" y="2098"/>
                  </a:lnTo>
                  <a:lnTo>
                    <a:pt x="4530" y="2184"/>
                  </a:lnTo>
                  <a:lnTo>
                    <a:pt x="4530" y="2391"/>
                  </a:lnTo>
                  <a:lnTo>
                    <a:pt x="4530" y="2477"/>
                  </a:lnTo>
                  <a:lnTo>
                    <a:pt x="4542" y="2529"/>
                  </a:lnTo>
                  <a:lnTo>
                    <a:pt x="4634" y="2518"/>
                  </a:lnTo>
                  <a:lnTo>
                    <a:pt x="4697" y="2535"/>
                  </a:lnTo>
                  <a:lnTo>
                    <a:pt x="4743" y="2454"/>
                  </a:lnTo>
                  <a:lnTo>
                    <a:pt x="4795" y="2454"/>
                  </a:lnTo>
                  <a:lnTo>
                    <a:pt x="4777" y="2500"/>
                  </a:lnTo>
                  <a:lnTo>
                    <a:pt x="4829" y="2558"/>
                  </a:lnTo>
                  <a:lnTo>
                    <a:pt x="4904" y="2575"/>
                  </a:lnTo>
                  <a:lnTo>
                    <a:pt x="4892" y="2518"/>
                  </a:lnTo>
                  <a:lnTo>
                    <a:pt x="5059" y="2518"/>
                  </a:lnTo>
                  <a:lnTo>
                    <a:pt x="5001" y="2541"/>
                  </a:lnTo>
                  <a:lnTo>
                    <a:pt x="4996" y="2586"/>
                  </a:lnTo>
                  <a:lnTo>
                    <a:pt x="5070" y="2609"/>
                  </a:lnTo>
                  <a:lnTo>
                    <a:pt x="5145" y="2632"/>
                  </a:lnTo>
                  <a:lnTo>
                    <a:pt x="5179" y="2552"/>
                  </a:lnTo>
                  <a:lnTo>
                    <a:pt x="5191" y="2500"/>
                  </a:lnTo>
                  <a:lnTo>
                    <a:pt x="5139" y="2512"/>
                  </a:lnTo>
                  <a:lnTo>
                    <a:pt x="5087" y="2483"/>
                  </a:lnTo>
                  <a:lnTo>
                    <a:pt x="5059" y="2466"/>
                  </a:lnTo>
                  <a:lnTo>
                    <a:pt x="5041" y="2535"/>
                  </a:lnTo>
                  <a:lnTo>
                    <a:pt x="5041" y="2529"/>
                  </a:lnTo>
                  <a:lnTo>
                    <a:pt x="4881" y="2529"/>
                  </a:lnTo>
                  <a:lnTo>
                    <a:pt x="4846" y="2449"/>
                  </a:lnTo>
                  <a:lnTo>
                    <a:pt x="4800" y="2460"/>
                  </a:lnTo>
                  <a:lnTo>
                    <a:pt x="4749" y="2454"/>
                  </a:lnTo>
                  <a:lnTo>
                    <a:pt x="4731" y="2362"/>
                  </a:lnTo>
                  <a:lnTo>
                    <a:pt x="4703" y="2322"/>
                  </a:lnTo>
                  <a:lnTo>
                    <a:pt x="4754" y="2288"/>
                  </a:lnTo>
                  <a:lnTo>
                    <a:pt x="4754" y="2236"/>
                  </a:lnTo>
                  <a:lnTo>
                    <a:pt x="4680" y="2270"/>
                  </a:lnTo>
                  <a:lnTo>
                    <a:pt x="4628" y="2305"/>
                  </a:lnTo>
                  <a:lnTo>
                    <a:pt x="4594" y="2380"/>
                  </a:lnTo>
                  <a:lnTo>
                    <a:pt x="4530" y="2380"/>
                  </a:lnTo>
                  <a:lnTo>
                    <a:pt x="4530" y="2219"/>
                  </a:lnTo>
                  <a:lnTo>
                    <a:pt x="4490" y="2242"/>
                  </a:lnTo>
                  <a:lnTo>
                    <a:pt x="4444" y="2178"/>
                  </a:lnTo>
                  <a:lnTo>
                    <a:pt x="4393" y="2104"/>
                  </a:lnTo>
                  <a:lnTo>
                    <a:pt x="4318" y="2127"/>
                  </a:lnTo>
                  <a:lnTo>
                    <a:pt x="4312" y="2190"/>
                  </a:lnTo>
                  <a:lnTo>
                    <a:pt x="4347" y="2282"/>
                  </a:lnTo>
                  <a:lnTo>
                    <a:pt x="4347" y="2351"/>
                  </a:lnTo>
                  <a:lnTo>
                    <a:pt x="4398" y="2426"/>
                  </a:lnTo>
                  <a:lnTo>
                    <a:pt x="4427" y="2460"/>
                  </a:lnTo>
                  <a:lnTo>
                    <a:pt x="4370" y="2460"/>
                  </a:lnTo>
                  <a:lnTo>
                    <a:pt x="4330" y="2426"/>
                  </a:lnTo>
                  <a:lnTo>
                    <a:pt x="4301" y="2466"/>
                  </a:lnTo>
                  <a:lnTo>
                    <a:pt x="4381" y="2563"/>
                  </a:lnTo>
                  <a:lnTo>
                    <a:pt x="4444" y="2627"/>
                  </a:lnTo>
                  <a:lnTo>
                    <a:pt x="4502" y="2615"/>
                  </a:lnTo>
                  <a:lnTo>
                    <a:pt x="4571" y="2638"/>
                  </a:lnTo>
                  <a:lnTo>
                    <a:pt x="4657" y="2638"/>
                  </a:lnTo>
                  <a:lnTo>
                    <a:pt x="4731" y="2627"/>
                  </a:lnTo>
                  <a:lnTo>
                    <a:pt x="4800" y="2655"/>
                  </a:lnTo>
                  <a:lnTo>
                    <a:pt x="4783" y="2678"/>
                  </a:lnTo>
                  <a:lnTo>
                    <a:pt x="4703" y="2650"/>
                  </a:lnTo>
                  <a:lnTo>
                    <a:pt x="4703" y="2788"/>
                  </a:lnTo>
                  <a:lnTo>
                    <a:pt x="4760" y="2788"/>
                  </a:lnTo>
                  <a:lnTo>
                    <a:pt x="4795" y="2770"/>
                  </a:lnTo>
                  <a:lnTo>
                    <a:pt x="4800" y="2736"/>
                  </a:lnTo>
                  <a:lnTo>
                    <a:pt x="4869" y="2742"/>
                  </a:lnTo>
                  <a:lnTo>
                    <a:pt x="4950" y="2707"/>
                  </a:lnTo>
                  <a:lnTo>
                    <a:pt x="4944" y="2765"/>
                  </a:lnTo>
                  <a:lnTo>
                    <a:pt x="4973" y="2811"/>
                  </a:lnTo>
                  <a:lnTo>
                    <a:pt x="5013" y="2845"/>
                  </a:lnTo>
                  <a:lnTo>
                    <a:pt x="5059" y="2811"/>
                  </a:lnTo>
                  <a:lnTo>
                    <a:pt x="5053" y="2747"/>
                  </a:lnTo>
                  <a:lnTo>
                    <a:pt x="5059" y="2690"/>
                  </a:lnTo>
                  <a:lnTo>
                    <a:pt x="5087" y="2747"/>
                  </a:lnTo>
                  <a:lnTo>
                    <a:pt x="5105" y="2816"/>
                  </a:lnTo>
                  <a:lnTo>
                    <a:pt x="5041" y="2966"/>
                  </a:lnTo>
                  <a:lnTo>
                    <a:pt x="4973" y="3104"/>
                  </a:lnTo>
                  <a:lnTo>
                    <a:pt x="4909" y="3236"/>
                  </a:lnTo>
                  <a:lnTo>
                    <a:pt x="4829" y="3385"/>
                  </a:lnTo>
                  <a:lnTo>
                    <a:pt x="4777" y="3339"/>
                  </a:lnTo>
                  <a:lnTo>
                    <a:pt x="4703" y="3374"/>
                  </a:lnTo>
                  <a:lnTo>
                    <a:pt x="4680" y="3420"/>
                  </a:lnTo>
                  <a:lnTo>
                    <a:pt x="4628" y="3454"/>
                  </a:lnTo>
                  <a:lnTo>
                    <a:pt x="4536" y="3471"/>
                  </a:lnTo>
                  <a:lnTo>
                    <a:pt x="4479" y="3466"/>
                  </a:lnTo>
                  <a:lnTo>
                    <a:pt x="4496" y="3380"/>
                  </a:lnTo>
                  <a:lnTo>
                    <a:pt x="4490" y="3316"/>
                  </a:lnTo>
                  <a:lnTo>
                    <a:pt x="4530" y="3265"/>
                  </a:lnTo>
                  <a:lnTo>
                    <a:pt x="4525" y="3219"/>
                  </a:lnTo>
                  <a:lnTo>
                    <a:pt x="4456" y="3178"/>
                  </a:lnTo>
                  <a:lnTo>
                    <a:pt x="4467" y="3104"/>
                  </a:lnTo>
                  <a:lnTo>
                    <a:pt x="4485" y="3023"/>
                  </a:lnTo>
                  <a:lnTo>
                    <a:pt x="4548" y="2954"/>
                  </a:lnTo>
                  <a:lnTo>
                    <a:pt x="4634" y="2949"/>
                  </a:lnTo>
                  <a:lnTo>
                    <a:pt x="4651" y="2897"/>
                  </a:lnTo>
                  <a:lnTo>
                    <a:pt x="4628" y="2816"/>
                  </a:lnTo>
                  <a:lnTo>
                    <a:pt x="4680" y="2793"/>
                  </a:lnTo>
                  <a:lnTo>
                    <a:pt x="4703" y="2788"/>
                  </a:lnTo>
                  <a:lnTo>
                    <a:pt x="4703" y="2655"/>
                  </a:lnTo>
                  <a:lnTo>
                    <a:pt x="4634" y="2667"/>
                  </a:lnTo>
                  <a:lnTo>
                    <a:pt x="4571" y="2696"/>
                  </a:lnTo>
                  <a:lnTo>
                    <a:pt x="4508" y="2655"/>
                  </a:lnTo>
                  <a:lnTo>
                    <a:pt x="4439" y="2655"/>
                  </a:lnTo>
                  <a:lnTo>
                    <a:pt x="4352" y="2627"/>
                  </a:lnTo>
                  <a:lnTo>
                    <a:pt x="4301" y="2563"/>
                  </a:lnTo>
                  <a:lnTo>
                    <a:pt x="4272" y="2506"/>
                  </a:lnTo>
                  <a:lnTo>
                    <a:pt x="4226" y="2454"/>
                  </a:lnTo>
                  <a:lnTo>
                    <a:pt x="4272" y="2443"/>
                  </a:lnTo>
                  <a:lnTo>
                    <a:pt x="4301" y="2460"/>
                  </a:lnTo>
                  <a:lnTo>
                    <a:pt x="4335" y="2414"/>
                  </a:lnTo>
                  <a:lnTo>
                    <a:pt x="4318" y="2345"/>
                  </a:lnTo>
                  <a:lnTo>
                    <a:pt x="4272" y="2339"/>
                  </a:lnTo>
                  <a:lnTo>
                    <a:pt x="4243" y="2259"/>
                  </a:lnTo>
                  <a:lnTo>
                    <a:pt x="4266" y="2178"/>
                  </a:lnTo>
                  <a:lnTo>
                    <a:pt x="4301" y="2115"/>
                  </a:lnTo>
                  <a:lnTo>
                    <a:pt x="4289" y="2035"/>
                  </a:lnTo>
                  <a:lnTo>
                    <a:pt x="4266" y="2029"/>
                  </a:lnTo>
                  <a:lnTo>
                    <a:pt x="4226" y="2069"/>
                  </a:lnTo>
                  <a:lnTo>
                    <a:pt x="4220" y="2115"/>
                  </a:lnTo>
                  <a:lnTo>
                    <a:pt x="4175" y="2035"/>
                  </a:lnTo>
                  <a:lnTo>
                    <a:pt x="4106" y="1977"/>
                  </a:lnTo>
                  <a:lnTo>
                    <a:pt x="4054" y="1983"/>
                  </a:lnTo>
                  <a:lnTo>
                    <a:pt x="4008" y="2064"/>
                  </a:lnTo>
                  <a:lnTo>
                    <a:pt x="3939" y="2104"/>
                  </a:lnTo>
                  <a:lnTo>
                    <a:pt x="3939" y="2155"/>
                  </a:lnTo>
                  <a:lnTo>
                    <a:pt x="3962" y="2219"/>
                  </a:lnTo>
                  <a:lnTo>
                    <a:pt x="3956" y="2276"/>
                  </a:lnTo>
                  <a:lnTo>
                    <a:pt x="3905" y="2270"/>
                  </a:lnTo>
                  <a:lnTo>
                    <a:pt x="3864" y="2190"/>
                  </a:lnTo>
                  <a:lnTo>
                    <a:pt x="3807" y="2115"/>
                  </a:lnTo>
                  <a:lnTo>
                    <a:pt x="3744" y="2064"/>
                  </a:lnTo>
                  <a:lnTo>
                    <a:pt x="3698" y="1977"/>
                  </a:lnTo>
                  <a:lnTo>
                    <a:pt x="3652" y="1943"/>
                  </a:lnTo>
                  <a:lnTo>
                    <a:pt x="3566" y="1943"/>
                  </a:lnTo>
                  <a:lnTo>
                    <a:pt x="3497" y="1943"/>
                  </a:lnTo>
                  <a:lnTo>
                    <a:pt x="3451" y="1983"/>
                  </a:lnTo>
                  <a:lnTo>
                    <a:pt x="3405" y="1926"/>
                  </a:lnTo>
                  <a:lnTo>
                    <a:pt x="3353" y="1884"/>
                  </a:lnTo>
                  <a:lnTo>
                    <a:pt x="3285" y="1827"/>
                  </a:lnTo>
                  <a:lnTo>
                    <a:pt x="3336" y="1926"/>
                  </a:lnTo>
                  <a:lnTo>
                    <a:pt x="3411" y="1949"/>
                  </a:lnTo>
                  <a:lnTo>
                    <a:pt x="3463" y="2035"/>
                  </a:lnTo>
                  <a:lnTo>
                    <a:pt x="3445" y="2104"/>
                  </a:lnTo>
                  <a:lnTo>
                    <a:pt x="3394" y="2144"/>
                  </a:lnTo>
                  <a:lnTo>
                    <a:pt x="3313" y="2155"/>
                  </a:lnTo>
                  <a:lnTo>
                    <a:pt x="3250" y="2184"/>
                  </a:lnTo>
                  <a:lnTo>
                    <a:pt x="3204" y="2247"/>
                  </a:lnTo>
                  <a:lnTo>
                    <a:pt x="3176" y="2288"/>
                  </a:lnTo>
                  <a:lnTo>
                    <a:pt x="3153" y="2207"/>
                  </a:lnTo>
                  <a:lnTo>
                    <a:pt x="3118" y="2104"/>
                  </a:lnTo>
                  <a:lnTo>
                    <a:pt x="3066" y="2046"/>
                  </a:lnTo>
                  <a:lnTo>
                    <a:pt x="3066" y="1983"/>
                  </a:lnTo>
                  <a:lnTo>
                    <a:pt x="3020" y="1989"/>
                  </a:lnTo>
                  <a:lnTo>
                    <a:pt x="3032" y="2092"/>
                  </a:lnTo>
                  <a:lnTo>
                    <a:pt x="3078" y="2178"/>
                  </a:lnTo>
                  <a:lnTo>
                    <a:pt x="3078" y="2242"/>
                  </a:lnTo>
                  <a:lnTo>
                    <a:pt x="3147" y="2282"/>
                  </a:lnTo>
                  <a:lnTo>
                    <a:pt x="3176" y="2334"/>
                  </a:lnTo>
                  <a:lnTo>
                    <a:pt x="3244" y="2305"/>
                  </a:lnTo>
                  <a:lnTo>
                    <a:pt x="3302" y="2299"/>
                  </a:lnTo>
                  <a:lnTo>
                    <a:pt x="3376" y="2270"/>
                  </a:lnTo>
                  <a:lnTo>
                    <a:pt x="3342" y="2357"/>
                  </a:lnTo>
                  <a:lnTo>
                    <a:pt x="3285" y="2477"/>
                  </a:lnTo>
                  <a:lnTo>
                    <a:pt x="3244" y="2552"/>
                  </a:lnTo>
                  <a:lnTo>
                    <a:pt x="3187" y="2615"/>
                  </a:lnTo>
                  <a:lnTo>
                    <a:pt x="3153" y="2678"/>
                  </a:lnTo>
                  <a:lnTo>
                    <a:pt x="3141" y="2811"/>
                  </a:lnTo>
                  <a:lnTo>
                    <a:pt x="3130" y="2908"/>
                  </a:lnTo>
                  <a:lnTo>
                    <a:pt x="3135" y="2994"/>
                  </a:lnTo>
                  <a:lnTo>
                    <a:pt x="3147" y="3081"/>
                  </a:lnTo>
                  <a:lnTo>
                    <a:pt x="3147" y="3104"/>
                  </a:lnTo>
                  <a:lnTo>
                    <a:pt x="3204" y="3098"/>
                  </a:lnTo>
                  <a:lnTo>
                    <a:pt x="3210" y="3023"/>
                  </a:lnTo>
                  <a:lnTo>
                    <a:pt x="3273" y="2949"/>
                  </a:lnTo>
                  <a:lnTo>
                    <a:pt x="3336" y="2908"/>
                  </a:lnTo>
                  <a:lnTo>
                    <a:pt x="3348" y="2989"/>
                  </a:lnTo>
                  <a:lnTo>
                    <a:pt x="3342" y="3063"/>
                  </a:lnTo>
                  <a:lnTo>
                    <a:pt x="3308" y="3104"/>
                  </a:lnTo>
                  <a:lnTo>
                    <a:pt x="3313" y="3150"/>
                  </a:lnTo>
                  <a:lnTo>
                    <a:pt x="3290" y="3247"/>
                  </a:lnTo>
                  <a:lnTo>
                    <a:pt x="3279" y="3299"/>
                  </a:lnTo>
                  <a:lnTo>
                    <a:pt x="3239" y="3316"/>
                  </a:lnTo>
                  <a:lnTo>
                    <a:pt x="3193" y="3265"/>
                  </a:lnTo>
                  <a:lnTo>
                    <a:pt x="3210" y="3184"/>
                  </a:lnTo>
                  <a:lnTo>
                    <a:pt x="3227" y="3155"/>
                  </a:lnTo>
                  <a:lnTo>
                    <a:pt x="3198" y="3104"/>
                  </a:lnTo>
                  <a:lnTo>
                    <a:pt x="3141" y="3109"/>
                  </a:lnTo>
                  <a:lnTo>
                    <a:pt x="3124" y="3178"/>
                  </a:lnTo>
                  <a:lnTo>
                    <a:pt x="3043" y="3219"/>
                  </a:lnTo>
                  <a:lnTo>
                    <a:pt x="2992" y="3265"/>
                  </a:lnTo>
                  <a:lnTo>
                    <a:pt x="2998" y="3339"/>
                  </a:lnTo>
                  <a:lnTo>
                    <a:pt x="2992" y="3437"/>
                  </a:lnTo>
                  <a:lnTo>
                    <a:pt x="2969" y="3529"/>
                  </a:lnTo>
                  <a:lnTo>
                    <a:pt x="2860" y="3638"/>
                  </a:lnTo>
                  <a:lnTo>
                    <a:pt x="2808" y="3644"/>
                  </a:lnTo>
                  <a:lnTo>
                    <a:pt x="2768" y="3575"/>
                  </a:lnTo>
                  <a:lnTo>
                    <a:pt x="2705" y="3529"/>
                  </a:lnTo>
                  <a:lnTo>
                    <a:pt x="2670" y="3506"/>
                  </a:lnTo>
                  <a:lnTo>
                    <a:pt x="2607" y="3374"/>
                  </a:lnTo>
                  <a:lnTo>
                    <a:pt x="2549" y="3305"/>
                  </a:lnTo>
                  <a:lnTo>
                    <a:pt x="2503" y="3236"/>
                  </a:lnTo>
                  <a:lnTo>
                    <a:pt x="2480" y="3173"/>
                  </a:lnTo>
                  <a:lnTo>
                    <a:pt x="2474" y="3081"/>
                  </a:lnTo>
                  <a:lnTo>
                    <a:pt x="2422" y="3023"/>
                  </a:lnTo>
                  <a:lnTo>
                    <a:pt x="2405" y="2966"/>
                  </a:lnTo>
                  <a:lnTo>
                    <a:pt x="2440" y="2891"/>
                  </a:lnTo>
                  <a:lnTo>
                    <a:pt x="2440" y="2822"/>
                  </a:lnTo>
                  <a:lnTo>
                    <a:pt x="2388" y="2788"/>
                  </a:lnTo>
                  <a:lnTo>
                    <a:pt x="2308" y="2770"/>
                  </a:lnTo>
                  <a:lnTo>
                    <a:pt x="2244" y="2747"/>
                  </a:lnTo>
                  <a:lnTo>
                    <a:pt x="2210" y="2770"/>
                  </a:lnTo>
                  <a:lnTo>
                    <a:pt x="2153" y="2788"/>
                  </a:lnTo>
                  <a:lnTo>
                    <a:pt x="2101" y="2747"/>
                  </a:lnTo>
                  <a:lnTo>
                    <a:pt x="2055" y="2701"/>
                  </a:lnTo>
                  <a:lnTo>
                    <a:pt x="1992" y="2690"/>
                  </a:lnTo>
                  <a:lnTo>
                    <a:pt x="1929" y="2655"/>
                  </a:lnTo>
                  <a:lnTo>
                    <a:pt x="1871" y="2609"/>
                  </a:lnTo>
                  <a:lnTo>
                    <a:pt x="1854" y="2500"/>
                  </a:lnTo>
                  <a:lnTo>
                    <a:pt x="1848" y="2426"/>
                  </a:lnTo>
                  <a:lnTo>
                    <a:pt x="1900" y="2380"/>
                  </a:lnTo>
                  <a:lnTo>
                    <a:pt x="1894" y="2328"/>
                  </a:lnTo>
                  <a:lnTo>
                    <a:pt x="1877" y="2236"/>
                  </a:lnTo>
                  <a:lnTo>
                    <a:pt x="1883" y="2150"/>
                  </a:lnTo>
                  <a:lnTo>
                    <a:pt x="1871" y="2069"/>
                  </a:lnTo>
                  <a:lnTo>
                    <a:pt x="1929" y="2000"/>
                  </a:lnTo>
                  <a:lnTo>
                    <a:pt x="1975" y="1960"/>
                  </a:lnTo>
                  <a:lnTo>
                    <a:pt x="2026" y="1949"/>
                  </a:lnTo>
                  <a:lnTo>
                    <a:pt x="2009" y="1884"/>
                  </a:lnTo>
                  <a:lnTo>
                    <a:pt x="2043" y="1827"/>
                  </a:lnTo>
                  <a:lnTo>
                    <a:pt x="2095" y="1792"/>
                  </a:lnTo>
                  <a:lnTo>
                    <a:pt x="2158" y="1821"/>
                  </a:lnTo>
                  <a:lnTo>
                    <a:pt x="2239" y="1844"/>
                  </a:lnTo>
                  <a:lnTo>
                    <a:pt x="2319" y="1827"/>
                  </a:lnTo>
                  <a:lnTo>
                    <a:pt x="2394" y="1827"/>
                  </a:lnTo>
                  <a:lnTo>
                    <a:pt x="2428" y="1833"/>
                  </a:lnTo>
                  <a:lnTo>
                    <a:pt x="2445" y="1908"/>
                  </a:lnTo>
                  <a:lnTo>
                    <a:pt x="2514" y="1920"/>
                  </a:lnTo>
                  <a:lnTo>
                    <a:pt x="2583" y="1943"/>
                  </a:lnTo>
                  <a:lnTo>
                    <a:pt x="2624" y="1937"/>
                  </a:lnTo>
                  <a:lnTo>
                    <a:pt x="2653" y="1890"/>
                  </a:lnTo>
                  <a:lnTo>
                    <a:pt x="2676" y="1856"/>
                  </a:lnTo>
                  <a:lnTo>
                    <a:pt x="2739" y="1873"/>
                  </a:lnTo>
                  <a:lnTo>
                    <a:pt x="2814" y="1908"/>
                  </a:lnTo>
                  <a:lnTo>
                    <a:pt x="2894" y="1920"/>
                  </a:lnTo>
                  <a:lnTo>
                    <a:pt x="2952" y="1926"/>
                  </a:lnTo>
                  <a:lnTo>
                    <a:pt x="3020" y="1920"/>
                  </a:lnTo>
                  <a:lnTo>
                    <a:pt x="3066" y="1873"/>
                  </a:lnTo>
                  <a:lnTo>
                    <a:pt x="3089" y="1810"/>
                  </a:lnTo>
                  <a:lnTo>
                    <a:pt x="3118" y="1758"/>
                  </a:lnTo>
                  <a:lnTo>
                    <a:pt x="3089" y="1741"/>
                  </a:lnTo>
                  <a:lnTo>
                    <a:pt x="3055" y="1700"/>
                  </a:lnTo>
                  <a:lnTo>
                    <a:pt x="3015" y="1712"/>
                  </a:lnTo>
                  <a:lnTo>
                    <a:pt x="2940" y="1712"/>
                  </a:lnTo>
                  <a:lnTo>
                    <a:pt x="2888" y="1689"/>
                  </a:lnTo>
                  <a:lnTo>
                    <a:pt x="2883" y="1632"/>
                  </a:lnTo>
                  <a:lnTo>
                    <a:pt x="2860" y="1614"/>
                  </a:lnTo>
                  <a:lnTo>
                    <a:pt x="2831" y="1632"/>
                  </a:lnTo>
                  <a:lnTo>
                    <a:pt x="2843" y="1689"/>
                  </a:lnTo>
                  <a:lnTo>
                    <a:pt x="2820" y="1735"/>
                  </a:lnTo>
                  <a:lnTo>
                    <a:pt x="2762" y="1729"/>
                  </a:lnTo>
                  <a:lnTo>
                    <a:pt x="2733" y="1683"/>
                  </a:lnTo>
                  <a:lnTo>
                    <a:pt x="2716" y="1626"/>
                  </a:lnTo>
                  <a:lnTo>
                    <a:pt x="2716" y="1557"/>
                  </a:lnTo>
                  <a:lnTo>
                    <a:pt x="2682" y="1528"/>
                  </a:lnTo>
                  <a:lnTo>
                    <a:pt x="2665" y="1574"/>
                  </a:lnTo>
                  <a:lnTo>
                    <a:pt x="2670" y="1632"/>
                  </a:lnTo>
                  <a:lnTo>
                    <a:pt x="2693" y="1678"/>
                  </a:lnTo>
                  <a:lnTo>
                    <a:pt x="2733" y="1718"/>
                  </a:lnTo>
                  <a:lnTo>
                    <a:pt x="2693" y="1769"/>
                  </a:lnTo>
                  <a:lnTo>
                    <a:pt x="2653" y="1804"/>
                  </a:lnTo>
                  <a:lnTo>
                    <a:pt x="2601" y="1792"/>
                  </a:lnTo>
                  <a:lnTo>
                    <a:pt x="2601" y="1833"/>
                  </a:lnTo>
                  <a:lnTo>
                    <a:pt x="2560" y="1867"/>
                  </a:lnTo>
                  <a:lnTo>
                    <a:pt x="2509" y="1804"/>
                  </a:lnTo>
                  <a:lnTo>
                    <a:pt x="2514" y="1764"/>
                  </a:lnTo>
                  <a:lnTo>
                    <a:pt x="2577" y="1792"/>
                  </a:lnTo>
                  <a:lnTo>
                    <a:pt x="2619" y="1792"/>
                  </a:lnTo>
                  <a:lnTo>
                    <a:pt x="2670" y="1752"/>
                  </a:lnTo>
                  <a:lnTo>
                    <a:pt x="2653" y="1689"/>
                  </a:lnTo>
                  <a:lnTo>
                    <a:pt x="2607" y="1649"/>
                  </a:lnTo>
                  <a:lnTo>
                    <a:pt x="2560" y="1614"/>
                  </a:lnTo>
                  <a:lnTo>
                    <a:pt x="2509" y="1563"/>
                  </a:lnTo>
                  <a:lnTo>
                    <a:pt x="2451" y="1511"/>
                  </a:lnTo>
                  <a:lnTo>
                    <a:pt x="2451" y="1574"/>
                  </a:lnTo>
                  <a:lnTo>
                    <a:pt x="2491" y="1620"/>
                  </a:lnTo>
                  <a:lnTo>
                    <a:pt x="2480" y="1689"/>
                  </a:lnTo>
                  <a:lnTo>
                    <a:pt x="2480" y="1752"/>
                  </a:lnTo>
                  <a:lnTo>
                    <a:pt x="2422" y="1706"/>
                  </a:lnTo>
                  <a:lnTo>
                    <a:pt x="2411" y="1660"/>
                  </a:lnTo>
                  <a:lnTo>
                    <a:pt x="2440" y="1626"/>
                  </a:lnTo>
                  <a:lnTo>
                    <a:pt x="2428" y="1586"/>
                  </a:lnTo>
                  <a:lnTo>
                    <a:pt x="2457" y="1568"/>
                  </a:lnTo>
                  <a:lnTo>
                    <a:pt x="2457" y="1511"/>
                  </a:lnTo>
                  <a:lnTo>
                    <a:pt x="2411" y="1522"/>
                  </a:lnTo>
                  <a:lnTo>
                    <a:pt x="2371" y="1574"/>
                  </a:lnTo>
                  <a:lnTo>
                    <a:pt x="2319" y="1563"/>
                  </a:lnTo>
                  <a:lnTo>
                    <a:pt x="2244" y="1597"/>
                  </a:lnTo>
                  <a:lnTo>
                    <a:pt x="2233" y="1672"/>
                  </a:lnTo>
                  <a:lnTo>
                    <a:pt x="2170" y="1718"/>
                  </a:lnTo>
                  <a:lnTo>
                    <a:pt x="2101" y="1758"/>
                  </a:lnTo>
                  <a:lnTo>
                    <a:pt x="2038" y="1764"/>
                  </a:lnTo>
                  <a:lnTo>
                    <a:pt x="1975" y="1741"/>
                  </a:lnTo>
                  <a:lnTo>
                    <a:pt x="1934" y="1706"/>
                  </a:lnTo>
                  <a:lnTo>
                    <a:pt x="1963" y="1672"/>
                  </a:lnTo>
                  <a:lnTo>
                    <a:pt x="1934" y="1620"/>
                  </a:lnTo>
                  <a:lnTo>
                    <a:pt x="1980" y="1580"/>
                  </a:lnTo>
                  <a:lnTo>
                    <a:pt x="1986" y="1534"/>
                  </a:lnTo>
                  <a:lnTo>
                    <a:pt x="1986" y="1471"/>
                  </a:lnTo>
                  <a:lnTo>
                    <a:pt x="2043" y="1413"/>
                  </a:lnTo>
                  <a:lnTo>
                    <a:pt x="2130" y="1442"/>
                  </a:lnTo>
                  <a:lnTo>
                    <a:pt x="2221" y="1459"/>
                  </a:lnTo>
                  <a:lnTo>
                    <a:pt x="2256" y="1419"/>
                  </a:lnTo>
                  <a:lnTo>
                    <a:pt x="2256" y="1356"/>
                  </a:lnTo>
                  <a:lnTo>
                    <a:pt x="2216" y="1310"/>
                  </a:lnTo>
                  <a:lnTo>
                    <a:pt x="2141" y="1275"/>
                  </a:lnTo>
                  <a:lnTo>
                    <a:pt x="2181" y="1247"/>
                  </a:lnTo>
                  <a:lnTo>
                    <a:pt x="2250" y="1218"/>
                  </a:lnTo>
                  <a:lnTo>
                    <a:pt x="2262" y="1206"/>
                  </a:lnTo>
                  <a:lnTo>
                    <a:pt x="2244" y="1195"/>
                  </a:lnTo>
                  <a:lnTo>
                    <a:pt x="2187" y="1206"/>
                  </a:lnTo>
                  <a:lnTo>
                    <a:pt x="2130" y="1218"/>
                  </a:lnTo>
                  <a:lnTo>
                    <a:pt x="2095" y="1229"/>
                  </a:lnTo>
                  <a:lnTo>
                    <a:pt x="2118" y="1189"/>
                  </a:lnTo>
                  <a:lnTo>
                    <a:pt x="2130" y="1126"/>
                  </a:lnTo>
                  <a:lnTo>
                    <a:pt x="2153" y="1097"/>
                  </a:lnTo>
                  <a:lnTo>
                    <a:pt x="2164" y="1057"/>
                  </a:lnTo>
                  <a:lnTo>
                    <a:pt x="2135" y="1011"/>
                  </a:lnTo>
                  <a:lnTo>
                    <a:pt x="2095" y="1040"/>
                  </a:lnTo>
                  <a:lnTo>
                    <a:pt x="2101" y="1091"/>
                  </a:lnTo>
                  <a:lnTo>
                    <a:pt x="2095" y="1137"/>
                  </a:lnTo>
                  <a:lnTo>
                    <a:pt x="2066" y="1206"/>
                  </a:lnTo>
                  <a:lnTo>
                    <a:pt x="2009" y="1195"/>
                  </a:lnTo>
                  <a:lnTo>
                    <a:pt x="1992" y="1137"/>
                  </a:lnTo>
                  <a:lnTo>
                    <a:pt x="1957" y="1068"/>
                  </a:lnTo>
                  <a:lnTo>
                    <a:pt x="2026" y="1057"/>
                  </a:lnTo>
                  <a:lnTo>
                    <a:pt x="2049" y="1034"/>
                  </a:lnTo>
                  <a:lnTo>
                    <a:pt x="2078" y="1017"/>
                  </a:lnTo>
                  <a:lnTo>
                    <a:pt x="2078" y="988"/>
                  </a:lnTo>
                  <a:lnTo>
                    <a:pt x="2061" y="942"/>
                  </a:lnTo>
                  <a:lnTo>
                    <a:pt x="2112" y="913"/>
                  </a:lnTo>
                  <a:lnTo>
                    <a:pt x="2164" y="884"/>
                  </a:lnTo>
                  <a:lnTo>
                    <a:pt x="2198" y="907"/>
                  </a:lnTo>
                  <a:lnTo>
                    <a:pt x="2216" y="971"/>
                  </a:lnTo>
                  <a:lnTo>
                    <a:pt x="2239" y="1040"/>
                  </a:lnTo>
                  <a:lnTo>
                    <a:pt x="2273" y="1074"/>
                  </a:lnTo>
                  <a:lnTo>
                    <a:pt x="2290" y="1137"/>
                  </a:lnTo>
                  <a:lnTo>
                    <a:pt x="2262" y="1178"/>
                  </a:lnTo>
                  <a:lnTo>
                    <a:pt x="2256" y="1212"/>
                  </a:lnTo>
                  <a:lnTo>
                    <a:pt x="2308" y="1195"/>
                  </a:lnTo>
                  <a:lnTo>
                    <a:pt x="2365" y="1166"/>
                  </a:lnTo>
                  <a:lnTo>
                    <a:pt x="2388" y="1091"/>
                  </a:lnTo>
                  <a:lnTo>
                    <a:pt x="2445" y="1091"/>
                  </a:lnTo>
                  <a:lnTo>
                    <a:pt x="2474" y="1068"/>
                  </a:lnTo>
                  <a:lnTo>
                    <a:pt x="2468" y="1011"/>
                  </a:lnTo>
                  <a:lnTo>
                    <a:pt x="2440" y="953"/>
                  </a:lnTo>
                  <a:lnTo>
                    <a:pt x="2491" y="953"/>
                  </a:lnTo>
                  <a:lnTo>
                    <a:pt x="2549" y="1011"/>
                  </a:lnTo>
                  <a:lnTo>
                    <a:pt x="2601" y="1057"/>
                  </a:lnTo>
                  <a:lnTo>
                    <a:pt x="2642" y="1057"/>
                  </a:lnTo>
                  <a:lnTo>
                    <a:pt x="2710" y="1034"/>
                  </a:lnTo>
                  <a:lnTo>
                    <a:pt x="2756" y="959"/>
                  </a:lnTo>
                  <a:lnTo>
                    <a:pt x="2779" y="907"/>
                  </a:lnTo>
                  <a:lnTo>
                    <a:pt x="2883" y="930"/>
                  </a:lnTo>
                  <a:lnTo>
                    <a:pt x="2797" y="879"/>
                  </a:lnTo>
                  <a:lnTo>
                    <a:pt x="2733" y="884"/>
                  </a:lnTo>
                  <a:lnTo>
                    <a:pt x="2716" y="804"/>
                  </a:lnTo>
                  <a:lnTo>
                    <a:pt x="2716" y="758"/>
                  </a:lnTo>
                  <a:lnTo>
                    <a:pt x="2791" y="735"/>
                  </a:lnTo>
                  <a:lnTo>
                    <a:pt x="2808" y="689"/>
                  </a:lnTo>
                  <a:lnTo>
                    <a:pt x="2756" y="712"/>
                  </a:lnTo>
                  <a:lnTo>
                    <a:pt x="2693" y="752"/>
                  </a:lnTo>
                  <a:lnTo>
                    <a:pt x="2630" y="758"/>
                  </a:lnTo>
                  <a:lnTo>
                    <a:pt x="2665" y="833"/>
                  </a:lnTo>
                  <a:lnTo>
                    <a:pt x="2653" y="896"/>
                  </a:lnTo>
                  <a:lnTo>
                    <a:pt x="2653" y="948"/>
                  </a:lnTo>
                  <a:lnTo>
                    <a:pt x="2607" y="988"/>
                  </a:lnTo>
                  <a:lnTo>
                    <a:pt x="2554" y="999"/>
                  </a:lnTo>
                  <a:lnTo>
                    <a:pt x="2514" y="953"/>
                  </a:lnTo>
                  <a:lnTo>
                    <a:pt x="2520" y="907"/>
                  </a:lnTo>
                  <a:lnTo>
                    <a:pt x="2531" y="879"/>
                  </a:lnTo>
                  <a:lnTo>
                    <a:pt x="2474" y="896"/>
                  </a:lnTo>
                  <a:lnTo>
                    <a:pt x="2417" y="867"/>
                  </a:lnTo>
                  <a:lnTo>
                    <a:pt x="2388" y="827"/>
                  </a:lnTo>
                  <a:lnTo>
                    <a:pt x="2405" y="758"/>
                  </a:lnTo>
                  <a:lnTo>
                    <a:pt x="2394" y="752"/>
                  </a:lnTo>
                  <a:lnTo>
                    <a:pt x="2405" y="747"/>
                  </a:lnTo>
                  <a:lnTo>
                    <a:pt x="2411" y="741"/>
                  </a:lnTo>
                  <a:lnTo>
                    <a:pt x="1739" y="741"/>
                  </a:lnTo>
                  <a:lnTo>
                    <a:pt x="1705" y="781"/>
                  </a:lnTo>
                  <a:lnTo>
                    <a:pt x="1647" y="816"/>
                  </a:lnTo>
                  <a:lnTo>
                    <a:pt x="1590" y="793"/>
                  </a:lnTo>
                  <a:lnTo>
                    <a:pt x="1573" y="752"/>
                  </a:lnTo>
                  <a:lnTo>
                    <a:pt x="1573" y="706"/>
                  </a:lnTo>
                  <a:lnTo>
                    <a:pt x="1578" y="701"/>
                  </a:lnTo>
                  <a:lnTo>
                    <a:pt x="1441" y="701"/>
                  </a:lnTo>
                  <a:lnTo>
                    <a:pt x="1395" y="706"/>
                  </a:lnTo>
                  <a:lnTo>
                    <a:pt x="1354" y="793"/>
                  </a:lnTo>
                  <a:lnTo>
                    <a:pt x="1332" y="856"/>
                  </a:lnTo>
                  <a:lnTo>
                    <a:pt x="1314" y="913"/>
                  </a:lnTo>
                  <a:lnTo>
                    <a:pt x="1245" y="896"/>
                  </a:lnTo>
                  <a:lnTo>
                    <a:pt x="1199" y="856"/>
                  </a:lnTo>
                  <a:lnTo>
                    <a:pt x="1194" y="758"/>
                  </a:lnTo>
                  <a:lnTo>
                    <a:pt x="1165" y="660"/>
                  </a:lnTo>
                  <a:lnTo>
                    <a:pt x="1125" y="603"/>
                  </a:lnTo>
                  <a:lnTo>
                    <a:pt x="1142" y="568"/>
                  </a:lnTo>
                  <a:lnTo>
                    <a:pt x="1102" y="482"/>
                  </a:lnTo>
                  <a:lnTo>
                    <a:pt x="1067" y="453"/>
                  </a:lnTo>
                  <a:lnTo>
                    <a:pt x="1021" y="488"/>
                  </a:lnTo>
                  <a:lnTo>
                    <a:pt x="958" y="448"/>
                  </a:lnTo>
                  <a:lnTo>
                    <a:pt x="918" y="476"/>
                  </a:lnTo>
                  <a:lnTo>
                    <a:pt x="889" y="505"/>
                  </a:lnTo>
                  <a:lnTo>
                    <a:pt x="809" y="528"/>
                  </a:lnTo>
                  <a:lnTo>
                    <a:pt x="763" y="586"/>
                  </a:lnTo>
                  <a:lnTo>
                    <a:pt x="855" y="597"/>
                  </a:lnTo>
                  <a:lnTo>
                    <a:pt x="935" y="632"/>
                  </a:lnTo>
                  <a:lnTo>
                    <a:pt x="970" y="689"/>
                  </a:lnTo>
                  <a:lnTo>
                    <a:pt x="1021" y="747"/>
                  </a:lnTo>
                  <a:lnTo>
                    <a:pt x="1027" y="839"/>
                  </a:lnTo>
                  <a:lnTo>
                    <a:pt x="1010" y="930"/>
                  </a:lnTo>
                  <a:lnTo>
                    <a:pt x="958" y="953"/>
                  </a:lnTo>
                  <a:lnTo>
                    <a:pt x="901" y="896"/>
                  </a:lnTo>
                  <a:lnTo>
                    <a:pt x="792" y="890"/>
                  </a:lnTo>
                  <a:lnTo>
                    <a:pt x="792" y="850"/>
                  </a:lnTo>
                  <a:lnTo>
                    <a:pt x="889" y="827"/>
                  </a:lnTo>
                  <a:lnTo>
                    <a:pt x="895" y="775"/>
                  </a:lnTo>
                  <a:lnTo>
                    <a:pt x="884" y="752"/>
                  </a:lnTo>
                  <a:lnTo>
                    <a:pt x="849" y="804"/>
                  </a:lnTo>
                  <a:lnTo>
                    <a:pt x="803" y="764"/>
                  </a:lnTo>
                  <a:lnTo>
                    <a:pt x="866" y="712"/>
                  </a:lnTo>
                  <a:lnTo>
                    <a:pt x="901" y="758"/>
                  </a:lnTo>
                  <a:lnTo>
                    <a:pt x="849" y="706"/>
                  </a:lnTo>
                  <a:lnTo>
                    <a:pt x="792" y="706"/>
                  </a:lnTo>
                  <a:lnTo>
                    <a:pt x="752" y="747"/>
                  </a:lnTo>
                  <a:lnTo>
                    <a:pt x="757" y="804"/>
                  </a:lnTo>
                  <a:lnTo>
                    <a:pt x="757" y="879"/>
                  </a:lnTo>
                  <a:lnTo>
                    <a:pt x="746" y="936"/>
                  </a:lnTo>
                  <a:lnTo>
                    <a:pt x="757" y="994"/>
                  </a:lnTo>
                  <a:lnTo>
                    <a:pt x="700" y="948"/>
                  </a:lnTo>
                  <a:lnTo>
                    <a:pt x="677" y="982"/>
                  </a:lnTo>
                  <a:lnTo>
                    <a:pt x="654" y="942"/>
                  </a:lnTo>
                  <a:lnTo>
                    <a:pt x="677" y="884"/>
                  </a:lnTo>
                  <a:lnTo>
                    <a:pt x="625" y="907"/>
                  </a:lnTo>
                  <a:lnTo>
                    <a:pt x="597" y="953"/>
                  </a:lnTo>
                  <a:lnTo>
                    <a:pt x="556" y="999"/>
                  </a:lnTo>
                  <a:lnTo>
                    <a:pt x="556" y="1045"/>
                  </a:lnTo>
                  <a:lnTo>
                    <a:pt x="493" y="1045"/>
                  </a:lnTo>
                  <a:lnTo>
                    <a:pt x="470" y="1074"/>
                  </a:lnTo>
                  <a:lnTo>
                    <a:pt x="493" y="1149"/>
                  </a:lnTo>
                  <a:lnTo>
                    <a:pt x="562" y="1189"/>
                  </a:lnTo>
                  <a:lnTo>
                    <a:pt x="597" y="1218"/>
                  </a:lnTo>
                  <a:lnTo>
                    <a:pt x="591" y="1287"/>
                  </a:lnTo>
                  <a:lnTo>
                    <a:pt x="637" y="1270"/>
                  </a:lnTo>
                  <a:lnTo>
                    <a:pt x="643" y="1206"/>
                  </a:lnTo>
                  <a:lnTo>
                    <a:pt x="717" y="1206"/>
                  </a:lnTo>
                  <a:lnTo>
                    <a:pt x="763" y="1149"/>
                  </a:lnTo>
                  <a:lnTo>
                    <a:pt x="769" y="1091"/>
                  </a:lnTo>
                  <a:lnTo>
                    <a:pt x="763" y="988"/>
                  </a:lnTo>
                  <a:lnTo>
                    <a:pt x="792" y="919"/>
                  </a:lnTo>
                  <a:lnTo>
                    <a:pt x="832" y="879"/>
                  </a:lnTo>
                  <a:lnTo>
                    <a:pt x="895" y="913"/>
                  </a:lnTo>
                  <a:lnTo>
                    <a:pt x="964" y="953"/>
                  </a:lnTo>
                  <a:lnTo>
                    <a:pt x="1004" y="988"/>
                  </a:lnTo>
                  <a:lnTo>
                    <a:pt x="1039" y="1045"/>
                  </a:lnTo>
                  <a:lnTo>
                    <a:pt x="1090" y="1074"/>
                  </a:lnTo>
                  <a:lnTo>
                    <a:pt x="1108" y="1149"/>
                  </a:lnTo>
                  <a:lnTo>
                    <a:pt x="1113" y="1195"/>
                  </a:lnTo>
                  <a:lnTo>
                    <a:pt x="1165" y="1241"/>
                  </a:lnTo>
                  <a:lnTo>
                    <a:pt x="1125" y="1292"/>
                  </a:lnTo>
                  <a:lnTo>
                    <a:pt x="1062" y="1292"/>
                  </a:lnTo>
                  <a:lnTo>
                    <a:pt x="987" y="1327"/>
                  </a:lnTo>
                  <a:lnTo>
                    <a:pt x="935" y="1367"/>
                  </a:lnTo>
                  <a:lnTo>
                    <a:pt x="855" y="1407"/>
                  </a:lnTo>
                  <a:lnTo>
                    <a:pt x="792" y="1471"/>
                  </a:lnTo>
                  <a:lnTo>
                    <a:pt x="729" y="1522"/>
                  </a:lnTo>
                  <a:lnTo>
                    <a:pt x="717" y="1574"/>
                  </a:lnTo>
                  <a:lnTo>
                    <a:pt x="717" y="1614"/>
                  </a:lnTo>
                  <a:lnTo>
                    <a:pt x="677" y="1655"/>
                  </a:lnTo>
                  <a:lnTo>
                    <a:pt x="683" y="1700"/>
                  </a:lnTo>
                  <a:lnTo>
                    <a:pt x="631" y="1758"/>
                  </a:lnTo>
                  <a:lnTo>
                    <a:pt x="631" y="1827"/>
                  </a:lnTo>
                  <a:lnTo>
                    <a:pt x="660" y="1884"/>
                  </a:lnTo>
                  <a:lnTo>
                    <a:pt x="643" y="1931"/>
                  </a:lnTo>
                  <a:lnTo>
                    <a:pt x="591" y="1908"/>
                  </a:lnTo>
                  <a:lnTo>
                    <a:pt x="579" y="1827"/>
                  </a:lnTo>
                  <a:lnTo>
                    <a:pt x="528" y="1792"/>
                  </a:lnTo>
                  <a:lnTo>
                    <a:pt x="488" y="1804"/>
                  </a:lnTo>
                  <a:lnTo>
                    <a:pt x="459" y="1856"/>
                  </a:lnTo>
                  <a:lnTo>
                    <a:pt x="407" y="1827"/>
                  </a:lnTo>
                  <a:lnTo>
                    <a:pt x="355" y="1827"/>
                  </a:lnTo>
                  <a:lnTo>
                    <a:pt x="298" y="1879"/>
                  </a:lnTo>
                  <a:lnTo>
                    <a:pt x="281" y="1931"/>
                  </a:lnTo>
                  <a:lnTo>
                    <a:pt x="264" y="1983"/>
                  </a:lnTo>
                  <a:lnTo>
                    <a:pt x="252" y="2064"/>
                  </a:lnTo>
                  <a:lnTo>
                    <a:pt x="298" y="2115"/>
                  </a:lnTo>
                  <a:lnTo>
                    <a:pt x="344" y="2075"/>
                  </a:lnTo>
                  <a:lnTo>
                    <a:pt x="401" y="2075"/>
                  </a:lnTo>
                  <a:lnTo>
                    <a:pt x="407" y="2144"/>
                  </a:lnTo>
                  <a:lnTo>
                    <a:pt x="373" y="2190"/>
                  </a:lnTo>
                  <a:lnTo>
                    <a:pt x="442" y="2201"/>
                  </a:lnTo>
                  <a:lnTo>
                    <a:pt x="470" y="2219"/>
                  </a:lnTo>
                  <a:lnTo>
                    <a:pt x="488" y="2282"/>
                  </a:lnTo>
                  <a:lnTo>
                    <a:pt x="545" y="2305"/>
                  </a:lnTo>
                  <a:lnTo>
                    <a:pt x="608" y="2357"/>
                  </a:lnTo>
                  <a:lnTo>
                    <a:pt x="654" y="2328"/>
                  </a:lnTo>
                  <a:lnTo>
                    <a:pt x="757" y="2357"/>
                  </a:lnTo>
                  <a:lnTo>
                    <a:pt x="838" y="2362"/>
                  </a:lnTo>
                  <a:lnTo>
                    <a:pt x="953" y="2426"/>
                  </a:lnTo>
                  <a:lnTo>
                    <a:pt x="970" y="2477"/>
                  </a:lnTo>
                  <a:lnTo>
                    <a:pt x="1039" y="2535"/>
                  </a:lnTo>
                  <a:lnTo>
                    <a:pt x="1073" y="2615"/>
                  </a:lnTo>
                  <a:lnTo>
                    <a:pt x="1154" y="2655"/>
                  </a:lnTo>
                  <a:lnTo>
                    <a:pt x="1222" y="2667"/>
                  </a:lnTo>
                  <a:lnTo>
                    <a:pt x="1297" y="2736"/>
                  </a:lnTo>
                  <a:lnTo>
                    <a:pt x="1389" y="2736"/>
                  </a:lnTo>
                  <a:lnTo>
                    <a:pt x="1395" y="2793"/>
                  </a:lnTo>
                  <a:lnTo>
                    <a:pt x="1395" y="2851"/>
                  </a:lnTo>
                  <a:lnTo>
                    <a:pt x="1354" y="2908"/>
                  </a:lnTo>
                  <a:lnTo>
                    <a:pt x="1343" y="2977"/>
                  </a:lnTo>
                  <a:lnTo>
                    <a:pt x="1332" y="3052"/>
                  </a:lnTo>
                  <a:lnTo>
                    <a:pt x="1280" y="3121"/>
                  </a:lnTo>
                  <a:lnTo>
                    <a:pt x="1211" y="3161"/>
                  </a:lnTo>
                  <a:lnTo>
                    <a:pt x="1148" y="3173"/>
                  </a:lnTo>
                  <a:lnTo>
                    <a:pt x="1171" y="3230"/>
                  </a:lnTo>
                  <a:lnTo>
                    <a:pt x="1113" y="3299"/>
                  </a:lnTo>
                  <a:lnTo>
                    <a:pt x="1067" y="3357"/>
                  </a:lnTo>
                  <a:lnTo>
                    <a:pt x="1010" y="3391"/>
                  </a:lnTo>
                  <a:lnTo>
                    <a:pt x="958" y="3477"/>
                  </a:lnTo>
                  <a:lnTo>
                    <a:pt x="918" y="3535"/>
                  </a:lnTo>
                  <a:lnTo>
                    <a:pt x="866" y="3569"/>
                  </a:lnTo>
                  <a:lnTo>
                    <a:pt x="832" y="3621"/>
                  </a:lnTo>
                  <a:lnTo>
                    <a:pt x="803" y="3673"/>
                  </a:lnTo>
                  <a:lnTo>
                    <a:pt x="769" y="3724"/>
                  </a:lnTo>
                  <a:lnTo>
                    <a:pt x="780" y="3770"/>
                  </a:lnTo>
                  <a:lnTo>
                    <a:pt x="752" y="3811"/>
                  </a:lnTo>
                  <a:lnTo>
                    <a:pt x="706" y="3742"/>
                  </a:lnTo>
                  <a:lnTo>
                    <a:pt x="648" y="3684"/>
                  </a:lnTo>
                  <a:lnTo>
                    <a:pt x="631" y="3609"/>
                  </a:lnTo>
                  <a:lnTo>
                    <a:pt x="631" y="3535"/>
                  </a:lnTo>
                  <a:lnTo>
                    <a:pt x="625" y="3454"/>
                  </a:lnTo>
                  <a:lnTo>
                    <a:pt x="648" y="3339"/>
                  </a:lnTo>
                  <a:lnTo>
                    <a:pt x="654" y="3230"/>
                  </a:lnTo>
                  <a:lnTo>
                    <a:pt x="643" y="3127"/>
                  </a:lnTo>
                  <a:lnTo>
                    <a:pt x="625" y="3052"/>
                  </a:lnTo>
                  <a:lnTo>
                    <a:pt x="556" y="2977"/>
                  </a:lnTo>
                  <a:lnTo>
                    <a:pt x="493" y="2920"/>
                  </a:lnTo>
                  <a:lnTo>
                    <a:pt x="442" y="2845"/>
                  </a:lnTo>
                  <a:lnTo>
                    <a:pt x="430" y="2747"/>
                  </a:lnTo>
                  <a:lnTo>
                    <a:pt x="459" y="2684"/>
                  </a:lnTo>
                  <a:lnTo>
                    <a:pt x="459" y="2627"/>
                  </a:lnTo>
                  <a:lnTo>
                    <a:pt x="493" y="2529"/>
                  </a:lnTo>
                  <a:lnTo>
                    <a:pt x="533" y="2454"/>
                  </a:lnTo>
                  <a:lnTo>
                    <a:pt x="591" y="2408"/>
                  </a:lnTo>
                  <a:lnTo>
                    <a:pt x="614" y="2362"/>
                  </a:lnTo>
                  <a:lnTo>
                    <a:pt x="545" y="2345"/>
                  </a:lnTo>
                  <a:lnTo>
                    <a:pt x="499" y="2357"/>
                  </a:lnTo>
                  <a:lnTo>
                    <a:pt x="453" y="2339"/>
                  </a:lnTo>
                  <a:lnTo>
                    <a:pt x="396" y="2293"/>
                  </a:lnTo>
                  <a:lnTo>
                    <a:pt x="338" y="2242"/>
                  </a:lnTo>
                  <a:lnTo>
                    <a:pt x="304" y="2184"/>
                  </a:lnTo>
                  <a:lnTo>
                    <a:pt x="281" y="2173"/>
                  </a:lnTo>
                  <a:lnTo>
                    <a:pt x="246" y="2190"/>
                  </a:lnTo>
                  <a:lnTo>
                    <a:pt x="189" y="2155"/>
                  </a:lnTo>
                  <a:lnTo>
                    <a:pt x="143" y="2104"/>
                  </a:lnTo>
                  <a:lnTo>
                    <a:pt x="126" y="2064"/>
                  </a:lnTo>
                  <a:lnTo>
                    <a:pt x="126" y="1989"/>
                  </a:lnTo>
                  <a:lnTo>
                    <a:pt x="114" y="1949"/>
                  </a:lnTo>
                  <a:lnTo>
                    <a:pt x="63" y="1914"/>
                  </a:lnTo>
                  <a:lnTo>
                    <a:pt x="63" y="1943"/>
                  </a:lnTo>
                  <a:lnTo>
                    <a:pt x="86" y="1995"/>
                  </a:lnTo>
                  <a:lnTo>
                    <a:pt x="97" y="2046"/>
                  </a:lnTo>
                  <a:lnTo>
                    <a:pt x="45" y="2012"/>
                  </a:lnTo>
                  <a:lnTo>
                    <a:pt x="17" y="1977"/>
                  </a:lnTo>
                  <a:lnTo>
                    <a:pt x="5" y="1920"/>
                  </a:lnTo>
                  <a:lnTo>
                    <a:pt x="11" y="1821"/>
                  </a:lnTo>
                  <a:lnTo>
                    <a:pt x="0" y="1706"/>
                  </a:lnTo>
                  <a:lnTo>
                    <a:pt x="11" y="1557"/>
                  </a:lnTo>
                  <a:lnTo>
                    <a:pt x="45" y="1327"/>
                  </a:lnTo>
                  <a:lnTo>
                    <a:pt x="120" y="1103"/>
                  </a:lnTo>
                  <a:lnTo>
                    <a:pt x="235" y="839"/>
                  </a:lnTo>
                  <a:lnTo>
                    <a:pt x="321" y="655"/>
                  </a:lnTo>
                  <a:lnTo>
                    <a:pt x="453" y="453"/>
                  </a:lnTo>
                  <a:lnTo>
                    <a:pt x="562" y="333"/>
                  </a:lnTo>
                  <a:close/>
                </a:path>
              </a:pathLst>
            </a:custGeom>
            <a:solidFill>
              <a:srgbClr val="315fa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 txBox="1"/>
          <p:nvPr/>
        </p:nvSpPr>
        <p:spPr>
          <a:xfrm>
            <a:off x="685800" y="362412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by‚ÆOracl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632720" y="6470640"/>
            <a:ext cx="1215000" cy="152640"/>
            <a:chOff x="7632720" y="6470640"/>
            <a:chExt cx="1215000" cy="152640"/>
          </a:xfrm>
        </p:grpSpPr>
        <p:grpSp>
          <p:nvGrpSpPr>
            <p:cNvPr id="281" name=""/>
            <p:cNvGrpSpPr/>
            <p:nvPr/>
          </p:nvGrpSpPr>
          <p:grpSpPr>
            <a:xfrm>
              <a:off x="8813880" y="6472080"/>
              <a:ext cx="33840" cy="32400"/>
              <a:chOff x="8813880" y="6472080"/>
              <a:chExt cx="33840" cy="32400"/>
            </a:xfrm>
          </p:grpSpPr>
          <p:sp>
            <p:nvSpPr>
              <p:cNvPr id="282" name=""/>
              <p:cNvSpPr/>
              <p:nvPr/>
            </p:nvSpPr>
            <p:spPr>
              <a:xfrm>
                <a:off x="8813880" y="647208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w="76" h="76">
                    <a:moveTo>
                      <a:pt x="37" y="7"/>
                    </a:moveTo>
                    <a:lnTo>
                      <a:pt x="43" y="7"/>
                    </a:lnTo>
                    <a:lnTo>
                      <a:pt x="49" y="8"/>
                    </a:lnTo>
                    <a:lnTo>
                      <a:pt x="54" y="11"/>
                    </a:lnTo>
                    <a:lnTo>
                      <a:pt x="60" y="16"/>
                    </a:lnTo>
                    <a:lnTo>
                      <a:pt x="64" y="21"/>
                    </a:lnTo>
                    <a:lnTo>
                      <a:pt x="67" y="26"/>
                    </a:lnTo>
                    <a:lnTo>
                      <a:pt x="69" y="32"/>
                    </a:lnTo>
                    <a:lnTo>
                      <a:pt x="69" y="38"/>
                    </a:lnTo>
                    <a:lnTo>
                      <a:pt x="69" y="42"/>
                    </a:lnTo>
                    <a:lnTo>
                      <a:pt x="67" y="48"/>
                    </a:lnTo>
                    <a:lnTo>
                      <a:pt x="64" y="54"/>
                    </a:lnTo>
                    <a:lnTo>
                      <a:pt x="60" y="58"/>
                    </a:lnTo>
                    <a:lnTo>
                      <a:pt x="54" y="63"/>
                    </a:lnTo>
                    <a:lnTo>
                      <a:pt x="49" y="66"/>
                    </a:lnTo>
                    <a:lnTo>
                      <a:pt x="43" y="67"/>
                    </a:lnTo>
                    <a:lnTo>
                      <a:pt x="37" y="67"/>
                    </a:lnTo>
                    <a:lnTo>
                      <a:pt x="33" y="67"/>
                    </a:lnTo>
                    <a:lnTo>
                      <a:pt x="27" y="66"/>
                    </a:lnTo>
                    <a:lnTo>
                      <a:pt x="20" y="63"/>
                    </a:lnTo>
                    <a:lnTo>
                      <a:pt x="16" y="58"/>
                    </a:lnTo>
                    <a:lnTo>
                      <a:pt x="12" y="54"/>
                    </a:lnTo>
                    <a:lnTo>
                      <a:pt x="9" y="48"/>
                    </a:lnTo>
                    <a:lnTo>
                      <a:pt x="7" y="42"/>
                    </a:lnTo>
                    <a:lnTo>
                      <a:pt x="7" y="38"/>
                    </a:lnTo>
                    <a:lnTo>
                      <a:pt x="7" y="32"/>
                    </a:lnTo>
                    <a:lnTo>
                      <a:pt x="9" y="26"/>
                    </a:lnTo>
                    <a:lnTo>
                      <a:pt x="12" y="21"/>
                    </a:lnTo>
                    <a:lnTo>
                      <a:pt x="16" y="16"/>
                    </a:lnTo>
                    <a:lnTo>
                      <a:pt x="20" y="11"/>
                    </a:lnTo>
                    <a:lnTo>
                      <a:pt x="27" y="8"/>
                    </a:lnTo>
                    <a:lnTo>
                      <a:pt x="33" y="7"/>
                    </a:lnTo>
                    <a:lnTo>
                      <a:pt x="37" y="7"/>
                    </a:lnTo>
                    <a:lnTo>
                      <a:pt x="37" y="0"/>
                    </a:lnTo>
                    <a:lnTo>
                      <a:pt x="30" y="0"/>
                    </a:lnTo>
                    <a:lnTo>
                      <a:pt x="23" y="2"/>
                    </a:lnTo>
                    <a:lnTo>
                      <a:pt x="16" y="5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1" y="51"/>
                    </a:lnTo>
                    <a:lnTo>
                      <a:pt x="6" y="60"/>
                    </a:lnTo>
                    <a:lnTo>
                      <a:pt x="10" y="64"/>
                    </a:lnTo>
                    <a:lnTo>
                      <a:pt x="16" y="69"/>
                    </a:lnTo>
                    <a:lnTo>
                      <a:pt x="23" y="73"/>
                    </a:lnTo>
                    <a:lnTo>
                      <a:pt x="30" y="75"/>
                    </a:lnTo>
                    <a:lnTo>
                      <a:pt x="37" y="76"/>
                    </a:lnTo>
                    <a:lnTo>
                      <a:pt x="46" y="75"/>
                    </a:lnTo>
                    <a:lnTo>
                      <a:pt x="53" y="73"/>
                    </a:lnTo>
                    <a:lnTo>
                      <a:pt x="60" y="69"/>
                    </a:lnTo>
                    <a:lnTo>
                      <a:pt x="66" y="64"/>
                    </a:lnTo>
                    <a:lnTo>
                      <a:pt x="70" y="60"/>
                    </a:lnTo>
                    <a:lnTo>
                      <a:pt x="75" y="51"/>
                    </a:lnTo>
                    <a:lnTo>
                      <a:pt x="76" y="45"/>
                    </a:lnTo>
                    <a:lnTo>
                      <a:pt x="76" y="38"/>
                    </a:lnTo>
                    <a:lnTo>
                      <a:pt x="76" y="30"/>
                    </a:lnTo>
                    <a:lnTo>
                      <a:pt x="75" y="23"/>
                    </a:lnTo>
                    <a:lnTo>
                      <a:pt x="70" y="16"/>
                    </a:lnTo>
                    <a:lnTo>
                      <a:pt x="66" y="10"/>
                    </a:lnTo>
                    <a:lnTo>
                      <a:pt x="60" y="5"/>
                    </a:lnTo>
                    <a:lnTo>
                      <a:pt x="53" y="2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37" y="7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821800" y="6478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2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9" y="5"/>
                    </a:lnTo>
                    <a:lnTo>
                      <a:pt x="65" y="10"/>
                    </a:lnTo>
                    <a:lnTo>
                      <a:pt x="69" y="17"/>
                    </a:lnTo>
                    <a:lnTo>
                      <a:pt x="69" y="21"/>
                    </a:lnTo>
                    <a:lnTo>
                      <a:pt x="69" y="23"/>
                    </a:lnTo>
                    <a:lnTo>
                      <a:pt x="69" y="28"/>
                    </a:lnTo>
                    <a:lnTo>
                      <a:pt x="65" y="33"/>
                    </a:lnTo>
                    <a:lnTo>
                      <a:pt x="55" y="38"/>
                    </a:lnTo>
                    <a:lnTo>
                      <a:pt x="55" y="41"/>
                    </a:lnTo>
                    <a:lnTo>
                      <a:pt x="51" y="41"/>
                    </a:lnTo>
                    <a:lnTo>
                      <a:pt x="72" y="72"/>
                    </a:lnTo>
                    <a:lnTo>
                      <a:pt x="51" y="72"/>
                    </a:lnTo>
                    <a:lnTo>
                      <a:pt x="31" y="43"/>
                    </a:lnTo>
                    <a:lnTo>
                      <a:pt x="16" y="43"/>
                    </a:lnTo>
                    <a:lnTo>
                      <a:pt x="16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6" y="10"/>
                    </a:lnTo>
                    <a:lnTo>
                      <a:pt x="16" y="31"/>
                    </a:lnTo>
                    <a:lnTo>
                      <a:pt x="31" y="31"/>
                    </a:lnTo>
                    <a:lnTo>
                      <a:pt x="41" y="31"/>
                    </a:lnTo>
                    <a:lnTo>
                      <a:pt x="48" y="28"/>
                    </a:lnTo>
                    <a:lnTo>
                      <a:pt x="48" y="26"/>
                    </a:lnTo>
                    <a:lnTo>
                      <a:pt x="48" y="21"/>
                    </a:lnTo>
                    <a:lnTo>
                      <a:pt x="48" y="15"/>
                    </a:lnTo>
                    <a:lnTo>
                      <a:pt x="41" y="12"/>
                    </a:lnTo>
                    <a:lnTo>
                      <a:pt x="34" y="10"/>
                    </a:lnTo>
                    <a:lnTo>
                      <a:pt x="24" y="10"/>
                    </a:lnTo>
                    <a:lnTo>
                      <a:pt x="1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8066160" y="6470640"/>
              <a:ext cx="219600" cy="152640"/>
            </a:xfrm>
            <a:custGeom>
              <a:avLst/>
              <a:gdLst/>
              <a:ahLst/>
              <a:rect l="0" t="0" r="r" b="b"/>
              <a:pathLst>
                <a:path w="610" h="424">
                  <a:moveTo>
                    <a:pt x="202" y="276"/>
                  </a:moveTo>
                  <a:lnTo>
                    <a:pt x="418" y="276"/>
                  </a:lnTo>
                  <a:lnTo>
                    <a:pt x="304" y="93"/>
                  </a:lnTo>
                  <a:lnTo>
                    <a:pt x="95" y="424"/>
                  </a:lnTo>
                  <a:lnTo>
                    <a:pt x="0" y="424"/>
                  </a:lnTo>
                  <a:lnTo>
                    <a:pt x="255" y="26"/>
                  </a:lnTo>
                  <a:lnTo>
                    <a:pt x="264" y="15"/>
                  </a:lnTo>
                  <a:lnTo>
                    <a:pt x="275" y="7"/>
                  </a:lnTo>
                  <a:lnTo>
                    <a:pt x="290" y="1"/>
                  </a:lnTo>
                  <a:lnTo>
                    <a:pt x="304" y="0"/>
                  </a:lnTo>
                  <a:lnTo>
                    <a:pt x="318" y="1"/>
                  </a:lnTo>
                  <a:lnTo>
                    <a:pt x="333" y="7"/>
                  </a:lnTo>
                  <a:lnTo>
                    <a:pt x="344" y="15"/>
                  </a:lnTo>
                  <a:lnTo>
                    <a:pt x="353" y="25"/>
                  </a:lnTo>
                  <a:lnTo>
                    <a:pt x="355" y="26"/>
                  </a:lnTo>
                  <a:lnTo>
                    <a:pt x="356" y="30"/>
                  </a:lnTo>
                  <a:lnTo>
                    <a:pt x="360" y="34"/>
                  </a:lnTo>
                  <a:lnTo>
                    <a:pt x="364" y="42"/>
                  </a:lnTo>
                  <a:lnTo>
                    <a:pt x="371" y="52"/>
                  </a:lnTo>
                  <a:lnTo>
                    <a:pt x="377" y="61"/>
                  </a:lnTo>
                  <a:lnTo>
                    <a:pt x="385" y="74"/>
                  </a:lnTo>
                  <a:lnTo>
                    <a:pt x="393" y="87"/>
                  </a:lnTo>
                  <a:lnTo>
                    <a:pt x="412" y="117"/>
                  </a:lnTo>
                  <a:lnTo>
                    <a:pt x="434" y="152"/>
                  </a:lnTo>
                  <a:lnTo>
                    <a:pt x="458" y="187"/>
                  </a:lnTo>
                  <a:lnTo>
                    <a:pt x="481" y="226"/>
                  </a:lnTo>
                  <a:lnTo>
                    <a:pt x="505" y="262"/>
                  </a:lnTo>
                  <a:lnTo>
                    <a:pt x="529" y="299"/>
                  </a:lnTo>
                  <a:lnTo>
                    <a:pt x="550" y="332"/>
                  </a:lnTo>
                  <a:lnTo>
                    <a:pt x="570" y="362"/>
                  </a:lnTo>
                  <a:lnTo>
                    <a:pt x="578" y="375"/>
                  </a:lnTo>
                  <a:lnTo>
                    <a:pt x="586" y="387"/>
                  </a:lnTo>
                  <a:lnTo>
                    <a:pt x="593" y="398"/>
                  </a:lnTo>
                  <a:lnTo>
                    <a:pt x="599" y="406"/>
                  </a:lnTo>
                  <a:lnTo>
                    <a:pt x="604" y="414"/>
                  </a:lnTo>
                  <a:lnTo>
                    <a:pt x="607" y="419"/>
                  </a:lnTo>
                  <a:lnTo>
                    <a:pt x="608" y="424"/>
                  </a:lnTo>
                  <a:lnTo>
                    <a:pt x="610" y="424"/>
                  </a:lnTo>
                  <a:lnTo>
                    <a:pt x="515" y="424"/>
                  </a:lnTo>
                  <a:lnTo>
                    <a:pt x="470" y="351"/>
                  </a:lnTo>
                  <a:lnTo>
                    <a:pt x="250" y="351"/>
                  </a:lnTo>
                  <a:lnTo>
                    <a:pt x="202" y="276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66120" y="6472080"/>
              <a:ext cx="163800" cy="151200"/>
            </a:xfrm>
            <a:custGeom>
              <a:avLst/>
              <a:gdLst/>
              <a:ahLst/>
              <a:rect l="0" t="0" r="r" b="b"/>
              <a:pathLst>
                <a:path w="455" h="420">
                  <a:moveTo>
                    <a:pt x="79" y="347"/>
                  </a:moveTo>
                  <a:lnTo>
                    <a:pt x="79" y="0"/>
                  </a:lnTo>
                  <a:lnTo>
                    <a:pt x="0" y="0"/>
                  </a:lnTo>
                  <a:lnTo>
                    <a:pt x="0" y="381"/>
                  </a:lnTo>
                  <a:lnTo>
                    <a:pt x="0" y="389"/>
                  </a:lnTo>
                  <a:lnTo>
                    <a:pt x="1" y="395"/>
                  </a:lnTo>
                  <a:lnTo>
                    <a:pt x="6" y="403"/>
                  </a:lnTo>
                  <a:lnTo>
                    <a:pt x="11" y="409"/>
                  </a:lnTo>
                  <a:lnTo>
                    <a:pt x="17" y="414"/>
                  </a:lnTo>
                  <a:lnTo>
                    <a:pt x="23" y="417"/>
                  </a:lnTo>
                  <a:lnTo>
                    <a:pt x="31" y="420"/>
                  </a:lnTo>
                  <a:lnTo>
                    <a:pt x="41" y="420"/>
                  </a:lnTo>
                  <a:lnTo>
                    <a:pt x="407" y="420"/>
                  </a:lnTo>
                  <a:lnTo>
                    <a:pt x="455" y="347"/>
                  </a:lnTo>
                  <a:lnTo>
                    <a:pt x="79" y="347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888320" y="6472080"/>
              <a:ext cx="176400" cy="151200"/>
            </a:xfrm>
            <a:custGeom>
              <a:avLst/>
              <a:gdLst/>
              <a:ahLst/>
              <a:rect l="0" t="0" r="r" b="b"/>
              <a:pathLst>
                <a:path w="490" h="420">
                  <a:moveTo>
                    <a:pt x="350" y="285"/>
                  </a:moveTo>
                  <a:lnTo>
                    <a:pt x="364" y="283"/>
                  </a:lnTo>
                  <a:lnTo>
                    <a:pt x="379" y="281"/>
                  </a:lnTo>
                  <a:lnTo>
                    <a:pt x="391" y="278"/>
                  </a:lnTo>
                  <a:lnTo>
                    <a:pt x="404" y="273"/>
                  </a:lnTo>
                  <a:lnTo>
                    <a:pt x="416" y="267"/>
                  </a:lnTo>
                  <a:lnTo>
                    <a:pt x="429" y="259"/>
                  </a:lnTo>
                  <a:lnTo>
                    <a:pt x="440" y="251"/>
                  </a:lnTo>
                  <a:lnTo>
                    <a:pt x="449" y="242"/>
                  </a:lnTo>
                  <a:lnTo>
                    <a:pt x="459" y="232"/>
                  </a:lnTo>
                  <a:lnTo>
                    <a:pt x="466" y="221"/>
                  </a:lnTo>
                  <a:lnTo>
                    <a:pt x="473" y="210"/>
                  </a:lnTo>
                  <a:lnTo>
                    <a:pt x="479" y="197"/>
                  </a:lnTo>
                  <a:lnTo>
                    <a:pt x="484" y="185"/>
                  </a:lnTo>
                  <a:lnTo>
                    <a:pt x="487" y="170"/>
                  </a:lnTo>
                  <a:lnTo>
                    <a:pt x="490" y="156"/>
                  </a:lnTo>
                  <a:lnTo>
                    <a:pt x="490" y="142"/>
                  </a:lnTo>
                  <a:lnTo>
                    <a:pt x="490" y="127"/>
                  </a:lnTo>
                  <a:lnTo>
                    <a:pt x="487" y="113"/>
                  </a:lnTo>
                  <a:lnTo>
                    <a:pt x="484" y="99"/>
                  </a:lnTo>
                  <a:lnTo>
                    <a:pt x="479" y="87"/>
                  </a:lnTo>
                  <a:lnTo>
                    <a:pt x="473" y="74"/>
                  </a:lnTo>
                  <a:lnTo>
                    <a:pt x="466" y="61"/>
                  </a:lnTo>
                  <a:lnTo>
                    <a:pt x="459" y="50"/>
                  </a:lnTo>
                  <a:lnTo>
                    <a:pt x="449" y="41"/>
                  </a:lnTo>
                  <a:lnTo>
                    <a:pt x="440" y="31"/>
                  </a:lnTo>
                  <a:lnTo>
                    <a:pt x="429" y="23"/>
                  </a:lnTo>
                  <a:lnTo>
                    <a:pt x="416" y="17"/>
                  </a:lnTo>
                  <a:lnTo>
                    <a:pt x="404" y="11"/>
                  </a:lnTo>
                  <a:lnTo>
                    <a:pt x="391" y="6"/>
                  </a:lnTo>
                  <a:lnTo>
                    <a:pt x="379" y="3"/>
                  </a:lnTo>
                  <a:lnTo>
                    <a:pt x="364" y="0"/>
                  </a:lnTo>
                  <a:lnTo>
                    <a:pt x="350" y="0"/>
                  </a:lnTo>
                  <a:lnTo>
                    <a:pt x="0" y="0"/>
                  </a:lnTo>
                  <a:lnTo>
                    <a:pt x="0" y="420"/>
                  </a:lnTo>
                  <a:lnTo>
                    <a:pt x="80" y="420"/>
                  </a:lnTo>
                  <a:lnTo>
                    <a:pt x="80" y="74"/>
                  </a:lnTo>
                  <a:lnTo>
                    <a:pt x="344" y="74"/>
                  </a:lnTo>
                  <a:lnTo>
                    <a:pt x="358" y="74"/>
                  </a:lnTo>
                  <a:lnTo>
                    <a:pt x="371" y="79"/>
                  </a:lnTo>
                  <a:lnTo>
                    <a:pt x="382" y="85"/>
                  </a:lnTo>
                  <a:lnTo>
                    <a:pt x="393" y="93"/>
                  </a:lnTo>
                  <a:lnTo>
                    <a:pt x="401" y="103"/>
                  </a:lnTo>
                  <a:lnTo>
                    <a:pt x="407" y="116"/>
                  </a:lnTo>
                  <a:lnTo>
                    <a:pt x="410" y="129"/>
                  </a:lnTo>
                  <a:lnTo>
                    <a:pt x="412" y="142"/>
                  </a:lnTo>
                  <a:lnTo>
                    <a:pt x="410" y="156"/>
                  </a:lnTo>
                  <a:lnTo>
                    <a:pt x="407" y="169"/>
                  </a:lnTo>
                  <a:lnTo>
                    <a:pt x="401" y="180"/>
                  </a:lnTo>
                  <a:lnTo>
                    <a:pt x="393" y="191"/>
                  </a:lnTo>
                  <a:lnTo>
                    <a:pt x="382" y="199"/>
                  </a:lnTo>
                  <a:lnTo>
                    <a:pt x="371" y="205"/>
                  </a:lnTo>
                  <a:lnTo>
                    <a:pt x="358" y="208"/>
                  </a:lnTo>
                  <a:lnTo>
                    <a:pt x="344" y="210"/>
                  </a:lnTo>
                  <a:lnTo>
                    <a:pt x="119" y="210"/>
                  </a:lnTo>
                  <a:lnTo>
                    <a:pt x="358" y="420"/>
                  </a:lnTo>
                  <a:lnTo>
                    <a:pt x="474" y="420"/>
                  </a:lnTo>
                  <a:lnTo>
                    <a:pt x="313" y="285"/>
                  </a:lnTo>
                  <a:lnTo>
                    <a:pt x="350" y="285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7632720" y="6472080"/>
              <a:ext cx="238320" cy="151200"/>
              <a:chOff x="7632720" y="6472080"/>
              <a:chExt cx="238320" cy="151200"/>
            </a:xfrm>
          </p:grpSpPr>
          <p:sp>
            <p:nvSpPr>
              <p:cNvPr id="288" name=""/>
              <p:cNvSpPr/>
              <p:nvPr/>
            </p:nvSpPr>
            <p:spPr>
              <a:xfrm>
                <a:off x="7745400" y="6472080"/>
                <a:ext cx="125640" cy="151200"/>
              </a:xfrm>
              <a:custGeom>
                <a:avLst/>
                <a:gdLst/>
                <a:ahLst/>
                <a:rect l="0" t="0" r="r" b="b"/>
                <a:pathLst>
                  <a:path w="349" h="420">
                    <a:moveTo>
                      <a:pt x="0" y="347"/>
                    </a:moveTo>
                    <a:lnTo>
                      <a:pt x="135" y="347"/>
                    </a:lnTo>
                    <a:lnTo>
                      <a:pt x="149" y="346"/>
                    </a:lnTo>
                    <a:lnTo>
                      <a:pt x="162" y="344"/>
                    </a:lnTo>
                    <a:lnTo>
                      <a:pt x="174" y="341"/>
                    </a:lnTo>
                    <a:lnTo>
                      <a:pt x="188" y="336"/>
                    </a:lnTo>
                    <a:lnTo>
                      <a:pt x="212" y="324"/>
                    </a:lnTo>
                    <a:lnTo>
                      <a:pt x="231" y="307"/>
                    </a:lnTo>
                    <a:lnTo>
                      <a:pt x="248" y="286"/>
                    </a:lnTo>
                    <a:lnTo>
                      <a:pt x="261" y="262"/>
                    </a:lnTo>
                    <a:lnTo>
                      <a:pt x="264" y="251"/>
                    </a:lnTo>
                    <a:lnTo>
                      <a:pt x="268" y="237"/>
                    </a:lnTo>
                    <a:lnTo>
                      <a:pt x="270" y="224"/>
                    </a:lnTo>
                    <a:lnTo>
                      <a:pt x="270" y="210"/>
                    </a:lnTo>
                    <a:lnTo>
                      <a:pt x="270" y="196"/>
                    </a:lnTo>
                    <a:lnTo>
                      <a:pt x="268" y="183"/>
                    </a:lnTo>
                    <a:lnTo>
                      <a:pt x="264" y="170"/>
                    </a:lnTo>
                    <a:lnTo>
                      <a:pt x="261" y="158"/>
                    </a:lnTo>
                    <a:lnTo>
                      <a:pt x="248" y="134"/>
                    </a:lnTo>
                    <a:lnTo>
                      <a:pt x="231" y="115"/>
                    </a:lnTo>
                    <a:lnTo>
                      <a:pt x="212" y="96"/>
                    </a:lnTo>
                    <a:lnTo>
                      <a:pt x="188" y="84"/>
                    </a:lnTo>
                    <a:lnTo>
                      <a:pt x="174" y="79"/>
                    </a:lnTo>
                    <a:lnTo>
                      <a:pt x="162" y="76"/>
                    </a:lnTo>
                    <a:lnTo>
                      <a:pt x="149" y="74"/>
                    </a:lnTo>
                    <a:lnTo>
                      <a:pt x="135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40" y="0"/>
                    </a:lnTo>
                    <a:lnTo>
                      <a:pt x="162" y="1"/>
                    </a:lnTo>
                    <a:lnTo>
                      <a:pt x="183" y="4"/>
                    </a:lnTo>
                    <a:lnTo>
                      <a:pt x="202" y="9"/>
                    </a:lnTo>
                    <a:lnTo>
                      <a:pt x="223" y="15"/>
                    </a:lnTo>
                    <a:lnTo>
                      <a:pt x="240" y="25"/>
                    </a:lnTo>
                    <a:lnTo>
                      <a:pt x="257" y="36"/>
                    </a:lnTo>
                    <a:lnTo>
                      <a:pt x="273" y="47"/>
                    </a:lnTo>
                    <a:lnTo>
                      <a:pt x="289" y="61"/>
                    </a:lnTo>
                    <a:lnTo>
                      <a:pt x="302" y="76"/>
                    </a:lnTo>
                    <a:lnTo>
                      <a:pt x="314" y="92"/>
                    </a:lnTo>
                    <a:lnTo>
                      <a:pt x="324" y="110"/>
                    </a:lnTo>
                    <a:lnTo>
                      <a:pt x="333" y="129"/>
                    </a:lnTo>
                    <a:lnTo>
                      <a:pt x="339" y="148"/>
                    </a:lnTo>
                    <a:lnTo>
                      <a:pt x="346" y="167"/>
                    </a:lnTo>
                    <a:lnTo>
                      <a:pt x="349" y="189"/>
                    </a:lnTo>
                    <a:lnTo>
                      <a:pt x="349" y="210"/>
                    </a:lnTo>
                    <a:lnTo>
                      <a:pt x="349" y="232"/>
                    </a:lnTo>
                    <a:lnTo>
                      <a:pt x="346" y="253"/>
                    </a:lnTo>
                    <a:lnTo>
                      <a:pt x="339" y="272"/>
                    </a:lnTo>
                    <a:lnTo>
                      <a:pt x="333" y="292"/>
                    </a:lnTo>
                    <a:lnTo>
                      <a:pt x="324" y="310"/>
                    </a:lnTo>
                    <a:lnTo>
                      <a:pt x="314" y="328"/>
                    </a:lnTo>
                    <a:lnTo>
                      <a:pt x="302" y="344"/>
                    </a:lnTo>
                    <a:lnTo>
                      <a:pt x="289" y="360"/>
                    </a:lnTo>
                    <a:lnTo>
                      <a:pt x="273" y="373"/>
                    </a:lnTo>
                    <a:lnTo>
                      <a:pt x="257" y="386"/>
                    </a:lnTo>
                    <a:lnTo>
                      <a:pt x="240" y="395"/>
                    </a:lnTo>
                    <a:lnTo>
                      <a:pt x="223" y="405"/>
                    </a:lnTo>
                    <a:lnTo>
                      <a:pt x="202" y="411"/>
                    </a:lnTo>
                    <a:lnTo>
                      <a:pt x="183" y="417"/>
                    </a:lnTo>
                    <a:lnTo>
                      <a:pt x="162" y="420"/>
                    </a:lnTo>
                    <a:lnTo>
                      <a:pt x="140" y="420"/>
                    </a:lnTo>
                    <a:lnTo>
                      <a:pt x="0" y="420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32720" y="6472080"/>
                <a:ext cx="127440" cy="151200"/>
              </a:xfrm>
              <a:custGeom>
                <a:avLst/>
                <a:gdLst/>
                <a:ahLst/>
                <a:rect l="0" t="0" r="r" b="b"/>
                <a:pathLst>
                  <a:path w="354" h="420">
                    <a:moveTo>
                      <a:pt x="354" y="420"/>
                    </a:moveTo>
                    <a:lnTo>
                      <a:pt x="213" y="420"/>
                    </a:lnTo>
                    <a:lnTo>
                      <a:pt x="190" y="420"/>
                    </a:lnTo>
                    <a:lnTo>
                      <a:pt x="170" y="417"/>
                    </a:lnTo>
                    <a:lnTo>
                      <a:pt x="149" y="411"/>
                    </a:lnTo>
                    <a:lnTo>
                      <a:pt x="130" y="405"/>
                    </a:lnTo>
                    <a:lnTo>
                      <a:pt x="112" y="395"/>
                    </a:lnTo>
                    <a:lnTo>
                      <a:pt x="95" y="386"/>
                    </a:lnTo>
                    <a:lnTo>
                      <a:pt x="78" y="373"/>
                    </a:lnTo>
                    <a:lnTo>
                      <a:pt x="62" y="360"/>
                    </a:lnTo>
                    <a:lnTo>
                      <a:pt x="49" y="344"/>
                    </a:lnTo>
                    <a:lnTo>
                      <a:pt x="36" y="328"/>
                    </a:lnTo>
                    <a:lnTo>
                      <a:pt x="25" y="310"/>
                    </a:lnTo>
                    <a:lnTo>
                      <a:pt x="17" y="292"/>
                    </a:lnTo>
                    <a:lnTo>
                      <a:pt x="9" y="272"/>
                    </a:lnTo>
                    <a:lnTo>
                      <a:pt x="4" y="253"/>
                    </a:lnTo>
                    <a:lnTo>
                      <a:pt x="1" y="232"/>
                    </a:lnTo>
                    <a:lnTo>
                      <a:pt x="0" y="210"/>
                    </a:lnTo>
                    <a:lnTo>
                      <a:pt x="1" y="189"/>
                    </a:lnTo>
                    <a:lnTo>
                      <a:pt x="4" y="167"/>
                    </a:lnTo>
                    <a:lnTo>
                      <a:pt x="9" y="148"/>
                    </a:lnTo>
                    <a:lnTo>
                      <a:pt x="17" y="129"/>
                    </a:lnTo>
                    <a:lnTo>
                      <a:pt x="25" y="110"/>
                    </a:lnTo>
                    <a:lnTo>
                      <a:pt x="36" y="92"/>
                    </a:lnTo>
                    <a:lnTo>
                      <a:pt x="49" y="76"/>
                    </a:lnTo>
                    <a:lnTo>
                      <a:pt x="62" y="61"/>
                    </a:lnTo>
                    <a:lnTo>
                      <a:pt x="78" y="47"/>
                    </a:lnTo>
                    <a:lnTo>
                      <a:pt x="95" y="36"/>
                    </a:lnTo>
                    <a:lnTo>
                      <a:pt x="112" y="25"/>
                    </a:lnTo>
                    <a:lnTo>
                      <a:pt x="130" y="15"/>
                    </a:lnTo>
                    <a:lnTo>
                      <a:pt x="149" y="9"/>
                    </a:lnTo>
                    <a:lnTo>
                      <a:pt x="170" y="4"/>
                    </a:lnTo>
                    <a:lnTo>
                      <a:pt x="190" y="1"/>
                    </a:lnTo>
                    <a:lnTo>
                      <a:pt x="213" y="0"/>
                    </a:lnTo>
                    <a:lnTo>
                      <a:pt x="354" y="0"/>
                    </a:lnTo>
                    <a:lnTo>
                      <a:pt x="354" y="74"/>
                    </a:lnTo>
                    <a:lnTo>
                      <a:pt x="218" y="74"/>
                    </a:lnTo>
                    <a:lnTo>
                      <a:pt x="203" y="74"/>
                    </a:lnTo>
                    <a:lnTo>
                      <a:pt x="190" y="76"/>
                    </a:lnTo>
                    <a:lnTo>
                      <a:pt x="178" y="79"/>
                    </a:lnTo>
                    <a:lnTo>
                      <a:pt x="165" y="84"/>
                    </a:lnTo>
                    <a:lnTo>
                      <a:pt x="141" y="96"/>
                    </a:lnTo>
                    <a:lnTo>
                      <a:pt x="122" y="115"/>
                    </a:lnTo>
                    <a:lnTo>
                      <a:pt x="104" y="134"/>
                    </a:lnTo>
                    <a:lnTo>
                      <a:pt x="91" y="158"/>
                    </a:lnTo>
                    <a:lnTo>
                      <a:pt x="86" y="170"/>
                    </a:lnTo>
                    <a:lnTo>
                      <a:pt x="83" y="183"/>
                    </a:lnTo>
                    <a:lnTo>
                      <a:pt x="81" y="196"/>
                    </a:lnTo>
                    <a:lnTo>
                      <a:pt x="81" y="210"/>
                    </a:lnTo>
                    <a:lnTo>
                      <a:pt x="81" y="224"/>
                    </a:lnTo>
                    <a:lnTo>
                      <a:pt x="83" y="237"/>
                    </a:lnTo>
                    <a:lnTo>
                      <a:pt x="86" y="251"/>
                    </a:lnTo>
                    <a:lnTo>
                      <a:pt x="91" y="262"/>
                    </a:lnTo>
                    <a:lnTo>
                      <a:pt x="104" y="286"/>
                    </a:lnTo>
                    <a:lnTo>
                      <a:pt x="122" y="307"/>
                    </a:lnTo>
                    <a:lnTo>
                      <a:pt x="141" y="324"/>
                    </a:lnTo>
                    <a:lnTo>
                      <a:pt x="165" y="336"/>
                    </a:lnTo>
                    <a:lnTo>
                      <a:pt x="178" y="341"/>
                    </a:lnTo>
                    <a:lnTo>
                      <a:pt x="190" y="344"/>
                    </a:lnTo>
                    <a:lnTo>
                      <a:pt x="203" y="346"/>
                    </a:lnTo>
                    <a:lnTo>
                      <a:pt x="218" y="347"/>
                    </a:lnTo>
                    <a:lnTo>
                      <a:pt x="354" y="347"/>
                    </a:lnTo>
                    <a:lnTo>
                      <a:pt x="354" y="420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8271000" y="6472080"/>
              <a:ext cx="182880" cy="151200"/>
            </a:xfrm>
            <a:custGeom>
              <a:avLst/>
              <a:gdLst/>
              <a:ahLst/>
              <a:rect l="0" t="0" r="r" b="b"/>
              <a:pathLst>
                <a:path w="508" h="420">
                  <a:moveTo>
                    <a:pt x="210" y="420"/>
                  </a:moveTo>
                  <a:lnTo>
                    <a:pt x="188" y="420"/>
                  </a:lnTo>
                  <a:lnTo>
                    <a:pt x="167" y="417"/>
                  </a:lnTo>
                  <a:lnTo>
                    <a:pt x="146" y="411"/>
                  </a:lnTo>
                  <a:lnTo>
                    <a:pt x="127" y="405"/>
                  </a:lnTo>
                  <a:lnTo>
                    <a:pt x="110" y="395"/>
                  </a:lnTo>
                  <a:lnTo>
                    <a:pt x="92" y="386"/>
                  </a:lnTo>
                  <a:lnTo>
                    <a:pt x="76" y="373"/>
                  </a:lnTo>
                  <a:lnTo>
                    <a:pt x="60" y="360"/>
                  </a:lnTo>
                  <a:lnTo>
                    <a:pt x="47" y="344"/>
                  </a:lnTo>
                  <a:lnTo>
                    <a:pt x="35" y="328"/>
                  </a:lnTo>
                  <a:lnTo>
                    <a:pt x="25" y="310"/>
                  </a:lnTo>
                  <a:lnTo>
                    <a:pt x="15" y="292"/>
                  </a:lnTo>
                  <a:lnTo>
                    <a:pt x="9" y="272"/>
                  </a:lnTo>
                  <a:lnTo>
                    <a:pt x="3" y="253"/>
                  </a:lnTo>
                  <a:lnTo>
                    <a:pt x="0" y="232"/>
                  </a:lnTo>
                  <a:lnTo>
                    <a:pt x="0" y="210"/>
                  </a:lnTo>
                  <a:lnTo>
                    <a:pt x="0" y="189"/>
                  </a:lnTo>
                  <a:lnTo>
                    <a:pt x="3" y="167"/>
                  </a:lnTo>
                  <a:lnTo>
                    <a:pt x="9" y="148"/>
                  </a:lnTo>
                  <a:lnTo>
                    <a:pt x="15" y="129"/>
                  </a:lnTo>
                  <a:lnTo>
                    <a:pt x="25" y="110"/>
                  </a:lnTo>
                  <a:lnTo>
                    <a:pt x="35" y="92"/>
                  </a:lnTo>
                  <a:lnTo>
                    <a:pt x="47" y="76"/>
                  </a:lnTo>
                  <a:lnTo>
                    <a:pt x="60" y="61"/>
                  </a:lnTo>
                  <a:lnTo>
                    <a:pt x="76" y="47"/>
                  </a:lnTo>
                  <a:lnTo>
                    <a:pt x="92" y="36"/>
                  </a:lnTo>
                  <a:lnTo>
                    <a:pt x="110" y="25"/>
                  </a:lnTo>
                  <a:lnTo>
                    <a:pt x="127" y="15"/>
                  </a:lnTo>
                  <a:lnTo>
                    <a:pt x="146" y="9"/>
                  </a:lnTo>
                  <a:lnTo>
                    <a:pt x="167" y="4"/>
                  </a:lnTo>
                  <a:lnTo>
                    <a:pt x="188" y="1"/>
                  </a:lnTo>
                  <a:lnTo>
                    <a:pt x="210" y="0"/>
                  </a:lnTo>
                  <a:lnTo>
                    <a:pt x="501" y="0"/>
                  </a:lnTo>
                  <a:lnTo>
                    <a:pt x="453" y="74"/>
                  </a:lnTo>
                  <a:lnTo>
                    <a:pt x="215" y="74"/>
                  </a:lnTo>
                  <a:lnTo>
                    <a:pt x="200" y="74"/>
                  </a:lnTo>
                  <a:lnTo>
                    <a:pt x="188" y="76"/>
                  </a:lnTo>
                  <a:lnTo>
                    <a:pt x="175" y="79"/>
                  </a:lnTo>
                  <a:lnTo>
                    <a:pt x="162" y="84"/>
                  </a:lnTo>
                  <a:lnTo>
                    <a:pt x="138" y="96"/>
                  </a:lnTo>
                  <a:lnTo>
                    <a:pt x="119" y="115"/>
                  </a:lnTo>
                  <a:lnTo>
                    <a:pt x="102" y="134"/>
                  </a:lnTo>
                  <a:lnTo>
                    <a:pt x="89" y="158"/>
                  </a:lnTo>
                  <a:lnTo>
                    <a:pt x="84" y="170"/>
                  </a:lnTo>
                  <a:lnTo>
                    <a:pt x="81" y="183"/>
                  </a:lnTo>
                  <a:lnTo>
                    <a:pt x="79" y="196"/>
                  </a:lnTo>
                  <a:lnTo>
                    <a:pt x="79" y="210"/>
                  </a:lnTo>
                  <a:lnTo>
                    <a:pt x="79" y="224"/>
                  </a:lnTo>
                  <a:lnTo>
                    <a:pt x="81" y="237"/>
                  </a:lnTo>
                  <a:lnTo>
                    <a:pt x="84" y="251"/>
                  </a:lnTo>
                  <a:lnTo>
                    <a:pt x="89" y="262"/>
                  </a:lnTo>
                  <a:lnTo>
                    <a:pt x="102" y="286"/>
                  </a:lnTo>
                  <a:lnTo>
                    <a:pt x="119" y="307"/>
                  </a:lnTo>
                  <a:lnTo>
                    <a:pt x="138" y="324"/>
                  </a:lnTo>
                  <a:lnTo>
                    <a:pt x="162" y="336"/>
                  </a:lnTo>
                  <a:lnTo>
                    <a:pt x="175" y="341"/>
                  </a:lnTo>
                  <a:lnTo>
                    <a:pt x="188" y="344"/>
                  </a:lnTo>
                  <a:lnTo>
                    <a:pt x="200" y="346"/>
                  </a:lnTo>
                  <a:lnTo>
                    <a:pt x="215" y="347"/>
                  </a:lnTo>
                  <a:lnTo>
                    <a:pt x="508" y="347"/>
                  </a:lnTo>
                  <a:lnTo>
                    <a:pt x="461" y="420"/>
                  </a:lnTo>
                  <a:lnTo>
                    <a:pt x="210" y="420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623440" y="6472080"/>
              <a:ext cx="184680" cy="151200"/>
            </a:xfrm>
            <a:custGeom>
              <a:avLst/>
              <a:gdLst/>
              <a:ahLst/>
              <a:rect l="0" t="0" r="r" b="b"/>
              <a:pathLst>
                <a:path w="513" h="420">
                  <a:moveTo>
                    <a:pt x="217" y="347"/>
                  </a:moveTo>
                  <a:lnTo>
                    <a:pt x="195" y="344"/>
                  </a:lnTo>
                  <a:lnTo>
                    <a:pt x="172" y="339"/>
                  </a:lnTo>
                  <a:lnTo>
                    <a:pt x="153" y="330"/>
                  </a:lnTo>
                  <a:lnTo>
                    <a:pt x="134" y="319"/>
                  </a:lnTo>
                  <a:lnTo>
                    <a:pt x="117" y="304"/>
                  </a:lnTo>
                  <a:lnTo>
                    <a:pt x="104" y="286"/>
                  </a:lnTo>
                  <a:lnTo>
                    <a:pt x="93" y="267"/>
                  </a:lnTo>
                  <a:lnTo>
                    <a:pt x="84" y="246"/>
                  </a:lnTo>
                  <a:lnTo>
                    <a:pt x="434" y="246"/>
                  </a:lnTo>
                  <a:lnTo>
                    <a:pt x="483" y="173"/>
                  </a:lnTo>
                  <a:lnTo>
                    <a:pt x="84" y="173"/>
                  </a:lnTo>
                  <a:lnTo>
                    <a:pt x="93" y="153"/>
                  </a:lnTo>
                  <a:lnTo>
                    <a:pt x="104" y="134"/>
                  </a:lnTo>
                  <a:lnTo>
                    <a:pt x="117" y="116"/>
                  </a:lnTo>
                  <a:lnTo>
                    <a:pt x="134" y="101"/>
                  </a:lnTo>
                  <a:lnTo>
                    <a:pt x="153" y="90"/>
                  </a:lnTo>
                  <a:lnTo>
                    <a:pt x="172" y="80"/>
                  </a:lnTo>
                  <a:lnTo>
                    <a:pt x="195" y="76"/>
                  </a:lnTo>
                  <a:lnTo>
                    <a:pt x="217" y="74"/>
                  </a:lnTo>
                  <a:lnTo>
                    <a:pt x="459" y="74"/>
                  </a:lnTo>
                  <a:lnTo>
                    <a:pt x="505" y="0"/>
                  </a:lnTo>
                  <a:lnTo>
                    <a:pt x="212" y="0"/>
                  </a:lnTo>
                  <a:lnTo>
                    <a:pt x="190" y="1"/>
                  </a:lnTo>
                  <a:lnTo>
                    <a:pt x="169" y="4"/>
                  </a:lnTo>
                  <a:lnTo>
                    <a:pt x="150" y="9"/>
                  </a:lnTo>
                  <a:lnTo>
                    <a:pt x="129" y="15"/>
                  </a:lnTo>
                  <a:lnTo>
                    <a:pt x="110" y="25"/>
                  </a:lnTo>
                  <a:lnTo>
                    <a:pt x="93" y="36"/>
                  </a:lnTo>
                  <a:lnTo>
                    <a:pt x="76" y="47"/>
                  </a:lnTo>
                  <a:lnTo>
                    <a:pt x="60" y="61"/>
                  </a:lnTo>
                  <a:lnTo>
                    <a:pt x="48" y="76"/>
                  </a:lnTo>
                  <a:lnTo>
                    <a:pt x="35" y="92"/>
                  </a:lnTo>
                  <a:lnTo>
                    <a:pt x="25" y="110"/>
                  </a:lnTo>
                  <a:lnTo>
                    <a:pt x="16" y="129"/>
                  </a:lnTo>
                  <a:lnTo>
                    <a:pt x="9" y="148"/>
                  </a:lnTo>
                  <a:lnTo>
                    <a:pt x="3" y="167"/>
                  </a:lnTo>
                  <a:lnTo>
                    <a:pt x="0" y="189"/>
                  </a:lnTo>
                  <a:lnTo>
                    <a:pt x="0" y="210"/>
                  </a:lnTo>
                  <a:lnTo>
                    <a:pt x="0" y="232"/>
                  </a:lnTo>
                  <a:lnTo>
                    <a:pt x="3" y="253"/>
                  </a:lnTo>
                  <a:lnTo>
                    <a:pt x="9" y="272"/>
                  </a:lnTo>
                  <a:lnTo>
                    <a:pt x="16" y="292"/>
                  </a:lnTo>
                  <a:lnTo>
                    <a:pt x="25" y="310"/>
                  </a:lnTo>
                  <a:lnTo>
                    <a:pt x="35" y="328"/>
                  </a:lnTo>
                  <a:lnTo>
                    <a:pt x="48" y="344"/>
                  </a:lnTo>
                  <a:lnTo>
                    <a:pt x="60" y="360"/>
                  </a:lnTo>
                  <a:lnTo>
                    <a:pt x="76" y="373"/>
                  </a:lnTo>
                  <a:lnTo>
                    <a:pt x="93" y="386"/>
                  </a:lnTo>
                  <a:lnTo>
                    <a:pt x="110" y="395"/>
                  </a:lnTo>
                  <a:lnTo>
                    <a:pt x="129" y="405"/>
                  </a:lnTo>
                  <a:lnTo>
                    <a:pt x="150" y="411"/>
                  </a:lnTo>
                  <a:lnTo>
                    <a:pt x="169" y="417"/>
                  </a:lnTo>
                  <a:lnTo>
                    <a:pt x="190" y="420"/>
                  </a:lnTo>
                  <a:lnTo>
                    <a:pt x="212" y="420"/>
                  </a:lnTo>
                  <a:lnTo>
                    <a:pt x="465" y="420"/>
                  </a:lnTo>
                  <a:lnTo>
                    <a:pt x="513" y="347"/>
                  </a:lnTo>
                  <a:lnTo>
                    <a:pt x="217" y="347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 txBox="1"/>
          <p:nvPr/>
        </p:nvSpPr>
        <p:spPr>
          <a:xfrm>
            <a:off x="1763640" y="5043600"/>
            <a:ext cx="5616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Ý‚â‚Í‚ç ‚Æ‚¨‚é—‚É‚Ù‚ñ‚¨‚ç‚­‚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‚Å‚ÌƒVƒXƒeƒ€ŠJ”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æ1¢‘ãFƒzƒXƒgã‚Å‚ÌC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*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*Forms/Report 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æ2¢‘ãFWindows‚Æ‚ÌƒNƒ‰ƒCƒAƒ“ƒg^ƒT[ƒo[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Basic{Oracle Objects for 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 Developeri4GLƒc[ƒ‹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æ3¢‘ãFWeb‚ÌŠˆ—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 Application ServeriCOR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‘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æ3¢‘ãƒAƒvƒŠŠJ”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AS‚Ìê‡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eŽíƒJ[ƒgƒŠƒbƒW‚É‚æ‚éuŠJ”­‚ÌŽ©—R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8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/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lnSpc>
                <a:spcPct val="80000"/>
              </a:lnSpc>
              <a:spcBef>
                <a:spcPts val="720"/>
              </a:spcBef>
              <a:buClr>
                <a:srgbClr val="009688"/>
              </a:buClr>
              <a:buSzPct val="50000"/>
              <a:buFont typeface="ZapfDingbats"/>
              <a:buChar char="l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Iƒ‰ƒNƒ‹EƒlƒCƒeƒBƒu‚ÈŽè‘±‚«Œ^Œ¾Œ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lnSpc>
                <a:spcPct val="80000"/>
              </a:lnSpc>
              <a:spcBef>
                <a:spcPts val="720"/>
              </a:spcBef>
              <a:buClr>
                <a:srgbClr val="009688"/>
              </a:buClr>
              <a:buSzPct val="50000"/>
              <a:buFont typeface="ZapfDingbats"/>
              <a:buChar char="l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EPL/1ƒ‰ƒCƒ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8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lnSpc>
                <a:spcPct val="80000"/>
              </a:lnSpc>
              <a:spcBef>
                <a:spcPts val="720"/>
              </a:spcBef>
              <a:buClr>
                <a:srgbClr val="009688"/>
              </a:buClr>
              <a:buSzPct val="50000"/>
              <a:buFont typeface="ZapfDingbats"/>
              <a:buChar char="l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ÆŽ©ƒNƒ‰ƒ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lnSpc>
                <a:spcPct val="80000"/>
              </a:lnSpc>
              <a:spcBef>
                <a:spcPts val="720"/>
              </a:spcBef>
              <a:buClr>
                <a:srgbClr val="009688"/>
              </a:buClr>
              <a:buSzPct val="50000"/>
              <a:buFont typeface="ZapfDingbats"/>
              <a:buChar char="l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D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8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8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Times New Roman"/>
                <a:ea typeface="Times New Roman"/>
              </a:rPr>
              <a:t>CO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8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863960" y="4878360"/>
            <a:ext cx="3851280" cy="9716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¡‚Ì‚Æ‚±‚ëAŒˆ’è“I‚ÈŠJ”­Žè–@EŽè’i‚ª–³‚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1523880"/>
            <a:ext cx="9142560" cy="358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15fa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4861080"/>
            <a:ext cx="91425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6840" y="3005280"/>
            <a:ext cx="895176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by‚Å‚à‚¢‚¢‚À‚á‚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812960"/>
            <a:ext cx="91425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203720" y="1309680"/>
            <a:ext cx="768240" cy="763560"/>
            <a:chOff x="4203720" y="1309680"/>
            <a:chExt cx="768240" cy="763560"/>
          </a:xfrm>
        </p:grpSpPr>
        <p:sp>
          <p:nvSpPr>
            <p:cNvPr id="303" name=""/>
            <p:cNvSpPr/>
            <p:nvPr/>
          </p:nvSpPr>
          <p:spPr>
            <a:xfrm>
              <a:off x="4205160" y="1309680"/>
              <a:ext cx="766800" cy="76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66a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11640" y="1417680"/>
              <a:ext cx="756000" cy="543240"/>
            </a:xfrm>
            <a:custGeom>
              <a:avLst/>
              <a:gdLst/>
              <a:ahLst/>
              <a:rect l="0" t="0" r="r" b="b"/>
              <a:pathLst>
                <a:path w="2100" h="1509">
                  <a:moveTo>
                    <a:pt x="228" y="130"/>
                  </a:moveTo>
                  <a:lnTo>
                    <a:pt x="251" y="135"/>
                  </a:lnTo>
                  <a:lnTo>
                    <a:pt x="269" y="116"/>
                  </a:lnTo>
                  <a:lnTo>
                    <a:pt x="290" y="105"/>
                  </a:lnTo>
                  <a:lnTo>
                    <a:pt x="304" y="91"/>
                  </a:lnTo>
                  <a:lnTo>
                    <a:pt x="329" y="75"/>
                  </a:lnTo>
                  <a:lnTo>
                    <a:pt x="345" y="68"/>
                  </a:lnTo>
                  <a:lnTo>
                    <a:pt x="365" y="57"/>
                  </a:lnTo>
                  <a:lnTo>
                    <a:pt x="384" y="57"/>
                  </a:lnTo>
                  <a:lnTo>
                    <a:pt x="397" y="54"/>
                  </a:lnTo>
                  <a:lnTo>
                    <a:pt x="413" y="54"/>
                  </a:lnTo>
                  <a:lnTo>
                    <a:pt x="423" y="43"/>
                  </a:lnTo>
                  <a:lnTo>
                    <a:pt x="443" y="48"/>
                  </a:lnTo>
                  <a:lnTo>
                    <a:pt x="464" y="38"/>
                  </a:lnTo>
                  <a:lnTo>
                    <a:pt x="480" y="43"/>
                  </a:lnTo>
                  <a:lnTo>
                    <a:pt x="489" y="52"/>
                  </a:lnTo>
                  <a:lnTo>
                    <a:pt x="480" y="57"/>
                  </a:lnTo>
                  <a:lnTo>
                    <a:pt x="464" y="54"/>
                  </a:lnTo>
                  <a:lnTo>
                    <a:pt x="448" y="66"/>
                  </a:lnTo>
                  <a:lnTo>
                    <a:pt x="436" y="77"/>
                  </a:lnTo>
                  <a:lnTo>
                    <a:pt x="434" y="93"/>
                  </a:lnTo>
                  <a:lnTo>
                    <a:pt x="418" y="96"/>
                  </a:lnTo>
                  <a:lnTo>
                    <a:pt x="397" y="105"/>
                  </a:lnTo>
                  <a:lnTo>
                    <a:pt x="393" y="128"/>
                  </a:lnTo>
                  <a:lnTo>
                    <a:pt x="390" y="146"/>
                  </a:lnTo>
                  <a:lnTo>
                    <a:pt x="384" y="162"/>
                  </a:lnTo>
                  <a:lnTo>
                    <a:pt x="393" y="173"/>
                  </a:lnTo>
                  <a:lnTo>
                    <a:pt x="404" y="137"/>
                  </a:lnTo>
                  <a:lnTo>
                    <a:pt x="418" y="130"/>
                  </a:lnTo>
                  <a:lnTo>
                    <a:pt x="434" y="112"/>
                  </a:lnTo>
                  <a:lnTo>
                    <a:pt x="445" y="89"/>
                  </a:lnTo>
                  <a:lnTo>
                    <a:pt x="473" y="80"/>
                  </a:lnTo>
                  <a:lnTo>
                    <a:pt x="496" y="70"/>
                  </a:lnTo>
                  <a:lnTo>
                    <a:pt x="509" y="50"/>
                  </a:lnTo>
                  <a:lnTo>
                    <a:pt x="530" y="50"/>
                  </a:lnTo>
                  <a:lnTo>
                    <a:pt x="571" y="48"/>
                  </a:lnTo>
                  <a:lnTo>
                    <a:pt x="617" y="38"/>
                  </a:lnTo>
                  <a:lnTo>
                    <a:pt x="633" y="36"/>
                  </a:lnTo>
                  <a:lnTo>
                    <a:pt x="653" y="36"/>
                  </a:lnTo>
                  <a:lnTo>
                    <a:pt x="674" y="36"/>
                  </a:lnTo>
                  <a:lnTo>
                    <a:pt x="692" y="43"/>
                  </a:lnTo>
                  <a:lnTo>
                    <a:pt x="715" y="64"/>
                  </a:lnTo>
                  <a:lnTo>
                    <a:pt x="706" y="66"/>
                  </a:lnTo>
                  <a:lnTo>
                    <a:pt x="681" y="73"/>
                  </a:lnTo>
                  <a:lnTo>
                    <a:pt x="683" y="93"/>
                  </a:lnTo>
                  <a:lnTo>
                    <a:pt x="704" y="96"/>
                  </a:lnTo>
                  <a:lnTo>
                    <a:pt x="713" y="96"/>
                  </a:lnTo>
                  <a:lnTo>
                    <a:pt x="711" y="114"/>
                  </a:lnTo>
                  <a:lnTo>
                    <a:pt x="683" y="135"/>
                  </a:lnTo>
                  <a:lnTo>
                    <a:pt x="669" y="137"/>
                  </a:lnTo>
                  <a:lnTo>
                    <a:pt x="672" y="151"/>
                  </a:lnTo>
                  <a:lnTo>
                    <a:pt x="679" y="160"/>
                  </a:lnTo>
                  <a:lnTo>
                    <a:pt x="669" y="173"/>
                  </a:lnTo>
                  <a:lnTo>
                    <a:pt x="681" y="192"/>
                  </a:lnTo>
                  <a:lnTo>
                    <a:pt x="658" y="199"/>
                  </a:lnTo>
                  <a:lnTo>
                    <a:pt x="633" y="208"/>
                  </a:lnTo>
                  <a:lnTo>
                    <a:pt x="631" y="233"/>
                  </a:lnTo>
                  <a:lnTo>
                    <a:pt x="617" y="251"/>
                  </a:lnTo>
                  <a:lnTo>
                    <a:pt x="603" y="265"/>
                  </a:lnTo>
                  <a:lnTo>
                    <a:pt x="583" y="276"/>
                  </a:lnTo>
                  <a:lnTo>
                    <a:pt x="631" y="276"/>
                  </a:lnTo>
                  <a:lnTo>
                    <a:pt x="658" y="276"/>
                  </a:lnTo>
                  <a:lnTo>
                    <a:pt x="672" y="283"/>
                  </a:lnTo>
                  <a:lnTo>
                    <a:pt x="692" y="272"/>
                  </a:lnTo>
                  <a:lnTo>
                    <a:pt x="704" y="292"/>
                  </a:lnTo>
                  <a:lnTo>
                    <a:pt x="974" y="292"/>
                  </a:lnTo>
                  <a:lnTo>
                    <a:pt x="987" y="276"/>
                  </a:lnTo>
                  <a:lnTo>
                    <a:pt x="1012" y="258"/>
                  </a:lnTo>
                  <a:lnTo>
                    <a:pt x="1028" y="228"/>
                  </a:lnTo>
                  <a:lnTo>
                    <a:pt x="1052" y="201"/>
                  </a:lnTo>
                  <a:lnTo>
                    <a:pt x="1061" y="178"/>
                  </a:lnTo>
                  <a:lnTo>
                    <a:pt x="1075" y="153"/>
                  </a:lnTo>
                  <a:lnTo>
                    <a:pt x="1093" y="146"/>
                  </a:lnTo>
                  <a:lnTo>
                    <a:pt x="1100" y="130"/>
                  </a:lnTo>
                  <a:lnTo>
                    <a:pt x="1119" y="137"/>
                  </a:lnTo>
                  <a:lnTo>
                    <a:pt x="1135" y="121"/>
                  </a:lnTo>
                  <a:lnTo>
                    <a:pt x="1146" y="135"/>
                  </a:lnTo>
                  <a:lnTo>
                    <a:pt x="1167" y="141"/>
                  </a:lnTo>
                  <a:lnTo>
                    <a:pt x="1187" y="148"/>
                  </a:lnTo>
                  <a:lnTo>
                    <a:pt x="1208" y="153"/>
                  </a:lnTo>
                  <a:lnTo>
                    <a:pt x="1222" y="146"/>
                  </a:lnTo>
                  <a:lnTo>
                    <a:pt x="1240" y="157"/>
                  </a:lnTo>
                  <a:lnTo>
                    <a:pt x="1256" y="173"/>
                  </a:lnTo>
                  <a:lnTo>
                    <a:pt x="1279" y="178"/>
                  </a:lnTo>
                  <a:lnTo>
                    <a:pt x="1283" y="199"/>
                  </a:lnTo>
                  <a:lnTo>
                    <a:pt x="1272" y="212"/>
                  </a:lnTo>
                  <a:lnTo>
                    <a:pt x="1242" y="208"/>
                  </a:lnTo>
                  <a:lnTo>
                    <a:pt x="1219" y="196"/>
                  </a:lnTo>
                  <a:lnTo>
                    <a:pt x="1217" y="215"/>
                  </a:lnTo>
                  <a:lnTo>
                    <a:pt x="1247" y="217"/>
                  </a:lnTo>
                  <a:lnTo>
                    <a:pt x="1272" y="235"/>
                  </a:lnTo>
                  <a:lnTo>
                    <a:pt x="1308" y="221"/>
                  </a:lnTo>
                  <a:lnTo>
                    <a:pt x="1318" y="194"/>
                  </a:lnTo>
                  <a:lnTo>
                    <a:pt x="1334" y="171"/>
                  </a:lnTo>
                  <a:lnTo>
                    <a:pt x="1354" y="176"/>
                  </a:lnTo>
                  <a:lnTo>
                    <a:pt x="1350" y="189"/>
                  </a:lnTo>
                  <a:lnTo>
                    <a:pt x="1338" y="199"/>
                  </a:lnTo>
                  <a:lnTo>
                    <a:pt x="1338" y="217"/>
                  </a:lnTo>
                  <a:lnTo>
                    <a:pt x="1361" y="196"/>
                  </a:lnTo>
                  <a:lnTo>
                    <a:pt x="1382" y="178"/>
                  </a:lnTo>
                  <a:lnTo>
                    <a:pt x="1414" y="173"/>
                  </a:lnTo>
                  <a:lnTo>
                    <a:pt x="1457" y="160"/>
                  </a:lnTo>
                  <a:lnTo>
                    <a:pt x="1489" y="146"/>
                  </a:lnTo>
                  <a:lnTo>
                    <a:pt x="1494" y="128"/>
                  </a:lnTo>
                  <a:lnTo>
                    <a:pt x="1468" y="130"/>
                  </a:lnTo>
                  <a:lnTo>
                    <a:pt x="1446" y="114"/>
                  </a:lnTo>
                  <a:lnTo>
                    <a:pt x="1430" y="89"/>
                  </a:lnTo>
                  <a:lnTo>
                    <a:pt x="1446" y="54"/>
                  </a:lnTo>
                  <a:lnTo>
                    <a:pt x="1471" y="32"/>
                  </a:lnTo>
                  <a:lnTo>
                    <a:pt x="1491" y="13"/>
                  </a:lnTo>
                  <a:lnTo>
                    <a:pt x="1526" y="13"/>
                  </a:lnTo>
                  <a:lnTo>
                    <a:pt x="1551" y="0"/>
                  </a:lnTo>
                  <a:lnTo>
                    <a:pt x="1548" y="16"/>
                  </a:lnTo>
                  <a:lnTo>
                    <a:pt x="1528" y="18"/>
                  </a:lnTo>
                  <a:lnTo>
                    <a:pt x="1516" y="27"/>
                  </a:lnTo>
                  <a:lnTo>
                    <a:pt x="1496" y="29"/>
                  </a:lnTo>
                  <a:lnTo>
                    <a:pt x="1487" y="48"/>
                  </a:lnTo>
                  <a:lnTo>
                    <a:pt x="1473" y="68"/>
                  </a:lnTo>
                  <a:lnTo>
                    <a:pt x="1468" y="89"/>
                  </a:lnTo>
                  <a:lnTo>
                    <a:pt x="1491" y="121"/>
                  </a:lnTo>
                  <a:lnTo>
                    <a:pt x="1530" y="139"/>
                  </a:lnTo>
                  <a:lnTo>
                    <a:pt x="1555" y="151"/>
                  </a:lnTo>
                  <a:lnTo>
                    <a:pt x="1567" y="157"/>
                  </a:lnTo>
                  <a:lnTo>
                    <a:pt x="1578" y="173"/>
                  </a:lnTo>
                  <a:lnTo>
                    <a:pt x="1590" y="171"/>
                  </a:lnTo>
                  <a:lnTo>
                    <a:pt x="1590" y="157"/>
                  </a:lnTo>
                  <a:lnTo>
                    <a:pt x="1585" y="137"/>
                  </a:lnTo>
                  <a:lnTo>
                    <a:pt x="1574" y="125"/>
                  </a:lnTo>
                  <a:lnTo>
                    <a:pt x="1571" y="112"/>
                  </a:lnTo>
                  <a:lnTo>
                    <a:pt x="1578" y="86"/>
                  </a:lnTo>
                  <a:lnTo>
                    <a:pt x="1606" y="86"/>
                  </a:lnTo>
                  <a:lnTo>
                    <a:pt x="1626" y="86"/>
                  </a:lnTo>
                  <a:lnTo>
                    <a:pt x="1638" y="96"/>
                  </a:lnTo>
                  <a:lnTo>
                    <a:pt x="1640" y="119"/>
                  </a:lnTo>
                  <a:lnTo>
                    <a:pt x="1651" y="139"/>
                  </a:lnTo>
                  <a:lnTo>
                    <a:pt x="1656" y="119"/>
                  </a:lnTo>
                  <a:lnTo>
                    <a:pt x="1674" y="105"/>
                  </a:lnTo>
                  <a:lnTo>
                    <a:pt x="1695" y="105"/>
                  </a:lnTo>
                  <a:lnTo>
                    <a:pt x="1713" y="105"/>
                  </a:lnTo>
                  <a:lnTo>
                    <a:pt x="1731" y="107"/>
                  </a:lnTo>
                  <a:lnTo>
                    <a:pt x="1731" y="86"/>
                  </a:lnTo>
                  <a:lnTo>
                    <a:pt x="1743" y="89"/>
                  </a:lnTo>
                  <a:lnTo>
                    <a:pt x="1757" y="100"/>
                  </a:lnTo>
                  <a:lnTo>
                    <a:pt x="1779" y="100"/>
                  </a:lnTo>
                  <a:lnTo>
                    <a:pt x="1800" y="93"/>
                  </a:lnTo>
                  <a:lnTo>
                    <a:pt x="1821" y="112"/>
                  </a:lnTo>
                  <a:lnTo>
                    <a:pt x="1846" y="135"/>
                  </a:lnTo>
                  <a:lnTo>
                    <a:pt x="1873" y="139"/>
                  </a:lnTo>
                  <a:lnTo>
                    <a:pt x="1910" y="153"/>
                  </a:lnTo>
                  <a:lnTo>
                    <a:pt x="1919" y="151"/>
                  </a:lnTo>
                  <a:lnTo>
                    <a:pt x="1946" y="196"/>
                  </a:lnTo>
                  <a:lnTo>
                    <a:pt x="1987" y="265"/>
                  </a:lnTo>
                  <a:lnTo>
                    <a:pt x="2013" y="311"/>
                  </a:lnTo>
                  <a:lnTo>
                    <a:pt x="2031" y="354"/>
                  </a:lnTo>
                  <a:lnTo>
                    <a:pt x="2010" y="361"/>
                  </a:lnTo>
                  <a:lnTo>
                    <a:pt x="2003" y="382"/>
                  </a:lnTo>
                  <a:lnTo>
                    <a:pt x="2010" y="414"/>
                  </a:lnTo>
                  <a:lnTo>
                    <a:pt x="2024" y="446"/>
                  </a:lnTo>
                  <a:lnTo>
                    <a:pt x="2033" y="446"/>
                  </a:lnTo>
                  <a:lnTo>
                    <a:pt x="2038" y="421"/>
                  </a:lnTo>
                  <a:lnTo>
                    <a:pt x="2052" y="414"/>
                  </a:lnTo>
                  <a:lnTo>
                    <a:pt x="2058" y="437"/>
                  </a:lnTo>
                  <a:lnTo>
                    <a:pt x="2040" y="446"/>
                  </a:lnTo>
                  <a:lnTo>
                    <a:pt x="2070" y="469"/>
                  </a:lnTo>
                  <a:lnTo>
                    <a:pt x="2049" y="496"/>
                  </a:lnTo>
                  <a:lnTo>
                    <a:pt x="2045" y="510"/>
                  </a:lnTo>
                  <a:lnTo>
                    <a:pt x="2079" y="519"/>
                  </a:lnTo>
                  <a:lnTo>
                    <a:pt x="2063" y="540"/>
                  </a:lnTo>
                  <a:lnTo>
                    <a:pt x="2047" y="544"/>
                  </a:lnTo>
                  <a:lnTo>
                    <a:pt x="2047" y="578"/>
                  </a:lnTo>
                  <a:lnTo>
                    <a:pt x="2063" y="606"/>
                  </a:lnTo>
                  <a:lnTo>
                    <a:pt x="2047" y="611"/>
                  </a:lnTo>
                  <a:lnTo>
                    <a:pt x="2013" y="604"/>
                  </a:lnTo>
                  <a:lnTo>
                    <a:pt x="2029" y="588"/>
                  </a:lnTo>
                  <a:lnTo>
                    <a:pt x="2049" y="588"/>
                  </a:lnTo>
                  <a:lnTo>
                    <a:pt x="2049" y="553"/>
                  </a:lnTo>
                  <a:lnTo>
                    <a:pt x="2026" y="565"/>
                  </a:lnTo>
                  <a:lnTo>
                    <a:pt x="2024" y="537"/>
                  </a:lnTo>
                  <a:lnTo>
                    <a:pt x="2045" y="519"/>
                  </a:lnTo>
                  <a:lnTo>
                    <a:pt x="2049" y="501"/>
                  </a:lnTo>
                  <a:lnTo>
                    <a:pt x="2038" y="476"/>
                  </a:lnTo>
                  <a:lnTo>
                    <a:pt x="2033" y="443"/>
                  </a:lnTo>
                  <a:lnTo>
                    <a:pt x="2022" y="457"/>
                  </a:lnTo>
                  <a:lnTo>
                    <a:pt x="2006" y="480"/>
                  </a:lnTo>
                  <a:lnTo>
                    <a:pt x="1981" y="501"/>
                  </a:lnTo>
                  <a:lnTo>
                    <a:pt x="1987" y="528"/>
                  </a:lnTo>
                  <a:lnTo>
                    <a:pt x="1985" y="553"/>
                  </a:lnTo>
                  <a:lnTo>
                    <a:pt x="1985" y="567"/>
                  </a:lnTo>
                  <a:lnTo>
                    <a:pt x="1997" y="590"/>
                  </a:lnTo>
                  <a:lnTo>
                    <a:pt x="1987" y="601"/>
                  </a:lnTo>
                  <a:lnTo>
                    <a:pt x="1962" y="574"/>
                  </a:lnTo>
                  <a:lnTo>
                    <a:pt x="1946" y="544"/>
                  </a:lnTo>
                  <a:lnTo>
                    <a:pt x="1939" y="526"/>
                  </a:lnTo>
                  <a:lnTo>
                    <a:pt x="1926" y="512"/>
                  </a:lnTo>
                  <a:lnTo>
                    <a:pt x="1907" y="528"/>
                  </a:lnTo>
                  <a:lnTo>
                    <a:pt x="1896" y="549"/>
                  </a:lnTo>
                  <a:lnTo>
                    <a:pt x="1921" y="574"/>
                  </a:lnTo>
                  <a:lnTo>
                    <a:pt x="1935" y="601"/>
                  </a:lnTo>
                  <a:lnTo>
                    <a:pt x="1939" y="633"/>
                  </a:lnTo>
                  <a:lnTo>
                    <a:pt x="1937" y="663"/>
                  </a:lnTo>
                  <a:lnTo>
                    <a:pt x="1937" y="693"/>
                  </a:lnTo>
                  <a:lnTo>
                    <a:pt x="1949" y="672"/>
                  </a:lnTo>
                  <a:lnTo>
                    <a:pt x="1969" y="675"/>
                  </a:lnTo>
                  <a:lnTo>
                    <a:pt x="1978" y="695"/>
                  </a:lnTo>
                  <a:lnTo>
                    <a:pt x="1960" y="718"/>
                  </a:lnTo>
                  <a:lnTo>
                    <a:pt x="1942" y="714"/>
                  </a:lnTo>
                  <a:lnTo>
                    <a:pt x="1939" y="732"/>
                  </a:lnTo>
                  <a:lnTo>
                    <a:pt x="1955" y="750"/>
                  </a:lnTo>
                  <a:lnTo>
                    <a:pt x="1946" y="774"/>
                  </a:lnTo>
                  <a:lnTo>
                    <a:pt x="1967" y="795"/>
                  </a:lnTo>
                  <a:lnTo>
                    <a:pt x="1955" y="808"/>
                  </a:lnTo>
                  <a:lnTo>
                    <a:pt x="1971" y="829"/>
                  </a:lnTo>
                  <a:lnTo>
                    <a:pt x="1960" y="850"/>
                  </a:lnTo>
                  <a:lnTo>
                    <a:pt x="1983" y="836"/>
                  </a:lnTo>
                  <a:lnTo>
                    <a:pt x="1978" y="856"/>
                  </a:lnTo>
                  <a:lnTo>
                    <a:pt x="2017" y="850"/>
                  </a:lnTo>
                  <a:lnTo>
                    <a:pt x="2006" y="875"/>
                  </a:lnTo>
                  <a:lnTo>
                    <a:pt x="1978" y="856"/>
                  </a:lnTo>
                  <a:lnTo>
                    <a:pt x="1971" y="884"/>
                  </a:lnTo>
                  <a:lnTo>
                    <a:pt x="2013" y="882"/>
                  </a:lnTo>
                  <a:lnTo>
                    <a:pt x="1997" y="914"/>
                  </a:lnTo>
                  <a:lnTo>
                    <a:pt x="1969" y="879"/>
                  </a:lnTo>
                  <a:lnTo>
                    <a:pt x="1985" y="923"/>
                  </a:lnTo>
                  <a:lnTo>
                    <a:pt x="2017" y="953"/>
                  </a:lnTo>
                  <a:lnTo>
                    <a:pt x="1987" y="953"/>
                  </a:lnTo>
                  <a:lnTo>
                    <a:pt x="1969" y="884"/>
                  </a:lnTo>
                  <a:lnTo>
                    <a:pt x="1978" y="840"/>
                  </a:lnTo>
                  <a:lnTo>
                    <a:pt x="1955" y="843"/>
                  </a:lnTo>
                  <a:lnTo>
                    <a:pt x="1937" y="817"/>
                  </a:lnTo>
                  <a:lnTo>
                    <a:pt x="1955" y="804"/>
                  </a:lnTo>
                  <a:lnTo>
                    <a:pt x="1955" y="779"/>
                  </a:lnTo>
                  <a:lnTo>
                    <a:pt x="1942" y="725"/>
                  </a:lnTo>
                  <a:lnTo>
                    <a:pt x="1939" y="686"/>
                  </a:lnTo>
                  <a:lnTo>
                    <a:pt x="1935" y="661"/>
                  </a:lnTo>
                  <a:lnTo>
                    <a:pt x="1914" y="693"/>
                  </a:lnTo>
                  <a:lnTo>
                    <a:pt x="1878" y="704"/>
                  </a:lnTo>
                  <a:lnTo>
                    <a:pt x="1857" y="727"/>
                  </a:lnTo>
                  <a:lnTo>
                    <a:pt x="1866" y="752"/>
                  </a:lnTo>
                  <a:lnTo>
                    <a:pt x="1853" y="774"/>
                  </a:lnTo>
                  <a:lnTo>
                    <a:pt x="1827" y="769"/>
                  </a:lnTo>
                  <a:lnTo>
                    <a:pt x="1848" y="743"/>
                  </a:lnTo>
                  <a:lnTo>
                    <a:pt x="1834" y="730"/>
                  </a:lnTo>
                  <a:lnTo>
                    <a:pt x="1814" y="746"/>
                  </a:lnTo>
                  <a:lnTo>
                    <a:pt x="1814" y="772"/>
                  </a:lnTo>
                  <a:lnTo>
                    <a:pt x="1848" y="804"/>
                  </a:lnTo>
                  <a:lnTo>
                    <a:pt x="1857" y="831"/>
                  </a:lnTo>
                  <a:lnTo>
                    <a:pt x="1832" y="866"/>
                  </a:lnTo>
                  <a:lnTo>
                    <a:pt x="1832" y="946"/>
                  </a:lnTo>
                  <a:lnTo>
                    <a:pt x="1832" y="980"/>
                  </a:lnTo>
                  <a:lnTo>
                    <a:pt x="1837" y="1001"/>
                  </a:lnTo>
                  <a:lnTo>
                    <a:pt x="1875" y="998"/>
                  </a:lnTo>
                  <a:lnTo>
                    <a:pt x="1901" y="1003"/>
                  </a:lnTo>
                  <a:lnTo>
                    <a:pt x="1919" y="973"/>
                  </a:lnTo>
                  <a:lnTo>
                    <a:pt x="1939" y="973"/>
                  </a:lnTo>
                  <a:lnTo>
                    <a:pt x="1930" y="989"/>
                  </a:lnTo>
                  <a:lnTo>
                    <a:pt x="1955" y="1014"/>
                  </a:lnTo>
                  <a:lnTo>
                    <a:pt x="1983" y="1019"/>
                  </a:lnTo>
                  <a:lnTo>
                    <a:pt x="1981" y="998"/>
                  </a:lnTo>
                  <a:lnTo>
                    <a:pt x="2047" y="998"/>
                  </a:lnTo>
                  <a:lnTo>
                    <a:pt x="2024" y="1005"/>
                  </a:lnTo>
                  <a:lnTo>
                    <a:pt x="2022" y="1023"/>
                  </a:lnTo>
                  <a:lnTo>
                    <a:pt x="2052" y="1030"/>
                  </a:lnTo>
                  <a:lnTo>
                    <a:pt x="2081" y="1042"/>
                  </a:lnTo>
                  <a:lnTo>
                    <a:pt x="2095" y="1010"/>
                  </a:lnTo>
                  <a:lnTo>
                    <a:pt x="2100" y="989"/>
                  </a:lnTo>
                  <a:lnTo>
                    <a:pt x="2079" y="996"/>
                  </a:lnTo>
                  <a:lnTo>
                    <a:pt x="2058" y="982"/>
                  </a:lnTo>
                  <a:lnTo>
                    <a:pt x="2047" y="978"/>
                  </a:lnTo>
                  <a:lnTo>
                    <a:pt x="2038" y="1003"/>
                  </a:lnTo>
                  <a:lnTo>
                    <a:pt x="2038" y="1001"/>
                  </a:lnTo>
                  <a:lnTo>
                    <a:pt x="1971" y="1001"/>
                  </a:lnTo>
                  <a:lnTo>
                    <a:pt x="1960" y="969"/>
                  </a:lnTo>
                  <a:lnTo>
                    <a:pt x="1942" y="975"/>
                  </a:lnTo>
                  <a:lnTo>
                    <a:pt x="1921" y="973"/>
                  </a:lnTo>
                  <a:lnTo>
                    <a:pt x="1914" y="939"/>
                  </a:lnTo>
                  <a:lnTo>
                    <a:pt x="1903" y="918"/>
                  </a:lnTo>
                  <a:lnTo>
                    <a:pt x="1923" y="904"/>
                  </a:lnTo>
                  <a:lnTo>
                    <a:pt x="1923" y="884"/>
                  </a:lnTo>
                  <a:lnTo>
                    <a:pt x="1894" y="898"/>
                  </a:lnTo>
                  <a:lnTo>
                    <a:pt x="1873" y="916"/>
                  </a:lnTo>
                  <a:lnTo>
                    <a:pt x="1857" y="941"/>
                  </a:lnTo>
                  <a:lnTo>
                    <a:pt x="1832" y="941"/>
                  </a:lnTo>
                  <a:lnTo>
                    <a:pt x="1832" y="877"/>
                  </a:lnTo>
                  <a:lnTo>
                    <a:pt x="1818" y="891"/>
                  </a:lnTo>
                  <a:lnTo>
                    <a:pt x="1800" y="861"/>
                  </a:lnTo>
                  <a:lnTo>
                    <a:pt x="1777" y="834"/>
                  </a:lnTo>
                  <a:lnTo>
                    <a:pt x="1745" y="843"/>
                  </a:lnTo>
                  <a:lnTo>
                    <a:pt x="1743" y="870"/>
                  </a:lnTo>
                  <a:lnTo>
                    <a:pt x="1759" y="902"/>
                  </a:lnTo>
                  <a:lnTo>
                    <a:pt x="1759" y="932"/>
                  </a:lnTo>
                  <a:lnTo>
                    <a:pt x="1779" y="962"/>
                  </a:lnTo>
                  <a:lnTo>
                    <a:pt x="1791" y="975"/>
                  </a:lnTo>
                  <a:lnTo>
                    <a:pt x="1766" y="975"/>
                  </a:lnTo>
                  <a:lnTo>
                    <a:pt x="1752" y="962"/>
                  </a:lnTo>
                  <a:lnTo>
                    <a:pt x="1741" y="978"/>
                  </a:lnTo>
                  <a:lnTo>
                    <a:pt x="1775" y="1017"/>
                  </a:lnTo>
                  <a:lnTo>
                    <a:pt x="1800" y="1039"/>
                  </a:lnTo>
                  <a:lnTo>
                    <a:pt x="1823" y="1037"/>
                  </a:lnTo>
                  <a:lnTo>
                    <a:pt x="1848" y="1044"/>
                  </a:lnTo>
                  <a:lnTo>
                    <a:pt x="1882" y="1044"/>
                  </a:lnTo>
                  <a:lnTo>
                    <a:pt x="1914" y="1039"/>
                  </a:lnTo>
                  <a:lnTo>
                    <a:pt x="1942" y="1051"/>
                  </a:lnTo>
                  <a:lnTo>
                    <a:pt x="1935" y="1060"/>
                  </a:lnTo>
                  <a:lnTo>
                    <a:pt x="1903" y="1049"/>
                  </a:lnTo>
                  <a:lnTo>
                    <a:pt x="1903" y="1101"/>
                  </a:lnTo>
                  <a:lnTo>
                    <a:pt x="1926" y="1101"/>
                  </a:lnTo>
                  <a:lnTo>
                    <a:pt x="1939" y="1099"/>
                  </a:lnTo>
                  <a:lnTo>
                    <a:pt x="1942" y="1081"/>
                  </a:lnTo>
                  <a:lnTo>
                    <a:pt x="1969" y="1085"/>
                  </a:lnTo>
                  <a:lnTo>
                    <a:pt x="2003" y="1072"/>
                  </a:lnTo>
                  <a:lnTo>
                    <a:pt x="2001" y="1097"/>
                  </a:lnTo>
                  <a:lnTo>
                    <a:pt x="2010" y="1113"/>
                  </a:lnTo>
                  <a:lnTo>
                    <a:pt x="2029" y="1124"/>
                  </a:lnTo>
                  <a:lnTo>
                    <a:pt x="2047" y="1113"/>
                  </a:lnTo>
                  <a:lnTo>
                    <a:pt x="2045" y="1088"/>
                  </a:lnTo>
                  <a:lnTo>
                    <a:pt x="2047" y="1065"/>
                  </a:lnTo>
                  <a:lnTo>
                    <a:pt x="2058" y="1088"/>
                  </a:lnTo>
                  <a:lnTo>
                    <a:pt x="2063" y="1117"/>
                  </a:lnTo>
                  <a:lnTo>
                    <a:pt x="2038" y="1172"/>
                  </a:lnTo>
                  <a:lnTo>
                    <a:pt x="2010" y="1229"/>
                  </a:lnTo>
                  <a:lnTo>
                    <a:pt x="1985" y="1284"/>
                  </a:lnTo>
                  <a:lnTo>
                    <a:pt x="1955" y="1339"/>
                  </a:lnTo>
                  <a:lnTo>
                    <a:pt x="1930" y="1323"/>
                  </a:lnTo>
                  <a:lnTo>
                    <a:pt x="1903" y="1335"/>
                  </a:lnTo>
                  <a:lnTo>
                    <a:pt x="1894" y="1355"/>
                  </a:lnTo>
                  <a:lnTo>
                    <a:pt x="1873" y="1367"/>
                  </a:lnTo>
                  <a:lnTo>
                    <a:pt x="1834" y="1376"/>
                  </a:lnTo>
                  <a:lnTo>
                    <a:pt x="1811" y="1371"/>
                  </a:lnTo>
                  <a:lnTo>
                    <a:pt x="1821" y="1337"/>
                  </a:lnTo>
                  <a:lnTo>
                    <a:pt x="1818" y="1312"/>
                  </a:lnTo>
                  <a:lnTo>
                    <a:pt x="1832" y="1291"/>
                  </a:lnTo>
                  <a:lnTo>
                    <a:pt x="1827" y="1273"/>
                  </a:lnTo>
                  <a:lnTo>
                    <a:pt x="1802" y="1261"/>
                  </a:lnTo>
                  <a:lnTo>
                    <a:pt x="1805" y="1229"/>
                  </a:lnTo>
                  <a:lnTo>
                    <a:pt x="1814" y="1195"/>
                  </a:lnTo>
                  <a:lnTo>
                    <a:pt x="1841" y="1170"/>
                  </a:lnTo>
                  <a:lnTo>
                    <a:pt x="1875" y="1168"/>
                  </a:lnTo>
                  <a:lnTo>
                    <a:pt x="1880" y="1147"/>
                  </a:lnTo>
                  <a:lnTo>
                    <a:pt x="1873" y="1117"/>
                  </a:lnTo>
                  <a:lnTo>
                    <a:pt x="1894" y="1104"/>
                  </a:lnTo>
                  <a:lnTo>
                    <a:pt x="1903" y="1101"/>
                  </a:lnTo>
                  <a:lnTo>
                    <a:pt x="1903" y="1051"/>
                  </a:lnTo>
                  <a:lnTo>
                    <a:pt x="1875" y="1056"/>
                  </a:lnTo>
                  <a:lnTo>
                    <a:pt x="1848" y="1067"/>
                  </a:lnTo>
                  <a:lnTo>
                    <a:pt x="1825" y="1051"/>
                  </a:lnTo>
                  <a:lnTo>
                    <a:pt x="1798" y="1051"/>
                  </a:lnTo>
                  <a:lnTo>
                    <a:pt x="1761" y="1039"/>
                  </a:lnTo>
                  <a:lnTo>
                    <a:pt x="1741" y="1017"/>
                  </a:lnTo>
                  <a:lnTo>
                    <a:pt x="1729" y="994"/>
                  </a:lnTo>
                  <a:lnTo>
                    <a:pt x="1711" y="973"/>
                  </a:lnTo>
                  <a:lnTo>
                    <a:pt x="1729" y="966"/>
                  </a:lnTo>
                  <a:lnTo>
                    <a:pt x="1741" y="975"/>
                  </a:lnTo>
                  <a:lnTo>
                    <a:pt x="1754" y="957"/>
                  </a:lnTo>
                  <a:lnTo>
                    <a:pt x="1745" y="927"/>
                  </a:lnTo>
                  <a:lnTo>
                    <a:pt x="1729" y="925"/>
                  </a:lnTo>
                  <a:lnTo>
                    <a:pt x="1718" y="895"/>
                  </a:lnTo>
                  <a:lnTo>
                    <a:pt x="1722" y="861"/>
                  </a:lnTo>
                  <a:lnTo>
                    <a:pt x="1741" y="836"/>
                  </a:lnTo>
                  <a:lnTo>
                    <a:pt x="1736" y="804"/>
                  </a:lnTo>
                  <a:lnTo>
                    <a:pt x="1722" y="801"/>
                  </a:lnTo>
                  <a:lnTo>
                    <a:pt x="1711" y="820"/>
                  </a:lnTo>
                  <a:lnTo>
                    <a:pt x="1709" y="836"/>
                  </a:lnTo>
                  <a:lnTo>
                    <a:pt x="1690" y="804"/>
                  </a:lnTo>
                  <a:lnTo>
                    <a:pt x="1661" y="781"/>
                  </a:lnTo>
                  <a:lnTo>
                    <a:pt x="1640" y="783"/>
                  </a:lnTo>
                  <a:lnTo>
                    <a:pt x="1619" y="817"/>
                  </a:lnTo>
                  <a:lnTo>
                    <a:pt x="1594" y="834"/>
                  </a:lnTo>
                  <a:lnTo>
                    <a:pt x="1594" y="854"/>
                  </a:lnTo>
                  <a:lnTo>
                    <a:pt x="1601" y="877"/>
                  </a:lnTo>
                  <a:lnTo>
                    <a:pt x="1599" y="900"/>
                  </a:lnTo>
                  <a:lnTo>
                    <a:pt x="1578" y="898"/>
                  </a:lnTo>
                  <a:lnTo>
                    <a:pt x="1564" y="870"/>
                  </a:lnTo>
                  <a:lnTo>
                    <a:pt x="1539" y="836"/>
                  </a:lnTo>
                  <a:lnTo>
                    <a:pt x="1514" y="817"/>
                  </a:lnTo>
                  <a:lnTo>
                    <a:pt x="1494" y="781"/>
                  </a:lnTo>
                  <a:lnTo>
                    <a:pt x="1475" y="772"/>
                  </a:lnTo>
                  <a:lnTo>
                    <a:pt x="1443" y="772"/>
                  </a:lnTo>
                  <a:lnTo>
                    <a:pt x="1414" y="772"/>
                  </a:lnTo>
                  <a:lnTo>
                    <a:pt x="1395" y="783"/>
                  </a:lnTo>
                  <a:lnTo>
                    <a:pt x="1379" y="760"/>
                  </a:lnTo>
                  <a:lnTo>
                    <a:pt x="1359" y="748"/>
                  </a:lnTo>
                  <a:lnTo>
                    <a:pt x="1329" y="725"/>
                  </a:lnTo>
                  <a:lnTo>
                    <a:pt x="1350" y="760"/>
                  </a:lnTo>
                  <a:lnTo>
                    <a:pt x="1382" y="774"/>
                  </a:lnTo>
                  <a:lnTo>
                    <a:pt x="1402" y="804"/>
                  </a:lnTo>
                  <a:lnTo>
                    <a:pt x="1393" y="834"/>
                  </a:lnTo>
                  <a:lnTo>
                    <a:pt x="1372" y="850"/>
                  </a:lnTo>
                  <a:lnTo>
                    <a:pt x="1340" y="854"/>
                  </a:lnTo>
                  <a:lnTo>
                    <a:pt x="1313" y="866"/>
                  </a:lnTo>
                  <a:lnTo>
                    <a:pt x="1297" y="893"/>
                  </a:lnTo>
                  <a:lnTo>
                    <a:pt x="1283" y="904"/>
                  </a:lnTo>
                  <a:lnTo>
                    <a:pt x="1279" y="875"/>
                  </a:lnTo>
                  <a:lnTo>
                    <a:pt x="1260" y="834"/>
                  </a:lnTo>
                  <a:lnTo>
                    <a:pt x="1240" y="811"/>
                  </a:lnTo>
                  <a:lnTo>
                    <a:pt x="1240" y="783"/>
                  </a:lnTo>
                  <a:lnTo>
                    <a:pt x="1222" y="788"/>
                  </a:lnTo>
                  <a:lnTo>
                    <a:pt x="1226" y="829"/>
                  </a:lnTo>
                  <a:lnTo>
                    <a:pt x="1244" y="861"/>
                  </a:lnTo>
                  <a:lnTo>
                    <a:pt x="1244" y="891"/>
                  </a:lnTo>
                  <a:lnTo>
                    <a:pt x="1272" y="902"/>
                  </a:lnTo>
                  <a:lnTo>
                    <a:pt x="1283" y="923"/>
                  </a:lnTo>
                  <a:lnTo>
                    <a:pt x="1311" y="916"/>
                  </a:lnTo>
                  <a:lnTo>
                    <a:pt x="1334" y="914"/>
                  </a:lnTo>
                  <a:lnTo>
                    <a:pt x="1363" y="898"/>
                  </a:lnTo>
                  <a:lnTo>
                    <a:pt x="1352" y="934"/>
                  </a:lnTo>
                  <a:lnTo>
                    <a:pt x="1329" y="980"/>
                  </a:lnTo>
                  <a:lnTo>
                    <a:pt x="1311" y="1010"/>
                  </a:lnTo>
                  <a:lnTo>
                    <a:pt x="1288" y="1037"/>
                  </a:lnTo>
                  <a:lnTo>
                    <a:pt x="1279" y="1060"/>
                  </a:lnTo>
                  <a:lnTo>
                    <a:pt x="1270" y="1113"/>
                  </a:lnTo>
                  <a:lnTo>
                    <a:pt x="1265" y="1149"/>
                  </a:lnTo>
                  <a:lnTo>
                    <a:pt x="1267" y="1186"/>
                  </a:lnTo>
                  <a:lnTo>
                    <a:pt x="1272" y="1220"/>
                  </a:lnTo>
                  <a:lnTo>
                    <a:pt x="1272" y="1229"/>
                  </a:lnTo>
                  <a:lnTo>
                    <a:pt x="1297" y="1225"/>
                  </a:lnTo>
                  <a:lnTo>
                    <a:pt x="1302" y="1195"/>
                  </a:lnTo>
                  <a:lnTo>
                    <a:pt x="1324" y="1168"/>
                  </a:lnTo>
                  <a:lnTo>
                    <a:pt x="1350" y="1149"/>
                  </a:lnTo>
                  <a:lnTo>
                    <a:pt x="1354" y="1184"/>
                  </a:lnTo>
                  <a:lnTo>
                    <a:pt x="1352" y="1213"/>
                  </a:lnTo>
                  <a:lnTo>
                    <a:pt x="1338" y="1229"/>
                  </a:lnTo>
                  <a:lnTo>
                    <a:pt x="1340" y="1245"/>
                  </a:lnTo>
                  <a:lnTo>
                    <a:pt x="1331" y="1287"/>
                  </a:lnTo>
                  <a:lnTo>
                    <a:pt x="1327" y="1307"/>
                  </a:lnTo>
                  <a:lnTo>
                    <a:pt x="1308" y="1312"/>
                  </a:lnTo>
                  <a:lnTo>
                    <a:pt x="1290" y="1291"/>
                  </a:lnTo>
                  <a:lnTo>
                    <a:pt x="1302" y="1264"/>
                  </a:lnTo>
                  <a:lnTo>
                    <a:pt x="1306" y="1248"/>
                  </a:lnTo>
                  <a:lnTo>
                    <a:pt x="1292" y="1229"/>
                  </a:lnTo>
                  <a:lnTo>
                    <a:pt x="1270" y="1232"/>
                  </a:lnTo>
                  <a:lnTo>
                    <a:pt x="1263" y="1261"/>
                  </a:lnTo>
                  <a:lnTo>
                    <a:pt x="1231" y="1273"/>
                  </a:lnTo>
                  <a:lnTo>
                    <a:pt x="1210" y="1291"/>
                  </a:lnTo>
                  <a:lnTo>
                    <a:pt x="1215" y="1323"/>
                  </a:lnTo>
                  <a:lnTo>
                    <a:pt x="1210" y="1360"/>
                  </a:lnTo>
                  <a:lnTo>
                    <a:pt x="1201" y="1399"/>
                  </a:lnTo>
                  <a:lnTo>
                    <a:pt x="1155" y="1440"/>
                  </a:lnTo>
                  <a:lnTo>
                    <a:pt x="1135" y="1442"/>
                  </a:lnTo>
                  <a:lnTo>
                    <a:pt x="1121" y="1415"/>
                  </a:lnTo>
                  <a:lnTo>
                    <a:pt x="1093" y="1399"/>
                  </a:lnTo>
                  <a:lnTo>
                    <a:pt x="1080" y="1387"/>
                  </a:lnTo>
                  <a:lnTo>
                    <a:pt x="1055" y="1335"/>
                  </a:lnTo>
                  <a:lnTo>
                    <a:pt x="1031" y="1310"/>
                  </a:lnTo>
                  <a:lnTo>
                    <a:pt x="1012" y="1284"/>
                  </a:lnTo>
                  <a:lnTo>
                    <a:pt x="1003" y="1257"/>
                  </a:lnTo>
                  <a:lnTo>
                    <a:pt x="999" y="1220"/>
                  </a:lnTo>
                  <a:lnTo>
                    <a:pt x="978" y="1195"/>
                  </a:lnTo>
                  <a:lnTo>
                    <a:pt x="971" y="1172"/>
                  </a:lnTo>
                  <a:lnTo>
                    <a:pt x="987" y="1145"/>
                  </a:lnTo>
                  <a:lnTo>
                    <a:pt x="987" y="1120"/>
                  </a:lnTo>
                  <a:lnTo>
                    <a:pt x="967" y="1101"/>
                  </a:lnTo>
                  <a:lnTo>
                    <a:pt x="932" y="1099"/>
                  </a:lnTo>
                  <a:lnTo>
                    <a:pt x="907" y="1088"/>
                  </a:lnTo>
                  <a:lnTo>
                    <a:pt x="894" y="1099"/>
                  </a:lnTo>
                  <a:lnTo>
                    <a:pt x="871" y="1101"/>
                  </a:lnTo>
                  <a:lnTo>
                    <a:pt x="850" y="1088"/>
                  </a:lnTo>
                  <a:lnTo>
                    <a:pt x="832" y="1069"/>
                  </a:lnTo>
                  <a:lnTo>
                    <a:pt x="807" y="1065"/>
                  </a:lnTo>
                  <a:lnTo>
                    <a:pt x="781" y="1051"/>
                  </a:lnTo>
                  <a:lnTo>
                    <a:pt x="756" y="1030"/>
                  </a:lnTo>
                  <a:lnTo>
                    <a:pt x="749" y="989"/>
                  </a:lnTo>
                  <a:lnTo>
                    <a:pt x="747" y="962"/>
                  </a:lnTo>
                  <a:lnTo>
                    <a:pt x="768" y="941"/>
                  </a:lnTo>
                  <a:lnTo>
                    <a:pt x="765" y="920"/>
                  </a:lnTo>
                  <a:lnTo>
                    <a:pt x="761" y="884"/>
                  </a:lnTo>
                  <a:lnTo>
                    <a:pt x="763" y="852"/>
                  </a:lnTo>
                  <a:lnTo>
                    <a:pt x="756" y="820"/>
                  </a:lnTo>
                  <a:lnTo>
                    <a:pt x="781" y="795"/>
                  </a:lnTo>
                  <a:lnTo>
                    <a:pt x="795" y="776"/>
                  </a:lnTo>
                  <a:lnTo>
                    <a:pt x="816" y="774"/>
                  </a:lnTo>
                  <a:lnTo>
                    <a:pt x="814" y="748"/>
                  </a:lnTo>
                  <a:lnTo>
                    <a:pt x="827" y="725"/>
                  </a:lnTo>
                  <a:lnTo>
                    <a:pt x="848" y="709"/>
                  </a:lnTo>
                  <a:lnTo>
                    <a:pt x="873" y="723"/>
                  </a:lnTo>
                  <a:lnTo>
                    <a:pt x="905" y="730"/>
                  </a:lnTo>
                  <a:lnTo>
                    <a:pt x="939" y="725"/>
                  </a:lnTo>
                  <a:lnTo>
                    <a:pt x="969" y="725"/>
                  </a:lnTo>
                  <a:lnTo>
                    <a:pt x="983" y="727"/>
                  </a:lnTo>
                  <a:lnTo>
                    <a:pt x="990" y="752"/>
                  </a:lnTo>
                  <a:lnTo>
                    <a:pt x="1017" y="758"/>
                  </a:lnTo>
                  <a:lnTo>
                    <a:pt x="1044" y="772"/>
                  </a:lnTo>
                  <a:lnTo>
                    <a:pt x="1061" y="769"/>
                  </a:lnTo>
                  <a:lnTo>
                    <a:pt x="1075" y="750"/>
                  </a:lnTo>
                  <a:lnTo>
                    <a:pt x="1082" y="732"/>
                  </a:lnTo>
                  <a:lnTo>
                    <a:pt x="1107" y="743"/>
                  </a:lnTo>
                  <a:lnTo>
                    <a:pt x="1137" y="752"/>
                  </a:lnTo>
                  <a:lnTo>
                    <a:pt x="1173" y="758"/>
                  </a:lnTo>
                  <a:lnTo>
                    <a:pt x="1196" y="760"/>
                  </a:lnTo>
                  <a:lnTo>
                    <a:pt x="1222" y="758"/>
                  </a:lnTo>
                  <a:lnTo>
                    <a:pt x="1240" y="743"/>
                  </a:lnTo>
                  <a:lnTo>
                    <a:pt x="1249" y="714"/>
                  </a:lnTo>
                  <a:lnTo>
                    <a:pt x="1260" y="695"/>
                  </a:lnTo>
                  <a:lnTo>
                    <a:pt x="1249" y="688"/>
                  </a:lnTo>
                  <a:lnTo>
                    <a:pt x="1238" y="672"/>
                  </a:lnTo>
                  <a:lnTo>
                    <a:pt x="1219" y="677"/>
                  </a:lnTo>
                  <a:lnTo>
                    <a:pt x="1189" y="677"/>
                  </a:lnTo>
                  <a:lnTo>
                    <a:pt x="1169" y="670"/>
                  </a:lnTo>
                  <a:lnTo>
                    <a:pt x="1167" y="647"/>
                  </a:lnTo>
                  <a:lnTo>
                    <a:pt x="1155" y="636"/>
                  </a:lnTo>
                  <a:lnTo>
                    <a:pt x="1146" y="647"/>
                  </a:lnTo>
                  <a:lnTo>
                    <a:pt x="1153" y="670"/>
                  </a:lnTo>
                  <a:lnTo>
                    <a:pt x="1141" y="686"/>
                  </a:lnTo>
                  <a:lnTo>
                    <a:pt x="1119" y="684"/>
                  </a:lnTo>
                  <a:lnTo>
                    <a:pt x="1105" y="665"/>
                  </a:lnTo>
                  <a:lnTo>
                    <a:pt x="1100" y="645"/>
                  </a:lnTo>
                  <a:lnTo>
                    <a:pt x="1100" y="613"/>
                  </a:lnTo>
                  <a:lnTo>
                    <a:pt x="1084" y="606"/>
                  </a:lnTo>
                  <a:lnTo>
                    <a:pt x="1077" y="624"/>
                  </a:lnTo>
                  <a:lnTo>
                    <a:pt x="1080" y="647"/>
                  </a:lnTo>
                  <a:lnTo>
                    <a:pt x="1091" y="663"/>
                  </a:lnTo>
                  <a:lnTo>
                    <a:pt x="1105" y="681"/>
                  </a:lnTo>
                  <a:lnTo>
                    <a:pt x="1091" y="702"/>
                  </a:lnTo>
                  <a:lnTo>
                    <a:pt x="1075" y="711"/>
                  </a:lnTo>
                  <a:lnTo>
                    <a:pt x="1052" y="709"/>
                  </a:lnTo>
                  <a:lnTo>
                    <a:pt x="1052" y="727"/>
                  </a:lnTo>
                  <a:lnTo>
                    <a:pt x="1035" y="736"/>
                  </a:lnTo>
                  <a:lnTo>
                    <a:pt x="1015" y="711"/>
                  </a:lnTo>
                  <a:lnTo>
                    <a:pt x="1017" y="697"/>
                  </a:lnTo>
                  <a:lnTo>
                    <a:pt x="1042" y="709"/>
                  </a:lnTo>
                  <a:lnTo>
                    <a:pt x="1059" y="709"/>
                  </a:lnTo>
                  <a:lnTo>
                    <a:pt x="1080" y="693"/>
                  </a:lnTo>
                  <a:lnTo>
                    <a:pt x="1075" y="670"/>
                  </a:lnTo>
                  <a:lnTo>
                    <a:pt x="1055" y="652"/>
                  </a:lnTo>
                  <a:lnTo>
                    <a:pt x="1035" y="636"/>
                  </a:lnTo>
                  <a:lnTo>
                    <a:pt x="1015" y="615"/>
                  </a:lnTo>
                  <a:lnTo>
                    <a:pt x="992" y="599"/>
                  </a:lnTo>
                  <a:lnTo>
                    <a:pt x="992" y="624"/>
                  </a:lnTo>
                  <a:lnTo>
                    <a:pt x="1008" y="640"/>
                  </a:lnTo>
                  <a:lnTo>
                    <a:pt x="1003" y="670"/>
                  </a:lnTo>
                  <a:lnTo>
                    <a:pt x="1003" y="693"/>
                  </a:lnTo>
                  <a:lnTo>
                    <a:pt x="978" y="675"/>
                  </a:lnTo>
                  <a:lnTo>
                    <a:pt x="974" y="656"/>
                  </a:lnTo>
                  <a:lnTo>
                    <a:pt x="987" y="645"/>
                  </a:lnTo>
                  <a:lnTo>
                    <a:pt x="983" y="629"/>
                  </a:lnTo>
                  <a:lnTo>
                    <a:pt x="994" y="622"/>
                  </a:lnTo>
                  <a:lnTo>
                    <a:pt x="994" y="599"/>
                  </a:lnTo>
                  <a:lnTo>
                    <a:pt x="974" y="604"/>
                  </a:lnTo>
                  <a:lnTo>
                    <a:pt x="960" y="624"/>
                  </a:lnTo>
                  <a:lnTo>
                    <a:pt x="939" y="615"/>
                  </a:lnTo>
                  <a:lnTo>
                    <a:pt x="907" y="631"/>
                  </a:lnTo>
                  <a:lnTo>
                    <a:pt x="900" y="661"/>
                  </a:lnTo>
                  <a:lnTo>
                    <a:pt x="878" y="681"/>
                  </a:lnTo>
                  <a:lnTo>
                    <a:pt x="850" y="695"/>
                  </a:lnTo>
                  <a:lnTo>
                    <a:pt x="825" y="697"/>
                  </a:lnTo>
                  <a:lnTo>
                    <a:pt x="795" y="688"/>
                  </a:lnTo>
                  <a:lnTo>
                    <a:pt x="784" y="675"/>
                  </a:lnTo>
                  <a:lnTo>
                    <a:pt x="793" y="661"/>
                  </a:lnTo>
                  <a:lnTo>
                    <a:pt x="784" y="640"/>
                  </a:lnTo>
                  <a:lnTo>
                    <a:pt x="802" y="627"/>
                  </a:lnTo>
                  <a:lnTo>
                    <a:pt x="804" y="608"/>
                  </a:lnTo>
                  <a:lnTo>
                    <a:pt x="804" y="583"/>
                  </a:lnTo>
                  <a:lnTo>
                    <a:pt x="827" y="560"/>
                  </a:lnTo>
                  <a:lnTo>
                    <a:pt x="859" y="567"/>
                  </a:lnTo>
                  <a:lnTo>
                    <a:pt x="898" y="578"/>
                  </a:lnTo>
                  <a:lnTo>
                    <a:pt x="914" y="562"/>
                  </a:lnTo>
                  <a:lnTo>
                    <a:pt x="914" y="537"/>
                  </a:lnTo>
                  <a:lnTo>
                    <a:pt x="896" y="519"/>
                  </a:lnTo>
                  <a:lnTo>
                    <a:pt x="866" y="505"/>
                  </a:lnTo>
                  <a:lnTo>
                    <a:pt x="880" y="492"/>
                  </a:lnTo>
                  <a:lnTo>
                    <a:pt x="910" y="482"/>
                  </a:lnTo>
                  <a:lnTo>
                    <a:pt x="916" y="478"/>
                  </a:lnTo>
                  <a:lnTo>
                    <a:pt x="907" y="476"/>
                  </a:lnTo>
                  <a:lnTo>
                    <a:pt x="884" y="478"/>
                  </a:lnTo>
                  <a:lnTo>
                    <a:pt x="859" y="482"/>
                  </a:lnTo>
                  <a:lnTo>
                    <a:pt x="848" y="487"/>
                  </a:lnTo>
                  <a:lnTo>
                    <a:pt x="857" y="469"/>
                  </a:lnTo>
                  <a:lnTo>
                    <a:pt x="859" y="446"/>
                  </a:lnTo>
                  <a:lnTo>
                    <a:pt x="871" y="434"/>
                  </a:lnTo>
                  <a:lnTo>
                    <a:pt x="875" y="418"/>
                  </a:lnTo>
                  <a:lnTo>
                    <a:pt x="864" y="402"/>
                  </a:lnTo>
                  <a:lnTo>
                    <a:pt x="848" y="409"/>
                  </a:lnTo>
                  <a:lnTo>
                    <a:pt x="850" y="430"/>
                  </a:lnTo>
                  <a:lnTo>
                    <a:pt x="848" y="450"/>
                  </a:lnTo>
                  <a:lnTo>
                    <a:pt x="836" y="478"/>
                  </a:lnTo>
                  <a:lnTo>
                    <a:pt x="814" y="476"/>
                  </a:lnTo>
                  <a:lnTo>
                    <a:pt x="807" y="450"/>
                  </a:lnTo>
                  <a:lnTo>
                    <a:pt x="791" y="425"/>
                  </a:lnTo>
                  <a:lnTo>
                    <a:pt x="816" y="418"/>
                  </a:lnTo>
                  <a:lnTo>
                    <a:pt x="830" y="407"/>
                  </a:lnTo>
                  <a:lnTo>
                    <a:pt x="839" y="405"/>
                  </a:lnTo>
                  <a:lnTo>
                    <a:pt x="839" y="389"/>
                  </a:lnTo>
                  <a:lnTo>
                    <a:pt x="834" y="373"/>
                  </a:lnTo>
                  <a:lnTo>
                    <a:pt x="855" y="361"/>
                  </a:lnTo>
                  <a:lnTo>
                    <a:pt x="875" y="347"/>
                  </a:lnTo>
                  <a:lnTo>
                    <a:pt x="889" y="359"/>
                  </a:lnTo>
                  <a:lnTo>
                    <a:pt x="896" y="384"/>
                  </a:lnTo>
                  <a:lnTo>
                    <a:pt x="905" y="409"/>
                  </a:lnTo>
                  <a:lnTo>
                    <a:pt x="919" y="427"/>
                  </a:lnTo>
                  <a:lnTo>
                    <a:pt x="926" y="450"/>
                  </a:lnTo>
                  <a:lnTo>
                    <a:pt x="916" y="466"/>
                  </a:lnTo>
                  <a:lnTo>
                    <a:pt x="914" y="480"/>
                  </a:lnTo>
                  <a:lnTo>
                    <a:pt x="932" y="476"/>
                  </a:lnTo>
                  <a:lnTo>
                    <a:pt x="955" y="462"/>
                  </a:lnTo>
                  <a:lnTo>
                    <a:pt x="967" y="430"/>
                  </a:lnTo>
                  <a:lnTo>
                    <a:pt x="990" y="430"/>
                  </a:lnTo>
                  <a:lnTo>
                    <a:pt x="999" y="425"/>
                  </a:lnTo>
                  <a:lnTo>
                    <a:pt x="996" y="402"/>
                  </a:lnTo>
                  <a:lnTo>
                    <a:pt x="987" y="379"/>
                  </a:lnTo>
                  <a:lnTo>
                    <a:pt x="1008" y="379"/>
                  </a:lnTo>
                  <a:lnTo>
                    <a:pt x="1031" y="402"/>
                  </a:lnTo>
                  <a:lnTo>
                    <a:pt x="1052" y="418"/>
                  </a:lnTo>
                  <a:lnTo>
                    <a:pt x="1071" y="418"/>
                  </a:lnTo>
                  <a:lnTo>
                    <a:pt x="1098" y="407"/>
                  </a:lnTo>
                  <a:lnTo>
                    <a:pt x="1114" y="382"/>
                  </a:lnTo>
                  <a:lnTo>
                    <a:pt x="1125" y="359"/>
                  </a:lnTo>
                  <a:lnTo>
                    <a:pt x="1167" y="366"/>
                  </a:lnTo>
                  <a:lnTo>
                    <a:pt x="1132" y="345"/>
                  </a:lnTo>
                  <a:lnTo>
                    <a:pt x="1105" y="347"/>
                  </a:lnTo>
                  <a:lnTo>
                    <a:pt x="1100" y="318"/>
                  </a:lnTo>
                  <a:lnTo>
                    <a:pt x="1100" y="299"/>
                  </a:lnTo>
                  <a:lnTo>
                    <a:pt x="1128" y="290"/>
                  </a:lnTo>
                  <a:lnTo>
                    <a:pt x="1135" y="272"/>
                  </a:lnTo>
                  <a:lnTo>
                    <a:pt x="1114" y="283"/>
                  </a:lnTo>
                  <a:lnTo>
                    <a:pt x="1091" y="297"/>
                  </a:lnTo>
                  <a:lnTo>
                    <a:pt x="1064" y="299"/>
                  </a:lnTo>
                  <a:lnTo>
                    <a:pt x="1077" y="331"/>
                  </a:lnTo>
                  <a:lnTo>
                    <a:pt x="1075" y="357"/>
                  </a:lnTo>
                  <a:lnTo>
                    <a:pt x="1075" y="377"/>
                  </a:lnTo>
                  <a:lnTo>
                    <a:pt x="1055" y="389"/>
                  </a:lnTo>
                  <a:lnTo>
                    <a:pt x="1033" y="395"/>
                  </a:lnTo>
                  <a:lnTo>
                    <a:pt x="1017" y="379"/>
                  </a:lnTo>
                  <a:lnTo>
                    <a:pt x="1019" y="359"/>
                  </a:lnTo>
                  <a:lnTo>
                    <a:pt x="1022" y="345"/>
                  </a:lnTo>
                  <a:lnTo>
                    <a:pt x="999" y="357"/>
                  </a:lnTo>
                  <a:lnTo>
                    <a:pt x="976" y="343"/>
                  </a:lnTo>
                  <a:lnTo>
                    <a:pt x="967" y="324"/>
                  </a:lnTo>
                  <a:lnTo>
                    <a:pt x="971" y="299"/>
                  </a:lnTo>
                  <a:lnTo>
                    <a:pt x="969" y="297"/>
                  </a:lnTo>
                  <a:lnTo>
                    <a:pt x="971" y="295"/>
                  </a:lnTo>
                  <a:lnTo>
                    <a:pt x="974" y="292"/>
                  </a:lnTo>
                  <a:lnTo>
                    <a:pt x="704" y="292"/>
                  </a:lnTo>
                  <a:lnTo>
                    <a:pt x="690" y="311"/>
                  </a:lnTo>
                  <a:lnTo>
                    <a:pt x="667" y="322"/>
                  </a:lnTo>
                  <a:lnTo>
                    <a:pt x="644" y="313"/>
                  </a:lnTo>
                  <a:lnTo>
                    <a:pt x="633" y="297"/>
                  </a:lnTo>
                  <a:lnTo>
                    <a:pt x="633" y="281"/>
                  </a:lnTo>
                  <a:lnTo>
                    <a:pt x="637" y="276"/>
                  </a:lnTo>
                  <a:lnTo>
                    <a:pt x="583" y="276"/>
                  </a:lnTo>
                  <a:lnTo>
                    <a:pt x="564" y="281"/>
                  </a:lnTo>
                  <a:lnTo>
                    <a:pt x="546" y="313"/>
                  </a:lnTo>
                  <a:lnTo>
                    <a:pt x="539" y="338"/>
                  </a:lnTo>
                  <a:lnTo>
                    <a:pt x="530" y="361"/>
                  </a:lnTo>
                  <a:lnTo>
                    <a:pt x="503" y="357"/>
                  </a:lnTo>
                  <a:lnTo>
                    <a:pt x="482" y="338"/>
                  </a:lnTo>
                  <a:lnTo>
                    <a:pt x="480" y="299"/>
                  </a:lnTo>
                  <a:lnTo>
                    <a:pt x="473" y="263"/>
                  </a:lnTo>
                  <a:lnTo>
                    <a:pt x="455" y="240"/>
                  </a:lnTo>
                  <a:lnTo>
                    <a:pt x="459" y="221"/>
                  </a:lnTo>
                  <a:lnTo>
                    <a:pt x="445" y="192"/>
                  </a:lnTo>
                  <a:lnTo>
                    <a:pt x="432" y="178"/>
                  </a:lnTo>
                  <a:lnTo>
                    <a:pt x="413" y="194"/>
                  </a:lnTo>
                  <a:lnTo>
                    <a:pt x="386" y="176"/>
                  </a:lnTo>
                  <a:lnTo>
                    <a:pt x="374" y="189"/>
                  </a:lnTo>
                  <a:lnTo>
                    <a:pt x="358" y="199"/>
                  </a:lnTo>
                  <a:lnTo>
                    <a:pt x="329" y="210"/>
                  </a:lnTo>
                  <a:lnTo>
                    <a:pt x="310" y="233"/>
                  </a:lnTo>
                  <a:lnTo>
                    <a:pt x="345" y="238"/>
                  </a:lnTo>
                  <a:lnTo>
                    <a:pt x="377" y="249"/>
                  </a:lnTo>
                  <a:lnTo>
                    <a:pt x="393" y="272"/>
                  </a:lnTo>
                  <a:lnTo>
                    <a:pt x="413" y="295"/>
                  </a:lnTo>
                  <a:lnTo>
                    <a:pt x="418" y="334"/>
                  </a:lnTo>
                  <a:lnTo>
                    <a:pt x="407" y="366"/>
                  </a:lnTo>
                  <a:lnTo>
                    <a:pt x="386" y="379"/>
                  </a:lnTo>
                  <a:lnTo>
                    <a:pt x="363" y="357"/>
                  </a:lnTo>
                  <a:lnTo>
                    <a:pt x="320" y="354"/>
                  </a:lnTo>
                  <a:lnTo>
                    <a:pt x="320" y="336"/>
                  </a:lnTo>
                  <a:lnTo>
                    <a:pt x="358" y="324"/>
                  </a:lnTo>
                  <a:lnTo>
                    <a:pt x="361" y="306"/>
                  </a:lnTo>
                  <a:lnTo>
                    <a:pt x="356" y="297"/>
                  </a:lnTo>
                  <a:lnTo>
                    <a:pt x="342" y="318"/>
                  </a:lnTo>
                  <a:lnTo>
                    <a:pt x="322" y="304"/>
                  </a:lnTo>
                  <a:lnTo>
                    <a:pt x="352" y="283"/>
                  </a:lnTo>
                  <a:lnTo>
                    <a:pt x="363" y="299"/>
                  </a:lnTo>
                  <a:lnTo>
                    <a:pt x="342" y="281"/>
                  </a:lnTo>
                  <a:lnTo>
                    <a:pt x="320" y="281"/>
                  </a:lnTo>
                  <a:lnTo>
                    <a:pt x="304" y="295"/>
                  </a:lnTo>
                  <a:lnTo>
                    <a:pt x="308" y="318"/>
                  </a:lnTo>
                  <a:lnTo>
                    <a:pt x="308" y="345"/>
                  </a:lnTo>
                  <a:lnTo>
                    <a:pt x="299" y="368"/>
                  </a:lnTo>
                  <a:lnTo>
                    <a:pt x="308" y="393"/>
                  </a:lnTo>
                  <a:lnTo>
                    <a:pt x="283" y="377"/>
                  </a:lnTo>
                  <a:lnTo>
                    <a:pt x="272" y="386"/>
                  </a:lnTo>
                  <a:lnTo>
                    <a:pt x="267" y="373"/>
                  </a:lnTo>
                  <a:lnTo>
                    <a:pt x="272" y="347"/>
                  </a:lnTo>
                  <a:lnTo>
                    <a:pt x="251" y="359"/>
                  </a:lnTo>
                  <a:lnTo>
                    <a:pt x="242" y="379"/>
                  </a:lnTo>
                  <a:lnTo>
                    <a:pt x="226" y="395"/>
                  </a:lnTo>
                  <a:lnTo>
                    <a:pt x="226" y="414"/>
                  </a:lnTo>
                  <a:lnTo>
                    <a:pt x="198" y="414"/>
                  </a:lnTo>
                  <a:lnTo>
                    <a:pt x="189" y="427"/>
                  </a:lnTo>
                  <a:lnTo>
                    <a:pt x="198" y="455"/>
                  </a:lnTo>
                  <a:lnTo>
                    <a:pt x="228" y="469"/>
                  </a:lnTo>
                  <a:lnTo>
                    <a:pt x="242" y="482"/>
                  </a:lnTo>
                  <a:lnTo>
                    <a:pt x="240" y="508"/>
                  </a:lnTo>
                  <a:lnTo>
                    <a:pt x="256" y="503"/>
                  </a:lnTo>
                  <a:lnTo>
                    <a:pt x="260" y="478"/>
                  </a:lnTo>
                  <a:lnTo>
                    <a:pt x="292" y="478"/>
                  </a:lnTo>
                  <a:lnTo>
                    <a:pt x="310" y="455"/>
                  </a:lnTo>
                  <a:lnTo>
                    <a:pt x="313" y="430"/>
                  </a:lnTo>
                  <a:lnTo>
                    <a:pt x="310" y="389"/>
                  </a:lnTo>
                  <a:lnTo>
                    <a:pt x="320" y="363"/>
                  </a:lnTo>
                  <a:lnTo>
                    <a:pt x="336" y="345"/>
                  </a:lnTo>
                  <a:lnTo>
                    <a:pt x="361" y="361"/>
                  </a:lnTo>
                  <a:lnTo>
                    <a:pt x="390" y="379"/>
                  </a:lnTo>
                  <a:lnTo>
                    <a:pt x="404" y="389"/>
                  </a:lnTo>
                  <a:lnTo>
                    <a:pt x="420" y="414"/>
                  </a:lnTo>
                  <a:lnTo>
                    <a:pt x="441" y="427"/>
                  </a:lnTo>
                  <a:lnTo>
                    <a:pt x="448" y="455"/>
                  </a:lnTo>
                  <a:lnTo>
                    <a:pt x="452" y="476"/>
                  </a:lnTo>
                  <a:lnTo>
                    <a:pt x="473" y="489"/>
                  </a:lnTo>
                  <a:lnTo>
                    <a:pt x="455" y="510"/>
                  </a:lnTo>
                  <a:lnTo>
                    <a:pt x="427" y="510"/>
                  </a:lnTo>
                  <a:lnTo>
                    <a:pt x="400" y="526"/>
                  </a:lnTo>
                  <a:lnTo>
                    <a:pt x="377" y="542"/>
                  </a:lnTo>
                  <a:lnTo>
                    <a:pt x="345" y="558"/>
                  </a:lnTo>
                  <a:lnTo>
                    <a:pt x="320" y="583"/>
                  </a:lnTo>
                  <a:lnTo>
                    <a:pt x="294" y="604"/>
                  </a:lnTo>
                  <a:lnTo>
                    <a:pt x="292" y="624"/>
                  </a:lnTo>
                  <a:lnTo>
                    <a:pt x="292" y="636"/>
                  </a:lnTo>
                  <a:lnTo>
                    <a:pt x="272" y="654"/>
                  </a:lnTo>
                  <a:lnTo>
                    <a:pt x="274" y="672"/>
                  </a:lnTo>
                  <a:lnTo>
                    <a:pt x="253" y="695"/>
                  </a:lnTo>
                  <a:lnTo>
                    <a:pt x="253" y="725"/>
                  </a:lnTo>
                  <a:lnTo>
                    <a:pt x="269" y="748"/>
                  </a:lnTo>
                  <a:lnTo>
                    <a:pt x="260" y="763"/>
                  </a:lnTo>
                  <a:lnTo>
                    <a:pt x="240" y="752"/>
                  </a:lnTo>
                  <a:lnTo>
                    <a:pt x="233" y="725"/>
                  </a:lnTo>
                  <a:lnTo>
                    <a:pt x="214" y="709"/>
                  </a:lnTo>
                  <a:lnTo>
                    <a:pt x="196" y="711"/>
                  </a:lnTo>
                  <a:lnTo>
                    <a:pt x="187" y="732"/>
                  </a:lnTo>
                  <a:lnTo>
                    <a:pt x="166" y="725"/>
                  </a:lnTo>
                  <a:lnTo>
                    <a:pt x="144" y="725"/>
                  </a:lnTo>
                  <a:lnTo>
                    <a:pt x="118" y="746"/>
                  </a:lnTo>
                  <a:lnTo>
                    <a:pt x="114" y="763"/>
                  </a:lnTo>
                  <a:lnTo>
                    <a:pt x="107" y="783"/>
                  </a:lnTo>
                  <a:lnTo>
                    <a:pt x="105" y="817"/>
                  </a:lnTo>
                  <a:lnTo>
                    <a:pt x="118" y="836"/>
                  </a:lnTo>
                  <a:lnTo>
                    <a:pt x="139" y="822"/>
                  </a:lnTo>
                  <a:lnTo>
                    <a:pt x="164" y="822"/>
                  </a:lnTo>
                  <a:lnTo>
                    <a:pt x="166" y="850"/>
                  </a:lnTo>
                  <a:lnTo>
                    <a:pt x="150" y="870"/>
                  </a:lnTo>
                  <a:lnTo>
                    <a:pt x="178" y="872"/>
                  </a:lnTo>
                  <a:lnTo>
                    <a:pt x="189" y="877"/>
                  </a:lnTo>
                  <a:lnTo>
                    <a:pt x="196" y="902"/>
                  </a:lnTo>
                  <a:lnTo>
                    <a:pt x="219" y="916"/>
                  </a:lnTo>
                  <a:lnTo>
                    <a:pt x="246" y="934"/>
                  </a:lnTo>
                  <a:lnTo>
                    <a:pt x="267" y="920"/>
                  </a:lnTo>
                  <a:lnTo>
                    <a:pt x="308" y="934"/>
                  </a:lnTo>
                  <a:lnTo>
                    <a:pt x="338" y="939"/>
                  </a:lnTo>
                  <a:lnTo>
                    <a:pt x="384" y="962"/>
                  </a:lnTo>
                  <a:lnTo>
                    <a:pt x="393" y="980"/>
                  </a:lnTo>
                  <a:lnTo>
                    <a:pt x="420" y="1003"/>
                  </a:lnTo>
                  <a:lnTo>
                    <a:pt x="434" y="1037"/>
                  </a:lnTo>
                  <a:lnTo>
                    <a:pt x="466" y="1051"/>
                  </a:lnTo>
                  <a:lnTo>
                    <a:pt x="496" y="1056"/>
                  </a:lnTo>
                  <a:lnTo>
                    <a:pt x="523" y="1081"/>
                  </a:lnTo>
                  <a:lnTo>
                    <a:pt x="562" y="1081"/>
                  </a:lnTo>
                  <a:lnTo>
                    <a:pt x="564" y="1104"/>
                  </a:lnTo>
                  <a:lnTo>
                    <a:pt x="564" y="1126"/>
                  </a:lnTo>
                  <a:lnTo>
                    <a:pt x="546" y="1149"/>
                  </a:lnTo>
                  <a:lnTo>
                    <a:pt x="544" y="1181"/>
                  </a:lnTo>
                  <a:lnTo>
                    <a:pt x="539" y="1209"/>
                  </a:lnTo>
                  <a:lnTo>
                    <a:pt x="519" y="1236"/>
                  </a:lnTo>
                  <a:lnTo>
                    <a:pt x="489" y="1250"/>
                  </a:lnTo>
                  <a:lnTo>
                    <a:pt x="464" y="1257"/>
                  </a:lnTo>
                  <a:lnTo>
                    <a:pt x="475" y="1282"/>
                  </a:lnTo>
                  <a:lnTo>
                    <a:pt x="452" y="1307"/>
                  </a:lnTo>
                  <a:lnTo>
                    <a:pt x="432" y="1330"/>
                  </a:lnTo>
                  <a:lnTo>
                    <a:pt x="407" y="1344"/>
                  </a:lnTo>
                  <a:lnTo>
                    <a:pt x="386" y="1378"/>
                  </a:lnTo>
                  <a:lnTo>
                    <a:pt x="374" y="1401"/>
                  </a:lnTo>
                  <a:lnTo>
                    <a:pt x="352" y="1413"/>
                  </a:lnTo>
                  <a:lnTo>
                    <a:pt x="336" y="1433"/>
                  </a:lnTo>
                  <a:lnTo>
                    <a:pt x="322" y="1454"/>
                  </a:lnTo>
                  <a:lnTo>
                    <a:pt x="313" y="1474"/>
                  </a:lnTo>
                  <a:lnTo>
                    <a:pt x="315" y="1493"/>
                  </a:lnTo>
                  <a:lnTo>
                    <a:pt x="304" y="1509"/>
                  </a:lnTo>
                  <a:lnTo>
                    <a:pt x="288" y="1481"/>
                  </a:lnTo>
                  <a:lnTo>
                    <a:pt x="262" y="1458"/>
                  </a:lnTo>
                  <a:lnTo>
                    <a:pt x="253" y="1429"/>
                  </a:lnTo>
                  <a:lnTo>
                    <a:pt x="253" y="1401"/>
                  </a:lnTo>
                  <a:lnTo>
                    <a:pt x="251" y="1367"/>
                  </a:lnTo>
                  <a:lnTo>
                    <a:pt x="262" y="1323"/>
                  </a:lnTo>
                  <a:lnTo>
                    <a:pt x="267" y="1282"/>
                  </a:lnTo>
                  <a:lnTo>
                    <a:pt x="260" y="1241"/>
                  </a:lnTo>
                  <a:lnTo>
                    <a:pt x="251" y="1209"/>
                  </a:lnTo>
                  <a:lnTo>
                    <a:pt x="226" y="1181"/>
                  </a:lnTo>
                  <a:lnTo>
                    <a:pt x="198" y="1158"/>
                  </a:lnTo>
                  <a:lnTo>
                    <a:pt x="178" y="1124"/>
                  </a:lnTo>
                  <a:lnTo>
                    <a:pt x="173" y="1088"/>
                  </a:lnTo>
                  <a:lnTo>
                    <a:pt x="187" y="1062"/>
                  </a:lnTo>
                  <a:lnTo>
                    <a:pt x="187" y="1039"/>
                  </a:lnTo>
                  <a:lnTo>
                    <a:pt x="198" y="1001"/>
                  </a:lnTo>
                  <a:lnTo>
                    <a:pt x="217" y="973"/>
                  </a:lnTo>
                  <a:lnTo>
                    <a:pt x="240" y="955"/>
                  </a:lnTo>
                  <a:lnTo>
                    <a:pt x="249" y="939"/>
                  </a:lnTo>
                  <a:lnTo>
                    <a:pt x="219" y="927"/>
                  </a:lnTo>
                  <a:lnTo>
                    <a:pt x="201" y="934"/>
                  </a:lnTo>
                  <a:lnTo>
                    <a:pt x="185" y="925"/>
                  </a:lnTo>
                  <a:lnTo>
                    <a:pt x="160" y="907"/>
                  </a:lnTo>
                  <a:lnTo>
                    <a:pt x="137" y="891"/>
                  </a:lnTo>
                  <a:lnTo>
                    <a:pt x="125" y="866"/>
                  </a:lnTo>
                  <a:lnTo>
                    <a:pt x="114" y="859"/>
                  </a:lnTo>
                  <a:lnTo>
                    <a:pt x="102" y="870"/>
                  </a:lnTo>
                  <a:lnTo>
                    <a:pt x="75" y="854"/>
                  </a:lnTo>
                  <a:lnTo>
                    <a:pt x="61" y="834"/>
                  </a:lnTo>
                  <a:lnTo>
                    <a:pt x="50" y="817"/>
                  </a:lnTo>
                  <a:lnTo>
                    <a:pt x="50" y="788"/>
                  </a:lnTo>
                  <a:lnTo>
                    <a:pt x="45" y="774"/>
                  </a:lnTo>
                  <a:lnTo>
                    <a:pt x="25" y="756"/>
                  </a:lnTo>
                  <a:lnTo>
                    <a:pt x="25" y="772"/>
                  </a:lnTo>
                  <a:lnTo>
                    <a:pt x="36" y="792"/>
                  </a:lnTo>
                  <a:lnTo>
                    <a:pt x="41" y="811"/>
                  </a:lnTo>
                  <a:lnTo>
                    <a:pt x="20" y="797"/>
                  </a:lnTo>
                  <a:lnTo>
                    <a:pt x="6" y="781"/>
                  </a:lnTo>
                  <a:lnTo>
                    <a:pt x="2" y="758"/>
                  </a:lnTo>
                  <a:lnTo>
                    <a:pt x="4" y="723"/>
                  </a:lnTo>
                  <a:lnTo>
                    <a:pt x="0" y="675"/>
                  </a:lnTo>
                  <a:lnTo>
                    <a:pt x="4" y="613"/>
                  </a:lnTo>
                  <a:lnTo>
                    <a:pt x="20" y="526"/>
                  </a:lnTo>
                  <a:lnTo>
                    <a:pt x="48" y="437"/>
                  </a:lnTo>
                  <a:lnTo>
                    <a:pt x="93" y="334"/>
                  </a:lnTo>
                  <a:lnTo>
                    <a:pt x="130" y="260"/>
                  </a:lnTo>
                  <a:lnTo>
                    <a:pt x="185" y="178"/>
                  </a:lnTo>
                  <a:lnTo>
                    <a:pt x="228" y="130"/>
                  </a:lnTo>
                  <a:close/>
                </a:path>
              </a:pathLst>
            </a:custGeom>
            <a:solidFill>
              <a:srgbClr val="2144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03720" y="1413000"/>
              <a:ext cx="743400" cy="541800"/>
            </a:xfrm>
            <a:custGeom>
              <a:avLst/>
              <a:gdLst/>
              <a:ahLst/>
              <a:rect l="0" t="0" r="r" b="b"/>
              <a:pathLst>
                <a:path w="2065" h="1505">
                  <a:moveTo>
                    <a:pt x="210" y="137"/>
                  </a:moveTo>
                  <a:lnTo>
                    <a:pt x="235" y="135"/>
                  </a:lnTo>
                  <a:lnTo>
                    <a:pt x="253" y="116"/>
                  </a:lnTo>
                  <a:lnTo>
                    <a:pt x="274" y="105"/>
                  </a:lnTo>
                  <a:lnTo>
                    <a:pt x="285" y="91"/>
                  </a:lnTo>
                  <a:lnTo>
                    <a:pt x="311" y="75"/>
                  </a:lnTo>
                  <a:lnTo>
                    <a:pt x="331" y="68"/>
                  </a:lnTo>
                  <a:lnTo>
                    <a:pt x="352" y="61"/>
                  </a:lnTo>
                  <a:lnTo>
                    <a:pt x="368" y="61"/>
                  </a:lnTo>
                  <a:lnTo>
                    <a:pt x="379" y="54"/>
                  </a:lnTo>
                  <a:lnTo>
                    <a:pt x="398" y="54"/>
                  </a:lnTo>
                  <a:lnTo>
                    <a:pt x="404" y="43"/>
                  </a:lnTo>
                  <a:lnTo>
                    <a:pt x="425" y="48"/>
                  </a:lnTo>
                  <a:lnTo>
                    <a:pt x="446" y="36"/>
                  </a:lnTo>
                  <a:lnTo>
                    <a:pt x="462" y="43"/>
                  </a:lnTo>
                  <a:lnTo>
                    <a:pt x="471" y="52"/>
                  </a:lnTo>
                  <a:lnTo>
                    <a:pt x="462" y="61"/>
                  </a:lnTo>
                  <a:lnTo>
                    <a:pt x="446" y="54"/>
                  </a:lnTo>
                  <a:lnTo>
                    <a:pt x="430" y="64"/>
                  </a:lnTo>
                  <a:lnTo>
                    <a:pt x="420" y="77"/>
                  </a:lnTo>
                  <a:lnTo>
                    <a:pt x="416" y="93"/>
                  </a:lnTo>
                  <a:lnTo>
                    <a:pt x="400" y="96"/>
                  </a:lnTo>
                  <a:lnTo>
                    <a:pt x="379" y="105"/>
                  </a:lnTo>
                  <a:lnTo>
                    <a:pt x="377" y="128"/>
                  </a:lnTo>
                  <a:lnTo>
                    <a:pt x="375" y="146"/>
                  </a:lnTo>
                  <a:lnTo>
                    <a:pt x="368" y="160"/>
                  </a:lnTo>
                  <a:lnTo>
                    <a:pt x="377" y="173"/>
                  </a:lnTo>
                  <a:lnTo>
                    <a:pt x="386" y="137"/>
                  </a:lnTo>
                  <a:lnTo>
                    <a:pt x="400" y="130"/>
                  </a:lnTo>
                  <a:lnTo>
                    <a:pt x="416" y="112"/>
                  </a:lnTo>
                  <a:lnTo>
                    <a:pt x="427" y="86"/>
                  </a:lnTo>
                  <a:lnTo>
                    <a:pt x="455" y="82"/>
                  </a:lnTo>
                  <a:lnTo>
                    <a:pt x="478" y="70"/>
                  </a:lnTo>
                  <a:lnTo>
                    <a:pt x="491" y="50"/>
                  </a:lnTo>
                  <a:lnTo>
                    <a:pt x="510" y="50"/>
                  </a:lnTo>
                  <a:lnTo>
                    <a:pt x="554" y="48"/>
                  </a:lnTo>
                  <a:lnTo>
                    <a:pt x="600" y="36"/>
                  </a:lnTo>
                  <a:lnTo>
                    <a:pt x="614" y="36"/>
                  </a:lnTo>
                  <a:lnTo>
                    <a:pt x="634" y="36"/>
                  </a:lnTo>
                  <a:lnTo>
                    <a:pt x="655" y="36"/>
                  </a:lnTo>
                  <a:lnTo>
                    <a:pt x="673" y="43"/>
                  </a:lnTo>
                  <a:lnTo>
                    <a:pt x="696" y="61"/>
                  </a:lnTo>
                  <a:lnTo>
                    <a:pt x="687" y="64"/>
                  </a:lnTo>
                  <a:lnTo>
                    <a:pt x="662" y="73"/>
                  </a:lnTo>
                  <a:lnTo>
                    <a:pt x="664" y="93"/>
                  </a:lnTo>
                  <a:lnTo>
                    <a:pt x="685" y="96"/>
                  </a:lnTo>
                  <a:lnTo>
                    <a:pt x="694" y="96"/>
                  </a:lnTo>
                  <a:lnTo>
                    <a:pt x="689" y="112"/>
                  </a:lnTo>
                  <a:lnTo>
                    <a:pt x="664" y="135"/>
                  </a:lnTo>
                  <a:lnTo>
                    <a:pt x="650" y="137"/>
                  </a:lnTo>
                  <a:lnTo>
                    <a:pt x="653" y="151"/>
                  </a:lnTo>
                  <a:lnTo>
                    <a:pt x="657" y="160"/>
                  </a:lnTo>
                  <a:lnTo>
                    <a:pt x="650" y="173"/>
                  </a:lnTo>
                  <a:lnTo>
                    <a:pt x="662" y="192"/>
                  </a:lnTo>
                  <a:lnTo>
                    <a:pt x="637" y="199"/>
                  </a:lnTo>
                  <a:lnTo>
                    <a:pt x="614" y="205"/>
                  </a:lnTo>
                  <a:lnTo>
                    <a:pt x="611" y="231"/>
                  </a:lnTo>
                  <a:lnTo>
                    <a:pt x="600" y="251"/>
                  </a:lnTo>
                  <a:lnTo>
                    <a:pt x="584" y="267"/>
                  </a:lnTo>
                  <a:lnTo>
                    <a:pt x="563" y="276"/>
                  </a:lnTo>
                  <a:lnTo>
                    <a:pt x="611" y="276"/>
                  </a:lnTo>
                  <a:lnTo>
                    <a:pt x="637" y="276"/>
                  </a:lnTo>
                  <a:lnTo>
                    <a:pt x="653" y="281"/>
                  </a:lnTo>
                  <a:lnTo>
                    <a:pt x="673" y="272"/>
                  </a:lnTo>
                  <a:lnTo>
                    <a:pt x="685" y="292"/>
                  </a:lnTo>
                  <a:lnTo>
                    <a:pt x="952" y="292"/>
                  </a:lnTo>
                  <a:lnTo>
                    <a:pt x="961" y="276"/>
                  </a:lnTo>
                  <a:lnTo>
                    <a:pt x="991" y="256"/>
                  </a:lnTo>
                  <a:lnTo>
                    <a:pt x="1003" y="228"/>
                  </a:lnTo>
                  <a:lnTo>
                    <a:pt x="1026" y="201"/>
                  </a:lnTo>
                  <a:lnTo>
                    <a:pt x="1039" y="178"/>
                  </a:lnTo>
                  <a:lnTo>
                    <a:pt x="1048" y="153"/>
                  </a:lnTo>
                  <a:lnTo>
                    <a:pt x="1069" y="146"/>
                  </a:lnTo>
                  <a:lnTo>
                    <a:pt x="1076" y="130"/>
                  </a:lnTo>
                  <a:lnTo>
                    <a:pt x="1092" y="137"/>
                  </a:lnTo>
                  <a:lnTo>
                    <a:pt x="1108" y="123"/>
                  </a:lnTo>
                  <a:lnTo>
                    <a:pt x="1122" y="135"/>
                  </a:lnTo>
                  <a:lnTo>
                    <a:pt x="1142" y="144"/>
                  </a:lnTo>
                  <a:lnTo>
                    <a:pt x="1161" y="148"/>
                  </a:lnTo>
                  <a:lnTo>
                    <a:pt x="1181" y="153"/>
                  </a:lnTo>
                  <a:lnTo>
                    <a:pt x="1195" y="146"/>
                  </a:lnTo>
                  <a:lnTo>
                    <a:pt x="1213" y="155"/>
                  </a:lnTo>
                  <a:lnTo>
                    <a:pt x="1227" y="173"/>
                  </a:lnTo>
                  <a:lnTo>
                    <a:pt x="1250" y="178"/>
                  </a:lnTo>
                  <a:lnTo>
                    <a:pt x="1254" y="199"/>
                  </a:lnTo>
                  <a:lnTo>
                    <a:pt x="1247" y="212"/>
                  </a:lnTo>
                  <a:lnTo>
                    <a:pt x="1215" y="205"/>
                  </a:lnTo>
                  <a:lnTo>
                    <a:pt x="1193" y="196"/>
                  </a:lnTo>
                  <a:lnTo>
                    <a:pt x="1190" y="212"/>
                  </a:lnTo>
                  <a:lnTo>
                    <a:pt x="1222" y="217"/>
                  </a:lnTo>
                  <a:lnTo>
                    <a:pt x="1247" y="235"/>
                  </a:lnTo>
                  <a:lnTo>
                    <a:pt x="1282" y="222"/>
                  </a:lnTo>
                  <a:lnTo>
                    <a:pt x="1291" y="194"/>
                  </a:lnTo>
                  <a:lnTo>
                    <a:pt x="1307" y="171"/>
                  </a:lnTo>
                  <a:lnTo>
                    <a:pt x="1328" y="176"/>
                  </a:lnTo>
                  <a:lnTo>
                    <a:pt x="1323" y="187"/>
                  </a:lnTo>
                  <a:lnTo>
                    <a:pt x="1312" y="199"/>
                  </a:lnTo>
                  <a:lnTo>
                    <a:pt x="1312" y="217"/>
                  </a:lnTo>
                  <a:lnTo>
                    <a:pt x="1332" y="196"/>
                  </a:lnTo>
                  <a:lnTo>
                    <a:pt x="1353" y="178"/>
                  </a:lnTo>
                  <a:lnTo>
                    <a:pt x="1387" y="173"/>
                  </a:lnTo>
                  <a:lnTo>
                    <a:pt x="1428" y="160"/>
                  </a:lnTo>
                  <a:lnTo>
                    <a:pt x="1460" y="146"/>
                  </a:lnTo>
                  <a:lnTo>
                    <a:pt x="1467" y="128"/>
                  </a:lnTo>
                  <a:lnTo>
                    <a:pt x="1440" y="130"/>
                  </a:lnTo>
                  <a:lnTo>
                    <a:pt x="1417" y="112"/>
                  </a:lnTo>
                  <a:lnTo>
                    <a:pt x="1401" y="86"/>
                  </a:lnTo>
                  <a:lnTo>
                    <a:pt x="1417" y="54"/>
                  </a:lnTo>
                  <a:lnTo>
                    <a:pt x="1442" y="34"/>
                  </a:lnTo>
                  <a:lnTo>
                    <a:pt x="1463" y="11"/>
                  </a:lnTo>
                  <a:lnTo>
                    <a:pt x="1495" y="11"/>
                  </a:lnTo>
                  <a:lnTo>
                    <a:pt x="1520" y="0"/>
                  </a:lnTo>
                  <a:lnTo>
                    <a:pt x="1517" y="16"/>
                  </a:lnTo>
                  <a:lnTo>
                    <a:pt x="1497" y="20"/>
                  </a:lnTo>
                  <a:lnTo>
                    <a:pt x="1490" y="27"/>
                  </a:lnTo>
                  <a:lnTo>
                    <a:pt x="1469" y="29"/>
                  </a:lnTo>
                  <a:lnTo>
                    <a:pt x="1456" y="48"/>
                  </a:lnTo>
                  <a:lnTo>
                    <a:pt x="1446" y="68"/>
                  </a:lnTo>
                  <a:lnTo>
                    <a:pt x="1440" y="86"/>
                  </a:lnTo>
                  <a:lnTo>
                    <a:pt x="1463" y="123"/>
                  </a:lnTo>
                  <a:lnTo>
                    <a:pt x="1499" y="137"/>
                  </a:lnTo>
                  <a:lnTo>
                    <a:pt x="1524" y="151"/>
                  </a:lnTo>
                  <a:lnTo>
                    <a:pt x="1538" y="155"/>
                  </a:lnTo>
                  <a:lnTo>
                    <a:pt x="1550" y="173"/>
                  </a:lnTo>
                  <a:lnTo>
                    <a:pt x="1562" y="171"/>
                  </a:lnTo>
                  <a:lnTo>
                    <a:pt x="1562" y="155"/>
                  </a:lnTo>
                  <a:lnTo>
                    <a:pt x="1555" y="137"/>
                  </a:lnTo>
                  <a:lnTo>
                    <a:pt x="1543" y="125"/>
                  </a:lnTo>
                  <a:lnTo>
                    <a:pt x="1540" y="112"/>
                  </a:lnTo>
                  <a:lnTo>
                    <a:pt x="1550" y="86"/>
                  </a:lnTo>
                  <a:lnTo>
                    <a:pt x="1576" y="86"/>
                  </a:lnTo>
                  <a:lnTo>
                    <a:pt x="1596" y="86"/>
                  </a:lnTo>
                  <a:lnTo>
                    <a:pt x="1605" y="96"/>
                  </a:lnTo>
                  <a:lnTo>
                    <a:pt x="1612" y="119"/>
                  </a:lnTo>
                  <a:lnTo>
                    <a:pt x="1621" y="137"/>
                  </a:lnTo>
                  <a:lnTo>
                    <a:pt x="1626" y="119"/>
                  </a:lnTo>
                  <a:lnTo>
                    <a:pt x="1644" y="105"/>
                  </a:lnTo>
                  <a:lnTo>
                    <a:pt x="1665" y="105"/>
                  </a:lnTo>
                  <a:lnTo>
                    <a:pt x="1681" y="105"/>
                  </a:lnTo>
                  <a:lnTo>
                    <a:pt x="1699" y="107"/>
                  </a:lnTo>
                  <a:lnTo>
                    <a:pt x="1699" y="86"/>
                  </a:lnTo>
                  <a:lnTo>
                    <a:pt x="1715" y="86"/>
                  </a:lnTo>
                  <a:lnTo>
                    <a:pt x="1724" y="102"/>
                  </a:lnTo>
                  <a:lnTo>
                    <a:pt x="1747" y="102"/>
                  </a:lnTo>
                  <a:lnTo>
                    <a:pt x="1768" y="93"/>
                  </a:lnTo>
                  <a:lnTo>
                    <a:pt x="1788" y="112"/>
                  </a:lnTo>
                  <a:lnTo>
                    <a:pt x="1814" y="135"/>
                  </a:lnTo>
                  <a:lnTo>
                    <a:pt x="1841" y="137"/>
                  </a:lnTo>
                  <a:lnTo>
                    <a:pt x="1875" y="153"/>
                  </a:lnTo>
                  <a:lnTo>
                    <a:pt x="1887" y="151"/>
                  </a:lnTo>
                  <a:lnTo>
                    <a:pt x="1914" y="196"/>
                  </a:lnTo>
                  <a:lnTo>
                    <a:pt x="1953" y="267"/>
                  </a:lnTo>
                  <a:lnTo>
                    <a:pt x="1983" y="311"/>
                  </a:lnTo>
                  <a:lnTo>
                    <a:pt x="1997" y="352"/>
                  </a:lnTo>
                  <a:lnTo>
                    <a:pt x="1976" y="361"/>
                  </a:lnTo>
                  <a:lnTo>
                    <a:pt x="1969" y="380"/>
                  </a:lnTo>
                  <a:lnTo>
                    <a:pt x="1976" y="415"/>
                  </a:lnTo>
                  <a:lnTo>
                    <a:pt x="1990" y="447"/>
                  </a:lnTo>
                  <a:lnTo>
                    <a:pt x="2003" y="447"/>
                  </a:lnTo>
                  <a:lnTo>
                    <a:pt x="2003" y="422"/>
                  </a:lnTo>
                  <a:lnTo>
                    <a:pt x="2017" y="415"/>
                  </a:lnTo>
                  <a:lnTo>
                    <a:pt x="2026" y="438"/>
                  </a:lnTo>
                  <a:lnTo>
                    <a:pt x="2008" y="447"/>
                  </a:lnTo>
                  <a:lnTo>
                    <a:pt x="2036" y="470"/>
                  </a:lnTo>
                  <a:lnTo>
                    <a:pt x="2015" y="497"/>
                  </a:lnTo>
                  <a:lnTo>
                    <a:pt x="2010" y="511"/>
                  </a:lnTo>
                  <a:lnTo>
                    <a:pt x="2045" y="520"/>
                  </a:lnTo>
                  <a:lnTo>
                    <a:pt x="2029" y="538"/>
                  </a:lnTo>
                  <a:lnTo>
                    <a:pt x="2013" y="545"/>
                  </a:lnTo>
                  <a:lnTo>
                    <a:pt x="2013" y="577"/>
                  </a:lnTo>
                  <a:lnTo>
                    <a:pt x="2029" y="605"/>
                  </a:lnTo>
                  <a:lnTo>
                    <a:pt x="2013" y="612"/>
                  </a:lnTo>
                  <a:lnTo>
                    <a:pt x="1983" y="602"/>
                  </a:lnTo>
                  <a:lnTo>
                    <a:pt x="1994" y="589"/>
                  </a:lnTo>
                  <a:lnTo>
                    <a:pt x="2015" y="589"/>
                  </a:lnTo>
                  <a:lnTo>
                    <a:pt x="2015" y="552"/>
                  </a:lnTo>
                  <a:lnTo>
                    <a:pt x="1992" y="564"/>
                  </a:lnTo>
                  <a:lnTo>
                    <a:pt x="1990" y="538"/>
                  </a:lnTo>
                  <a:lnTo>
                    <a:pt x="2010" y="520"/>
                  </a:lnTo>
                  <a:lnTo>
                    <a:pt x="2015" y="499"/>
                  </a:lnTo>
                  <a:lnTo>
                    <a:pt x="2003" y="474"/>
                  </a:lnTo>
                  <a:lnTo>
                    <a:pt x="2003" y="445"/>
                  </a:lnTo>
                  <a:lnTo>
                    <a:pt x="1987" y="456"/>
                  </a:lnTo>
                  <a:lnTo>
                    <a:pt x="1971" y="479"/>
                  </a:lnTo>
                  <a:lnTo>
                    <a:pt x="1946" y="499"/>
                  </a:lnTo>
                  <a:lnTo>
                    <a:pt x="1953" y="527"/>
                  </a:lnTo>
                  <a:lnTo>
                    <a:pt x="1951" y="552"/>
                  </a:lnTo>
                  <a:lnTo>
                    <a:pt x="1951" y="568"/>
                  </a:lnTo>
                  <a:lnTo>
                    <a:pt x="1965" y="589"/>
                  </a:lnTo>
                  <a:lnTo>
                    <a:pt x="1953" y="600"/>
                  </a:lnTo>
                  <a:lnTo>
                    <a:pt x="1928" y="573"/>
                  </a:lnTo>
                  <a:lnTo>
                    <a:pt x="1914" y="545"/>
                  </a:lnTo>
                  <a:lnTo>
                    <a:pt x="1905" y="525"/>
                  </a:lnTo>
                  <a:lnTo>
                    <a:pt x="1894" y="515"/>
                  </a:lnTo>
                  <a:lnTo>
                    <a:pt x="1873" y="527"/>
                  </a:lnTo>
                  <a:lnTo>
                    <a:pt x="1864" y="548"/>
                  </a:lnTo>
                  <a:lnTo>
                    <a:pt x="1889" y="573"/>
                  </a:lnTo>
                  <a:lnTo>
                    <a:pt x="1903" y="600"/>
                  </a:lnTo>
                  <a:lnTo>
                    <a:pt x="1905" y="632"/>
                  </a:lnTo>
                  <a:lnTo>
                    <a:pt x="1903" y="664"/>
                  </a:lnTo>
                  <a:lnTo>
                    <a:pt x="1903" y="689"/>
                  </a:lnTo>
                  <a:lnTo>
                    <a:pt x="1917" y="671"/>
                  </a:lnTo>
                  <a:lnTo>
                    <a:pt x="1937" y="673"/>
                  </a:lnTo>
                  <a:lnTo>
                    <a:pt x="1944" y="694"/>
                  </a:lnTo>
                  <a:lnTo>
                    <a:pt x="1928" y="715"/>
                  </a:lnTo>
                  <a:lnTo>
                    <a:pt x="1910" y="712"/>
                  </a:lnTo>
                  <a:lnTo>
                    <a:pt x="1905" y="731"/>
                  </a:lnTo>
                  <a:lnTo>
                    <a:pt x="1921" y="749"/>
                  </a:lnTo>
                  <a:lnTo>
                    <a:pt x="1914" y="772"/>
                  </a:lnTo>
                  <a:lnTo>
                    <a:pt x="1935" y="790"/>
                  </a:lnTo>
                  <a:lnTo>
                    <a:pt x="1921" y="806"/>
                  </a:lnTo>
                  <a:lnTo>
                    <a:pt x="1942" y="827"/>
                  </a:lnTo>
                  <a:lnTo>
                    <a:pt x="1928" y="847"/>
                  </a:lnTo>
                  <a:lnTo>
                    <a:pt x="1951" y="834"/>
                  </a:lnTo>
                  <a:lnTo>
                    <a:pt x="1944" y="854"/>
                  </a:lnTo>
                  <a:lnTo>
                    <a:pt x="1985" y="847"/>
                  </a:lnTo>
                  <a:lnTo>
                    <a:pt x="1971" y="873"/>
                  </a:lnTo>
                  <a:lnTo>
                    <a:pt x="1944" y="854"/>
                  </a:lnTo>
                  <a:lnTo>
                    <a:pt x="1942" y="882"/>
                  </a:lnTo>
                  <a:lnTo>
                    <a:pt x="1983" y="879"/>
                  </a:lnTo>
                  <a:lnTo>
                    <a:pt x="1965" y="909"/>
                  </a:lnTo>
                  <a:lnTo>
                    <a:pt x="1937" y="877"/>
                  </a:lnTo>
                  <a:lnTo>
                    <a:pt x="1951" y="921"/>
                  </a:lnTo>
                  <a:lnTo>
                    <a:pt x="1985" y="950"/>
                  </a:lnTo>
                  <a:lnTo>
                    <a:pt x="1953" y="950"/>
                  </a:lnTo>
                  <a:lnTo>
                    <a:pt x="1937" y="882"/>
                  </a:lnTo>
                  <a:lnTo>
                    <a:pt x="1944" y="838"/>
                  </a:lnTo>
                  <a:lnTo>
                    <a:pt x="1921" y="838"/>
                  </a:lnTo>
                  <a:lnTo>
                    <a:pt x="1903" y="813"/>
                  </a:lnTo>
                  <a:lnTo>
                    <a:pt x="1921" y="804"/>
                  </a:lnTo>
                  <a:lnTo>
                    <a:pt x="1921" y="776"/>
                  </a:lnTo>
                  <a:lnTo>
                    <a:pt x="1910" y="724"/>
                  </a:lnTo>
                  <a:lnTo>
                    <a:pt x="1905" y="687"/>
                  </a:lnTo>
                  <a:lnTo>
                    <a:pt x="1903" y="660"/>
                  </a:lnTo>
                  <a:lnTo>
                    <a:pt x="1880" y="689"/>
                  </a:lnTo>
                  <a:lnTo>
                    <a:pt x="1846" y="703"/>
                  </a:lnTo>
                  <a:lnTo>
                    <a:pt x="1827" y="726"/>
                  </a:lnTo>
                  <a:lnTo>
                    <a:pt x="1834" y="751"/>
                  </a:lnTo>
                  <a:lnTo>
                    <a:pt x="1820" y="772"/>
                  </a:lnTo>
                  <a:lnTo>
                    <a:pt x="1798" y="765"/>
                  </a:lnTo>
                  <a:lnTo>
                    <a:pt x="1818" y="737"/>
                  </a:lnTo>
                  <a:lnTo>
                    <a:pt x="1802" y="728"/>
                  </a:lnTo>
                  <a:lnTo>
                    <a:pt x="1784" y="744"/>
                  </a:lnTo>
                  <a:lnTo>
                    <a:pt x="1784" y="770"/>
                  </a:lnTo>
                  <a:lnTo>
                    <a:pt x="1818" y="804"/>
                  </a:lnTo>
                  <a:lnTo>
                    <a:pt x="1827" y="829"/>
                  </a:lnTo>
                  <a:lnTo>
                    <a:pt x="1800" y="866"/>
                  </a:lnTo>
                  <a:lnTo>
                    <a:pt x="1800" y="943"/>
                  </a:lnTo>
                  <a:lnTo>
                    <a:pt x="1800" y="978"/>
                  </a:lnTo>
                  <a:lnTo>
                    <a:pt x="1804" y="998"/>
                  </a:lnTo>
                  <a:lnTo>
                    <a:pt x="1843" y="996"/>
                  </a:lnTo>
                  <a:lnTo>
                    <a:pt x="1868" y="1001"/>
                  </a:lnTo>
                  <a:lnTo>
                    <a:pt x="1887" y="971"/>
                  </a:lnTo>
                  <a:lnTo>
                    <a:pt x="1905" y="971"/>
                  </a:lnTo>
                  <a:lnTo>
                    <a:pt x="1896" y="989"/>
                  </a:lnTo>
                  <a:lnTo>
                    <a:pt x="1921" y="1010"/>
                  </a:lnTo>
                  <a:lnTo>
                    <a:pt x="1951" y="1014"/>
                  </a:lnTo>
                  <a:lnTo>
                    <a:pt x="1946" y="996"/>
                  </a:lnTo>
                  <a:lnTo>
                    <a:pt x="2013" y="996"/>
                  </a:lnTo>
                  <a:lnTo>
                    <a:pt x="1990" y="1003"/>
                  </a:lnTo>
                  <a:lnTo>
                    <a:pt x="1987" y="1021"/>
                  </a:lnTo>
                  <a:lnTo>
                    <a:pt x="2017" y="1030"/>
                  </a:lnTo>
                  <a:lnTo>
                    <a:pt x="2047" y="1040"/>
                  </a:lnTo>
                  <a:lnTo>
                    <a:pt x="2061" y="1005"/>
                  </a:lnTo>
                  <a:lnTo>
                    <a:pt x="2065" y="989"/>
                  </a:lnTo>
                  <a:lnTo>
                    <a:pt x="2045" y="992"/>
                  </a:lnTo>
                  <a:lnTo>
                    <a:pt x="2026" y="980"/>
                  </a:lnTo>
                  <a:lnTo>
                    <a:pt x="2013" y="976"/>
                  </a:lnTo>
                  <a:lnTo>
                    <a:pt x="2003" y="1001"/>
                  </a:lnTo>
                  <a:lnTo>
                    <a:pt x="2003" y="998"/>
                  </a:lnTo>
                  <a:lnTo>
                    <a:pt x="1942" y="998"/>
                  </a:lnTo>
                  <a:lnTo>
                    <a:pt x="1928" y="964"/>
                  </a:lnTo>
                  <a:lnTo>
                    <a:pt x="1910" y="973"/>
                  </a:lnTo>
                  <a:lnTo>
                    <a:pt x="1889" y="971"/>
                  </a:lnTo>
                  <a:lnTo>
                    <a:pt x="1880" y="934"/>
                  </a:lnTo>
                  <a:lnTo>
                    <a:pt x="1871" y="914"/>
                  </a:lnTo>
                  <a:lnTo>
                    <a:pt x="1891" y="902"/>
                  </a:lnTo>
                  <a:lnTo>
                    <a:pt x="1891" y="882"/>
                  </a:lnTo>
                  <a:lnTo>
                    <a:pt x="1862" y="895"/>
                  </a:lnTo>
                  <a:lnTo>
                    <a:pt x="1841" y="914"/>
                  </a:lnTo>
                  <a:lnTo>
                    <a:pt x="1827" y="939"/>
                  </a:lnTo>
                  <a:lnTo>
                    <a:pt x="1800" y="939"/>
                  </a:lnTo>
                  <a:lnTo>
                    <a:pt x="1800" y="875"/>
                  </a:lnTo>
                  <a:lnTo>
                    <a:pt x="1786" y="889"/>
                  </a:lnTo>
                  <a:lnTo>
                    <a:pt x="1768" y="859"/>
                  </a:lnTo>
                  <a:lnTo>
                    <a:pt x="1745" y="831"/>
                  </a:lnTo>
                  <a:lnTo>
                    <a:pt x="1717" y="838"/>
                  </a:lnTo>
                  <a:lnTo>
                    <a:pt x="1715" y="866"/>
                  </a:lnTo>
                  <a:lnTo>
                    <a:pt x="1727" y="900"/>
                  </a:lnTo>
                  <a:lnTo>
                    <a:pt x="1727" y="930"/>
                  </a:lnTo>
                  <a:lnTo>
                    <a:pt x="1747" y="957"/>
                  </a:lnTo>
                  <a:lnTo>
                    <a:pt x="1761" y="973"/>
                  </a:lnTo>
                  <a:lnTo>
                    <a:pt x="1738" y="973"/>
                  </a:lnTo>
                  <a:lnTo>
                    <a:pt x="1720" y="957"/>
                  </a:lnTo>
                  <a:lnTo>
                    <a:pt x="1711" y="976"/>
                  </a:lnTo>
                  <a:lnTo>
                    <a:pt x="1743" y="1014"/>
                  </a:lnTo>
                  <a:lnTo>
                    <a:pt x="1768" y="1035"/>
                  </a:lnTo>
                  <a:lnTo>
                    <a:pt x="1791" y="1033"/>
                  </a:lnTo>
                  <a:lnTo>
                    <a:pt x="1818" y="1040"/>
                  </a:lnTo>
                  <a:lnTo>
                    <a:pt x="1850" y="1040"/>
                  </a:lnTo>
                  <a:lnTo>
                    <a:pt x="1880" y="1035"/>
                  </a:lnTo>
                  <a:lnTo>
                    <a:pt x="1910" y="1051"/>
                  </a:lnTo>
                  <a:lnTo>
                    <a:pt x="1903" y="1056"/>
                  </a:lnTo>
                  <a:lnTo>
                    <a:pt x="1871" y="1046"/>
                  </a:lnTo>
                  <a:lnTo>
                    <a:pt x="1871" y="1099"/>
                  </a:lnTo>
                  <a:lnTo>
                    <a:pt x="1894" y="1099"/>
                  </a:lnTo>
                  <a:lnTo>
                    <a:pt x="1905" y="1097"/>
                  </a:lnTo>
                  <a:lnTo>
                    <a:pt x="1910" y="1079"/>
                  </a:lnTo>
                  <a:lnTo>
                    <a:pt x="1937" y="1081"/>
                  </a:lnTo>
                  <a:lnTo>
                    <a:pt x="1969" y="1072"/>
                  </a:lnTo>
                  <a:lnTo>
                    <a:pt x="1967" y="1092"/>
                  </a:lnTo>
                  <a:lnTo>
                    <a:pt x="1976" y="1108"/>
                  </a:lnTo>
                  <a:lnTo>
                    <a:pt x="1994" y="1122"/>
                  </a:lnTo>
                  <a:lnTo>
                    <a:pt x="2013" y="1108"/>
                  </a:lnTo>
                  <a:lnTo>
                    <a:pt x="2010" y="1083"/>
                  </a:lnTo>
                  <a:lnTo>
                    <a:pt x="2013" y="1062"/>
                  </a:lnTo>
                  <a:lnTo>
                    <a:pt x="2026" y="1083"/>
                  </a:lnTo>
                  <a:lnTo>
                    <a:pt x="2029" y="1115"/>
                  </a:lnTo>
                  <a:lnTo>
                    <a:pt x="2003" y="1171"/>
                  </a:lnTo>
                  <a:lnTo>
                    <a:pt x="1976" y="1226"/>
                  </a:lnTo>
                  <a:lnTo>
                    <a:pt x="1951" y="1281"/>
                  </a:lnTo>
                  <a:lnTo>
                    <a:pt x="1921" y="1336"/>
                  </a:lnTo>
                  <a:lnTo>
                    <a:pt x="1896" y="1322"/>
                  </a:lnTo>
                  <a:lnTo>
                    <a:pt x="1871" y="1331"/>
                  </a:lnTo>
                  <a:lnTo>
                    <a:pt x="1862" y="1352"/>
                  </a:lnTo>
                  <a:lnTo>
                    <a:pt x="1841" y="1366"/>
                  </a:lnTo>
                  <a:lnTo>
                    <a:pt x="1802" y="1372"/>
                  </a:lnTo>
                  <a:lnTo>
                    <a:pt x="1779" y="1368"/>
                  </a:lnTo>
                  <a:lnTo>
                    <a:pt x="1788" y="1334"/>
                  </a:lnTo>
                  <a:lnTo>
                    <a:pt x="1786" y="1308"/>
                  </a:lnTo>
                  <a:lnTo>
                    <a:pt x="1800" y="1290"/>
                  </a:lnTo>
                  <a:lnTo>
                    <a:pt x="1798" y="1272"/>
                  </a:lnTo>
                  <a:lnTo>
                    <a:pt x="1770" y="1258"/>
                  </a:lnTo>
                  <a:lnTo>
                    <a:pt x="1772" y="1226"/>
                  </a:lnTo>
                  <a:lnTo>
                    <a:pt x="1784" y="1192"/>
                  </a:lnTo>
                  <a:lnTo>
                    <a:pt x="1809" y="1166"/>
                  </a:lnTo>
                  <a:lnTo>
                    <a:pt x="1843" y="1166"/>
                  </a:lnTo>
                  <a:lnTo>
                    <a:pt x="1848" y="1146"/>
                  </a:lnTo>
                  <a:lnTo>
                    <a:pt x="1841" y="1115"/>
                  </a:lnTo>
                  <a:lnTo>
                    <a:pt x="1862" y="1101"/>
                  </a:lnTo>
                  <a:lnTo>
                    <a:pt x="1871" y="1099"/>
                  </a:lnTo>
                  <a:lnTo>
                    <a:pt x="1871" y="1051"/>
                  </a:lnTo>
                  <a:lnTo>
                    <a:pt x="1843" y="1053"/>
                  </a:lnTo>
                  <a:lnTo>
                    <a:pt x="1818" y="1065"/>
                  </a:lnTo>
                  <a:lnTo>
                    <a:pt x="1793" y="1051"/>
                  </a:lnTo>
                  <a:lnTo>
                    <a:pt x="1766" y="1051"/>
                  </a:lnTo>
                  <a:lnTo>
                    <a:pt x="1729" y="1035"/>
                  </a:lnTo>
                  <a:lnTo>
                    <a:pt x="1711" y="1014"/>
                  </a:lnTo>
                  <a:lnTo>
                    <a:pt x="1697" y="989"/>
                  </a:lnTo>
                  <a:lnTo>
                    <a:pt x="1679" y="971"/>
                  </a:lnTo>
                  <a:lnTo>
                    <a:pt x="1697" y="964"/>
                  </a:lnTo>
                  <a:lnTo>
                    <a:pt x="1711" y="973"/>
                  </a:lnTo>
                  <a:lnTo>
                    <a:pt x="1722" y="955"/>
                  </a:lnTo>
                  <a:lnTo>
                    <a:pt x="1717" y="927"/>
                  </a:lnTo>
                  <a:lnTo>
                    <a:pt x="1697" y="923"/>
                  </a:lnTo>
                  <a:lnTo>
                    <a:pt x="1688" y="891"/>
                  </a:lnTo>
                  <a:lnTo>
                    <a:pt x="1695" y="859"/>
                  </a:lnTo>
                  <a:lnTo>
                    <a:pt x="1711" y="834"/>
                  </a:lnTo>
                  <a:lnTo>
                    <a:pt x="1704" y="804"/>
                  </a:lnTo>
                  <a:lnTo>
                    <a:pt x="1695" y="799"/>
                  </a:lnTo>
                  <a:lnTo>
                    <a:pt x="1679" y="815"/>
                  </a:lnTo>
                  <a:lnTo>
                    <a:pt x="1676" y="834"/>
                  </a:lnTo>
                  <a:lnTo>
                    <a:pt x="1660" y="804"/>
                  </a:lnTo>
                  <a:lnTo>
                    <a:pt x="1628" y="779"/>
                  </a:lnTo>
                  <a:lnTo>
                    <a:pt x="1612" y="783"/>
                  </a:lnTo>
                  <a:lnTo>
                    <a:pt x="1592" y="813"/>
                  </a:lnTo>
                  <a:lnTo>
                    <a:pt x="1564" y="831"/>
                  </a:lnTo>
                  <a:lnTo>
                    <a:pt x="1564" y="852"/>
                  </a:lnTo>
                  <a:lnTo>
                    <a:pt x="1573" y="875"/>
                  </a:lnTo>
                  <a:lnTo>
                    <a:pt x="1571" y="898"/>
                  </a:lnTo>
                  <a:lnTo>
                    <a:pt x="1550" y="895"/>
                  </a:lnTo>
                  <a:lnTo>
                    <a:pt x="1536" y="866"/>
                  </a:lnTo>
                  <a:lnTo>
                    <a:pt x="1513" y="834"/>
                  </a:lnTo>
                  <a:lnTo>
                    <a:pt x="1488" y="813"/>
                  </a:lnTo>
                  <a:lnTo>
                    <a:pt x="1467" y="779"/>
                  </a:lnTo>
                  <a:lnTo>
                    <a:pt x="1449" y="770"/>
                  </a:lnTo>
                  <a:lnTo>
                    <a:pt x="1414" y="770"/>
                  </a:lnTo>
                  <a:lnTo>
                    <a:pt x="1387" y="770"/>
                  </a:lnTo>
                  <a:lnTo>
                    <a:pt x="1369" y="783"/>
                  </a:lnTo>
                  <a:lnTo>
                    <a:pt x="1350" y="758"/>
                  </a:lnTo>
                  <a:lnTo>
                    <a:pt x="1330" y="747"/>
                  </a:lnTo>
                  <a:lnTo>
                    <a:pt x="1302" y="724"/>
                  </a:lnTo>
                  <a:lnTo>
                    <a:pt x="1323" y="758"/>
                  </a:lnTo>
                  <a:lnTo>
                    <a:pt x="1353" y="772"/>
                  </a:lnTo>
                  <a:lnTo>
                    <a:pt x="1373" y="804"/>
                  </a:lnTo>
                  <a:lnTo>
                    <a:pt x="1366" y="831"/>
                  </a:lnTo>
                  <a:lnTo>
                    <a:pt x="1346" y="847"/>
                  </a:lnTo>
                  <a:lnTo>
                    <a:pt x="1314" y="852"/>
                  </a:lnTo>
                  <a:lnTo>
                    <a:pt x="1289" y="866"/>
                  </a:lnTo>
                  <a:lnTo>
                    <a:pt x="1270" y="891"/>
                  </a:lnTo>
                  <a:lnTo>
                    <a:pt x="1254" y="902"/>
                  </a:lnTo>
                  <a:lnTo>
                    <a:pt x="1250" y="873"/>
                  </a:lnTo>
                  <a:lnTo>
                    <a:pt x="1231" y="831"/>
                  </a:lnTo>
                  <a:lnTo>
                    <a:pt x="1213" y="808"/>
                  </a:lnTo>
                  <a:lnTo>
                    <a:pt x="1213" y="783"/>
                  </a:lnTo>
                  <a:lnTo>
                    <a:pt x="1195" y="788"/>
                  </a:lnTo>
                  <a:lnTo>
                    <a:pt x="1202" y="827"/>
                  </a:lnTo>
                  <a:lnTo>
                    <a:pt x="1220" y="859"/>
                  </a:lnTo>
                  <a:lnTo>
                    <a:pt x="1220" y="889"/>
                  </a:lnTo>
                  <a:lnTo>
                    <a:pt x="1247" y="900"/>
                  </a:lnTo>
                  <a:lnTo>
                    <a:pt x="1254" y="921"/>
                  </a:lnTo>
                  <a:lnTo>
                    <a:pt x="1284" y="914"/>
                  </a:lnTo>
                  <a:lnTo>
                    <a:pt x="1307" y="909"/>
                  </a:lnTo>
                  <a:lnTo>
                    <a:pt x="1337" y="895"/>
                  </a:lnTo>
                  <a:lnTo>
                    <a:pt x="1325" y="932"/>
                  </a:lnTo>
                  <a:lnTo>
                    <a:pt x="1302" y="978"/>
                  </a:lnTo>
                  <a:lnTo>
                    <a:pt x="1284" y="1005"/>
                  </a:lnTo>
                  <a:lnTo>
                    <a:pt x="1263" y="1033"/>
                  </a:lnTo>
                  <a:lnTo>
                    <a:pt x="1250" y="1056"/>
                  </a:lnTo>
                  <a:lnTo>
                    <a:pt x="1245" y="1108"/>
                  </a:lnTo>
                  <a:lnTo>
                    <a:pt x="1241" y="1148"/>
                  </a:lnTo>
                  <a:lnTo>
                    <a:pt x="1243" y="1183"/>
                  </a:lnTo>
                  <a:lnTo>
                    <a:pt x="1247" y="1217"/>
                  </a:lnTo>
                  <a:lnTo>
                    <a:pt x="1247" y="1226"/>
                  </a:lnTo>
                  <a:lnTo>
                    <a:pt x="1270" y="1224"/>
                  </a:lnTo>
                  <a:lnTo>
                    <a:pt x="1273" y="1192"/>
                  </a:lnTo>
                  <a:lnTo>
                    <a:pt x="1295" y="1166"/>
                  </a:lnTo>
                  <a:lnTo>
                    <a:pt x="1323" y="1148"/>
                  </a:lnTo>
                  <a:lnTo>
                    <a:pt x="1328" y="1180"/>
                  </a:lnTo>
                  <a:lnTo>
                    <a:pt x="1325" y="1210"/>
                  </a:lnTo>
                  <a:lnTo>
                    <a:pt x="1312" y="1226"/>
                  </a:lnTo>
                  <a:lnTo>
                    <a:pt x="1314" y="1242"/>
                  </a:lnTo>
                  <a:lnTo>
                    <a:pt x="1305" y="1283"/>
                  </a:lnTo>
                  <a:lnTo>
                    <a:pt x="1298" y="1304"/>
                  </a:lnTo>
                  <a:lnTo>
                    <a:pt x="1282" y="1308"/>
                  </a:lnTo>
                  <a:lnTo>
                    <a:pt x="1266" y="1290"/>
                  </a:lnTo>
                  <a:lnTo>
                    <a:pt x="1273" y="1260"/>
                  </a:lnTo>
                  <a:lnTo>
                    <a:pt x="1277" y="1247"/>
                  </a:lnTo>
                  <a:lnTo>
                    <a:pt x="1268" y="1226"/>
                  </a:lnTo>
                  <a:lnTo>
                    <a:pt x="1245" y="1228"/>
                  </a:lnTo>
                  <a:lnTo>
                    <a:pt x="1236" y="1258"/>
                  </a:lnTo>
                  <a:lnTo>
                    <a:pt x="1204" y="1272"/>
                  </a:lnTo>
                  <a:lnTo>
                    <a:pt x="1183" y="1290"/>
                  </a:lnTo>
                  <a:lnTo>
                    <a:pt x="1188" y="1322"/>
                  </a:lnTo>
                  <a:lnTo>
                    <a:pt x="1183" y="1356"/>
                  </a:lnTo>
                  <a:lnTo>
                    <a:pt x="1174" y="1395"/>
                  </a:lnTo>
                  <a:lnTo>
                    <a:pt x="1128" y="1439"/>
                  </a:lnTo>
                  <a:lnTo>
                    <a:pt x="1108" y="1443"/>
                  </a:lnTo>
                  <a:lnTo>
                    <a:pt x="1096" y="1411"/>
                  </a:lnTo>
                  <a:lnTo>
                    <a:pt x="1069" y="1395"/>
                  </a:lnTo>
                  <a:lnTo>
                    <a:pt x="1055" y="1384"/>
                  </a:lnTo>
                  <a:lnTo>
                    <a:pt x="1028" y="1331"/>
                  </a:lnTo>
                  <a:lnTo>
                    <a:pt x="1005" y="1306"/>
                  </a:lnTo>
                  <a:lnTo>
                    <a:pt x="991" y="1281"/>
                  </a:lnTo>
                  <a:lnTo>
                    <a:pt x="980" y="1253"/>
                  </a:lnTo>
                  <a:lnTo>
                    <a:pt x="977" y="1217"/>
                  </a:lnTo>
                  <a:lnTo>
                    <a:pt x="957" y="1192"/>
                  </a:lnTo>
                  <a:lnTo>
                    <a:pt x="950" y="1171"/>
                  </a:lnTo>
                  <a:lnTo>
                    <a:pt x="961" y="1141"/>
                  </a:lnTo>
                  <a:lnTo>
                    <a:pt x="961" y="1115"/>
                  </a:lnTo>
                  <a:lnTo>
                    <a:pt x="943" y="1099"/>
                  </a:lnTo>
                  <a:lnTo>
                    <a:pt x="911" y="1097"/>
                  </a:lnTo>
                  <a:lnTo>
                    <a:pt x="884" y="1083"/>
                  </a:lnTo>
                  <a:lnTo>
                    <a:pt x="872" y="1097"/>
                  </a:lnTo>
                  <a:lnTo>
                    <a:pt x="849" y="1099"/>
                  </a:lnTo>
                  <a:lnTo>
                    <a:pt x="829" y="1083"/>
                  </a:lnTo>
                  <a:lnTo>
                    <a:pt x="810" y="1065"/>
                  </a:lnTo>
                  <a:lnTo>
                    <a:pt x="785" y="1062"/>
                  </a:lnTo>
                  <a:lnTo>
                    <a:pt x="758" y="1051"/>
                  </a:lnTo>
                  <a:lnTo>
                    <a:pt x="735" y="1030"/>
                  </a:lnTo>
                  <a:lnTo>
                    <a:pt x="730" y="989"/>
                  </a:lnTo>
                  <a:lnTo>
                    <a:pt x="728" y="957"/>
                  </a:lnTo>
                  <a:lnTo>
                    <a:pt x="749" y="939"/>
                  </a:lnTo>
                  <a:lnTo>
                    <a:pt x="746" y="918"/>
                  </a:lnTo>
                  <a:lnTo>
                    <a:pt x="737" y="882"/>
                  </a:lnTo>
                  <a:lnTo>
                    <a:pt x="744" y="850"/>
                  </a:lnTo>
                  <a:lnTo>
                    <a:pt x="735" y="815"/>
                  </a:lnTo>
                  <a:lnTo>
                    <a:pt x="758" y="790"/>
                  </a:lnTo>
                  <a:lnTo>
                    <a:pt x="776" y="774"/>
                  </a:lnTo>
                  <a:lnTo>
                    <a:pt x="797" y="772"/>
                  </a:lnTo>
                  <a:lnTo>
                    <a:pt x="794" y="747"/>
                  </a:lnTo>
                  <a:lnTo>
                    <a:pt x="806" y="724"/>
                  </a:lnTo>
                  <a:lnTo>
                    <a:pt x="826" y="708"/>
                  </a:lnTo>
                  <a:lnTo>
                    <a:pt x="852" y="721"/>
                  </a:lnTo>
                  <a:lnTo>
                    <a:pt x="881" y="728"/>
                  </a:lnTo>
                  <a:lnTo>
                    <a:pt x="918" y="724"/>
                  </a:lnTo>
                  <a:lnTo>
                    <a:pt x="945" y="724"/>
                  </a:lnTo>
                  <a:lnTo>
                    <a:pt x="959" y="726"/>
                  </a:lnTo>
                  <a:lnTo>
                    <a:pt x="966" y="751"/>
                  </a:lnTo>
                  <a:lnTo>
                    <a:pt x="996" y="756"/>
                  </a:lnTo>
                  <a:lnTo>
                    <a:pt x="1023" y="770"/>
                  </a:lnTo>
                  <a:lnTo>
                    <a:pt x="1039" y="765"/>
                  </a:lnTo>
                  <a:lnTo>
                    <a:pt x="1048" y="749"/>
                  </a:lnTo>
                  <a:lnTo>
                    <a:pt x="1058" y="731"/>
                  </a:lnTo>
                  <a:lnTo>
                    <a:pt x="1083" y="737"/>
                  </a:lnTo>
                  <a:lnTo>
                    <a:pt x="1112" y="751"/>
                  </a:lnTo>
                  <a:lnTo>
                    <a:pt x="1147" y="756"/>
                  </a:lnTo>
                  <a:lnTo>
                    <a:pt x="1170" y="758"/>
                  </a:lnTo>
                  <a:lnTo>
                    <a:pt x="1195" y="756"/>
                  </a:lnTo>
                  <a:lnTo>
                    <a:pt x="1213" y="737"/>
                  </a:lnTo>
                  <a:lnTo>
                    <a:pt x="1225" y="712"/>
                  </a:lnTo>
                  <a:lnTo>
                    <a:pt x="1231" y="694"/>
                  </a:lnTo>
                  <a:lnTo>
                    <a:pt x="1225" y="689"/>
                  </a:lnTo>
                  <a:lnTo>
                    <a:pt x="1209" y="671"/>
                  </a:lnTo>
                  <a:lnTo>
                    <a:pt x="1193" y="676"/>
                  </a:lnTo>
                  <a:lnTo>
                    <a:pt x="1165" y="676"/>
                  </a:lnTo>
                  <a:lnTo>
                    <a:pt x="1144" y="669"/>
                  </a:lnTo>
                  <a:lnTo>
                    <a:pt x="1142" y="646"/>
                  </a:lnTo>
                  <a:lnTo>
                    <a:pt x="1128" y="639"/>
                  </a:lnTo>
                  <a:lnTo>
                    <a:pt x="1122" y="646"/>
                  </a:lnTo>
                  <a:lnTo>
                    <a:pt x="1126" y="669"/>
                  </a:lnTo>
                  <a:lnTo>
                    <a:pt x="1117" y="687"/>
                  </a:lnTo>
                  <a:lnTo>
                    <a:pt x="1092" y="683"/>
                  </a:lnTo>
                  <a:lnTo>
                    <a:pt x="1080" y="664"/>
                  </a:lnTo>
                  <a:lnTo>
                    <a:pt x="1076" y="644"/>
                  </a:lnTo>
                  <a:lnTo>
                    <a:pt x="1076" y="612"/>
                  </a:lnTo>
                  <a:lnTo>
                    <a:pt x="1060" y="605"/>
                  </a:lnTo>
                  <a:lnTo>
                    <a:pt x="1051" y="623"/>
                  </a:lnTo>
                  <a:lnTo>
                    <a:pt x="1055" y="646"/>
                  </a:lnTo>
                  <a:lnTo>
                    <a:pt x="1067" y="664"/>
                  </a:lnTo>
                  <a:lnTo>
                    <a:pt x="1080" y="680"/>
                  </a:lnTo>
                  <a:lnTo>
                    <a:pt x="1067" y="701"/>
                  </a:lnTo>
                  <a:lnTo>
                    <a:pt x="1048" y="712"/>
                  </a:lnTo>
                  <a:lnTo>
                    <a:pt x="1026" y="708"/>
                  </a:lnTo>
                  <a:lnTo>
                    <a:pt x="1026" y="726"/>
                  </a:lnTo>
                  <a:lnTo>
                    <a:pt x="1012" y="737"/>
                  </a:lnTo>
                  <a:lnTo>
                    <a:pt x="993" y="712"/>
                  </a:lnTo>
                  <a:lnTo>
                    <a:pt x="996" y="696"/>
                  </a:lnTo>
                  <a:lnTo>
                    <a:pt x="1021" y="708"/>
                  </a:lnTo>
                  <a:lnTo>
                    <a:pt x="1035" y="708"/>
                  </a:lnTo>
                  <a:lnTo>
                    <a:pt x="1055" y="689"/>
                  </a:lnTo>
                  <a:lnTo>
                    <a:pt x="1048" y="669"/>
                  </a:lnTo>
                  <a:lnTo>
                    <a:pt x="1028" y="651"/>
                  </a:lnTo>
                  <a:lnTo>
                    <a:pt x="1012" y="639"/>
                  </a:lnTo>
                  <a:lnTo>
                    <a:pt x="993" y="614"/>
                  </a:lnTo>
                  <a:lnTo>
                    <a:pt x="971" y="598"/>
                  </a:lnTo>
                  <a:lnTo>
                    <a:pt x="971" y="623"/>
                  </a:lnTo>
                  <a:lnTo>
                    <a:pt x="982" y="639"/>
                  </a:lnTo>
                  <a:lnTo>
                    <a:pt x="980" y="669"/>
                  </a:lnTo>
                  <a:lnTo>
                    <a:pt x="980" y="689"/>
                  </a:lnTo>
                  <a:lnTo>
                    <a:pt x="957" y="673"/>
                  </a:lnTo>
                  <a:lnTo>
                    <a:pt x="952" y="655"/>
                  </a:lnTo>
                  <a:lnTo>
                    <a:pt x="961" y="644"/>
                  </a:lnTo>
                  <a:lnTo>
                    <a:pt x="959" y="628"/>
                  </a:lnTo>
                  <a:lnTo>
                    <a:pt x="973" y="621"/>
                  </a:lnTo>
                  <a:lnTo>
                    <a:pt x="973" y="598"/>
                  </a:lnTo>
                  <a:lnTo>
                    <a:pt x="952" y="602"/>
                  </a:lnTo>
                  <a:lnTo>
                    <a:pt x="936" y="623"/>
                  </a:lnTo>
                  <a:lnTo>
                    <a:pt x="918" y="614"/>
                  </a:lnTo>
                  <a:lnTo>
                    <a:pt x="884" y="630"/>
                  </a:lnTo>
                  <a:lnTo>
                    <a:pt x="879" y="660"/>
                  </a:lnTo>
                  <a:lnTo>
                    <a:pt x="856" y="680"/>
                  </a:lnTo>
                  <a:lnTo>
                    <a:pt x="829" y="694"/>
                  </a:lnTo>
                  <a:lnTo>
                    <a:pt x="801" y="696"/>
                  </a:lnTo>
                  <a:lnTo>
                    <a:pt x="776" y="689"/>
                  </a:lnTo>
                  <a:lnTo>
                    <a:pt x="760" y="673"/>
                  </a:lnTo>
                  <a:lnTo>
                    <a:pt x="774" y="660"/>
                  </a:lnTo>
                  <a:lnTo>
                    <a:pt x="760" y="639"/>
                  </a:lnTo>
                  <a:lnTo>
                    <a:pt x="778" y="625"/>
                  </a:lnTo>
                  <a:lnTo>
                    <a:pt x="781" y="607"/>
                  </a:lnTo>
                  <a:lnTo>
                    <a:pt x="781" y="582"/>
                  </a:lnTo>
                  <a:lnTo>
                    <a:pt x="806" y="559"/>
                  </a:lnTo>
                  <a:lnTo>
                    <a:pt x="840" y="568"/>
                  </a:lnTo>
                  <a:lnTo>
                    <a:pt x="877" y="577"/>
                  </a:lnTo>
                  <a:lnTo>
                    <a:pt x="893" y="564"/>
                  </a:lnTo>
                  <a:lnTo>
                    <a:pt x="893" y="538"/>
                  </a:lnTo>
                  <a:lnTo>
                    <a:pt x="875" y="520"/>
                  </a:lnTo>
                  <a:lnTo>
                    <a:pt x="847" y="504"/>
                  </a:lnTo>
                  <a:lnTo>
                    <a:pt x="858" y="495"/>
                  </a:lnTo>
                  <a:lnTo>
                    <a:pt x="888" y="481"/>
                  </a:lnTo>
                  <a:lnTo>
                    <a:pt x="895" y="477"/>
                  </a:lnTo>
                  <a:lnTo>
                    <a:pt x="884" y="474"/>
                  </a:lnTo>
                  <a:lnTo>
                    <a:pt x="861" y="477"/>
                  </a:lnTo>
                  <a:lnTo>
                    <a:pt x="840" y="481"/>
                  </a:lnTo>
                  <a:lnTo>
                    <a:pt x="826" y="488"/>
                  </a:lnTo>
                  <a:lnTo>
                    <a:pt x="836" y="470"/>
                  </a:lnTo>
                  <a:lnTo>
                    <a:pt x="840" y="447"/>
                  </a:lnTo>
                  <a:lnTo>
                    <a:pt x="849" y="433"/>
                  </a:lnTo>
                  <a:lnTo>
                    <a:pt x="854" y="419"/>
                  </a:lnTo>
                  <a:lnTo>
                    <a:pt x="842" y="401"/>
                  </a:lnTo>
                  <a:lnTo>
                    <a:pt x="826" y="412"/>
                  </a:lnTo>
                  <a:lnTo>
                    <a:pt x="829" y="428"/>
                  </a:lnTo>
                  <a:lnTo>
                    <a:pt x="826" y="449"/>
                  </a:lnTo>
                  <a:lnTo>
                    <a:pt x="817" y="477"/>
                  </a:lnTo>
                  <a:lnTo>
                    <a:pt x="794" y="474"/>
                  </a:lnTo>
                  <a:lnTo>
                    <a:pt x="785" y="449"/>
                  </a:lnTo>
                  <a:lnTo>
                    <a:pt x="772" y="424"/>
                  </a:lnTo>
                  <a:lnTo>
                    <a:pt x="797" y="419"/>
                  </a:lnTo>
                  <a:lnTo>
                    <a:pt x="808" y="406"/>
                  </a:lnTo>
                  <a:lnTo>
                    <a:pt x="820" y="403"/>
                  </a:lnTo>
                  <a:lnTo>
                    <a:pt x="820" y="387"/>
                  </a:lnTo>
                  <a:lnTo>
                    <a:pt x="813" y="373"/>
                  </a:lnTo>
                  <a:lnTo>
                    <a:pt x="833" y="361"/>
                  </a:lnTo>
                  <a:lnTo>
                    <a:pt x="854" y="350"/>
                  </a:lnTo>
                  <a:lnTo>
                    <a:pt x="870" y="357"/>
                  </a:lnTo>
                  <a:lnTo>
                    <a:pt x="875" y="383"/>
                  </a:lnTo>
                  <a:lnTo>
                    <a:pt x="881" y="412"/>
                  </a:lnTo>
                  <a:lnTo>
                    <a:pt x="897" y="426"/>
                  </a:lnTo>
                  <a:lnTo>
                    <a:pt x="902" y="449"/>
                  </a:lnTo>
                  <a:lnTo>
                    <a:pt x="895" y="467"/>
                  </a:lnTo>
                  <a:lnTo>
                    <a:pt x="893" y="479"/>
                  </a:lnTo>
                  <a:lnTo>
                    <a:pt x="911" y="474"/>
                  </a:lnTo>
                  <a:lnTo>
                    <a:pt x="934" y="463"/>
                  </a:lnTo>
                  <a:lnTo>
                    <a:pt x="943" y="428"/>
                  </a:lnTo>
                  <a:lnTo>
                    <a:pt x="966" y="428"/>
                  </a:lnTo>
                  <a:lnTo>
                    <a:pt x="977" y="424"/>
                  </a:lnTo>
                  <a:lnTo>
                    <a:pt x="975" y="401"/>
                  </a:lnTo>
                  <a:lnTo>
                    <a:pt x="961" y="378"/>
                  </a:lnTo>
                  <a:lnTo>
                    <a:pt x="982" y="378"/>
                  </a:lnTo>
                  <a:lnTo>
                    <a:pt x="1005" y="401"/>
                  </a:lnTo>
                  <a:lnTo>
                    <a:pt x="1026" y="419"/>
                  </a:lnTo>
                  <a:lnTo>
                    <a:pt x="1046" y="419"/>
                  </a:lnTo>
                  <a:lnTo>
                    <a:pt x="1071" y="406"/>
                  </a:lnTo>
                  <a:lnTo>
                    <a:pt x="1090" y="380"/>
                  </a:lnTo>
                  <a:lnTo>
                    <a:pt x="1101" y="357"/>
                  </a:lnTo>
                  <a:lnTo>
                    <a:pt x="1142" y="366"/>
                  </a:lnTo>
                  <a:lnTo>
                    <a:pt x="1106" y="345"/>
                  </a:lnTo>
                  <a:lnTo>
                    <a:pt x="1080" y="350"/>
                  </a:lnTo>
                  <a:lnTo>
                    <a:pt x="1076" y="318"/>
                  </a:lnTo>
                  <a:lnTo>
                    <a:pt x="1076" y="299"/>
                  </a:lnTo>
                  <a:lnTo>
                    <a:pt x="1103" y="288"/>
                  </a:lnTo>
                  <a:lnTo>
                    <a:pt x="1108" y="272"/>
                  </a:lnTo>
                  <a:lnTo>
                    <a:pt x="1090" y="281"/>
                  </a:lnTo>
                  <a:lnTo>
                    <a:pt x="1067" y="297"/>
                  </a:lnTo>
                  <a:lnTo>
                    <a:pt x="1042" y="299"/>
                  </a:lnTo>
                  <a:lnTo>
                    <a:pt x="1051" y="329"/>
                  </a:lnTo>
                  <a:lnTo>
                    <a:pt x="1048" y="354"/>
                  </a:lnTo>
                  <a:lnTo>
                    <a:pt x="1048" y="375"/>
                  </a:lnTo>
                  <a:lnTo>
                    <a:pt x="1028" y="387"/>
                  </a:lnTo>
                  <a:lnTo>
                    <a:pt x="1007" y="396"/>
                  </a:lnTo>
                  <a:lnTo>
                    <a:pt x="996" y="378"/>
                  </a:lnTo>
                  <a:lnTo>
                    <a:pt x="998" y="357"/>
                  </a:lnTo>
                  <a:lnTo>
                    <a:pt x="1000" y="345"/>
                  </a:lnTo>
                  <a:lnTo>
                    <a:pt x="977" y="354"/>
                  </a:lnTo>
                  <a:lnTo>
                    <a:pt x="955" y="343"/>
                  </a:lnTo>
                  <a:lnTo>
                    <a:pt x="943" y="325"/>
                  </a:lnTo>
                  <a:lnTo>
                    <a:pt x="950" y="299"/>
                  </a:lnTo>
                  <a:lnTo>
                    <a:pt x="945" y="297"/>
                  </a:lnTo>
                  <a:lnTo>
                    <a:pt x="950" y="295"/>
                  </a:lnTo>
                  <a:lnTo>
                    <a:pt x="952" y="292"/>
                  </a:lnTo>
                  <a:lnTo>
                    <a:pt x="685" y="292"/>
                  </a:lnTo>
                  <a:lnTo>
                    <a:pt x="671" y="311"/>
                  </a:lnTo>
                  <a:lnTo>
                    <a:pt x="648" y="322"/>
                  </a:lnTo>
                  <a:lnTo>
                    <a:pt x="625" y="313"/>
                  </a:lnTo>
                  <a:lnTo>
                    <a:pt x="614" y="297"/>
                  </a:lnTo>
                  <a:lnTo>
                    <a:pt x="614" y="279"/>
                  </a:lnTo>
                  <a:lnTo>
                    <a:pt x="621" y="276"/>
                  </a:lnTo>
                  <a:lnTo>
                    <a:pt x="563" y="276"/>
                  </a:lnTo>
                  <a:lnTo>
                    <a:pt x="547" y="279"/>
                  </a:lnTo>
                  <a:lnTo>
                    <a:pt x="529" y="313"/>
                  </a:lnTo>
                  <a:lnTo>
                    <a:pt x="522" y="336"/>
                  </a:lnTo>
                  <a:lnTo>
                    <a:pt x="510" y="361"/>
                  </a:lnTo>
                  <a:lnTo>
                    <a:pt x="485" y="354"/>
                  </a:lnTo>
                  <a:lnTo>
                    <a:pt x="464" y="336"/>
                  </a:lnTo>
                  <a:lnTo>
                    <a:pt x="462" y="299"/>
                  </a:lnTo>
                  <a:lnTo>
                    <a:pt x="455" y="260"/>
                  </a:lnTo>
                  <a:lnTo>
                    <a:pt x="437" y="238"/>
                  </a:lnTo>
                  <a:lnTo>
                    <a:pt x="443" y="222"/>
                  </a:lnTo>
                  <a:lnTo>
                    <a:pt x="427" y="192"/>
                  </a:lnTo>
                  <a:lnTo>
                    <a:pt x="414" y="178"/>
                  </a:lnTo>
                  <a:lnTo>
                    <a:pt x="398" y="194"/>
                  </a:lnTo>
                  <a:lnTo>
                    <a:pt x="372" y="176"/>
                  </a:lnTo>
                  <a:lnTo>
                    <a:pt x="356" y="187"/>
                  </a:lnTo>
                  <a:lnTo>
                    <a:pt x="340" y="199"/>
                  </a:lnTo>
                  <a:lnTo>
                    <a:pt x="311" y="208"/>
                  </a:lnTo>
                  <a:lnTo>
                    <a:pt x="295" y="231"/>
                  </a:lnTo>
                  <a:lnTo>
                    <a:pt x="331" y="235"/>
                  </a:lnTo>
                  <a:lnTo>
                    <a:pt x="359" y="249"/>
                  </a:lnTo>
                  <a:lnTo>
                    <a:pt x="377" y="272"/>
                  </a:lnTo>
                  <a:lnTo>
                    <a:pt x="398" y="295"/>
                  </a:lnTo>
                  <a:lnTo>
                    <a:pt x="400" y="331"/>
                  </a:lnTo>
                  <a:lnTo>
                    <a:pt x="388" y="366"/>
                  </a:lnTo>
                  <a:lnTo>
                    <a:pt x="372" y="378"/>
                  </a:lnTo>
                  <a:lnTo>
                    <a:pt x="347" y="354"/>
                  </a:lnTo>
                  <a:lnTo>
                    <a:pt x="304" y="352"/>
                  </a:lnTo>
                  <a:lnTo>
                    <a:pt x="304" y="336"/>
                  </a:lnTo>
                  <a:lnTo>
                    <a:pt x="340" y="325"/>
                  </a:lnTo>
                  <a:lnTo>
                    <a:pt x="345" y="304"/>
                  </a:lnTo>
                  <a:lnTo>
                    <a:pt x="338" y="297"/>
                  </a:lnTo>
                  <a:lnTo>
                    <a:pt x="327" y="318"/>
                  </a:lnTo>
                  <a:lnTo>
                    <a:pt x="306" y="302"/>
                  </a:lnTo>
                  <a:lnTo>
                    <a:pt x="334" y="281"/>
                  </a:lnTo>
                  <a:lnTo>
                    <a:pt x="347" y="299"/>
                  </a:lnTo>
                  <a:lnTo>
                    <a:pt x="327" y="279"/>
                  </a:lnTo>
                  <a:lnTo>
                    <a:pt x="304" y="279"/>
                  </a:lnTo>
                  <a:lnTo>
                    <a:pt x="285" y="295"/>
                  </a:lnTo>
                  <a:lnTo>
                    <a:pt x="290" y="318"/>
                  </a:lnTo>
                  <a:lnTo>
                    <a:pt x="290" y="345"/>
                  </a:lnTo>
                  <a:lnTo>
                    <a:pt x="283" y="370"/>
                  </a:lnTo>
                  <a:lnTo>
                    <a:pt x="290" y="394"/>
                  </a:lnTo>
                  <a:lnTo>
                    <a:pt x="265" y="375"/>
                  </a:lnTo>
                  <a:lnTo>
                    <a:pt x="256" y="387"/>
                  </a:lnTo>
                  <a:lnTo>
                    <a:pt x="249" y="373"/>
                  </a:lnTo>
                  <a:lnTo>
                    <a:pt x="256" y="350"/>
                  </a:lnTo>
                  <a:lnTo>
                    <a:pt x="235" y="357"/>
                  </a:lnTo>
                  <a:lnTo>
                    <a:pt x="228" y="378"/>
                  </a:lnTo>
                  <a:lnTo>
                    <a:pt x="210" y="396"/>
                  </a:lnTo>
                  <a:lnTo>
                    <a:pt x="210" y="415"/>
                  </a:lnTo>
                  <a:lnTo>
                    <a:pt x="183" y="415"/>
                  </a:lnTo>
                  <a:lnTo>
                    <a:pt x="173" y="426"/>
                  </a:lnTo>
                  <a:lnTo>
                    <a:pt x="183" y="454"/>
                  </a:lnTo>
                  <a:lnTo>
                    <a:pt x="212" y="470"/>
                  </a:lnTo>
                  <a:lnTo>
                    <a:pt x="228" y="481"/>
                  </a:lnTo>
                  <a:lnTo>
                    <a:pt x="221" y="506"/>
                  </a:lnTo>
                  <a:lnTo>
                    <a:pt x="240" y="502"/>
                  </a:lnTo>
                  <a:lnTo>
                    <a:pt x="244" y="477"/>
                  </a:lnTo>
                  <a:lnTo>
                    <a:pt x="276" y="477"/>
                  </a:lnTo>
                  <a:lnTo>
                    <a:pt x="295" y="454"/>
                  </a:lnTo>
                  <a:lnTo>
                    <a:pt x="297" y="428"/>
                  </a:lnTo>
                  <a:lnTo>
                    <a:pt x="295" y="387"/>
                  </a:lnTo>
                  <a:lnTo>
                    <a:pt x="304" y="361"/>
                  </a:lnTo>
                  <a:lnTo>
                    <a:pt x="320" y="345"/>
                  </a:lnTo>
                  <a:lnTo>
                    <a:pt x="345" y="361"/>
                  </a:lnTo>
                  <a:lnTo>
                    <a:pt x="375" y="378"/>
                  </a:lnTo>
                  <a:lnTo>
                    <a:pt x="386" y="387"/>
                  </a:lnTo>
                  <a:lnTo>
                    <a:pt x="402" y="415"/>
                  </a:lnTo>
                  <a:lnTo>
                    <a:pt x="423" y="426"/>
                  </a:lnTo>
                  <a:lnTo>
                    <a:pt x="430" y="454"/>
                  </a:lnTo>
                  <a:lnTo>
                    <a:pt x="434" y="474"/>
                  </a:lnTo>
                  <a:lnTo>
                    <a:pt x="455" y="488"/>
                  </a:lnTo>
                  <a:lnTo>
                    <a:pt x="437" y="511"/>
                  </a:lnTo>
                  <a:lnTo>
                    <a:pt x="409" y="511"/>
                  </a:lnTo>
                  <a:lnTo>
                    <a:pt x="382" y="525"/>
                  </a:lnTo>
                  <a:lnTo>
                    <a:pt x="359" y="543"/>
                  </a:lnTo>
                  <a:lnTo>
                    <a:pt x="331" y="557"/>
                  </a:lnTo>
                  <a:lnTo>
                    <a:pt x="304" y="582"/>
                  </a:lnTo>
                  <a:lnTo>
                    <a:pt x="279" y="602"/>
                  </a:lnTo>
                  <a:lnTo>
                    <a:pt x="276" y="623"/>
                  </a:lnTo>
                  <a:lnTo>
                    <a:pt x="276" y="639"/>
                  </a:lnTo>
                  <a:lnTo>
                    <a:pt x="256" y="653"/>
                  </a:lnTo>
                  <a:lnTo>
                    <a:pt x="258" y="671"/>
                  </a:lnTo>
                  <a:lnTo>
                    <a:pt x="237" y="694"/>
                  </a:lnTo>
                  <a:lnTo>
                    <a:pt x="237" y="724"/>
                  </a:lnTo>
                  <a:lnTo>
                    <a:pt x="253" y="747"/>
                  </a:lnTo>
                  <a:lnTo>
                    <a:pt x="244" y="765"/>
                  </a:lnTo>
                  <a:lnTo>
                    <a:pt x="221" y="751"/>
                  </a:lnTo>
                  <a:lnTo>
                    <a:pt x="219" y="724"/>
                  </a:lnTo>
                  <a:lnTo>
                    <a:pt x="199" y="708"/>
                  </a:lnTo>
                  <a:lnTo>
                    <a:pt x="180" y="712"/>
                  </a:lnTo>
                  <a:lnTo>
                    <a:pt x="173" y="731"/>
                  </a:lnTo>
                  <a:lnTo>
                    <a:pt x="153" y="724"/>
                  </a:lnTo>
                  <a:lnTo>
                    <a:pt x="130" y="724"/>
                  </a:lnTo>
                  <a:lnTo>
                    <a:pt x="107" y="744"/>
                  </a:lnTo>
                  <a:lnTo>
                    <a:pt x="98" y="765"/>
                  </a:lnTo>
                  <a:lnTo>
                    <a:pt x="91" y="783"/>
                  </a:lnTo>
                  <a:lnTo>
                    <a:pt x="89" y="813"/>
                  </a:lnTo>
                  <a:lnTo>
                    <a:pt x="107" y="834"/>
                  </a:lnTo>
                  <a:lnTo>
                    <a:pt x="128" y="820"/>
                  </a:lnTo>
                  <a:lnTo>
                    <a:pt x="148" y="820"/>
                  </a:lnTo>
                  <a:lnTo>
                    <a:pt x="153" y="847"/>
                  </a:lnTo>
                  <a:lnTo>
                    <a:pt x="134" y="866"/>
                  </a:lnTo>
                  <a:lnTo>
                    <a:pt x="162" y="870"/>
                  </a:lnTo>
                  <a:lnTo>
                    <a:pt x="173" y="875"/>
                  </a:lnTo>
                  <a:lnTo>
                    <a:pt x="180" y="900"/>
                  </a:lnTo>
                  <a:lnTo>
                    <a:pt x="203" y="914"/>
                  </a:lnTo>
                  <a:lnTo>
                    <a:pt x="231" y="932"/>
                  </a:lnTo>
                  <a:lnTo>
                    <a:pt x="249" y="918"/>
                  </a:lnTo>
                  <a:lnTo>
                    <a:pt x="290" y="932"/>
                  </a:lnTo>
                  <a:lnTo>
                    <a:pt x="322" y="934"/>
                  </a:lnTo>
                  <a:lnTo>
                    <a:pt x="368" y="957"/>
                  </a:lnTo>
                  <a:lnTo>
                    <a:pt x="377" y="978"/>
                  </a:lnTo>
                  <a:lnTo>
                    <a:pt x="402" y="1001"/>
                  </a:lnTo>
                  <a:lnTo>
                    <a:pt x="416" y="1033"/>
                  </a:lnTo>
                  <a:lnTo>
                    <a:pt x="448" y="1051"/>
                  </a:lnTo>
                  <a:lnTo>
                    <a:pt x="478" y="1053"/>
                  </a:lnTo>
                  <a:lnTo>
                    <a:pt x="505" y="1079"/>
                  </a:lnTo>
                  <a:lnTo>
                    <a:pt x="545" y="1079"/>
                  </a:lnTo>
                  <a:lnTo>
                    <a:pt x="547" y="1101"/>
                  </a:lnTo>
                  <a:lnTo>
                    <a:pt x="547" y="1124"/>
                  </a:lnTo>
                  <a:lnTo>
                    <a:pt x="529" y="1148"/>
                  </a:lnTo>
                  <a:lnTo>
                    <a:pt x="527" y="1178"/>
                  </a:lnTo>
                  <a:lnTo>
                    <a:pt x="522" y="1205"/>
                  </a:lnTo>
                  <a:lnTo>
                    <a:pt x="501" y="1233"/>
                  </a:lnTo>
                  <a:lnTo>
                    <a:pt x="471" y="1249"/>
                  </a:lnTo>
                  <a:lnTo>
                    <a:pt x="446" y="1253"/>
                  </a:lnTo>
                  <a:lnTo>
                    <a:pt x="457" y="1279"/>
                  </a:lnTo>
                  <a:lnTo>
                    <a:pt x="434" y="1304"/>
                  </a:lnTo>
                  <a:lnTo>
                    <a:pt x="414" y="1327"/>
                  </a:lnTo>
                  <a:lnTo>
                    <a:pt x="388" y="1343"/>
                  </a:lnTo>
                  <a:lnTo>
                    <a:pt x="372" y="1375"/>
                  </a:lnTo>
                  <a:lnTo>
                    <a:pt x="356" y="1398"/>
                  </a:lnTo>
                  <a:lnTo>
                    <a:pt x="334" y="1409"/>
                  </a:lnTo>
                  <a:lnTo>
                    <a:pt x="320" y="1430"/>
                  </a:lnTo>
                  <a:lnTo>
                    <a:pt x="306" y="1450"/>
                  </a:lnTo>
                  <a:lnTo>
                    <a:pt x="297" y="1469"/>
                  </a:lnTo>
                  <a:lnTo>
                    <a:pt x="297" y="1491"/>
                  </a:lnTo>
                  <a:lnTo>
                    <a:pt x="285" y="1505"/>
                  </a:lnTo>
                  <a:lnTo>
                    <a:pt x="272" y="1478"/>
                  </a:lnTo>
                  <a:lnTo>
                    <a:pt x="249" y="1455"/>
                  </a:lnTo>
                  <a:lnTo>
                    <a:pt x="237" y="1425"/>
                  </a:lnTo>
                  <a:lnTo>
                    <a:pt x="237" y="1398"/>
                  </a:lnTo>
                  <a:lnTo>
                    <a:pt x="235" y="1366"/>
                  </a:lnTo>
                  <a:lnTo>
                    <a:pt x="249" y="1322"/>
                  </a:lnTo>
                  <a:lnTo>
                    <a:pt x="249" y="1279"/>
                  </a:lnTo>
                  <a:lnTo>
                    <a:pt x="244" y="1237"/>
                  </a:lnTo>
                  <a:lnTo>
                    <a:pt x="235" y="1205"/>
                  </a:lnTo>
                  <a:lnTo>
                    <a:pt x="210" y="1178"/>
                  </a:lnTo>
                  <a:lnTo>
                    <a:pt x="183" y="1155"/>
                  </a:lnTo>
                  <a:lnTo>
                    <a:pt x="162" y="1122"/>
                  </a:lnTo>
                  <a:lnTo>
                    <a:pt x="157" y="1083"/>
                  </a:lnTo>
                  <a:lnTo>
                    <a:pt x="173" y="1058"/>
                  </a:lnTo>
                  <a:lnTo>
                    <a:pt x="173" y="1035"/>
                  </a:lnTo>
                  <a:lnTo>
                    <a:pt x="183" y="998"/>
                  </a:lnTo>
                  <a:lnTo>
                    <a:pt x="201" y="971"/>
                  </a:lnTo>
                  <a:lnTo>
                    <a:pt x="221" y="953"/>
                  </a:lnTo>
                  <a:lnTo>
                    <a:pt x="233" y="934"/>
                  </a:lnTo>
                  <a:lnTo>
                    <a:pt x="203" y="927"/>
                  </a:lnTo>
                  <a:lnTo>
                    <a:pt x="187" y="932"/>
                  </a:lnTo>
                  <a:lnTo>
                    <a:pt x="171" y="923"/>
                  </a:lnTo>
                  <a:lnTo>
                    <a:pt x="148" y="907"/>
                  </a:lnTo>
                  <a:lnTo>
                    <a:pt x="121" y="889"/>
                  </a:lnTo>
                  <a:lnTo>
                    <a:pt x="109" y="866"/>
                  </a:lnTo>
                  <a:lnTo>
                    <a:pt x="98" y="856"/>
                  </a:lnTo>
                  <a:lnTo>
                    <a:pt x="86" y="866"/>
                  </a:lnTo>
                  <a:lnTo>
                    <a:pt x="64" y="852"/>
                  </a:lnTo>
                  <a:lnTo>
                    <a:pt x="48" y="831"/>
                  </a:lnTo>
                  <a:lnTo>
                    <a:pt x="36" y="813"/>
                  </a:lnTo>
                  <a:lnTo>
                    <a:pt x="36" y="788"/>
                  </a:lnTo>
                  <a:lnTo>
                    <a:pt x="32" y="772"/>
                  </a:lnTo>
                  <a:lnTo>
                    <a:pt x="11" y="754"/>
                  </a:lnTo>
                  <a:lnTo>
                    <a:pt x="11" y="770"/>
                  </a:lnTo>
                  <a:lnTo>
                    <a:pt x="25" y="790"/>
                  </a:lnTo>
                  <a:lnTo>
                    <a:pt x="25" y="808"/>
                  </a:lnTo>
                  <a:lnTo>
                    <a:pt x="6" y="795"/>
                  </a:lnTo>
                  <a:lnTo>
                    <a:pt x="0" y="763"/>
                  </a:lnTo>
                  <a:lnTo>
                    <a:pt x="6" y="737"/>
                  </a:lnTo>
                  <a:lnTo>
                    <a:pt x="6" y="701"/>
                  </a:lnTo>
                  <a:lnTo>
                    <a:pt x="11" y="639"/>
                  </a:lnTo>
                  <a:lnTo>
                    <a:pt x="18" y="577"/>
                  </a:lnTo>
                  <a:lnTo>
                    <a:pt x="34" y="511"/>
                  </a:lnTo>
                  <a:lnTo>
                    <a:pt x="57" y="438"/>
                  </a:lnTo>
                  <a:lnTo>
                    <a:pt x="93" y="345"/>
                  </a:lnTo>
                  <a:lnTo>
                    <a:pt x="125" y="274"/>
                  </a:lnTo>
                  <a:lnTo>
                    <a:pt x="178" y="187"/>
                  </a:lnTo>
                  <a:lnTo>
                    <a:pt x="210" y="137"/>
                  </a:lnTo>
                  <a:close/>
                </a:path>
              </a:pathLst>
            </a:custGeom>
            <a:solidFill>
              <a:srgbClr val="7d9cd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03720" y="1413000"/>
              <a:ext cx="743400" cy="546480"/>
            </a:xfrm>
            <a:custGeom>
              <a:avLst/>
              <a:gdLst/>
              <a:ahLst/>
              <a:rect l="0" t="0" r="r" b="b"/>
              <a:pathLst>
                <a:path w="2065" h="1518">
                  <a:moveTo>
                    <a:pt x="223" y="132"/>
                  </a:moveTo>
                  <a:lnTo>
                    <a:pt x="248" y="134"/>
                  </a:lnTo>
                  <a:lnTo>
                    <a:pt x="262" y="116"/>
                  </a:lnTo>
                  <a:lnTo>
                    <a:pt x="283" y="107"/>
                  </a:lnTo>
                  <a:lnTo>
                    <a:pt x="299" y="91"/>
                  </a:lnTo>
                  <a:lnTo>
                    <a:pt x="321" y="75"/>
                  </a:lnTo>
                  <a:lnTo>
                    <a:pt x="340" y="68"/>
                  </a:lnTo>
                  <a:lnTo>
                    <a:pt x="360" y="61"/>
                  </a:lnTo>
                  <a:lnTo>
                    <a:pt x="378" y="61"/>
                  </a:lnTo>
                  <a:lnTo>
                    <a:pt x="388" y="54"/>
                  </a:lnTo>
                  <a:lnTo>
                    <a:pt x="406" y="54"/>
                  </a:lnTo>
                  <a:lnTo>
                    <a:pt x="415" y="43"/>
                  </a:lnTo>
                  <a:lnTo>
                    <a:pt x="436" y="48"/>
                  </a:lnTo>
                  <a:lnTo>
                    <a:pt x="456" y="41"/>
                  </a:lnTo>
                  <a:lnTo>
                    <a:pt x="474" y="43"/>
                  </a:lnTo>
                  <a:lnTo>
                    <a:pt x="481" y="52"/>
                  </a:lnTo>
                  <a:lnTo>
                    <a:pt x="474" y="61"/>
                  </a:lnTo>
                  <a:lnTo>
                    <a:pt x="456" y="54"/>
                  </a:lnTo>
                  <a:lnTo>
                    <a:pt x="440" y="66"/>
                  </a:lnTo>
                  <a:lnTo>
                    <a:pt x="429" y="77"/>
                  </a:lnTo>
                  <a:lnTo>
                    <a:pt x="426" y="93"/>
                  </a:lnTo>
                  <a:lnTo>
                    <a:pt x="408" y="96"/>
                  </a:lnTo>
                  <a:lnTo>
                    <a:pt x="388" y="107"/>
                  </a:lnTo>
                  <a:lnTo>
                    <a:pt x="385" y="130"/>
                  </a:lnTo>
                  <a:lnTo>
                    <a:pt x="383" y="146"/>
                  </a:lnTo>
                  <a:lnTo>
                    <a:pt x="378" y="164"/>
                  </a:lnTo>
                  <a:lnTo>
                    <a:pt x="385" y="176"/>
                  </a:lnTo>
                  <a:lnTo>
                    <a:pt x="399" y="137"/>
                  </a:lnTo>
                  <a:lnTo>
                    <a:pt x="408" y="132"/>
                  </a:lnTo>
                  <a:lnTo>
                    <a:pt x="426" y="112"/>
                  </a:lnTo>
                  <a:lnTo>
                    <a:pt x="438" y="89"/>
                  </a:lnTo>
                  <a:lnTo>
                    <a:pt x="463" y="84"/>
                  </a:lnTo>
                  <a:lnTo>
                    <a:pt x="486" y="70"/>
                  </a:lnTo>
                  <a:lnTo>
                    <a:pt x="502" y="50"/>
                  </a:lnTo>
                  <a:lnTo>
                    <a:pt x="523" y="50"/>
                  </a:lnTo>
                  <a:lnTo>
                    <a:pt x="564" y="48"/>
                  </a:lnTo>
                  <a:lnTo>
                    <a:pt x="608" y="41"/>
                  </a:lnTo>
                  <a:lnTo>
                    <a:pt x="626" y="36"/>
                  </a:lnTo>
                  <a:lnTo>
                    <a:pt x="644" y="36"/>
                  </a:lnTo>
                  <a:lnTo>
                    <a:pt x="665" y="36"/>
                  </a:lnTo>
                  <a:lnTo>
                    <a:pt x="683" y="43"/>
                  </a:lnTo>
                  <a:lnTo>
                    <a:pt x="706" y="64"/>
                  </a:lnTo>
                  <a:lnTo>
                    <a:pt x="695" y="66"/>
                  </a:lnTo>
                  <a:lnTo>
                    <a:pt x="669" y="73"/>
                  </a:lnTo>
                  <a:lnTo>
                    <a:pt x="672" y="93"/>
                  </a:lnTo>
                  <a:lnTo>
                    <a:pt x="692" y="96"/>
                  </a:lnTo>
                  <a:lnTo>
                    <a:pt x="704" y="96"/>
                  </a:lnTo>
                  <a:lnTo>
                    <a:pt x="697" y="114"/>
                  </a:lnTo>
                  <a:lnTo>
                    <a:pt x="672" y="134"/>
                  </a:lnTo>
                  <a:lnTo>
                    <a:pt x="658" y="137"/>
                  </a:lnTo>
                  <a:lnTo>
                    <a:pt x="663" y="153"/>
                  </a:lnTo>
                  <a:lnTo>
                    <a:pt x="667" y="160"/>
                  </a:lnTo>
                  <a:lnTo>
                    <a:pt x="658" y="176"/>
                  </a:lnTo>
                  <a:lnTo>
                    <a:pt x="669" y="192"/>
                  </a:lnTo>
                  <a:lnTo>
                    <a:pt x="647" y="201"/>
                  </a:lnTo>
                  <a:lnTo>
                    <a:pt x="626" y="208"/>
                  </a:lnTo>
                  <a:lnTo>
                    <a:pt x="621" y="233"/>
                  </a:lnTo>
                  <a:lnTo>
                    <a:pt x="608" y="253"/>
                  </a:lnTo>
                  <a:lnTo>
                    <a:pt x="592" y="269"/>
                  </a:lnTo>
                  <a:lnTo>
                    <a:pt x="574" y="279"/>
                  </a:lnTo>
                  <a:lnTo>
                    <a:pt x="621" y="279"/>
                  </a:lnTo>
                  <a:lnTo>
                    <a:pt x="647" y="279"/>
                  </a:lnTo>
                  <a:lnTo>
                    <a:pt x="663" y="283"/>
                  </a:lnTo>
                  <a:lnTo>
                    <a:pt x="683" y="274"/>
                  </a:lnTo>
                  <a:lnTo>
                    <a:pt x="692" y="295"/>
                  </a:lnTo>
                  <a:lnTo>
                    <a:pt x="959" y="295"/>
                  </a:lnTo>
                  <a:lnTo>
                    <a:pt x="971" y="279"/>
                  </a:lnTo>
                  <a:lnTo>
                    <a:pt x="996" y="258"/>
                  </a:lnTo>
                  <a:lnTo>
                    <a:pt x="1012" y="231"/>
                  </a:lnTo>
                  <a:lnTo>
                    <a:pt x="1035" y="205"/>
                  </a:lnTo>
                  <a:lnTo>
                    <a:pt x="1044" y="180"/>
                  </a:lnTo>
                  <a:lnTo>
                    <a:pt x="1055" y="155"/>
                  </a:lnTo>
                  <a:lnTo>
                    <a:pt x="1076" y="146"/>
                  </a:lnTo>
                  <a:lnTo>
                    <a:pt x="1080" y="132"/>
                  </a:lnTo>
                  <a:lnTo>
                    <a:pt x="1099" y="137"/>
                  </a:lnTo>
                  <a:lnTo>
                    <a:pt x="1117" y="123"/>
                  </a:lnTo>
                  <a:lnTo>
                    <a:pt x="1126" y="134"/>
                  </a:lnTo>
                  <a:lnTo>
                    <a:pt x="1147" y="144"/>
                  </a:lnTo>
                  <a:lnTo>
                    <a:pt x="1167" y="148"/>
                  </a:lnTo>
                  <a:lnTo>
                    <a:pt x="1188" y="155"/>
                  </a:lnTo>
                  <a:lnTo>
                    <a:pt x="1201" y="146"/>
                  </a:lnTo>
                  <a:lnTo>
                    <a:pt x="1220" y="157"/>
                  </a:lnTo>
                  <a:lnTo>
                    <a:pt x="1231" y="176"/>
                  </a:lnTo>
                  <a:lnTo>
                    <a:pt x="1254" y="180"/>
                  </a:lnTo>
                  <a:lnTo>
                    <a:pt x="1263" y="201"/>
                  </a:lnTo>
                  <a:lnTo>
                    <a:pt x="1252" y="212"/>
                  </a:lnTo>
                  <a:lnTo>
                    <a:pt x="1222" y="208"/>
                  </a:lnTo>
                  <a:lnTo>
                    <a:pt x="1199" y="199"/>
                  </a:lnTo>
                  <a:lnTo>
                    <a:pt x="1194" y="215"/>
                  </a:lnTo>
                  <a:lnTo>
                    <a:pt x="1226" y="217"/>
                  </a:lnTo>
                  <a:lnTo>
                    <a:pt x="1252" y="235"/>
                  </a:lnTo>
                  <a:lnTo>
                    <a:pt x="1288" y="226"/>
                  </a:lnTo>
                  <a:lnTo>
                    <a:pt x="1295" y="194"/>
                  </a:lnTo>
                  <a:lnTo>
                    <a:pt x="1313" y="171"/>
                  </a:lnTo>
                  <a:lnTo>
                    <a:pt x="1331" y="178"/>
                  </a:lnTo>
                  <a:lnTo>
                    <a:pt x="1327" y="189"/>
                  </a:lnTo>
                  <a:lnTo>
                    <a:pt x="1315" y="201"/>
                  </a:lnTo>
                  <a:lnTo>
                    <a:pt x="1315" y="217"/>
                  </a:lnTo>
                  <a:lnTo>
                    <a:pt x="1338" y="199"/>
                  </a:lnTo>
                  <a:lnTo>
                    <a:pt x="1357" y="180"/>
                  </a:lnTo>
                  <a:lnTo>
                    <a:pt x="1391" y="176"/>
                  </a:lnTo>
                  <a:lnTo>
                    <a:pt x="1432" y="160"/>
                  </a:lnTo>
                  <a:lnTo>
                    <a:pt x="1462" y="146"/>
                  </a:lnTo>
                  <a:lnTo>
                    <a:pt x="1471" y="130"/>
                  </a:lnTo>
                  <a:lnTo>
                    <a:pt x="1446" y="132"/>
                  </a:lnTo>
                  <a:lnTo>
                    <a:pt x="1420" y="114"/>
                  </a:lnTo>
                  <a:lnTo>
                    <a:pt x="1407" y="89"/>
                  </a:lnTo>
                  <a:lnTo>
                    <a:pt x="1420" y="54"/>
                  </a:lnTo>
                  <a:lnTo>
                    <a:pt x="1448" y="32"/>
                  </a:lnTo>
                  <a:lnTo>
                    <a:pt x="1468" y="13"/>
                  </a:lnTo>
                  <a:lnTo>
                    <a:pt x="1498" y="13"/>
                  </a:lnTo>
                  <a:lnTo>
                    <a:pt x="1523" y="0"/>
                  </a:lnTo>
                  <a:lnTo>
                    <a:pt x="1521" y="16"/>
                  </a:lnTo>
                  <a:lnTo>
                    <a:pt x="1500" y="20"/>
                  </a:lnTo>
                  <a:lnTo>
                    <a:pt x="1494" y="27"/>
                  </a:lnTo>
                  <a:lnTo>
                    <a:pt x="1473" y="29"/>
                  </a:lnTo>
                  <a:lnTo>
                    <a:pt x="1459" y="48"/>
                  </a:lnTo>
                  <a:lnTo>
                    <a:pt x="1450" y="68"/>
                  </a:lnTo>
                  <a:lnTo>
                    <a:pt x="1446" y="89"/>
                  </a:lnTo>
                  <a:lnTo>
                    <a:pt x="1468" y="123"/>
                  </a:lnTo>
                  <a:lnTo>
                    <a:pt x="1503" y="139"/>
                  </a:lnTo>
                  <a:lnTo>
                    <a:pt x="1530" y="153"/>
                  </a:lnTo>
                  <a:lnTo>
                    <a:pt x="1539" y="157"/>
                  </a:lnTo>
                  <a:lnTo>
                    <a:pt x="1554" y="176"/>
                  </a:lnTo>
                  <a:lnTo>
                    <a:pt x="1563" y="171"/>
                  </a:lnTo>
                  <a:lnTo>
                    <a:pt x="1563" y="157"/>
                  </a:lnTo>
                  <a:lnTo>
                    <a:pt x="1558" y="137"/>
                  </a:lnTo>
                  <a:lnTo>
                    <a:pt x="1548" y="125"/>
                  </a:lnTo>
                  <a:lnTo>
                    <a:pt x="1544" y="112"/>
                  </a:lnTo>
                  <a:lnTo>
                    <a:pt x="1554" y="86"/>
                  </a:lnTo>
                  <a:lnTo>
                    <a:pt x="1579" y="86"/>
                  </a:lnTo>
                  <a:lnTo>
                    <a:pt x="1600" y="86"/>
                  </a:lnTo>
                  <a:lnTo>
                    <a:pt x="1609" y="96"/>
                  </a:lnTo>
                  <a:lnTo>
                    <a:pt x="1613" y="118"/>
                  </a:lnTo>
                  <a:lnTo>
                    <a:pt x="1625" y="139"/>
                  </a:lnTo>
                  <a:lnTo>
                    <a:pt x="1629" y="118"/>
                  </a:lnTo>
                  <a:lnTo>
                    <a:pt x="1647" y="107"/>
                  </a:lnTo>
                  <a:lnTo>
                    <a:pt x="1666" y="107"/>
                  </a:lnTo>
                  <a:lnTo>
                    <a:pt x="1684" y="107"/>
                  </a:lnTo>
                  <a:lnTo>
                    <a:pt x="1702" y="109"/>
                  </a:lnTo>
                  <a:lnTo>
                    <a:pt x="1702" y="86"/>
                  </a:lnTo>
                  <a:lnTo>
                    <a:pt x="1716" y="89"/>
                  </a:lnTo>
                  <a:lnTo>
                    <a:pt x="1727" y="102"/>
                  </a:lnTo>
                  <a:lnTo>
                    <a:pt x="1750" y="102"/>
                  </a:lnTo>
                  <a:lnTo>
                    <a:pt x="1768" y="93"/>
                  </a:lnTo>
                  <a:lnTo>
                    <a:pt x="1789" y="112"/>
                  </a:lnTo>
                  <a:lnTo>
                    <a:pt x="1814" y="134"/>
                  </a:lnTo>
                  <a:lnTo>
                    <a:pt x="1842" y="139"/>
                  </a:lnTo>
                  <a:lnTo>
                    <a:pt x="1880" y="155"/>
                  </a:lnTo>
                  <a:lnTo>
                    <a:pt x="1887" y="153"/>
                  </a:lnTo>
                  <a:lnTo>
                    <a:pt x="1915" y="199"/>
                  </a:lnTo>
                  <a:lnTo>
                    <a:pt x="1956" y="269"/>
                  </a:lnTo>
                  <a:lnTo>
                    <a:pt x="1983" y="311"/>
                  </a:lnTo>
                  <a:lnTo>
                    <a:pt x="1997" y="354"/>
                  </a:lnTo>
                  <a:lnTo>
                    <a:pt x="1978" y="363"/>
                  </a:lnTo>
                  <a:lnTo>
                    <a:pt x="1969" y="383"/>
                  </a:lnTo>
                  <a:lnTo>
                    <a:pt x="1978" y="417"/>
                  </a:lnTo>
                  <a:lnTo>
                    <a:pt x="1990" y="449"/>
                  </a:lnTo>
                  <a:lnTo>
                    <a:pt x="2004" y="449"/>
                  </a:lnTo>
                  <a:lnTo>
                    <a:pt x="2006" y="424"/>
                  </a:lnTo>
                  <a:lnTo>
                    <a:pt x="2017" y="417"/>
                  </a:lnTo>
                  <a:lnTo>
                    <a:pt x="2024" y="440"/>
                  </a:lnTo>
                  <a:lnTo>
                    <a:pt x="2008" y="449"/>
                  </a:lnTo>
                  <a:lnTo>
                    <a:pt x="2036" y="474"/>
                  </a:lnTo>
                  <a:lnTo>
                    <a:pt x="2015" y="499"/>
                  </a:lnTo>
                  <a:lnTo>
                    <a:pt x="2010" y="515"/>
                  </a:lnTo>
                  <a:lnTo>
                    <a:pt x="2045" y="522"/>
                  </a:lnTo>
                  <a:lnTo>
                    <a:pt x="2031" y="543"/>
                  </a:lnTo>
                  <a:lnTo>
                    <a:pt x="2013" y="550"/>
                  </a:lnTo>
                  <a:lnTo>
                    <a:pt x="2013" y="582"/>
                  </a:lnTo>
                  <a:lnTo>
                    <a:pt x="2031" y="609"/>
                  </a:lnTo>
                  <a:lnTo>
                    <a:pt x="2013" y="616"/>
                  </a:lnTo>
                  <a:lnTo>
                    <a:pt x="1983" y="607"/>
                  </a:lnTo>
                  <a:lnTo>
                    <a:pt x="1994" y="591"/>
                  </a:lnTo>
                  <a:lnTo>
                    <a:pt x="2015" y="591"/>
                  </a:lnTo>
                  <a:lnTo>
                    <a:pt x="2015" y="559"/>
                  </a:lnTo>
                  <a:lnTo>
                    <a:pt x="1992" y="568"/>
                  </a:lnTo>
                  <a:lnTo>
                    <a:pt x="1990" y="540"/>
                  </a:lnTo>
                  <a:lnTo>
                    <a:pt x="2010" y="522"/>
                  </a:lnTo>
                  <a:lnTo>
                    <a:pt x="2015" y="504"/>
                  </a:lnTo>
                  <a:lnTo>
                    <a:pt x="2006" y="476"/>
                  </a:lnTo>
                  <a:lnTo>
                    <a:pt x="2004" y="447"/>
                  </a:lnTo>
                  <a:lnTo>
                    <a:pt x="1988" y="460"/>
                  </a:lnTo>
                  <a:lnTo>
                    <a:pt x="1972" y="483"/>
                  </a:lnTo>
                  <a:lnTo>
                    <a:pt x="1947" y="504"/>
                  </a:lnTo>
                  <a:lnTo>
                    <a:pt x="1956" y="534"/>
                  </a:lnTo>
                  <a:lnTo>
                    <a:pt x="1953" y="559"/>
                  </a:lnTo>
                  <a:lnTo>
                    <a:pt x="1953" y="575"/>
                  </a:lnTo>
                  <a:lnTo>
                    <a:pt x="1965" y="598"/>
                  </a:lnTo>
                  <a:lnTo>
                    <a:pt x="1956" y="605"/>
                  </a:lnTo>
                  <a:lnTo>
                    <a:pt x="1931" y="579"/>
                  </a:lnTo>
                  <a:lnTo>
                    <a:pt x="1915" y="550"/>
                  </a:lnTo>
                  <a:lnTo>
                    <a:pt x="1908" y="529"/>
                  </a:lnTo>
                  <a:lnTo>
                    <a:pt x="1894" y="518"/>
                  </a:lnTo>
                  <a:lnTo>
                    <a:pt x="1876" y="534"/>
                  </a:lnTo>
                  <a:lnTo>
                    <a:pt x="1864" y="554"/>
                  </a:lnTo>
                  <a:lnTo>
                    <a:pt x="1889" y="579"/>
                  </a:lnTo>
                  <a:lnTo>
                    <a:pt x="1903" y="605"/>
                  </a:lnTo>
                  <a:lnTo>
                    <a:pt x="1908" y="639"/>
                  </a:lnTo>
                  <a:lnTo>
                    <a:pt x="1905" y="669"/>
                  </a:lnTo>
                  <a:lnTo>
                    <a:pt x="1905" y="698"/>
                  </a:lnTo>
                  <a:lnTo>
                    <a:pt x="1917" y="678"/>
                  </a:lnTo>
                  <a:lnTo>
                    <a:pt x="1937" y="680"/>
                  </a:lnTo>
                  <a:lnTo>
                    <a:pt x="1944" y="701"/>
                  </a:lnTo>
                  <a:lnTo>
                    <a:pt x="1928" y="724"/>
                  </a:lnTo>
                  <a:lnTo>
                    <a:pt x="1910" y="721"/>
                  </a:lnTo>
                  <a:lnTo>
                    <a:pt x="1908" y="740"/>
                  </a:lnTo>
                  <a:lnTo>
                    <a:pt x="1921" y="753"/>
                  </a:lnTo>
                  <a:lnTo>
                    <a:pt x="1915" y="776"/>
                  </a:lnTo>
                  <a:lnTo>
                    <a:pt x="1935" y="797"/>
                  </a:lnTo>
                  <a:lnTo>
                    <a:pt x="1921" y="813"/>
                  </a:lnTo>
                  <a:lnTo>
                    <a:pt x="1942" y="833"/>
                  </a:lnTo>
                  <a:lnTo>
                    <a:pt x="1928" y="854"/>
                  </a:lnTo>
                  <a:lnTo>
                    <a:pt x="1951" y="842"/>
                  </a:lnTo>
                  <a:lnTo>
                    <a:pt x="1944" y="863"/>
                  </a:lnTo>
                  <a:lnTo>
                    <a:pt x="1985" y="854"/>
                  </a:lnTo>
                  <a:lnTo>
                    <a:pt x="1972" y="879"/>
                  </a:lnTo>
                  <a:lnTo>
                    <a:pt x="1944" y="863"/>
                  </a:lnTo>
                  <a:lnTo>
                    <a:pt x="1942" y="891"/>
                  </a:lnTo>
                  <a:lnTo>
                    <a:pt x="1983" y="888"/>
                  </a:lnTo>
                  <a:lnTo>
                    <a:pt x="1965" y="916"/>
                  </a:lnTo>
                  <a:lnTo>
                    <a:pt x="1937" y="886"/>
                  </a:lnTo>
                  <a:lnTo>
                    <a:pt x="1953" y="929"/>
                  </a:lnTo>
                  <a:lnTo>
                    <a:pt x="1985" y="957"/>
                  </a:lnTo>
                  <a:lnTo>
                    <a:pt x="1956" y="957"/>
                  </a:lnTo>
                  <a:lnTo>
                    <a:pt x="1937" y="891"/>
                  </a:lnTo>
                  <a:lnTo>
                    <a:pt x="1944" y="845"/>
                  </a:lnTo>
                  <a:lnTo>
                    <a:pt x="1921" y="847"/>
                  </a:lnTo>
                  <a:lnTo>
                    <a:pt x="1905" y="822"/>
                  </a:lnTo>
                  <a:lnTo>
                    <a:pt x="1921" y="810"/>
                  </a:lnTo>
                  <a:lnTo>
                    <a:pt x="1921" y="785"/>
                  </a:lnTo>
                  <a:lnTo>
                    <a:pt x="1910" y="728"/>
                  </a:lnTo>
                  <a:lnTo>
                    <a:pt x="1908" y="691"/>
                  </a:lnTo>
                  <a:lnTo>
                    <a:pt x="1903" y="666"/>
                  </a:lnTo>
                  <a:lnTo>
                    <a:pt x="1883" y="698"/>
                  </a:lnTo>
                  <a:lnTo>
                    <a:pt x="1846" y="707"/>
                  </a:lnTo>
                  <a:lnTo>
                    <a:pt x="1828" y="730"/>
                  </a:lnTo>
                  <a:lnTo>
                    <a:pt x="1835" y="760"/>
                  </a:lnTo>
                  <a:lnTo>
                    <a:pt x="1821" y="776"/>
                  </a:lnTo>
                  <a:lnTo>
                    <a:pt x="1800" y="772"/>
                  </a:lnTo>
                  <a:lnTo>
                    <a:pt x="1819" y="746"/>
                  </a:lnTo>
                  <a:lnTo>
                    <a:pt x="1805" y="735"/>
                  </a:lnTo>
                  <a:lnTo>
                    <a:pt x="1784" y="749"/>
                  </a:lnTo>
                  <a:lnTo>
                    <a:pt x="1784" y="774"/>
                  </a:lnTo>
                  <a:lnTo>
                    <a:pt x="1819" y="810"/>
                  </a:lnTo>
                  <a:lnTo>
                    <a:pt x="1828" y="836"/>
                  </a:lnTo>
                  <a:lnTo>
                    <a:pt x="1803" y="870"/>
                  </a:lnTo>
                  <a:lnTo>
                    <a:pt x="1803" y="952"/>
                  </a:lnTo>
                  <a:lnTo>
                    <a:pt x="1803" y="987"/>
                  </a:lnTo>
                  <a:lnTo>
                    <a:pt x="1807" y="1007"/>
                  </a:lnTo>
                  <a:lnTo>
                    <a:pt x="1844" y="1003"/>
                  </a:lnTo>
                  <a:lnTo>
                    <a:pt x="1869" y="1010"/>
                  </a:lnTo>
                  <a:lnTo>
                    <a:pt x="1887" y="977"/>
                  </a:lnTo>
                  <a:lnTo>
                    <a:pt x="1908" y="977"/>
                  </a:lnTo>
                  <a:lnTo>
                    <a:pt x="1901" y="996"/>
                  </a:lnTo>
                  <a:lnTo>
                    <a:pt x="1921" y="1019"/>
                  </a:lnTo>
                  <a:lnTo>
                    <a:pt x="1951" y="1026"/>
                  </a:lnTo>
                  <a:lnTo>
                    <a:pt x="1947" y="1003"/>
                  </a:lnTo>
                  <a:lnTo>
                    <a:pt x="2013" y="1003"/>
                  </a:lnTo>
                  <a:lnTo>
                    <a:pt x="1990" y="1012"/>
                  </a:lnTo>
                  <a:lnTo>
                    <a:pt x="1988" y="1030"/>
                  </a:lnTo>
                  <a:lnTo>
                    <a:pt x="2017" y="1039"/>
                  </a:lnTo>
                  <a:lnTo>
                    <a:pt x="2047" y="1048"/>
                  </a:lnTo>
                  <a:lnTo>
                    <a:pt x="2061" y="1016"/>
                  </a:lnTo>
                  <a:lnTo>
                    <a:pt x="2065" y="996"/>
                  </a:lnTo>
                  <a:lnTo>
                    <a:pt x="2045" y="1000"/>
                  </a:lnTo>
                  <a:lnTo>
                    <a:pt x="2024" y="989"/>
                  </a:lnTo>
                  <a:lnTo>
                    <a:pt x="2013" y="982"/>
                  </a:lnTo>
                  <a:lnTo>
                    <a:pt x="2006" y="1010"/>
                  </a:lnTo>
                  <a:lnTo>
                    <a:pt x="2006" y="1007"/>
                  </a:lnTo>
                  <a:lnTo>
                    <a:pt x="1942" y="1007"/>
                  </a:lnTo>
                  <a:lnTo>
                    <a:pt x="1928" y="975"/>
                  </a:lnTo>
                  <a:lnTo>
                    <a:pt x="1910" y="980"/>
                  </a:lnTo>
                  <a:lnTo>
                    <a:pt x="1889" y="977"/>
                  </a:lnTo>
                  <a:lnTo>
                    <a:pt x="1883" y="941"/>
                  </a:lnTo>
                  <a:lnTo>
                    <a:pt x="1871" y="925"/>
                  </a:lnTo>
                  <a:lnTo>
                    <a:pt x="1892" y="911"/>
                  </a:lnTo>
                  <a:lnTo>
                    <a:pt x="1892" y="891"/>
                  </a:lnTo>
                  <a:lnTo>
                    <a:pt x="1862" y="904"/>
                  </a:lnTo>
                  <a:lnTo>
                    <a:pt x="1842" y="918"/>
                  </a:lnTo>
                  <a:lnTo>
                    <a:pt x="1828" y="948"/>
                  </a:lnTo>
                  <a:lnTo>
                    <a:pt x="1803" y="948"/>
                  </a:lnTo>
                  <a:lnTo>
                    <a:pt x="1803" y="884"/>
                  </a:lnTo>
                  <a:lnTo>
                    <a:pt x="1787" y="893"/>
                  </a:lnTo>
                  <a:lnTo>
                    <a:pt x="1768" y="868"/>
                  </a:lnTo>
                  <a:lnTo>
                    <a:pt x="1748" y="838"/>
                  </a:lnTo>
                  <a:lnTo>
                    <a:pt x="1718" y="847"/>
                  </a:lnTo>
                  <a:lnTo>
                    <a:pt x="1716" y="872"/>
                  </a:lnTo>
                  <a:lnTo>
                    <a:pt x="1730" y="909"/>
                  </a:lnTo>
                  <a:lnTo>
                    <a:pt x="1730" y="936"/>
                  </a:lnTo>
                  <a:lnTo>
                    <a:pt x="1750" y="966"/>
                  </a:lnTo>
                  <a:lnTo>
                    <a:pt x="1762" y="980"/>
                  </a:lnTo>
                  <a:lnTo>
                    <a:pt x="1739" y="980"/>
                  </a:lnTo>
                  <a:lnTo>
                    <a:pt x="1723" y="966"/>
                  </a:lnTo>
                  <a:lnTo>
                    <a:pt x="1711" y="982"/>
                  </a:lnTo>
                  <a:lnTo>
                    <a:pt x="1743" y="1021"/>
                  </a:lnTo>
                  <a:lnTo>
                    <a:pt x="1768" y="1046"/>
                  </a:lnTo>
                  <a:lnTo>
                    <a:pt x="1791" y="1042"/>
                  </a:lnTo>
                  <a:lnTo>
                    <a:pt x="1819" y="1051"/>
                  </a:lnTo>
                  <a:lnTo>
                    <a:pt x="1853" y="1051"/>
                  </a:lnTo>
                  <a:lnTo>
                    <a:pt x="1883" y="1046"/>
                  </a:lnTo>
                  <a:lnTo>
                    <a:pt x="1910" y="1058"/>
                  </a:lnTo>
                  <a:lnTo>
                    <a:pt x="1903" y="1067"/>
                  </a:lnTo>
                  <a:lnTo>
                    <a:pt x="1871" y="1055"/>
                  </a:lnTo>
                  <a:lnTo>
                    <a:pt x="1871" y="1110"/>
                  </a:lnTo>
                  <a:lnTo>
                    <a:pt x="1894" y="1110"/>
                  </a:lnTo>
                  <a:lnTo>
                    <a:pt x="1908" y="1103"/>
                  </a:lnTo>
                  <a:lnTo>
                    <a:pt x="1910" y="1090"/>
                  </a:lnTo>
                  <a:lnTo>
                    <a:pt x="1937" y="1092"/>
                  </a:lnTo>
                  <a:lnTo>
                    <a:pt x="1969" y="1078"/>
                  </a:lnTo>
                  <a:lnTo>
                    <a:pt x="1967" y="1101"/>
                  </a:lnTo>
                  <a:lnTo>
                    <a:pt x="1978" y="1119"/>
                  </a:lnTo>
                  <a:lnTo>
                    <a:pt x="1994" y="1133"/>
                  </a:lnTo>
                  <a:lnTo>
                    <a:pt x="2013" y="1119"/>
                  </a:lnTo>
                  <a:lnTo>
                    <a:pt x="2010" y="1094"/>
                  </a:lnTo>
                  <a:lnTo>
                    <a:pt x="2013" y="1071"/>
                  </a:lnTo>
                  <a:lnTo>
                    <a:pt x="2024" y="1094"/>
                  </a:lnTo>
                  <a:lnTo>
                    <a:pt x="2031" y="1122"/>
                  </a:lnTo>
                  <a:lnTo>
                    <a:pt x="2006" y="1182"/>
                  </a:lnTo>
                  <a:lnTo>
                    <a:pt x="1978" y="1237"/>
                  </a:lnTo>
                  <a:lnTo>
                    <a:pt x="1953" y="1290"/>
                  </a:lnTo>
                  <a:lnTo>
                    <a:pt x="1921" y="1349"/>
                  </a:lnTo>
                  <a:lnTo>
                    <a:pt x="1901" y="1331"/>
                  </a:lnTo>
                  <a:lnTo>
                    <a:pt x="1871" y="1345"/>
                  </a:lnTo>
                  <a:lnTo>
                    <a:pt x="1862" y="1363"/>
                  </a:lnTo>
                  <a:lnTo>
                    <a:pt x="1842" y="1377"/>
                  </a:lnTo>
                  <a:lnTo>
                    <a:pt x="1805" y="1383"/>
                  </a:lnTo>
                  <a:lnTo>
                    <a:pt x="1782" y="1381"/>
                  </a:lnTo>
                  <a:lnTo>
                    <a:pt x="1789" y="1347"/>
                  </a:lnTo>
                  <a:lnTo>
                    <a:pt x="1787" y="1322"/>
                  </a:lnTo>
                  <a:lnTo>
                    <a:pt x="1803" y="1301"/>
                  </a:lnTo>
                  <a:lnTo>
                    <a:pt x="1800" y="1283"/>
                  </a:lnTo>
                  <a:lnTo>
                    <a:pt x="1773" y="1267"/>
                  </a:lnTo>
                  <a:lnTo>
                    <a:pt x="1778" y="1237"/>
                  </a:lnTo>
                  <a:lnTo>
                    <a:pt x="1784" y="1205"/>
                  </a:lnTo>
                  <a:lnTo>
                    <a:pt x="1810" y="1178"/>
                  </a:lnTo>
                  <a:lnTo>
                    <a:pt x="1844" y="1175"/>
                  </a:lnTo>
                  <a:lnTo>
                    <a:pt x="1851" y="1155"/>
                  </a:lnTo>
                  <a:lnTo>
                    <a:pt x="1842" y="1122"/>
                  </a:lnTo>
                  <a:lnTo>
                    <a:pt x="1862" y="1112"/>
                  </a:lnTo>
                  <a:lnTo>
                    <a:pt x="1871" y="1110"/>
                  </a:lnTo>
                  <a:lnTo>
                    <a:pt x="1871" y="1058"/>
                  </a:lnTo>
                  <a:lnTo>
                    <a:pt x="1844" y="1062"/>
                  </a:lnTo>
                  <a:lnTo>
                    <a:pt x="1819" y="1074"/>
                  </a:lnTo>
                  <a:lnTo>
                    <a:pt x="1794" y="1058"/>
                  </a:lnTo>
                  <a:lnTo>
                    <a:pt x="1766" y="1058"/>
                  </a:lnTo>
                  <a:lnTo>
                    <a:pt x="1732" y="1046"/>
                  </a:lnTo>
                  <a:lnTo>
                    <a:pt x="1711" y="1021"/>
                  </a:lnTo>
                  <a:lnTo>
                    <a:pt x="1700" y="998"/>
                  </a:lnTo>
                  <a:lnTo>
                    <a:pt x="1682" y="977"/>
                  </a:lnTo>
                  <a:lnTo>
                    <a:pt x="1700" y="973"/>
                  </a:lnTo>
                  <a:lnTo>
                    <a:pt x="1711" y="980"/>
                  </a:lnTo>
                  <a:lnTo>
                    <a:pt x="1725" y="961"/>
                  </a:lnTo>
                  <a:lnTo>
                    <a:pt x="1718" y="934"/>
                  </a:lnTo>
                  <a:lnTo>
                    <a:pt x="1700" y="932"/>
                  </a:lnTo>
                  <a:lnTo>
                    <a:pt x="1689" y="900"/>
                  </a:lnTo>
                  <a:lnTo>
                    <a:pt x="1698" y="868"/>
                  </a:lnTo>
                  <a:lnTo>
                    <a:pt x="1711" y="842"/>
                  </a:lnTo>
                  <a:lnTo>
                    <a:pt x="1707" y="810"/>
                  </a:lnTo>
                  <a:lnTo>
                    <a:pt x="1698" y="808"/>
                  </a:lnTo>
                  <a:lnTo>
                    <a:pt x="1682" y="824"/>
                  </a:lnTo>
                  <a:lnTo>
                    <a:pt x="1679" y="842"/>
                  </a:lnTo>
                  <a:lnTo>
                    <a:pt x="1661" y="810"/>
                  </a:lnTo>
                  <a:lnTo>
                    <a:pt x="1634" y="788"/>
                  </a:lnTo>
                  <a:lnTo>
                    <a:pt x="1613" y="790"/>
                  </a:lnTo>
                  <a:lnTo>
                    <a:pt x="1595" y="822"/>
                  </a:lnTo>
                  <a:lnTo>
                    <a:pt x="1568" y="838"/>
                  </a:lnTo>
                  <a:lnTo>
                    <a:pt x="1568" y="859"/>
                  </a:lnTo>
                  <a:lnTo>
                    <a:pt x="1577" y="884"/>
                  </a:lnTo>
                  <a:lnTo>
                    <a:pt x="1574" y="907"/>
                  </a:lnTo>
                  <a:lnTo>
                    <a:pt x="1554" y="904"/>
                  </a:lnTo>
                  <a:lnTo>
                    <a:pt x="1537" y="872"/>
                  </a:lnTo>
                  <a:lnTo>
                    <a:pt x="1514" y="842"/>
                  </a:lnTo>
                  <a:lnTo>
                    <a:pt x="1489" y="822"/>
                  </a:lnTo>
                  <a:lnTo>
                    <a:pt x="1471" y="788"/>
                  </a:lnTo>
                  <a:lnTo>
                    <a:pt x="1452" y="774"/>
                  </a:lnTo>
                  <a:lnTo>
                    <a:pt x="1418" y="774"/>
                  </a:lnTo>
                  <a:lnTo>
                    <a:pt x="1391" y="774"/>
                  </a:lnTo>
                  <a:lnTo>
                    <a:pt x="1373" y="790"/>
                  </a:lnTo>
                  <a:lnTo>
                    <a:pt x="1354" y="767"/>
                  </a:lnTo>
                  <a:lnTo>
                    <a:pt x="1334" y="751"/>
                  </a:lnTo>
                  <a:lnTo>
                    <a:pt x="1306" y="728"/>
                  </a:lnTo>
                  <a:lnTo>
                    <a:pt x="1327" y="767"/>
                  </a:lnTo>
                  <a:lnTo>
                    <a:pt x="1357" y="776"/>
                  </a:lnTo>
                  <a:lnTo>
                    <a:pt x="1377" y="810"/>
                  </a:lnTo>
                  <a:lnTo>
                    <a:pt x="1370" y="838"/>
                  </a:lnTo>
                  <a:lnTo>
                    <a:pt x="1350" y="854"/>
                  </a:lnTo>
                  <a:lnTo>
                    <a:pt x="1318" y="859"/>
                  </a:lnTo>
                  <a:lnTo>
                    <a:pt x="1293" y="870"/>
                  </a:lnTo>
                  <a:lnTo>
                    <a:pt x="1274" y="895"/>
                  </a:lnTo>
                  <a:lnTo>
                    <a:pt x="1263" y="911"/>
                  </a:lnTo>
                  <a:lnTo>
                    <a:pt x="1254" y="879"/>
                  </a:lnTo>
                  <a:lnTo>
                    <a:pt x="1240" y="838"/>
                  </a:lnTo>
                  <a:lnTo>
                    <a:pt x="1220" y="815"/>
                  </a:lnTo>
                  <a:lnTo>
                    <a:pt x="1220" y="790"/>
                  </a:lnTo>
                  <a:lnTo>
                    <a:pt x="1201" y="792"/>
                  </a:lnTo>
                  <a:lnTo>
                    <a:pt x="1206" y="833"/>
                  </a:lnTo>
                  <a:lnTo>
                    <a:pt x="1224" y="868"/>
                  </a:lnTo>
                  <a:lnTo>
                    <a:pt x="1224" y="893"/>
                  </a:lnTo>
                  <a:lnTo>
                    <a:pt x="1252" y="909"/>
                  </a:lnTo>
                  <a:lnTo>
                    <a:pt x="1263" y="929"/>
                  </a:lnTo>
                  <a:lnTo>
                    <a:pt x="1290" y="918"/>
                  </a:lnTo>
                  <a:lnTo>
                    <a:pt x="1313" y="916"/>
                  </a:lnTo>
                  <a:lnTo>
                    <a:pt x="1343" y="904"/>
                  </a:lnTo>
                  <a:lnTo>
                    <a:pt x="1329" y="939"/>
                  </a:lnTo>
                  <a:lnTo>
                    <a:pt x="1306" y="987"/>
                  </a:lnTo>
                  <a:lnTo>
                    <a:pt x="1290" y="1016"/>
                  </a:lnTo>
                  <a:lnTo>
                    <a:pt x="1268" y="1042"/>
                  </a:lnTo>
                  <a:lnTo>
                    <a:pt x="1254" y="1067"/>
                  </a:lnTo>
                  <a:lnTo>
                    <a:pt x="1249" y="1119"/>
                  </a:lnTo>
                  <a:lnTo>
                    <a:pt x="1245" y="1159"/>
                  </a:lnTo>
                  <a:lnTo>
                    <a:pt x="1247" y="1194"/>
                  </a:lnTo>
                  <a:lnTo>
                    <a:pt x="1252" y="1228"/>
                  </a:lnTo>
                  <a:lnTo>
                    <a:pt x="1252" y="1237"/>
                  </a:lnTo>
                  <a:lnTo>
                    <a:pt x="1274" y="1235"/>
                  </a:lnTo>
                  <a:lnTo>
                    <a:pt x="1277" y="1205"/>
                  </a:lnTo>
                  <a:lnTo>
                    <a:pt x="1302" y="1175"/>
                  </a:lnTo>
                  <a:lnTo>
                    <a:pt x="1327" y="1159"/>
                  </a:lnTo>
                  <a:lnTo>
                    <a:pt x="1331" y="1191"/>
                  </a:lnTo>
                  <a:lnTo>
                    <a:pt x="1329" y="1221"/>
                  </a:lnTo>
                  <a:lnTo>
                    <a:pt x="1315" y="1237"/>
                  </a:lnTo>
                  <a:lnTo>
                    <a:pt x="1318" y="1255"/>
                  </a:lnTo>
                  <a:lnTo>
                    <a:pt x="1309" y="1294"/>
                  </a:lnTo>
                  <a:lnTo>
                    <a:pt x="1304" y="1315"/>
                  </a:lnTo>
                  <a:lnTo>
                    <a:pt x="1288" y="1322"/>
                  </a:lnTo>
                  <a:lnTo>
                    <a:pt x="1270" y="1301"/>
                  </a:lnTo>
                  <a:lnTo>
                    <a:pt x="1277" y="1269"/>
                  </a:lnTo>
                  <a:lnTo>
                    <a:pt x="1283" y="1258"/>
                  </a:lnTo>
                  <a:lnTo>
                    <a:pt x="1272" y="1237"/>
                  </a:lnTo>
                  <a:lnTo>
                    <a:pt x="1249" y="1239"/>
                  </a:lnTo>
                  <a:lnTo>
                    <a:pt x="1242" y="1267"/>
                  </a:lnTo>
                  <a:lnTo>
                    <a:pt x="1210" y="1283"/>
                  </a:lnTo>
                  <a:lnTo>
                    <a:pt x="1190" y="1301"/>
                  </a:lnTo>
                  <a:lnTo>
                    <a:pt x="1192" y="1331"/>
                  </a:lnTo>
                  <a:lnTo>
                    <a:pt x="1190" y="1370"/>
                  </a:lnTo>
                  <a:lnTo>
                    <a:pt x="1181" y="1406"/>
                  </a:lnTo>
                  <a:lnTo>
                    <a:pt x="1137" y="1450"/>
                  </a:lnTo>
                  <a:lnTo>
                    <a:pt x="1117" y="1452"/>
                  </a:lnTo>
                  <a:lnTo>
                    <a:pt x="1101" y="1425"/>
                  </a:lnTo>
                  <a:lnTo>
                    <a:pt x="1076" y="1406"/>
                  </a:lnTo>
                  <a:lnTo>
                    <a:pt x="1062" y="1397"/>
                  </a:lnTo>
                  <a:lnTo>
                    <a:pt x="1037" y="1345"/>
                  </a:lnTo>
                  <a:lnTo>
                    <a:pt x="1014" y="1317"/>
                  </a:lnTo>
                  <a:lnTo>
                    <a:pt x="996" y="1290"/>
                  </a:lnTo>
                  <a:lnTo>
                    <a:pt x="987" y="1264"/>
                  </a:lnTo>
                  <a:lnTo>
                    <a:pt x="984" y="1228"/>
                  </a:lnTo>
                  <a:lnTo>
                    <a:pt x="964" y="1205"/>
                  </a:lnTo>
                  <a:lnTo>
                    <a:pt x="957" y="1182"/>
                  </a:lnTo>
                  <a:lnTo>
                    <a:pt x="971" y="1152"/>
                  </a:lnTo>
                  <a:lnTo>
                    <a:pt x="971" y="1124"/>
                  </a:lnTo>
                  <a:lnTo>
                    <a:pt x="950" y="1110"/>
                  </a:lnTo>
                  <a:lnTo>
                    <a:pt x="918" y="1103"/>
                  </a:lnTo>
                  <a:lnTo>
                    <a:pt x="893" y="1094"/>
                  </a:lnTo>
                  <a:lnTo>
                    <a:pt x="879" y="1103"/>
                  </a:lnTo>
                  <a:lnTo>
                    <a:pt x="857" y="1110"/>
                  </a:lnTo>
                  <a:lnTo>
                    <a:pt x="836" y="1094"/>
                  </a:lnTo>
                  <a:lnTo>
                    <a:pt x="818" y="1076"/>
                  </a:lnTo>
                  <a:lnTo>
                    <a:pt x="793" y="1071"/>
                  </a:lnTo>
                  <a:lnTo>
                    <a:pt x="768" y="1058"/>
                  </a:lnTo>
                  <a:lnTo>
                    <a:pt x="745" y="1039"/>
                  </a:lnTo>
                  <a:lnTo>
                    <a:pt x="738" y="996"/>
                  </a:lnTo>
                  <a:lnTo>
                    <a:pt x="736" y="966"/>
                  </a:lnTo>
                  <a:lnTo>
                    <a:pt x="756" y="948"/>
                  </a:lnTo>
                  <a:lnTo>
                    <a:pt x="754" y="927"/>
                  </a:lnTo>
                  <a:lnTo>
                    <a:pt x="747" y="891"/>
                  </a:lnTo>
                  <a:lnTo>
                    <a:pt x="749" y="856"/>
                  </a:lnTo>
                  <a:lnTo>
                    <a:pt x="745" y="824"/>
                  </a:lnTo>
                  <a:lnTo>
                    <a:pt x="768" y="797"/>
                  </a:lnTo>
                  <a:lnTo>
                    <a:pt x="786" y="781"/>
                  </a:lnTo>
                  <a:lnTo>
                    <a:pt x="806" y="776"/>
                  </a:lnTo>
                  <a:lnTo>
                    <a:pt x="800" y="751"/>
                  </a:lnTo>
                  <a:lnTo>
                    <a:pt x="813" y="728"/>
                  </a:lnTo>
                  <a:lnTo>
                    <a:pt x="834" y="714"/>
                  </a:lnTo>
                  <a:lnTo>
                    <a:pt x="859" y="726"/>
                  </a:lnTo>
                  <a:lnTo>
                    <a:pt x="891" y="735"/>
                  </a:lnTo>
                  <a:lnTo>
                    <a:pt x="923" y="728"/>
                  </a:lnTo>
                  <a:lnTo>
                    <a:pt x="952" y="728"/>
                  </a:lnTo>
                  <a:lnTo>
                    <a:pt x="966" y="730"/>
                  </a:lnTo>
                  <a:lnTo>
                    <a:pt x="973" y="760"/>
                  </a:lnTo>
                  <a:lnTo>
                    <a:pt x="1000" y="765"/>
                  </a:lnTo>
                  <a:lnTo>
                    <a:pt x="1028" y="774"/>
                  </a:lnTo>
                  <a:lnTo>
                    <a:pt x="1044" y="772"/>
                  </a:lnTo>
                  <a:lnTo>
                    <a:pt x="1055" y="753"/>
                  </a:lnTo>
                  <a:lnTo>
                    <a:pt x="1064" y="740"/>
                  </a:lnTo>
                  <a:lnTo>
                    <a:pt x="1089" y="746"/>
                  </a:lnTo>
                  <a:lnTo>
                    <a:pt x="1119" y="760"/>
                  </a:lnTo>
                  <a:lnTo>
                    <a:pt x="1151" y="765"/>
                  </a:lnTo>
                  <a:lnTo>
                    <a:pt x="1174" y="767"/>
                  </a:lnTo>
                  <a:lnTo>
                    <a:pt x="1201" y="765"/>
                  </a:lnTo>
                  <a:lnTo>
                    <a:pt x="1220" y="746"/>
                  </a:lnTo>
                  <a:lnTo>
                    <a:pt x="1229" y="721"/>
                  </a:lnTo>
                  <a:lnTo>
                    <a:pt x="1240" y="701"/>
                  </a:lnTo>
                  <a:lnTo>
                    <a:pt x="1229" y="694"/>
                  </a:lnTo>
                  <a:lnTo>
                    <a:pt x="1215" y="678"/>
                  </a:lnTo>
                  <a:lnTo>
                    <a:pt x="1199" y="682"/>
                  </a:lnTo>
                  <a:lnTo>
                    <a:pt x="1169" y="682"/>
                  </a:lnTo>
                  <a:lnTo>
                    <a:pt x="1149" y="673"/>
                  </a:lnTo>
                  <a:lnTo>
                    <a:pt x="1147" y="650"/>
                  </a:lnTo>
                  <a:lnTo>
                    <a:pt x="1137" y="643"/>
                  </a:lnTo>
                  <a:lnTo>
                    <a:pt x="1126" y="650"/>
                  </a:lnTo>
                  <a:lnTo>
                    <a:pt x="1131" y="673"/>
                  </a:lnTo>
                  <a:lnTo>
                    <a:pt x="1121" y="691"/>
                  </a:lnTo>
                  <a:lnTo>
                    <a:pt x="1099" y="689"/>
                  </a:lnTo>
                  <a:lnTo>
                    <a:pt x="1087" y="671"/>
                  </a:lnTo>
                  <a:lnTo>
                    <a:pt x="1080" y="648"/>
                  </a:lnTo>
                  <a:lnTo>
                    <a:pt x="1080" y="621"/>
                  </a:lnTo>
                  <a:lnTo>
                    <a:pt x="1067" y="609"/>
                  </a:lnTo>
                  <a:lnTo>
                    <a:pt x="1060" y="627"/>
                  </a:lnTo>
                  <a:lnTo>
                    <a:pt x="1062" y="650"/>
                  </a:lnTo>
                  <a:lnTo>
                    <a:pt x="1071" y="669"/>
                  </a:lnTo>
                  <a:lnTo>
                    <a:pt x="1087" y="685"/>
                  </a:lnTo>
                  <a:lnTo>
                    <a:pt x="1071" y="705"/>
                  </a:lnTo>
                  <a:lnTo>
                    <a:pt x="1055" y="719"/>
                  </a:lnTo>
                  <a:lnTo>
                    <a:pt x="1035" y="714"/>
                  </a:lnTo>
                  <a:lnTo>
                    <a:pt x="1035" y="730"/>
                  </a:lnTo>
                  <a:lnTo>
                    <a:pt x="1019" y="744"/>
                  </a:lnTo>
                  <a:lnTo>
                    <a:pt x="998" y="719"/>
                  </a:lnTo>
                  <a:lnTo>
                    <a:pt x="1000" y="703"/>
                  </a:lnTo>
                  <a:lnTo>
                    <a:pt x="1026" y="714"/>
                  </a:lnTo>
                  <a:lnTo>
                    <a:pt x="1042" y="714"/>
                  </a:lnTo>
                  <a:lnTo>
                    <a:pt x="1062" y="698"/>
                  </a:lnTo>
                  <a:lnTo>
                    <a:pt x="1055" y="673"/>
                  </a:lnTo>
                  <a:lnTo>
                    <a:pt x="1037" y="657"/>
                  </a:lnTo>
                  <a:lnTo>
                    <a:pt x="1019" y="643"/>
                  </a:lnTo>
                  <a:lnTo>
                    <a:pt x="998" y="623"/>
                  </a:lnTo>
                  <a:lnTo>
                    <a:pt x="975" y="602"/>
                  </a:lnTo>
                  <a:lnTo>
                    <a:pt x="975" y="627"/>
                  </a:lnTo>
                  <a:lnTo>
                    <a:pt x="991" y="646"/>
                  </a:lnTo>
                  <a:lnTo>
                    <a:pt x="987" y="673"/>
                  </a:lnTo>
                  <a:lnTo>
                    <a:pt x="987" y="698"/>
                  </a:lnTo>
                  <a:lnTo>
                    <a:pt x="964" y="680"/>
                  </a:lnTo>
                  <a:lnTo>
                    <a:pt x="959" y="662"/>
                  </a:lnTo>
                  <a:lnTo>
                    <a:pt x="971" y="648"/>
                  </a:lnTo>
                  <a:lnTo>
                    <a:pt x="966" y="632"/>
                  </a:lnTo>
                  <a:lnTo>
                    <a:pt x="978" y="625"/>
                  </a:lnTo>
                  <a:lnTo>
                    <a:pt x="978" y="602"/>
                  </a:lnTo>
                  <a:lnTo>
                    <a:pt x="959" y="607"/>
                  </a:lnTo>
                  <a:lnTo>
                    <a:pt x="943" y="627"/>
                  </a:lnTo>
                  <a:lnTo>
                    <a:pt x="923" y="623"/>
                  </a:lnTo>
                  <a:lnTo>
                    <a:pt x="893" y="637"/>
                  </a:lnTo>
                  <a:lnTo>
                    <a:pt x="889" y="666"/>
                  </a:lnTo>
                  <a:lnTo>
                    <a:pt x="863" y="685"/>
                  </a:lnTo>
                  <a:lnTo>
                    <a:pt x="836" y="701"/>
                  </a:lnTo>
                  <a:lnTo>
                    <a:pt x="811" y="703"/>
                  </a:lnTo>
                  <a:lnTo>
                    <a:pt x="786" y="694"/>
                  </a:lnTo>
                  <a:lnTo>
                    <a:pt x="770" y="680"/>
                  </a:lnTo>
                  <a:lnTo>
                    <a:pt x="781" y="666"/>
                  </a:lnTo>
                  <a:lnTo>
                    <a:pt x="770" y="646"/>
                  </a:lnTo>
                  <a:lnTo>
                    <a:pt x="788" y="630"/>
                  </a:lnTo>
                  <a:lnTo>
                    <a:pt x="790" y="611"/>
                  </a:lnTo>
                  <a:lnTo>
                    <a:pt x="790" y="586"/>
                  </a:lnTo>
                  <a:lnTo>
                    <a:pt x="813" y="563"/>
                  </a:lnTo>
                  <a:lnTo>
                    <a:pt x="847" y="575"/>
                  </a:lnTo>
                  <a:lnTo>
                    <a:pt x="884" y="582"/>
                  </a:lnTo>
                  <a:lnTo>
                    <a:pt x="898" y="566"/>
                  </a:lnTo>
                  <a:lnTo>
                    <a:pt x="898" y="540"/>
                  </a:lnTo>
                  <a:lnTo>
                    <a:pt x="882" y="522"/>
                  </a:lnTo>
                  <a:lnTo>
                    <a:pt x="852" y="508"/>
                  </a:lnTo>
                  <a:lnTo>
                    <a:pt x="868" y="497"/>
                  </a:lnTo>
                  <a:lnTo>
                    <a:pt x="895" y="486"/>
                  </a:lnTo>
                  <a:lnTo>
                    <a:pt x="900" y="481"/>
                  </a:lnTo>
                  <a:lnTo>
                    <a:pt x="893" y="476"/>
                  </a:lnTo>
                  <a:lnTo>
                    <a:pt x="870" y="481"/>
                  </a:lnTo>
                  <a:lnTo>
                    <a:pt x="847" y="486"/>
                  </a:lnTo>
                  <a:lnTo>
                    <a:pt x="834" y="490"/>
                  </a:lnTo>
                  <a:lnTo>
                    <a:pt x="843" y="474"/>
                  </a:lnTo>
                  <a:lnTo>
                    <a:pt x="847" y="449"/>
                  </a:lnTo>
                  <a:lnTo>
                    <a:pt x="857" y="438"/>
                  </a:lnTo>
                  <a:lnTo>
                    <a:pt x="861" y="421"/>
                  </a:lnTo>
                  <a:lnTo>
                    <a:pt x="850" y="403"/>
                  </a:lnTo>
                  <a:lnTo>
                    <a:pt x="834" y="415"/>
                  </a:lnTo>
                  <a:lnTo>
                    <a:pt x="836" y="435"/>
                  </a:lnTo>
                  <a:lnTo>
                    <a:pt x="834" y="454"/>
                  </a:lnTo>
                  <a:lnTo>
                    <a:pt x="822" y="481"/>
                  </a:lnTo>
                  <a:lnTo>
                    <a:pt x="800" y="476"/>
                  </a:lnTo>
                  <a:lnTo>
                    <a:pt x="793" y="454"/>
                  </a:lnTo>
                  <a:lnTo>
                    <a:pt x="779" y="426"/>
                  </a:lnTo>
                  <a:lnTo>
                    <a:pt x="806" y="421"/>
                  </a:lnTo>
                  <a:lnTo>
                    <a:pt x="815" y="412"/>
                  </a:lnTo>
                  <a:lnTo>
                    <a:pt x="827" y="405"/>
                  </a:lnTo>
                  <a:lnTo>
                    <a:pt x="827" y="394"/>
                  </a:lnTo>
                  <a:lnTo>
                    <a:pt x="820" y="375"/>
                  </a:lnTo>
                  <a:lnTo>
                    <a:pt x="841" y="363"/>
                  </a:lnTo>
                  <a:lnTo>
                    <a:pt x="861" y="352"/>
                  </a:lnTo>
                  <a:lnTo>
                    <a:pt x="875" y="361"/>
                  </a:lnTo>
                  <a:lnTo>
                    <a:pt x="882" y="387"/>
                  </a:lnTo>
                  <a:lnTo>
                    <a:pt x="891" y="415"/>
                  </a:lnTo>
                  <a:lnTo>
                    <a:pt x="905" y="428"/>
                  </a:lnTo>
                  <a:lnTo>
                    <a:pt x="911" y="454"/>
                  </a:lnTo>
                  <a:lnTo>
                    <a:pt x="900" y="470"/>
                  </a:lnTo>
                  <a:lnTo>
                    <a:pt x="898" y="483"/>
                  </a:lnTo>
                  <a:lnTo>
                    <a:pt x="918" y="476"/>
                  </a:lnTo>
                  <a:lnTo>
                    <a:pt x="941" y="465"/>
                  </a:lnTo>
                  <a:lnTo>
                    <a:pt x="950" y="435"/>
                  </a:lnTo>
                  <a:lnTo>
                    <a:pt x="973" y="435"/>
                  </a:lnTo>
                  <a:lnTo>
                    <a:pt x="984" y="426"/>
                  </a:lnTo>
                  <a:lnTo>
                    <a:pt x="982" y="403"/>
                  </a:lnTo>
                  <a:lnTo>
                    <a:pt x="971" y="380"/>
                  </a:lnTo>
                  <a:lnTo>
                    <a:pt x="991" y="380"/>
                  </a:lnTo>
                  <a:lnTo>
                    <a:pt x="1014" y="403"/>
                  </a:lnTo>
                  <a:lnTo>
                    <a:pt x="1035" y="421"/>
                  </a:lnTo>
                  <a:lnTo>
                    <a:pt x="1051" y="421"/>
                  </a:lnTo>
                  <a:lnTo>
                    <a:pt x="1078" y="412"/>
                  </a:lnTo>
                  <a:lnTo>
                    <a:pt x="1096" y="383"/>
                  </a:lnTo>
                  <a:lnTo>
                    <a:pt x="1105" y="361"/>
                  </a:lnTo>
                  <a:lnTo>
                    <a:pt x="1147" y="370"/>
                  </a:lnTo>
                  <a:lnTo>
                    <a:pt x="1112" y="350"/>
                  </a:lnTo>
                  <a:lnTo>
                    <a:pt x="1087" y="352"/>
                  </a:lnTo>
                  <a:lnTo>
                    <a:pt x="1080" y="320"/>
                  </a:lnTo>
                  <a:lnTo>
                    <a:pt x="1080" y="302"/>
                  </a:lnTo>
                  <a:lnTo>
                    <a:pt x="1110" y="292"/>
                  </a:lnTo>
                  <a:lnTo>
                    <a:pt x="1117" y="274"/>
                  </a:lnTo>
                  <a:lnTo>
                    <a:pt x="1096" y="283"/>
                  </a:lnTo>
                  <a:lnTo>
                    <a:pt x="1071" y="299"/>
                  </a:lnTo>
                  <a:lnTo>
                    <a:pt x="1046" y="302"/>
                  </a:lnTo>
                  <a:lnTo>
                    <a:pt x="1060" y="331"/>
                  </a:lnTo>
                  <a:lnTo>
                    <a:pt x="1055" y="356"/>
                  </a:lnTo>
                  <a:lnTo>
                    <a:pt x="1055" y="377"/>
                  </a:lnTo>
                  <a:lnTo>
                    <a:pt x="1037" y="394"/>
                  </a:lnTo>
                  <a:lnTo>
                    <a:pt x="1016" y="399"/>
                  </a:lnTo>
                  <a:lnTo>
                    <a:pt x="1000" y="380"/>
                  </a:lnTo>
                  <a:lnTo>
                    <a:pt x="1003" y="361"/>
                  </a:lnTo>
                  <a:lnTo>
                    <a:pt x="1007" y="350"/>
                  </a:lnTo>
                  <a:lnTo>
                    <a:pt x="984" y="356"/>
                  </a:lnTo>
                  <a:lnTo>
                    <a:pt x="962" y="345"/>
                  </a:lnTo>
                  <a:lnTo>
                    <a:pt x="950" y="329"/>
                  </a:lnTo>
                  <a:lnTo>
                    <a:pt x="957" y="302"/>
                  </a:lnTo>
                  <a:lnTo>
                    <a:pt x="952" y="299"/>
                  </a:lnTo>
                  <a:lnTo>
                    <a:pt x="957" y="297"/>
                  </a:lnTo>
                  <a:lnTo>
                    <a:pt x="959" y="295"/>
                  </a:lnTo>
                  <a:lnTo>
                    <a:pt x="692" y="295"/>
                  </a:lnTo>
                  <a:lnTo>
                    <a:pt x="679" y="311"/>
                  </a:lnTo>
                  <a:lnTo>
                    <a:pt x="656" y="324"/>
                  </a:lnTo>
                  <a:lnTo>
                    <a:pt x="633" y="315"/>
                  </a:lnTo>
                  <a:lnTo>
                    <a:pt x="626" y="299"/>
                  </a:lnTo>
                  <a:lnTo>
                    <a:pt x="626" y="281"/>
                  </a:lnTo>
                  <a:lnTo>
                    <a:pt x="628" y="279"/>
                  </a:lnTo>
                  <a:lnTo>
                    <a:pt x="574" y="279"/>
                  </a:lnTo>
                  <a:lnTo>
                    <a:pt x="555" y="281"/>
                  </a:lnTo>
                  <a:lnTo>
                    <a:pt x="539" y="315"/>
                  </a:lnTo>
                  <a:lnTo>
                    <a:pt x="530" y="340"/>
                  </a:lnTo>
                  <a:lnTo>
                    <a:pt x="523" y="363"/>
                  </a:lnTo>
                  <a:lnTo>
                    <a:pt x="495" y="356"/>
                  </a:lnTo>
                  <a:lnTo>
                    <a:pt x="477" y="340"/>
                  </a:lnTo>
                  <a:lnTo>
                    <a:pt x="474" y="302"/>
                  </a:lnTo>
                  <a:lnTo>
                    <a:pt x="463" y="263"/>
                  </a:lnTo>
                  <a:lnTo>
                    <a:pt x="447" y="240"/>
                  </a:lnTo>
                  <a:lnTo>
                    <a:pt x="454" y="226"/>
                  </a:lnTo>
                  <a:lnTo>
                    <a:pt x="438" y="192"/>
                  </a:lnTo>
                  <a:lnTo>
                    <a:pt x="424" y="180"/>
                  </a:lnTo>
                  <a:lnTo>
                    <a:pt x="406" y="194"/>
                  </a:lnTo>
                  <a:lnTo>
                    <a:pt x="381" y="178"/>
                  </a:lnTo>
                  <a:lnTo>
                    <a:pt x="365" y="189"/>
                  </a:lnTo>
                  <a:lnTo>
                    <a:pt x="353" y="201"/>
                  </a:lnTo>
                  <a:lnTo>
                    <a:pt x="321" y="210"/>
                  </a:lnTo>
                  <a:lnTo>
                    <a:pt x="303" y="233"/>
                  </a:lnTo>
                  <a:lnTo>
                    <a:pt x="340" y="237"/>
                  </a:lnTo>
                  <a:lnTo>
                    <a:pt x="372" y="251"/>
                  </a:lnTo>
                  <a:lnTo>
                    <a:pt x="385" y="274"/>
                  </a:lnTo>
                  <a:lnTo>
                    <a:pt x="406" y="297"/>
                  </a:lnTo>
                  <a:lnTo>
                    <a:pt x="408" y="334"/>
                  </a:lnTo>
                  <a:lnTo>
                    <a:pt x="401" y="370"/>
                  </a:lnTo>
                  <a:lnTo>
                    <a:pt x="381" y="380"/>
                  </a:lnTo>
                  <a:lnTo>
                    <a:pt x="358" y="356"/>
                  </a:lnTo>
                  <a:lnTo>
                    <a:pt x="315" y="354"/>
                  </a:lnTo>
                  <a:lnTo>
                    <a:pt x="315" y="338"/>
                  </a:lnTo>
                  <a:lnTo>
                    <a:pt x="353" y="329"/>
                  </a:lnTo>
                  <a:lnTo>
                    <a:pt x="356" y="308"/>
                  </a:lnTo>
                  <a:lnTo>
                    <a:pt x="351" y="299"/>
                  </a:lnTo>
                  <a:lnTo>
                    <a:pt x="337" y="320"/>
                  </a:lnTo>
                  <a:lnTo>
                    <a:pt x="319" y="304"/>
                  </a:lnTo>
                  <a:lnTo>
                    <a:pt x="344" y="283"/>
                  </a:lnTo>
                  <a:lnTo>
                    <a:pt x="358" y="302"/>
                  </a:lnTo>
                  <a:lnTo>
                    <a:pt x="337" y="281"/>
                  </a:lnTo>
                  <a:lnTo>
                    <a:pt x="315" y="281"/>
                  </a:lnTo>
                  <a:lnTo>
                    <a:pt x="299" y="297"/>
                  </a:lnTo>
                  <a:lnTo>
                    <a:pt x="301" y="320"/>
                  </a:lnTo>
                  <a:lnTo>
                    <a:pt x="301" y="350"/>
                  </a:lnTo>
                  <a:lnTo>
                    <a:pt x="296" y="372"/>
                  </a:lnTo>
                  <a:lnTo>
                    <a:pt x="301" y="396"/>
                  </a:lnTo>
                  <a:lnTo>
                    <a:pt x="278" y="377"/>
                  </a:lnTo>
                  <a:lnTo>
                    <a:pt x="269" y="392"/>
                  </a:lnTo>
                  <a:lnTo>
                    <a:pt x="260" y="375"/>
                  </a:lnTo>
                  <a:lnTo>
                    <a:pt x="269" y="352"/>
                  </a:lnTo>
                  <a:lnTo>
                    <a:pt x="248" y="361"/>
                  </a:lnTo>
                  <a:lnTo>
                    <a:pt x="237" y="380"/>
                  </a:lnTo>
                  <a:lnTo>
                    <a:pt x="221" y="399"/>
                  </a:lnTo>
                  <a:lnTo>
                    <a:pt x="221" y="417"/>
                  </a:lnTo>
                  <a:lnTo>
                    <a:pt x="196" y="417"/>
                  </a:lnTo>
                  <a:lnTo>
                    <a:pt x="187" y="428"/>
                  </a:lnTo>
                  <a:lnTo>
                    <a:pt x="196" y="458"/>
                  </a:lnTo>
                  <a:lnTo>
                    <a:pt x="223" y="474"/>
                  </a:lnTo>
                  <a:lnTo>
                    <a:pt x="237" y="486"/>
                  </a:lnTo>
                  <a:lnTo>
                    <a:pt x="235" y="513"/>
                  </a:lnTo>
                  <a:lnTo>
                    <a:pt x="253" y="506"/>
                  </a:lnTo>
                  <a:lnTo>
                    <a:pt x="255" y="481"/>
                  </a:lnTo>
                  <a:lnTo>
                    <a:pt x="285" y="481"/>
                  </a:lnTo>
                  <a:lnTo>
                    <a:pt x="303" y="458"/>
                  </a:lnTo>
                  <a:lnTo>
                    <a:pt x="305" y="435"/>
                  </a:lnTo>
                  <a:lnTo>
                    <a:pt x="303" y="394"/>
                  </a:lnTo>
                  <a:lnTo>
                    <a:pt x="315" y="366"/>
                  </a:lnTo>
                  <a:lnTo>
                    <a:pt x="331" y="350"/>
                  </a:lnTo>
                  <a:lnTo>
                    <a:pt x="356" y="363"/>
                  </a:lnTo>
                  <a:lnTo>
                    <a:pt x="383" y="380"/>
                  </a:lnTo>
                  <a:lnTo>
                    <a:pt x="399" y="394"/>
                  </a:lnTo>
                  <a:lnTo>
                    <a:pt x="413" y="417"/>
                  </a:lnTo>
                  <a:lnTo>
                    <a:pt x="433" y="428"/>
                  </a:lnTo>
                  <a:lnTo>
                    <a:pt x="440" y="458"/>
                  </a:lnTo>
                  <a:lnTo>
                    <a:pt x="442" y="476"/>
                  </a:lnTo>
                  <a:lnTo>
                    <a:pt x="463" y="495"/>
                  </a:lnTo>
                  <a:lnTo>
                    <a:pt x="447" y="515"/>
                  </a:lnTo>
                  <a:lnTo>
                    <a:pt x="422" y="515"/>
                  </a:lnTo>
                  <a:lnTo>
                    <a:pt x="392" y="529"/>
                  </a:lnTo>
                  <a:lnTo>
                    <a:pt x="372" y="545"/>
                  </a:lnTo>
                  <a:lnTo>
                    <a:pt x="340" y="561"/>
                  </a:lnTo>
                  <a:lnTo>
                    <a:pt x="315" y="586"/>
                  </a:lnTo>
                  <a:lnTo>
                    <a:pt x="289" y="607"/>
                  </a:lnTo>
                  <a:lnTo>
                    <a:pt x="285" y="627"/>
                  </a:lnTo>
                  <a:lnTo>
                    <a:pt x="285" y="643"/>
                  </a:lnTo>
                  <a:lnTo>
                    <a:pt x="269" y="659"/>
                  </a:lnTo>
                  <a:lnTo>
                    <a:pt x="271" y="678"/>
                  </a:lnTo>
                  <a:lnTo>
                    <a:pt x="251" y="701"/>
                  </a:lnTo>
                  <a:lnTo>
                    <a:pt x="251" y="728"/>
                  </a:lnTo>
                  <a:lnTo>
                    <a:pt x="262" y="751"/>
                  </a:lnTo>
                  <a:lnTo>
                    <a:pt x="255" y="769"/>
                  </a:lnTo>
                  <a:lnTo>
                    <a:pt x="235" y="760"/>
                  </a:lnTo>
                  <a:lnTo>
                    <a:pt x="230" y="728"/>
                  </a:lnTo>
                  <a:lnTo>
                    <a:pt x="210" y="714"/>
                  </a:lnTo>
                  <a:lnTo>
                    <a:pt x="194" y="719"/>
                  </a:lnTo>
                  <a:lnTo>
                    <a:pt x="182" y="740"/>
                  </a:lnTo>
                  <a:lnTo>
                    <a:pt x="162" y="728"/>
                  </a:lnTo>
                  <a:lnTo>
                    <a:pt x="141" y="728"/>
                  </a:lnTo>
                  <a:lnTo>
                    <a:pt x="118" y="749"/>
                  </a:lnTo>
                  <a:lnTo>
                    <a:pt x="111" y="769"/>
                  </a:lnTo>
                  <a:lnTo>
                    <a:pt x="105" y="790"/>
                  </a:lnTo>
                  <a:lnTo>
                    <a:pt x="100" y="822"/>
                  </a:lnTo>
                  <a:lnTo>
                    <a:pt x="118" y="842"/>
                  </a:lnTo>
                  <a:lnTo>
                    <a:pt x="136" y="826"/>
                  </a:lnTo>
                  <a:lnTo>
                    <a:pt x="159" y="826"/>
                  </a:lnTo>
                  <a:lnTo>
                    <a:pt x="162" y="854"/>
                  </a:lnTo>
                  <a:lnTo>
                    <a:pt x="148" y="872"/>
                  </a:lnTo>
                  <a:lnTo>
                    <a:pt x="175" y="877"/>
                  </a:lnTo>
                  <a:lnTo>
                    <a:pt x="187" y="884"/>
                  </a:lnTo>
                  <a:lnTo>
                    <a:pt x="194" y="909"/>
                  </a:lnTo>
                  <a:lnTo>
                    <a:pt x="216" y="918"/>
                  </a:lnTo>
                  <a:lnTo>
                    <a:pt x="241" y="939"/>
                  </a:lnTo>
                  <a:lnTo>
                    <a:pt x="260" y="927"/>
                  </a:lnTo>
                  <a:lnTo>
                    <a:pt x="301" y="939"/>
                  </a:lnTo>
                  <a:lnTo>
                    <a:pt x="333" y="941"/>
                  </a:lnTo>
                  <a:lnTo>
                    <a:pt x="378" y="966"/>
                  </a:lnTo>
                  <a:lnTo>
                    <a:pt x="385" y="987"/>
                  </a:lnTo>
                  <a:lnTo>
                    <a:pt x="413" y="1010"/>
                  </a:lnTo>
                  <a:lnTo>
                    <a:pt x="426" y="1042"/>
                  </a:lnTo>
                  <a:lnTo>
                    <a:pt x="458" y="1058"/>
                  </a:lnTo>
                  <a:lnTo>
                    <a:pt x="486" y="1062"/>
                  </a:lnTo>
                  <a:lnTo>
                    <a:pt x="515" y="1090"/>
                  </a:lnTo>
                  <a:lnTo>
                    <a:pt x="553" y="1090"/>
                  </a:lnTo>
                  <a:lnTo>
                    <a:pt x="555" y="1112"/>
                  </a:lnTo>
                  <a:lnTo>
                    <a:pt x="555" y="1135"/>
                  </a:lnTo>
                  <a:lnTo>
                    <a:pt x="539" y="1159"/>
                  </a:lnTo>
                  <a:lnTo>
                    <a:pt x="535" y="1187"/>
                  </a:lnTo>
                  <a:lnTo>
                    <a:pt x="530" y="1216"/>
                  </a:lnTo>
                  <a:lnTo>
                    <a:pt x="509" y="1244"/>
                  </a:lnTo>
                  <a:lnTo>
                    <a:pt x="481" y="1260"/>
                  </a:lnTo>
                  <a:lnTo>
                    <a:pt x="456" y="1264"/>
                  </a:lnTo>
                  <a:lnTo>
                    <a:pt x="465" y="1287"/>
                  </a:lnTo>
                  <a:lnTo>
                    <a:pt x="442" y="1315"/>
                  </a:lnTo>
                  <a:lnTo>
                    <a:pt x="424" y="1338"/>
                  </a:lnTo>
                  <a:lnTo>
                    <a:pt x="401" y="1351"/>
                  </a:lnTo>
                  <a:lnTo>
                    <a:pt x="381" y="1386"/>
                  </a:lnTo>
                  <a:lnTo>
                    <a:pt x="365" y="1409"/>
                  </a:lnTo>
                  <a:lnTo>
                    <a:pt x="344" y="1422"/>
                  </a:lnTo>
                  <a:lnTo>
                    <a:pt x="331" y="1443"/>
                  </a:lnTo>
                  <a:lnTo>
                    <a:pt x="319" y="1464"/>
                  </a:lnTo>
                  <a:lnTo>
                    <a:pt x="305" y="1484"/>
                  </a:lnTo>
                  <a:lnTo>
                    <a:pt x="310" y="1502"/>
                  </a:lnTo>
                  <a:lnTo>
                    <a:pt x="299" y="1518"/>
                  </a:lnTo>
                  <a:lnTo>
                    <a:pt x="280" y="1491"/>
                  </a:lnTo>
                  <a:lnTo>
                    <a:pt x="257" y="1468"/>
                  </a:lnTo>
                  <a:lnTo>
                    <a:pt x="251" y="1438"/>
                  </a:lnTo>
                  <a:lnTo>
                    <a:pt x="251" y="1409"/>
                  </a:lnTo>
                  <a:lnTo>
                    <a:pt x="248" y="1377"/>
                  </a:lnTo>
                  <a:lnTo>
                    <a:pt x="257" y="1331"/>
                  </a:lnTo>
                  <a:lnTo>
                    <a:pt x="260" y="1287"/>
                  </a:lnTo>
                  <a:lnTo>
                    <a:pt x="255" y="1246"/>
                  </a:lnTo>
                  <a:lnTo>
                    <a:pt x="248" y="1216"/>
                  </a:lnTo>
                  <a:lnTo>
                    <a:pt x="221" y="1187"/>
                  </a:lnTo>
                  <a:lnTo>
                    <a:pt x="196" y="1164"/>
                  </a:lnTo>
                  <a:lnTo>
                    <a:pt x="175" y="1133"/>
                  </a:lnTo>
                  <a:lnTo>
                    <a:pt x="171" y="1094"/>
                  </a:lnTo>
                  <a:lnTo>
                    <a:pt x="182" y="1069"/>
                  </a:lnTo>
                  <a:lnTo>
                    <a:pt x="182" y="1046"/>
                  </a:lnTo>
                  <a:lnTo>
                    <a:pt x="196" y="1007"/>
                  </a:lnTo>
                  <a:lnTo>
                    <a:pt x="212" y="977"/>
                  </a:lnTo>
                  <a:lnTo>
                    <a:pt x="235" y="959"/>
                  </a:lnTo>
                  <a:lnTo>
                    <a:pt x="244" y="941"/>
                  </a:lnTo>
                  <a:lnTo>
                    <a:pt x="216" y="934"/>
                  </a:lnTo>
                  <a:lnTo>
                    <a:pt x="198" y="939"/>
                  </a:lnTo>
                  <a:lnTo>
                    <a:pt x="180" y="932"/>
                  </a:lnTo>
                  <a:lnTo>
                    <a:pt x="157" y="913"/>
                  </a:lnTo>
                  <a:lnTo>
                    <a:pt x="134" y="893"/>
                  </a:lnTo>
                  <a:lnTo>
                    <a:pt x="120" y="870"/>
                  </a:lnTo>
                  <a:lnTo>
                    <a:pt x="111" y="865"/>
                  </a:lnTo>
                  <a:lnTo>
                    <a:pt x="98" y="872"/>
                  </a:lnTo>
                  <a:lnTo>
                    <a:pt x="75" y="859"/>
                  </a:lnTo>
                  <a:lnTo>
                    <a:pt x="57" y="838"/>
                  </a:lnTo>
                  <a:lnTo>
                    <a:pt x="50" y="822"/>
                  </a:lnTo>
                  <a:lnTo>
                    <a:pt x="50" y="792"/>
                  </a:lnTo>
                  <a:lnTo>
                    <a:pt x="45" y="776"/>
                  </a:lnTo>
                  <a:lnTo>
                    <a:pt x="25" y="762"/>
                  </a:lnTo>
                  <a:lnTo>
                    <a:pt x="25" y="774"/>
                  </a:lnTo>
                  <a:lnTo>
                    <a:pt x="34" y="794"/>
                  </a:lnTo>
                  <a:lnTo>
                    <a:pt x="38" y="815"/>
                  </a:lnTo>
                  <a:lnTo>
                    <a:pt x="18" y="801"/>
                  </a:lnTo>
                  <a:lnTo>
                    <a:pt x="6" y="788"/>
                  </a:lnTo>
                  <a:lnTo>
                    <a:pt x="2" y="765"/>
                  </a:lnTo>
                  <a:lnTo>
                    <a:pt x="4" y="726"/>
                  </a:lnTo>
                  <a:lnTo>
                    <a:pt x="0" y="680"/>
                  </a:lnTo>
                  <a:lnTo>
                    <a:pt x="4" y="621"/>
                  </a:lnTo>
                  <a:lnTo>
                    <a:pt x="18" y="529"/>
                  </a:lnTo>
                  <a:lnTo>
                    <a:pt x="47" y="440"/>
                  </a:lnTo>
                  <a:lnTo>
                    <a:pt x="93" y="334"/>
                  </a:lnTo>
                  <a:lnTo>
                    <a:pt x="127" y="260"/>
                  </a:lnTo>
                  <a:lnTo>
                    <a:pt x="180" y="180"/>
                  </a:lnTo>
                  <a:lnTo>
                    <a:pt x="223" y="132"/>
                  </a:lnTo>
                  <a:close/>
                </a:path>
              </a:pathLst>
            </a:custGeom>
            <a:solidFill>
              <a:srgbClr val="315fa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7632720" y="6470640"/>
            <a:ext cx="1215000" cy="152640"/>
            <a:chOff x="7632720" y="6470640"/>
            <a:chExt cx="1215000" cy="152640"/>
          </a:xfrm>
        </p:grpSpPr>
        <p:grpSp>
          <p:nvGrpSpPr>
            <p:cNvPr id="308" name=""/>
            <p:cNvGrpSpPr/>
            <p:nvPr/>
          </p:nvGrpSpPr>
          <p:grpSpPr>
            <a:xfrm>
              <a:off x="8813880" y="6472080"/>
              <a:ext cx="33840" cy="32400"/>
              <a:chOff x="8813880" y="6472080"/>
              <a:chExt cx="33840" cy="32400"/>
            </a:xfrm>
          </p:grpSpPr>
          <p:sp>
            <p:nvSpPr>
              <p:cNvPr id="309" name=""/>
              <p:cNvSpPr/>
              <p:nvPr/>
            </p:nvSpPr>
            <p:spPr>
              <a:xfrm>
                <a:off x="8813880" y="647208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w="76" h="76">
                    <a:moveTo>
                      <a:pt x="37" y="7"/>
                    </a:moveTo>
                    <a:lnTo>
                      <a:pt x="43" y="7"/>
                    </a:lnTo>
                    <a:lnTo>
                      <a:pt x="49" y="8"/>
                    </a:lnTo>
                    <a:lnTo>
                      <a:pt x="54" y="11"/>
                    </a:lnTo>
                    <a:lnTo>
                      <a:pt x="60" y="16"/>
                    </a:lnTo>
                    <a:lnTo>
                      <a:pt x="64" y="21"/>
                    </a:lnTo>
                    <a:lnTo>
                      <a:pt x="67" y="26"/>
                    </a:lnTo>
                    <a:lnTo>
                      <a:pt x="69" y="32"/>
                    </a:lnTo>
                    <a:lnTo>
                      <a:pt x="69" y="38"/>
                    </a:lnTo>
                    <a:lnTo>
                      <a:pt x="69" y="42"/>
                    </a:lnTo>
                    <a:lnTo>
                      <a:pt x="67" y="48"/>
                    </a:lnTo>
                    <a:lnTo>
                      <a:pt x="64" y="54"/>
                    </a:lnTo>
                    <a:lnTo>
                      <a:pt x="60" y="58"/>
                    </a:lnTo>
                    <a:lnTo>
                      <a:pt x="54" y="63"/>
                    </a:lnTo>
                    <a:lnTo>
                      <a:pt x="49" y="66"/>
                    </a:lnTo>
                    <a:lnTo>
                      <a:pt x="43" y="67"/>
                    </a:lnTo>
                    <a:lnTo>
                      <a:pt x="37" y="67"/>
                    </a:lnTo>
                    <a:lnTo>
                      <a:pt x="33" y="67"/>
                    </a:lnTo>
                    <a:lnTo>
                      <a:pt x="27" y="66"/>
                    </a:lnTo>
                    <a:lnTo>
                      <a:pt x="20" y="63"/>
                    </a:lnTo>
                    <a:lnTo>
                      <a:pt x="16" y="58"/>
                    </a:lnTo>
                    <a:lnTo>
                      <a:pt x="12" y="54"/>
                    </a:lnTo>
                    <a:lnTo>
                      <a:pt x="9" y="48"/>
                    </a:lnTo>
                    <a:lnTo>
                      <a:pt x="7" y="42"/>
                    </a:lnTo>
                    <a:lnTo>
                      <a:pt x="7" y="38"/>
                    </a:lnTo>
                    <a:lnTo>
                      <a:pt x="7" y="32"/>
                    </a:lnTo>
                    <a:lnTo>
                      <a:pt x="9" y="26"/>
                    </a:lnTo>
                    <a:lnTo>
                      <a:pt x="12" y="21"/>
                    </a:lnTo>
                    <a:lnTo>
                      <a:pt x="16" y="16"/>
                    </a:lnTo>
                    <a:lnTo>
                      <a:pt x="20" y="11"/>
                    </a:lnTo>
                    <a:lnTo>
                      <a:pt x="27" y="8"/>
                    </a:lnTo>
                    <a:lnTo>
                      <a:pt x="33" y="7"/>
                    </a:lnTo>
                    <a:lnTo>
                      <a:pt x="37" y="7"/>
                    </a:lnTo>
                    <a:lnTo>
                      <a:pt x="37" y="0"/>
                    </a:lnTo>
                    <a:lnTo>
                      <a:pt x="30" y="0"/>
                    </a:lnTo>
                    <a:lnTo>
                      <a:pt x="23" y="2"/>
                    </a:lnTo>
                    <a:lnTo>
                      <a:pt x="16" y="5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1" y="51"/>
                    </a:lnTo>
                    <a:lnTo>
                      <a:pt x="6" y="60"/>
                    </a:lnTo>
                    <a:lnTo>
                      <a:pt x="10" y="64"/>
                    </a:lnTo>
                    <a:lnTo>
                      <a:pt x="16" y="69"/>
                    </a:lnTo>
                    <a:lnTo>
                      <a:pt x="23" y="73"/>
                    </a:lnTo>
                    <a:lnTo>
                      <a:pt x="30" y="75"/>
                    </a:lnTo>
                    <a:lnTo>
                      <a:pt x="37" y="76"/>
                    </a:lnTo>
                    <a:lnTo>
                      <a:pt x="46" y="75"/>
                    </a:lnTo>
                    <a:lnTo>
                      <a:pt x="53" y="73"/>
                    </a:lnTo>
                    <a:lnTo>
                      <a:pt x="60" y="69"/>
                    </a:lnTo>
                    <a:lnTo>
                      <a:pt x="66" y="64"/>
                    </a:lnTo>
                    <a:lnTo>
                      <a:pt x="70" y="60"/>
                    </a:lnTo>
                    <a:lnTo>
                      <a:pt x="75" y="51"/>
                    </a:lnTo>
                    <a:lnTo>
                      <a:pt x="76" y="45"/>
                    </a:lnTo>
                    <a:lnTo>
                      <a:pt x="76" y="38"/>
                    </a:lnTo>
                    <a:lnTo>
                      <a:pt x="76" y="30"/>
                    </a:lnTo>
                    <a:lnTo>
                      <a:pt x="75" y="23"/>
                    </a:lnTo>
                    <a:lnTo>
                      <a:pt x="70" y="16"/>
                    </a:lnTo>
                    <a:lnTo>
                      <a:pt x="66" y="10"/>
                    </a:lnTo>
                    <a:lnTo>
                      <a:pt x="60" y="5"/>
                    </a:lnTo>
                    <a:lnTo>
                      <a:pt x="53" y="2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37" y="7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821800" y="6478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2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9" y="5"/>
                    </a:lnTo>
                    <a:lnTo>
                      <a:pt x="65" y="10"/>
                    </a:lnTo>
                    <a:lnTo>
                      <a:pt x="69" y="17"/>
                    </a:lnTo>
                    <a:lnTo>
                      <a:pt x="69" y="21"/>
                    </a:lnTo>
                    <a:lnTo>
                      <a:pt x="69" y="23"/>
                    </a:lnTo>
                    <a:lnTo>
                      <a:pt x="69" y="28"/>
                    </a:lnTo>
                    <a:lnTo>
                      <a:pt x="65" y="33"/>
                    </a:lnTo>
                    <a:lnTo>
                      <a:pt x="55" y="38"/>
                    </a:lnTo>
                    <a:lnTo>
                      <a:pt x="55" y="41"/>
                    </a:lnTo>
                    <a:lnTo>
                      <a:pt x="51" y="41"/>
                    </a:lnTo>
                    <a:lnTo>
                      <a:pt x="72" y="72"/>
                    </a:lnTo>
                    <a:lnTo>
                      <a:pt x="51" y="72"/>
                    </a:lnTo>
                    <a:lnTo>
                      <a:pt x="31" y="43"/>
                    </a:lnTo>
                    <a:lnTo>
                      <a:pt x="16" y="43"/>
                    </a:lnTo>
                    <a:lnTo>
                      <a:pt x="16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6" y="10"/>
                    </a:lnTo>
                    <a:lnTo>
                      <a:pt x="16" y="31"/>
                    </a:lnTo>
                    <a:lnTo>
                      <a:pt x="31" y="31"/>
                    </a:lnTo>
                    <a:lnTo>
                      <a:pt x="41" y="31"/>
                    </a:lnTo>
                    <a:lnTo>
                      <a:pt x="48" y="28"/>
                    </a:lnTo>
                    <a:lnTo>
                      <a:pt x="48" y="26"/>
                    </a:lnTo>
                    <a:lnTo>
                      <a:pt x="48" y="21"/>
                    </a:lnTo>
                    <a:lnTo>
                      <a:pt x="48" y="15"/>
                    </a:lnTo>
                    <a:lnTo>
                      <a:pt x="41" y="12"/>
                    </a:lnTo>
                    <a:lnTo>
                      <a:pt x="34" y="10"/>
                    </a:lnTo>
                    <a:lnTo>
                      <a:pt x="24" y="10"/>
                    </a:lnTo>
                    <a:lnTo>
                      <a:pt x="1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8066160" y="6470640"/>
              <a:ext cx="219600" cy="152640"/>
            </a:xfrm>
            <a:custGeom>
              <a:avLst/>
              <a:gdLst/>
              <a:ahLst/>
              <a:rect l="0" t="0" r="r" b="b"/>
              <a:pathLst>
                <a:path w="610" h="424">
                  <a:moveTo>
                    <a:pt x="202" y="276"/>
                  </a:moveTo>
                  <a:lnTo>
                    <a:pt x="418" y="276"/>
                  </a:lnTo>
                  <a:lnTo>
                    <a:pt x="304" y="93"/>
                  </a:lnTo>
                  <a:lnTo>
                    <a:pt x="95" y="424"/>
                  </a:lnTo>
                  <a:lnTo>
                    <a:pt x="0" y="424"/>
                  </a:lnTo>
                  <a:lnTo>
                    <a:pt x="255" y="26"/>
                  </a:lnTo>
                  <a:lnTo>
                    <a:pt x="264" y="15"/>
                  </a:lnTo>
                  <a:lnTo>
                    <a:pt x="275" y="7"/>
                  </a:lnTo>
                  <a:lnTo>
                    <a:pt x="290" y="1"/>
                  </a:lnTo>
                  <a:lnTo>
                    <a:pt x="304" y="0"/>
                  </a:lnTo>
                  <a:lnTo>
                    <a:pt x="318" y="1"/>
                  </a:lnTo>
                  <a:lnTo>
                    <a:pt x="333" y="7"/>
                  </a:lnTo>
                  <a:lnTo>
                    <a:pt x="344" y="15"/>
                  </a:lnTo>
                  <a:lnTo>
                    <a:pt x="353" y="25"/>
                  </a:lnTo>
                  <a:lnTo>
                    <a:pt x="355" y="26"/>
                  </a:lnTo>
                  <a:lnTo>
                    <a:pt x="356" y="30"/>
                  </a:lnTo>
                  <a:lnTo>
                    <a:pt x="360" y="34"/>
                  </a:lnTo>
                  <a:lnTo>
                    <a:pt x="364" y="42"/>
                  </a:lnTo>
                  <a:lnTo>
                    <a:pt x="371" y="52"/>
                  </a:lnTo>
                  <a:lnTo>
                    <a:pt x="377" y="61"/>
                  </a:lnTo>
                  <a:lnTo>
                    <a:pt x="385" y="74"/>
                  </a:lnTo>
                  <a:lnTo>
                    <a:pt x="393" y="87"/>
                  </a:lnTo>
                  <a:lnTo>
                    <a:pt x="412" y="117"/>
                  </a:lnTo>
                  <a:lnTo>
                    <a:pt x="434" y="152"/>
                  </a:lnTo>
                  <a:lnTo>
                    <a:pt x="458" y="187"/>
                  </a:lnTo>
                  <a:lnTo>
                    <a:pt x="481" y="226"/>
                  </a:lnTo>
                  <a:lnTo>
                    <a:pt x="505" y="262"/>
                  </a:lnTo>
                  <a:lnTo>
                    <a:pt x="529" y="299"/>
                  </a:lnTo>
                  <a:lnTo>
                    <a:pt x="550" y="332"/>
                  </a:lnTo>
                  <a:lnTo>
                    <a:pt x="570" y="362"/>
                  </a:lnTo>
                  <a:lnTo>
                    <a:pt x="578" y="375"/>
                  </a:lnTo>
                  <a:lnTo>
                    <a:pt x="586" y="387"/>
                  </a:lnTo>
                  <a:lnTo>
                    <a:pt x="593" y="398"/>
                  </a:lnTo>
                  <a:lnTo>
                    <a:pt x="599" y="406"/>
                  </a:lnTo>
                  <a:lnTo>
                    <a:pt x="604" y="414"/>
                  </a:lnTo>
                  <a:lnTo>
                    <a:pt x="607" y="419"/>
                  </a:lnTo>
                  <a:lnTo>
                    <a:pt x="608" y="424"/>
                  </a:lnTo>
                  <a:lnTo>
                    <a:pt x="610" y="424"/>
                  </a:lnTo>
                  <a:lnTo>
                    <a:pt x="515" y="424"/>
                  </a:lnTo>
                  <a:lnTo>
                    <a:pt x="470" y="351"/>
                  </a:lnTo>
                  <a:lnTo>
                    <a:pt x="250" y="351"/>
                  </a:lnTo>
                  <a:lnTo>
                    <a:pt x="202" y="276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66120" y="6472080"/>
              <a:ext cx="163800" cy="151200"/>
            </a:xfrm>
            <a:custGeom>
              <a:avLst/>
              <a:gdLst/>
              <a:ahLst/>
              <a:rect l="0" t="0" r="r" b="b"/>
              <a:pathLst>
                <a:path w="455" h="420">
                  <a:moveTo>
                    <a:pt x="79" y="347"/>
                  </a:moveTo>
                  <a:lnTo>
                    <a:pt x="79" y="0"/>
                  </a:lnTo>
                  <a:lnTo>
                    <a:pt x="0" y="0"/>
                  </a:lnTo>
                  <a:lnTo>
                    <a:pt x="0" y="381"/>
                  </a:lnTo>
                  <a:lnTo>
                    <a:pt x="0" y="389"/>
                  </a:lnTo>
                  <a:lnTo>
                    <a:pt x="1" y="395"/>
                  </a:lnTo>
                  <a:lnTo>
                    <a:pt x="6" y="403"/>
                  </a:lnTo>
                  <a:lnTo>
                    <a:pt x="11" y="409"/>
                  </a:lnTo>
                  <a:lnTo>
                    <a:pt x="17" y="414"/>
                  </a:lnTo>
                  <a:lnTo>
                    <a:pt x="23" y="417"/>
                  </a:lnTo>
                  <a:lnTo>
                    <a:pt x="31" y="420"/>
                  </a:lnTo>
                  <a:lnTo>
                    <a:pt x="41" y="420"/>
                  </a:lnTo>
                  <a:lnTo>
                    <a:pt x="407" y="420"/>
                  </a:lnTo>
                  <a:lnTo>
                    <a:pt x="455" y="347"/>
                  </a:lnTo>
                  <a:lnTo>
                    <a:pt x="79" y="347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88320" y="6472080"/>
              <a:ext cx="176400" cy="151200"/>
            </a:xfrm>
            <a:custGeom>
              <a:avLst/>
              <a:gdLst/>
              <a:ahLst/>
              <a:rect l="0" t="0" r="r" b="b"/>
              <a:pathLst>
                <a:path w="490" h="420">
                  <a:moveTo>
                    <a:pt x="350" y="285"/>
                  </a:moveTo>
                  <a:lnTo>
                    <a:pt x="364" y="283"/>
                  </a:lnTo>
                  <a:lnTo>
                    <a:pt x="379" y="281"/>
                  </a:lnTo>
                  <a:lnTo>
                    <a:pt x="391" y="278"/>
                  </a:lnTo>
                  <a:lnTo>
                    <a:pt x="404" y="273"/>
                  </a:lnTo>
                  <a:lnTo>
                    <a:pt x="416" y="267"/>
                  </a:lnTo>
                  <a:lnTo>
                    <a:pt x="429" y="259"/>
                  </a:lnTo>
                  <a:lnTo>
                    <a:pt x="440" y="251"/>
                  </a:lnTo>
                  <a:lnTo>
                    <a:pt x="449" y="242"/>
                  </a:lnTo>
                  <a:lnTo>
                    <a:pt x="459" y="232"/>
                  </a:lnTo>
                  <a:lnTo>
                    <a:pt x="466" y="221"/>
                  </a:lnTo>
                  <a:lnTo>
                    <a:pt x="473" y="210"/>
                  </a:lnTo>
                  <a:lnTo>
                    <a:pt x="479" y="197"/>
                  </a:lnTo>
                  <a:lnTo>
                    <a:pt x="484" y="185"/>
                  </a:lnTo>
                  <a:lnTo>
                    <a:pt x="487" y="170"/>
                  </a:lnTo>
                  <a:lnTo>
                    <a:pt x="490" y="156"/>
                  </a:lnTo>
                  <a:lnTo>
                    <a:pt x="490" y="142"/>
                  </a:lnTo>
                  <a:lnTo>
                    <a:pt x="490" y="127"/>
                  </a:lnTo>
                  <a:lnTo>
                    <a:pt x="487" y="113"/>
                  </a:lnTo>
                  <a:lnTo>
                    <a:pt x="484" y="99"/>
                  </a:lnTo>
                  <a:lnTo>
                    <a:pt x="479" y="87"/>
                  </a:lnTo>
                  <a:lnTo>
                    <a:pt x="473" y="74"/>
                  </a:lnTo>
                  <a:lnTo>
                    <a:pt x="466" y="61"/>
                  </a:lnTo>
                  <a:lnTo>
                    <a:pt x="459" y="50"/>
                  </a:lnTo>
                  <a:lnTo>
                    <a:pt x="449" y="41"/>
                  </a:lnTo>
                  <a:lnTo>
                    <a:pt x="440" y="31"/>
                  </a:lnTo>
                  <a:lnTo>
                    <a:pt x="429" y="23"/>
                  </a:lnTo>
                  <a:lnTo>
                    <a:pt x="416" y="17"/>
                  </a:lnTo>
                  <a:lnTo>
                    <a:pt x="404" y="11"/>
                  </a:lnTo>
                  <a:lnTo>
                    <a:pt x="391" y="6"/>
                  </a:lnTo>
                  <a:lnTo>
                    <a:pt x="379" y="3"/>
                  </a:lnTo>
                  <a:lnTo>
                    <a:pt x="364" y="0"/>
                  </a:lnTo>
                  <a:lnTo>
                    <a:pt x="350" y="0"/>
                  </a:lnTo>
                  <a:lnTo>
                    <a:pt x="0" y="0"/>
                  </a:lnTo>
                  <a:lnTo>
                    <a:pt x="0" y="420"/>
                  </a:lnTo>
                  <a:lnTo>
                    <a:pt x="80" y="420"/>
                  </a:lnTo>
                  <a:lnTo>
                    <a:pt x="80" y="74"/>
                  </a:lnTo>
                  <a:lnTo>
                    <a:pt x="344" y="74"/>
                  </a:lnTo>
                  <a:lnTo>
                    <a:pt x="358" y="74"/>
                  </a:lnTo>
                  <a:lnTo>
                    <a:pt x="371" y="79"/>
                  </a:lnTo>
                  <a:lnTo>
                    <a:pt x="382" y="85"/>
                  </a:lnTo>
                  <a:lnTo>
                    <a:pt x="393" y="93"/>
                  </a:lnTo>
                  <a:lnTo>
                    <a:pt x="401" y="103"/>
                  </a:lnTo>
                  <a:lnTo>
                    <a:pt x="407" y="116"/>
                  </a:lnTo>
                  <a:lnTo>
                    <a:pt x="410" y="129"/>
                  </a:lnTo>
                  <a:lnTo>
                    <a:pt x="412" y="142"/>
                  </a:lnTo>
                  <a:lnTo>
                    <a:pt x="410" y="156"/>
                  </a:lnTo>
                  <a:lnTo>
                    <a:pt x="407" y="169"/>
                  </a:lnTo>
                  <a:lnTo>
                    <a:pt x="401" y="180"/>
                  </a:lnTo>
                  <a:lnTo>
                    <a:pt x="393" y="191"/>
                  </a:lnTo>
                  <a:lnTo>
                    <a:pt x="382" y="199"/>
                  </a:lnTo>
                  <a:lnTo>
                    <a:pt x="371" y="205"/>
                  </a:lnTo>
                  <a:lnTo>
                    <a:pt x="358" y="208"/>
                  </a:lnTo>
                  <a:lnTo>
                    <a:pt x="344" y="210"/>
                  </a:lnTo>
                  <a:lnTo>
                    <a:pt x="119" y="210"/>
                  </a:lnTo>
                  <a:lnTo>
                    <a:pt x="358" y="420"/>
                  </a:lnTo>
                  <a:lnTo>
                    <a:pt x="474" y="420"/>
                  </a:lnTo>
                  <a:lnTo>
                    <a:pt x="313" y="285"/>
                  </a:lnTo>
                  <a:lnTo>
                    <a:pt x="350" y="285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7632720" y="6472080"/>
              <a:ext cx="238320" cy="151200"/>
              <a:chOff x="7632720" y="6472080"/>
              <a:chExt cx="238320" cy="151200"/>
            </a:xfrm>
          </p:grpSpPr>
          <p:sp>
            <p:nvSpPr>
              <p:cNvPr id="315" name=""/>
              <p:cNvSpPr/>
              <p:nvPr/>
            </p:nvSpPr>
            <p:spPr>
              <a:xfrm>
                <a:off x="7745400" y="6472080"/>
                <a:ext cx="125640" cy="151200"/>
              </a:xfrm>
              <a:custGeom>
                <a:avLst/>
                <a:gdLst/>
                <a:ahLst/>
                <a:rect l="0" t="0" r="r" b="b"/>
                <a:pathLst>
                  <a:path w="349" h="420">
                    <a:moveTo>
                      <a:pt x="0" y="347"/>
                    </a:moveTo>
                    <a:lnTo>
                      <a:pt x="135" y="347"/>
                    </a:lnTo>
                    <a:lnTo>
                      <a:pt x="149" y="346"/>
                    </a:lnTo>
                    <a:lnTo>
                      <a:pt x="162" y="344"/>
                    </a:lnTo>
                    <a:lnTo>
                      <a:pt x="174" y="341"/>
                    </a:lnTo>
                    <a:lnTo>
                      <a:pt x="188" y="336"/>
                    </a:lnTo>
                    <a:lnTo>
                      <a:pt x="212" y="324"/>
                    </a:lnTo>
                    <a:lnTo>
                      <a:pt x="231" y="307"/>
                    </a:lnTo>
                    <a:lnTo>
                      <a:pt x="248" y="286"/>
                    </a:lnTo>
                    <a:lnTo>
                      <a:pt x="261" y="262"/>
                    </a:lnTo>
                    <a:lnTo>
                      <a:pt x="264" y="251"/>
                    </a:lnTo>
                    <a:lnTo>
                      <a:pt x="268" y="237"/>
                    </a:lnTo>
                    <a:lnTo>
                      <a:pt x="270" y="224"/>
                    </a:lnTo>
                    <a:lnTo>
                      <a:pt x="270" y="210"/>
                    </a:lnTo>
                    <a:lnTo>
                      <a:pt x="270" y="196"/>
                    </a:lnTo>
                    <a:lnTo>
                      <a:pt x="268" y="183"/>
                    </a:lnTo>
                    <a:lnTo>
                      <a:pt x="264" y="170"/>
                    </a:lnTo>
                    <a:lnTo>
                      <a:pt x="261" y="158"/>
                    </a:lnTo>
                    <a:lnTo>
                      <a:pt x="248" y="134"/>
                    </a:lnTo>
                    <a:lnTo>
                      <a:pt x="231" y="115"/>
                    </a:lnTo>
                    <a:lnTo>
                      <a:pt x="212" y="96"/>
                    </a:lnTo>
                    <a:lnTo>
                      <a:pt x="188" y="84"/>
                    </a:lnTo>
                    <a:lnTo>
                      <a:pt x="174" y="79"/>
                    </a:lnTo>
                    <a:lnTo>
                      <a:pt x="162" y="76"/>
                    </a:lnTo>
                    <a:lnTo>
                      <a:pt x="149" y="74"/>
                    </a:lnTo>
                    <a:lnTo>
                      <a:pt x="135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40" y="0"/>
                    </a:lnTo>
                    <a:lnTo>
                      <a:pt x="162" y="1"/>
                    </a:lnTo>
                    <a:lnTo>
                      <a:pt x="183" y="4"/>
                    </a:lnTo>
                    <a:lnTo>
                      <a:pt x="202" y="9"/>
                    </a:lnTo>
                    <a:lnTo>
                      <a:pt x="223" y="15"/>
                    </a:lnTo>
                    <a:lnTo>
                      <a:pt x="240" y="25"/>
                    </a:lnTo>
                    <a:lnTo>
                      <a:pt x="257" y="36"/>
                    </a:lnTo>
                    <a:lnTo>
                      <a:pt x="273" y="47"/>
                    </a:lnTo>
                    <a:lnTo>
                      <a:pt x="289" y="61"/>
                    </a:lnTo>
                    <a:lnTo>
                      <a:pt x="302" y="76"/>
                    </a:lnTo>
                    <a:lnTo>
                      <a:pt x="314" y="92"/>
                    </a:lnTo>
                    <a:lnTo>
                      <a:pt x="324" y="110"/>
                    </a:lnTo>
                    <a:lnTo>
                      <a:pt x="333" y="129"/>
                    </a:lnTo>
                    <a:lnTo>
                      <a:pt x="339" y="148"/>
                    </a:lnTo>
                    <a:lnTo>
                      <a:pt x="346" y="167"/>
                    </a:lnTo>
                    <a:lnTo>
                      <a:pt x="349" y="189"/>
                    </a:lnTo>
                    <a:lnTo>
                      <a:pt x="349" y="210"/>
                    </a:lnTo>
                    <a:lnTo>
                      <a:pt x="349" y="232"/>
                    </a:lnTo>
                    <a:lnTo>
                      <a:pt x="346" y="253"/>
                    </a:lnTo>
                    <a:lnTo>
                      <a:pt x="339" y="272"/>
                    </a:lnTo>
                    <a:lnTo>
                      <a:pt x="333" y="292"/>
                    </a:lnTo>
                    <a:lnTo>
                      <a:pt x="324" y="310"/>
                    </a:lnTo>
                    <a:lnTo>
                      <a:pt x="314" y="328"/>
                    </a:lnTo>
                    <a:lnTo>
                      <a:pt x="302" y="344"/>
                    </a:lnTo>
                    <a:lnTo>
                      <a:pt x="289" y="360"/>
                    </a:lnTo>
                    <a:lnTo>
                      <a:pt x="273" y="373"/>
                    </a:lnTo>
                    <a:lnTo>
                      <a:pt x="257" y="386"/>
                    </a:lnTo>
                    <a:lnTo>
                      <a:pt x="240" y="395"/>
                    </a:lnTo>
                    <a:lnTo>
                      <a:pt x="223" y="405"/>
                    </a:lnTo>
                    <a:lnTo>
                      <a:pt x="202" y="411"/>
                    </a:lnTo>
                    <a:lnTo>
                      <a:pt x="183" y="417"/>
                    </a:lnTo>
                    <a:lnTo>
                      <a:pt x="162" y="420"/>
                    </a:lnTo>
                    <a:lnTo>
                      <a:pt x="140" y="420"/>
                    </a:lnTo>
                    <a:lnTo>
                      <a:pt x="0" y="420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632720" y="6472080"/>
                <a:ext cx="127440" cy="151200"/>
              </a:xfrm>
              <a:custGeom>
                <a:avLst/>
                <a:gdLst/>
                <a:ahLst/>
                <a:rect l="0" t="0" r="r" b="b"/>
                <a:pathLst>
                  <a:path w="354" h="420">
                    <a:moveTo>
                      <a:pt x="354" y="420"/>
                    </a:moveTo>
                    <a:lnTo>
                      <a:pt x="213" y="420"/>
                    </a:lnTo>
                    <a:lnTo>
                      <a:pt x="190" y="420"/>
                    </a:lnTo>
                    <a:lnTo>
                      <a:pt x="170" y="417"/>
                    </a:lnTo>
                    <a:lnTo>
                      <a:pt x="149" y="411"/>
                    </a:lnTo>
                    <a:lnTo>
                      <a:pt x="130" y="405"/>
                    </a:lnTo>
                    <a:lnTo>
                      <a:pt x="112" y="395"/>
                    </a:lnTo>
                    <a:lnTo>
                      <a:pt x="95" y="386"/>
                    </a:lnTo>
                    <a:lnTo>
                      <a:pt x="78" y="373"/>
                    </a:lnTo>
                    <a:lnTo>
                      <a:pt x="62" y="360"/>
                    </a:lnTo>
                    <a:lnTo>
                      <a:pt x="49" y="344"/>
                    </a:lnTo>
                    <a:lnTo>
                      <a:pt x="36" y="328"/>
                    </a:lnTo>
                    <a:lnTo>
                      <a:pt x="25" y="310"/>
                    </a:lnTo>
                    <a:lnTo>
                      <a:pt x="17" y="292"/>
                    </a:lnTo>
                    <a:lnTo>
                      <a:pt x="9" y="272"/>
                    </a:lnTo>
                    <a:lnTo>
                      <a:pt x="4" y="253"/>
                    </a:lnTo>
                    <a:lnTo>
                      <a:pt x="1" y="232"/>
                    </a:lnTo>
                    <a:lnTo>
                      <a:pt x="0" y="210"/>
                    </a:lnTo>
                    <a:lnTo>
                      <a:pt x="1" y="189"/>
                    </a:lnTo>
                    <a:lnTo>
                      <a:pt x="4" y="167"/>
                    </a:lnTo>
                    <a:lnTo>
                      <a:pt x="9" y="148"/>
                    </a:lnTo>
                    <a:lnTo>
                      <a:pt x="17" y="129"/>
                    </a:lnTo>
                    <a:lnTo>
                      <a:pt x="25" y="110"/>
                    </a:lnTo>
                    <a:lnTo>
                      <a:pt x="36" y="92"/>
                    </a:lnTo>
                    <a:lnTo>
                      <a:pt x="49" y="76"/>
                    </a:lnTo>
                    <a:lnTo>
                      <a:pt x="62" y="61"/>
                    </a:lnTo>
                    <a:lnTo>
                      <a:pt x="78" y="47"/>
                    </a:lnTo>
                    <a:lnTo>
                      <a:pt x="95" y="36"/>
                    </a:lnTo>
                    <a:lnTo>
                      <a:pt x="112" y="25"/>
                    </a:lnTo>
                    <a:lnTo>
                      <a:pt x="130" y="15"/>
                    </a:lnTo>
                    <a:lnTo>
                      <a:pt x="149" y="9"/>
                    </a:lnTo>
                    <a:lnTo>
                      <a:pt x="170" y="4"/>
                    </a:lnTo>
                    <a:lnTo>
                      <a:pt x="190" y="1"/>
                    </a:lnTo>
                    <a:lnTo>
                      <a:pt x="213" y="0"/>
                    </a:lnTo>
                    <a:lnTo>
                      <a:pt x="354" y="0"/>
                    </a:lnTo>
                    <a:lnTo>
                      <a:pt x="354" y="74"/>
                    </a:lnTo>
                    <a:lnTo>
                      <a:pt x="218" y="74"/>
                    </a:lnTo>
                    <a:lnTo>
                      <a:pt x="203" y="74"/>
                    </a:lnTo>
                    <a:lnTo>
                      <a:pt x="190" y="76"/>
                    </a:lnTo>
                    <a:lnTo>
                      <a:pt x="178" y="79"/>
                    </a:lnTo>
                    <a:lnTo>
                      <a:pt x="165" y="84"/>
                    </a:lnTo>
                    <a:lnTo>
                      <a:pt x="141" y="96"/>
                    </a:lnTo>
                    <a:lnTo>
                      <a:pt x="122" y="115"/>
                    </a:lnTo>
                    <a:lnTo>
                      <a:pt x="104" y="134"/>
                    </a:lnTo>
                    <a:lnTo>
                      <a:pt x="91" y="158"/>
                    </a:lnTo>
                    <a:lnTo>
                      <a:pt x="86" y="170"/>
                    </a:lnTo>
                    <a:lnTo>
                      <a:pt x="83" y="183"/>
                    </a:lnTo>
                    <a:lnTo>
                      <a:pt x="81" y="196"/>
                    </a:lnTo>
                    <a:lnTo>
                      <a:pt x="81" y="210"/>
                    </a:lnTo>
                    <a:lnTo>
                      <a:pt x="81" y="224"/>
                    </a:lnTo>
                    <a:lnTo>
                      <a:pt x="83" y="237"/>
                    </a:lnTo>
                    <a:lnTo>
                      <a:pt x="86" y="251"/>
                    </a:lnTo>
                    <a:lnTo>
                      <a:pt x="91" y="262"/>
                    </a:lnTo>
                    <a:lnTo>
                      <a:pt x="104" y="286"/>
                    </a:lnTo>
                    <a:lnTo>
                      <a:pt x="122" y="307"/>
                    </a:lnTo>
                    <a:lnTo>
                      <a:pt x="141" y="324"/>
                    </a:lnTo>
                    <a:lnTo>
                      <a:pt x="165" y="336"/>
                    </a:lnTo>
                    <a:lnTo>
                      <a:pt x="178" y="341"/>
                    </a:lnTo>
                    <a:lnTo>
                      <a:pt x="190" y="344"/>
                    </a:lnTo>
                    <a:lnTo>
                      <a:pt x="203" y="346"/>
                    </a:lnTo>
                    <a:lnTo>
                      <a:pt x="218" y="347"/>
                    </a:lnTo>
                    <a:lnTo>
                      <a:pt x="354" y="347"/>
                    </a:lnTo>
                    <a:lnTo>
                      <a:pt x="354" y="420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8271000" y="6472080"/>
              <a:ext cx="182880" cy="151200"/>
            </a:xfrm>
            <a:custGeom>
              <a:avLst/>
              <a:gdLst/>
              <a:ahLst/>
              <a:rect l="0" t="0" r="r" b="b"/>
              <a:pathLst>
                <a:path w="508" h="420">
                  <a:moveTo>
                    <a:pt x="210" y="420"/>
                  </a:moveTo>
                  <a:lnTo>
                    <a:pt x="188" y="420"/>
                  </a:lnTo>
                  <a:lnTo>
                    <a:pt x="167" y="417"/>
                  </a:lnTo>
                  <a:lnTo>
                    <a:pt x="146" y="411"/>
                  </a:lnTo>
                  <a:lnTo>
                    <a:pt x="127" y="405"/>
                  </a:lnTo>
                  <a:lnTo>
                    <a:pt x="110" y="395"/>
                  </a:lnTo>
                  <a:lnTo>
                    <a:pt x="92" y="386"/>
                  </a:lnTo>
                  <a:lnTo>
                    <a:pt x="76" y="373"/>
                  </a:lnTo>
                  <a:lnTo>
                    <a:pt x="60" y="360"/>
                  </a:lnTo>
                  <a:lnTo>
                    <a:pt x="47" y="344"/>
                  </a:lnTo>
                  <a:lnTo>
                    <a:pt x="35" y="328"/>
                  </a:lnTo>
                  <a:lnTo>
                    <a:pt x="25" y="310"/>
                  </a:lnTo>
                  <a:lnTo>
                    <a:pt x="15" y="292"/>
                  </a:lnTo>
                  <a:lnTo>
                    <a:pt x="9" y="272"/>
                  </a:lnTo>
                  <a:lnTo>
                    <a:pt x="3" y="253"/>
                  </a:lnTo>
                  <a:lnTo>
                    <a:pt x="0" y="232"/>
                  </a:lnTo>
                  <a:lnTo>
                    <a:pt x="0" y="210"/>
                  </a:lnTo>
                  <a:lnTo>
                    <a:pt x="0" y="189"/>
                  </a:lnTo>
                  <a:lnTo>
                    <a:pt x="3" y="167"/>
                  </a:lnTo>
                  <a:lnTo>
                    <a:pt x="9" y="148"/>
                  </a:lnTo>
                  <a:lnTo>
                    <a:pt x="15" y="129"/>
                  </a:lnTo>
                  <a:lnTo>
                    <a:pt x="25" y="110"/>
                  </a:lnTo>
                  <a:lnTo>
                    <a:pt x="35" y="92"/>
                  </a:lnTo>
                  <a:lnTo>
                    <a:pt x="47" y="76"/>
                  </a:lnTo>
                  <a:lnTo>
                    <a:pt x="60" y="61"/>
                  </a:lnTo>
                  <a:lnTo>
                    <a:pt x="76" y="47"/>
                  </a:lnTo>
                  <a:lnTo>
                    <a:pt x="92" y="36"/>
                  </a:lnTo>
                  <a:lnTo>
                    <a:pt x="110" y="25"/>
                  </a:lnTo>
                  <a:lnTo>
                    <a:pt x="127" y="15"/>
                  </a:lnTo>
                  <a:lnTo>
                    <a:pt x="146" y="9"/>
                  </a:lnTo>
                  <a:lnTo>
                    <a:pt x="167" y="4"/>
                  </a:lnTo>
                  <a:lnTo>
                    <a:pt x="188" y="1"/>
                  </a:lnTo>
                  <a:lnTo>
                    <a:pt x="210" y="0"/>
                  </a:lnTo>
                  <a:lnTo>
                    <a:pt x="501" y="0"/>
                  </a:lnTo>
                  <a:lnTo>
                    <a:pt x="453" y="74"/>
                  </a:lnTo>
                  <a:lnTo>
                    <a:pt x="215" y="74"/>
                  </a:lnTo>
                  <a:lnTo>
                    <a:pt x="200" y="74"/>
                  </a:lnTo>
                  <a:lnTo>
                    <a:pt x="188" y="76"/>
                  </a:lnTo>
                  <a:lnTo>
                    <a:pt x="175" y="79"/>
                  </a:lnTo>
                  <a:lnTo>
                    <a:pt x="162" y="84"/>
                  </a:lnTo>
                  <a:lnTo>
                    <a:pt x="138" y="96"/>
                  </a:lnTo>
                  <a:lnTo>
                    <a:pt x="119" y="115"/>
                  </a:lnTo>
                  <a:lnTo>
                    <a:pt x="102" y="134"/>
                  </a:lnTo>
                  <a:lnTo>
                    <a:pt x="89" y="158"/>
                  </a:lnTo>
                  <a:lnTo>
                    <a:pt x="84" y="170"/>
                  </a:lnTo>
                  <a:lnTo>
                    <a:pt x="81" y="183"/>
                  </a:lnTo>
                  <a:lnTo>
                    <a:pt x="79" y="196"/>
                  </a:lnTo>
                  <a:lnTo>
                    <a:pt x="79" y="210"/>
                  </a:lnTo>
                  <a:lnTo>
                    <a:pt x="79" y="224"/>
                  </a:lnTo>
                  <a:lnTo>
                    <a:pt x="81" y="237"/>
                  </a:lnTo>
                  <a:lnTo>
                    <a:pt x="84" y="251"/>
                  </a:lnTo>
                  <a:lnTo>
                    <a:pt x="89" y="262"/>
                  </a:lnTo>
                  <a:lnTo>
                    <a:pt x="102" y="286"/>
                  </a:lnTo>
                  <a:lnTo>
                    <a:pt x="119" y="307"/>
                  </a:lnTo>
                  <a:lnTo>
                    <a:pt x="138" y="324"/>
                  </a:lnTo>
                  <a:lnTo>
                    <a:pt x="162" y="336"/>
                  </a:lnTo>
                  <a:lnTo>
                    <a:pt x="175" y="341"/>
                  </a:lnTo>
                  <a:lnTo>
                    <a:pt x="188" y="344"/>
                  </a:lnTo>
                  <a:lnTo>
                    <a:pt x="200" y="346"/>
                  </a:lnTo>
                  <a:lnTo>
                    <a:pt x="215" y="347"/>
                  </a:lnTo>
                  <a:lnTo>
                    <a:pt x="508" y="347"/>
                  </a:lnTo>
                  <a:lnTo>
                    <a:pt x="461" y="420"/>
                  </a:lnTo>
                  <a:lnTo>
                    <a:pt x="210" y="420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623440" y="6472080"/>
              <a:ext cx="184680" cy="151200"/>
            </a:xfrm>
            <a:custGeom>
              <a:avLst/>
              <a:gdLst/>
              <a:ahLst/>
              <a:rect l="0" t="0" r="r" b="b"/>
              <a:pathLst>
                <a:path w="513" h="420">
                  <a:moveTo>
                    <a:pt x="217" y="347"/>
                  </a:moveTo>
                  <a:lnTo>
                    <a:pt x="195" y="344"/>
                  </a:lnTo>
                  <a:lnTo>
                    <a:pt x="172" y="339"/>
                  </a:lnTo>
                  <a:lnTo>
                    <a:pt x="153" y="330"/>
                  </a:lnTo>
                  <a:lnTo>
                    <a:pt x="134" y="319"/>
                  </a:lnTo>
                  <a:lnTo>
                    <a:pt x="117" y="304"/>
                  </a:lnTo>
                  <a:lnTo>
                    <a:pt x="104" y="286"/>
                  </a:lnTo>
                  <a:lnTo>
                    <a:pt x="93" y="267"/>
                  </a:lnTo>
                  <a:lnTo>
                    <a:pt x="84" y="246"/>
                  </a:lnTo>
                  <a:lnTo>
                    <a:pt x="434" y="246"/>
                  </a:lnTo>
                  <a:lnTo>
                    <a:pt x="483" y="173"/>
                  </a:lnTo>
                  <a:lnTo>
                    <a:pt x="84" y="173"/>
                  </a:lnTo>
                  <a:lnTo>
                    <a:pt x="93" y="153"/>
                  </a:lnTo>
                  <a:lnTo>
                    <a:pt x="104" y="134"/>
                  </a:lnTo>
                  <a:lnTo>
                    <a:pt x="117" y="116"/>
                  </a:lnTo>
                  <a:lnTo>
                    <a:pt x="134" y="101"/>
                  </a:lnTo>
                  <a:lnTo>
                    <a:pt x="153" y="90"/>
                  </a:lnTo>
                  <a:lnTo>
                    <a:pt x="172" y="80"/>
                  </a:lnTo>
                  <a:lnTo>
                    <a:pt x="195" y="76"/>
                  </a:lnTo>
                  <a:lnTo>
                    <a:pt x="217" y="74"/>
                  </a:lnTo>
                  <a:lnTo>
                    <a:pt x="459" y="74"/>
                  </a:lnTo>
                  <a:lnTo>
                    <a:pt x="505" y="0"/>
                  </a:lnTo>
                  <a:lnTo>
                    <a:pt x="212" y="0"/>
                  </a:lnTo>
                  <a:lnTo>
                    <a:pt x="190" y="1"/>
                  </a:lnTo>
                  <a:lnTo>
                    <a:pt x="169" y="4"/>
                  </a:lnTo>
                  <a:lnTo>
                    <a:pt x="150" y="9"/>
                  </a:lnTo>
                  <a:lnTo>
                    <a:pt x="129" y="15"/>
                  </a:lnTo>
                  <a:lnTo>
                    <a:pt x="110" y="25"/>
                  </a:lnTo>
                  <a:lnTo>
                    <a:pt x="93" y="36"/>
                  </a:lnTo>
                  <a:lnTo>
                    <a:pt x="76" y="47"/>
                  </a:lnTo>
                  <a:lnTo>
                    <a:pt x="60" y="61"/>
                  </a:lnTo>
                  <a:lnTo>
                    <a:pt x="48" y="76"/>
                  </a:lnTo>
                  <a:lnTo>
                    <a:pt x="35" y="92"/>
                  </a:lnTo>
                  <a:lnTo>
                    <a:pt x="25" y="110"/>
                  </a:lnTo>
                  <a:lnTo>
                    <a:pt x="16" y="129"/>
                  </a:lnTo>
                  <a:lnTo>
                    <a:pt x="9" y="148"/>
                  </a:lnTo>
                  <a:lnTo>
                    <a:pt x="3" y="167"/>
                  </a:lnTo>
                  <a:lnTo>
                    <a:pt x="0" y="189"/>
                  </a:lnTo>
                  <a:lnTo>
                    <a:pt x="0" y="210"/>
                  </a:lnTo>
                  <a:lnTo>
                    <a:pt x="0" y="232"/>
                  </a:lnTo>
                  <a:lnTo>
                    <a:pt x="3" y="253"/>
                  </a:lnTo>
                  <a:lnTo>
                    <a:pt x="9" y="272"/>
                  </a:lnTo>
                  <a:lnTo>
                    <a:pt x="16" y="292"/>
                  </a:lnTo>
                  <a:lnTo>
                    <a:pt x="25" y="310"/>
                  </a:lnTo>
                  <a:lnTo>
                    <a:pt x="35" y="328"/>
                  </a:lnTo>
                  <a:lnTo>
                    <a:pt x="48" y="344"/>
                  </a:lnTo>
                  <a:lnTo>
                    <a:pt x="60" y="360"/>
                  </a:lnTo>
                  <a:lnTo>
                    <a:pt x="76" y="373"/>
                  </a:lnTo>
                  <a:lnTo>
                    <a:pt x="93" y="386"/>
                  </a:lnTo>
                  <a:lnTo>
                    <a:pt x="110" y="395"/>
                  </a:lnTo>
                  <a:lnTo>
                    <a:pt x="129" y="405"/>
                  </a:lnTo>
                  <a:lnTo>
                    <a:pt x="150" y="411"/>
                  </a:lnTo>
                  <a:lnTo>
                    <a:pt x="169" y="417"/>
                  </a:lnTo>
                  <a:lnTo>
                    <a:pt x="190" y="420"/>
                  </a:lnTo>
                  <a:lnTo>
                    <a:pt x="212" y="420"/>
                  </a:lnTo>
                  <a:lnTo>
                    <a:pt x="465" y="420"/>
                  </a:lnTo>
                  <a:lnTo>
                    <a:pt x="513" y="347"/>
                  </a:lnTo>
                  <a:lnTo>
                    <a:pt x="217" y="347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by‚É‚æ‚éƒAƒvƒŠŠJ”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38080" y="20574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7—pŠg’£ƒ‚ƒWƒ…[ƒ‹v0.2.5i‹g“c³l‚³‚ñìj‚ð—˜—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7/8ŒÝŠ·ŽÀ‘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7‚ÆOracle8‚ÍŠî–{“I‚É100%ƒRƒ“ƒpƒ`ƒuƒ‹‚È‚Ì‚ÅAOracle7—p‚ÌPG‚Å‚à‚»‚Ì‚Ü‚Ü“®‚­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e Linux+Oracle8 for Linux R8.0.5+Ruby 1.4.0‚Å“®ìOK.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conf.rb‚Ì•ÏX–³‚µ‚Åmake‰Â”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by‚É‚æ‚éƒAƒvƒŠŠJ”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AƒvƒŠƒP[ƒVƒ‡ƒ“‚Ì—¬‚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ƒNƒ‰ƒX‚ðƒCƒ“ƒXƒ^ƒ“ƒX‰»¨Oracle‚ÉÚ‘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ƒJ[ƒ\ƒ‹‚ð¶¬EŽÀ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J[ƒ\ƒ‹‚©‚çƒf[ƒ^‚ðŽæ“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f[ƒ^‚ð‚È‚ñ‚¿‚á‚ç‚·‚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J[ƒ\ƒ‹‚ðƒNƒ[ƒ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‚Æ‚ÌÚ‘±‰ð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ŒƒƒVƒ“ƒvƒ‹ƒTƒ“ƒvƒ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 = Oracle.new(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†[ƒU[–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,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pƒXƒ[ƒ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,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Ú‘±•¶Žš—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Ú‘±•¶Žš—ñ‚Íƒlƒbƒgƒ[ƒNŒo—R‚ÅOracle‚ÉÚ‘±‚·‚éê‡‚ÌÚ‘±æ‚ðŽw’è‚·‚é•¶Žš—ñ‚Å‚·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 = conn.exec(“select * from tabl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.fetch do |data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.clo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.log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38080" y="311040"/>
            <a:ext cx="7848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‚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ÝB“I</a:t>
            </a:r>
            <a:br>
              <a:rPr sz="18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by‚ÆOracle‚Ì•‹yƒvƒ‰ƒ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808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8ê—p‹@”\‚ÌŽÀ‘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8‚ÌƒIƒuƒWƒFƒNƒg‹@”\‚Ö‚Ì‘Î‰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50000"/>
              <a:buFont typeface="ZapfDingbats"/>
              <a:buChar char="l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. s“à•\i”ñ³‹K‰»‚ðs‚¤‚½‚ß‚ÌŽÀ‘•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AS—pƒJ[ƒgƒŠƒbƒW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ƒJ[ƒgƒŠƒbƒWSDK‚ÅŠJ”­‰Â”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60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by–{‘Ì‚ÖDBƒAƒNƒZƒX‹@”\‘g‚Ýž‚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720"/>
              </a:spcBef>
              <a:buClr>
                <a:srgbClr val="009688"/>
              </a:buClr>
              <a:buSzPct val="7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Œ`Ž®“I‚È–â‘è‚¾‚ªAPHP3‚Í”„‚è‚Ì‚P‚Â‚ªDBƒAƒNƒZƒX‚Ì–L•x‚³BPerl‚Í‚í‚´‚í‚´DBIŠO•”ƒ‚ƒWƒ…[ƒ‹‚ðŽg‚¤ˆ×AŒ`Ž®“I‚É•ª‚©‚è‚É‚­‚­‚È‚Á‚Ä‚¢‚é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alyst Day</dc:creator>
  <dc:description/>
  <dc:language>en-US</dc:language>
  <cp:lastModifiedBy>Analyst Day</cp:lastModifiedBy>
  <cp:revision>0</cp:revision>
  <dc:subject/>
  <dc:title>Jerry Held</dc:title>
</cp:coreProperties>
</file>