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wosŠÂ‹«‚É‚¨‚¯‚éRu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‚ÌŒ»ÝE‰ß‹ŽE–¢—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‘º_ˆ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gwin”Å Ru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‚½‚È‚×‚Ð‚ë‚Ó‚Ý‚³‚ñ‚ÌŽè‚É‚æ‚é‚à‚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—pRuby‚Æ‚µ‚Ä•W€“I‚È‚à‚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oƒCƒiƒŠ”z•z‚ª‚ 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ole‚É‚à‘Î‰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gwin”Å‚Æmswin32”Å‚Ìˆá‚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gwin”Å‚ÍCygnus‚É‚æ‚éUNIXŠÂ‹«ƒGƒ~ƒ…ƒŒ[ƒg‚ÌƒŒƒCƒ„[‚É‚È‚éDLL‚ª‘¶Ý‚µAŽÀs‚É‚Í‚±‚ê‚ª•K—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gwin”Å‚ÍUNIXŠÂ‹«‚Å“®‚­ƒXƒNƒŠƒvƒg‚ª‘½•ª‚»‚Ì‚Ü‚ÜŽg‚¦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‚ÅRuby‚ðŽg‚¤ê–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k, Perl‚Æ“¯—l‚Ì(‚ ‚é‚¢‚Í‚»‚êˆÈã‚Ì)ƒeƒLƒXƒgˆ—Œ¾Œê‚Æ‚µ‚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OLEŠg’£ƒ‰ƒCƒuƒ‰ƒŠ‚ðŽg‚Á‚½uŒÐvŒ¾Œê‚Æ‚µ‚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•“c‚³‚ñ‚É‚æ‚éŠg’£ƒ‰ƒCƒuƒ‰ƒ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‚É‚æ‚èOfficeƒ\ƒtƒg(ex. Accessƒf[ƒ^ƒx[ƒX)“™‚Ì§Œä‚ª‰Â”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l‚Ì“¯“™‚ÌŠg’£ƒ‚ƒWƒ…[ƒ‹‚É”ä‚×‚Ä‚æ‚èVBA‚É‹ß‚¢•\‹L‚ª‚Å‚«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«—ˆ‚ÉŒü‚¯‚Ä@‚»‚Ì‚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g’£ƒ‰ƒCƒuƒ‰ƒŠ‚Ì‚s‚ƒ‚ŒTklib‚ª‚¤‚Ü‚­“®‚©‚È‚¢–â‘è‚Ì‰ðŒ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++ˆÈŠO‚ÌƒRƒ“ƒpƒCƒ‰[(ex. Borland C++ Builder, LCC)‘Î‰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or Windows‚Ì‚æ‚¤‚ÈŠÂ‹«‚Ì\’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CE‘Î‰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«—ˆ‚ÉŒü‚¯‚Ä@‚»‚Ì‚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cripting Host‘Î‰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xplorer‚Æ‚Ì˜AŒ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he source be with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Œ»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gwin”Å‚Æmswin32”Å‚ª‘¶Ý‚µ‚Ä‚¢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win32”Å‚ÌƒoƒCƒiƒŠ”z•z‚Ís‚Á‚Ä‚¢‚È‚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win32”Å‚Ìì¬‚É‚ÍVisual C++‚ª•K—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‚ºˆÚA‚µ‚½‚Ì‚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95280" y="2552760"/>
            <a:ext cx="6553080" cy="27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\[ƒX‚ð’­‚ß‚Ä‚¢‚½‚çA“r’†‚Ü‚Åì‹Æ‚³‚ê‚Ä‚¢‚½Œ`Õ‚ª‚ ‚Á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wk‚âmawk‚ð‚¢‚¶‚Á‚½‚±‚Æ‚ª‚ ‚Á‚½‚Ì‚Å‚»‚Ì‰„’·‚Æ‚µ‚Ä‹»–¡‚ª‚ ‚Á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ì‹Æ‚É‚ ‚½‚Á‚Ä‚Ì‹ê˜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n()‚ÌŽÀ‘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g’£Žq‚Ìˆá‚¢(libAdll“™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pƒCƒ‰[‚ÌƒIƒvƒVƒ‡ƒ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\’zƒXƒNƒŠƒvƒg‚Ì‘Î‰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g—p‚Å‚«‚éƒc[ƒ‹‚ªŒÀ’è‚³‚ê‚Ä‚¢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e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wk‚Åˆê“xŽÀ‘•‚µ‚½ŒoŒ±‚ª‚ ‚Á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®‘S‚É‚¤‚Ü‚­“®ì‚·‚é‚à‚Ì‚Í‚Å‚«‚È‚©‚Á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‚‰sual C++‚Ìƒ‰ƒCƒuƒ‰ƒŠ‚Ìƒ\[ƒX‚ðŒ©‚½‚çƒhƒLƒ…ƒƒ“ƒg‰»‚³‚ê‚Ä‚¢‚È‚¢‚±‚Æ‚ð‚µ‚Ä‚¢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‚ 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‚ç‚ß‚ÄAƒ‰ƒCƒuƒ‰ƒŠ‚ð‚»‚Ì‚Ü‚ÜŽg‚¤‚±‚Æ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g’£Žq‚Ìˆá‚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‰ƒCƒuƒ‰ƒŠƒtƒ@ƒCƒ‹(.a ‚Æ.li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IƒuƒWƒFƒNƒgƒtƒ@ƒCƒ‹(.o‚Æ.ob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¤—Lƒ‰ƒCƒuƒ‰ƒŠ(.so‚Æ.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ƒRƒ“ƒpƒCƒ‰[‚ÌƒIƒvƒVƒ‡ƒ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ŠÂ‹«‚ÌCƒRƒ“ƒpƒCƒ‰[‚ÌƒIƒvƒVƒ‡ƒ“‚Æ‚u‚‰‚“‚•al C++‚Æ‚Å‚ÍƒIƒvƒVƒ‡ƒ“‚ÌŽí—Þ‚ªˆÙ‚È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6320" y="4494240"/>
            <a:ext cx="7655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\’zƒXƒNƒŠƒvƒg‚ª‚»‚Ì‚Ü‚Ü‚Å‚ÍŽg‚¦‚È‚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35053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\’zƒXƒNƒŠƒvƒg(extmk.rb)‚Ì‘Î‰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ˆê”Ê‚Ì‚à‚Ì‚ÆŠg’£Žq‚ªˆÙ‚È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ƒRƒ“ƒpƒCƒ‰[‚ÌƒIƒvƒVƒ‡ƒ“‚ªˆÙ‚È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y‚ª—Ç‚­‚í‚©‚Á‚Ä‚È‚¢ó‘Ô‚Å‚¢‚¶‚­‚è‚Ü‚í‚µ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‰Æ‚Æ‚Ìˆê”Ê‰»‚ðl‚¦‚Ä‚Í‚¢‚½‚ªA‚È‚¨‚´‚è‚É‚µ‚Ä‚¢‚éŠÔ‚É¬¼‚³‚ñ‚ªì‹Æ‚µ‚Ä‚­‚ê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g—p‚Å‚«‚éƒc[ƒ‹‚Ì§Œ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Àsƒtƒ@ƒCƒ‹ì¬‚ÉÛ‚µ‚Ä‚ÌŽèŠÔ‚ðŒyŒ¸‚·‚é‚½‚ß‚ÉƒRƒ“ƒpƒCƒ‰ˆÈŠO‚Ìƒc[ƒ‹‚Í‚Å‚«‚é‚¾‚¯Žg‚í‚È‚¢‚æ‚¤‚É‚µ‚½‚©‚Á‚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‚·‚éŠÖ”‚ÌŒŸo‚ª‚Å‚«‚È‚¢‚½‚ßŽèì‹Æ‚ª“ü‚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MURA Koichi</dc:creator>
  <dc:description/>
  <dc:language>en-US</dc:language>
  <cp:lastModifiedBy>KIMURA Koichi</cp:lastModifiedBy>
  <cp:revision>0</cp:revision>
  <dc:subject/>
  <dc:title>WindwosŠÂ‹«‚É‚¨‚¯‚éRuby</dc:title>
</cp:coreProperties>
</file>